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AF0-1708-405E-9DAF-374EC1EC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B99-F1B2-4060-A09F-99806612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C29-A815-44EF-847F-F18A4DAC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029-7041-46A5-BE7A-BEEE1E6D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322-8F6F-48F1-ACD3-E5D523D5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9CF-4B33-49DE-9865-001AE46D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9C4-D465-4B2F-8D4F-AB439CEF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E39-9C4A-4FE6-BE43-A2AC170F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7C5-B1CC-46FA-999F-8B7959DC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DEC-EA50-410A-87EC-D072BFF5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712-252D-4883-95FE-6E9B6443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9EF-1FE9-4079-9AC6-1291F50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E4FD-FB1B-4AAD-968E-6A3CEF8E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2666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800"/>
            </a:b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   荐</a:t>
            </a:r>
            <a:br>
              <a:rPr sz="4800"/>
            </a:b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809880"/>
            <a:ext cx="830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姓名：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王忠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专业：</a:t>
            </a:r>
            <a:r>
              <a:rPr b="0" lang="zh-CN" sz="4000" spc="-1" strike="noStrike">
                <a:solidFill>
                  <a:srgbClr val="00ff00"/>
                </a:solidFill>
                <a:latin typeface="楷体"/>
                <a:ea typeface="楷体"/>
              </a:rPr>
              <a:t>道路桥梁工程技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学校</a:t>
            </a:r>
            <a:r>
              <a:rPr b="0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昆明冶金高等专科学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联系电话：</a:t>
            </a:r>
            <a:r>
              <a:rPr b="0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150966392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47880" y="420840"/>
            <a:ext cx="456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楷体"/>
                <a:ea typeface="楷体"/>
              </a:rPr>
              <a:t>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楷体"/>
                <a:ea typeface="楷体"/>
              </a:rPr>
              <a:t>真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5920" y="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个人简历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2485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 人 简 历 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533520"/>
          <a:ext cx="9144000" cy="6337080"/>
        </p:xfrm>
        <a:graphic>
          <a:graphicData uri="http://schemas.openxmlformats.org/drawingml/2006/table">
            <a:tbl>
              <a:tblPr/>
              <a:tblGrid>
                <a:gridCol w="1380960"/>
                <a:gridCol w="1690920"/>
                <a:gridCol w="1195200"/>
                <a:gridCol w="2376720"/>
                <a:gridCol w="657000"/>
                <a:gridCol w="243000"/>
                <a:gridCol w="1600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忠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92.1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壮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学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昆明冶金高等专科学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团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道路桥梁工程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 庭 地 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云南省文山州广南县底圩乡普龙村委会坝瓢小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邮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3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目 前所在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昆明市安宁市安宁职教园区冶金高等专科学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邮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0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求 职 意 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道路桥工程相关的工作，如：测量员，施工员，技术员，爆破员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       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自 我 评 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人性格开朗、稳重、有活力、待人热情、真诚、工作认真、积极主动、能吃苦耐劳，能认真完成赋予我的每一项任务。有较强的组织能力、实际动手能力和团队合作精神，能迅速适应各种环境。以诚待人，有良好的沟通能力：对工作充满热情，能学好问听从领导的安排，踏实勤奋，创新务实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介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路基路面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A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纬地软件、道路勘测设计、桥梁工程技术、工程测量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计算机水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熟练各种办公软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校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社团联合会外联部部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获奖情况级证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项目管理师、测量员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社会实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课余时间在南方网络上班（话务员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日在依婚庆公司上班（现场布置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在统一企业做临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43800" y="5335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CE4-1198-4A85-9B1A-D08D95CB42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4492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55960" y="3412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04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自 荐 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80" y="1332000"/>
            <a:ext cx="75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9072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尊敬的ＸＸ公司人力资源部负责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您好！感谢您抽出宝贵的时间阅读我的求职信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我出生并成长于云南文山州的一个小山村，在２０１１年考上昆明冶金高等专科学校建工学院，在学校主修是道路桥梁工程技术，据悉贵公司将招聘应届毕业生，我非常希望到贵公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在学校三年的时间里我积极参加学校各种活动，曾担任过社联外联部副部长，还参加组织过多种多样的课外活动，如：青年志愿者协会，野外扩展训练，敬老院。我一直很活跃于多个感兴趣的学校社团机构中，如：乐行社、文学社、歌舞社，在这些社团机构中即体会到与大家齐心协力完成任务的乐趣，结交了志趣相投的朋友，锻炼了自己的组织才干，授予匪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学校我一直把学习放在第一位，大一上学期在我的努力下拿到了二等奖学金，成绩一直都排在前，在努力学习专业的同时，我积极寻找接触社会、增加社会经验的机会。三年时间里做过好几份临工，在这过程中增强了自己工作独立性、主动性、创造性，大大的开阔了我的眼界、改变了我的思维方式，也加深我对社会的了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坚信，在一个精诚团结锐意进取的集体中，在仁爱领导的明泽和提携下，初出世的学子足能兵可成将、木可成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敬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荐人：王忠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8:03:18Z</dcterms:created>
  <dc:creator>pc</dc:creator>
  <dc:description/>
  <cp:keywords>www.eeppt.com</cp:keywords>
  <dc:language>en-US</dc:language>
  <cp:lastModifiedBy>admin</cp:lastModifiedBy>
  <dcterms:modified xsi:type="dcterms:W3CDTF">2015-08-11T14:20:57Z</dcterms:modified>
  <cp:revision>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