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778-012F-4D61-8DF3-4899CE46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E13-91C7-49E8-848E-542072B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137-ABC3-4B24-AA32-FF8F454D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406-D213-48E8-A387-A1609D0D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C5B3-1283-4A11-9AED-41A79CA6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AD6A-4FE0-4EE5-9438-ABD53BA7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66DD-4810-4C9C-80B6-C30F6F43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DB84-98F9-44A7-BE60-A347DAB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63AE-C5C1-4A87-B487-7AED4B2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5768-4C43-42B2-8F2D-0AF7B971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CD29-4757-4EA3-835A-0E0988F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24E-C9D6-47AA-99BA-03BCCF0B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90F9-B0F5-4281-A696-F14A915D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293F-A88B-4C65-A62A-4A54A4F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D9EC-A4F1-4198-94D4-D66A9180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C396-71A8-488F-AC6F-E8EDD9CF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E44E-86A7-4AD4-A04B-B8BFA5AD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07B-2DF2-4187-84BC-9859F286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7B0-39B2-4FE2-9B32-64CEAD8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218-0AEB-48AD-BD5C-B80D90FF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066-36B1-4633-9EB9-C23DCE29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18B-819D-4942-871D-D8CF4B8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CAF-C6E8-4496-97D2-6AB809CE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B46-5474-4073-B841-C5BF515A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0800" cy="6843240"/>
            <a:chOff x="44280" y="0"/>
            <a:chExt cx="3250800" cy="6843240"/>
          </a:xfrm>
        </p:grpSpPr>
        <p:grpSp>
          <p:nvGrpSpPr>
            <p:cNvPr id="1" name=""/>
            <p:cNvGrpSpPr/>
            <p:nvPr/>
          </p:nvGrpSpPr>
          <p:grpSpPr>
            <a:xfrm>
              <a:off x="107640" y="9360"/>
              <a:ext cx="3187440" cy="6833880"/>
              <a:chOff x="107640" y="9360"/>
              <a:chExt cx="3187440" cy="6833880"/>
            </a:xfrm>
          </p:grpSpPr>
          <p:sp>
            <p:nvSpPr>
              <p:cNvPr id="2" name=""/>
              <p:cNvSpPr/>
              <p:nvPr/>
            </p:nvSpPr>
            <p:spPr>
              <a:xfrm>
                <a:off x="1329120" y="137736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8040" y="996480"/>
                <a:ext cx="21960" cy="24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6240" y="9360"/>
                <a:ext cx="78840" cy="932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8880" y="6732720"/>
                <a:ext cx="8712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0480" y="459720"/>
                <a:ext cx="7272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7640" y="288360"/>
                <a:ext cx="8856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6640" y="123480"/>
                <a:ext cx="88560" cy="63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4360" y="43920"/>
                <a:ext cx="83880" cy="9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4320" y="6675480"/>
                <a:ext cx="8532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7560" y="678024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2840" y="678024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1400" y="6675480"/>
                <a:ext cx="8712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4320" cy="6843240"/>
              <a:chOff x="69840" y="0"/>
              <a:chExt cx="2974320" cy="6843240"/>
            </a:xfrm>
          </p:grpSpPr>
          <p:sp>
            <p:nvSpPr>
              <p:cNvPr id="15" name=""/>
              <p:cNvSpPr/>
              <p:nvPr/>
            </p:nvSpPr>
            <p:spPr>
              <a:xfrm>
                <a:off x="1724400" y="1599480"/>
                <a:ext cx="80640" cy="932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000" y="1168200"/>
                <a:ext cx="83520" cy="94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3520" y="307440"/>
                <a:ext cx="8064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080" y="1623240"/>
                <a:ext cx="85320" cy="68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6760" y="642456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320" y="1694880"/>
                <a:ext cx="8676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560" y="1448640"/>
                <a:ext cx="21600" cy="648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040" y="245880"/>
                <a:ext cx="88560" cy="644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560" y="672840"/>
                <a:ext cx="88560" cy="648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080" y="0"/>
                <a:ext cx="88560" cy="648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19600" y="120240"/>
                <a:ext cx="83520" cy="95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69040" y="59652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1720" y="6634080"/>
                <a:ext cx="871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5520" y="6653160"/>
                <a:ext cx="8676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160" y="6775200"/>
                <a:ext cx="86760" cy="68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4600"/>
                <a:ext cx="4896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39880" y="663408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7120" cy="6770160"/>
              <a:chOff x="44280" y="73080"/>
              <a:chExt cx="2787120" cy="6770160"/>
            </a:xfrm>
          </p:grpSpPr>
          <p:sp>
            <p:nvSpPr>
              <p:cNvPr id="33" name=""/>
              <p:cNvSpPr/>
              <p:nvPr/>
            </p:nvSpPr>
            <p:spPr>
              <a:xfrm>
                <a:off x="1922400" y="1204560"/>
                <a:ext cx="85320" cy="68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6600" y="969480"/>
                <a:ext cx="8856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3800" y="786960"/>
                <a:ext cx="3456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4240" y="109188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600" y="2515680"/>
                <a:ext cx="82080" cy="914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3400" y="174240"/>
                <a:ext cx="7920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1800" y="1824840"/>
                <a:ext cx="83880" cy="694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3680" y="387000"/>
                <a:ext cx="88560" cy="64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3800" y="390240"/>
                <a:ext cx="37800" cy="2664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3400" y="631980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5880" y="14256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5400" y="7308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2720" y="1249200"/>
                <a:ext cx="87120" cy="644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5400" y="1426680"/>
                <a:ext cx="88560" cy="633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3280" y="626760"/>
                <a:ext cx="8712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4240" y="463320"/>
                <a:ext cx="3456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6080" y="310680"/>
                <a:ext cx="83880" cy="9504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0" y="310680"/>
                <a:ext cx="856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5440" y="348840"/>
                <a:ext cx="8352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8440" y="5967360"/>
                <a:ext cx="838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8280" y="6710040"/>
                <a:ext cx="8532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59360" y="6748200"/>
                <a:ext cx="8352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324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8280" y="6672240"/>
                <a:ext cx="838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89480" y="6732360"/>
                <a:ext cx="115560" cy="1108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0840" y="6748200"/>
                <a:ext cx="856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7200" y="6554520"/>
                <a:ext cx="8028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0920" y="6597360"/>
                <a:ext cx="11376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6080" y="67100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7520" y="674820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5000" y="6672240"/>
                <a:ext cx="8532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080" y="1368000"/>
                <a:ext cx="85320" cy="694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2920" cy="6789240"/>
              <a:chOff x="139680" y="25560"/>
              <a:chExt cx="2302920" cy="6789240"/>
            </a:xfrm>
          </p:grpSpPr>
          <p:sp>
            <p:nvSpPr>
              <p:cNvPr id="66" name=""/>
              <p:cNvSpPr/>
              <p:nvPr/>
            </p:nvSpPr>
            <p:spPr>
              <a:xfrm>
                <a:off x="786600" y="1491840"/>
                <a:ext cx="83880" cy="9468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1000" y="939600"/>
                <a:ext cx="8352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4320" y="2851920"/>
                <a:ext cx="80640" cy="93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1760" y="3058200"/>
                <a:ext cx="80640" cy="932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5880"/>
                <a:ext cx="83880" cy="66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5760" y="317160"/>
                <a:ext cx="8676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8760" y="701640"/>
                <a:ext cx="86760" cy="630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080" y="249120"/>
                <a:ext cx="86760" cy="64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6640" y="971280"/>
                <a:ext cx="88560" cy="662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7000" y="615600"/>
                <a:ext cx="8352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1440" y="615600"/>
                <a:ext cx="8352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4040" y="6018120"/>
                <a:ext cx="8064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8320" y="6742080"/>
                <a:ext cx="7884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5360" y="5484600"/>
                <a:ext cx="8064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4560" y="25560"/>
                <a:ext cx="6804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320" y="6332400"/>
                <a:ext cx="8064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09600" y="6494400"/>
                <a:ext cx="7884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6440" y="65898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4080" cy="6760800"/>
              <a:chOff x="133200" y="82440"/>
              <a:chExt cx="2854080" cy="6760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0760" y="82440"/>
                <a:ext cx="2722320" cy="6694200"/>
                <a:chOff x="140760" y="82440"/>
                <a:chExt cx="2722320" cy="66942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3760" y="3605040"/>
                  <a:ext cx="80640" cy="9324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7920" y="4425120"/>
                  <a:ext cx="8532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7800" y="783720"/>
                  <a:ext cx="88560" cy="64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0760" y="992880"/>
                  <a:ext cx="88560" cy="633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2880" y="348840"/>
                  <a:ext cx="83520" cy="94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6080" y="82440"/>
                  <a:ext cx="83880" cy="9504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1760" y="6441840"/>
                  <a:ext cx="85320" cy="9504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099160" y="6710040"/>
                  <a:ext cx="8532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8320" y="6638760"/>
                  <a:ext cx="52200" cy="104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79560" y="6441840"/>
                  <a:ext cx="83520" cy="9504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120" y="6310440"/>
                <a:ext cx="8532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720" y="1148760"/>
                <a:ext cx="8856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4640" y="536040"/>
                <a:ext cx="88560" cy="648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000" y="120240"/>
                <a:ext cx="50400" cy="56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7760" y="66913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4320" y="6750000"/>
                <a:ext cx="79200" cy="932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2960" y="66769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9920" y="5934240"/>
                <a:ext cx="8676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116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0520" y="6775560"/>
                <a:ext cx="8676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1400" y="6750000"/>
                <a:ext cx="80280" cy="932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640" y="25560"/>
              <a:ext cx="2624040" cy="6779520"/>
              <a:chOff x="53640" y="25560"/>
              <a:chExt cx="2624040" cy="677952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1920" y="1545840"/>
                <a:ext cx="72720" cy="82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9360" y="4191480"/>
                <a:ext cx="39240" cy="43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2120" y="326880"/>
                <a:ext cx="87120" cy="69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6680" y="1825200"/>
                <a:ext cx="87120" cy="6768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8560" y="653760"/>
                <a:ext cx="88560" cy="662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0600" y="6700680"/>
                <a:ext cx="8856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640" y="61560"/>
                <a:ext cx="87120" cy="64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2160" y="406080"/>
                <a:ext cx="8388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5440" y="25560"/>
                <a:ext cx="8388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6920" y="6526080"/>
                <a:ext cx="5544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8800" y="6734160"/>
                <a:ext cx="83880" cy="68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120" y="6757920"/>
                <a:ext cx="74160" cy="47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5840" y="6262560"/>
                <a:ext cx="32760" cy="96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1720" y="6062760"/>
                <a:ext cx="21960" cy="72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9120" y="6700680"/>
                <a:ext cx="8856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3640" y="6526080"/>
                <a:ext cx="568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5240" y="993600"/>
                <a:ext cx="67680" cy="69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60F4FA-6BC4-4B2D-B6A8-7A63550E3FCC}" type="slidenum"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4280" y="0"/>
            <a:ext cx="9096120" cy="6854400"/>
            <a:chOff x="44280" y="0"/>
            <a:chExt cx="9096120" cy="6854400"/>
          </a:xfrm>
        </p:grpSpPr>
        <p:sp>
          <p:nvSpPr>
            <p:cNvPr id="167" name=""/>
            <p:cNvSpPr/>
            <p:nvPr/>
          </p:nvSpPr>
          <p:spPr>
            <a:xfrm>
              <a:off x="1329840" y="1377360"/>
              <a:ext cx="85320" cy="9468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9120" y="996480"/>
              <a:ext cx="2484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16960" y="9000"/>
              <a:ext cx="7920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1200" y="460080"/>
              <a:ext cx="72720" cy="82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7280" y="288720"/>
              <a:ext cx="88560" cy="630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6640" y="123480"/>
              <a:ext cx="88560" cy="6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25080" y="43920"/>
              <a:ext cx="8388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5120" y="1599480"/>
              <a:ext cx="80640" cy="932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7000" y="1168200"/>
              <a:ext cx="83880" cy="94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64600" y="307440"/>
              <a:ext cx="80640" cy="93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6080" y="1623240"/>
              <a:ext cx="8532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960" y="1694880"/>
              <a:ext cx="87120" cy="6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7200" y="1448640"/>
              <a:ext cx="2520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04400" y="245880"/>
              <a:ext cx="88560" cy="644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9200" y="67284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9720" y="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20320" y="120240"/>
              <a:ext cx="8388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69400" y="59652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80" y="3594600"/>
              <a:ext cx="4860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3480" y="1204560"/>
              <a:ext cx="85320" cy="68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97680" y="969480"/>
              <a:ext cx="88560" cy="666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64880" y="786960"/>
              <a:ext cx="3456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4960" y="1091880"/>
              <a:ext cx="83880" cy="946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600" y="2515320"/>
              <a:ext cx="82080" cy="91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4120" y="174240"/>
              <a:ext cx="79200" cy="93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2160" y="1824840"/>
              <a:ext cx="8388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680" y="387000"/>
              <a:ext cx="88560" cy="64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4160" y="390240"/>
              <a:ext cx="37800" cy="266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4120" y="6319800"/>
              <a:ext cx="8856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880" y="142560"/>
              <a:ext cx="8856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5760" y="72720"/>
              <a:ext cx="8856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3080" y="1248840"/>
              <a:ext cx="87120" cy="64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5400" y="1426320"/>
              <a:ext cx="8856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80" y="62676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55320" y="463320"/>
              <a:ext cx="34560" cy="374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7160" y="310680"/>
              <a:ext cx="8388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94720" y="310680"/>
              <a:ext cx="856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6520" y="348840"/>
              <a:ext cx="8352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800" y="5967360"/>
              <a:ext cx="83880" cy="946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80" y="1368000"/>
              <a:ext cx="8532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6960" y="1491480"/>
              <a:ext cx="8352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52080" y="939600"/>
              <a:ext cx="83880" cy="9468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4320" y="2851560"/>
              <a:ext cx="80640" cy="93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1760" y="3058200"/>
              <a:ext cx="80640" cy="93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320" y="2045520"/>
              <a:ext cx="83520" cy="6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7200" y="317160"/>
              <a:ext cx="867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760" y="701280"/>
              <a:ext cx="86760" cy="6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720" y="248760"/>
              <a:ext cx="87120" cy="648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6640" y="971280"/>
              <a:ext cx="885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736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4216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4760" y="6018120"/>
              <a:ext cx="80640" cy="914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5360" y="5484600"/>
              <a:ext cx="80640" cy="918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5640" y="25200"/>
              <a:ext cx="6804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480" y="3605760"/>
              <a:ext cx="80640" cy="932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8280" y="4426200"/>
              <a:ext cx="85320" cy="662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880" y="783720"/>
              <a:ext cx="88560" cy="64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760" y="99324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74320" y="348840"/>
              <a:ext cx="8352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8600" y="82080"/>
              <a:ext cx="83880" cy="950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58480" y="6310080"/>
              <a:ext cx="85320" cy="6804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5720" y="1149120"/>
              <a:ext cx="88560" cy="6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640" y="536040"/>
              <a:ext cx="88560" cy="648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12360" y="120240"/>
              <a:ext cx="50400" cy="56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920" y="5933880"/>
              <a:ext cx="86760" cy="6804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3000" y="1545480"/>
              <a:ext cx="72720" cy="82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9720" y="4191120"/>
              <a:ext cx="392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93560" y="326520"/>
              <a:ext cx="8676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7400" y="1824840"/>
              <a:ext cx="86760" cy="68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8920" y="653760"/>
              <a:ext cx="88560" cy="662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280" y="61560"/>
              <a:ext cx="87120" cy="64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2880" y="406080"/>
              <a:ext cx="83520" cy="9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6520" y="25200"/>
              <a:ext cx="83520" cy="9468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840" y="6262560"/>
              <a:ext cx="33120" cy="9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2800" y="6062400"/>
              <a:ext cx="2196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4280" y="6332400"/>
              <a:ext cx="2942280" cy="508680"/>
              <a:chOff x="44280" y="6332400"/>
              <a:chExt cx="2942280" cy="508680"/>
            </a:xfrm>
          </p:grpSpPr>
          <p:sp>
            <p:nvSpPr>
              <p:cNvPr id="243" name=""/>
              <p:cNvSpPr/>
              <p:nvPr/>
            </p:nvSpPr>
            <p:spPr>
              <a:xfrm>
                <a:off x="1568520" y="6730560"/>
                <a:ext cx="8676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94320" y="6673680"/>
                <a:ext cx="8568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57200" y="677808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2840" y="677808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81040" y="6673680"/>
                <a:ext cx="8676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6040" y="642384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51360" y="6632640"/>
                <a:ext cx="8676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5160" y="6651720"/>
                <a:ext cx="871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1800" y="6773040"/>
                <a:ext cx="87120" cy="68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39160" y="663264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87920" y="6708600"/>
                <a:ext cx="8532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59360" y="6746400"/>
                <a:ext cx="8352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280" y="675144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18280" y="6670800"/>
                <a:ext cx="8388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689120" y="6730560"/>
                <a:ext cx="115560" cy="1105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0840" y="6746400"/>
                <a:ext cx="856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97200" y="6553440"/>
                <a:ext cx="8028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0920" y="6595920"/>
                <a:ext cx="11376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76080" y="6708600"/>
                <a:ext cx="8388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7160" y="6746400"/>
                <a:ext cx="838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04640" y="6670800"/>
                <a:ext cx="8532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7960" y="67402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6960" y="63324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09240" y="6493680"/>
                <a:ext cx="7920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6440" y="65880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92480" y="6442920"/>
                <a:ext cx="85320" cy="9432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99880" y="6710040"/>
                <a:ext cx="85320" cy="6624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8680" y="6638760"/>
                <a:ext cx="52200" cy="104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80640" y="6442920"/>
                <a:ext cx="83520" cy="9432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27400" y="6689520"/>
                <a:ext cx="8712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4320" y="6748200"/>
                <a:ext cx="79200" cy="928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2960" y="66751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2840" y="6490440"/>
                <a:ext cx="8676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99800" y="6773040"/>
                <a:ext cx="8676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81040" y="6748200"/>
                <a:ext cx="80280" cy="928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00600" y="6698880"/>
                <a:ext cx="88560" cy="63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07280" y="6525000"/>
                <a:ext cx="550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28800" y="6732360"/>
                <a:ext cx="83880" cy="67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120" y="6756120"/>
                <a:ext cx="74520" cy="47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88400" y="6698880"/>
                <a:ext cx="88560" cy="63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93640" y="6525000"/>
                <a:ext cx="568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245600" y="993240"/>
              <a:ext cx="6804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9880" y="1377360"/>
              <a:ext cx="85320" cy="9468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8800" y="996480"/>
              <a:ext cx="2484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7320" y="288720"/>
              <a:ext cx="88560" cy="630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4800" y="1599480"/>
              <a:ext cx="80640" cy="932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7040" y="1168200"/>
              <a:ext cx="83880" cy="94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6120" y="1623240"/>
              <a:ext cx="8532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63000" y="1694880"/>
              <a:ext cx="87120" cy="6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77240" y="1448640"/>
              <a:ext cx="2520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69240" y="67284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69080" y="59652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4640" y="1091880"/>
              <a:ext cx="83880" cy="946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3720" y="387000"/>
              <a:ext cx="88560" cy="64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4200" y="390240"/>
              <a:ext cx="37800" cy="266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3120" y="1248840"/>
              <a:ext cx="87120" cy="64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5440" y="1426320"/>
              <a:ext cx="8856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3320" y="62676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94400" y="310680"/>
              <a:ext cx="856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66200" y="348840"/>
              <a:ext cx="8352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55120" y="1368000"/>
              <a:ext cx="8532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87000" y="1491480"/>
              <a:ext cx="8352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18800" y="701280"/>
              <a:ext cx="86760" cy="6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6680" y="971280"/>
              <a:ext cx="885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740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48920" y="783720"/>
              <a:ext cx="88560" cy="64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0800" y="99324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74360" y="348840"/>
              <a:ext cx="8352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5760" y="1149120"/>
              <a:ext cx="88560" cy="6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94680" y="536040"/>
              <a:ext cx="88560" cy="648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78960" y="653760"/>
              <a:ext cx="88560" cy="662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02920" y="406080"/>
              <a:ext cx="83520" cy="9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45640" y="993240"/>
              <a:ext cx="6804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7160" y="1263240"/>
              <a:ext cx="8388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2160" y="1605960"/>
              <a:ext cx="34560" cy="374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34360" y="1453320"/>
              <a:ext cx="8388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4040" y="1459800"/>
              <a:ext cx="867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99360" y="175824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32840" y="1168200"/>
              <a:ext cx="6804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0400" y="1469160"/>
              <a:ext cx="8676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26440" y="806040"/>
              <a:ext cx="8388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91600" y="18720"/>
              <a:ext cx="8388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70920" y="220320"/>
              <a:ext cx="88560" cy="648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6480" y="95040"/>
              <a:ext cx="83880" cy="9468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41000" y="149040"/>
              <a:ext cx="78840" cy="93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2640" y="47160"/>
              <a:ext cx="8856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78880" y="95040"/>
              <a:ext cx="50400" cy="56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3040" y="0"/>
              <a:ext cx="8388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3360" y="996480"/>
              <a:ext cx="252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21920" y="9000"/>
              <a:ext cx="7884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66160" y="460080"/>
              <a:ext cx="72720" cy="82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29720" y="1599480"/>
              <a:ext cx="80280" cy="932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69560" y="307440"/>
              <a:ext cx="80280" cy="93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4920" y="120240"/>
              <a:ext cx="8352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74000" y="59652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28080" y="1204560"/>
              <a:ext cx="85320" cy="68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2640" y="969480"/>
              <a:ext cx="88560" cy="666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69120" y="786960"/>
              <a:ext cx="3456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59920" y="463320"/>
              <a:ext cx="34560" cy="374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82120" y="310680"/>
              <a:ext cx="8352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0760" y="34884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6680" y="939600"/>
              <a:ext cx="83520" cy="9468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91440" y="317160"/>
              <a:ext cx="8712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712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80600" y="25200"/>
              <a:ext cx="6768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3560" y="82080"/>
              <a:ext cx="83880" cy="950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37600" y="1545480"/>
              <a:ext cx="72720" cy="82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7800" y="326520"/>
              <a:ext cx="8712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70760" y="25200"/>
              <a:ext cx="83880" cy="9468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34480" y="1377360"/>
              <a:ext cx="85320" cy="9468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864640" y="2291760"/>
              <a:ext cx="24840" cy="24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12280" y="288720"/>
              <a:ext cx="88560" cy="630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29760" y="1599480"/>
              <a:ext cx="80280" cy="932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1640" y="1168200"/>
              <a:ext cx="83880" cy="94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40720" y="1623240"/>
              <a:ext cx="8532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7600" y="1694880"/>
              <a:ext cx="86760" cy="6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81840" y="1448640"/>
              <a:ext cx="2484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73840" y="67284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854920" y="189144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29600" y="1091880"/>
              <a:ext cx="83880" cy="946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88320" y="387000"/>
              <a:ext cx="88200" cy="64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08800" y="390240"/>
              <a:ext cx="37800" cy="266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97720" y="1248840"/>
              <a:ext cx="87120" cy="64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0040" y="1426320"/>
              <a:ext cx="8856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58280" y="62676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99360" y="310680"/>
              <a:ext cx="8532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04320" y="210096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60080" y="1368000"/>
              <a:ext cx="8532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1240" y="149148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3040" y="701280"/>
              <a:ext cx="87120" cy="6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61280" y="971280"/>
              <a:ext cx="885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8200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3160" y="783720"/>
              <a:ext cx="88560" cy="64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45760" y="99324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78600" y="348840"/>
              <a:ext cx="8388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10360" y="1149120"/>
              <a:ext cx="88560" cy="6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99280" y="536040"/>
              <a:ext cx="88560" cy="648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3560" y="653760"/>
              <a:ext cx="88560" cy="662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07160" y="406080"/>
              <a:ext cx="83880" cy="9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50240" y="993240"/>
              <a:ext cx="676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2120" y="1263240"/>
              <a:ext cx="8352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17120" y="1605960"/>
              <a:ext cx="34560" cy="374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39320" y="1453320"/>
              <a:ext cx="8352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8640" y="1459800"/>
              <a:ext cx="8712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4320" y="175824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7800" y="1168200"/>
              <a:ext cx="6768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5000" y="1469160"/>
              <a:ext cx="8712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31400" y="806040"/>
              <a:ext cx="8352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6200" y="18720"/>
              <a:ext cx="8388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5520" y="220320"/>
              <a:ext cx="88560" cy="648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91440" y="95040"/>
              <a:ext cx="83880" cy="9468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5240" y="149040"/>
              <a:ext cx="79200" cy="93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76880" y="47160"/>
              <a:ext cx="8856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83480" y="95040"/>
              <a:ext cx="50400" cy="56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7640" y="0"/>
              <a:ext cx="8352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899560" y="85320"/>
              <a:ext cx="78840" cy="932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43800" y="536040"/>
              <a:ext cx="72720" cy="8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47200" y="383760"/>
              <a:ext cx="80640" cy="932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31200" y="158400"/>
              <a:ext cx="83880" cy="950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989920" y="364680"/>
              <a:ext cx="8856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051840" y="74880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35920" y="70308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37720" y="1443960"/>
              <a:ext cx="8532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3400" y="106956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94760" y="1681920"/>
              <a:ext cx="3456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16960" y="1529640"/>
              <a:ext cx="8388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81960" y="1834560"/>
              <a:ext cx="83880" cy="9468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15440" y="1244160"/>
              <a:ext cx="6768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13880" y="2840400"/>
              <a:ext cx="8676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09040" y="882360"/>
              <a:ext cx="83880" cy="9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74200" y="122184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97880" y="213588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45360" y="4127760"/>
              <a:ext cx="48960" cy="6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9480" y="3048480"/>
              <a:ext cx="82440" cy="91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10560" y="3385080"/>
              <a:ext cx="80640" cy="93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98000" y="3591360"/>
              <a:ext cx="80280" cy="93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40720" y="4138920"/>
              <a:ext cx="80640" cy="932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34520" y="4959360"/>
              <a:ext cx="85320" cy="66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5960" y="4724640"/>
              <a:ext cx="39240" cy="43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137640" y="6332400"/>
              <a:ext cx="2942280" cy="508680"/>
              <a:chOff x="6137640" y="6332400"/>
              <a:chExt cx="2942280" cy="508680"/>
            </a:xfrm>
          </p:grpSpPr>
          <p:sp>
            <p:nvSpPr>
              <p:cNvPr id="423" name=""/>
              <p:cNvSpPr/>
              <p:nvPr/>
            </p:nvSpPr>
            <p:spPr>
              <a:xfrm>
                <a:off x="7468560" y="6730560"/>
                <a:ext cx="8676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44200" y="6673680"/>
                <a:ext cx="8568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78440" y="6778080"/>
                <a:ext cx="8820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902440" y="677808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56040" y="6673680"/>
                <a:ext cx="8712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12480" y="642384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85720" y="6632640"/>
                <a:ext cx="8676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31920" y="6651720"/>
                <a:ext cx="871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85280" y="6773040"/>
                <a:ext cx="87120" cy="68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399360" y="663264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50600" y="6708600"/>
                <a:ext cx="8532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80960" y="6746400"/>
                <a:ext cx="8352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1360" y="675144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21680" y="6670800"/>
                <a:ext cx="8388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19160" y="6730560"/>
                <a:ext cx="115560" cy="1105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87680" y="6746400"/>
                <a:ext cx="856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46360" y="6553440"/>
                <a:ext cx="8028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669160" y="6595920"/>
                <a:ext cx="11376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64240" y="6708600"/>
                <a:ext cx="8388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92800" y="6746400"/>
                <a:ext cx="838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33880" y="6670800"/>
                <a:ext cx="8532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56680" y="67402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796240" y="63324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35400" y="6493680"/>
                <a:ext cx="7920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186760" y="65880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46040" y="6442920"/>
                <a:ext cx="85320" cy="9432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38640" y="6710040"/>
                <a:ext cx="85320" cy="6624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22960" y="6638760"/>
                <a:ext cx="52200" cy="104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59680" y="6442920"/>
                <a:ext cx="83520" cy="9432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09320" y="6689520"/>
                <a:ext cx="8712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050680" y="6748200"/>
                <a:ext cx="79200" cy="928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74120" y="66751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04240" y="6490440"/>
                <a:ext cx="8676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37640" y="677304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62520" y="6748200"/>
                <a:ext cx="80640" cy="928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4680" y="6698880"/>
                <a:ext cx="88560" cy="63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61840" y="6525000"/>
                <a:ext cx="550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11160" y="6732360"/>
                <a:ext cx="83880" cy="67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737560" y="6756120"/>
                <a:ext cx="74160" cy="47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446880" y="6698880"/>
                <a:ext cx="88560" cy="63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73320" y="6525000"/>
                <a:ext cx="568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5001120" y="6690960"/>
              <a:ext cx="8028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12440" y="6715080"/>
              <a:ext cx="85320" cy="6768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39320" y="6786360"/>
              <a:ext cx="8676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53560" y="6540120"/>
              <a:ext cx="2484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21760" y="6518160"/>
              <a:ext cx="88560" cy="630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2960" y="6583320"/>
              <a:ext cx="83880" cy="9468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10680" y="6545160"/>
              <a:ext cx="83520" cy="9468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05680" y="6690960"/>
              <a:ext cx="8064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13920" y="6636960"/>
              <a:ext cx="72360" cy="8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24960" y="6551280"/>
              <a:ext cx="8676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74040" y="4579920"/>
              <a:ext cx="7920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26320" y="547236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740800" y="5186520"/>
              <a:ext cx="88560" cy="64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10400" y="542628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97880" y="579240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862840" y="5948280"/>
              <a:ext cx="88560" cy="6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89920" y="5967360"/>
              <a:ext cx="6804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83520" y="5605200"/>
              <a:ext cx="8388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49941E-0108-400B-A4E0-7A8450194A81}" type="slidenum"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个人求职简历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pt</a:t>
            </a: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背景打包下载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796000" y="4508640"/>
            <a:ext cx="197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姓       名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专       业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求职意向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856960" y="112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基本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733120" y="126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教育背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896560" y="1341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工作经验及专业技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896560" y="1341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工作经验及专业技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567880" y="1339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自我评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使用规范说明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BFC-FA72-4B44-868D-6ADDD7F165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2484360" y="2852640"/>
            <a:ext cx="4572000" cy="73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期待您的回复，谢谢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996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996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pc</dc:creator>
  <dc:description/>
  <cp:keywords>www.eeppt.com</cp:keywords>
  <dc:language>en-US</dc:language>
  <cp:lastModifiedBy>未知用户</cp:lastModifiedBy>
  <dcterms:modified xsi:type="dcterms:W3CDTF">2015-08-11T14:20:42Z</dcterms:modified>
  <cp:revision>1</cp:revision>
  <dc:subject>黑色时尚背景简历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