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253-039B-44F1-BE33-9521A4AB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330-DC50-48DC-B372-D01F5EB9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5EC-5E15-4FD4-A23D-BC2DC07E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4A4-0564-4E20-A158-27DA88B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40F-B0F2-4C65-BADD-E2D63BC0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825-3C53-4F49-A21F-F95648AF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5B1-3169-4BAE-B280-0CEB5B1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240-11BF-4DA3-9635-A986970B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4C5-4167-41B7-8860-061C530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064-5BB9-475A-8E22-F71C9D2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ECE-6B24-4001-899D-E2D00953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D6F-7B52-4CCD-9382-33D31DF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B252-8CFB-470F-BE51-2D6328B18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6383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4529160"/>
            <a:ext cx="12192120" cy="23288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0" y="4481640"/>
            <a:ext cx="121921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8"/>
          <p:cNvSpPr/>
          <p:nvPr/>
        </p:nvSpPr>
        <p:spPr>
          <a:xfrm>
            <a:off x="2971800" y="5232240"/>
            <a:ext cx="29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汇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6105600" y="5022720"/>
            <a:ext cx="0" cy="1406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1"/>
          <p:cNvSpPr/>
          <p:nvPr/>
        </p:nvSpPr>
        <p:spPr>
          <a:xfrm>
            <a:off x="6246720" y="5248440"/>
            <a:ext cx="29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3284640" y="3710160"/>
            <a:ext cx="54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人商务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51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矩形 4"/>
          <p:cNvGrpSpPr/>
          <p:nvPr/>
        </p:nvGrpSpPr>
        <p:grpSpPr>
          <a:xfrm>
            <a:off x="7869240" y="219240"/>
            <a:ext cx="3998880" cy="1390320"/>
            <a:chOff x="7869240" y="219240"/>
            <a:chExt cx="3998880" cy="1390320"/>
          </a:xfrm>
        </p:grpSpPr>
        <p:pic>
          <p:nvPicPr>
            <p:cNvPr id="54" name="矩形 4" descr=""/>
            <p:cNvPicPr/>
            <p:nvPr/>
          </p:nvPicPr>
          <p:blipFill>
            <a:blip r:embed="rId3"/>
            <a:stretch/>
          </p:blipFill>
          <p:spPr>
            <a:xfrm>
              <a:off x="7869240" y="219240"/>
              <a:ext cx="3998880" cy="13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7891560" y="309240"/>
              <a:ext cx="389736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58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81b861"/>
              </a:gs>
              <a:gs pos="100000">
                <a:srgbClr val="61a235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63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矩形 5"/>
          <p:cNvGrpSpPr/>
          <p:nvPr/>
        </p:nvGrpSpPr>
        <p:grpSpPr>
          <a:xfrm>
            <a:off x="542880" y="669960"/>
            <a:ext cx="11099880" cy="5584680"/>
            <a:chOff x="542880" y="669960"/>
            <a:chExt cx="11099880" cy="5584680"/>
          </a:xfrm>
        </p:grpSpPr>
        <p:pic>
          <p:nvPicPr>
            <p:cNvPr id="68" name="矩形 5" descr=""/>
            <p:cNvPicPr/>
            <p:nvPr/>
          </p:nvPicPr>
          <p:blipFill>
            <a:blip r:embed="rId2"/>
            <a:stretch/>
          </p:blipFill>
          <p:spPr>
            <a:xfrm>
              <a:off x="542880" y="669960"/>
              <a:ext cx="11099880" cy="55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717480" y="795240"/>
              <a:ext cx="10747440" cy="53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；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0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文本文本文本文本文本文本文本文本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矩形 4"/>
          <p:cNvSpPr/>
          <p:nvPr/>
        </p:nvSpPr>
        <p:spPr>
          <a:xfrm>
            <a:off x="7891560" y="309600"/>
            <a:ext cx="3897360" cy="969840"/>
          </a:xfrm>
          <a:prstGeom prst="rect">
            <a:avLst/>
          </a:prstGeom>
          <a:gradFill rotWithShape="0">
            <a:gsLst>
              <a:gs pos="0">
                <a:srgbClr val="ffc746"/>
              </a:gs>
              <a:gs pos="100000">
                <a:srgbClr val="e5b600"/>
              </a:gs>
            </a:gsLst>
            <a:lin ang="5400000"/>
          </a:gradFill>
          <a:ln w="0">
            <a:noFill/>
          </a:ln>
          <a:effectLst>
            <a:outerShdw dist="19080" dir="5400000" blurRad="0" rotWithShape="0">
              <a:srgbClr val="000000">
                <a:alpha val="6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文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968400" y="3571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CBF-A96D-4989-A3A7-555E29DD7C43}" type="slidenum">
              <a:t>6</a:t>
            </a:fld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3" descr=""/>
          <p:cNvPicPr/>
          <p:nvPr/>
        </p:nvPicPr>
        <p:blipFill>
          <a:blip r:embed="rId1"/>
          <a:srcRect l="0" t="6383" r="0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0" y="4529160"/>
            <a:ext cx="12192120" cy="23288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6"/>
          <p:cNvSpPr/>
          <p:nvPr/>
        </p:nvSpPr>
        <p:spPr>
          <a:xfrm>
            <a:off x="0" y="4481640"/>
            <a:ext cx="12192120" cy="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2927520" y="5232240"/>
            <a:ext cx="30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敬请指正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直接连接符 10"/>
          <p:cNvSpPr/>
          <p:nvPr/>
        </p:nvSpPr>
        <p:spPr>
          <a:xfrm>
            <a:off x="6105600" y="5022720"/>
            <a:ext cx="0" cy="1406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11"/>
          <p:cNvSpPr/>
          <p:nvPr/>
        </p:nvSpPr>
        <p:spPr>
          <a:xfrm>
            <a:off x="6246720" y="5248440"/>
            <a:ext cx="29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期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###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4:48:49Z</dcterms:created>
  <dc:creator>www.eeppt.com</dc:creator>
  <dc:description>www.eeppt.com</dc:description>
  <cp:keywords>www.eeppt.com</cp:keywords>
  <dc:language>en-US</dc:language>
  <cp:lastModifiedBy>YANGS2015</cp:lastModifiedBy>
  <dcterms:modified xsi:type="dcterms:W3CDTF">2015-08-11T14:20:4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