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F02E-C169-48FC-9D9B-E74098B8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99800"/>
            <a:ext cx="8382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F11C-89DF-4672-9DEB-D8D4A663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998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040" y="37998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220F-F426-472D-A0BC-AD9E62C80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269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5160" y="1371600"/>
            <a:ext cx="269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9440" y="1371600"/>
            <a:ext cx="269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99800"/>
            <a:ext cx="269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5160" y="3799800"/>
            <a:ext cx="269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9440" y="3799800"/>
            <a:ext cx="269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3FF6-C575-4EEF-8ABF-7AB5A8C43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4D82-49D9-430D-AD76-5F96BD3A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9550-E176-4026-9789-604E75A3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D3FC-E30C-43EA-935E-F32FC05B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4824-6D82-447B-8E6D-AB999238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2B3C-3F2B-4819-84B4-61255A0C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3822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2AB3-5567-499B-92A8-4149CD1F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7998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BC85-C46F-4769-8F7C-10040F84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ECDE-4B86-4D7A-A245-7F4A4BE1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040" y="37998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E89C-3C1C-4B73-BDBA-A6984671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799800"/>
            <a:ext cx="8382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FFE6-8612-4F1A-A3D7-E613E7BD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799800"/>
            <a:ext cx="8382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6B85-53EC-4215-89BA-6D4244D3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7998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040" y="37998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EE11-EE62-4BCD-8EB3-66F9E8363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269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15160" y="1371600"/>
            <a:ext cx="269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9440" y="1371600"/>
            <a:ext cx="269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799800"/>
            <a:ext cx="269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15160" y="3799800"/>
            <a:ext cx="269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9440" y="3799800"/>
            <a:ext cx="269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DB09-6969-46E5-A3CA-E79A0B6B6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B4608-B179-42AC-945A-E6022255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A7F23-1352-4FBE-86F2-8B07E580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442B1-4CCD-4D45-8EE6-A32CCA98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0C648-EE63-417C-AD98-4EFA8ECC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E8AE2-1397-466C-A3D0-300A3428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1B84-16BD-41EA-85A7-F3FB172C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3822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AA964-7326-4E61-9092-DAC79BE8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998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18636-3C5D-482A-8B13-702189C0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6040" y="37998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D0D8F-6B86-46E6-8C9B-22E6F00F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99800"/>
            <a:ext cx="8382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0B63B-2C1C-42B9-9BF7-37B944A7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99800"/>
            <a:ext cx="8382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BC9E3-03CC-492C-954F-6691EF8E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998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6040" y="37998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5795B-39D2-4A45-93A0-EB502387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269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15160" y="1371600"/>
            <a:ext cx="269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49440" y="1371600"/>
            <a:ext cx="269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99800"/>
            <a:ext cx="269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15160" y="3799800"/>
            <a:ext cx="269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49440" y="3799800"/>
            <a:ext cx="269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D9B45-A4FC-45A5-9ABC-AC630153E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2962-7AE5-4BD2-8290-39DC6E5B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577A-9836-44DC-BCCD-FCE96376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3822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258D-75BE-4208-9DAE-AD0113F1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998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C068-4338-4B67-BAF6-46DD8941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040" y="37998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5356-E677-4B5F-B996-2056F28F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1371600"/>
            <a:ext cx="4090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99800"/>
            <a:ext cx="8382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0ABB-2BB4-4563-89AF-51F7B653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716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00200" y="65527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38480" y="655272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E88A-53C8-4F7E-A064-50C77FFCE73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矩形 6" descr=""/>
          <p:cNvPicPr/>
          <p:nvPr/>
        </p:nvPicPr>
        <p:blipFill>
          <a:blip r:embed="rId3"/>
          <a:stretch/>
        </p:blipFill>
        <p:spPr>
          <a:xfrm>
            <a:off x="378000" y="5924520"/>
            <a:ext cx="2877840" cy="56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3716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133360" y="655272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D110-9159-4C8D-84FD-0DC33DAF7B0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FD0E-8712-4D9E-90BC-CCE9A9D132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AA53D-1971-48CB-B4B1-2EC6BEDA4B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5409720"/>
            <a:ext cx="74678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国外会议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904760" y="61718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9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c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20:34:54Z</dcterms:created>
  <dc:creator>www.eeppt.com</dc:creator>
  <dc:description/>
  <cp:keywords>www.eeppt.com</cp:keywords>
  <dc:language>en-US</dc:language>
  <cp:lastModifiedBy/>
  <dcterms:modified xsi:type="dcterms:W3CDTF">2015-08-11T14:21:42Z</dcterms:modified>
  <cp:revision>0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