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6F8-5360-4BE3-A74F-0D8CB254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B06-9064-420F-AEEE-B1721A1A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144-5A72-41F8-9EAB-EAFCF612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E10-7FBF-465B-9C7A-09ACB23B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02B8-31BF-4C08-8781-94BA5F6F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20FE-5100-4535-AC2A-7904988D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389B-5A22-4EA1-9488-72C277A2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13C6-C91C-41AC-B0A3-3341EE10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1864-B7CA-426A-827A-D5236EB6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3982-AFDD-45FC-A655-328040A0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00D6-2CC0-4AF4-9E71-C5AA09BC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387-4881-4188-895E-B7316EBD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A704-6837-4E79-9C5C-5F16817F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1058-4CDF-4415-A855-C7EE52FA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D132-BF41-470B-B767-D5089086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2553-34F4-4F1F-ACAE-60627A5C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D2E7-7FA2-4BBB-BE35-9A3B4D8B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E13-CFB6-4B62-940B-907362BC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8D4-4D1C-4E53-B731-A0F5E400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3AE-F49B-4998-9087-03B5B25F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209-3E6C-400E-9DF5-D9510387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1EF-DF26-48B9-AB87-9863E55B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E53-C8CF-4EA2-BF07-706005BA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5C1-163E-424B-A576-E80E8D9A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63080" cy="98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D219-78AB-4964-9578-3F71BA862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995400" y="295200"/>
            <a:ext cx="278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×××××××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F67A-FA8C-4A97-8EF4-C960F729D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34960" y="549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工作汇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5"/>
          <p:cNvSpPr/>
          <p:nvPr/>
        </p:nvSpPr>
        <p:spPr>
          <a:xfrm>
            <a:off x="3043080" y="2492280"/>
            <a:ext cx="5129280" cy="6206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e0e0e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755640" y="2646360"/>
            <a:ext cx="2608200" cy="49536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682809"/>
              </a:gs>
              <a:gs pos="100000">
                <a:srgbClr val="db541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1258920" y="1353960"/>
            <a:ext cx="6408720" cy="635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82809"/>
              </a:gs>
              <a:gs pos="100000">
                <a:srgbClr val="db541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3043080" y="3500280"/>
            <a:ext cx="5129280" cy="6210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e0e0e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755640" y="3654360"/>
            <a:ext cx="2608200" cy="49536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682809"/>
              </a:gs>
              <a:gs pos="100000">
                <a:srgbClr val="db541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3043080" y="4435560"/>
            <a:ext cx="5129280" cy="6206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e0e0e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755640" y="4589640"/>
            <a:ext cx="2608200" cy="4950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682809"/>
              </a:gs>
              <a:gs pos="100000">
                <a:srgbClr val="db541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3043080" y="5445000"/>
            <a:ext cx="5129280" cy="6210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e0e0e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755640" y="5599080"/>
            <a:ext cx="2608200" cy="4939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682809"/>
              </a:gs>
              <a:gs pos="100000">
                <a:srgbClr val="db541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50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266-B474-4750-8E14-C826CB01EC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219320" y="4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1905120" y="2362320"/>
            <a:ext cx="4952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谢 谢</a:t>
            </a:r>
            <a:endParaRPr b="1" lang="en-US" sz="40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200400" y="573408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9:48:13Z</dcterms:created>
  <dc:creator>www.eeppt.com</dc:creator>
  <dc:description>www.eeppt.com</dc:description>
  <cp:keywords>www.eeppt.com</cp:keywords>
  <dc:language>en-US</dc:language>
  <cp:lastModifiedBy>jccook</cp:lastModifiedBy>
  <dcterms:modified xsi:type="dcterms:W3CDTF">2015-08-11T14:22:04Z</dcterms:modified>
  <cp:revision>10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