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42D-2DA8-4977-87C5-D58C0C7D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0AA-038B-4603-8EB7-7DACC94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508-CA4D-406D-BC8A-6DC14DD2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57F-370C-4C7B-A395-30355511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E44-0FED-47D6-885E-80022F3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7D-49EC-44AB-B948-A8B5A44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57E-874F-46B1-B162-E7068EA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E92-43B7-4E54-A28E-000AD148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DC7-C309-4127-B6E4-B1AC25B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9EB-BA73-4DCD-B241-8EE8FCA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ED3-DAC9-491C-AE89-DBE03DA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D90-B111-4E7A-8007-BDFE851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AED-7901-43B0-B6BA-9B8D6BED261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D52A-D58C-40EC-82FB-3E398944E6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378612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适用于建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14800" y="4286160"/>
            <a:ext cx="30002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2000160" y="3286080"/>
            <a:ext cx="5661000" cy="50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2460960" y="2000160"/>
            <a:ext cx="46044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述职报告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714680" y="3286080"/>
            <a:ext cx="6143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428920" y="335448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支部    汇报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XXX      201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34136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建党述职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714760" y="2131920"/>
            <a:ext cx="722160" cy="284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3929040" y="2214720"/>
            <a:ext cx="328608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4"/>
          <p:cNvSpPr/>
          <p:nvPr/>
        </p:nvSpPr>
        <p:spPr>
          <a:xfrm>
            <a:off x="3543480" y="2131920"/>
            <a:ext cx="0" cy="284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2814480" y="2714760"/>
            <a:ext cx="6462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7715160" y="262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0"/>
          <p:cNvGrpSpPr/>
          <p:nvPr/>
        </p:nvGrpSpPr>
        <p:grpSpPr>
          <a:xfrm>
            <a:off x="2914560" y="2103480"/>
            <a:ext cx="4086360" cy="442800"/>
            <a:chOff x="2914560" y="2103480"/>
            <a:chExt cx="4086360" cy="442800"/>
          </a:xfrm>
        </p:grpSpPr>
        <p:sp>
          <p:nvSpPr>
            <p:cNvPr id="56" name="Rectangle 6"/>
            <p:cNvSpPr/>
            <p:nvPr/>
          </p:nvSpPr>
          <p:spPr>
            <a:xfrm>
              <a:off x="3497040" y="214308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0"/>
            <p:cNvSpPr/>
            <p:nvPr/>
          </p:nvSpPr>
          <p:spPr>
            <a:xfrm>
              <a:off x="3331800" y="220500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6242040" y="215244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4"/>
            <p:cNvSpPr/>
            <p:nvPr/>
          </p:nvSpPr>
          <p:spPr>
            <a:xfrm>
              <a:off x="5389920" y="228348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50"/>
            <p:cNvGrpSpPr/>
            <p:nvPr/>
          </p:nvGrpSpPr>
          <p:grpSpPr>
            <a:xfrm>
              <a:off x="2914560" y="2103480"/>
              <a:ext cx="552240" cy="442800"/>
              <a:chOff x="2914560" y="2103480"/>
              <a:chExt cx="552240" cy="442800"/>
            </a:xfrm>
          </p:grpSpPr>
          <p:sp>
            <p:nvSpPr>
              <p:cNvPr id="61" name="燕尾形 16"/>
              <p:cNvSpPr/>
              <p:nvPr/>
            </p:nvSpPr>
            <p:spPr>
              <a:xfrm>
                <a:off x="3143160" y="210348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燕尾形 17"/>
              <p:cNvSpPr/>
              <p:nvPr/>
            </p:nvSpPr>
            <p:spPr>
              <a:xfrm>
                <a:off x="2914560" y="210348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组合 18"/>
          <p:cNvGrpSpPr/>
          <p:nvPr/>
        </p:nvGrpSpPr>
        <p:grpSpPr>
          <a:xfrm>
            <a:off x="2914560" y="2968560"/>
            <a:ext cx="4086360" cy="442800"/>
            <a:chOff x="2914560" y="2968560"/>
            <a:chExt cx="4086360" cy="442800"/>
          </a:xfrm>
        </p:grpSpPr>
        <p:sp>
          <p:nvSpPr>
            <p:cNvPr id="64" name="Rectangle 6"/>
            <p:cNvSpPr/>
            <p:nvPr/>
          </p:nvSpPr>
          <p:spPr>
            <a:xfrm>
              <a:off x="3497040" y="300960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0"/>
            <p:cNvSpPr/>
            <p:nvPr/>
          </p:nvSpPr>
          <p:spPr>
            <a:xfrm>
              <a:off x="3331800" y="307008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>
              <a:off x="6242040" y="30096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2"/>
            <p:cNvSpPr/>
            <p:nvPr/>
          </p:nvSpPr>
          <p:spPr>
            <a:xfrm>
              <a:off x="5389920" y="314856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60"/>
            <p:cNvGrpSpPr/>
            <p:nvPr/>
          </p:nvGrpSpPr>
          <p:grpSpPr>
            <a:xfrm>
              <a:off x="2914560" y="2968560"/>
              <a:ext cx="552240" cy="442800"/>
              <a:chOff x="2914560" y="2968560"/>
              <a:chExt cx="552240" cy="442800"/>
            </a:xfrm>
          </p:grpSpPr>
          <p:sp>
            <p:nvSpPr>
              <p:cNvPr id="69" name="燕尾形 24"/>
              <p:cNvSpPr/>
              <p:nvPr/>
            </p:nvSpPr>
            <p:spPr>
              <a:xfrm>
                <a:off x="3143160" y="296856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燕尾形 25"/>
              <p:cNvSpPr/>
              <p:nvPr/>
            </p:nvSpPr>
            <p:spPr>
              <a:xfrm>
                <a:off x="2914560" y="296856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26"/>
          <p:cNvGrpSpPr/>
          <p:nvPr/>
        </p:nvGrpSpPr>
        <p:grpSpPr>
          <a:xfrm>
            <a:off x="2914560" y="3833640"/>
            <a:ext cx="4086360" cy="444600"/>
            <a:chOff x="2914560" y="3833640"/>
            <a:chExt cx="4086360" cy="444600"/>
          </a:xfrm>
        </p:grpSpPr>
        <p:sp>
          <p:nvSpPr>
            <p:cNvPr id="72" name="Rectangle 6"/>
            <p:cNvSpPr/>
            <p:nvPr/>
          </p:nvSpPr>
          <p:spPr>
            <a:xfrm>
              <a:off x="3497040" y="385740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0"/>
            <p:cNvSpPr/>
            <p:nvPr/>
          </p:nvSpPr>
          <p:spPr>
            <a:xfrm>
              <a:off x="3331800" y="393516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0"/>
            <p:cNvSpPr/>
            <p:nvPr/>
          </p:nvSpPr>
          <p:spPr>
            <a:xfrm>
              <a:off x="6242040" y="386532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0"/>
            <p:cNvSpPr/>
            <p:nvPr/>
          </p:nvSpPr>
          <p:spPr>
            <a:xfrm>
              <a:off x="5389920" y="401436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组合 68"/>
            <p:cNvGrpSpPr/>
            <p:nvPr/>
          </p:nvGrpSpPr>
          <p:grpSpPr>
            <a:xfrm>
              <a:off x="2914560" y="3833640"/>
              <a:ext cx="552240" cy="444600"/>
              <a:chOff x="2914560" y="3833640"/>
              <a:chExt cx="552240" cy="444600"/>
            </a:xfrm>
          </p:grpSpPr>
          <p:sp>
            <p:nvSpPr>
              <p:cNvPr id="77" name="燕尾形 32"/>
              <p:cNvSpPr/>
              <p:nvPr/>
            </p:nvSpPr>
            <p:spPr>
              <a:xfrm>
                <a:off x="3143160" y="3833640"/>
                <a:ext cx="323640" cy="444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燕尾形 33"/>
              <p:cNvSpPr/>
              <p:nvPr/>
            </p:nvSpPr>
            <p:spPr>
              <a:xfrm>
                <a:off x="2914560" y="3833640"/>
                <a:ext cx="323640" cy="444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组合 34"/>
          <p:cNvGrpSpPr/>
          <p:nvPr/>
        </p:nvGrpSpPr>
        <p:grpSpPr>
          <a:xfrm>
            <a:off x="2914560" y="4700520"/>
            <a:ext cx="4086360" cy="443160"/>
            <a:chOff x="2914560" y="4700520"/>
            <a:chExt cx="4086360" cy="443160"/>
          </a:xfrm>
        </p:grpSpPr>
        <p:sp>
          <p:nvSpPr>
            <p:cNvPr id="80" name="Rectangle 6"/>
            <p:cNvSpPr/>
            <p:nvPr/>
          </p:nvSpPr>
          <p:spPr>
            <a:xfrm>
              <a:off x="3497040" y="471456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展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0"/>
            <p:cNvSpPr/>
            <p:nvPr/>
          </p:nvSpPr>
          <p:spPr>
            <a:xfrm>
              <a:off x="3331800" y="480204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0"/>
            <p:cNvSpPr/>
            <p:nvPr/>
          </p:nvSpPr>
          <p:spPr>
            <a:xfrm>
              <a:off x="6242040" y="472428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8"/>
            <p:cNvSpPr/>
            <p:nvPr/>
          </p:nvSpPr>
          <p:spPr>
            <a:xfrm>
              <a:off x="5389920" y="488052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组合 76"/>
            <p:cNvGrpSpPr/>
            <p:nvPr/>
          </p:nvGrpSpPr>
          <p:grpSpPr>
            <a:xfrm>
              <a:off x="2914560" y="4700520"/>
              <a:ext cx="552240" cy="443160"/>
              <a:chOff x="2914560" y="4700520"/>
              <a:chExt cx="552240" cy="443160"/>
            </a:xfrm>
          </p:grpSpPr>
          <p:sp>
            <p:nvSpPr>
              <p:cNvPr id="85" name="燕尾形 40"/>
              <p:cNvSpPr/>
              <p:nvPr/>
            </p:nvSpPr>
            <p:spPr>
              <a:xfrm>
                <a:off x="3143160" y="4700520"/>
                <a:ext cx="323640" cy="443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燕尾形 41"/>
              <p:cNvSpPr/>
              <p:nvPr/>
            </p:nvSpPr>
            <p:spPr>
              <a:xfrm>
                <a:off x="2914560" y="4700520"/>
                <a:ext cx="323640" cy="443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957400" y="2131920"/>
            <a:ext cx="722520" cy="284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3887640" y="2214720"/>
            <a:ext cx="32562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2"/>
          <p:cNvSpPr/>
          <p:nvPr/>
        </p:nvSpPr>
        <p:spPr>
          <a:xfrm>
            <a:off x="3786120" y="2131920"/>
            <a:ext cx="1800" cy="284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056040" y="271476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1368360" y="2071800"/>
            <a:ext cx="204156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0"/>
          <p:cNvSpPr/>
          <p:nvPr/>
        </p:nvSpPr>
        <p:spPr>
          <a:xfrm>
            <a:off x="1000080" y="3133800"/>
            <a:ext cx="3000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>
            <a:off x="1357200" y="2928960"/>
            <a:ext cx="2041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649520" y="2246400"/>
            <a:ext cx="21366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部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4"/>
          <p:cNvGrpSpPr/>
          <p:nvPr/>
        </p:nvGrpSpPr>
        <p:grpSpPr>
          <a:xfrm>
            <a:off x="4929120" y="1949400"/>
            <a:ext cx="4732560" cy="2622600"/>
            <a:chOff x="4929120" y="1949400"/>
            <a:chExt cx="4732560" cy="2622600"/>
          </a:xfrm>
        </p:grpSpPr>
        <p:grpSp>
          <p:nvGrpSpPr>
            <p:cNvPr id="104" name="组合 32"/>
            <p:cNvGrpSpPr/>
            <p:nvPr/>
          </p:nvGrpSpPr>
          <p:grpSpPr>
            <a:xfrm>
              <a:off x="5226840" y="3235320"/>
              <a:ext cx="1986840" cy="227520"/>
              <a:chOff x="5226840" y="3235320"/>
              <a:chExt cx="1986840" cy="227520"/>
            </a:xfrm>
          </p:grpSpPr>
          <p:sp>
            <p:nvSpPr>
              <p:cNvPr id="105" name="直接连接符 4"/>
              <p:cNvSpPr/>
              <p:nvPr/>
            </p:nvSpPr>
            <p:spPr>
              <a:xfrm>
                <a:off x="6221160" y="3235320"/>
                <a:ext cx="992520" cy="227520"/>
              </a:xfrm>
              <a:custGeom>
                <a:avLst/>
                <a:gdLst>
                  <a:gd name="textAreaLeft" fmla="*/ 0 w 992520"/>
                  <a:gd name="textAreaRight" fmla="*/ 992880 w 99252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2143" h="226992">
                    <a:moveTo>
                      <a:pt x="0" y="0"/>
                    </a:moveTo>
                    <a:lnTo>
                      <a:pt x="0" y="114680"/>
                    </a:lnTo>
                    <a:lnTo>
                      <a:pt x="993296" y="114680"/>
                    </a:lnTo>
                    <a:lnTo>
                      <a:pt x="993296" y="227555"/>
                    </a:lnTo>
                  </a:path>
                </a:pathLst>
              </a:custGeom>
              <a:noFill/>
              <a:ln w="25560">
                <a:solidFill>
                  <a:srgbClr val="b5cb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5"/>
              <p:cNvSpPr/>
              <p:nvPr/>
            </p:nvSpPr>
            <p:spPr>
              <a:xfrm>
                <a:off x="5226840" y="3235320"/>
                <a:ext cx="992520" cy="227520"/>
              </a:xfrm>
              <a:custGeom>
                <a:avLst/>
                <a:gdLst>
                  <a:gd name="textAreaLeft" fmla="*/ 0 w 992520"/>
                  <a:gd name="textAreaRight" fmla="*/ 992880 w 99252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2143" h="226992">
                    <a:moveTo>
                      <a:pt x="993296" y="0"/>
                    </a:moveTo>
                    <a:lnTo>
                      <a:pt x="993296" y="114680"/>
                    </a:lnTo>
                    <a:lnTo>
                      <a:pt x="0" y="114680"/>
                    </a:lnTo>
                    <a:lnTo>
                      <a:pt x="0" y="227555"/>
                    </a:lnTo>
                  </a:path>
                </a:pathLst>
              </a:custGeom>
              <a:noFill/>
              <a:ln w="25560">
                <a:solidFill>
                  <a:srgbClr val="b5cb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组合 33"/>
            <p:cNvGrpSpPr/>
            <p:nvPr/>
          </p:nvGrpSpPr>
          <p:grpSpPr>
            <a:xfrm>
              <a:off x="6240600" y="2663640"/>
              <a:ext cx="1986840" cy="227520"/>
              <a:chOff x="6240600" y="2663640"/>
              <a:chExt cx="1986840" cy="227520"/>
            </a:xfrm>
          </p:grpSpPr>
          <p:sp>
            <p:nvSpPr>
              <p:cNvPr id="108" name="直接连接符 3"/>
              <p:cNvSpPr/>
              <p:nvPr/>
            </p:nvSpPr>
            <p:spPr>
              <a:xfrm>
                <a:off x="7234200" y="2663640"/>
                <a:ext cx="993240" cy="22752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3730" h="226992">
                    <a:moveTo>
                      <a:pt x="0" y="0"/>
                    </a:moveTo>
                    <a:lnTo>
                      <a:pt x="0" y="114680"/>
                    </a:lnTo>
                    <a:lnTo>
                      <a:pt x="993296" y="114680"/>
                    </a:lnTo>
                    <a:lnTo>
                      <a:pt x="993296" y="227555"/>
                    </a:lnTo>
                  </a:path>
                </a:pathLst>
              </a:custGeom>
              <a:noFill/>
              <a:ln w="25560">
                <a:solidFill>
                  <a:srgbClr val="9cbc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6"/>
              <p:cNvSpPr/>
              <p:nvPr/>
            </p:nvSpPr>
            <p:spPr>
              <a:xfrm>
                <a:off x="6240600" y="2663640"/>
                <a:ext cx="993600" cy="22752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3730" h="226992">
                    <a:moveTo>
                      <a:pt x="993296" y="0"/>
                    </a:moveTo>
                    <a:lnTo>
                      <a:pt x="993296" y="114680"/>
                    </a:lnTo>
                    <a:lnTo>
                      <a:pt x="0" y="114680"/>
                    </a:lnTo>
                    <a:lnTo>
                      <a:pt x="0" y="227555"/>
                    </a:lnTo>
                  </a:path>
                </a:pathLst>
              </a:custGeom>
              <a:noFill/>
              <a:ln w="25560">
                <a:solidFill>
                  <a:srgbClr val="9cbc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7"/>
            <p:cNvGrpSpPr/>
            <p:nvPr/>
          </p:nvGrpSpPr>
          <p:grpSpPr>
            <a:xfrm>
              <a:off x="6727320" y="1949400"/>
              <a:ext cx="1941120" cy="865440"/>
              <a:chOff x="6727320" y="1949400"/>
              <a:chExt cx="1941120" cy="865440"/>
            </a:xfrm>
          </p:grpSpPr>
          <p:sp>
            <p:nvSpPr>
              <p:cNvPr id="111" name="矩形 30"/>
              <p:cNvSpPr/>
              <p:nvPr/>
            </p:nvSpPr>
            <p:spPr>
              <a:xfrm>
                <a:off x="7585200" y="1949400"/>
                <a:ext cx="1083240" cy="7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6727320" y="2092320"/>
                <a:ext cx="1083240" cy="7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书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18"/>
            <p:cNvGrpSpPr/>
            <p:nvPr/>
          </p:nvGrpSpPr>
          <p:grpSpPr>
            <a:xfrm>
              <a:off x="5869800" y="2735280"/>
              <a:ext cx="1805040" cy="886680"/>
              <a:chOff x="5869800" y="2735280"/>
              <a:chExt cx="1805040" cy="886680"/>
            </a:xfrm>
          </p:grpSpPr>
          <p:sp>
            <p:nvSpPr>
              <p:cNvPr id="114" name="矩形 28"/>
              <p:cNvSpPr/>
              <p:nvPr/>
            </p:nvSpPr>
            <p:spPr>
              <a:xfrm>
                <a:off x="6590520" y="2898720"/>
                <a:ext cx="108432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29"/>
              <p:cNvSpPr/>
              <p:nvPr/>
            </p:nvSpPr>
            <p:spPr>
              <a:xfrm>
                <a:off x="5869800" y="2735280"/>
                <a:ext cx="108432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组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19"/>
            <p:cNvGrpSpPr/>
            <p:nvPr/>
          </p:nvGrpSpPr>
          <p:grpSpPr>
            <a:xfrm>
              <a:off x="4929120" y="3299040"/>
              <a:ext cx="1752480" cy="1272960"/>
              <a:chOff x="4929120" y="3299040"/>
              <a:chExt cx="1752480" cy="1272960"/>
            </a:xfrm>
          </p:grpSpPr>
          <p:sp>
            <p:nvSpPr>
              <p:cNvPr id="117" name="矩形 26"/>
              <p:cNvSpPr/>
              <p:nvPr/>
            </p:nvSpPr>
            <p:spPr>
              <a:xfrm>
                <a:off x="5597280" y="3849840"/>
                <a:ext cx="108432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27"/>
              <p:cNvSpPr/>
              <p:nvPr/>
            </p:nvSpPr>
            <p:spPr>
              <a:xfrm>
                <a:off x="4929120" y="3299040"/>
                <a:ext cx="108432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20"/>
            <p:cNvGrpSpPr/>
            <p:nvPr/>
          </p:nvGrpSpPr>
          <p:grpSpPr>
            <a:xfrm>
              <a:off x="6941520" y="3299040"/>
              <a:ext cx="1726560" cy="1272960"/>
              <a:chOff x="6941520" y="3299040"/>
              <a:chExt cx="1726560" cy="1272960"/>
            </a:xfrm>
          </p:grpSpPr>
          <p:sp>
            <p:nvSpPr>
              <p:cNvPr id="120" name="矩形 24"/>
              <p:cNvSpPr/>
              <p:nvPr/>
            </p:nvSpPr>
            <p:spPr>
              <a:xfrm>
                <a:off x="7584840" y="3849840"/>
                <a:ext cx="10832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25"/>
              <p:cNvSpPr/>
              <p:nvPr/>
            </p:nvSpPr>
            <p:spPr>
              <a:xfrm>
                <a:off x="6941520" y="3299040"/>
                <a:ext cx="10832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21"/>
            <p:cNvGrpSpPr/>
            <p:nvPr/>
          </p:nvGrpSpPr>
          <p:grpSpPr>
            <a:xfrm>
              <a:off x="8013240" y="2806560"/>
              <a:ext cx="1648440" cy="815040"/>
              <a:chOff x="8013240" y="2806560"/>
              <a:chExt cx="1648440" cy="815040"/>
            </a:xfrm>
          </p:grpSpPr>
          <p:sp>
            <p:nvSpPr>
              <p:cNvPr id="123" name="矩形 22"/>
              <p:cNvSpPr/>
              <p:nvPr/>
            </p:nvSpPr>
            <p:spPr>
              <a:xfrm>
                <a:off x="8578440" y="2898360"/>
                <a:ext cx="108324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23"/>
              <p:cNvSpPr/>
              <p:nvPr/>
            </p:nvSpPr>
            <p:spPr>
              <a:xfrm>
                <a:off x="8013240" y="2806560"/>
                <a:ext cx="108324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宣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9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7572240" y="2071800"/>
            <a:ext cx="722520" cy="284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"/>
          <p:cNvSpPr/>
          <p:nvPr/>
        </p:nvSpPr>
        <p:spPr>
          <a:xfrm>
            <a:off x="7500960" y="2071800"/>
            <a:ext cx="1440" cy="28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7672320" y="265428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3" descr="3fe0da8a-edf2-4c9a-bc88-06797f8c292e.jpg"/>
          <p:cNvPicPr/>
          <p:nvPr/>
        </p:nvPicPr>
        <p:blipFill>
          <a:blip r:embed="rId2"/>
          <a:stretch/>
        </p:blipFill>
        <p:spPr>
          <a:xfrm>
            <a:off x="4000680" y="3929040"/>
            <a:ext cx="3319200" cy="2489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4" descr="18d8bc3eb13533fa93473898a8d3fd1f40345b96.jpg"/>
          <p:cNvPicPr/>
          <p:nvPr/>
        </p:nvPicPr>
        <p:blipFill>
          <a:blip r:embed="rId3"/>
          <a:stretch/>
        </p:blipFill>
        <p:spPr>
          <a:xfrm>
            <a:off x="714240" y="2286000"/>
            <a:ext cx="3157560" cy="2311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5" descr="70111_997056.jpg"/>
          <p:cNvPicPr/>
          <p:nvPr/>
        </p:nvPicPr>
        <p:blipFill>
          <a:blip r:embed="rId4"/>
          <a:stretch/>
        </p:blipFill>
        <p:spPr>
          <a:xfrm>
            <a:off x="4071960" y="1571760"/>
            <a:ext cx="3097080" cy="2063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3745080" y="1428840"/>
            <a:ext cx="204120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0"/>
          <p:cNvSpPr/>
          <p:nvPr/>
        </p:nvSpPr>
        <p:spPr>
          <a:xfrm>
            <a:off x="3745080" y="2298600"/>
            <a:ext cx="2041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3956040" y="1560600"/>
            <a:ext cx="2330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日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2" descr="121218085449469.jpg"/>
          <p:cNvPicPr/>
          <p:nvPr/>
        </p:nvPicPr>
        <p:blipFill>
          <a:blip r:embed="rId2"/>
          <a:stretch/>
        </p:blipFill>
        <p:spPr>
          <a:xfrm>
            <a:off x="1285920" y="2357280"/>
            <a:ext cx="6705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785880" y="1643040"/>
            <a:ext cx="204156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0"/>
          <p:cNvSpPr/>
          <p:nvPr/>
        </p:nvSpPr>
        <p:spPr>
          <a:xfrm>
            <a:off x="785880" y="2500200"/>
            <a:ext cx="20415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812880" y="1785960"/>
            <a:ext cx="2330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党员慰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2" descr="W020090915608209593558.jpg"/>
          <p:cNvPicPr/>
          <p:nvPr/>
        </p:nvPicPr>
        <p:blipFill>
          <a:blip r:embed="rId2"/>
          <a:stretch/>
        </p:blipFill>
        <p:spPr>
          <a:xfrm>
            <a:off x="785880" y="2643120"/>
            <a:ext cx="626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9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7850160" y="2085840"/>
            <a:ext cx="722520" cy="284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4"/>
          <p:cNvSpPr/>
          <p:nvPr/>
        </p:nvSpPr>
        <p:spPr>
          <a:xfrm>
            <a:off x="7778880" y="2085840"/>
            <a:ext cx="0" cy="28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7921800" y="258588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党业展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527040" y="2255760"/>
            <a:ext cx="7108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F54-7AEB-4D36-AA63-BADC950071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pm</dc:creator>
  <dc:description>www.eeppt.cpm</dc:description>
  <cp:keywords>www.eeppt.cpm</cp:keywords>
  <dc:language>en-US</dc:language>
  <cp:lastModifiedBy>Administrator</cp:lastModifiedBy>
  <dcterms:modified xsi:type="dcterms:W3CDTF">2015-08-11T14:22:08Z</dcterms:modified>
  <cp:revision>2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