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E36-938D-48E4-A5F0-1D6A7D7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447-5FFD-47B8-8A3F-A210E996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B17-235E-4066-B0DE-B4714D4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8BB-E7CE-4E93-B388-E8E133D3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32C-1D1B-4A3C-9EC0-8B3F6EEE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B19-1A20-4B27-985A-05D31771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2E3-7A0B-4B9B-963D-ED2A880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396-A6EB-402C-AA4E-D587F189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B27-8292-4D79-B8EF-44122DD3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F42-D1D8-48D0-B5A1-435409A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713-17A6-4FCD-9731-18698F2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D0B-F914-40C4-8A5E-819B439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303B-16EE-4287-860A-9FAE8F218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4.jpeg"/><Relationship Id="rId12" Type="http://schemas.openxmlformats.org/officeDocument/2006/relationships/image" Target="../media/image18.jpe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9160" y="692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精美的个人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2060640"/>
            <a:ext cx="5761080" cy="3776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2720" y="2276640"/>
            <a:ext cx="15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自我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工作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参加的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获得的奖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班级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今后发展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座右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37B-9D08-42FB-82C5-7C1DE93D18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2057400"/>
            <a:ext cx="175248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175248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0" y="243828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0" y="2743200"/>
            <a:ext cx="175248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0" y="3048120"/>
            <a:ext cx="1752480" cy="380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0" y="3429000"/>
            <a:ext cx="175248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0" y="419112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26920" y="83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座右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2124000" y="2492280"/>
            <a:ext cx="5473800" cy="309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059280" y="3357720"/>
            <a:ext cx="353376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梅花香自苦寒来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宝剑锋自磨砺出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1917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24000" y="2349360"/>
            <a:ext cx="5235480" cy="324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748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9520" y="19263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我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637000"/>
            <a:ext cx="455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叫刘萌萌，性别女，来自广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0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性格：活泼开朗 、大大咧咧、疯疯癫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好：表演、模仿、唱歌、跳舞、打篮球、绘画等等 ，就像一个初生婴儿，对很多事物都充满着好奇与激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特色：好强、超度自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心愿：希望对世界能够造成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050920" y="2133720"/>
            <a:ext cx="5956560" cy="390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1600" y="20689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工作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492280"/>
            <a:ext cx="52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一时，担任本班班长、学生会体育部干事、青春阵线话剧社社员、女篮队队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二时，担任本专业团总支、学生会文艺部副部、女篮队队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5400000">
            <a:off x="-903600" y="343224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仿宋_GB2312"/>
              </a:rPr>
              <a:t>参加的活动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349360"/>
            <a:ext cx="664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我的大学生活丰富多彩，参加过的活动有迎新晚会、周末文化广场、新生运动会、冬季运动会、理工杯球类运动会、阳光公益晚会、卡拉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ok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大赛、校园曲艺大赛、校园舞蹈大赛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97840" y="83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的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124000" y="2349360"/>
            <a:ext cx="5235480" cy="324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5400000">
            <a:off x="-560520" y="3448080"/>
            <a:ext cx="290484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仿宋_GB2312"/>
              </a:rPr>
              <a:t>获得的奖项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  <p:sp>
        <p:nvSpPr>
          <p:cNvPr id="81" name=""/>
          <p:cNvSpPr/>
          <p:nvPr/>
        </p:nvSpPr>
        <p:spPr>
          <a:xfrm>
            <a:off x="2679840" y="242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35120" y="2584440"/>
            <a:ext cx="46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理工杯”先进工作者、“感动文传十大学子”、运动会中“先进工作者”、篮球运球投球接力一等奖、卡拉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k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赛优秀奖、学习标兵、国家奖学金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97840" y="83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的照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050920" y="2205000"/>
            <a:ext cx="5596200" cy="3473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 rot="5400000">
            <a:off x="-350640" y="355104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仿宋_GB2312"/>
              </a:rPr>
              <a:t>班级介绍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2349360"/>
            <a:ext cx="462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级特色：本班同学性格总体上较为内敛（除我格外疯癫之外），所以本班特色可概括为沉稳型，内向中略显张扬，沉稳中稍带霸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828800" y="1295280"/>
            <a:ext cx="662940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8760" y="192780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特色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133720"/>
            <a:ext cx="54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是展现班级特色的重要体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的组织者应本着维护同学切身利益、为同学发展进步服务的宗旨和出发点，根据班级同学的特点、兴趣爱好、性格等进行整合分析，开展班级同学喜爱的、有意义的班级特色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19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08000" y="1341360"/>
            <a:ext cx="6629400" cy="736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3645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68360" y="2276640"/>
            <a:ext cx="4390920" cy="309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435640" y="2421000"/>
            <a:ext cx="228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156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8748720" cy="1197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1752480" cy="59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03280" y="3645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9120" y="1379520"/>
            <a:ext cx="68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后发展方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为专业负责人，今后定将带领两班超更好方向发展。考虑到一班与二班同学性格的差异，采取互补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2:51:37Z</dcterms:created>
  <dc:creator>pc</dc:creator>
  <dc:description/>
  <cp:keywords>www.eeppt.com</cp:keywords>
  <dc:language>en-US</dc:language>
  <cp:lastModifiedBy>微软用户</cp:lastModifiedBy>
  <dcterms:modified xsi:type="dcterms:W3CDTF">2015-08-11T14:22:45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