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498D1-1F77-4332-8DE0-B5C98CEAC2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4920" y="4478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20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320" y="3909240"/>
            <a:ext cx="7620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7FE91-46BB-408A-8F03-E3B80D250A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4920" y="4478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3718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71240" y="1371600"/>
            <a:ext cx="3718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320" y="3909240"/>
            <a:ext cx="3718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71240" y="3909240"/>
            <a:ext cx="3718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7157A-5D6C-49FA-9D79-3B452D9795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4478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24534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42840" y="1371600"/>
            <a:ext cx="24534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19360" y="1371600"/>
            <a:ext cx="24534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320" y="3909240"/>
            <a:ext cx="24534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42840" y="3909240"/>
            <a:ext cx="24534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19360" y="3909240"/>
            <a:ext cx="24534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8D0C0-B77F-4CE9-BDB8-5DB7B6D9A0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4A3D4-A869-4754-881D-1388CFA50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4920" y="4478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66320" y="1371600"/>
            <a:ext cx="762012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14DF3-8E46-49D5-8D0B-730070D3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4920" y="4478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201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8B8C8-20F1-45AF-8AB2-F056D9E7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4478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37184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1240" y="1371600"/>
            <a:ext cx="37184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AE385-1519-4BA0-9264-C63C86AF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4920" y="4478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BAD46-F988-4115-80A6-C0C5383F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4920" y="456840"/>
            <a:ext cx="7086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CBD20-0264-4610-A525-B5768B77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4920" y="4478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3718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71240" y="1371600"/>
            <a:ext cx="37184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6320" y="3909240"/>
            <a:ext cx="3718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F248E-6A2B-4D60-8815-15496E0B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4478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320" y="1371600"/>
            <a:ext cx="762012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2D971-BD5D-45DB-B1FB-AF5E8E44CC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4920" y="4478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37184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371600"/>
            <a:ext cx="3718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71240" y="3909240"/>
            <a:ext cx="3718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DED81-0CE1-4C96-99FF-32D58FA4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4478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3718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71240" y="1371600"/>
            <a:ext cx="3718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3909240"/>
            <a:ext cx="7620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8F025-C5F5-40C1-BA20-8CD1D46B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4478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20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66320" y="3909240"/>
            <a:ext cx="7620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66C94-BBBC-48E6-8D6D-11B8AD53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4478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3718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71240" y="1371600"/>
            <a:ext cx="3718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320" y="3909240"/>
            <a:ext cx="3718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71240" y="3909240"/>
            <a:ext cx="3718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5A470-10C6-4A69-9F54-CC71B9E3A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4478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24534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42840" y="1371600"/>
            <a:ext cx="24534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19360" y="1371600"/>
            <a:ext cx="24534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66320" y="3909240"/>
            <a:ext cx="24534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42840" y="3909240"/>
            <a:ext cx="24534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219360" y="3909240"/>
            <a:ext cx="24534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EF0EB-7337-447B-B27D-D47DA8886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4478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201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9A41F-D16E-40B5-B1AE-E450D1BFEE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4478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37184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371600"/>
            <a:ext cx="37184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8DCF7-1C31-4E9B-A7A0-36187F3163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4478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55F29-AE43-41F0-AA88-38A959AEDA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294920" y="456840"/>
            <a:ext cx="7086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47074-CEAC-4C69-9A60-E0D8C90616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4478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3718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1240" y="1371600"/>
            <a:ext cx="37184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909240"/>
            <a:ext cx="3718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E4D46-A55C-454E-894E-FBC346A21E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4920" y="4478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37184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1240" y="1371600"/>
            <a:ext cx="3718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71240" y="3909240"/>
            <a:ext cx="3718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114E0-3225-4BFE-A898-CCB72F745E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4478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3718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71240" y="1371600"/>
            <a:ext cx="3718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320" y="3909240"/>
            <a:ext cx="7620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BA58B-770A-45DE-87E2-A2B271AA39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"/>
          <p:cNvGraphicFramePr/>
          <p:nvPr/>
        </p:nvGraphicFramePr>
        <p:xfrm>
          <a:off x="0" y="0"/>
          <a:ext cx="914400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3"/>
          <p:cNvSpPr/>
          <p:nvPr/>
        </p:nvSpPr>
        <p:spPr>
          <a:xfrm>
            <a:off x="5715000" y="6305400"/>
            <a:ext cx="3009960" cy="40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066320" y="1371600"/>
            <a:ext cx="76201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453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1749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d93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1749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b174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1749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b1749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1749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b174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1749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b174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1749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b174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1749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228240" y="64004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940F-A901-4D30-941C-39EEBCAECB3B}" type="slidenum">
              <a:rPr b="0" lang="en-US" sz="9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086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53b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grpSp>
        <p:nvGrpSpPr>
          <p:cNvPr id="6" name="Group 7"/>
          <p:cNvGrpSpPr/>
          <p:nvPr/>
        </p:nvGrpSpPr>
        <p:grpSpPr>
          <a:xfrm>
            <a:off x="228600" y="228600"/>
            <a:ext cx="990360" cy="1219320"/>
            <a:chOff x="228600" y="228600"/>
            <a:chExt cx="990360" cy="1219320"/>
          </a:xfrm>
        </p:grpSpPr>
        <p:sp>
          <p:nvSpPr>
            <p:cNvPr id="7" name="AutoShape 8"/>
            <p:cNvSpPr/>
            <p:nvPr/>
          </p:nvSpPr>
          <p:spPr>
            <a:xfrm>
              <a:off x="718560" y="696600"/>
              <a:ext cx="500400" cy="341640"/>
            </a:xfrm>
            <a:prstGeom prst="diamond">
              <a:avLst/>
            </a:prstGeom>
            <a:solidFill>
              <a:srgbClr val="4d7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8" name="AutoShape 9"/>
            <p:cNvSpPr/>
            <p:nvPr/>
          </p:nvSpPr>
          <p:spPr>
            <a:xfrm>
              <a:off x="228600" y="355320"/>
              <a:ext cx="511920" cy="347760"/>
            </a:xfrm>
            <a:prstGeom prst="diamond">
              <a:avLst/>
            </a:prstGeom>
            <a:solidFill>
              <a:srgbClr val="0b17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9" name="AutoShape 10"/>
            <p:cNvSpPr/>
            <p:nvPr/>
          </p:nvSpPr>
          <p:spPr>
            <a:xfrm>
              <a:off x="480240" y="228600"/>
              <a:ext cx="477000" cy="348480"/>
            </a:xfrm>
            <a:prstGeom prst="diamond">
              <a:avLst/>
            </a:prstGeom>
            <a:solidFill>
              <a:srgbClr val="245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718920" y="866520"/>
              <a:ext cx="257040" cy="466920"/>
            </a:xfrm>
            <a:custGeom>
              <a:avLst/>
              <a:gdLst/>
              <a:ahLst/>
              <a:rect l="l" t="t" r="r" b="b"/>
              <a:pathLst>
                <a:path w="648" h="1066">
                  <a:moveTo>
                    <a:pt x="648" y="1066"/>
                  </a:moveTo>
                  <a:lnTo>
                    <a:pt x="641" y="389"/>
                  </a:lnTo>
                  <a:lnTo>
                    <a:pt x="0" y="0"/>
                  </a:lnTo>
                  <a:lnTo>
                    <a:pt x="2" y="681"/>
                  </a:lnTo>
                  <a:lnTo>
                    <a:pt x="648" y="1066"/>
                  </a:lnTo>
                  <a:close/>
                </a:path>
              </a:pathLst>
            </a:custGeom>
            <a:solidFill>
              <a:srgbClr val="4d9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228960" y="525960"/>
              <a:ext cx="256680" cy="478080"/>
            </a:xfrm>
            <a:custGeom>
              <a:avLst/>
              <a:gdLst/>
              <a:ahLst/>
              <a:rect l="l" t="t" r="r" b="b"/>
              <a:pathLst>
                <a:path w="626" h="991">
                  <a:moveTo>
                    <a:pt x="626" y="991"/>
                  </a:moveTo>
                  <a:lnTo>
                    <a:pt x="626" y="362"/>
                  </a:lnTo>
                  <a:lnTo>
                    <a:pt x="0" y="0"/>
                  </a:lnTo>
                  <a:lnTo>
                    <a:pt x="2" y="617"/>
                  </a:lnTo>
                  <a:lnTo>
                    <a:pt x="626" y="991"/>
                  </a:lnTo>
                  <a:close/>
                </a:path>
              </a:pathLst>
            </a:custGeom>
            <a:solidFill>
              <a:srgbClr val="6a93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2" name="未知"/>
            <p:cNvSpPr/>
            <p:nvPr/>
          </p:nvSpPr>
          <p:spPr>
            <a:xfrm>
              <a:off x="484560" y="992520"/>
              <a:ext cx="235080" cy="455400"/>
            </a:xfrm>
            <a:custGeom>
              <a:avLst/>
              <a:gdLst/>
              <a:ahLst/>
              <a:rect l="l" t="t" r="r" b="b"/>
              <a:pathLst>
                <a:path w="582" h="944">
                  <a:moveTo>
                    <a:pt x="582" y="944"/>
                  </a:moveTo>
                  <a:lnTo>
                    <a:pt x="582" y="346"/>
                  </a:lnTo>
                  <a:lnTo>
                    <a:pt x="0" y="0"/>
                  </a:lnTo>
                  <a:lnTo>
                    <a:pt x="1" y="610"/>
                  </a:lnTo>
                  <a:lnTo>
                    <a:pt x="582" y="944"/>
                  </a:lnTo>
                  <a:close/>
                </a:path>
              </a:pathLst>
            </a:custGeom>
            <a:solidFill>
              <a:srgbClr val="0b17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3" name="未知"/>
            <p:cNvSpPr/>
            <p:nvPr/>
          </p:nvSpPr>
          <p:spPr>
            <a:xfrm>
              <a:off x="483480" y="401400"/>
              <a:ext cx="236520" cy="470520"/>
            </a:xfrm>
            <a:custGeom>
              <a:avLst/>
              <a:gdLst/>
              <a:ahLst/>
              <a:rect l="l" t="t" r="r" b="b"/>
              <a:pathLst>
                <a:path w="576" h="976">
                  <a:moveTo>
                    <a:pt x="576" y="976"/>
                  </a:moveTo>
                  <a:lnTo>
                    <a:pt x="574" y="350"/>
                  </a:lnTo>
                  <a:lnTo>
                    <a:pt x="0" y="0"/>
                  </a:lnTo>
                  <a:lnTo>
                    <a:pt x="0" y="625"/>
                  </a:lnTo>
                  <a:lnTo>
                    <a:pt x="576" y="976"/>
                  </a:lnTo>
                  <a:close/>
                </a:path>
              </a:pathLst>
            </a:custGeom>
            <a:solidFill>
              <a:srgbClr val="77a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0" y="0"/>
          <a:ext cx="9144000" cy="312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AutoShape 8"/>
          <p:cNvSpPr/>
          <p:nvPr/>
        </p:nvSpPr>
        <p:spPr>
          <a:xfrm>
            <a:off x="6684840" y="3438360"/>
            <a:ext cx="2001960" cy="1238400"/>
          </a:xfrm>
          <a:prstGeom prst="diamond">
            <a:avLst/>
          </a:prstGeom>
          <a:solidFill>
            <a:srgbClr val="4d9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53" name="AutoShape 9"/>
          <p:cNvSpPr/>
          <p:nvPr/>
        </p:nvSpPr>
        <p:spPr>
          <a:xfrm>
            <a:off x="4724280" y="2201760"/>
            <a:ext cx="2048040" cy="1260720"/>
          </a:xfrm>
          <a:prstGeom prst="diamond">
            <a:avLst/>
          </a:prstGeom>
          <a:solidFill>
            <a:srgbClr val="0b1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54" name="AutoShape 10"/>
          <p:cNvSpPr/>
          <p:nvPr/>
        </p:nvSpPr>
        <p:spPr>
          <a:xfrm>
            <a:off x="5742000" y="1752480"/>
            <a:ext cx="1908000" cy="1263600"/>
          </a:xfrm>
          <a:prstGeom prst="diamond">
            <a:avLst/>
          </a:prstGeom>
          <a:solidFill>
            <a:srgbClr val="77ae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55" name="未知"/>
          <p:cNvSpPr/>
          <p:nvPr/>
        </p:nvSpPr>
        <p:spPr>
          <a:xfrm>
            <a:off x="6686640" y="4054320"/>
            <a:ext cx="1028520" cy="1692360"/>
          </a:xfrm>
          <a:custGeom>
            <a:avLst/>
            <a:gdLst/>
            <a:ahLst/>
            <a:rect l="l" t="t" r="r" b="b"/>
            <a:pathLst>
              <a:path w="648" h="1066">
                <a:moveTo>
                  <a:pt x="648" y="1066"/>
                </a:moveTo>
                <a:lnTo>
                  <a:pt x="641" y="389"/>
                </a:lnTo>
                <a:lnTo>
                  <a:pt x="0" y="0"/>
                </a:lnTo>
                <a:lnTo>
                  <a:pt x="2" y="681"/>
                </a:lnTo>
                <a:lnTo>
                  <a:pt x="648" y="1066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56" name="未知"/>
          <p:cNvSpPr/>
          <p:nvPr/>
        </p:nvSpPr>
        <p:spPr>
          <a:xfrm>
            <a:off x="4726080" y="2819520"/>
            <a:ext cx="1027080" cy="1733400"/>
          </a:xfrm>
          <a:custGeom>
            <a:avLst/>
            <a:gdLst/>
            <a:ahLst/>
            <a:rect l="l" t="t" r="r" b="b"/>
            <a:pathLst>
              <a:path w="626" h="991">
                <a:moveTo>
                  <a:pt x="626" y="991"/>
                </a:moveTo>
                <a:lnTo>
                  <a:pt x="626" y="362"/>
                </a:lnTo>
                <a:lnTo>
                  <a:pt x="0" y="0"/>
                </a:lnTo>
                <a:lnTo>
                  <a:pt x="2" y="617"/>
                </a:lnTo>
                <a:lnTo>
                  <a:pt x="626" y="991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57" name="未知"/>
          <p:cNvSpPr/>
          <p:nvPr/>
        </p:nvSpPr>
        <p:spPr>
          <a:xfrm>
            <a:off x="5749920" y="4537080"/>
            <a:ext cx="939960" cy="1635120"/>
          </a:xfrm>
          <a:custGeom>
            <a:avLst/>
            <a:gdLst/>
            <a:ahLst/>
            <a:rect l="l" t="t" r="r" b="b"/>
            <a:pathLst>
              <a:path w="592" h="1030">
                <a:moveTo>
                  <a:pt x="592" y="1030"/>
                </a:moveTo>
                <a:lnTo>
                  <a:pt x="592" y="371"/>
                </a:lnTo>
                <a:lnTo>
                  <a:pt x="1" y="0"/>
                </a:lnTo>
                <a:lnTo>
                  <a:pt x="0" y="662"/>
                </a:lnTo>
                <a:lnTo>
                  <a:pt x="592" y="1030"/>
                </a:lnTo>
                <a:close/>
              </a:path>
            </a:pathLst>
          </a:custGeom>
          <a:solidFill>
            <a:srgbClr val="4d79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58" name="未知"/>
          <p:cNvSpPr/>
          <p:nvPr/>
        </p:nvSpPr>
        <p:spPr>
          <a:xfrm>
            <a:off x="5742000" y="2382840"/>
            <a:ext cx="961920" cy="1671480"/>
          </a:xfrm>
          <a:custGeom>
            <a:avLst/>
            <a:gdLst/>
            <a:ahLst/>
            <a:rect l="l" t="t" r="r" b="b"/>
            <a:pathLst>
              <a:path w="598" h="1053">
                <a:moveTo>
                  <a:pt x="589" y="1053"/>
                </a:moveTo>
                <a:lnTo>
                  <a:pt x="598" y="394"/>
                </a:lnTo>
                <a:lnTo>
                  <a:pt x="0" y="0"/>
                </a:lnTo>
                <a:lnTo>
                  <a:pt x="1" y="675"/>
                </a:lnTo>
                <a:lnTo>
                  <a:pt x="589" y="1053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1066320" y="1371600"/>
            <a:ext cx="76201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453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1749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d93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1749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b174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1749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b1749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1749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b174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1749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b174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1749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b174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1749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086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53b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2"/>
          </p:nvPr>
        </p:nvSpPr>
        <p:spPr>
          <a:xfrm>
            <a:off x="152280" y="6552720"/>
            <a:ext cx="2438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3"/>
          </p:nvPr>
        </p:nvSpPr>
        <p:spPr>
          <a:xfrm>
            <a:off x="3123720" y="6552720"/>
            <a:ext cx="3048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4"/>
          </p:nvPr>
        </p:nvSpPr>
        <p:spPr>
          <a:xfrm>
            <a:off x="6476760" y="6552720"/>
            <a:ext cx="2438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b1749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F9E1-B8BC-4F9C-BCE5-B19C16B7DBCF}" type="slidenum">
              <a:rPr b="0" lang="en-US" sz="1000" spc="-1" strike="noStrike">
                <a:solidFill>
                  <a:srgbClr val="0b1749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3"/>
          <p:cNvGrpSpPr/>
          <p:nvPr/>
        </p:nvGrpSpPr>
        <p:grpSpPr>
          <a:xfrm>
            <a:off x="685800" y="3200400"/>
            <a:ext cx="3429000" cy="1338120"/>
            <a:chOff x="685800" y="3200400"/>
            <a:chExt cx="3429000" cy="1338120"/>
          </a:xfrm>
        </p:grpSpPr>
        <p:sp>
          <p:nvSpPr>
            <p:cNvPr id="101" name="未知"/>
            <p:cNvSpPr/>
            <p:nvPr/>
          </p:nvSpPr>
          <p:spPr>
            <a:xfrm rot="21190200">
              <a:off x="717120" y="3897000"/>
              <a:ext cx="2568600" cy="490320"/>
            </a:xfrm>
            <a:custGeom>
              <a:avLst/>
              <a:gdLst/>
              <a:ahLst/>
              <a:rect l="l" t="t" r="r" b="b"/>
              <a:pathLst>
                <a:path w="3214" h="205">
                  <a:moveTo>
                    <a:pt x="3" y="145"/>
                  </a:moveTo>
                  <a:cubicBezTo>
                    <a:pt x="0" y="144"/>
                    <a:pt x="557" y="0"/>
                    <a:pt x="987" y="16"/>
                  </a:cubicBezTo>
                  <a:cubicBezTo>
                    <a:pt x="1417" y="33"/>
                    <a:pt x="1861" y="149"/>
                    <a:pt x="2232" y="168"/>
                  </a:cubicBezTo>
                  <a:cubicBezTo>
                    <a:pt x="2603" y="187"/>
                    <a:pt x="3208" y="126"/>
                    <a:pt x="3211" y="130"/>
                  </a:cubicBezTo>
                  <a:cubicBezTo>
                    <a:pt x="3214" y="134"/>
                    <a:pt x="2622" y="205"/>
                    <a:pt x="2251" y="194"/>
                  </a:cubicBezTo>
                  <a:cubicBezTo>
                    <a:pt x="1880" y="183"/>
                    <a:pt x="1362" y="70"/>
                    <a:pt x="987" y="62"/>
                  </a:cubicBezTo>
                  <a:cubicBezTo>
                    <a:pt x="384" y="54"/>
                    <a:pt x="168" y="144"/>
                    <a:pt x="3" y="145"/>
                  </a:cubicBezTo>
                  <a:close/>
                </a:path>
              </a:pathLst>
            </a:cu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lin ang="1120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685800" y="3200400"/>
              <a:ext cx="3429000" cy="1190520"/>
            </a:xfrm>
            <a:custGeom>
              <a:avLst/>
              <a:gdLst/>
              <a:ahLst/>
              <a:rect l="l" t="t" r="r" b="b"/>
              <a:pathLst>
                <a:path w="1731" h="565">
                  <a:moveTo>
                    <a:pt x="3" y="565"/>
                  </a:moveTo>
                  <a:cubicBezTo>
                    <a:pt x="0" y="563"/>
                    <a:pt x="215" y="289"/>
                    <a:pt x="460" y="237"/>
                  </a:cubicBezTo>
                  <a:cubicBezTo>
                    <a:pt x="704" y="187"/>
                    <a:pt x="892" y="343"/>
                    <a:pt x="1104" y="305"/>
                  </a:cubicBezTo>
                  <a:cubicBezTo>
                    <a:pt x="1316" y="267"/>
                    <a:pt x="1728" y="0"/>
                    <a:pt x="1731" y="6"/>
                  </a:cubicBezTo>
                  <a:cubicBezTo>
                    <a:pt x="1654" y="53"/>
                    <a:pt x="1362" y="291"/>
                    <a:pt x="1124" y="344"/>
                  </a:cubicBezTo>
                  <a:cubicBezTo>
                    <a:pt x="886" y="397"/>
                    <a:pt x="650" y="265"/>
                    <a:pt x="456" y="313"/>
                  </a:cubicBezTo>
                  <a:cubicBezTo>
                    <a:pt x="115" y="402"/>
                    <a:pt x="94" y="537"/>
                    <a:pt x="3" y="565"/>
                  </a:cubicBezTo>
                  <a:close/>
                </a:path>
              </a:pathLst>
            </a:custGeom>
            <a:gradFill rotWithShape="0">
              <a:gsLst>
                <a:gs pos="0">
                  <a:srgbClr val="c3dbf2"/>
                </a:gs>
                <a:gs pos="100000">
                  <a:srgbClr val="4d93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4343040"/>
            <a:ext cx="51818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b1749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b1749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6560" y="45720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b1749"/>
                </a:solidFill>
                <a:latin typeface="Arial"/>
              </a:rPr>
              <a:t>科学研究开题报告幻灯片免费下载</a:t>
            </a:r>
            <a:endParaRPr b="0" lang="en-US" sz="4000" spc="-1" strike="noStrike">
              <a:solidFill>
                <a:srgbClr val="0b17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086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53b2"/>
                </a:solidFill>
                <a:latin typeface="Verdana"/>
                <a:ea typeface="宋体"/>
              </a:rPr>
              <a:t>Marketing Diagram</a:t>
            </a: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grpSp>
        <p:nvGrpSpPr>
          <p:cNvPr id="304" name="Group 3"/>
          <p:cNvGrpSpPr/>
          <p:nvPr/>
        </p:nvGrpSpPr>
        <p:grpSpPr>
          <a:xfrm>
            <a:off x="990720" y="1447920"/>
            <a:ext cx="5786280" cy="5077800"/>
            <a:chOff x="990720" y="1447920"/>
            <a:chExt cx="5786280" cy="5077800"/>
          </a:xfrm>
        </p:grpSpPr>
        <p:sp>
          <p:nvSpPr>
            <p:cNvPr id="305" name="Oval 4"/>
            <p:cNvSpPr/>
            <p:nvPr/>
          </p:nvSpPr>
          <p:spPr>
            <a:xfrm>
              <a:off x="4905360" y="2307960"/>
              <a:ext cx="743040" cy="205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06" name="Oval 5"/>
            <p:cNvSpPr/>
            <p:nvPr/>
          </p:nvSpPr>
          <p:spPr>
            <a:xfrm>
              <a:off x="3619800" y="3993840"/>
              <a:ext cx="1257120" cy="348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07" name="Oval 6"/>
            <p:cNvSpPr/>
            <p:nvPr/>
          </p:nvSpPr>
          <p:spPr>
            <a:xfrm>
              <a:off x="4953240" y="6019560"/>
              <a:ext cx="1823760" cy="506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08" name="Oval 7"/>
            <p:cNvSpPr/>
            <p:nvPr/>
          </p:nvSpPr>
          <p:spPr>
            <a:xfrm>
              <a:off x="1219320" y="4655880"/>
              <a:ext cx="1481040" cy="410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09" name="Rectangle 8"/>
            <p:cNvSpPr/>
            <p:nvPr/>
          </p:nvSpPr>
          <p:spPr>
            <a:xfrm rot="13770000">
              <a:off x="4451400" y="3883680"/>
              <a:ext cx="96012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10" name="Rectangle 9"/>
            <p:cNvSpPr/>
            <p:nvPr/>
          </p:nvSpPr>
          <p:spPr>
            <a:xfrm rot="20856000">
              <a:off x="2466720" y="3436560"/>
              <a:ext cx="1009800" cy="17280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grpSp>
          <p:nvGrpSpPr>
            <p:cNvPr id="311" name="Group 10"/>
            <p:cNvGrpSpPr/>
            <p:nvPr/>
          </p:nvGrpSpPr>
          <p:grpSpPr>
            <a:xfrm>
              <a:off x="3405240" y="2129760"/>
              <a:ext cx="1701360" cy="1836360"/>
              <a:chOff x="3405240" y="2129760"/>
              <a:chExt cx="1701360" cy="1836360"/>
            </a:xfrm>
          </p:grpSpPr>
          <p:sp>
            <p:nvSpPr>
              <p:cNvPr id="312" name="Rectangle 11"/>
              <p:cNvSpPr/>
              <p:nvPr/>
            </p:nvSpPr>
            <p:spPr>
              <a:xfrm rot="18394200">
                <a:off x="4578480" y="2342160"/>
                <a:ext cx="5950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grpSp>
            <p:nvGrpSpPr>
              <p:cNvPr id="313" name="Group 12"/>
              <p:cNvGrpSpPr/>
              <p:nvPr/>
            </p:nvGrpSpPr>
            <p:grpSpPr>
              <a:xfrm>
                <a:off x="3405240" y="2379600"/>
                <a:ext cx="1609560" cy="1586520"/>
                <a:chOff x="3405240" y="2379600"/>
                <a:chExt cx="1609560" cy="1586520"/>
              </a:xfrm>
            </p:grpSpPr>
            <p:sp>
              <p:nvSpPr>
                <p:cNvPr id="314" name="Oval 13"/>
                <p:cNvSpPr/>
                <p:nvPr/>
              </p:nvSpPr>
              <p:spPr>
                <a:xfrm>
                  <a:off x="3405240" y="2379600"/>
                  <a:ext cx="1609560" cy="158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93bc"/>
                    </a:gs>
                    <a:gs pos="100000">
                      <a:srgbClr val="1a242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  <p:sp>
              <p:nvSpPr>
                <p:cNvPr id="315" name="未知"/>
                <p:cNvSpPr/>
                <p:nvPr/>
              </p:nvSpPr>
              <p:spPr>
                <a:xfrm>
                  <a:off x="3589200" y="2405880"/>
                  <a:ext cx="1241640" cy="598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a93b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6" name="Text Box 15"/>
              <p:cNvSpPr/>
              <p:nvPr/>
            </p:nvSpPr>
            <p:spPr>
              <a:xfrm>
                <a:off x="3492000" y="307008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grpSp>
          <p:nvGrpSpPr>
            <p:cNvPr id="317" name="Group 16"/>
            <p:cNvGrpSpPr/>
            <p:nvPr/>
          </p:nvGrpSpPr>
          <p:grpSpPr>
            <a:xfrm>
              <a:off x="4815000" y="1447920"/>
              <a:ext cx="891720" cy="861480"/>
              <a:chOff x="4815000" y="1447920"/>
              <a:chExt cx="891720" cy="861480"/>
            </a:xfrm>
          </p:grpSpPr>
          <p:grpSp>
            <p:nvGrpSpPr>
              <p:cNvPr id="318" name="Group 17"/>
              <p:cNvGrpSpPr/>
              <p:nvPr/>
            </p:nvGrpSpPr>
            <p:grpSpPr>
              <a:xfrm>
                <a:off x="4815000" y="1447920"/>
                <a:ext cx="871560" cy="861480"/>
                <a:chOff x="4815000" y="1447920"/>
                <a:chExt cx="871560" cy="861480"/>
              </a:xfrm>
            </p:grpSpPr>
            <p:sp>
              <p:nvSpPr>
                <p:cNvPr id="319" name="Oval 18"/>
                <p:cNvSpPr/>
                <p:nvPr/>
              </p:nvSpPr>
              <p:spPr>
                <a:xfrm>
                  <a:off x="4815000" y="1447920"/>
                  <a:ext cx="871560" cy="86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93d9"/>
                    </a:gs>
                    <a:gs pos="100000">
                      <a:srgbClr val="23436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  <p:sp>
              <p:nvSpPr>
                <p:cNvPr id="320" name="未知"/>
                <p:cNvSpPr/>
                <p:nvPr/>
              </p:nvSpPr>
              <p:spPr>
                <a:xfrm>
                  <a:off x="4914360" y="146196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d93d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" name="Text Box 20"/>
              <p:cNvSpPr/>
              <p:nvPr/>
            </p:nvSpPr>
            <p:spPr>
              <a:xfrm>
                <a:off x="4835520" y="177948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21"/>
            <p:cNvGrpSpPr/>
            <p:nvPr/>
          </p:nvGrpSpPr>
          <p:grpSpPr>
            <a:xfrm>
              <a:off x="990720" y="2773080"/>
              <a:ext cx="1744560" cy="1790280"/>
              <a:chOff x="990720" y="2773080"/>
              <a:chExt cx="1744560" cy="1790280"/>
            </a:xfrm>
          </p:grpSpPr>
          <p:grpSp>
            <p:nvGrpSpPr>
              <p:cNvPr id="323" name="Group 22"/>
              <p:cNvGrpSpPr/>
              <p:nvPr/>
            </p:nvGrpSpPr>
            <p:grpSpPr>
              <a:xfrm>
                <a:off x="990720" y="2773080"/>
                <a:ext cx="1744560" cy="1790280"/>
                <a:chOff x="990720" y="2773080"/>
                <a:chExt cx="1744560" cy="1790280"/>
              </a:xfrm>
            </p:grpSpPr>
            <p:sp>
              <p:nvSpPr>
                <p:cNvPr id="324" name="Oval 23"/>
                <p:cNvSpPr/>
                <p:nvPr/>
              </p:nvSpPr>
              <p:spPr>
                <a:xfrm>
                  <a:off x="990720" y="2773080"/>
                  <a:ext cx="1744560" cy="179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7ae26"/>
                    </a:gs>
                    <a:gs pos="100000">
                      <a:srgbClr val="567e1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  <p:sp>
              <p:nvSpPr>
                <p:cNvPr id="325" name="未知"/>
                <p:cNvSpPr/>
                <p:nvPr/>
              </p:nvSpPr>
              <p:spPr>
                <a:xfrm>
                  <a:off x="1190160" y="280260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7ae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Text Box 25"/>
              <p:cNvSpPr/>
              <p:nvPr/>
            </p:nvSpPr>
            <p:spPr>
              <a:xfrm>
                <a:off x="1085040" y="356796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26"/>
            <p:cNvGrpSpPr/>
            <p:nvPr/>
          </p:nvGrpSpPr>
          <p:grpSpPr>
            <a:xfrm>
              <a:off x="4746600" y="4033440"/>
              <a:ext cx="2013120" cy="1989000"/>
              <a:chOff x="4746600" y="4033440"/>
              <a:chExt cx="2013120" cy="1989000"/>
            </a:xfrm>
          </p:grpSpPr>
          <p:grpSp>
            <p:nvGrpSpPr>
              <p:cNvPr id="328" name="Group 27"/>
              <p:cNvGrpSpPr/>
              <p:nvPr/>
            </p:nvGrpSpPr>
            <p:grpSpPr>
              <a:xfrm>
                <a:off x="4746600" y="4033440"/>
                <a:ext cx="2013120" cy="1989000"/>
                <a:chOff x="4746600" y="4033440"/>
                <a:chExt cx="2013120" cy="1989000"/>
              </a:xfrm>
            </p:grpSpPr>
            <p:sp>
              <p:nvSpPr>
                <p:cNvPr id="329" name="Oval 28"/>
                <p:cNvSpPr/>
                <p:nvPr/>
              </p:nvSpPr>
              <p:spPr>
                <a:xfrm>
                  <a:off x="4746600" y="403344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798f"/>
                    </a:gs>
                    <a:gs pos="100000">
                      <a:srgbClr val="2a424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  <p:sp>
              <p:nvSpPr>
                <p:cNvPr id="330" name="未知"/>
                <p:cNvSpPr/>
                <p:nvPr/>
              </p:nvSpPr>
              <p:spPr>
                <a:xfrm>
                  <a:off x="4976640" y="406620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d798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1" name="Text Box 30"/>
              <p:cNvSpPr/>
              <p:nvPr/>
            </p:nvSpPr>
            <p:spPr>
              <a:xfrm>
                <a:off x="5034960" y="489528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086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453b2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453b2"/>
              </a:solidFill>
              <a:latin typeface="Verdana"/>
            </a:endParaRPr>
          </a:p>
        </p:txBody>
      </p:sp>
      <p:grpSp>
        <p:nvGrpSpPr>
          <p:cNvPr id="333" name="Group 3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34" name="AutoShape 4"/>
            <p:cNvSpPr/>
            <p:nvPr/>
          </p:nvSpPr>
          <p:spPr>
            <a:xfrm rot="17973000">
              <a:off x="4559760" y="253260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4d9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35" name="AutoShape 5"/>
            <p:cNvSpPr/>
            <p:nvPr/>
          </p:nvSpPr>
          <p:spPr>
            <a:xfrm rot="3465600">
              <a:off x="4610520" y="464256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4d9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36" name="AutoShape 6"/>
            <p:cNvSpPr/>
            <p:nvPr/>
          </p:nvSpPr>
          <p:spPr>
            <a:xfrm rot="14368800">
              <a:off x="3391200" y="255492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4d9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37" name="AutoShape 7"/>
            <p:cNvSpPr/>
            <p:nvPr/>
          </p:nvSpPr>
          <p:spPr>
            <a:xfrm rot="7534800">
              <a:off x="3353040" y="460908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4d9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38" name="AutoShape 8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4d9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39" name="AutoShape 9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4d9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40" name="Oval 10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41" name="Text Box 11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b1749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42" name="Text Box 12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b1749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43" name="Text Box 13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b1749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44" name="Text Box 14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b1749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45" name="Text Box 15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b1749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46" name="Text Box 16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b1749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47" name="Oval 17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dd895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48" name="Oval 18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dd895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49" name="Oval 19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dd895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50" name="Oval 20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bdd895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51" name="Oval 21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dd895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52" name="Oval 22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dd895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53" name="Oval 23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4d798f"/>
                </a:gs>
                <a:gs pos="50000">
                  <a:srgbClr val="ffffff"/>
                </a:gs>
                <a:gs pos="100000">
                  <a:srgbClr val="4d798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54" name="Oval 24"/>
            <p:cNvSpPr/>
            <p:nvPr/>
          </p:nvSpPr>
          <p:spPr>
            <a:xfrm>
              <a:off x="3539880" y="288936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4d798f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55" name="Oval 25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d798f"/>
                </a:gs>
                <a:gs pos="50000">
                  <a:srgbClr val="2a414d"/>
                </a:gs>
                <a:gs pos="100000">
                  <a:srgbClr val="4d798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56" name="Oval 26"/>
            <p:cNvSpPr/>
            <p:nvPr/>
          </p:nvSpPr>
          <p:spPr>
            <a:xfrm>
              <a:off x="3668400" y="297180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4d798f">
                    <a:alpha val="0"/>
                  </a:srgbClr>
                </a:gs>
                <a:gs pos="100000">
                  <a:srgbClr val="314d5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57" name="Oval 27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grpSp>
          <p:nvGrpSpPr>
            <p:cNvPr id="358" name="Group 28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59" name="Oval 29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360" name="Oval 30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361" name="Oval 31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362" name="Oval 32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sp>
          <p:nvSpPr>
            <p:cNvPr id="363" name="Text Box 33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b1749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086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453b2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453b2"/>
              </a:solidFill>
              <a:latin typeface="Verdana"/>
            </a:endParaRPr>
          </a:p>
        </p:txBody>
      </p:sp>
      <p:grpSp>
        <p:nvGrpSpPr>
          <p:cNvPr id="365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66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67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68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69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70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71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grpSp>
          <p:nvGrpSpPr>
            <p:cNvPr id="372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73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374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375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376" name="Oval 14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377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sp>
          <p:nvSpPr>
            <p:cNvPr id="378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b1749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79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b1749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  <p:grpSp>
        <p:nvGrpSpPr>
          <p:cNvPr id="380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81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82" name="AutoShape 20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83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84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85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86" name="Oval 24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87" name="Oval 25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88" name="Oval 26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89" name="Oval 27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90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b1749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91" name="Text Box 29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b1749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92" name="AutoShape 30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93" name="AutoShape 31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  <p:grpSp>
        <p:nvGrpSpPr>
          <p:cNvPr id="394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95" name="AutoShape 33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96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97" name="AutoShape 35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98" name="AutoShape 36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grpSp>
          <p:nvGrpSpPr>
            <p:cNvPr id="399" name="Group 37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400" name="Oval 38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401" name="Oval 39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402" name="Oval 40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403" name="Oval 41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404" name="Oval 42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sp>
          <p:nvSpPr>
            <p:cNvPr id="405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b1749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406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b1749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407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8a4b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408" name="AutoShape 46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dbd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086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453b2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453b2"/>
              </a:solidFill>
              <a:latin typeface="Verdana"/>
            </a:endParaRPr>
          </a:p>
        </p:txBody>
      </p:sp>
      <p:grpSp>
        <p:nvGrpSpPr>
          <p:cNvPr id="410" name="Group 3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411" name="Group 4"/>
            <p:cNvGrpSpPr/>
            <p:nvPr/>
          </p:nvGrpSpPr>
          <p:grpSpPr>
            <a:xfrm>
              <a:off x="0" y="3279600"/>
              <a:ext cx="9144000" cy="149040"/>
              <a:chOff x="0" y="3279600"/>
              <a:chExt cx="9144000" cy="149040"/>
            </a:xfrm>
          </p:grpSpPr>
          <p:sp>
            <p:nvSpPr>
              <p:cNvPr id="412" name="Rectangle 5"/>
              <p:cNvSpPr/>
              <p:nvPr/>
            </p:nvSpPr>
            <p:spPr>
              <a:xfrm>
                <a:off x="0" y="3279600"/>
                <a:ext cx="9144000" cy="583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413" name="Rectangle 6"/>
              <p:cNvSpPr/>
              <p:nvPr/>
            </p:nvSpPr>
            <p:spPr>
              <a:xfrm>
                <a:off x="0" y="3336840"/>
                <a:ext cx="9144000" cy="9180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7"/>
            <p:cNvGrpSpPr/>
            <p:nvPr/>
          </p:nvGrpSpPr>
          <p:grpSpPr>
            <a:xfrm>
              <a:off x="762120" y="2685960"/>
              <a:ext cx="1932120" cy="3265200"/>
              <a:chOff x="762120" y="2685960"/>
              <a:chExt cx="1932120" cy="3265200"/>
            </a:xfrm>
          </p:grpSpPr>
          <p:grpSp>
            <p:nvGrpSpPr>
              <p:cNvPr id="415" name="Group 8"/>
              <p:cNvGrpSpPr/>
              <p:nvPr/>
            </p:nvGrpSpPr>
            <p:grpSpPr>
              <a:xfrm>
                <a:off x="1167480" y="3525480"/>
                <a:ext cx="1526760" cy="2425680"/>
                <a:chOff x="1167480" y="3525480"/>
                <a:chExt cx="1526760" cy="2425680"/>
              </a:xfrm>
            </p:grpSpPr>
            <p:grpSp>
              <p:nvGrpSpPr>
                <p:cNvPr id="416" name="Group 9"/>
                <p:cNvGrpSpPr/>
                <p:nvPr/>
              </p:nvGrpSpPr>
              <p:grpSpPr>
                <a:xfrm>
                  <a:off x="1167480" y="3683520"/>
                  <a:ext cx="1420920" cy="2267640"/>
                  <a:chOff x="1167480" y="3683520"/>
                  <a:chExt cx="1420920" cy="2267640"/>
                </a:xfrm>
              </p:grpSpPr>
              <p:sp>
                <p:nvSpPr>
                  <p:cNvPr id="417" name="未知"/>
                  <p:cNvSpPr/>
                  <p:nvPr/>
                </p:nvSpPr>
                <p:spPr>
                  <a:xfrm rot="3876600">
                    <a:off x="739800" y="457092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未知"/>
                  <p:cNvSpPr/>
                  <p:nvPr/>
                </p:nvSpPr>
                <p:spPr>
                  <a:xfrm rot="3876600">
                    <a:off x="2107440" y="545004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Group 12"/>
                <p:cNvGrpSpPr/>
                <p:nvPr/>
              </p:nvGrpSpPr>
              <p:grpSpPr>
                <a:xfrm>
                  <a:off x="1603800" y="3525480"/>
                  <a:ext cx="1090440" cy="1740240"/>
                  <a:chOff x="1603800" y="3525480"/>
                  <a:chExt cx="1090440" cy="1740240"/>
                </a:xfrm>
              </p:grpSpPr>
              <p:sp>
                <p:nvSpPr>
                  <p:cNvPr id="420" name="未知"/>
                  <p:cNvSpPr/>
                  <p:nvPr/>
                </p:nvSpPr>
                <p:spPr>
                  <a:xfrm flipV="1" rot="3876600">
                    <a:off x="1275480" y="4206240"/>
                    <a:ext cx="174672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未知"/>
                  <p:cNvSpPr/>
                  <p:nvPr/>
                </p:nvSpPr>
                <p:spPr>
                  <a:xfrm flipV="1" rot="3876600">
                    <a:off x="2309040" y="4888080"/>
                    <a:ext cx="27432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2" name="Group 15"/>
              <p:cNvGrpSpPr/>
              <p:nvPr/>
            </p:nvGrpSpPr>
            <p:grpSpPr>
              <a:xfrm>
                <a:off x="762120" y="2685960"/>
                <a:ext cx="1271520" cy="1310040"/>
                <a:chOff x="762120" y="2685960"/>
                <a:chExt cx="1271520" cy="1310040"/>
              </a:xfrm>
            </p:grpSpPr>
            <p:sp>
              <p:nvSpPr>
                <p:cNvPr id="423" name="Oval 16"/>
                <p:cNvSpPr/>
                <p:nvPr/>
              </p:nvSpPr>
              <p:spPr>
                <a:xfrm>
                  <a:off x="76212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  <p:sp>
              <p:nvSpPr>
                <p:cNvPr id="424" name="Oval 17"/>
                <p:cNvSpPr/>
                <p:nvPr/>
              </p:nvSpPr>
              <p:spPr>
                <a:xfrm>
                  <a:off x="76212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  <p:sp>
              <p:nvSpPr>
                <p:cNvPr id="425" name="Oval 18"/>
                <p:cNvSpPr/>
                <p:nvPr/>
              </p:nvSpPr>
              <p:spPr>
                <a:xfrm>
                  <a:off x="846360" y="277092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  <p:sp>
              <p:nvSpPr>
                <p:cNvPr id="426" name="Oval 19"/>
                <p:cNvSpPr/>
                <p:nvPr/>
              </p:nvSpPr>
              <p:spPr>
                <a:xfrm>
                  <a:off x="846360" y="277380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  <p:sp>
              <p:nvSpPr>
                <p:cNvPr id="427" name="Oval 20"/>
                <p:cNvSpPr/>
                <p:nvPr/>
              </p:nvSpPr>
              <p:spPr>
                <a:xfrm>
                  <a:off x="900720" y="2828880"/>
                  <a:ext cx="99360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  <p:grpSp>
              <p:nvGrpSpPr>
                <p:cNvPr id="428" name="Group 21"/>
                <p:cNvGrpSpPr/>
                <p:nvPr/>
              </p:nvGrpSpPr>
              <p:grpSpPr>
                <a:xfrm>
                  <a:off x="916200" y="2844720"/>
                  <a:ext cx="963000" cy="993600"/>
                  <a:chOff x="916200" y="2844720"/>
                  <a:chExt cx="963000" cy="993600"/>
                </a:xfrm>
              </p:grpSpPr>
              <p:sp>
                <p:nvSpPr>
                  <p:cNvPr id="429" name="Oval 22"/>
                  <p:cNvSpPr/>
                  <p:nvPr/>
                </p:nvSpPr>
                <p:spPr>
                  <a:xfrm>
                    <a:off x="916200" y="2844720"/>
                    <a:ext cx="96300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Oval 23"/>
                  <p:cNvSpPr/>
                  <p:nvPr/>
                </p:nvSpPr>
                <p:spPr>
                  <a:xfrm>
                    <a:off x="928440" y="2850120"/>
                    <a:ext cx="93996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Oval 24"/>
                  <p:cNvSpPr/>
                  <p:nvPr/>
                </p:nvSpPr>
                <p:spPr>
                  <a:xfrm>
                    <a:off x="938520" y="2859840"/>
                    <a:ext cx="89388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Oval 25"/>
                  <p:cNvSpPr/>
                  <p:nvPr/>
                </p:nvSpPr>
                <p:spPr>
                  <a:xfrm>
                    <a:off x="990720" y="2885040"/>
                    <a:ext cx="79452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3" name="Text Box 26"/>
              <p:cNvSpPr/>
              <p:nvPr/>
            </p:nvSpPr>
            <p:spPr>
              <a:xfrm rot="3925800">
                <a:off x="1129680" y="4503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434" name="Text Box 27"/>
              <p:cNvSpPr/>
              <p:nvPr/>
            </p:nvSpPr>
            <p:spPr>
              <a:xfrm rot="3925800">
                <a:off x="1589760" y="42231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b1749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grpSp>
          <p:nvGrpSpPr>
            <p:cNvPr id="435" name="Group 28"/>
            <p:cNvGrpSpPr/>
            <p:nvPr/>
          </p:nvGrpSpPr>
          <p:grpSpPr>
            <a:xfrm>
              <a:off x="2509920" y="2685960"/>
              <a:ext cx="1930320" cy="3265200"/>
              <a:chOff x="2509920" y="2685960"/>
              <a:chExt cx="1930320" cy="3265200"/>
            </a:xfrm>
          </p:grpSpPr>
          <p:grpSp>
            <p:nvGrpSpPr>
              <p:cNvPr id="436" name="Group 29"/>
              <p:cNvGrpSpPr/>
              <p:nvPr/>
            </p:nvGrpSpPr>
            <p:grpSpPr>
              <a:xfrm>
                <a:off x="2913480" y="3525840"/>
                <a:ext cx="1526760" cy="2425320"/>
                <a:chOff x="2913480" y="3525840"/>
                <a:chExt cx="1526760" cy="2425320"/>
              </a:xfrm>
            </p:grpSpPr>
            <p:grpSp>
              <p:nvGrpSpPr>
                <p:cNvPr id="437" name="Group 30"/>
                <p:cNvGrpSpPr/>
                <p:nvPr/>
              </p:nvGrpSpPr>
              <p:grpSpPr>
                <a:xfrm>
                  <a:off x="2913480" y="3683520"/>
                  <a:ext cx="1420920" cy="2267640"/>
                  <a:chOff x="2913480" y="3683520"/>
                  <a:chExt cx="1420920" cy="2267640"/>
                </a:xfrm>
              </p:grpSpPr>
              <p:sp>
                <p:nvSpPr>
                  <p:cNvPr id="438" name="未知"/>
                  <p:cNvSpPr/>
                  <p:nvPr/>
                </p:nvSpPr>
                <p:spPr>
                  <a:xfrm rot="3876600">
                    <a:off x="2485800" y="457092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未知"/>
                  <p:cNvSpPr/>
                  <p:nvPr/>
                </p:nvSpPr>
                <p:spPr>
                  <a:xfrm rot="3876600">
                    <a:off x="3853440" y="545004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Group 33"/>
                <p:cNvGrpSpPr/>
                <p:nvPr/>
              </p:nvGrpSpPr>
              <p:grpSpPr>
                <a:xfrm>
                  <a:off x="3350160" y="3525840"/>
                  <a:ext cx="1090080" cy="1739880"/>
                  <a:chOff x="3350160" y="3525840"/>
                  <a:chExt cx="1090080" cy="1739880"/>
                </a:xfrm>
              </p:grpSpPr>
              <p:sp>
                <p:nvSpPr>
                  <p:cNvPr id="441" name="未知"/>
                  <p:cNvSpPr/>
                  <p:nvPr/>
                </p:nvSpPr>
                <p:spPr>
                  <a:xfrm flipV="1" rot="3876600">
                    <a:off x="3021840" y="4206240"/>
                    <a:ext cx="174672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未知"/>
                  <p:cNvSpPr/>
                  <p:nvPr/>
                </p:nvSpPr>
                <p:spPr>
                  <a:xfrm flipV="1" rot="3876600">
                    <a:off x="4055400" y="488772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3" name="Group 36"/>
              <p:cNvGrpSpPr/>
              <p:nvPr/>
            </p:nvGrpSpPr>
            <p:grpSpPr>
              <a:xfrm>
                <a:off x="2509920" y="2685960"/>
                <a:ext cx="1271520" cy="1310040"/>
                <a:chOff x="2509920" y="2685960"/>
                <a:chExt cx="1271520" cy="1310040"/>
              </a:xfrm>
            </p:grpSpPr>
            <p:sp>
              <p:nvSpPr>
                <p:cNvPr id="444" name="Oval 37"/>
                <p:cNvSpPr/>
                <p:nvPr/>
              </p:nvSpPr>
              <p:spPr>
                <a:xfrm>
                  <a:off x="250992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  <p:sp>
              <p:nvSpPr>
                <p:cNvPr id="445" name="Oval 38"/>
                <p:cNvSpPr/>
                <p:nvPr/>
              </p:nvSpPr>
              <p:spPr>
                <a:xfrm>
                  <a:off x="250992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  <p:sp>
              <p:nvSpPr>
                <p:cNvPr id="446" name="Oval 39"/>
                <p:cNvSpPr/>
                <p:nvPr/>
              </p:nvSpPr>
              <p:spPr>
                <a:xfrm>
                  <a:off x="2594160" y="277092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  <p:sp>
              <p:nvSpPr>
                <p:cNvPr id="447" name="Oval 40"/>
                <p:cNvSpPr/>
                <p:nvPr/>
              </p:nvSpPr>
              <p:spPr>
                <a:xfrm>
                  <a:off x="2594160" y="277380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  <p:sp>
              <p:nvSpPr>
                <p:cNvPr id="448" name="Oval 41"/>
                <p:cNvSpPr/>
                <p:nvPr/>
              </p:nvSpPr>
              <p:spPr>
                <a:xfrm>
                  <a:off x="2648520" y="2828880"/>
                  <a:ext cx="99360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  <p:grpSp>
              <p:nvGrpSpPr>
                <p:cNvPr id="449" name="Group 42"/>
                <p:cNvGrpSpPr/>
                <p:nvPr/>
              </p:nvGrpSpPr>
              <p:grpSpPr>
                <a:xfrm>
                  <a:off x="2664000" y="2844720"/>
                  <a:ext cx="963000" cy="993600"/>
                  <a:chOff x="2664000" y="2844720"/>
                  <a:chExt cx="963000" cy="993600"/>
                </a:xfrm>
              </p:grpSpPr>
              <p:sp>
                <p:nvSpPr>
                  <p:cNvPr id="450" name="Oval 43"/>
                  <p:cNvSpPr/>
                  <p:nvPr/>
                </p:nvSpPr>
                <p:spPr>
                  <a:xfrm>
                    <a:off x="2664000" y="2844720"/>
                    <a:ext cx="96300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Oval 44"/>
                  <p:cNvSpPr/>
                  <p:nvPr/>
                </p:nvSpPr>
                <p:spPr>
                  <a:xfrm>
                    <a:off x="2676240" y="2850120"/>
                    <a:ext cx="93996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Oval 45"/>
                  <p:cNvSpPr/>
                  <p:nvPr/>
                </p:nvSpPr>
                <p:spPr>
                  <a:xfrm>
                    <a:off x="2686320" y="2859840"/>
                    <a:ext cx="89388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Oval 46"/>
                  <p:cNvSpPr/>
                  <p:nvPr/>
                </p:nvSpPr>
                <p:spPr>
                  <a:xfrm>
                    <a:off x="2738520" y="2885040"/>
                    <a:ext cx="79452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4" name="Text Box 47"/>
              <p:cNvSpPr/>
              <p:nvPr/>
            </p:nvSpPr>
            <p:spPr>
              <a:xfrm rot="3925800">
                <a:off x="2871720" y="4503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455" name="Text Box 48"/>
              <p:cNvSpPr/>
              <p:nvPr/>
            </p:nvSpPr>
            <p:spPr>
              <a:xfrm rot="3925800">
                <a:off x="3331440" y="42231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b1749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grpSp>
          <p:nvGrpSpPr>
            <p:cNvPr id="456" name="Group 49"/>
            <p:cNvGrpSpPr/>
            <p:nvPr/>
          </p:nvGrpSpPr>
          <p:grpSpPr>
            <a:xfrm>
              <a:off x="4313160" y="2685960"/>
              <a:ext cx="1932120" cy="3265200"/>
              <a:chOff x="4313160" y="2685960"/>
              <a:chExt cx="1932120" cy="3265200"/>
            </a:xfrm>
          </p:grpSpPr>
          <p:grpSp>
            <p:nvGrpSpPr>
              <p:cNvPr id="457" name="Group 50"/>
              <p:cNvGrpSpPr/>
              <p:nvPr/>
            </p:nvGrpSpPr>
            <p:grpSpPr>
              <a:xfrm>
                <a:off x="4718520" y="3525480"/>
                <a:ext cx="1526760" cy="2425680"/>
                <a:chOff x="4718520" y="3525480"/>
                <a:chExt cx="1526760" cy="2425680"/>
              </a:xfrm>
            </p:grpSpPr>
            <p:grpSp>
              <p:nvGrpSpPr>
                <p:cNvPr id="458" name="Group 51"/>
                <p:cNvGrpSpPr/>
                <p:nvPr/>
              </p:nvGrpSpPr>
              <p:grpSpPr>
                <a:xfrm>
                  <a:off x="4718520" y="3683520"/>
                  <a:ext cx="1420920" cy="2267640"/>
                  <a:chOff x="4718520" y="3683520"/>
                  <a:chExt cx="1420920" cy="2267640"/>
                </a:xfrm>
              </p:grpSpPr>
              <p:sp>
                <p:nvSpPr>
                  <p:cNvPr id="459" name="未知"/>
                  <p:cNvSpPr/>
                  <p:nvPr/>
                </p:nvSpPr>
                <p:spPr>
                  <a:xfrm rot="3876600">
                    <a:off x="4290840" y="457092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未知"/>
                  <p:cNvSpPr/>
                  <p:nvPr/>
                </p:nvSpPr>
                <p:spPr>
                  <a:xfrm rot="3876600">
                    <a:off x="5658480" y="545004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Group 54"/>
                <p:cNvGrpSpPr/>
                <p:nvPr/>
              </p:nvGrpSpPr>
              <p:grpSpPr>
                <a:xfrm>
                  <a:off x="5154840" y="3525480"/>
                  <a:ext cx="1090440" cy="1740240"/>
                  <a:chOff x="5154840" y="3525480"/>
                  <a:chExt cx="1090440" cy="1740240"/>
                </a:xfrm>
              </p:grpSpPr>
              <p:sp>
                <p:nvSpPr>
                  <p:cNvPr id="462" name="未知"/>
                  <p:cNvSpPr/>
                  <p:nvPr/>
                </p:nvSpPr>
                <p:spPr>
                  <a:xfrm flipV="1" rot="3876600">
                    <a:off x="4826520" y="4206240"/>
                    <a:ext cx="174672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未知"/>
                  <p:cNvSpPr/>
                  <p:nvPr/>
                </p:nvSpPr>
                <p:spPr>
                  <a:xfrm flipV="1" rot="3876600">
                    <a:off x="5860080" y="4888080"/>
                    <a:ext cx="27432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4" name="Group 57"/>
              <p:cNvGrpSpPr/>
              <p:nvPr/>
            </p:nvGrpSpPr>
            <p:grpSpPr>
              <a:xfrm>
                <a:off x="4313160" y="2685960"/>
                <a:ext cx="1273320" cy="1310040"/>
                <a:chOff x="4313160" y="2685960"/>
                <a:chExt cx="1273320" cy="1310040"/>
              </a:xfrm>
            </p:grpSpPr>
            <p:sp>
              <p:nvSpPr>
                <p:cNvPr id="465" name="Oval 58"/>
                <p:cNvSpPr/>
                <p:nvPr/>
              </p:nvSpPr>
              <p:spPr>
                <a:xfrm>
                  <a:off x="4313160" y="2685960"/>
                  <a:ext cx="12733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  <p:sp>
              <p:nvSpPr>
                <p:cNvPr id="466" name="Oval 59"/>
                <p:cNvSpPr/>
                <p:nvPr/>
              </p:nvSpPr>
              <p:spPr>
                <a:xfrm>
                  <a:off x="4313160" y="2685960"/>
                  <a:ext cx="12733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  <p:sp>
              <p:nvSpPr>
                <p:cNvPr id="467" name="Oval 60"/>
                <p:cNvSpPr/>
                <p:nvPr/>
              </p:nvSpPr>
              <p:spPr>
                <a:xfrm>
                  <a:off x="4397400" y="2770920"/>
                  <a:ext cx="110448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  <p:sp>
              <p:nvSpPr>
                <p:cNvPr id="468" name="Oval 61"/>
                <p:cNvSpPr/>
                <p:nvPr/>
              </p:nvSpPr>
              <p:spPr>
                <a:xfrm>
                  <a:off x="4397400" y="2773800"/>
                  <a:ext cx="110448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  <p:sp>
              <p:nvSpPr>
                <p:cNvPr id="469" name="Oval 62"/>
                <p:cNvSpPr/>
                <p:nvPr/>
              </p:nvSpPr>
              <p:spPr>
                <a:xfrm>
                  <a:off x="4452120" y="2828880"/>
                  <a:ext cx="99504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  <p:grpSp>
              <p:nvGrpSpPr>
                <p:cNvPr id="470" name="Group 63"/>
                <p:cNvGrpSpPr/>
                <p:nvPr/>
              </p:nvGrpSpPr>
              <p:grpSpPr>
                <a:xfrm>
                  <a:off x="4467240" y="2844720"/>
                  <a:ext cx="964440" cy="993600"/>
                  <a:chOff x="4467240" y="2844720"/>
                  <a:chExt cx="964440" cy="993600"/>
                </a:xfrm>
              </p:grpSpPr>
              <p:sp>
                <p:nvSpPr>
                  <p:cNvPr id="471" name="Oval 64"/>
                  <p:cNvSpPr/>
                  <p:nvPr/>
                </p:nvSpPr>
                <p:spPr>
                  <a:xfrm>
                    <a:off x="4467240" y="2844720"/>
                    <a:ext cx="96444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Oval 65"/>
                  <p:cNvSpPr/>
                  <p:nvPr/>
                </p:nvSpPr>
                <p:spPr>
                  <a:xfrm>
                    <a:off x="4479480" y="2850120"/>
                    <a:ext cx="94104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Oval 66"/>
                  <p:cNvSpPr/>
                  <p:nvPr/>
                </p:nvSpPr>
                <p:spPr>
                  <a:xfrm>
                    <a:off x="4489560" y="2859840"/>
                    <a:ext cx="89496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Oval 67"/>
                  <p:cNvSpPr/>
                  <p:nvPr/>
                </p:nvSpPr>
                <p:spPr>
                  <a:xfrm>
                    <a:off x="4541760" y="2885040"/>
                    <a:ext cx="79560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5" name="Text Box 68"/>
              <p:cNvSpPr/>
              <p:nvPr/>
            </p:nvSpPr>
            <p:spPr>
              <a:xfrm rot="3925800">
                <a:off x="4683960" y="4503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476" name="Text Box 69"/>
              <p:cNvSpPr/>
              <p:nvPr/>
            </p:nvSpPr>
            <p:spPr>
              <a:xfrm rot="3925800">
                <a:off x="5144040" y="42231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b1749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grpSp>
          <p:nvGrpSpPr>
            <p:cNvPr id="477" name="Group 70"/>
            <p:cNvGrpSpPr/>
            <p:nvPr/>
          </p:nvGrpSpPr>
          <p:grpSpPr>
            <a:xfrm>
              <a:off x="6089760" y="2541600"/>
              <a:ext cx="2122560" cy="3476160"/>
              <a:chOff x="6089760" y="2541600"/>
              <a:chExt cx="2122560" cy="3476160"/>
            </a:xfrm>
          </p:grpSpPr>
          <p:grpSp>
            <p:nvGrpSpPr>
              <p:cNvPr id="478" name="Group 71"/>
              <p:cNvGrpSpPr/>
              <p:nvPr/>
            </p:nvGrpSpPr>
            <p:grpSpPr>
              <a:xfrm>
                <a:off x="6685560" y="3592440"/>
                <a:ext cx="1526760" cy="2425320"/>
                <a:chOff x="6685560" y="3592440"/>
                <a:chExt cx="1526760" cy="2425320"/>
              </a:xfrm>
            </p:grpSpPr>
            <p:grpSp>
              <p:nvGrpSpPr>
                <p:cNvPr id="479" name="Group 72"/>
                <p:cNvGrpSpPr/>
                <p:nvPr/>
              </p:nvGrpSpPr>
              <p:grpSpPr>
                <a:xfrm>
                  <a:off x="6685560" y="3750120"/>
                  <a:ext cx="1420920" cy="2267640"/>
                  <a:chOff x="6685560" y="3750120"/>
                  <a:chExt cx="1420920" cy="2267640"/>
                </a:xfrm>
              </p:grpSpPr>
              <p:sp>
                <p:nvSpPr>
                  <p:cNvPr id="480" name="未知"/>
                  <p:cNvSpPr/>
                  <p:nvPr/>
                </p:nvSpPr>
                <p:spPr>
                  <a:xfrm rot="3876600">
                    <a:off x="6257880" y="463752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未知"/>
                  <p:cNvSpPr/>
                  <p:nvPr/>
                </p:nvSpPr>
                <p:spPr>
                  <a:xfrm rot="3876600">
                    <a:off x="7625520" y="551664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Group 75"/>
                <p:cNvGrpSpPr/>
                <p:nvPr/>
              </p:nvGrpSpPr>
              <p:grpSpPr>
                <a:xfrm>
                  <a:off x="7122240" y="3592440"/>
                  <a:ext cx="1090080" cy="1739880"/>
                  <a:chOff x="7122240" y="3592440"/>
                  <a:chExt cx="1090080" cy="1739880"/>
                </a:xfrm>
              </p:grpSpPr>
              <p:sp>
                <p:nvSpPr>
                  <p:cNvPr id="483" name="未知"/>
                  <p:cNvSpPr/>
                  <p:nvPr/>
                </p:nvSpPr>
                <p:spPr>
                  <a:xfrm flipV="1" rot="3876600">
                    <a:off x="6793920" y="4272840"/>
                    <a:ext cx="174672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未知"/>
                  <p:cNvSpPr/>
                  <p:nvPr/>
                </p:nvSpPr>
                <p:spPr>
                  <a:xfrm flipV="1" rot="3876600">
                    <a:off x="7827480" y="495432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5" name="Oval 78"/>
              <p:cNvSpPr/>
              <p:nvPr/>
            </p:nvSpPr>
            <p:spPr>
              <a:xfrm>
                <a:off x="6089760" y="2541600"/>
                <a:ext cx="1527480" cy="157068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ffffff"/>
                  </a:gs>
                  <a:gs pos="100000">
                    <a:srgbClr val="33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486" name="Oval 79"/>
              <p:cNvSpPr/>
              <p:nvPr/>
            </p:nvSpPr>
            <p:spPr>
              <a:xfrm>
                <a:off x="6089760" y="2541600"/>
                <a:ext cx="1527480" cy="15706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487" name="Oval 80"/>
              <p:cNvSpPr/>
              <p:nvPr/>
            </p:nvSpPr>
            <p:spPr>
              <a:xfrm>
                <a:off x="6191280" y="2644920"/>
                <a:ext cx="1327320" cy="136368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1c538a"/>
                  </a:gs>
                  <a:gs pos="100000">
                    <a:srgbClr val="3399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488" name="Oval 81"/>
              <p:cNvSpPr/>
              <p:nvPr/>
            </p:nvSpPr>
            <p:spPr>
              <a:xfrm>
                <a:off x="6193080" y="2647800"/>
                <a:ext cx="1326960" cy="136404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1a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489" name="Oval 82"/>
              <p:cNvSpPr/>
              <p:nvPr/>
            </p:nvSpPr>
            <p:spPr>
              <a:xfrm>
                <a:off x="6256800" y="2712960"/>
                <a:ext cx="1195200" cy="122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grpSp>
            <p:nvGrpSpPr>
              <p:cNvPr id="490" name="Group 83"/>
              <p:cNvGrpSpPr/>
              <p:nvPr/>
            </p:nvGrpSpPr>
            <p:grpSpPr>
              <a:xfrm>
                <a:off x="6275880" y="2732040"/>
                <a:ext cx="1158120" cy="1190520"/>
                <a:chOff x="6275880" y="2732040"/>
                <a:chExt cx="1158120" cy="1190520"/>
              </a:xfrm>
            </p:grpSpPr>
            <p:sp>
              <p:nvSpPr>
                <p:cNvPr id="491" name="Oval 84"/>
                <p:cNvSpPr/>
                <p:nvPr/>
              </p:nvSpPr>
              <p:spPr>
                <a:xfrm>
                  <a:off x="6275880" y="2732040"/>
                  <a:ext cx="1158120" cy="119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  <p:sp>
              <p:nvSpPr>
                <p:cNvPr id="492" name="Oval 85"/>
                <p:cNvSpPr/>
                <p:nvPr/>
              </p:nvSpPr>
              <p:spPr>
                <a:xfrm>
                  <a:off x="6290640" y="2738520"/>
                  <a:ext cx="1130040" cy="116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  <p:sp>
              <p:nvSpPr>
                <p:cNvPr id="493" name="Oval 86"/>
                <p:cNvSpPr/>
                <p:nvPr/>
              </p:nvSpPr>
              <p:spPr>
                <a:xfrm>
                  <a:off x="6302520" y="2750040"/>
                  <a:ext cx="1074960" cy="108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  <p:sp>
              <p:nvSpPr>
                <p:cNvPr id="494" name="Oval 87"/>
                <p:cNvSpPr/>
                <p:nvPr/>
              </p:nvSpPr>
              <p:spPr>
                <a:xfrm>
                  <a:off x="6365520" y="2780280"/>
                  <a:ext cx="95544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" name="Text Box 88"/>
              <p:cNvSpPr/>
              <p:nvPr/>
            </p:nvSpPr>
            <p:spPr>
              <a:xfrm rot="3925800">
                <a:off x="6636960" y="46472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496" name="Text Box 89"/>
              <p:cNvSpPr/>
              <p:nvPr/>
            </p:nvSpPr>
            <p:spPr>
              <a:xfrm rot="3925800">
                <a:off x="7095960" y="43660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b1749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90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498" name="Text Box 91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453b2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499" name="Text Box 92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453b2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500" name="Text Box 93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453b2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501" name="Text Box 94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453b2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cxnSp>
            <p:nvCxnSpPr>
              <p:cNvPr id="502" name="AutoShape 95"/>
              <p:cNvCxnSpPr>
                <a:stCxn id="498" idx="3"/>
                <a:endCxn id="499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2453b2"/>
                </a:solidFill>
                <a:miter/>
                <a:tailEnd len="med" type="triangle" w="med"/>
              </a:ln>
            </p:spPr>
          </p:cxnSp>
          <p:cxnSp>
            <p:nvCxnSpPr>
              <p:cNvPr id="503" name="AutoShape 96"/>
              <p:cNvCxnSpPr>
                <a:stCxn id="499" idx="3"/>
                <a:endCxn id="500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2453b2"/>
                </a:solidFill>
                <a:miter/>
                <a:tailEnd len="med" type="triangle" w="med"/>
              </a:ln>
            </p:spPr>
          </p:cxnSp>
          <p:cxnSp>
            <p:nvCxnSpPr>
              <p:cNvPr id="504" name="AutoShape 97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2453b2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086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53b2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grpSp>
        <p:nvGrpSpPr>
          <p:cNvPr id="506" name="Group 3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07" name="AutoShape 4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3f3f3"/>
                </a:gs>
                <a:gs pos="50000">
                  <a:srgbClr val="dddddd"/>
                </a:gs>
                <a:gs pos="100000">
                  <a:srgbClr val="f3f3f3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grpSp>
          <p:nvGrpSpPr>
            <p:cNvPr id="508" name="Group 5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509" name="AutoShape 6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4d93d9"/>
                  </a:gs>
                  <a:gs pos="100000">
                    <a:srgbClr val="366797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510" name="未知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93d9">
                      <a:alpha val="0"/>
                    </a:srgbClr>
                  </a:gs>
                  <a:gs pos="50000">
                    <a:srgbClr val="9ec4ea"/>
                  </a:gs>
                  <a:gs pos="100000">
                    <a:srgbClr val="4d93d9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511" name="Text Box 8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sp>
          <p:nvSpPr>
            <p:cNvPr id="512" name="Text Box 9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b1749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b1749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  <p:grpSp>
        <p:nvGrpSpPr>
          <p:cNvPr id="513" name="Group 10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14" name="AutoShape 11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2f2f2"/>
                </a:gs>
                <a:gs pos="50000">
                  <a:srgbClr val="dddddd"/>
                </a:gs>
                <a:gs pos="100000">
                  <a:srgbClr val="f2f2f2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grpSp>
          <p:nvGrpSpPr>
            <p:cNvPr id="515" name="Group 12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516" name="AutoShape 13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7e9eae"/>
                  </a:gs>
                  <a:gs pos="100000">
                    <a:srgbClr val="4d798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517" name="未知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798f">
                      <a:alpha val="0"/>
                    </a:srgbClr>
                  </a:gs>
                  <a:gs pos="100000">
                    <a:srgbClr val="b4c6d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518" name="Text Box 15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sp>
          <p:nvSpPr>
            <p:cNvPr id="519" name="Text Box 16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b1749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b1749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  <p:grpSp>
        <p:nvGrpSpPr>
          <p:cNvPr id="520" name="Group 17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21" name="AutoShape 18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50000">
                  <a:srgbClr val="dddddd"/>
                </a:gs>
                <a:gs pos="100000">
                  <a:srgbClr val="eeeeee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grpSp>
          <p:nvGrpSpPr>
            <p:cNvPr id="522" name="Group 19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23" name="AutoShape 20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a0bad4"/>
                  </a:gs>
                  <a:gs pos="100000">
                    <a:srgbClr val="6a93bc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524" name="未知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93bc">
                      <a:alpha val="0"/>
                    </a:srgbClr>
                  </a:gs>
                  <a:gs pos="100000">
                    <a:srgbClr val="b7cad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525" name="Text Box 22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sp>
          <p:nvSpPr>
            <p:cNvPr id="526" name="Text Box 23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b1749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b1749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086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53b2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528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529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530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531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grpSp>
        <p:nvGrpSpPr>
          <p:cNvPr id="532" name="Group 7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33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4d798f"/>
                </a:gs>
                <a:gs pos="100000">
                  <a:srgbClr val="24384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grpSp>
          <p:nvGrpSpPr>
            <p:cNvPr id="534" name="Group 9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35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536" name="Rectangle 11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537" name="Oval 12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538" name="Oval 13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sp>
          <p:nvSpPr>
            <p:cNvPr id="539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4d93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grpSp>
          <p:nvGrpSpPr>
            <p:cNvPr id="540" name="Group 15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41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542" name="Rectangle 17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543" name="Oval 18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544" name="Oval 19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sp>
          <p:nvSpPr>
            <p:cNvPr id="545" name="Rectangle 20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4d798f"/>
                </a:gs>
                <a:gs pos="100000">
                  <a:srgbClr val="24384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grpSp>
          <p:nvGrpSpPr>
            <p:cNvPr id="546" name="Group 21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47" name="Oval 22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548" name="Rectangle 23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549" name="Oval 24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550" name="Oval 25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sp>
          <p:nvSpPr>
            <p:cNvPr id="551" name="Rectangle 26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4d93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  <p:sp>
        <p:nvSpPr>
          <p:cNvPr id="552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553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554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555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556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1749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557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1749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558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1749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559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1749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4d798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b1749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b17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086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53b2"/>
                </a:solidFill>
                <a:latin typeface="Verdana"/>
                <a:ea typeface="宋体"/>
              </a:rPr>
              <a:t>Table</a:t>
            </a: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1419120" y="2378160"/>
          <a:ext cx="6915240" cy="2933640"/>
        </p:xfrm>
        <a:graphic>
          <a:graphicData uri="http://schemas.openxmlformats.org/drawingml/2006/table">
            <a:tbl>
              <a:tblPr/>
              <a:tblGrid>
                <a:gridCol w="1558800"/>
                <a:gridCol w="1089000"/>
                <a:gridCol w="1067040"/>
                <a:gridCol w="1063440"/>
                <a:gridCol w="1073160"/>
                <a:gridCol w="1063800"/>
              </a:tblGrid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b1749"/>
                      </a:solidFill>
                    </a:lnR>
                    <a:lnT>
                      <a:noFill/>
                    </a:lnT>
                    <a:lnB w="5760">
                      <a:solidFill>
                        <a:srgbClr val="0b17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4d93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4d93d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4d93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4d93d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4d93d9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80000"/>
                      </a:srgbClr>
                    </a:solidFill>
                  </a:tcPr>
                </a:tc>
              </a:tr>
              <a:tr h="41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48000"/>
                      </a:srgbClr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80000"/>
                      </a:srgbClr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48000"/>
                      </a:srgbClr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80000"/>
                      </a:srgbClr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Group 2"/>
          <p:cNvGrpSpPr/>
          <p:nvPr/>
        </p:nvGrpSpPr>
        <p:grpSpPr>
          <a:xfrm>
            <a:off x="1128600" y="1356840"/>
            <a:ext cx="6575400" cy="4665960"/>
            <a:chOff x="1128600" y="1356840"/>
            <a:chExt cx="6575400" cy="4665960"/>
          </a:xfrm>
        </p:grpSpPr>
        <p:sp>
          <p:nvSpPr>
            <p:cNvPr id="564" name="Oval 3"/>
            <p:cNvSpPr/>
            <p:nvPr/>
          </p:nvSpPr>
          <p:spPr>
            <a:xfrm>
              <a:off x="2141640" y="436716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9292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565" name="Oval 4"/>
            <p:cNvSpPr/>
            <p:nvPr/>
          </p:nvSpPr>
          <p:spPr>
            <a:xfrm rot="20601600">
              <a:off x="1452240" y="225540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575757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566" name="Oval 5"/>
            <p:cNvSpPr/>
            <p:nvPr/>
          </p:nvSpPr>
          <p:spPr>
            <a:xfrm rot="20601600">
              <a:off x="1471320" y="209232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567" name="Arc 6"/>
            <p:cNvSpPr/>
            <p:nvPr/>
          </p:nvSpPr>
          <p:spPr>
            <a:xfrm rot="20601600">
              <a:off x="4128840" y="1981080"/>
              <a:ext cx="2849400" cy="196704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9cb7d2"/>
                </a:gs>
                <a:gs pos="100000">
                  <a:srgbClr val="6a93bc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568" name="Arc 7"/>
            <p:cNvSpPr/>
            <p:nvPr/>
          </p:nvSpPr>
          <p:spPr>
            <a:xfrm flipH="1" rot="20602200">
              <a:off x="1716480" y="385596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63899d"/>
                </a:gs>
                <a:gs pos="100000">
                  <a:srgbClr val="4d798f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569" name="Arc 8"/>
            <p:cNvSpPr/>
            <p:nvPr/>
          </p:nvSpPr>
          <p:spPr>
            <a:xfrm rot="20601600">
              <a:off x="2603520" y="2071440"/>
              <a:ext cx="3184560" cy="141624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132c5e"/>
                </a:gs>
                <a:gs pos="100000">
                  <a:srgbClr val="2453b2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570" name="Arc 9"/>
            <p:cNvSpPr/>
            <p:nvPr/>
          </p:nvSpPr>
          <p:spPr>
            <a:xfrm flipH="1" rot="20602200">
              <a:off x="1370880" y="2590200"/>
              <a:ext cx="2849400" cy="211140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959fbe"/>
                </a:gs>
                <a:gs pos="100000">
                  <a:srgbClr val="6d7ba5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571" name="Oval 10"/>
            <p:cNvSpPr/>
            <p:nvPr/>
          </p:nvSpPr>
          <p:spPr>
            <a:xfrm rot="20601600">
              <a:off x="2933640" y="28062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f7f7f7"/>
                </a:gs>
                <a:gs pos="50000">
                  <a:srgbClr val="dddddd"/>
                </a:gs>
                <a:gs pos="100000">
                  <a:srgbClr val="f7f7f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572" name="Text Box 11"/>
            <p:cNvSpPr/>
            <p:nvPr/>
          </p:nvSpPr>
          <p:spPr>
            <a:xfrm>
              <a:off x="1924560" y="3485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573" name="Text Box 12"/>
            <p:cNvSpPr/>
            <p:nvPr/>
          </p:nvSpPr>
          <p:spPr>
            <a:xfrm>
              <a:off x="3829680" y="2266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574" name="Text Box 13"/>
            <p:cNvSpPr/>
            <p:nvPr/>
          </p:nvSpPr>
          <p:spPr>
            <a:xfrm>
              <a:off x="5658480" y="2571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grpSp>
          <p:nvGrpSpPr>
            <p:cNvPr id="575" name="Group 14"/>
            <p:cNvGrpSpPr/>
            <p:nvPr/>
          </p:nvGrpSpPr>
          <p:grpSpPr>
            <a:xfrm>
              <a:off x="4293720" y="2542680"/>
              <a:ext cx="3164400" cy="2769120"/>
              <a:chOff x="4293720" y="2542680"/>
              <a:chExt cx="3164400" cy="2769120"/>
            </a:xfrm>
          </p:grpSpPr>
          <p:sp>
            <p:nvSpPr>
              <p:cNvPr id="576" name="未知"/>
              <p:cNvSpPr/>
              <p:nvPr/>
            </p:nvSpPr>
            <p:spPr>
              <a:xfrm>
                <a:off x="5448240" y="352440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a93bc"/>
                  </a:gs>
                  <a:gs pos="100000">
                    <a:srgbClr val="40597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577" name="Arc 16"/>
              <p:cNvSpPr/>
              <p:nvPr/>
            </p:nvSpPr>
            <p:spPr>
              <a:xfrm rot="20539200">
                <a:off x="4511520" y="2913120"/>
                <a:ext cx="2728800" cy="1859040"/>
              </a:xfrm>
              <a:custGeom>
                <a:avLst/>
                <a:gdLst/>
                <a:ahLst/>
                <a:rect l="l" t="t" r="r" b="b"/>
                <a:pathLst>
                  <a:path fill="none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</a:path>
                  <a:path stroke="0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  <a:lnTo>
                      <a:pt x="0" y="0"/>
                    </a:lnTo>
                    <a:lnTo>
                      <a:pt x="18016" y="119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14457"/>
                  </a:gs>
                  <a:gs pos="100000">
                    <a:srgbClr val="6a93bc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578" name="未知"/>
              <p:cNvSpPr/>
              <p:nvPr/>
            </p:nvSpPr>
            <p:spPr>
              <a:xfrm>
                <a:off x="4582800" y="400068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14457"/>
                  </a:gs>
                  <a:gs pos="100000">
                    <a:srgbClr val="6a93b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579" name="Text Box 18"/>
              <p:cNvSpPr/>
              <p:nvPr/>
            </p:nvSpPr>
            <p:spPr>
              <a:xfrm>
                <a:off x="5353200" y="379116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4</a:t>
                </a: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sp>
          <p:nvSpPr>
            <p:cNvPr id="580" name="Text Box 19"/>
            <p:cNvSpPr/>
            <p:nvPr/>
          </p:nvSpPr>
          <p:spPr>
            <a:xfrm>
              <a:off x="3143880" y="4476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581" name="未知"/>
            <p:cNvSpPr/>
            <p:nvPr/>
          </p:nvSpPr>
          <p:spPr>
            <a:xfrm>
              <a:off x="4427640" y="406692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676767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582" name="Oval 21"/>
            <p:cNvSpPr/>
            <p:nvPr/>
          </p:nvSpPr>
          <p:spPr>
            <a:xfrm rot="20601600">
              <a:off x="3036960" y="305748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086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53b2"/>
                </a:solidFill>
                <a:latin typeface="Verdana"/>
                <a:ea typeface="宋体"/>
              </a:rPr>
              <a:t>3-D Pie Chart</a:t>
            </a:r>
            <a:endParaRPr b="1" lang="en-US" sz="2800" spc="-1" strike="noStrike">
              <a:solidFill>
                <a:srgbClr val="2453b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086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53b2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grpSp>
        <p:nvGrpSpPr>
          <p:cNvPr id="585" name="Group 3"/>
          <p:cNvGrpSpPr/>
          <p:nvPr/>
        </p:nvGrpSpPr>
        <p:grpSpPr>
          <a:xfrm>
            <a:off x="1219320" y="1981080"/>
            <a:ext cx="6781320" cy="4266720"/>
            <a:chOff x="1219320" y="1981080"/>
            <a:chExt cx="6781320" cy="4266720"/>
          </a:xfrm>
        </p:grpSpPr>
        <p:sp>
          <p:nvSpPr>
            <p:cNvPr id="586" name="AutoShape 4"/>
            <p:cNvSpPr/>
            <p:nvPr/>
          </p:nvSpPr>
          <p:spPr>
            <a:xfrm>
              <a:off x="2127960" y="2669400"/>
              <a:ext cx="5074200" cy="247788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587" name="AutoShape 5"/>
            <p:cNvSpPr/>
            <p:nvPr/>
          </p:nvSpPr>
          <p:spPr>
            <a:xfrm>
              <a:off x="1918440" y="1981080"/>
              <a:ext cx="5312880" cy="518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da9b7"/>
                </a:gs>
                <a:gs pos="50000">
                  <a:srgbClr val="4d798f"/>
                </a:gs>
                <a:gs pos="100000">
                  <a:srgbClr val="8da9b7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588" name="Text Box 6"/>
            <p:cNvSpPr/>
            <p:nvPr/>
          </p:nvSpPr>
          <p:spPr>
            <a:xfrm>
              <a:off x="3661920" y="32198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b1749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b1749"/>
                </a:solidFill>
                <a:latin typeface="Arial"/>
              </a:endParaRPr>
            </a:p>
          </p:txBody>
        </p:sp>
        <p:grpSp>
          <p:nvGrpSpPr>
            <p:cNvPr id="589" name="Group 7"/>
            <p:cNvGrpSpPr/>
            <p:nvPr/>
          </p:nvGrpSpPr>
          <p:grpSpPr>
            <a:xfrm>
              <a:off x="1219320" y="4361400"/>
              <a:ext cx="1363320" cy="1796400"/>
              <a:chOff x="1219320" y="4361400"/>
              <a:chExt cx="1363320" cy="1796400"/>
            </a:xfrm>
          </p:grpSpPr>
          <p:grpSp>
            <p:nvGrpSpPr>
              <p:cNvPr id="590" name="Group 8"/>
              <p:cNvGrpSpPr/>
              <p:nvPr/>
            </p:nvGrpSpPr>
            <p:grpSpPr>
              <a:xfrm>
                <a:off x="1219320" y="4361400"/>
                <a:ext cx="1363320" cy="1368000"/>
                <a:chOff x="1219320" y="4361400"/>
                <a:chExt cx="1363320" cy="1368000"/>
              </a:xfrm>
            </p:grpSpPr>
            <p:grpSp>
              <p:nvGrpSpPr>
                <p:cNvPr id="591" name="Group 9"/>
                <p:cNvGrpSpPr/>
                <p:nvPr/>
              </p:nvGrpSpPr>
              <p:grpSpPr>
                <a:xfrm>
                  <a:off x="1219320" y="4361400"/>
                  <a:ext cx="1363320" cy="1368000"/>
                  <a:chOff x="1219320" y="4361400"/>
                  <a:chExt cx="1363320" cy="1368000"/>
                </a:xfrm>
              </p:grpSpPr>
              <p:sp>
                <p:nvSpPr>
                  <p:cNvPr id="592" name="Oval 10"/>
                  <p:cNvSpPr/>
                  <p:nvPr/>
                </p:nvSpPr>
                <p:spPr>
                  <a:xfrm>
                    <a:off x="1219320" y="4361400"/>
                    <a:ext cx="1363320" cy="1368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7ae26"/>
                      </a:gs>
                      <a:gs pos="100000">
                        <a:srgbClr val="4c6f1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未知"/>
                  <p:cNvSpPr/>
                  <p:nvPr/>
                </p:nvSpPr>
                <p:spPr>
                  <a:xfrm>
                    <a:off x="1375200" y="4384080"/>
                    <a:ext cx="1051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7ae2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4" name="Text Box 12"/>
                <p:cNvSpPr/>
                <p:nvPr/>
              </p:nvSpPr>
              <p:spPr>
                <a:xfrm>
                  <a:off x="1316160" y="505692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5" name="Oval 13"/>
              <p:cNvSpPr/>
              <p:nvPr/>
            </p:nvSpPr>
            <p:spPr>
              <a:xfrm>
                <a:off x="1359000" y="5806800"/>
                <a:ext cx="1107000" cy="3510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14"/>
            <p:cNvGrpSpPr/>
            <p:nvPr/>
          </p:nvGrpSpPr>
          <p:grpSpPr>
            <a:xfrm>
              <a:off x="6602400" y="4321440"/>
              <a:ext cx="1398240" cy="1866240"/>
              <a:chOff x="6602400" y="4321440"/>
              <a:chExt cx="1398240" cy="1866240"/>
            </a:xfrm>
          </p:grpSpPr>
          <p:grpSp>
            <p:nvGrpSpPr>
              <p:cNvPr id="597" name="Group 15"/>
              <p:cNvGrpSpPr/>
              <p:nvPr/>
            </p:nvGrpSpPr>
            <p:grpSpPr>
              <a:xfrm>
                <a:off x="6602400" y="4321440"/>
                <a:ext cx="1398240" cy="1383120"/>
                <a:chOff x="6602400" y="4321440"/>
                <a:chExt cx="1398240" cy="1383120"/>
              </a:xfrm>
            </p:grpSpPr>
            <p:grpSp>
              <p:nvGrpSpPr>
                <p:cNvPr id="598" name="Group 16"/>
                <p:cNvGrpSpPr/>
                <p:nvPr/>
              </p:nvGrpSpPr>
              <p:grpSpPr>
                <a:xfrm>
                  <a:off x="6602400" y="4321440"/>
                  <a:ext cx="1398240" cy="1383120"/>
                  <a:chOff x="6602400" y="4321440"/>
                  <a:chExt cx="1398240" cy="1383120"/>
                </a:xfrm>
              </p:grpSpPr>
              <p:sp>
                <p:nvSpPr>
                  <p:cNvPr id="599" name="Oval 17"/>
                  <p:cNvSpPr/>
                  <p:nvPr/>
                </p:nvSpPr>
                <p:spPr>
                  <a:xfrm>
                    <a:off x="6602400" y="4321440"/>
                    <a:ext cx="1398240" cy="1383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a93bc"/>
                      </a:gs>
                      <a:gs pos="100000">
                        <a:srgbClr val="1a242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未知"/>
                  <p:cNvSpPr/>
                  <p:nvPr/>
                </p:nvSpPr>
                <p:spPr>
                  <a:xfrm>
                    <a:off x="6762240" y="4344120"/>
                    <a:ext cx="1078560" cy="52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a93b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1" name="Text Box 19"/>
                <p:cNvSpPr/>
                <p:nvPr/>
              </p:nvSpPr>
              <p:spPr>
                <a:xfrm>
                  <a:off x="6684120" y="496512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2" name="Oval 20"/>
              <p:cNvSpPr/>
              <p:nvPr/>
            </p:nvSpPr>
            <p:spPr>
              <a:xfrm>
                <a:off x="6641640" y="5748120"/>
                <a:ext cx="1335600" cy="4395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grpSp>
          <p:nvGrpSpPr>
            <p:cNvPr id="603" name="Group 21"/>
            <p:cNvGrpSpPr/>
            <p:nvPr/>
          </p:nvGrpSpPr>
          <p:grpSpPr>
            <a:xfrm>
              <a:off x="2967120" y="4361400"/>
              <a:ext cx="1397880" cy="1886400"/>
              <a:chOff x="2967120" y="4361400"/>
              <a:chExt cx="1397880" cy="1886400"/>
            </a:xfrm>
          </p:grpSpPr>
          <p:grpSp>
            <p:nvGrpSpPr>
              <p:cNvPr id="604" name="Group 22"/>
              <p:cNvGrpSpPr/>
              <p:nvPr/>
            </p:nvGrpSpPr>
            <p:grpSpPr>
              <a:xfrm>
                <a:off x="2967120" y="4361400"/>
                <a:ext cx="1397880" cy="1373400"/>
                <a:chOff x="2967120" y="4361400"/>
                <a:chExt cx="1397880" cy="1373400"/>
              </a:xfrm>
            </p:grpSpPr>
            <p:sp>
              <p:nvSpPr>
                <p:cNvPr id="605" name="Oval 23"/>
                <p:cNvSpPr/>
                <p:nvPr/>
              </p:nvSpPr>
              <p:spPr>
                <a:xfrm>
                  <a:off x="2967120" y="4361400"/>
                  <a:ext cx="1397880" cy="137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798f"/>
                    </a:gs>
                    <a:gs pos="100000">
                      <a:srgbClr val="283e4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  <p:sp>
              <p:nvSpPr>
                <p:cNvPr id="606" name="未知"/>
                <p:cNvSpPr/>
                <p:nvPr/>
              </p:nvSpPr>
              <p:spPr>
                <a:xfrm>
                  <a:off x="3126960" y="4384080"/>
                  <a:ext cx="1078200" cy="51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d798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7" name="Text Box 25"/>
              <p:cNvSpPr/>
              <p:nvPr/>
            </p:nvSpPr>
            <p:spPr>
              <a:xfrm>
                <a:off x="3036960" y="5020560"/>
                <a:ext cx="125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608" name="Oval 26"/>
              <p:cNvSpPr/>
              <p:nvPr/>
            </p:nvSpPr>
            <p:spPr>
              <a:xfrm>
                <a:off x="2967120" y="5806440"/>
                <a:ext cx="1333800" cy="4413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grpSp>
          <p:nvGrpSpPr>
            <p:cNvPr id="609" name="Group 27"/>
            <p:cNvGrpSpPr/>
            <p:nvPr/>
          </p:nvGrpSpPr>
          <p:grpSpPr>
            <a:xfrm>
              <a:off x="4854600" y="4321440"/>
              <a:ext cx="1397880" cy="1886400"/>
              <a:chOff x="4854600" y="4321440"/>
              <a:chExt cx="1397880" cy="1886400"/>
            </a:xfrm>
          </p:grpSpPr>
          <p:grpSp>
            <p:nvGrpSpPr>
              <p:cNvPr id="610" name="Group 28"/>
              <p:cNvGrpSpPr/>
              <p:nvPr/>
            </p:nvGrpSpPr>
            <p:grpSpPr>
              <a:xfrm>
                <a:off x="4854600" y="4321440"/>
                <a:ext cx="1397880" cy="1373400"/>
                <a:chOff x="4854600" y="4321440"/>
                <a:chExt cx="1397880" cy="1373400"/>
              </a:xfrm>
            </p:grpSpPr>
            <p:sp>
              <p:nvSpPr>
                <p:cNvPr id="611" name="Oval 29"/>
                <p:cNvSpPr/>
                <p:nvPr/>
              </p:nvSpPr>
              <p:spPr>
                <a:xfrm>
                  <a:off x="4854600" y="4321440"/>
                  <a:ext cx="1397880" cy="137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93d9"/>
                    </a:gs>
                    <a:gs pos="100000">
                      <a:srgbClr val="28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  <p:sp>
              <p:nvSpPr>
                <p:cNvPr id="612" name="未知"/>
                <p:cNvSpPr/>
                <p:nvPr/>
              </p:nvSpPr>
              <p:spPr>
                <a:xfrm>
                  <a:off x="5014440" y="4344120"/>
                  <a:ext cx="1078200" cy="51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d93d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3" name="Text Box 31"/>
              <p:cNvSpPr/>
              <p:nvPr/>
            </p:nvSpPr>
            <p:spPr>
              <a:xfrm>
                <a:off x="4924440" y="4980600"/>
                <a:ext cx="125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614" name="Oval 32"/>
              <p:cNvSpPr/>
              <p:nvPr/>
            </p:nvSpPr>
            <p:spPr>
              <a:xfrm>
                <a:off x="4854600" y="5766480"/>
                <a:ext cx="1333800" cy="4413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453b2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6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b1749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B3E4F-E78A-445C-8D58-70F2D3730B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2680" y="456840"/>
            <a:ext cx="7008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53b2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09" name="AutoShape 5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7ae26"/>
                </a:gs>
                <a:gs pos="50000">
                  <a:srgbClr val="e2eed1"/>
                </a:gs>
                <a:gs pos="100000">
                  <a:srgbClr val="77ae2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77ae2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11" name="Text Box 7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b1749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12" name="Text Box 8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  <p:grpSp>
        <p:nvGrpSpPr>
          <p:cNvPr id="113" name="Group 9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14" name="AutoShape 10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d93d9"/>
                </a:gs>
                <a:gs pos="50000">
                  <a:srgbClr val="d9e8f7"/>
                </a:gs>
                <a:gs pos="100000">
                  <a:srgbClr val="4d93d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15" name="AutoShape 11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4d93d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16" name="Text Box 12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b1749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17" name="Text Box 13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  <p:grpSp>
        <p:nvGrpSpPr>
          <p:cNvPr id="118" name="Group 14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19" name="AutoShape 15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453b2"/>
                </a:gs>
                <a:gs pos="50000">
                  <a:srgbClr val="d1dbef"/>
                </a:gs>
                <a:gs pos="100000">
                  <a:srgbClr val="2453b2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20" name="AutoShape 16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2453b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21" name="Text Box 17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b1749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22" name="Text Box 18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  <p:grpSp>
        <p:nvGrpSpPr>
          <p:cNvPr id="123" name="Group 19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24" name="AutoShape 20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a93bc"/>
                </a:gs>
                <a:gs pos="50000">
                  <a:srgbClr val="dfe8f1"/>
                </a:gs>
                <a:gs pos="100000">
                  <a:srgbClr val="6a93b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25" name="AutoShape 21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6a93b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26" name="Text Box 22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b1749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27" name="Text Box 23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WordArt 2"/>
          <p:cNvSpPr txBox="1"/>
          <p:nvPr/>
        </p:nvSpPr>
        <p:spPr>
          <a:xfrm>
            <a:off x="457200" y="4514760"/>
            <a:ext cx="4724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d93d9"/>
                    </a:gs>
                    <a:gs pos="100000">
                      <a:srgbClr val="2453b2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b1749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d93d9"/>
                  </a:gs>
                  <a:gs pos="100000">
                    <a:srgbClr val="2453b2"/>
                  </a:gs>
                </a:gsLst>
                <a:lin ang="10800000"/>
              </a:gradFill>
              <a:effectLst>
                <a:outerShdw dist="53966" dir="2700000" blurRad="0" rotWithShape="0">
                  <a:srgbClr val="0b1749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380880" y="5562720"/>
            <a:ext cx="5181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600" spc="-1" strike="noStrike">
              <a:solidFill>
                <a:srgbClr val="2453b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086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453b2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453b2"/>
              </a:solidFill>
              <a:latin typeface="Verdana"/>
            </a:endParaRPr>
          </a:p>
        </p:txBody>
      </p:sp>
      <p:grpSp>
        <p:nvGrpSpPr>
          <p:cNvPr id="129" name="Group 3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30" name="AutoShape 4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b1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31" name="Text Box 5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b1749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b1749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b1749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  <p:sp>
        <p:nvSpPr>
          <p:cNvPr id="132" name="未知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9cc75"/>
              </a:gs>
              <a:gs pos="100000">
                <a:srgbClr val="77ae2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grpSp>
        <p:nvGrpSpPr>
          <p:cNvPr id="133" name="Group 7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34" name="Group 8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35" name="Group 9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36" name="Oval 10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53b46"/>
                    </a:gs>
                    <a:gs pos="100000">
                      <a:srgbClr val="4d798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  <p:sp>
              <p:nvSpPr>
                <p:cNvPr id="137" name="Oval 11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798f"/>
                    </a:gs>
                    <a:gs pos="100000">
                      <a:srgbClr val="b0c4c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" name="Oval 12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4d93d9"/>
                  </a:gs>
                  <a:gs pos="100000">
                    <a:srgbClr val="24446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139" name="Oval 13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c1d9f2"/>
                  </a:gs>
                  <a:gs pos="100000">
                    <a:srgbClr val="4d93d9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140" name="Oval 14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4d93d9">
                      <a:alpha val="48235"/>
                    </a:srgbClr>
                  </a:gs>
                  <a:gs pos="100000">
                    <a:srgbClr val="3d74a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141" name="Oval 15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4d93d9">
                      <a:alpha val="38039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sp>
          <p:nvSpPr>
            <p:cNvPr id="142" name="Text Box 16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b1749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b174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b1749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  <p:grpSp>
        <p:nvGrpSpPr>
          <p:cNvPr id="143" name="Group 17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44" name="AutoShape 18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b1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45" name="Text Box 19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b1749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b1749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b1749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  <p:sp>
        <p:nvSpPr>
          <p:cNvPr id="146" name="未知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6d4db"/>
              </a:gs>
              <a:gs pos="100000">
                <a:srgbClr val="4d798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086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53b2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2453b2"/>
                </a:solidFill>
                <a:latin typeface="Verdana"/>
                <a:ea typeface="宋体"/>
              </a:rPr>
              <a:t>Cycle Diagram</a:t>
            </a: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grpSp>
        <p:nvGrpSpPr>
          <p:cNvPr id="148" name="Group 3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49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5f5f5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50" name="Oval 5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4d798f"/>
                </a:gs>
                <a:gs pos="100000">
                  <a:srgbClr val="1b2a3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51" name="Oval 6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4d93d9"/>
                </a:gs>
                <a:gs pos="100000">
                  <a:srgbClr val="182e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52" name="Oval 7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77ae26"/>
                </a:gs>
                <a:gs pos="100000">
                  <a:srgbClr val="2a3e0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53" name="Oval 8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54" name="Oval 9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6a93bc"/>
                </a:gs>
                <a:gs pos="100000">
                  <a:srgbClr val="25334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55" name="Text Box 10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56" name="Text Box 11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57" name="Text Box 12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58" name="Text Box 13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59" name="Text Box 14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60" name="Text Box 15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b1749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61" name="Line 16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b17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cxnSp>
          <p:nvCxnSpPr>
            <p:cNvPr id="162" name="AutoShape 17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b1749"/>
              </a:solidFill>
              <a:miter/>
            </a:ln>
          </p:spPr>
        </p:cxnSp>
        <p:sp>
          <p:nvSpPr>
            <p:cNvPr id="163" name="Text Box 18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b1749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086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453b2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453b2"/>
              </a:solidFill>
              <a:latin typeface="Verdana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66" name="AutoShape 4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93bc"/>
                </a:gs>
                <a:gs pos="50000">
                  <a:srgbClr val="314457"/>
                </a:gs>
                <a:gs pos="100000">
                  <a:srgbClr val="6a93b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67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93bc"/>
                </a:gs>
                <a:gs pos="50000">
                  <a:srgbClr val="314457"/>
                </a:gs>
                <a:gs pos="100000">
                  <a:srgbClr val="6a93b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68" name="AutoShape 6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93bc"/>
                </a:gs>
                <a:gs pos="50000">
                  <a:srgbClr val="314457"/>
                </a:gs>
                <a:gs pos="100000">
                  <a:srgbClr val="6a93b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69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70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72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73" name="AutoShape 11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b1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74" name="Text Box 12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75" name="AutoShape 13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b1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76" name="Text Box 14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77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78" name="AutoShape 16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4d93d9"/>
                </a:gs>
                <a:gs pos="50000">
                  <a:srgbClr val="244464"/>
                </a:gs>
                <a:gs pos="100000">
                  <a:srgbClr val="4d93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79" name="AutoShape 17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80" name="Text Box 18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81" name="AutoShape 19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d798f"/>
                </a:gs>
                <a:gs pos="50000">
                  <a:srgbClr val="243842"/>
                </a:gs>
                <a:gs pos="100000">
                  <a:srgbClr val="4d798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82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83" name="AutoShape 21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086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53b2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6" name="Group 4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87" name="AutoShape 5"/>
              <p:cNvSpPr/>
              <p:nvPr/>
            </p:nvSpPr>
            <p:spPr>
              <a:xfrm flipH="1" rot="16200000">
                <a:off x="2927880" y="325548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9bce1"/>
                  </a:gs>
                  <a:gs pos="100000">
                    <a:srgbClr val="2453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188" name="AutoShape 6"/>
              <p:cNvSpPr/>
              <p:nvPr/>
            </p:nvSpPr>
            <p:spPr>
              <a:xfrm flipH="1" rot="5400000">
                <a:off x="5531400" y="320508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9bce1"/>
                  </a:gs>
                  <a:gs pos="100000">
                    <a:srgbClr val="2453b2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189" name="AutoShape 7"/>
              <p:cNvSpPr/>
              <p:nvPr/>
            </p:nvSpPr>
            <p:spPr>
              <a:xfrm flipH="1" rot="10800000">
                <a:off x="423936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9bce1"/>
                  </a:gs>
                  <a:gs pos="100000">
                    <a:srgbClr val="2453b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190" name="Oval 8"/>
              <p:cNvSpPr/>
              <p:nvPr/>
            </p:nvSpPr>
            <p:spPr>
              <a:xfrm>
                <a:off x="3305880" y="2209680"/>
                <a:ext cx="232920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191" name="Oval 9"/>
              <p:cNvSpPr/>
              <p:nvPr/>
            </p:nvSpPr>
            <p:spPr>
              <a:xfrm>
                <a:off x="3438720" y="2344680"/>
                <a:ext cx="2062440" cy="212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a2a2a2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192" name="Oval 10"/>
              <p:cNvSpPr/>
              <p:nvPr/>
            </p:nvSpPr>
            <p:spPr>
              <a:xfrm>
                <a:off x="3560040" y="2471040"/>
                <a:ext cx="1820160" cy="1878480"/>
              </a:xfrm>
              <a:prstGeom prst="ellipse">
                <a:avLst/>
              </a:prstGeom>
              <a:gradFill rotWithShape="0">
                <a:gsLst>
                  <a:gs pos="0">
                    <a:srgbClr val="4d798f"/>
                  </a:gs>
                  <a:gs pos="50000">
                    <a:srgbClr val="ffffff"/>
                  </a:gs>
                  <a:gs pos="100000">
                    <a:srgbClr val="4d798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193" name="Oval 11"/>
              <p:cNvSpPr/>
              <p:nvPr/>
            </p:nvSpPr>
            <p:spPr>
              <a:xfrm>
                <a:off x="3560040" y="2471040"/>
                <a:ext cx="182016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194" name="Oval 12"/>
              <p:cNvSpPr/>
              <p:nvPr/>
            </p:nvSpPr>
            <p:spPr>
              <a:xfrm>
                <a:off x="3679920" y="2594520"/>
                <a:ext cx="1580760" cy="1631880"/>
              </a:xfrm>
              <a:prstGeom prst="ellipse">
                <a:avLst/>
              </a:prstGeom>
              <a:gradFill rotWithShape="0">
                <a:gsLst>
                  <a:gs pos="0">
                    <a:srgbClr val="4d798f"/>
                  </a:gs>
                  <a:gs pos="50000">
                    <a:srgbClr val="2a414d"/>
                  </a:gs>
                  <a:gs pos="100000">
                    <a:srgbClr val="4d798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195" name="Oval 13"/>
              <p:cNvSpPr/>
              <p:nvPr/>
            </p:nvSpPr>
            <p:spPr>
              <a:xfrm>
                <a:off x="3679920" y="2594520"/>
                <a:ext cx="1580760" cy="1631880"/>
              </a:xfrm>
              <a:prstGeom prst="ellipse">
                <a:avLst/>
              </a:prstGeom>
              <a:gradFill rotWithShape="0">
                <a:gsLst>
                  <a:gs pos="0">
                    <a:srgbClr val="7c6300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sp>
          <p:nvSpPr>
            <p:cNvPr id="196" name="AutoShape 14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93bc"/>
                </a:gs>
                <a:gs pos="50000">
                  <a:srgbClr val="314457"/>
                </a:gs>
                <a:gs pos="100000">
                  <a:srgbClr val="6a93b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97" name="AutoShape 15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93bc"/>
                </a:gs>
                <a:gs pos="50000">
                  <a:srgbClr val="314457"/>
                </a:gs>
                <a:gs pos="100000">
                  <a:srgbClr val="6a93b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98" name="AutoShape 16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93bc"/>
                </a:gs>
                <a:gs pos="50000">
                  <a:srgbClr val="314457"/>
                </a:gs>
                <a:gs pos="100000">
                  <a:srgbClr val="6a93b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99" name="AutoShape 17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d93d9"/>
                </a:gs>
                <a:gs pos="50000">
                  <a:srgbClr val="244464"/>
                </a:gs>
                <a:gs pos="100000">
                  <a:srgbClr val="4d93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00" name="AutoShape 18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d93d9"/>
                </a:gs>
                <a:gs pos="50000">
                  <a:srgbClr val="244464"/>
                </a:gs>
                <a:gs pos="100000">
                  <a:srgbClr val="4d93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01" name="AutoShape 19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d93d9"/>
                </a:gs>
                <a:gs pos="50000">
                  <a:srgbClr val="244464"/>
                </a:gs>
                <a:gs pos="100000">
                  <a:srgbClr val="4d93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02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03" name="AutoShape 21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b1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b1749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04" name="Text Box 22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05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06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07" name="Text Box 25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08" name="Text Box 26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09" name="Text Box 27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086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453b2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453b2"/>
              </a:solidFill>
              <a:latin typeface="Verdana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212" name="Line 4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0b1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0b1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0b1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0b1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16" name="Line 8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0b1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17" name="Line 9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0b174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0b174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0b174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20" name="Line 12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0b174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21" name="Text Box 13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b1749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22" name="Text Box 14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b1749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23" name="Text Box 15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b1749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24" name="Text Box 16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b1749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</p:txBody>
        </p:sp>
        <p:grpSp>
          <p:nvGrpSpPr>
            <p:cNvPr id="225" name="Group 17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26" name="未知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7ae26"/>
                  </a:gs>
                  <a:gs pos="50000">
                    <a:srgbClr val="375112"/>
                  </a:gs>
                  <a:gs pos="100000">
                    <a:srgbClr val="77ae2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27" name="未知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77ae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28" name="未知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798f"/>
                  </a:gs>
                  <a:gs pos="50000">
                    <a:srgbClr val="243842"/>
                  </a:gs>
                  <a:gs pos="100000">
                    <a:srgbClr val="4d798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29" name="未知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4d79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30" name="未知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93bc"/>
                  </a:gs>
                  <a:gs pos="50000">
                    <a:srgbClr val="314457"/>
                  </a:gs>
                  <a:gs pos="100000">
                    <a:srgbClr val="6a93b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31" name="未知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93d9"/>
                  </a:gs>
                  <a:gs pos="50000">
                    <a:srgbClr val="244464"/>
                  </a:gs>
                  <a:gs pos="100000">
                    <a:srgbClr val="4d93d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32" name="未知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4d9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33" name="未知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34" name="Rectangle 26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77ae26"/>
                  </a:gs>
                  <a:gs pos="50000">
                    <a:srgbClr val="567e1c"/>
                  </a:gs>
                  <a:gs pos="100000">
                    <a:srgbClr val="77ae2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35" name="Rectangle 27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4d798f"/>
                  </a:gs>
                  <a:gs pos="50000">
                    <a:srgbClr val="385868"/>
                  </a:gs>
                  <a:gs pos="100000">
                    <a:srgbClr val="4d798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6a93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37" name="Rectangle 29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6a93bc"/>
                  </a:gs>
                  <a:gs pos="50000">
                    <a:srgbClr val="4d6b88"/>
                  </a:gs>
                  <a:gs pos="100000">
                    <a:srgbClr val="6a93b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38" name="Rectangle 30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4d93d9"/>
                  </a:gs>
                  <a:gs pos="50000">
                    <a:srgbClr val="386b9d"/>
                  </a:gs>
                  <a:gs pos="100000">
                    <a:srgbClr val="4d93d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086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453b2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453b2"/>
              </a:solidFill>
              <a:latin typeface="Verdana"/>
            </a:endParaRPr>
          </a:p>
        </p:txBody>
      </p:sp>
      <p:grpSp>
        <p:nvGrpSpPr>
          <p:cNvPr id="240" name="Group 3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241" name="未知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4d798f"/>
                </a:gs>
                <a:gs pos="100000">
                  <a:srgbClr val="5d8599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42" name="AutoShape 5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77ae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43" name="AutoShape 6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75112"/>
                </a:gs>
                <a:gs pos="50000">
                  <a:srgbClr val="77ae26"/>
                </a:gs>
                <a:gs pos="100000">
                  <a:srgbClr val="3751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44" name="AutoShape 7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45" name="AutoShape 8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46" name="AutoShape 9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4d79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47" name="AutoShape 10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43842"/>
                </a:gs>
                <a:gs pos="50000">
                  <a:srgbClr val="4d798f"/>
                </a:gs>
                <a:gs pos="100000">
                  <a:srgbClr val="2438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48" name="AutoShape 11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49" name="AutoShape 12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50" name="未知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6a93bc"/>
                </a:gs>
                <a:gs pos="100000">
                  <a:srgbClr val="a9c1d8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51" name="Text Box 14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52" name="Text Box 15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</p:txBody>
        </p:sp>
        <p:grpSp>
          <p:nvGrpSpPr>
            <p:cNvPr id="253" name="Group 16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254" name="AutoShape 17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6a93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55" name="AutoShape 18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293949"/>
                  </a:gs>
                  <a:gs pos="50000">
                    <a:srgbClr val="6a93bc"/>
                  </a:gs>
                  <a:gs pos="100000">
                    <a:srgbClr val="29394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56" name="AutoShape 19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57" name="AutoShape 20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58" name="Text Box 21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59" name="Text Box 22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b1749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b1749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sp>
          <p:nvSpPr>
            <p:cNvPr id="260" name="Text Box 23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b1749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b1749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61" name="Text Box 24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b1749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b1749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4d798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b1749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b17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086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453b2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453b2"/>
              </a:solidFill>
              <a:latin typeface="Verdana"/>
            </a:endParaRPr>
          </a:p>
        </p:txBody>
      </p:sp>
      <p:grpSp>
        <p:nvGrpSpPr>
          <p:cNvPr id="264" name="Group 3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265" name="AutoShape 4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b1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b1749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66" name="AutoShape 5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b1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b1749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67" name="AutoShape 6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b1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b1749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68" name="AutoShape 7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d9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69" name="AutoShape 8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d7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70" name="Oval 9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4d798f"/>
                </a:gs>
                <a:gs pos="50000">
                  <a:srgbClr val="ffffff"/>
                </a:gs>
                <a:gs pos="100000">
                  <a:srgbClr val="4d798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71" name="Oval 10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4d798f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72" name="Oval 11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d798f"/>
                </a:gs>
                <a:gs pos="50000">
                  <a:srgbClr val="2a414d"/>
                </a:gs>
                <a:gs pos="100000">
                  <a:srgbClr val="4d798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73" name="Oval 12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4d798f">
                    <a:alpha val="0"/>
                  </a:srgbClr>
                </a:gs>
                <a:gs pos="100000">
                  <a:srgbClr val="314d5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74" name="Oval 13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75" name="Oval 14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6a93bc"/>
                </a:gs>
                <a:gs pos="50000">
                  <a:srgbClr val="ffffff"/>
                </a:gs>
                <a:gs pos="100000">
                  <a:srgbClr val="6a93b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76" name="Oval 15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6a93bc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77" name="Oval 16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6a93bc"/>
                </a:gs>
                <a:gs pos="50000">
                  <a:srgbClr val="395066"/>
                </a:gs>
                <a:gs pos="100000">
                  <a:srgbClr val="6a93b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78" name="Oval 17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6a93bc">
                    <a:alpha val="0"/>
                  </a:srgbClr>
                </a:gs>
                <a:gs pos="100000">
                  <a:srgbClr val="435d7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79" name="Oval 18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grpSp>
          <p:nvGrpSpPr>
            <p:cNvPr id="280" name="Group 19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281" name="Oval 20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82" name="Oval 21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83" name="Oval 22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84" name="Oval 23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sp>
          <p:nvSpPr>
            <p:cNvPr id="285" name="Oval 24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4d93d9"/>
                </a:gs>
                <a:gs pos="50000">
                  <a:srgbClr val="ffffff"/>
                </a:gs>
                <a:gs pos="100000">
                  <a:srgbClr val="4d93d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86" name="Oval 25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244464"/>
                </a:gs>
                <a:gs pos="100000">
                  <a:srgbClr val="4d93d9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87" name="Oval 26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4d93d9"/>
                </a:gs>
                <a:gs pos="50000">
                  <a:srgbClr val="2a5075"/>
                </a:gs>
                <a:gs pos="100000">
                  <a:srgbClr val="4d93d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88" name="Oval 27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4d93d9">
                    <a:alpha val="0"/>
                  </a:srgbClr>
                </a:gs>
                <a:gs pos="100000">
                  <a:srgbClr val="315d8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89" name="Oval 28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grpSp>
          <p:nvGrpSpPr>
            <p:cNvPr id="290" name="Group 29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291" name="Oval 30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92" name="Oval 31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93" name="Oval 32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94" name="Oval 33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34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296" name="Oval 35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97" name="Oval 36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98" name="Oval 37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99" name="Oval 38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sp>
          <p:nvSpPr>
            <p:cNvPr id="300" name="Text Box 39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b1749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01" name="Text Box 40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b1749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02" name="Text Box 41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b1749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05:30:44Z</dcterms:created>
  <dc:creator>www.eeppt.cpm</dc:creator>
  <dc:description>www.eeppt.cpm</dc:description>
  <cp:keywords>www.eeppt.cpm</cp:keywords>
  <dc:language>en-US</dc:language>
  <cp:lastModifiedBy>微软中国</cp:lastModifiedBy>
  <dcterms:modified xsi:type="dcterms:W3CDTF">2015-08-11T14:22:35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