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629-00C0-49C3-98F1-D9E9DE91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E60-F64D-45C4-B1BF-25D04C4A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28B-3BCA-4BBC-915D-01FD72FA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4F4-A843-4A3D-A695-E27BCE85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F36-CE79-4AF1-8C3B-A3895C2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D69-C27B-4779-BAA2-E1D8196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045-685D-4785-8CD8-AA940796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04C-8453-45A8-9514-DD1D5879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FB7-637C-475B-AF37-BB16A8DD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EC7-1FCC-4E85-876C-240192F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1DE-F80F-4D6B-B57A-B0166BD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64F-4921-4C10-9AF9-8C568A1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785-EC71-4317-B2A4-CF3DD90AEA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EFC-5CF6-4DD6-9F9E-6AC06FAE16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环保能源，用心制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绿色平原会议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39640" y="602136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216000" y="79056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006720" y="35434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这样的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PPT,</a:t>
            </a: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您喜欢吗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47640" y="2205000"/>
            <a:ext cx="6120000" cy="309096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" descr=""/>
          <p:cNvPicPr/>
          <p:nvPr/>
        </p:nvPicPr>
        <p:blipFill>
          <a:blip r:embed="rId2"/>
          <a:stretch/>
        </p:blipFill>
        <p:spPr>
          <a:xfrm>
            <a:off x="5508720" y="3835440"/>
            <a:ext cx="2387520" cy="1969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68480" y="26496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imes New Roman"/>
              </a:rPr>
              <a:t>Do  you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547640" y="1773360"/>
            <a:ext cx="145764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规中矩的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664000" y="2355840"/>
            <a:ext cx="3816000" cy="358920"/>
            <a:chOff x="2664000" y="2355840"/>
            <a:chExt cx="3816000" cy="358920"/>
          </a:xfrm>
        </p:grpSpPr>
        <p:sp>
          <p:nvSpPr>
            <p:cNvPr id="58" name="矩形 3"/>
            <p:cNvSpPr/>
            <p:nvPr/>
          </p:nvSpPr>
          <p:spPr>
            <a:xfrm>
              <a:off x="2664000" y="2355840"/>
              <a:ext cx="504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"/>
            <p:cNvSpPr/>
            <p:nvPr/>
          </p:nvSpPr>
          <p:spPr>
            <a:xfrm>
              <a:off x="3240000" y="2355840"/>
              <a:ext cx="3240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5"/>
            <p:cNvSpPr/>
            <p:nvPr/>
          </p:nvSpPr>
          <p:spPr>
            <a:xfrm>
              <a:off x="3672000" y="23662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64000" y="3049560"/>
            <a:ext cx="3816000" cy="360360"/>
            <a:chOff x="2664000" y="3049560"/>
            <a:chExt cx="3816000" cy="360360"/>
          </a:xfrm>
        </p:grpSpPr>
        <p:sp>
          <p:nvSpPr>
            <p:cNvPr id="62" name="矩形 8"/>
            <p:cNvSpPr/>
            <p:nvPr/>
          </p:nvSpPr>
          <p:spPr>
            <a:xfrm>
              <a:off x="2664000" y="304956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"/>
            <p:cNvSpPr/>
            <p:nvPr/>
          </p:nvSpPr>
          <p:spPr>
            <a:xfrm>
              <a:off x="3240000" y="304956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3672000" y="306000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64000" y="3743280"/>
            <a:ext cx="3816000" cy="360360"/>
            <a:chOff x="2664000" y="3743280"/>
            <a:chExt cx="3816000" cy="360360"/>
          </a:xfrm>
        </p:grpSpPr>
        <p:sp>
          <p:nvSpPr>
            <p:cNvPr id="66" name="矩形 12"/>
            <p:cNvSpPr/>
            <p:nvPr/>
          </p:nvSpPr>
          <p:spPr>
            <a:xfrm>
              <a:off x="2664000" y="374328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3"/>
            <p:cNvSpPr/>
            <p:nvPr/>
          </p:nvSpPr>
          <p:spPr>
            <a:xfrm>
              <a:off x="3240000" y="374328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4"/>
            <p:cNvSpPr/>
            <p:nvPr/>
          </p:nvSpPr>
          <p:spPr>
            <a:xfrm>
              <a:off x="3672000" y="375372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664000" y="4437000"/>
            <a:ext cx="3816000" cy="360360"/>
            <a:chOff x="2664000" y="4437000"/>
            <a:chExt cx="3816000" cy="360360"/>
          </a:xfrm>
        </p:grpSpPr>
        <p:sp>
          <p:nvSpPr>
            <p:cNvPr id="70" name="矩形 16"/>
            <p:cNvSpPr/>
            <p:nvPr/>
          </p:nvSpPr>
          <p:spPr>
            <a:xfrm>
              <a:off x="2664000" y="443700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3240000" y="443700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8"/>
            <p:cNvSpPr/>
            <p:nvPr/>
          </p:nvSpPr>
          <p:spPr>
            <a:xfrm>
              <a:off x="3672000" y="444744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6661080" y="2819520"/>
            <a:ext cx="0" cy="372420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10557" t="0" r="0" b="0"/>
          <a:stretch/>
        </p:blipFill>
        <p:spPr>
          <a:xfrm>
            <a:off x="611280" y="871560"/>
            <a:ext cx="4508280" cy="5672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 rot="269400">
            <a:off x="5446800" y="2765520"/>
            <a:ext cx="2232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效果貌似还 不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 rot="20626800">
            <a:off x="5854320" y="3322800"/>
            <a:ext cx="280836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加上巧妙的文字排版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rot="269400">
            <a:off x="5467320" y="4124160"/>
            <a:ext cx="2232000" cy="368280"/>
          </a:xfrm>
          <a:prstGeom prst="rect">
            <a:avLst/>
          </a:prstGeom>
          <a:solidFill>
            <a:srgbClr val="308b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效果貌似可以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让中规中矩的模板生动起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图表 3"/>
          <p:cNvSpPr/>
          <p:nvPr/>
        </p:nvSpPr>
        <p:spPr>
          <a:xfrm>
            <a:off x="1835280" y="2060640"/>
            <a:ext cx="5700600" cy="31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 rot="21410400">
            <a:off x="979200" y="1571760"/>
            <a:ext cx="403524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也许漂亮的图表能助你达到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340000" y="553896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没错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就是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EXCEL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图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精美些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再精美些 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^-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控制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篇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876240" y="1557360"/>
            <a:ext cx="264024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5"/>
          <p:cNvSpPr/>
          <p:nvPr/>
        </p:nvSpPr>
        <p:spPr>
          <a:xfrm>
            <a:off x="3516480" y="2492280"/>
            <a:ext cx="3935160" cy="1800"/>
          </a:xfrm>
          <a:prstGeom prst="line">
            <a:avLst/>
          </a:prstGeom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3924360" y="2060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没人会喜欢听你啰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846000" y="1527120"/>
            <a:ext cx="2700360" cy="4032360"/>
          </a:xfrm>
          <a:prstGeom prst="rect">
            <a:avLst/>
          </a:prstGeom>
          <a:noFill/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572000" y="3213000"/>
            <a:ext cx="26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控制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页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以内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分钟内讲完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别把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WORD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搬来了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谢谢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模板内容就这么多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 flipH="1">
            <a:off x="5579640" y="3139920"/>
            <a:ext cx="2946600" cy="27082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190520" y="220968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这是随性给大家说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内容不具备较强的推敲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203480" y="1773360"/>
            <a:ext cx="145728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15A-74B7-4B57-8613-6C050C36E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谢谢大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9640" y="6021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7:14:00Z</dcterms:created>
  <dc:creator>www.eeppt.com</dc:creator>
  <dc:description/>
  <cp:keywords>www.eeppt.com</cp:keywords>
  <dc:language>en-US</dc:language>
  <cp:lastModifiedBy>王琳</cp:lastModifiedBy>
  <dcterms:modified xsi:type="dcterms:W3CDTF">2015-08-11T14:22:51Z</dcterms:modified>
  <cp:revision>7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