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DCF-E103-4759-A287-3D0920AB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2FB-2EF3-4C69-ADEE-08004DA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0BD-1D5E-4CD1-BA92-39FF44FA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D8E-2062-4ADA-98CD-614AF38D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326E-2E52-4720-AF4C-19410704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B9D-1AD3-49AE-BCE7-EDB08A9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9F01-E1A6-40F5-A7F2-63062B26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4A80-5937-480B-B6CD-62259D8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28CC-A399-4A44-AADD-97B9D87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9ED-5D68-4053-B206-A6075AF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FA8-EF4C-4E4B-9167-47FA6BF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E60-498D-4AAF-AE56-7137205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2AA7-F1C5-445F-B3E5-7B1FEF2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D95-81DF-4B56-8783-DDEDB21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CB86-EBE8-4A3E-89A2-7E1C20F8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CEB7-5F8E-4799-85B1-4B35CB76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9EC0-56B0-4D1E-9AE5-DF83120B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EFF1-5F1E-4BB1-99AA-0B8491B9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92DE-713E-47B2-A375-9335065C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E288-F8CE-4416-BD24-561D170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0D4D-BC37-4DD0-B432-930A69D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7237-26C0-45FD-911D-E10F540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A45-C8BC-4063-A96F-45CBC886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D740-6276-421B-BEAD-A1792564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F9B8-469E-40EF-B7A9-8A6BA2A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E229-A27F-41F9-8687-49EA99C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2A10-2B07-4C19-948E-8C06B985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2976-C743-4D85-ADA9-D4BE66B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03D3-4DCA-40E3-A619-2096C01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82B4-D5A6-48BA-B2A7-C68204F3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4E6-AB2F-41B1-885C-0D562327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266-2EC1-45BC-958F-AFFC646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952-8FC2-4CBA-A5F4-A8FF1C4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41D-3F70-49EC-B17D-4576D39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289-701E-4462-92FF-3DB11E9C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02A-3177-4070-A9B4-837418A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B1E-A4E5-4AB6-89B4-E7A63587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F37-21EB-4BC6-A6B4-CBE29579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28EA-A5B5-46F5-BB1B-0C9A1A89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某集团公司营销工作会议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040" y="441936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主持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时间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2008.8.1.14:00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               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地点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集团大厦二楼综合会议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0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891540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b2c4"/>
            </a:gs>
            <a:gs pos="100000">
              <a:srgbClr val="66c00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营销收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Organization Chart 5"/>
          <p:cNvGrpSpPr/>
          <p:nvPr/>
        </p:nvGrpSpPr>
        <p:grpSpPr>
          <a:xfrm>
            <a:off x="457200" y="1523880"/>
            <a:ext cx="8457840" cy="4494600"/>
            <a:chOff x="457200" y="1523880"/>
            <a:chExt cx="8457840" cy="44946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974560" y="2028240"/>
              <a:ext cx="899640" cy="348516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2"/>
            </p:cNvCxnSpPr>
            <p:nvPr/>
          </p:nvCxnSpPr>
          <p:spPr>
            <a:xfrm flipV="1" rot="16200000">
              <a:off x="5104080" y="2898720"/>
              <a:ext cx="899640" cy="174384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2"/>
            </p:cNvCxnSpPr>
            <p:nvPr/>
          </p:nvCxnSpPr>
          <p:spPr>
            <a:xfrm flipV="1">
              <a:off x="4682160" y="3308400"/>
              <a:ext cx="252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1"/>
            <p:cNvCxnSpPr>
              <a:stCxn id="137" idx="0"/>
              <a:endCxn id="131" idx="2"/>
            </p:cNvCxnSpPr>
            <p:nvPr/>
          </p:nvCxnSpPr>
          <p:spPr>
            <a:xfrm flipH="1" flipV="1" rot="5400000">
              <a:off x="3365640" y="2899800"/>
              <a:ext cx="899640" cy="174204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2"/>
            <p:cNvCxnSpPr>
              <a:stCxn id="139" idx="0"/>
              <a:endCxn id="131" idx="2"/>
            </p:cNvCxnSpPr>
            <p:nvPr/>
          </p:nvCxnSpPr>
          <p:spPr>
            <a:xfrm flipH="1" flipV="1" rot="5400000">
              <a:off x="2495160" y="2029320"/>
              <a:ext cx="899640" cy="348336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3939840" y="152388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上半年总收入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45720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T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219852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房地产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393984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网游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7"/>
            <p:cNvSpPr/>
            <p:nvPr/>
          </p:nvSpPr>
          <p:spPr>
            <a:xfrm>
              <a:off x="568116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餐饮娱乐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>
              <a:off x="742248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其他投资收益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90A6-3933-411F-87C2-EDA87B3B5590}" type="slidenum">
              <a:t>3</a:t>
            </a:fld>
          </a:p>
        </p:txBody>
      </p:sp>
    </p:spTree>
  </p:cSld>
  <p:transition spd="slow" advTm="3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半年各事业群营销业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指标达成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8" descr=""/>
          <p:cNvPicPr/>
          <p:nvPr/>
        </p:nvPicPr>
        <p:blipFill>
          <a:blip r:embed="rId2"/>
          <a:stretch/>
        </p:blipFill>
        <p:spPr>
          <a:xfrm>
            <a:off x="719280" y="1724040"/>
            <a:ext cx="7758000" cy="4141800"/>
          </a:xfrm>
          <a:prstGeom prst="rect">
            <a:avLst/>
          </a:prstGeom>
          <a:ln w="0">
            <a:noFill/>
          </a:ln>
        </p:spPr>
      </p:pic>
      <p:sp>
        <p:nvSpPr>
          <p:cNvPr id="14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13:26:19Z</dcterms:created>
  <dc:creator>www.eeppt.com</dc:creator>
  <dc:description/>
  <cp:keywords>www.eeppt.com</cp:keywords>
  <dc:language>en-US</dc:language>
  <cp:lastModifiedBy>tukj</cp:lastModifiedBy>
  <dcterms:modified xsi:type="dcterms:W3CDTF">2015-08-11T14:22:19Z</dcterms:modified>
  <cp:revision>3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