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432-0C08-42EB-AEB9-BE32D68F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C7D-9A80-4AC9-A551-B952F1A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E0F-A098-486C-AE54-901A6E34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357-E784-4168-A2BA-DB419DAD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E7C-D396-4B92-B5C3-FC57ACF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953-9D13-40AF-84C9-D8510739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2CC-B723-4C90-B595-8C250DFF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D1A-CC40-490C-95C9-A1DF78F6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6EC-D043-43EA-9C64-22D51F9F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75F-2847-46A0-8556-BA070D5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8B4-1E23-46ED-8833-4CEF743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B69-50A5-485F-8F3A-1A3BC2E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4000" y="6597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83A8-82BA-42BD-9814-8BC9A6261B1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390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女生个人简历英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9320" y="4643280"/>
            <a:ext cx="39146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37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3377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337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3377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377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37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3377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337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3377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54C-0416-468E-A2C9-80C30B84F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25:08Z</dcterms:created>
  <dc:creator>pc</dc:creator>
  <dc:description/>
  <cp:keywords>www.eeppt.com</cp:keywords>
  <dc:language>en-US</dc:language>
  <cp:lastModifiedBy>keke</cp:lastModifiedBy>
  <dcterms:modified xsi:type="dcterms:W3CDTF">2015-08-11T14:21:58Z</dcterms:modified>
  <cp:revision>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