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ED36-4FA9-4B6E-AD4F-6F0E640B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CCB4-EE3B-4065-BA5C-249A9E18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18C2-DC90-442F-92E0-96AB4338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9BCF-F1AB-4016-9863-D268C441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111F-ABF3-474C-A97E-02A9395C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75A2-ED80-4DA6-82B9-D16BAA72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ECCD-0B90-49EA-A80B-E7B5E04C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9EC0-4EFA-42B6-94EF-1D7F63FD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2584-3EA0-45FB-89D3-CA180414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A943-4B45-4319-9DF5-8C69885E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FE2D-9D28-4602-8239-B9FEEF6B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DF24-10DC-4ADE-8AF7-CD8B3287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281A-7357-4687-A4D9-631BEA46BCC9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E6B4-AA2E-4F5D-8220-F2E38F8D7ECE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53560" y="8366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年终报告商务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9640" y="4076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910D-5460-47A9-BD65-B525832C00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15:32:00Z</dcterms:created>
  <dc:creator>www.eeppt.cpm</dc:creator>
  <dc:description>www.eeppt.cpm</dc:description>
  <cp:keywords>www.eeppt.cpm</cp:keywords>
  <dc:language>en-US</dc:language>
  <cp:lastModifiedBy>微软中国</cp:lastModifiedBy>
  <dcterms:modified xsi:type="dcterms:W3CDTF">2015-08-11T14:22:07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