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5DC3-2830-4AD3-97F0-41131F1E0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DE45-C997-456F-AA96-18758A16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3C9D-F59E-4C51-90E1-4A54355FB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9FC7-CD38-4F9D-8214-5360E6060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9344-4815-4780-AF17-76D456D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6B223-ED57-4D83-8DE2-93F40DC5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D5DB8-8B17-401B-8825-2AC1BB2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8D3B-0719-4461-A5A3-01CD9D5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1934E-148E-4803-ADA1-34BF9A7E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13270-B12A-4B2F-82CE-55E1B0A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7D456-45A2-4393-AAE6-EE0FBED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2748-7771-4AC6-99AE-2F9FC1C4C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E253B-CFE8-4DB7-A6F9-42141E0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6C00-776A-4782-9E0F-D860295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5652-4EFF-4A03-864F-2C6089B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1DE95-72B4-4EBF-A4A3-0C95465B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D18E-FBF2-4090-832F-AB7CB7BE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6B60-5EAF-4CFF-8783-097619D3D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3386-8ADE-4F26-A435-BC54DAE20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BE65-7BAA-419D-84A8-CD35AB31C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85E8-4D3C-4882-9C97-C1361F89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9E12-7F8C-4311-98EF-796CF473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B023-D5F2-4211-9711-25DF3932E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B8DA-7602-414E-85E0-4479C4972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7"/>
          <p:cNvSpPr/>
          <p:nvPr/>
        </p:nvSpPr>
        <p:spPr>
          <a:xfrm flipV="1">
            <a:off x="2438280" y="671832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Freeform 35"/>
          <p:cNvSpPr/>
          <p:nvPr/>
        </p:nvSpPr>
        <p:spPr>
          <a:xfrm>
            <a:off x="0" y="0"/>
            <a:ext cx="9144000" cy="1397160"/>
          </a:xfrm>
          <a:custGeom>
            <a:avLst/>
            <a:gdLst/>
            <a:ahLst/>
            <a:rect l="l" t="t" r="r" b="b"/>
            <a:pathLst>
              <a:path w="5760" h="880">
                <a:moveTo>
                  <a:pt x="0" y="856"/>
                </a:moveTo>
                <a:lnTo>
                  <a:pt x="72" y="856"/>
                </a:lnTo>
                <a:lnTo>
                  <a:pt x="72" y="576"/>
                </a:lnTo>
                <a:lnTo>
                  <a:pt x="4584" y="576"/>
                </a:lnTo>
                <a:lnTo>
                  <a:pt x="4888" y="880"/>
                </a:lnTo>
                <a:lnTo>
                  <a:pt x="5760" y="880"/>
                </a:lnTo>
                <a:lnTo>
                  <a:pt x="5760" y="0"/>
                </a:lnTo>
                <a:lnTo>
                  <a:pt x="0" y="0"/>
                </a:lnTo>
                <a:lnTo>
                  <a:pt x="0" y="856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6FE-8BDC-4D00-85CA-959D18BFB99E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37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" name="Group 129"/>
          <p:cNvGrpSpPr/>
          <p:nvPr/>
        </p:nvGrpSpPr>
        <p:grpSpPr>
          <a:xfrm>
            <a:off x="2657520" y="4680"/>
            <a:ext cx="6351480" cy="135000"/>
            <a:chOff x="2657520" y="4680"/>
            <a:chExt cx="6351480" cy="135000"/>
          </a:xfrm>
        </p:grpSpPr>
        <p:sp>
          <p:nvSpPr>
            <p:cNvPr id="7" name="Rectangle 87"/>
            <p:cNvSpPr/>
            <p:nvPr/>
          </p:nvSpPr>
          <p:spPr>
            <a:xfrm>
              <a:off x="2657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Rectangle 100"/>
            <p:cNvSpPr/>
            <p:nvPr/>
          </p:nvSpPr>
          <p:spPr>
            <a:xfrm>
              <a:off x="2873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Rectangle 101"/>
            <p:cNvSpPr/>
            <p:nvPr/>
          </p:nvSpPr>
          <p:spPr>
            <a:xfrm>
              <a:off x="3089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Rectangle 102"/>
            <p:cNvSpPr/>
            <p:nvPr/>
          </p:nvSpPr>
          <p:spPr>
            <a:xfrm>
              <a:off x="3305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Rectangle 103"/>
            <p:cNvSpPr/>
            <p:nvPr/>
          </p:nvSpPr>
          <p:spPr>
            <a:xfrm>
              <a:off x="3521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Rectangle 104"/>
            <p:cNvSpPr/>
            <p:nvPr/>
          </p:nvSpPr>
          <p:spPr>
            <a:xfrm>
              <a:off x="3737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Rectangle 105"/>
            <p:cNvSpPr/>
            <p:nvPr/>
          </p:nvSpPr>
          <p:spPr>
            <a:xfrm>
              <a:off x="39528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Rectangle 106"/>
            <p:cNvSpPr/>
            <p:nvPr/>
          </p:nvSpPr>
          <p:spPr>
            <a:xfrm>
              <a:off x="4168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Rectangle 107"/>
            <p:cNvSpPr/>
            <p:nvPr/>
          </p:nvSpPr>
          <p:spPr>
            <a:xfrm>
              <a:off x="4384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Rectangle 108"/>
            <p:cNvSpPr/>
            <p:nvPr/>
          </p:nvSpPr>
          <p:spPr>
            <a:xfrm>
              <a:off x="4600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Rectangle 109"/>
            <p:cNvSpPr/>
            <p:nvPr/>
          </p:nvSpPr>
          <p:spPr>
            <a:xfrm>
              <a:off x="48164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Rectangle 110"/>
            <p:cNvSpPr/>
            <p:nvPr/>
          </p:nvSpPr>
          <p:spPr>
            <a:xfrm>
              <a:off x="5032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Rectangle 111"/>
            <p:cNvSpPr/>
            <p:nvPr/>
          </p:nvSpPr>
          <p:spPr>
            <a:xfrm>
              <a:off x="5248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Rectangle 112"/>
            <p:cNvSpPr/>
            <p:nvPr/>
          </p:nvSpPr>
          <p:spPr>
            <a:xfrm>
              <a:off x="546408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Rectangle 113"/>
            <p:cNvSpPr/>
            <p:nvPr/>
          </p:nvSpPr>
          <p:spPr>
            <a:xfrm>
              <a:off x="5680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Rectangle 114"/>
            <p:cNvSpPr/>
            <p:nvPr/>
          </p:nvSpPr>
          <p:spPr>
            <a:xfrm>
              <a:off x="5896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Rectangle 115"/>
            <p:cNvSpPr/>
            <p:nvPr/>
          </p:nvSpPr>
          <p:spPr>
            <a:xfrm>
              <a:off x="6112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Rectangle 116"/>
            <p:cNvSpPr/>
            <p:nvPr/>
          </p:nvSpPr>
          <p:spPr>
            <a:xfrm>
              <a:off x="632772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Rectangle 117"/>
            <p:cNvSpPr/>
            <p:nvPr/>
          </p:nvSpPr>
          <p:spPr>
            <a:xfrm>
              <a:off x="6543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Rectangle 118"/>
            <p:cNvSpPr/>
            <p:nvPr/>
          </p:nvSpPr>
          <p:spPr>
            <a:xfrm>
              <a:off x="6759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Rectangle 119"/>
            <p:cNvSpPr/>
            <p:nvPr/>
          </p:nvSpPr>
          <p:spPr>
            <a:xfrm>
              <a:off x="6975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Rectangle 120"/>
            <p:cNvSpPr/>
            <p:nvPr/>
          </p:nvSpPr>
          <p:spPr>
            <a:xfrm>
              <a:off x="7191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Rectangle 121"/>
            <p:cNvSpPr/>
            <p:nvPr/>
          </p:nvSpPr>
          <p:spPr>
            <a:xfrm>
              <a:off x="7407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Rectangle 122"/>
            <p:cNvSpPr/>
            <p:nvPr/>
          </p:nvSpPr>
          <p:spPr>
            <a:xfrm>
              <a:off x="7623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Rectangle 123"/>
            <p:cNvSpPr/>
            <p:nvPr/>
          </p:nvSpPr>
          <p:spPr>
            <a:xfrm>
              <a:off x="78390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Rectangle 124"/>
            <p:cNvSpPr/>
            <p:nvPr/>
          </p:nvSpPr>
          <p:spPr>
            <a:xfrm>
              <a:off x="8055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Rectangle 125"/>
            <p:cNvSpPr/>
            <p:nvPr/>
          </p:nvSpPr>
          <p:spPr>
            <a:xfrm>
              <a:off x="8271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Rectangle 126"/>
            <p:cNvSpPr/>
            <p:nvPr/>
          </p:nvSpPr>
          <p:spPr>
            <a:xfrm>
              <a:off x="8487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Rectangle 127"/>
            <p:cNvSpPr/>
            <p:nvPr/>
          </p:nvSpPr>
          <p:spPr>
            <a:xfrm>
              <a:off x="87026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Rectangle 128"/>
            <p:cNvSpPr/>
            <p:nvPr/>
          </p:nvSpPr>
          <p:spPr>
            <a:xfrm>
              <a:off x="89186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" name="AutoShape 143"/>
          <p:cNvSpPr/>
          <p:nvPr/>
        </p:nvSpPr>
        <p:spPr>
          <a:xfrm>
            <a:off x="7391520" y="880920"/>
            <a:ext cx="1752480" cy="357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35113"/>
                </a:solidFill>
                <a:latin typeface="微软雅黑"/>
                <a:ea typeface="微软雅黑"/>
              </a:rPr>
              <a:t>统计分析与写作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8" name="Group 144"/>
          <p:cNvGrpSpPr/>
          <p:nvPr/>
        </p:nvGrpSpPr>
        <p:grpSpPr>
          <a:xfrm>
            <a:off x="7543800" y="1255680"/>
            <a:ext cx="1447920" cy="1600200"/>
            <a:chOff x="7543800" y="1255680"/>
            <a:chExt cx="1447920" cy="1600200"/>
          </a:xfrm>
        </p:grpSpPr>
        <p:sp>
          <p:nvSpPr>
            <p:cNvPr id="39" name="Rectangle 145"/>
            <p:cNvSpPr/>
            <p:nvPr/>
          </p:nvSpPr>
          <p:spPr>
            <a:xfrm>
              <a:off x="7543800" y="1255680"/>
              <a:ext cx="1447920" cy="1600200"/>
            </a:xfrm>
            <a:prstGeom prst="rect">
              <a:avLst/>
            </a:prstGeom>
            <a:solidFill>
              <a:srgbClr val="8fad2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Rectangle 146"/>
            <p:cNvSpPr/>
            <p:nvPr/>
          </p:nvSpPr>
          <p:spPr>
            <a:xfrm>
              <a:off x="7543800" y="1255680"/>
              <a:ext cx="1371600" cy="1533240"/>
            </a:xfrm>
            <a:prstGeom prst="rect">
              <a:avLst/>
            </a:prstGeom>
            <a:solidFill>
              <a:srgbClr val="8fad2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1" name="Rectangle 147"/>
          <p:cNvSpPr/>
          <p:nvPr/>
        </p:nvSpPr>
        <p:spPr>
          <a:xfrm>
            <a:off x="7543800" y="125568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Rectangle 148"/>
          <p:cNvSpPr/>
          <p:nvPr/>
        </p:nvSpPr>
        <p:spPr>
          <a:xfrm>
            <a:off x="7543800" y="1560600"/>
            <a:ext cx="1371600" cy="3045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好主题开好头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Rectangle 149"/>
          <p:cNvSpPr/>
          <p:nvPr/>
        </p:nvSpPr>
        <p:spPr>
          <a:xfrm>
            <a:off x="7543800" y="186516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围绕主题写正文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Rectangle 150"/>
          <p:cNvSpPr/>
          <p:nvPr/>
        </p:nvSpPr>
        <p:spPr>
          <a:xfrm>
            <a:off x="7543800" y="217008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呼应主题结好尾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Rectangle 151"/>
          <p:cNvSpPr/>
          <p:nvPr/>
        </p:nvSpPr>
        <p:spPr>
          <a:xfrm>
            <a:off x="7543800" y="2475000"/>
            <a:ext cx="1371600" cy="3045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修改细雕琢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4"/>
          <p:cNvSpPr/>
          <p:nvPr/>
        </p:nvSpPr>
        <p:spPr>
          <a:xfrm>
            <a:off x="0" y="0"/>
            <a:ext cx="9131400" cy="825480"/>
          </a:xfrm>
          <a:custGeom>
            <a:avLst/>
            <a:gdLst/>
            <a:ahLst/>
            <a:rect l="l" t="t" r="r" b="b"/>
            <a:pathLst>
              <a:path w="5752" h="520">
                <a:moveTo>
                  <a:pt x="0" y="432"/>
                </a:moveTo>
                <a:lnTo>
                  <a:pt x="0" y="0"/>
                </a:lnTo>
                <a:lnTo>
                  <a:pt x="5752" y="0"/>
                </a:lnTo>
                <a:lnTo>
                  <a:pt x="5752" y="520"/>
                </a:lnTo>
                <a:lnTo>
                  <a:pt x="3960" y="520"/>
                </a:lnTo>
                <a:lnTo>
                  <a:pt x="3672" y="232"/>
                </a:lnTo>
                <a:lnTo>
                  <a:pt x="80" y="232"/>
                </a:lnTo>
                <a:lnTo>
                  <a:pt x="8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3" name="Group 136"/>
          <p:cNvGrpSpPr/>
          <p:nvPr/>
        </p:nvGrpSpPr>
        <p:grpSpPr>
          <a:xfrm>
            <a:off x="9360" y="3165480"/>
            <a:ext cx="9136080" cy="2705040"/>
            <a:chOff x="9360" y="3165480"/>
            <a:chExt cx="9136080" cy="2705040"/>
          </a:xfrm>
        </p:grpSpPr>
        <p:sp>
          <p:nvSpPr>
            <p:cNvPr id="84" name="Rectangle 137"/>
            <p:cNvSpPr/>
            <p:nvPr/>
          </p:nvSpPr>
          <p:spPr>
            <a:xfrm>
              <a:off x="9360" y="3165480"/>
              <a:ext cx="9136080" cy="270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85" name="Group 138"/>
            <p:cNvGrpSpPr/>
            <p:nvPr/>
          </p:nvGrpSpPr>
          <p:grpSpPr>
            <a:xfrm>
              <a:off x="309240" y="3166920"/>
              <a:ext cx="8421840" cy="2703600"/>
              <a:chOff x="309240" y="3166920"/>
              <a:chExt cx="8421840" cy="2703600"/>
            </a:xfrm>
          </p:grpSpPr>
          <p:sp>
            <p:nvSpPr>
              <p:cNvPr id="86" name="Rectangle 139"/>
              <p:cNvSpPr/>
              <p:nvPr/>
            </p:nvSpPr>
            <p:spPr>
              <a:xfrm>
                <a:off x="30924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7" name="Rectangle 140"/>
              <p:cNvSpPr/>
              <p:nvPr/>
            </p:nvSpPr>
            <p:spPr>
              <a:xfrm>
                <a:off x="7855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8" name="Rectangle 141"/>
              <p:cNvSpPr/>
              <p:nvPr/>
            </p:nvSpPr>
            <p:spPr>
              <a:xfrm>
                <a:off x="135072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9" name="Rectangle 142"/>
              <p:cNvSpPr/>
              <p:nvPr/>
            </p:nvSpPr>
            <p:spPr>
              <a:xfrm>
                <a:off x="182700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0" name="Rectangle 143"/>
              <p:cNvSpPr/>
              <p:nvPr/>
            </p:nvSpPr>
            <p:spPr>
              <a:xfrm>
                <a:off x="23922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1" name="Rectangle 144"/>
              <p:cNvSpPr/>
              <p:nvPr/>
            </p:nvSpPr>
            <p:spPr>
              <a:xfrm>
                <a:off x="28681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2" name="Rectangle 145"/>
              <p:cNvSpPr/>
              <p:nvPr/>
            </p:nvSpPr>
            <p:spPr>
              <a:xfrm>
                <a:off x="343332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" name="Rectangle 146"/>
              <p:cNvSpPr/>
              <p:nvPr/>
            </p:nvSpPr>
            <p:spPr>
              <a:xfrm>
                <a:off x="390960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" name="Rectangle 147"/>
              <p:cNvSpPr/>
              <p:nvPr/>
            </p:nvSpPr>
            <p:spPr>
              <a:xfrm>
                <a:off x="44748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" name="Rectangle 148"/>
              <p:cNvSpPr/>
              <p:nvPr/>
            </p:nvSpPr>
            <p:spPr>
              <a:xfrm>
                <a:off x="495108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Rectangle 149"/>
              <p:cNvSpPr/>
              <p:nvPr/>
            </p:nvSpPr>
            <p:spPr>
              <a:xfrm>
                <a:off x="551628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" name="Rectangle 150"/>
              <p:cNvSpPr/>
              <p:nvPr/>
            </p:nvSpPr>
            <p:spPr>
              <a:xfrm>
                <a:off x="599256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8" name="Rectangle 151"/>
              <p:cNvSpPr/>
              <p:nvPr/>
            </p:nvSpPr>
            <p:spPr>
              <a:xfrm>
                <a:off x="655776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Rectangle 152"/>
              <p:cNvSpPr/>
              <p:nvPr/>
            </p:nvSpPr>
            <p:spPr>
              <a:xfrm>
                <a:off x="703404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Rectangle 153"/>
              <p:cNvSpPr/>
              <p:nvPr/>
            </p:nvSpPr>
            <p:spPr>
              <a:xfrm>
                <a:off x="759888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Rectangle 154"/>
              <p:cNvSpPr/>
              <p:nvPr/>
            </p:nvSpPr>
            <p:spPr>
              <a:xfrm>
                <a:off x="807516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Rectangle 155"/>
              <p:cNvSpPr/>
              <p:nvPr/>
            </p:nvSpPr>
            <p:spPr>
              <a:xfrm>
                <a:off x="864036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Group 156"/>
          <p:cNvGrpSpPr/>
          <p:nvPr/>
        </p:nvGrpSpPr>
        <p:grpSpPr>
          <a:xfrm>
            <a:off x="3571920" y="5175360"/>
            <a:ext cx="1365120" cy="1365120"/>
            <a:chOff x="3571920" y="5175360"/>
            <a:chExt cx="1365120" cy="1365120"/>
          </a:xfrm>
        </p:grpSpPr>
        <p:sp>
          <p:nvSpPr>
            <p:cNvPr id="104" name="Oval 157"/>
            <p:cNvSpPr/>
            <p:nvPr/>
          </p:nvSpPr>
          <p:spPr>
            <a:xfrm>
              <a:off x="3571920" y="517536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" name="Oval 158"/>
            <p:cNvSpPr/>
            <p:nvPr/>
          </p:nvSpPr>
          <p:spPr>
            <a:xfrm>
              <a:off x="3948120" y="561492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" name="Oval 159"/>
            <p:cNvSpPr/>
            <p:nvPr/>
          </p:nvSpPr>
          <p:spPr>
            <a:xfrm rot="19033200">
              <a:off x="3686400" y="538596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7" name="Group 160"/>
          <p:cNvGrpSpPr/>
          <p:nvPr/>
        </p:nvGrpSpPr>
        <p:grpSpPr>
          <a:xfrm>
            <a:off x="5046840" y="4230720"/>
            <a:ext cx="1949400" cy="1949400"/>
            <a:chOff x="5046840" y="4230720"/>
            <a:chExt cx="1949400" cy="1949400"/>
          </a:xfrm>
        </p:grpSpPr>
        <p:sp>
          <p:nvSpPr>
            <p:cNvPr id="108" name="Oval 161"/>
            <p:cNvSpPr/>
            <p:nvPr/>
          </p:nvSpPr>
          <p:spPr>
            <a:xfrm>
              <a:off x="5046840" y="42307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" name="Oval 162"/>
            <p:cNvSpPr/>
            <p:nvPr/>
          </p:nvSpPr>
          <p:spPr>
            <a:xfrm>
              <a:off x="5585040" y="48578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" name="Oval 163"/>
            <p:cNvSpPr/>
            <p:nvPr/>
          </p:nvSpPr>
          <p:spPr>
            <a:xfrm rot="19033200">
              <a:off x="5211720" y="45302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1" name="Oval 164"/>
          <p:cNvSpPr/>
          <p:nvPr/>
        </p:nvSpPr>
        <p:spPr>
          <a:xfrm>
            <a:off x="7489800" y="3583080"/>
            <a:ext cx="1655640" cy="16556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Oval 165"/>
          <p:cNvSpPr/>
          <p:nvPr/>
        </p:nvSpPr>
        <p:spPr>
          <a:xfrm>
            <a:off x="5643720" y="238608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43DD-9F57-4CBB-8BF2-0A44666E025F}" type="slidenum"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90"/>
          <p:cNvSpPr/>
          <p:nvPr/>
        </p:nvSpPr>
        <p:spPr>
          <a:xfrm>
            <a:off x="2438280" y="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3120" y="1700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清新简洁报告公文类幻灯片下载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87360" y="1195560"/>
            <a:ext cx="4448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507800"/>
                </a:solidFill>
                <a:latin typeface="宋体"/>
                <a:ea typeface="宋体"/>
              </a:rPr>
              <a:t>常见的结尾方式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8897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华文中宋"/>
                <a:ea typeface="华文中宋"/>
              </a:rPr>
              <a:t>（三）呼应主题结好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2938320" y="4538520"/>
            <a:ext cx="5562720" cy="1325880"/>
          </a:xfrm>
          <a:prstGeom prst="ellipse">
            <a:avLst/>
          </a:prstGeom>
          <a:gradFill rotWithShape="0">
            <a:gsLst>
              <a:gs pos="0">
                <a:srgbClr val="f8faf8"/>
              </a:gs>
              <a:gs pos="100000">
                <a:srgbClr val="13511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Oval 6"/>
          <p:cNvSpPr/>
          <p:nvPr/>
        </p:nvSpPr>
        <p:spPr>
          <a:xfrm rot="20601600">
            <a:off x="2249280" y="2427120"/>
            <a:ext cx="5686200" cy="3016440"/>
          </a:xfrm>
          <a:prstGeom prst="ellipse">
            <a:avLst/>
          </a:prstGeom>
          <a:gradFill rotWithShape="0">
            <a:gsLst>
              <a:gs pos="0">
                <a:srgbClr val="135113"/>
              </a:gs>
              <a:gs pos="50000">
                <a:srgbClr val="072007"/>
              </a:gs>
              <a:gs pos="100000">
                <a:srgbClr val="13511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Oval 7"/>
          <p:cNvSpPr/>
          <p:nvPr/>
        </p:nvSpPr>
        <p:spPr>
          <a:xfrm rot="20601600">
            <a:off x="2268000" y="2263320"/>
            <a:ext cx="55645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Arc 8"/>
          <p:cNvSpPr/>
          <p:nvPr/>
        </p:nvSpPr>
        <p:spPr>
          <a:xfrm rot="20601600">
            <a:off x="4925880" y="2152800"/>
            <a:ext cx="284976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d1e09f"/>
              </a:gs>
              <a:gs pos="100000">
                <a:srgbClr val="bad16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Arc 9"/>
          <p:cNvSpPr/>
          <p:nvPr/>
        </p:nvSpPr>
        <p:spPr>
          <a:xfrm flipH="1" rot="20602200">
            <a:off x="2514600" y="4027320"/>
            <a:ext cx="328140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7691d"/>
              </a:gs>
              <a:gs pos="100000">
                <a:srgbClr val="8fad2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Arc 10"/>
          <p:cNvSpPr/>
          <p:nvPr/>
        </p:nvSpPr>
        <p:spPr>
          <a:xfrm rot="20601600">
            <a:off x="3450960" y="2235240"/>
            <a:ext cx="3133800" cy="141768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3826" h="21600">
                <a:moveTo>
                  <a:pt x="0" y="2683"/>
                </a:moveTo>
                <a:cubicBezTo>
                  <a:pt x="3193" y="923"/>
                  <a:pt x="6780" y="-1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</a:path>
              <a:path stroke="0" w="23826" h="21600">
                <a:moveTo>
                  <a:pt x="0" y="2683"/>
                </a:moveTo>
                <a:cubicBezTo>
                  <a:pt x="3193" y="923"/>
                  <a:pt x="6780" y="-1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  <a:lnTo>
                  <a:pt x="10427" y="21600"/>
                </a:lnTo>
                <a:lnTo>
                  <a:pt x="0" y="2683"/>
                </a:lnTo>
                <a:close/>
              </a:path>
            </a:pathLst>
          </a:custGeom>
          <a:gradFill rotWithShape="0">
            <a:gsLst>
              <a:gs pos="0">
                <a:srgbClr val="30616a"/>
              </a:gs>
              <a:gs pos="100000">
                <a:srgbClr val="5cb8ca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Arc 11"/>
          <p:cNvSpPr/>
          <p:nvPr/>
        </p:nvSpPr>
        <p:spPr>
          <a:xfrm flipH="1" rot="20602200">
            <a:off x="2167920" y="2761920"/>
            <a:ext cx="2849400" cy="2111400"/>
          </a:xfrm>
          <a:custGeom>
            <a:avLst/>
            <a:gdLst/>
            <a:ahLst/>
            <a:rect l="l" t="t" r="r" b="b"/>
            <a:pathLst>
              <a:path fill="none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</a:path>
              <a:path stroke="0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  <a:lnTo>
                  <a:pt x="0" y="20162"/>
                </a:lnTo>
                <a:lnTo>
                  <a:pt x="7749" y="-1"/>
                </a:lnTo>
                <a:close/>
              </a:path>
            </a:pathLst>
          </a:custGeom>
          <a:gradFill rotWithShape="0">
            <a:gsLst>
              <a:gs pos="0">
                <a:srgbClr val="848235"/>
              </a:gs>
              <a:gs pos="100000">
                <a:srgbClr val="f2ef6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Oval 12"/>
          <p:cNvSpPr/>
          <p:nvPr/>
        </p:nvSpPr>
        <p:spPr>
          <a:xfrm rot="20601600">
            <a:off x="3730320" y="297792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c6d5c6"/>
              </a:gs>
              <a:gs pos="50000">
                <a:srgbClr val="135113"/>
              </a:gs>
              <a:gs pos="100000">
                <a:srgbClr val="c6d5c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2451240" y="36831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得出结论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354560" y="24638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呼应开头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184800" y="2768760"/>
            <a:ext cx="12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总结全文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Freeform 17"/>
          <p:cNvSpPr/>
          <p:nvPr/>
        </p:nvSpPr>
        <p:spPr>
          <a:xfrm>
            <a:off x="6245280" y="3695760"/>
            <a:ext cx="1773360" cy="177624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dbe8b2"/>
              </a:gs>
              <a:gs pos="100000">
                <a:srgbClr val="858d6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Arc 18"/>
          <p:cNvSpPr/>
          <p:nvPr/>
        </p:nvSpPr>
        <p:spPr>
          <a:xfrm rot="20539200">
            <a:off x="5308560" y="308448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656b52"/>
              </a:gs>
              <a:gs pos="100000">
                <a:srgbClr val="dbe8b2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Freeform 19"/>
          <p:cNvSpPr/>
          <p:nvPr/>
        </p:nvSpPr>
        <p:spPr>
          <a:xfrm>
            <a:off x="5380200" y="4172040"/>
            <a:ext cx="92376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656b52"/>
              </a:gs>
              <a:gs pos="100000">
                <a:srgbClr val="dbe8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5983200" y="398772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提出建议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3772080" y="4673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预测未来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Freeform 22"/>
          <p:cNvSpPr/>
          <p:nvPr/>
        </p:nvSpPr>
        <p:spPr>
          <a:xfrm>
            <a:off x="5224320" y="4238640"/>
            <a:ext cx="838440" cy="110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528" h="698">
                <a:moveTo>
                  <a:pt x="0" y="34"/>
                </a:moveTo>
                <a:lnTo>
                  <a:pt x="248" y="546"/>
                </a:lnTo>
                <a:lnTo>
                  <a:pt x="256" y="698"/>
                </a:lnTo>
                <a:lnTo>
                  <a:pt x="435" y="642"/>
                </a:lnTo>
                <a:lnTo>
                  <a:pt x="528" y="594"/>
                </a:lnTo>
                <a:lnTo>
                  <a:pt x="119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33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Oval 23"/>
          <p:cNvSpPr/>
          <p:nvPr/>
        </p:nvSpPr>
        <p:spPr>
          <a:xfrm rot="20601600">
            <a:off x="3833640" y="322884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52360" y="965160"/>
            <a:ext cx="75978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507800"/>
                </a:solidFill>
                <a:latin typeface="宋体"/>
                <a:ea typeface="宋体"/>
              </a:rPr>
              <a:t>、预测未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表明作者对其未来的看法。</a:t>
            </a:r>
            <a:r>
              <a:rPr b="0" lang="zh-CN" sz="2800" spc="-1" strike="noStrike">
                <a:solidFill>
                  <a:srgbClr val="0033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如：我们认为，只要趋利避害，操作得当，</a:t>
            </a:r>
            <a:r>
              <a:rPr b="0" lang="en-US" sz="2800" spc="-1" strike="noStrike">
                <a:solidFill>
                  <a:srgbClr val="507800"/>
                </a:solidFill>
                <a:latin typeface="宋体"/>
                <a:ea typeface="宋体"/>
              </a:rPr>
              <a:t>1998</a:t>
            </a:r>
            <a:r>
              <a:rPr b="0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年我国国民经济仍可望继续保持“高增长、低通胀”的良好运行格局。（根据发展趋势预测未来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0"/>
            <a:ext cx="8897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华文中宋"/>
                <a:ea typeface="华文中宋"/>
              </a:rPr>
              <a:t>（三）呼应主题结好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1"/>
          <a:stretch/>
        </p:blipFill>
        <p:spPr>
          <a:xfrm>
            <a:off x="4105440" y="4278240"/>
            <a:ext cx="50385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616D-9146-471D-BAAE-D0CC4C6C9B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339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0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3" name="Rectangle 9"/>
              <p:cNvSpPr/>
              <p:nvPr/>
            </p:nvSpPr>
            <p:spPr>
              <a:xfrm>
                <a:off x="134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4" name="Rectangle 10"/>
              <p:cNvSpPr/>
              <p:nvPr/>
            </p:nvSpPr>
            <p:spPr>
              <a:xfrm>
                <a:off x="182556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5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6" name="Rectangle 12"/>
              <p:cNvSpPr/>
              <p:nvPr/>
            </p:nvSpPr>
            <p:spPr>
              <a:xfrm>
                <a:off x="28666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7" name="Rectangle 13"/>
              <p:cNvSpPr/>
              <p:nvPr/>
            </p:nvSpPr>
            <p:spPr>
              <a:xfrm>
                <a:off x="34318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39081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44733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0" name="Rectangle 16"/>
              <p:cNvSpPr/>
              <p:nvPr/>
            </p:nvSpPr>
            <p:spPr>
              <a:xfrm>
                <a:off x="49496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1" name="Rectangle 17"/>
              <p:cNvSpPr/>
              <p:nvPr/>
            </p:nvSpPr>
            <p:spPr>
              <a:xfrm>
                <a:off x="55148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Rectangle 18"/>
              <p:cNvSpPr/>
              <p:nvPr/>
            </p:nvSpPr>
            <p:spPr>
              <a:xfrm>
                <a:off x="59911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6556320" y="5613480"/>
                <a:ext cx="90360" cy="12618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7032600" y="5613480"/>
                <a:ext cx="269640" cy="12618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5" name="Rectangle 21"/>
              <p:cNvSpPr/>
              <p:nvPr/>
            </p:nvSpPr>
            <p:spPr>
              <a:xfrm>
                <a:off x="75974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6" name="Rectangle 22"/>
              <p:cNvSpPr/>
              <p:nvPr/>
            </p:nvSpPr>
            <p:spPr>
              <a:xfrm>
                <a:off x="80737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863892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Group 24"/>
          <p:cNvGrpSpPr/>
          <p:nvPr/>
        </p:nvGrpSpPr>
        <p:grpSpPr>
          <a:xfrm>
            <a:off x="4267080" y="5124600"/>
            <a:ext cx="1365120" cy="1365120"/>
            <a:chOff x="4267080" y="5124600"/>
            <a:chExt cx="1365120" cy="1365120"/>
          </a:xfrm>
        </p:grpSpPr>
        <p:sp>
          <p:nvSpPr>
            <p:cNvPr id="359" name="Oval 25"/>
            <p:cNvSpPr/>
            <p:nvPr/>
          </p:nvSpPr>
          <p:spPr>
            <a:xfrm>
              <a:off x="4267080" y="512460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4643280" y="556416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1" name="Oval 27"/>
            <p:cNvSpPr/>
            <p:nvPr/>
          </p:nvSpPr>
          <p:spPr>
            <a:xfrm rot="19033200">
              <a:off x="4381560" y="533520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2" name="Group 28"/>
          <p:cNvGrpSpPr/>
          <p:nvPr/>
        </p:nvGrpSpPr>
        <p:grpSpPr>
          <a:xfrm>
            <a:off x="5742000" y="4243320"/>
            <a:ext cx="1949400" cy="1949400"/>
            <a:chOff x="5742000" y="4243320"/>
            <a:chExt cx="1949400" cy="1949400"/>
          </a:xfrm>
        </p:grpSpPr>
        <p:sp>
          <p:nvSpPr>
            <p:cNvPr id="363" name="Oval 29"/>
            <p:cNvSpPr/>
            <p:nvPr/>
          </p:nvSpPr>
          <p:spPr>
            <a:xfrm>
              <a:off x="5742000" y="42433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4" name="Oval 30"/>
            <p:cNvSpPr/>
            <p:nvPr/>
          </p:nvSpPr>
          <p:spPr>
            <a:xfrm>
              <a:off x="6280200" y="48704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5" name="Oval 31"/>
            <p:cNvSpPr/>
            <p:nvPr/>
          </p:nvSpPr>
          <p:spPr>
            <a:xfrm rot="19033200">
              <a:off x="5906880" y="45428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6" name="Oval 32"/>
          <p:cNvSpPr/>
          <p:nvPr/>
        </p:nvSpPr>
        <p:spPr>
          <a:xfrm>
            <a:off x="7270920" y="281952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351000" y="306864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507800"/>
                </a:solidFill>
                <a:latin typeface="华文中宋"/>
                <a:ea typeface="华文中宋"/>
              </a:rPr>
              <a:t>谢谢大家</a:t>
            </a:r>
            <a:r>
              <a:rPr b="1" i="1" lang="en-US" sz="6600" spc="-1" strike="noStrike">
                <a:solidFill>
                  <a:srgbClr val="507800"/>
                </a:solidFill>
                <a:latin typeface="华文中宋"/>
                <a:ea typeface="华文中宋"/>
              </a:rPr>
              <a:t>!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"/>
          <p:cNvGrpSpPr/>
          <p:nvPr/>
        </p:nvGrpSpPr>
        <p:grpSpPr>
          <a:xfrm>
            <a:off x="944640" y="3230640"/>
            <a:ext cx="2286000" cy="2666880"/>
            <a:chOff x="944640" y="3230640"/>
            <a:chExt cx="2286000" cy="2666880"/>
          </a:xfrm>
        </p:grpSpPr>
        <p:sp>
          <p:nvSpPr>
            <p:cNvPr id="158" name="AutoShape 6"/>
            <p:cNvSpPr/>
            <p:nvPr/>
          </p:nvSpPr>
          <p:spPr>
            <a:xfrm>
              <a:off x="944640" y="3230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1040040" y="3430800"/>
              <a:ext cx="2038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5113"/>
                  </a:solidFill>
                  <a:latin typeface="Arial"/>
                  <a:ea typeface="宋体"/>
                </a:rPr>
                <a:t>统计分析报告特点种类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0" name="Freeform 8"/>
          <p:cNvSpPr/>
          <p:nvPr/>
        </p:nvSpPr>
        <p:spPr>
          <a:xfrm>
            <a:off x="3024360" y="3133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7f59b"/>
              </a:gs>
              <a:gs pos="100000">
                <a:srgbClr val="f2ef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2849400" y="1506600"/>
            <a:ext cx="3067560" cy="1601280"/>
            <a:chOff x="2849400" y="1506600"/>
            <a:chExt cx="3067560" cy="1601280"/>
          </a:xfrm>
        </p:grpSpPr>
        <p:grpSp>
          <p:nvGrpSpPr>
            <p:cNvPr id="162" name="Group 10"/>
            <p:cNvGrpSpPr/>
            <p:nvPr/>
          </p:nvGrpSpPr>
          <p:grpSpPr>
            <a:xfrm>
              <a:off x="2849400" y="1506600"/>
              <a:ext cx="3067560" cy="1601280"/>
              <a:chOff x="2849400" y="1506600"/>
              <a:chExt cx="3067560" cy="1601280"/>
            </a:xfrm>
          </p:grpSpPr>
          <p:grpSp>
            <p:nvGrpSpPr>
              <p:cNvPr id="163" name="Group 11"/>
              <p:cNvGrpSpPr/>
              <p:nvPr/>
            </p:nvGrpSpPr>
            <p:grpSpPr>
              <a:xfrm>
                <a:off x="2849400" y="1649520"/>
                <a:ext cx="3067560" cy="1458360"/>
                <a:chOff x="2849400" y="1649520"/>
                <a:chExt cx="3067560" cy="1458360"/>
              </a:xfrm>
            </p:grpSpPr>
            <p:sp>
              <p:nvSpPr>
                <p:cNvPr id="164" name="Oval 12"/>
                <p:cNvSpPr/>
                <p:nvPr/>
              </p:nvSpPr>
              <p:spPr>
                <a:xfrm>
                  <a:off x="2882880" y="1695960"/>
                  <a:ext cx="30340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6636"/>
                    </a:gs>
                    <a:gs pos="100000">
                      <a:srgbClr val="bad16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13"/>
                <p:cNvSpPr/>
                <p:nvPr/>
              </p:nvSpPr>
              <p:spPr>
                <a:xfrm>
                  <a:off x="2849400" y="1649520"/>
                  <a:ext cx="30344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d16f"/>
                    </a:gs>
                    <a:gs pos="100000">
                      <a:srgbClr val="e0ebb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Oval 14"/>
              <p:cNvSpPr/>
              <p:nvPr/>
            </p:nvSpPr>
            <p:spPr>
              <a:xfrm>
                <a:off x="2993760" y="1506600"/>
                <a:ext cx="2746440" cy="1341360"/>
              </a:xfrm>
              <a:prstGeom prst="ellipse">
                <a:avLst/>
              </a:prstGeom>
              <a:gradFill rotWithShape="0">
                <a:gsLst>
                  <a:gs pos="0">
                    <a:srgbClr val="8fad2f"/>
                  </a:gs>
                  <a:gs pos="100000">
                    <a:srgbClr val="4250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7" name="Oval 15"/>
              <p:cNvSpPr/>
              <p:nvPr/>
            </p:nvSpPr>
            <p:spPr>
              <a:xfrm>
                <a:off x="3029400" y="1514520"/>
                <a:ext cx="2680200" cy="1308240"/>
              </a:xfrm>
              <a:prstGeom prst="ellipse">
                <a:avLst/>
              </a:prstGeom>
              <a:gradFill rotWithShape="0">
                <a:gsLst>
                  <a:gs pos="0">
                    <a:srgbClr val="d8e2b6"/>
                  </a:gs>
                  <a:gs pos="100000">
                    <a:srgbClr val="8fad2f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8" name="Oval 16"/>
              <p:cNvSpPr/>
              <p:nvPr/>
            </p:nvSpPr>
            <p:spPr>
              <a:xfrm>
                <a:off x="3057120" y="1527120"/>
                <a:ext cx="25502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fad2f">
                      <a:alpha val="48235"/>
                    </a:srgbClr>
                  </a:gs>
                  <a:gs pos="100000">
                    <a:srgbClr val="71892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9" name="Oval 17"/>
              <p:cNvSpPr/>
              <p:nvPr/>
            </p:nvSpPr>
            <p:spPr>
              <a:xfrm>
                <a:off x="3191760" y="1554120"/>
                <a:ext cx="2244960" cy="990720"/>
              </a:xfrm>
              <a:prstGeom prst="ellipse">
                <a:avLst/>
              </a:prstGeom>
              <a:gradFill rotWithShape="0">
                <a:gsLst>
                  <a:gs pos="0">
                    <a:srgbClr val="8fad2f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3614400" y="1687680"/>
              <a:ext cx="144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5113"/>
                  </a:solidFill>
                  <a:latin typeface="Arial"/>
                  <a:ea typeface="宋体"/>
                </a:rPr>
                <a:t>主要内容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5364000" y="3230640"/>
            <a:ext cx="2286000" cy="2666880"/>
            <a:chOff x="5364000" y="3230640"/>
            <a:chExt cx="2286000" cy="2666880"/>
          </a:xfrm>
        </p:grpSpPr>
        <p:sp>
          <p:nvSpPr>
            <p:cNvPr id="172" name="AutoShape 20"/>
            <p:cNvSpPr/>
            <p:nvPr/>
          </p:nvSpPr>
          <p:spPr>
            <a:xfrm>
              <a:off x="5364000" y="3230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5516280" y="3430800"/>
              <a:ext cx="203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5113"/>
                  </a:solidFill>
                  <a:latin typeface="Arial"/>
                  <a:ea typeface="宋体"/>
                </a:rPr>
                <a:t>如何撰写统计分析报告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5113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74" name="Freeform 22"/>
          <p:cNvSpPr/>
          <p:nvPr/>
        </p:nvSpPr>
        <p:spPr>
          <a:xfrm flipH="1">
            <a:off x="4676040" y="3133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9f0d1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279360" y="1879560"/>
            <a:ext cx="3263760" cy="622440"/>
            <a:chOff x="279360" y="1879560"/>
            <a:chExt cx="3263760" cy="622440"/>
          </a:xfrm>
        </p:grpSpPr>
        <p:sp>
          <p:nvSpPr>
            <p:cNvPr id="176" name="AutoShape 3"/>
            <p:cNvSpPr/>
            <p:nvPr/>
          </p:nvSpPr>
          <p:spPr>
            <a:xfrm>
              <a:off x="291960" y="1903320"/>
              <a:ext cx="325116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279360" y="1879560"/>
              <a:ext cx="325116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 rot="19033200">
              <a:off x="334440" y="1972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 rot="19033200">
              <a:off x="3179520" y="2214000"/>
              <a:ext cx="25236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0" name="Group 7"/>
          <p:cNvGrpSpPr/>
          <p:nvPr/>
        </p:nvGrpSpPr>
        <p:grpSpPr>
          <a:xfrm>
            <a:off x="4275000" y="1817640"/>
            <a:ext cx="4238280" cy="4238280"/>
            <a:chOff x="4275000" y="1817640"/>
            <a:chExt cx="4238280" cy="4238280"/>
          </a:xfrm>
        </p:grpSpPr>
        <p:sp>
          <p:nvSpPr>
            <p:cNvPr id="181" name="Oval 8"/>
            <p:cNvSpPr/>
            <p:nvPr/>
          </p:nvSpPr>
          <p:spPr>
            <a:xfrm>
              <a:off x="4275000" y="1817640"/>
              <a:ext cx="4238280" cy="4238280"/>
            </a:xfrm>
            <a:prstGeom prst="ellipse">
              <a:avLst/>
            </a:prstGeom>
            <a:noFill/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 flipV="1">
              <a:off x="6360480" y="2678400"/>
              <a:ext cx="0" cy="5785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668340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 flipH="1">
              <a:off x="562032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 flipH="1" flipV="1">
              <a:off x="5124960" y="3630600"/>
              <a:ext cx="559080" cy="11376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V="1">
              <a:off x="7009200" y="3630240"/>
              <a:ext cx="559080" cy="1141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7" name="Oval 14"/>
          <p:cNvSpPr/>
          <p:nvPr/>
        </p:nvSpPr>
        <p:spPr>
          <a:xfrm>
            <a:off x="5484960" y="3112920"/>
            <a:ext cx="1736640" cy="17370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5078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5497560" y="3257640"/>
            <a:ext cx="1736640" cy="14716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507800"/>
              </a:gs>
              <a:gs pos="100000">
                <a:srgbClr val="dbe8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36576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75564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7558200" y="299880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5626080" y="129708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5627520" y="1411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6705720" y="4865760"/>
            <a:ext cx="145872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6707160" y="499284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Oval 23"/>
          <p:cNvSpPr/>
          <p:nvPr/>
        </p:nvSpPr>
        <p:spPr>
          <a:xfrm>
            <a:off x="4533840" y="485316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Oval 24"/>
          <p:cNvSpPr/>
          <p:nvPr/>
        </p:nvSpPr>
        <p:spPr>
          <a:xfrm>
            <a:off x="4535640" y="497988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3659040" y="2986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465120" y="2925720"/>
            <a:ext cx="28846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华文中宋"/>
                <a:ea typeface="华文中宋"/>
              </a:rPr>
              <a:t>-</a:t>
            </a:r>
            <a:r>
              <a:rPr b="1" lang="zh-CN" sz="2200" spc="-1" strike="noStrike">
                <a:solidFill>
                  <a:srgbClr val="003300"/>
                </a:solidFill>
                <a:latin typeface="华文中宋"/>
                <a:ea typeface="华文中宋"/>
              </a:rPr>
              <a:t>所谓统计分析报告，就是运用统计资料和统计分析方法，研究和反映社会经济运动状态的一种文章。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745240" y="17701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Verdana"/>
                <a:ea typeface="黑体"/>
              </a:rPr>
              <a:t>数量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75120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实用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460224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准确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681192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时效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67556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通俗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5521320" y="3638520"/>
            <a:ext cx="1787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统计分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及种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800280" y="1971720"/>
            <a:ext cx="2597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zh-CN" sz="2200" spc="-1" strike="noStrike">
                <a:solidFill>
                  <a:srgbClr val="003300"/>
                </a:solidFill>
                <a:latin typeface="Verdana"/>
                <a:ea typeface="Gulim"/>
              </a:rPr>
              <a:t>统计分析报告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32920" y="97956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  </a:t>
            </a: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、数量性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5113"/>
                </a:solidFill>
                <a:latin typeface="Verdana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以反映社会经济情况的统计数量为基础，从定量分析入手，逐步上升到定性认识，然后采用书面语言，对这种数量分析及结论予以恰当的表达。</a:t>
            </a:r>
            <a:endParaRPr b="1" lang="en-US" sz="24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0" name="Object 8" descr=""/>
          <p:cNvPicPr/>
          <p:nvPr/>
        </p:nvPicPr>
        <p:blipFill>
          <a:blip r:embed="rId1"/>
          <a:stretch/>
        </p:blipFill>
        <p:spPr>
          <a:xfrm>
            <a:off x="4816440" y="2160720"/>
            <a:ext cx="4038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957240"/>
            <a:ext cx="608796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、实用性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7800"/>
                </a:solidFill>
                <a:latin typeface="Verdana"/>
                <a:ea typeface="宋体"/>
              </a:rPr>
              <a:t>  </a:t>
            </a:r>
            <a:r>
              <a:rPr b="0" lang="zh-CN" sz="3600" spc="-1" strike="noStrike">
                <a:solidFill>
                  <a:srgbClr val="507800"/>
                </a:solidFill>
                <a:latin typeface="Verdana"/>
                <a:ea typeface="宋体"/>
              </a:rPr>
              <a:t>可以直接满足于领导科学决策和社会各界知情维权、开展科学研究、参与民主管理的需要。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5"/>
          <p:cNvSpPr/>
          <p:nvPr/>
        </p:nvSpPr>
        <p:spPr>
          <a:xfrm>
            <a:off x="1905120" y="219384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d16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2438280" y="1432080"/>
            <a:ext cx="44197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ebcc"/>
              </a:gs>
              <a:gs pos="50000">
                <a:srgbClr val="8fad2f"/>
              </a:gs>
              <a:gs pos="100000">
                <a:srgbClr val="e4eb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华文中宋"/>
                <a:ea typeface="华文中宋"/>
              </a:rPr>
              <a:t>统计分析报告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081320" y="2806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华文中宋"/>
                <a:ea typeface="华文中宋"/>
              </a:rPr>
              <a:t>按主要特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914400" y="4067280"/>
            <a:ext cx="1460520" cy="1514520"/>
            <a:chOff x="914400" y="4067280"/>
            <a:chExt cx="1460520" cy="1514520"/>
          </a:xfrm>
        </p:grpSpPr>
        <p:sp>
          <p:nvSpPr>
            <p:cNvPr id="217" name="Oval 11"/>
            <p:cNvSpPr/>
            <p:nvPr/>
          </p:nvSpPr>
          <p:spPr>
            <a:xfrm>
              <a:off x="914400" y="4067280"/>
              <a:ext cx="1460520" cy="1514520"/>
            </a:xfrm>
            <a:prstGeom prst="ellipse">
              <a:avLst/>
            </a:prstGeom>
            <a:gradFill rotWithShape="0">
              <a:gsLst>
                <a:gs pos="0">
                  <a:srgbClr val="f2ef62"/>
                </a:gs>
                <a:gs pos="100000">
                  <a:srgbClr val="9a98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81080" y="4092120"/>
              <a:ext cx="1126800" cy="57168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1006560" y="482436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进度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1066680" y="5667480"/>
            <a:ext cx="1206720" cy="38880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6781680" y="4022640"/>
            <a:ext cx="1524240" cy="1532160"/>
            <a:chOff x="6781680" y="4022640"/>
            <a:chExt cx="1524240" cy="1532160"/>
          </a:xfrm>
        </p:grpSpPr>
        <p:sp>
          <p:nvSpPr>
            <p:cNvPr id="222" name="Oval 18"/>
            <p:cNvSpPr/>
            <p:nvPr/>
          </p:nvSpPr>
          <p:spPr>
            <a:xfrm>
              <a:off x="6781680" y="4022640"/>
              <a:ext cx="1524240" cy="1532160"/>
            </a:xfrm>
            <a:prstGeom prst="ellipse">
              <a:avLst/>
            </a:prstGeom>
            <a:gradFill rotWithShape="0">
              <a:gsLst>
                <a:gs pos="0">
                  <a:srgbClr val="dbe8b2"/>
                </a:gs>
                <a:gs pos="100000">
                  <a:srgbClr val="3538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6955920" y="4047840"/>
              <a:ext cx="1175760" cy="578160"/>
            </a:xfrm>
            <a:custGeom>
              <a:avLst/>
              <a:gdLst>
                <a:gd name="textAreaLeft" fmla="*/ 0 w 1175760"/>
                <a:gd name="textAreaRight" fmla="*/ 1176120 w 117576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24" name="Text Box 20"/>
          <p:cNvSpPr/>
          <p:nvPr/>
        </p:nvSpPr>
        <p:spPr>
          <a:xfrm>
            <a:off x="7048440" y="47228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专题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824520" y="5602320"/>
            <a:ext cx="1455840" cy="48744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6" name="Group 22"/>
          <p:cNvGrpSpPr/>
          <p:nvPr/>
        </p:nvGrpSpPr>
        <p:grpSpPr>
          <a:xfrm>
            <a:off x="2819520" y="4067280"/>
            <a:ext cx="1523880" cy="2089080"/>
            <a:chOff x="2819520" y="4067280"/>
            <a:chExt cx="1523880" cy="2089080"/>
          </a:xfrm>
        </p:grpSpPr>
        <p:grpSp>
          <p:nvGrpSpPr>
            <p:cNvPr id="227" name="Group 23"/>
            <p:cNvGrpSpPr/>
            <p:nvPr/>
          </p:nvGrpSpPr>
          <p:grpSpPr>
            <a:xfrm>
              <a:off x="2819520" y="4067280"/>
              <a:ext cx="1523880" cy="1521000"/>
              <a:chOff x="2819520" y="4067280"/>
              <a:chExt cx="1523880" cy="1521000"/>
            </a:xfrm>
          </p:grpSpPr>
          <p:sp>
            <p:nvSpPr>
              <p:cNvPr id="228" name="Oval 24"/>
              <p:cNvSpPr/>
              <p:nvPr/>
            </p:nvSpPr>
            <p:spPr>
              <a:xfrm>
                <a:off x="2819520" y="40672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bad16f"/>
                  </a:gs>
                  <a:gs pos="100000">
                    <a:srgbClr val="606b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29" name="Freeform 25"/>
              <p:cNvSpPr/>
              <p:nvPr/>
            </p:nvSpPr>
            <p:spPr>
              <a:xfrm>
                <a:off x="2994480" y="4092480"/>
                <a:ext cx="1174680" cy="57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d1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26"/>
            <p:cNvSpPr/>
            <p:nvPr/>
          </p:nvSpPr>
          <p:spPr>
            <a:xfrm>
              <a:off x="2895840" y="479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综合性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Oval 27"/>
            <p:cNvSpPr/>
            <p:nvPr/>
          </p:nvSpPr>
          <p:spPr>
            <a:xfrm>
              <a:off x="2819520" y="56674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Group 28"/>
          <p:cNvGrpSpPr/>
          <p:nvPr/>
        </p:nvGrpSpPr>
        <p:grpSpPr>
          <a:xfrm>
            <a:off x="4876920" y="4022640"/>
            <a:ext cx="1523880" cy="2089080"/>
            <a:chOff x="4876920" y="4022640"/>
            <a:chExt cx="1523880" cy="2089080"/>
          </a:xfrm>
        </p:grpSpPr>
        <p:grpSp>
          <p:nvGrpSpPr>
            <p:cNvPr id="233" name="Group 29"/>
            <p:cNvGrpSpPr/>
            <p:nvPr/>
          </p:nvGrpSpPr>
          <p:grpSpPr>
            <a:xfrm>
              <a:off x="4876920" y="4022640"/>
              <a:ext cx="1523880" cy="1521000"/>
              <a:chOff x="4876920" y="4022640"/>
              <a:chExt cx="1523880" cy="1521000"/>
            </a:xfrm>
          </p:grpSpPr>
          <p:grpSp>
            <p:nvGrpSpPr>
              <p:cNvPr id="234" name="Group 30"/>
              <p:cNvGrpSpPr/>
              <p:nvPr/>
            </p:nvGrpSpPr>
            <p:grpSpPr>
              <a:xfrm>
                <a:off x="4876920" y="4022640"/>
                <a:ext cx="1523880" cy="1521000"/>
                <a:chOff x="4876920" y="4022640"/>
                <a:chExt cx="1523880" cy="1521000"/>
              </a:xfrm>
            </p:grpSpPr>
            <p:sp>
              <p:nvSpPr>
                <p:cNvPr id="235" name="Oval 31"/>
                <p:cNvSpPr/>
                <p:nvPr/>
              </p:nvSpPr>
              <p:spPr>
                <a:xfrm>
                  <a:off x="4876920" y="402264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d2f"/>
                    </a:gs>
                    <a:gs pos="100000">
                      <a:srgbClr val="4959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32"/>
                <p:cNvSpPr/>
                <p:nvPr/>
              </p:nvSpPr>
              <p:spPr>
                <a:xfrm>
                  <a:off x="5051880" y="404784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Text Box 33"/>
              <p:cNvSpPr/>
              <p:nvPr/>
            </p:nvSpPr>
            <p:spPr>
              <a:xfrm>
                <a:off x="4953240" y="4752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预测性</a:t>
                </a: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Oval 34"/>
            <p:cNvSpPr/>
            <p:nvPr/>
          </p:nvSpPr>
          <p:spPr>
            <a:xfrm>
              <a:off x="4876920" y="56228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39" name="Rectangle 35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种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2360" y="1384200"/>
            <a:ext cx="7705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5113"/>
                </a:solidFill>
                <a:latin typeface="宋体"/>
                <a:ea typeface="宋体"/>
              </a:rPr>
              <a:t>从其写作过程和组成要素看，写好统计分析报告，必须做到四点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如何撰写统计分析报告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 flipH="1">
            <a:off x="930240" y="6078600"/>
            <a:ext cx="1657440" cy="14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929880" y="5240160"/>
            <a:ext cx="24382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929880" y="4410000"/>
            <a:ext cx="33526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 flipH="1">
            <a:off x="929880" y="3581280"/>
            <a:ext cx="41655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929880" y="2739960"/>
            <a:ext cx="50338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082520" y="2733840"/>
            <a:ext cx="0" cy="87120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1082520" y="3605040"/>
            <a:ext cx="0" cy="81756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082520" y="4422600"/>
            <a:ext cx="0" cy="81612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082520" y="5240160"/>
            <a:ext cx="0" cy="81612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450080" y="3051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四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450080" y="387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三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450080" y="4741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二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1681200" y="55483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一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55" name="Group 18"/>
          <p:cNvGrpSpPr/>
          <p:nvPr/>
        </p:nvGrpSpPr>
        <p:grpSpPr>
          <a:xfrm>
            <a:off x="2647800" y="2743200"/>
            <a:ext cx="5826240" cy="3343320"/>
            <a:chOff x="2647800" y="2743200"/>
            <a:chExt cx="5826240" cy="3343320"/>
          </a:xfrm>
        </p:grpSpPr>
        <p:sp>
          <p:nvSpPr>
            <p:cNvPr id="256" name="Freeform 19"/>
            <p:cNvSpPr/>
            <p:nvPr/>
          </p:nvSpPr>
          <p:spPr>
            <a:xfrm>
              <a:off x="7891200" y="27432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f2ef62"/>
                </a:gs>
                <a:gs pos="50000">
                  <a:srgbClr val="706f2d"/>
                </a:gs>
                <a:gs pos="100000">
                  <a:srgbClr val="f2ef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5130720" y="2743200"/>
              <a:ext cx="3343320" cy="54144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7311960" y="35751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bad16f"/>
                </a:gs>
                <a:gs pos="50000">
                  <a:srgbClr val="566133"/>
                </a:gs>
                <a:gs pos="100000">
                  <a:srgbClr val="bad1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4300560" y="3575160"/>
              <a:ext cx="3593880" cy="539640"/>
            </a:xfrm>
            <a:custGeom>
              <a:avLst/>
              <a:gdLst>
                <a:gd name="textAreaLeft" fmla="*/ 0 w 3593880"/>
                <a:gd name="textAreaRight" fmla="*/ 3594240 w 3593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6730920" y="44067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dbe8b2"/>
                </a:gs>
                <a:gs pos="50000">
                  <a:srgbClr val="656b52"/>
                </a:gs>
                <a:gs pos="100000">
                  <a:srgbClr val="dbe8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1" name="Freeform 24"/>
            <p:cNvSpPr/>
            <p:nvPr/>
          </p:nvSpPr>
          <p:spPr>
            <a:xfrm>
              <a:off x="6153120" y="5240160"/>
              <a:ext cx="5778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8fad2f"/>
                </a:gs>
                <a:gs pos="50000">
                  <a:srgbClr val="425016"/>
                </a:gs>
                <a:gs pos="100000">
                  <a:srgbClr val="8fa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2649240" y="5245200"/>
              <a:ext cx="4081680" cy="539640"/>
            </a:xfrm>
            <a:custGeom>
              <a:avLst/>
              <a:gdLst>
                <a:gd name="textAreaLeft" fmla="*/ 0 w 4081680"/>
                <a:gd name="textAreaRight" fmla="*/ 4082040 w 40816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3241440" y="2897280"/>
              <a:ext cx="183852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507800"/>
                </a:gs>
                <a:gs pos="100000">
                  <a:srgbClr val="253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5136840" y="3284640"/>
              <a:ext cx="2767320" cy="304560"/>
            </a:xfrm>
            <a:prstGeom prst="rect">
              <a:avLst/>
            </a:prstGeom>
            <a:gradFill rotWithShape="0">
              <a:gsLst>
                <a:gs pos="0">
                  <a:srgbClr val="f2ef62"/>
                </a:gs>
                <a:gs pos="50000">
                  <a:srgbClr val="b0ad47"/>
                </a:gs>
                <a:gs pos="100000">
                  <a:srgbClr val="f2ef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精心修改细雕琢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4302000" y="41148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879851"/>
                </a:gs>
                <a:gs pos="100000">
                  <a:srgbClr val="bad1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呼应主题结好尾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6" name="Freeform 29"/>
            <p:cNvSpPr/>
            <p:nvPr/>
          </p:nvSpPr>
          <p:spPr>
            <a:xfrm>
              <a:off x="3476520" y="4406760"/>
              <a:ext cx="3833640" cy="54468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db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3479760" y="49500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9fa881"/>
                </a:gs>
                <a:gs pos="100000">
                  <a:srgbClr val="dbe8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围绕主题定结构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2647800" y="5786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8fad2f"/>
                </a:gs>
                <a:gs pos="50000">
                  <a:srgbClr val="687e22"/>
                </a:gs>
                <a:gs pos="100000">
                  <a:srgbClr val="8fa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选准主题开好头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52360" y="1066680"/>
            <a:ext cx="731520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135113"/>
                </a:solidFill>
                <a:latin typeface="宋体"/>
                <a:ea typeface="宋体"/>
              </a:rPr>
              <a:t>、标题“醒目”</a:t>
            </a:r>
            <a:r>
              <a:rPr b="1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常见的标题类型大致分为四种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①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揭示主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②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表明观点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③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设问提问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④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正副标题合用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（一）选准主题开好头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1" name="Object 5" descr=""/>
          <p:cNvPicPr/>
          <p:nvPr/>
        </p:nvPicPr>
        <p:blipFill>
          <a:blip r:embed="rId1"/>
          <a:stretch/>
        </p:blipFill>
        <p:spPr>
          <a:xfrm>
            <a:off x="4170240" y="3240000"/>
            <a:ext cx="4699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1013400" y="2192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写作开头常犯的毛病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套话多，空话套话是统计分析报告开头的大忌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入题慢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不考虑阅读对象。报告的开头，不仅要考虑文章的内容，而且还要考虑写作的目的和阅读对象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50000">
                <a:srgbClr val="ffffff"/>
              </a:gs>
              <a:gs pos="100000">
                <a:srgbClr val="bad1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ad16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50000">
                <a:srgbClr val="65713c"/>
              </a:gs>
              <a:gs pos="100000">
                <a:srgbClr val="bad1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bad16f">
                  <a:alpha val="0"/>
                </a:srgbClr>
              </a:gs>
              <a:gs pos="100000">
                <a:srgbClr val="7685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be8b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777e60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dbe8b2">
                  <a:alpha val="0"/>
                </a:srgbClr>
              </a:gs>
              <a:gs pos="100000">
                <a:srgbClr val="8b93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88" name="Group 21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9" name="Oval 22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0" name="Oval 23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93" name="Oval 26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50000">
                <a:srgbClr val="ffffff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25016"/>
              </a:gs>
              <a:gs pos="100000">
                <a:srgbClr val="8fad2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50000">
                <a:srgbClr val="4d5e19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fad2f">
                  <a:alpha val="0"/>
                </a:srgbClr>
              </a:gs>
              <a:gs pos="100000">
                <a:srgbClr val="5b6e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9" name="Oval 32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0" name="Oval 33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1" name="Oval 34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03" name="Group 36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4" name="Oval 37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5" name="Oval 38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6" name="Oval 39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7" name="Oval 40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8" name="Text Box 41"/>
          <p:cNvSpPr/>
          <p:nvPr/>
        </p:nvSpPr>
        <p:spPr>
          <a:xfrm>
            <a:off x="1598760" y="248616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入题慢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4067280" y="248616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套话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6534000" y="24861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无目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2:37:47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2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