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117-A54A-4582-8605-2523FC0E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216-A3CB-40DA-B322-70D11F7C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E2B-475A-4939-854F-7101748A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B30-367E-4B9E-8DD8-F340CEFB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E20F-39B8-416C-8F9B-0D9BBCC4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F994-E997-4325-ABA3-25E3E723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E7D9-9C16-4694-9C40-4EE466B9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AB4-58AF-41E6-9197-50C207DC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C243-DC35-4A10-8716-C09EF9C1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583E-C9C6-42F6-BAB2-9BDD2BCE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6162-C896-451F-9EBF-F13B7706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5C8-696C-4623-A4AC-FD30BAB9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6086-1C78-4CE5-8FA9-AAC6D702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F916-B4F6-4D8B-B5D6-80A07D41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5C62-C6DB-4243-8C76-977DB752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6B73-CE59-4AF1-993F-C659C776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32E5-79C8-40E0-B44B-88E344A5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EE0-8C05-4FA4-BC67-B75EBDDD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825-ECD6-467A-80FF-72946955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BEC-5E37-47CC-9B67-188946ED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37C-8FBD-4886-97D8-C9C6290D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B82-FB95-47EC-9A06-A2D18BB5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E78-8381-4DA6-BDDF-5B09830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F09-99BE-4A31-BB8C-DF82C41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851AB1-4FD0-40CC-B221-1361305476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DB86D92-C535-444B-ADDE-6AD42E25C0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4000" spc="-1" strike="noStrike" u="sng">
                <a:solidFill>
                  <a:srgbClr val="66ccff"/>
                </a:solidFill>
                <a:uFillTx/>
                <a:latin typeface="Arial"/>
              </a:rPr>
              <a:t>求职必杀技我的简历</a:t>
            </a:r>
            <a:r>
              <a:rPr b="1" lang="en-US" sz="4000" spc="-1" strike="noStrike" u="sng">
                <a:solidFill>
                  <a:srgbClr val="66ccff"/>
                </a:solidFill>
                <a:uFillTx/>
                <a:latin typeface="Arial"/>
              </a:rPr>
              <a:t>ppt</a:t>
            </a:r>
            <a:r>
              <a:rPr b="1" lang="zh-CN" sz="4000" spc="-1" strike="noStrike" u="sng">
                <a:solidFill>
                  <a:srgbClr val="66ccff"/>
                </a:solidFill>
                <a:uFillTx/>
                <a:latin typeface="Arial"/>
              </a:rPr>
              <a:t>模板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148000" y="4220640"/>
            <a:ext cx="2552760" cy="17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所学专业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毕业学校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求职目标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Arial"/>
              </a:rPr>
              <a:t>基本信息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6000" y="1989000"/>
            <a:ext cx="345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姓名：                                   身高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籍贯：                                    学历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所学专业：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毕业学校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毕业时间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求职目标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联系方式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自我评价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3429000"/>
            <a:ext cx="6408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教育背景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工作经历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2920" y="549360"/>
            <a:ext cx="38163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专业技能及相关证书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44B-66E7-48D7-ACA9-461581022A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32000" y="2565360"/>
            <a:ext cx="21700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4800" spc="-1" strike="noStrike">
                <a:solidFill>
                  <a:srgbClr val="66ccff"/>
                </a:solidFill>
                <a:latin typeface="Arial"/>
              </a:rPr>
              <a:t>致谢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pc</dc:creator>
  <dc:description/>
  <cp:keywords>www.eeppt.com</cp:keywords>
  <dc:language>en-US</dc:language>
  <cp:lastModifiedBy>未知用户</cp:lastModifiedBy>
  <dcterms:modified xsi:type="dcterms:W3CDTF">2015-08-11T14:22:22Z</dcterms:modified>
  <cp:revision>1</cp:revision>
  <dc:subject>第一范文网 www.DiYiFanWen.com</dc:subject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