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27" descr="2-3.png"/>
          <p:cNvPicPr/>
          <p:nvPr/>
        </p:nvPicPr>
        <p:blipFill>
          <a:blip r:embed="rId2"/>
          <a:stretch/>
        </p:blipFill>
        <p:spPr>
          <a:xfrm>
            <a:off x="-4932360" y="-4343400"/>
            <a:ext cx="9269280" cy="8319960"/>
          </a:xfrm>
          <a:prstGeom prst="rect">
            <a:avLst/>
          </a:prstGeom>
          <a:ln w="0">
            <a:noFill/>
          </a:ln>
        </p:spPr>
      </p:pic>
      <p:sp>
        <p:nvSpPr>
          <p:cNvPr id="40" name="矩形 4"/>
          <p:cNvSpPr/>
          <p:nvPr/>
        </p:nvSpPr>
        <p:spPr>
          <a:xfrm>
            <a:off x="1994040" y="2841480"/>
            <a:ext cx="5225760" cy="63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"/>
          <p:cNvSpPr/>
          <p:nvPr/>
        </p:nvSpPr>
        <p:spPr>
          <a:xfrm>
            <a:off x="2748600" y="16416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述职报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"/>
          <p:cNvGrpSpPr/>
          <p:nvPr/>
        </p:nvGrpSpPr>
        <p:grpSpPr>
          <a:xfrm>
            <a:off x="5818680" y="2139840"/>
            <a:ext cx="1450080" cy="536400"/>
            <a:chOff x="5818680" y="2139840"/>
            <a:chExt cx="1450080" cy="536400"/>
          </a:xfrm>
        </p:grpSpPr>
        <p:sp>
          <p:nvSpPr>
            <p:cNvPr id="43" name="矩形 10"/>
            <p:cNvSpPr/>
            <p:nvPr/>
          </p:nvSpPr>
          <p:spPr>
            <a:xfrm>
              <a:off x="6134400" y="2139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苛求完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1"/>
            <p:cNvSpPr/>
            <p:nvPr/>
          </p:nvSpPr>
          <p:spPr>
            <a:xfrm>
              <a:off x="5818680" y="2414880"/>
              <a:ext cx="145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aim for perf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12"/>
          <p:cNvSpPr/>
          <p:nvPr/>
        </p:nvSpPr>
        <p:spPr>
          <a:xfrm>
            <a:off x="4263120" y="297504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汇报人</a:t>
            </a:r>
            <a:r>
              <a:rPr b="1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: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3"/>
          <p:cNvSpPr/>
          <p:nvPr/>
        </p:nvSpPr>
        <p:spPr>
          <a:xfrm>
            <a:off x="5665320" y="2970360"/>
            <a:ext cx="13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9"/>
          <p:cNvSpPr/>
          <p:nvPr/>
        </p:nvSpPr>
        <p:spPr>
          <a:xfrm>
            <a:off x="2190240" y="300204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党支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4154760" y="36082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Loading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jiuxi\Desktop\6.png"/>
          <p:cNvPicPr/>
          <p:nvPr/>
        </p:nvPicPr>
        <p:blipFill>
          <a:blip r:embed="rId3"/>
          <a:stretch/>
        </p:blipFill>
        <p:spPr>
          <a:xfrm>
            <a:off x="3708360" y="356544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 rot="1499400">
            <a:off x="6415200" y="1712880"/>
            <a:ext cx="407880" cy="325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0" descr=""/>
          <p:cNvPicPr/>
          <p:nvPr/>
        </p:nvPicPr>
        <p:blipFill>
          <a:blip r:embed="rId5"/>
          <a:srcRect l="38081" t="8806" r="39716" b="0"/>
          <a:stretch/>
        </p:blipFill>
        <p:spPr>
          <a:xfrm>
            <a:off x="-25560" y="-65160"/>
            <a:ext cx="1030320" cy="104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jiuxi\Desktop\未标题-1.png"/>
          <p:cNvPicPr/>
          <p:nvPr/>
        </p:nvPicPr>
        <p:blipFill>
          <a:blip r:embed="rId6"/>
          <a:srcRect l="12968" t="-3169" r="23034" b="0"/>
          <a:stretch/>
        </p:blipFill>
        <p:spPr>
          <a:xfrm rot="315600">
            <a:off x="4963680" y="1308240"/>
            <a:ext cx="1808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2160" y="5554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述职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2" dur="12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1809720" y="1347840"/>
            <a:ext cx="665280" cy="213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846440" y="1627200"/>
            <a:ext cx="666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5"/>
          <p:cNvSpPr/>
          <p:nvPr/>
        </p:nvSpPr>
        <p:spPr>
          <a:xfrm>
            <a:off x="2575080" y="1347840"/>
            <a:ext cx="0" cy="213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3924360" y="1298520"/>
            <a:ext cx="3004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2754360" y="1249200"/>
            <a:ext cx="7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支部展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62" descr="2-3.png"/>
          <p:cNvPicPr/>
          <p:nvPr/>
        </p:nvPicPr>
        <p:blipFill>
          <a:blip r:embed="rId2"/>
          <a:stretch/>
        </p:blipFill>
        <p:spPr>
          <a:xfrm>
            <a:off x="787320" y="-1932120"/>
            <a:ext cx="7569360" cy="67932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54"/>
          <p:cNvGrpSpPr/>
          <p:nvPr/>
        </p:nvGrpSpPr>
        <p:grpSpPr>
          <a:xfrm>
            <a:off x="3875040" y="766800"/>
            <a:ext cx="1393920" cy="1393920"/>
            <a:chOff x="3875040" y="766800"/>
            <a:chExt cx="1393920" cy="1393920"/>
          </a:xfrm>
        </p:grpSpPr>
        <p:sp>
          <p:nvSpPr>
            <p:cNvPr id="183" name="椭圆 55"/>
            <p:cNvSpPr/>
            <p:nvPr/>
          </p:nvSpPr>
          <p:spPr>
            <a:xfrm>
              <a:off x="3875040" y="766800"/>
              <a:ext cx="1393920" cy="139392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56"/>
            <p:cNvSpPr/>
            <p:nvPr/>
          </p:nvSpPr>
          <p:spPr>
            <a:xfrm>
              <a:off x="3924720" y="816480"/>
              <a:ext cx="1294560" cy="1294560"/>
            </a:xfrm>
            <a:prstGeom prst="ellipse">
              <a:avLst/>
            </a:pr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57"/>
          <p:cNvSpPr/>
          <p:nvPr/>
        </p:nvSpPr>
        <p:spPr>
          <a:xfrm>
            <a:off x="3056040" y="2211480"/>
            <a:ext cx="3031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8"/>
          <p:cNvSpPr/>
          <p:nvPr/>
        </p:nvSpPr>
        <p:spPr>
          <a:xfrm>
            <a:off x="3527280" y="3422520"/>
            <a:ext cx="208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汇报人</a:t>
            </a:r>
            <a:r>
              <a:rPr b="1" lang="en-US" sz="24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: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9"/>
          <p:cNvSpPr/>
          <p:nvPr/>
        </p:nvSpPr>
        <p:spPr>
          <a:xfrm>
            <a:off x="3589200" y="3860640"/>
            <a:ext cx="1965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XXXX</a:t>
            </a:r>
            <a:r>
              <a:rPr b="1" lang="zh-CN" sz="2400" spc="-1" strike="noStrike">
                <a:solidFill>
                  <a:srgbClr val="ff0000"/>
                </a:solidFill>
                <a:latin typeface="时尚中黑简体"/>
                <a:ea typeface="时尚中黑简体"/>
              </a:rPr>
              <a:t>党支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60"/>
          <p:cNvSpPr/>
          <p:nvPr/>
        </p:nvSpPr>
        <p:spPr>
          <a:xfrm>
            <a:off x="3095640" y="3314880"/>
            <a:ext cx="2952720" cy="0"/>
          </a:xfrm>
          <a:prstGeom prst="line">
            <a:avLst/>
          </a:prstGeom>
          <a:ln w="9360">
            <a:solidFill>
              <a:srgbClr val="ff0000">
                <a:alpha val="7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30" descr=""/>
          <p:cNvPicPr/>
          <p:nvPr/>
        </p:nvPicPr>
        <p:blipFill>
          <a:blip r:embed="rId3"/>
          <a:srcRect l="38081" t="8801" r="39720" b="0"/>
          <a:stretch/>
        </p:blipFill>
        <p:spPr>
          <a:xfrm>
            <a:off x="4105440" y="990720"/>
            <a:ext cx="931680" cy="94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"/>
                            </p:stCondLst>
                            <p:childTnLst>
                              <p:par>
                                <p:cTn id="3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"/>
                            </p:stCondLst>
                            <p:childTnLst>
                              <p:par>
                                <p:cTn id="3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17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6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28" dur="12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梯形 1"/>
          <p:cNvSpPr/>
          <p:nvPr/>
        </p:nvSpPr>
        <p:spPr>
          <a:xfrm flipH="1" flipV="1" rot="5400000">
            <a:off x="1230120" y="1691280"/>
            <a:ext cx="3740040" cy="1749600"/>
          </a:xfrm>
          <a:custGeom>
            <a:avLst/>
            <a:gdLst>
              <a:gd name="textAreaLeft" fmla="*/ 567000 w 3740040"/>
              <a:gd name="textAreaRight" fmla="*/ 3173040 w 3740040"/>
              <a:gd name="textAreaTop" fmla="*/ 265320 h 1749600"/>
              <a:gd name="textAreaBottom" fmla="*/ 1484280 h 17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5" y="21600"/>
                </a:lnTo>
                <a:lnTo>
                  <a:pt x="2745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-227160" y="192420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aettenschweiler"/>
              </a:rPr>
              <a:t>CONT</a:t>
            </a: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43"/>
          <p:cNvGrpSpPr/>
          <p:nvPr/>
        </p:nvGrpSpPr>
        <p:grpSpPr>
          <a:xfrm>
            <a:off x="4400640" y="1415880"/>
            <a:ext cx="3771720" cy="502920"/>
            <a:chOff x="4400640" y="1415880"/>
            <a:chExt cx="3771720" cy="502920"/>
          </a:xfrm>
        </p:grpSpPr>
        <p:sp>
          <p:nvSpPr>
            <p:cNvPr id="58" name="Rectangle 6"/>
            <p:cNvSpPr/>
            <p:nvPr/>
          </p:nvSpPr>
          <p:spPr>
            <a:xfrm>
              <a:off x="4938480" y="1431000"/>
              <a:ext cx="20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支部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4785840" y="1618200"/>
              <a:ext cx="3386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0"/>
            <p:cNvSpPr/>
            <p:nvPr/>
          </p:nvSpPr>
          <p:spPr>
            <a:xfrm>
              <a:off x="7472520" y="1415880"/>
              <a:ext cx="53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49"/>
            <p:cNvSpPr/>
            <p:nvPr/>
          </p:nvSpPr>
          <p:spPr>
            <a:xfrm>
              <a:off x="6685200" y="1677600"/>
              <a:ext cx="60120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50"/>
            <p:cNvGrpSpPr/>
            <p:nvPr/>
          </p:nvGrpSpPr>
          <p:grpSpPr>
            <a:xfrm>
              <a:off x="4400640" y="1542240"/>
              <a:ext cx="509760" cy="333000"/>
              <a:chOff x="4400640" y="1542240"/>
              <a:chExt cx="509760" cy="333000"/>
            </a:xfrm>
          </p:grpSpPr>
          <p:sp>
            <p:nvSpPr>
              <p:cNvPr id="63" name="燕尾形 51"/>
              <p:cNvSpPr/>
              <p:nvPr/>
            </p:nvSpPr>
            <p:spPr>
              <a:xfrm>
                <a:off x="4611240" y="1542240"/>
                <a:ext cx="299160" cy="33300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燕尾形 52"/>
              <p:cNvSpPr/>
              <p:nvPr/>
            </p:nvSpPr>
            <p:spPr>
              <a:xfrm>
                <a:off x="4400640" y="1542240"/>
                <a:ext cx="299160" cy="33300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组合 55"/>
          <p:cNvGrpSpPr/>
          <p:nvPr/>
        </p:nvGrpSpPr>
        <p:grpSpPr>
          <a:xfrm>
            <a:off x="4400640" y="2065320"/>
            <a:ext cx="3771720" cy="502920"/>
            <a:chOff x="4400640" y="2065320"/>
            <a:chExt cx="3771720" cy="502920"/>
          </a:xfrm>
        </p:grpSpPr>
        <p:sp>
          <p:nvSpPr>
            <p:cNvPr id="66" name="Rectangle 6"/>
            <p:cNvSpPr/>
            <p:nvPr/>
          </p:nvSpPr>
          <p:spPr>
            <a:xfrm>
              <a:off x="4938480" y="2080440"/>
              <a:ext cx="20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支部活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0"/>
            <p:cNvSpPr/>
            <p:nvPr/>
          </p:nvSpPr>
          <p:spPr>
            <a:xfrm>
              <a:off x="4785840" y="2267640"/>
              <a:ext cx="3386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0"/>
            <p:cNvSpPr/>
            <p:nvPr/>
          </p:nvSpPr>
          <p:spPr>
            <a:xfrm>
              <a:off x="7472520" y="2065320"/>
              <a:ext cx="411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59"/>
            <p:cNvSpPr/>
            <p:nvPr/>
          </p:nvSpPr>
          <p:spPr>
            <a:xfrm>
              <a:off x="6685200" y="2327040"/>
              <a:ext cx="60120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组合 60"/>
            <p:cNvGrpSpPr/>
            <p:nvPr/>
          </p:nvGrpSpPr>
          <p:grpSpPr>
            <a:xfrm>
              <a:off x="4400640" y="2191680"/>
              <a:ext cx="509760" cy="332640"/>
              <a:chOff x="4400640" y="2191680"/>
              <a:chExt cx="509760" cy="332640"/>
            </a:xfrm>
          </p:grpSpPr>
          <p:sp>
            <p:nvSpPr>
              <p:cNvPr id="71" name="燕尾形 61"/>
              <p:cNvSpPr/>
              <p:nvPr/>
            </p:nvSpPr>
            <p:spPr>
              <a:xfrm>
                <a:off x="4611240" y="219168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62"/>
              <p:cNvSpPr/>
              <p:nvPr/>
            </p:nvSpPr>
            <p:spPr>
              <a:xfrm>
                <a:off x="4400640" y="219168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组合 63"/>
          <p:cNvGrpSpPr/>
          <p:nvPr/>
        </p:nvGrpSpPr>
        <p:grpSpPr>
          <a:xfrm>
            <a:off x="4400640" y="2714760"/>
            <a:ext cx="3771720" cy="502920"/>
            <a:chOff x="4400640" y="2714760"/>
            <a:chExt cx="3771720" cy="502920"/>
          </a:xfrm>
        </p:grpSpPr>
        <p:sp>
          <p:nvSpPr>
            <p:cNvPr id="74" name="Rectangle 6"/>
            <p:cNvSpPr/>
            <p:nvPr/>
          </p:nvSpPr>
          <p:spPr>
            <a:xfrm>
              <a:off x="4938480" y="2729880"/>
              <a:ext cx="20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支部总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0"/>
            <p:cNvSpPr/>
            <p:nvPr/>
          </p:nvSpPr>
          <p:spPr>
            <a:xfrm>
              <a:off x="4785840" y="2917080"/>
              <a:ext cx="3386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0"/>
            <p:cNvSpPr/>
            <p:nvPr/>
          </p:nvSpPr>
          <p:spPr>
            <a:xfrm>
              <a:off x="7472520" y="2714760"/>
              <a:ext cx="53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67"/>
            <p:cNvSpPr/>
            <p:nvPr/>
          </p:nvSpPr>
          <p:spPr>
            <a:xfrm>
              <a:off x="6685200" y="2976480"/>
              <a:ext cx="60120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组合 68"/>
            <p:cNvGrpSpPr/>
            <p:nvPr/>
          </p:nvGrpSpPr>
          <p:grpSpPr>
            <a:xfrm>
              <a:off x="4400640" y="2841120"/>
              <a:ext cx="509760" cy="332640"/>
              <a:chOff x="4400640" y="2841120"/>
              <a:chExt cx="509760" cy="332640"/>
            </a:xfrm>
          </p:grpSpPr>
          <p:sp>
            <p:nvSpPr>
              <p:cNvPr id="79" name="燕尾形 69"/>
              <p:cNvSpPr/>
              <p:nvPr/>
            </p:nvSpPr>
            <p:spPr>
              <a:xfrm>
                <a:off x="4611240" y="284112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燕尾形 70"/>
              <p:cNvSpPr/>
              <p:nvPr/>
            </p:nvSpPr>
            <p:spPr>
              <a:xfrm>
                <a:off x="4400640" y="284112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" name="组合 71"/>
          <p:cNvGrpSpPr/>
          <p:nvPr/>
        </p:nvGrpSpPr>
        <p:grpSpPr>
          <a:xfrm>
            <a:off x="4400640" y="3363840"/>
            <a:ext cx="3771720" cy="502920"/>
            <a:chOff x="4400640" y="3363840"/>
            <a:chExt cx="3771720" cy="502920"/>
          </a:xfrm>
        </p:grpSpPr>
        <p:sp>
          <p:nvSpPr>
            <p:cNvPr id="82" name="Rectangle 6"/>
            <p:cNvSpPr/>
            <p:nvPr/>
          </p:nvSpPr>
          <p:spPr>
            <a:xfrm>
              <a:off x="4938480" y="3378960"/>
              <a:ext cx="20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支部展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4785840" y="3566160"/>
              <a:ext cx="3386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00"/>
            <p:cNvSpPr/>
            <p:nvPr/>
          </p:nvSpPr>
          <p:spPr>
            <a:xfrm>
              <a:off x="7472520" y="3363840"/>
              <a:ext cx="53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75"/>
            <p:cNvSpPr/>
            <p:nvPr/>
          </p:nvSpPr>
          <p:spPr>
            <a:xfrm>
              <a:off x="6685200" y="3625560"/>
              <a:ext cx="60120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组合 76"/>
            <p:cNvGrpSpPr/>
            <p:nvPr/>
          </p:nvGrpSpPr>
          <p:grpSpPr>
            <a:xfrm>
              <a:off x="4400640" y="3490200"/>
              <a:ext cx="509760" cy="332640"/>
              <a:chOff x="4400640" y="3490200"/>
              <a:chExt cx="509760" cy="332640"/>
            </a:xfrm>
          </p:grpSpPr>
          <p:sp>
            <p:nvSpPr>
              <p:cNvPr id="87" name="燕尾形 77"/>
              <p:cNvSpPr/>
              <p:nvPr/>
            </p:nvSpPr>
            <p:spPr>
              <a:xfrm>
                <a:off x="4611240" y="349020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燕尾形 78"/>
              <p:cNvSpPr/>
              <p:nvPr/>
            </p:nvSpPr>
            <p:spPr>
              <a:xfrm>
                <a:off x="4400640" y="3490200"/>
                <a:ext cx="299160" cy="33264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809720" y="1347840"/>
            <a:ext cx="665280" cy="213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3924360" y="1298520"/>
            <a:ext cx="3004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913040" y="1650960"/>
            <a:ext cx="666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"/>
          <p:cNvSpPr/>
          <p:nvPr/>
        </p:nvSpPr>
        <p:spPr>
          <a:xfrm>
            <a:off x="2575080" y="1347840"/>
            <a:ext cx="0" cy="213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754360" y="1249200"/>
            <a:ext cx="7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支部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687240" y="544680"/>
            <a:ext cx="1884600" cy="59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687240" y="2427120"/>
            <a:ext cx="2603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979560" y="520560"/>
            <a:ext cx="12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"/>
          <p:cNvSpPr/>
          <p:nvPr/>
        </p:nvSpPr>
        <p:spPr>
          <a:xfrm>
            <a:off x="687240" y="1298520"/>
            <a:ext cx="18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20640" y="141912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支部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564000" y="961920"/>
            <a:ext cx="4790880" cy="3194280"/>
            <a:chOff x="3564000" y="961920"/>
            <a:chExt cx="4790880" cy="3194280"/>
          </a:xfrm>
        </p:grpSpPr>
        <p:sp>
          <p:nvSpPr>
            <p:cNvPr id="102" name=""/>
            <p:cNvSpPr/>
            <p:nvPr/>
          </p:nvSpPr>
          <p:spPr>
            <a:xfrm>
              <a:off x="5914080" y="1843560"/>
              <a:ext cx="994320" cy="276840"/>
            </a:xfrm>
            <a:custGeom>
              <a:avLst/>
              <a:gdLst>
                <a:gd name="textAreaLeft" fmla="*/ 0 w 994320"/>
                <a:gd name="textAreaRight" fmla="*/ 994680 w 9943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993296" h="227555">
                  <a:moveTo>
                    <a:pt x="0" y="0"/>
                  </a:moveTo>
                  <a:lnTo>
                    <a:pt x="0" y="114680"/>
                  </a:lnTo>
                  <a:lnTo>
                    <a:pt x="993296" y="114680"/>
                  </a:lnTo>
                  <a:lnTo>
                    <a:pt x="993296" y="227555"/>
                  </a:lnTo>
                </a:path>
              </a:pathLst>
            </a:custGeom>
            <a:noFill/>
            <a:ln w="25560">
              <a:solidFill>
                <a:srgbClr val="9cb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19760" y="2999880"/>
              <a:ext cx="994320" cy="276840"/>
            </a:xfrm>
            <a:custGeom>
              <a:avLst/>
              <a:gdLst>
                <a:gd name="textAreaLeft" fmla="*/ 0 w 994320"/>
                <a:gd name="textAreaRight" fmla="*/ 994680 w 9943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993296" h="227555">
                  <a:moveTo>
                    <a:pt x="0" y="0"/>
                  </a:moveTo>
                  <a:lnTo>
                    <a:pt x="0" y="114680"/>
                  </a:lnTo>
                  <a:lnTo>
                    <a:pt x="993296" y="114680"/>
                  </a:lnTo>
                  <a:lnTo>
                    <a:pt x="993296" y="227555"/>
                  </a:lnTo>
                </a:path>
              </a:pathLst>
            </a:custGeom>
            <a:noFill/>
            <a:ln w="25560">
              <a:solidFill>
                <a:srgbClr val="b5cb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25440" y="2999880"/>
              <a:ext cx="994320" cy="276840"/>
            </a:xfrm>
            <a:custGeom>
              <a:avLst/>
              <a:gdLst>
                <a:gd name="textAreaLeft" fmla="*/ 0 w 994320"/>
                <a:gd name="textAreaRight" fmla="*/ 994680 w 9943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993296" h="227555">
                  <a:moveTo>
                    <a:pt x="993296" y="0"/>
                  </a:moveTo>
                  <a:lnTo>
                    <a:pt x="993296" y="114680"/>
                  </a:lnTo>
                  <a:lnTo>
                    <a:pt x="0" y="114680"/>
                  </a:lnTo>
                  <a:lnTo>
                    <a:pt x="0" y="227555"/>
                  </a:lnTo>
                </a:path>
              </a:pathLst>
            </a:custGeom>
            <a:noFill/>
            <a:ln w="25560">
              <a:solidFill>
                <a:srgbClr val="b5cb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19760" y="1843560"/>
              <a:ext cx="994320" cy="276840"/>
            </a:xfrm>
            <a:custGeom>
              <a:avLst/>
              <a:gdLst>
                <a:gd name="textAreaLeft" fmla="*/ 0 w 994320"/>
                <a:gd name="textAreaRight" fmla="*/ 994680 w 99432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993296" h="227555">
                  <a:moveTo>
                    <a:pt x="993296" y="0"/>
                  </a:moveTo>
                  <a:lnTo>
                    <a:pt x="993296" y="114680"/>
                  </a:lnTo>
                  <a:lnTo>
                    <a:pt x="0" y="114680"/>
                  </a:lnTo>
                  <a:lnTo>
                    <a:pt x="0" y="227555"/>
                  </a:lnTo>
                </a:path>
              </a:pathLst>
            </a:custGeom>
            <a:noFill/>
            <a:ln w="25560">
              <a:solidFill>
                <a:srgbClr val="9cb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52640" y="964080"/>
              <a:ext cx="722880" cy="879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5880" y="96192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75880" y="96192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书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8320" y="2120400"/>
              <a:ext cx="722880" cy="879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81560" y="211824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81560" y="211824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组委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4000" y="3277080"/>
              <a:ext cx="722880" cy="879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86880" y="327456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86880" y="327456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XX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52640" y="3277080"/>
              <a:ext cx="722880" cy="879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75880" y="327456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5880" y="327456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XX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6960" y="2120400"/>
              <a:ext cx="722880" cy="879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0200" y="211824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70200" y="2118240"/>
              <a:ext cx="108468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时尚中黑简体"/>
                  <a:ea typeface="时尚中黑简体"/>
                </a:rPr>
                <a:t>宣委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9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1809720" y="1347840"/>
            <a:ext cx="665280" cy="213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913040" y="1627200"/>
            <a:ext cx="666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5"/>
          <p:cNvSpPr/>
          <p:nvPr/>
        </p:nvSpPr>
        <p:spPr>
          <a:xfrm>
            <a:off x="2575080" y="1347840"/>
            <a:ext cx="0" cy="213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3924360" y="1298520"/>
            <a:ext cx="3004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754360" y="1249200"/>
            <a:ext cx="7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支部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687240" y="544680"/>
            <a:ext cx="1884600" cy="59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588960" y="2427120"/>
            <a:ext cx="2327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979560" y="520560"/>
            <a:ext cx="12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5"/>
          <p:cNvSpPr/>
          <p:nvPr/>
        </p:nvSpPr>
        <p:spPr>
          <a:xfrm>
            <a:off x="687240" y="1298520"/>
            <a:ext cx="18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620640" y="141912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党日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3240000" y="1440000"/>
            <a:ext cx="5040360" cy="28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1"/>
          <p:cNvGrpSpPr/>
          <p:nvPr/>
        </p:nvGrpSpPr>
        <p:grpSpPr>
          <a:xfrm>
            <a:off x="5135400" y="816120"/>
            <a:ext cx="1465560" cy="276480"/>
            <a:chOff x="5135400" y="816120"/>
            <a:chExt cx="1465560" cy="276480"/>
          </a:xfrm>
        </p:grpSpPr>
        <p:sp>
          <p:nvSpPr>
            <p:cNvPr id="135" name="矩形 12"/>
            <p:cNvSpPr/>
            <p:nvPr/>
          </p:nvSpPr>
          <p:spPr>
            <a:xfrm>
              <a:off x="5135400" y="844560"/>
              <a:ext cx="1465560" cy="22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1"/>
            <p:cNvSpPr/>
            <p:nvPr/>
          </p:nvSpPr>
          <p:spPr>
            <a:xfrm flipH="1">
              <a:off x="5373360" y="816120"/>
              <a:ext cx="98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6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687240" y="544680"/>
            <a:ext cx="1884600" cy="59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588960" y="2427120"/>
            <a:ext cx="2327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979560" y="520560"/>
            <a:ext cx="12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"/>
          <p:cNvSpPr/>
          <p:nvPr/>
        </p:nvSpPr>
        <p:spPr>
          <a:xfrm>
            <a:off x="687240" y="1298520"/>
            <a:ext cx="18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20640" y="141912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党员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1"/>
          <p:cNvGrpSpPr/>
          <p:nvPr/>
        </p:nvGrpSpPr>
        <p:grpSpPr>
          <a:xfrm>
            <a:off x="5135400" y="816120"/>
            <a:ext cx="1465560" cy="276480"/>
            <a:chOff x="5135400" y="816120"/>
            <a:chExt cx="1465560" cy="276480"/>
          </a:xfrm>
        </p:grpSpPr>
        <p:sp>
          <p:nvSpPr>
            <p:cNvPr id="144" name="矩形 12"/>
            <p:cNvSpPr/>
            <p:nvPr/>
          </p:nvSpPr>
          <p:spPr>
            <a:xfrm>
              <a:off x="5135400" y="844560"/>
              <a:ext cx="1465560" cy="229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1"/>
            <p:cNvSpPr/>
            <p:nvPr/>
          </p:nvSpPr>
          <p:spPr>
            <a:xfrm flipH="1">
              <a:off x="5373360" y="816120"/>
              <a:ext cx="98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时尚中黑简体"/>
                  <a:ea typeface="时尚中黑简体"/>
                </a:rPr>
                <a:t>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14"/>
          <p:cNvSpPr/>
          <p:nvPr/>
        </p:nvSpPr>
        <p:spPr>
          <a:xfrm>
            <a:off x="3240000" y="1440000"/>
            <a:ext cx="5040360" cy="28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371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1809720" y="1347840"/>
            <a:ext cx="665280" cy="213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1913040" y="1627200"/>
            <a:ext cx="666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5"/>
          <p:cNvSpPr/>
          <p:nvPr/>
        </p:nvSpPr>
        <p:spPr>
          <a:xfrm>
            <a:off x="2575080" y="1347840"/>
            <a:ext cx="0" cy="213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3924360" y="1298520"/>
            <a:ext cx="3004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754360" y="1249200"/>
            <a:ext cx="7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支部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687240" y="544680"/>
            <a:ext cx="1884600" cy="59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558720" y="2571840"/>
            <a:ext cx="26035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            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979560" y="520560"/>
            <a:ext cx="12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5"/>
          <p:cNvSpPr/>
          <p:nvPr/>
        </p:nvSpPr>
        <p:spPr>
          <a:xfrm>
            <a:off x="687240" y="1298520"/>
            <a:ext cx="188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307800" y="349200"/>
            <a:ext cx="8528400" cy="444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620640" y="141912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数据呈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9"/>
          <p:cNvSpPr/>
          <p:nvPr/>
        </p:nvSpPr>
        <p:spPr>
          <a:xfrm>
            <a:off x="5580000" y="1787400"/>
            <a:ext cx="2644920" cy="251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0"/>
          <p:cNvSpPr/>
          <p:nvPr/>
        </p:nvSpPr>
        <p:spPr>
          <a:xfrm>
            <a:off x="6033960" y="1712880"/>
            <a:ext cx="1614600" cy="15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1"/>
          <p:cNvSpPr/>
          <p:nvPr/>
        </p:nvSpPr>
        <p:spPr>
          <a:xfrm>
            <a:off x="6281640" y="1379520"/>
            <a:ext cx="1096920" cy="1079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6556320" y="863640"/>
            <a:ext cx="539640" cy="5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3"/>
          <p:cNvSpPr/>
          <p:nvPr/>
        </p:nvSpPr>
        <p:spPr>
          <a:xfrm>
            <a:off x="4876920" y="3579840"/>
            <a:ext cx="703080" cy="1440"/>
          </a:xfrm>
          <a:prstGeom prst="line">
            <a:avLst/>
          </a:prstGeom>
          <a:ln w="9360">
            <a:solidFill>
              <a:srgbClr val="ff0000">
                <a:alpha val="7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4"/>
          <p:cNvSpPr/>
          <p:nvPr/>
        </p:nvSpPr>
        <p:spPr>
          <a:xfrm>
            <a:off x="5470560" y="2755800"/>
            <a:ext cx="536400" cy="1800"/>
          </a:xfrm>
          <a:prstGeom prst="line">
            <a:avLst/>
          </a:prstGeom>
          <a:ln w="9360">
            <a:solidFill>
              <a:srgbClr val="ff0000">
                <a:alpha val="7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5"/>
          <p:cNvSpPr/>
          <p:nvPr/>
        </p:nvSpPr>
        <p:spPr>
          <a:xfrm>
            <a:off x="5927760" y="2109960"/>
            <a:ext cx="444600" cy="0"/>
          </a:xfrm>
          <a:prstGeom prst="line">
            <a:avLst/>
          </a:prstGeom>
          <a:ln w="9360">
            <a:solidFill>
              <a:srgbClr val="ff0000">
                <a:alpha val="7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26"/>
          <p:cNvSpPr/>
          <p:nvPr/>
        </p:nvSpPr>
        <p:spPr>
          <a:xfrm>
            <a:off x="6173640" y="1558800"/>
            <a:ext cx="595440" cy="0"/>
          </a:xfrm>
          <a:prstGeom prst="line">
            <a:avLst/>
          </a:prstGeom>
          <a:ln w="9360">
            <a:solidFill>
              <a:srgbClr val="ff0000">
                <a:alpha val="7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4819680" y="1373040"/>
            <a:ext cx="1301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8"/>
          <p:cNvSpPr/>
          <p:nvPr/>
        </p:nvSpPr>
        <p:spPr>
          <a:xfrm>
            <a:off x="4500720" y="1924200"/>
            <a:ext cx="1301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9"/>
          <p:cNvSpPr/>
          <p:nvPr/>
        </p:nvSpPr>
        <p:spPr>
          <a:xfrm>
            <a:off x="4132440" y="2571840"/>
            <a:ext cx="1301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0"/>
          <p:cNvSpPr/>
          <p:nvPr/>
        </p:nvSpPr>
        <p:spPr>
          <a:xfrm>
            <a:off x="3575160" y="3319560"/>
            <a:ext cx="1301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8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8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5:24:00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3:00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