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1CA-D6C5-4032-AE85-BCCFB8B0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BF8-D443-4C5F-8F8A-CA91591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6AC-69A5-4403-B25C-4F28772D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00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46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00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575-6ADE-4E00-B0A7-62EC2258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448F-2520-4BB5-95F8-03B44304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63B4-74A2-4978-8A53-EBF8CC01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9A38-0A05-40C3-BB3B-5B347E04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7EC2-891F-4420-991E-0993B6C9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97B4-789C-49B9-B6C6-079642D2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80D0-65E0-4254-B01C-DAF4DB0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6469-0A06-4A59-93A5-510EA95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7D7-74A4-4181-9376-DA9680CC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1A2-C2CE-4956-8F22-10AC85B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0AE6-9F06-4346-B7DC-EB321BC4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34E-F4E6-4508-AD43-3CDD3CC0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1F8-6C3F-41CA-B85D-4CCB00FC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700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46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700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66FC-D4FB-4E50-ABFA-47D8B762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C7D-F74D-4230-81AF-4DFA44F5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5B2-7609-43A1-9B4F-945F4ED9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9D3-E3F3-4672-AA0A-62BD775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217-D3A6-49BD-BDAB-B4E17DAB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DE9-C1BC-43B2-8105-98E5081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5DE-F0D1-432F-A106-8524B4E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28B-12CC-478A-8D96-31C599A5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775f55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775f5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775f5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775f5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e8d19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33520" y="0"/>
            <a:ext cx="8610480" cy="2286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371600" y="6232680"/>
            <a:ext cx="1752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32680"/>
            <a:ext cx="4753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6232680"/>
            <a:ext cx="838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6D47-5494-47AA-90FD-CCDD971FD61D}" type="slidenum"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4038480"/>
            <a:ext cx="9144000" cy="19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4111560"/>
            <a:ext cx="1371600" cy="177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371600" y="4111560"/>
            <a:ext cx="7772400" cy="17766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bddc3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ebddc3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ebddc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ebddc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ebddc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371600" y="6232680"/>
            <a:ext cx="1752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040" y="6232680"/>
            <a:ext cx="4753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6232680"/>
            <a:ext cx="838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2CD-6BDC-49FD-A81C-B9509F3A6D8F}" type="slidenum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190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团队交谈会议</a:t>
            </a:r>
            <a:r>
              <a:rPr b="0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模板免费下载</a:t>
            </a:r>
            <a:endParaRPr b="0" lang="en-US" sz="4000" spc="-1" strike="noStrike">
              <a:solidFill>
                <a:srgbClr val="ebddc3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52574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cdb3"/>
                </a:solidFill>
                <a:latin typeface="Georgia"/>
                <a:ea typeface="宋体"/>
              </a:rPr>
              <a:t>Company Nam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tate the purpose of teamwork and objectives of this presentatio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Purpose and Objectiv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1176480" y="1719360"/>
            <a:ext cx="7175520" cy="4236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Team Organization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tate roles and responsibil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Roles and Responsibiliti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33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7b615"/>
                </a:solidFill>
                <a:uFillTx/>
                <a:latin typeface="Georgia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Describe individual and team areas for growth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Areas For Growth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Describe team building exercis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Team Building Exercis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vite discussion for best practic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Best Practic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75f55"/>
                </a:solidFill>
                <a:latin typeface="Georgia"/>
              </a:rPr>
              <a:t>使用规范说明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eorgi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405-C76B-4247-A378-9A5284609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commend one or more strateg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uggest what to do nex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dentify action item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Recommendation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1:02Z</dcterms:created>
  <dc:creator>www.eeppt.com</dc:creator>
  <dc:description/>
  <cp:keywords>www.eeppt.com</cp:keywords>
  <dc:language>en-US</dc:language>
  <cp:lastModifiedBy>ABC</cp:lastModifiedBy>
  <dcterms:modified xsi:type="dcterms:W3CDTF">2015-08-11T14:21:41Z</dcterms:modified>
  <cp:revision>4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2282701033</vt:lpwstr>
  </property>
</Properties>
</file>