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D91-E722-462C-9389-D332454C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EB9-3CB5-47EA-84E4-7172530A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09E-843C-40B4-9F1C-B2953925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B58-FB07-4048-803D-393D069C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4A3-6E02-40F1-BDEA-D5E0E193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BC7-FE56-4543-934D-1DA58F70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CBE-11E6-4F59-9F19-0836B29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2BA-A994-4721-AECE-7922917A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FC2-DFC3-4F5D-8C07-BC8CC4AB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64D-0E5A-43BF-9B62-11DDD7E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A00-2D41-4BF6-A83C-1AA0B79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307-9977-4FB3-B8BF-AD3A0234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81C-D079-43BC-AE55-76859340FD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5D71-386D-4562-8752-8F3416050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ice_Using Twitter to Get a Tech Job_V5_Cover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9960" y="482760"/>
            <a:ext cx="776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twitter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软件介绍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Dice_Using Twitter to Get a Tech Job_V5-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181-B751-4F40-9AD9-7674866B18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Dice_Using Twitter to Get a Tech Job_V5-1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2174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251-12E2-4688-93D1-F36173BD9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Dice_Using Twitter to Get a Tech Job_V5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441-1185-49F3-B92E-BAE9091E7E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Dice_Using Twitter to Get a Tech Job_V5-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340-04B2-4F0B-A5BD-DAA44E843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Dice_Using Twitter to Get a Tech Job_V5-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9BC-EF2B-49C1-8D5B-469BD84799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ice_Using Twitter to Get a Tech Job_V5-1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4BF-CD84-4379-835D-FD692421CD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Dice_Using Twitter to Get a Tech Job_V5-1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3C5-D2B0-45A9-8656-ED71DD6E1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Dice_Using Twitter to Get a Tech Job_V5-1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909-3074-4580-ABA6-C7405181E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Dice_Using Twitter to Get a Tech Job_V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46E-4EBD-4A59-B35F-2A2C5DFB6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Dice_Using Twitter to Get a Tech Job_V5-1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F3D-CB1C-40EF-B871-85C83F2A99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ice_Using Twitter to Get a Tech Job_V5-0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D2B-0D41-4EC8-9666-86ECCD3F5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ice_Using Twitter to Get a Tech Job_V5-2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1FE-9F9C-4E2B-942D-71865DD79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CC5-3798-46D8-85B6-DD9A8D31DD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ice_Using Twitter to Get a Tech Job_V5-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1C9-8440-4DD1-939E-C301B62A14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ice_Using Twitter to Get a Tech Job_V5-0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2D1-FDD2-410C-8413-9C21EFE55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ce_Using Twitter to Get a Tech Job_V5-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765-8FA0-4528-A7FB-84D15BA456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ice_Using Twitter to Get a Tech Job_V5-0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3F6-F922-4F0D-8EBF-1BBECD3562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ice_Using Twitter to Get a Tech Job_V5-0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138"/>
          <p:cNvSpPr/>
          <p:nvPr/>
        </p:nvSpPr>
        <p:spPr>
          <a:xfrm>
            <a:off x="576360" y="5940360"/>
            <a:ext cx="7997760" cy="0"/>
          </a:xfrm>
          <a:prstGeom prst="line">
            <a:avLst/>
          </a:prstGeom>
          <a:ln w="32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A66-5EE0-4C23-B482-6F9026AF4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ice_Using Twitter to Get a Tech Job_V5-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437-DB6E-407A-92EB-C6EC7D211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Dice_Using Twitter to Get a Tech Job_V5-0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92F-ADE2-42E5-923A-CD7055DD0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ice_Using Twitter to Get a Tech Job_V5-09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agline-01.png"/>
          <p:cNvPicPr/>
          <p:nvPr/>
        </p:nvPicPr>
        <p:blipFill>
          <a:blip r:embed="rId2"/>
          <a:stretch/>
        </p:blipFill>
        <p:spPr>
          <a:xfrm>
            <a:off x="539640" y="6210360"/>
            <a:ext cx="3303720" cy="334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206360" y="2273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883-D53C-4CE1-9BC0-30FC78872A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4:55:00Z</dcterms:created>
  <dc:creator>www.eeppt.com</dc:creator>
  <dc:description>www.eeppt.com</dc:description>
  <dc:language>en-US</dc:language>
  <cp:lastModifiedBy>YANGS</cp:lastModifiedBy>
  <cp:lastPrinted>2013-08-28T17:29:00Z</cp:lastPrinted>
  <dcterms:modified xsi:type="dcterms:W3CDTF">2015-08-11T14:20:27Z</dcterms:modified>
  <cp:revision>67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