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451-608A-4AA9-9D1D-1C20CC84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EAE-C569-4BCD-9E7A-B5A83799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853-DADD-4484-A022-C0F8791F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4D7-D4A8-43EC-93AE-14CD3569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A4F6-6D05-4C1A-8389-77F61824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521-B1EE-49B5-98C5-18ABC190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064-4476-475E-BE3B-D3149F9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CDAC-1DFD-4ED8-A463-ED1F2B7F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8B1-1B5B-4723-BF08-FC91A43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0299-7215-403B-8B19-CBC6697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B283-3E22-4694-933E-BBAE9D1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A27-242E-4055-90EC-83F68D05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11F-5874-4971-BB0D-2EE8E7C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2619-4C37-4D03-941F-8B1201A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6C0A-E7DF-495F-BE45-B0ED7086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4707-A6ED-49D1-902B-F70F5461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9DB-10AF-47DE-B6B2-8034A4AE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2C1E-1AB6-4D8F-82C3-0A4BDCBB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E062-BA1D-400D-ABD8-B2E3D0F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B988-6EEB-44D9-8D19-E0934AC8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4E7C-845E-4298-8C00-92E81AA4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95F8-58FC-4214-AB5A-A48C28E6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AA9-E910-4BB7-8E85-2AAE9F7D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DF08-97A2-4E30-91F1-D868F126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36F2-25DE-4EDB-A395-CBD533A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4FC8-DC81-4A64-B522-F7CAEE4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26D9-F963-461B-B806-A579A57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7E51-147C-4D82-99FB-FF8B517D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E3C7-B4C8-4E6C-B433-68C7AAC7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41E4-CD99-4369-9106-85242A76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2FF1-ED14-4D75-8CDA-F4DD3562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A12A-3785-4CBF-8263-3EC9498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DD37-9480-4AB7-8A02-9CE8ED4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AA6-8746-459E-9C9A-D4A5B093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941B-D821-4F74-98EC-9CC13399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D8C7-2CFC-4841-BF6F-53FC4EB6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BDB5-C09E-442D-84DE-A8C21472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317A-1BEF-408A-8A01-7272277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14EB-0B68-4DC6-BC5D-3BA87DD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2B07-C882-4FC4-99C9-76BA3A2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67A9-9E6F-46B2-B877-D0465BE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8F881-A90A-4AED-8E89-8F7E48C0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5914-93B5-4EE9-A1EA-7D550417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88B-1AC5-43BE-9ADF-E88C663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C96-8D02-4314-BAED-D3C521A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ABF-9ACA-4D7D-879D-D898058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8B9-A29E-4B99-ACF7-0B501C0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A63-4FD6-4363-9FBB-39CDD0D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16040" y="5002200"/>
            <a:ext cx="3801960" cy="1442880"/>
          </a:xfrm>
          <a:prstGeom prst="rect">
            <a:avLst/>
          </a:prstGeom>
          <a:solidFill>
            <a:srgbClr val="9dcadc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-47520" y="5784840"/>
            <a:ext cx="379548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3"/>
          <p:cNvSpPr/>
          <p:nvPr/>
        </p:nvSpPr>
        <p:spPr>
          <a:xfrm>
            <a:off x="-1440" y="5791320"/>
            <a:ext cx="339876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4"/>
          <p:cNvSpPr/>
          <p:nvPr/>
        </p:nvSpPr>
        <p:spPr>
          <a:xfrm>
            <a:off x="-4680" y="5788080"/>
            <a:ext cx="340200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BE10-BCF0-4F41-97CD-716A74EB4AB5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0" y="-25560"/>
          <a:ext cx="91440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E40-98FE-47C0-833A-B16ECC69DE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-25560"/>
          <a:ext cx="91440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9C8-962D-4CA0-8F0E-7A3EB3338E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-25560"/>
          <a:ext cx="91440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5D87-A7AA-4D03-9557-9A974AEE52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"/>
          <p:cNvPicPr/>
          <p:nvPr/>
        </p:nvPicPr>
        <p:blipFill>
          <a:blip r:embed="rId1"/>
          <a:stretch/>
        </p:blipFill>
        <p:spPr>
          <a:xfrm>
            <a:off x="-17640" y="3357720"/>
            <a:ext cx="461988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593"/>
              </a:gs>
              <a:gs pos="50000">
                <a:srgbClr val="48bae0"/>
              </a:gs>
              <a:gs pos="100000">
                <a:srgbClr val="007593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4941720"/>
            <a:ext cx="9144000" cy="1911600"/>
            <a:chOff x="0" y="4941720"/>
            <a:chExt cx="9144000" cy="1911600"/>
          </a:xfrm>
        </p:grpSpPr>
        <p:sp>
          <p:nvSpPr>
            <p:cNvPr id="177" name=""/>
            <p:cNvSpPr txBox="1"/>
            <p:nvPr/>
          </p:nvSpPr>
          <p:spPr>
            <a:xfrm>
              <a:off x="1690560" y="4941720"/>
              <a:ext cx="7453440" cy="487800"/>
            </a:xfrm>
            <a:prstGeom prst="rect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8880" y="5226120"/>
              <a:ext cx="9105120" cy="78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600" y="4989600"/>
              <a:ext cx="9140400" cy="186372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tile tx="0" ty="0" sx="100000" sy="100000" algn="ctr"/>
            </a:blip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1"/>
            <p:cNvSpPr/>
            <p:nvPr/>
          </p:nvSpPr>
          <p:spPr>
            <a:xfrm>
              <a:off x="0" y="4986360"/>
              <a:ext cx="914400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82360" y="19875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究生开题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3.1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理论基础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聚类分析法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哈夫模型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禁忌搜索法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917440" y="152280"/>
            <a:ext cx="2895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华文琥珀"/>
                <a:ea typeface="华文琥珀"/>
              </a:rPr>
              <a:t>3.2</a:t>
            </a:r>
            <a:r>
              <a:rPr b="1" lang="zh-CN" sz="3200" spc="-1" strike="noStrike">
                <a:solidFill>
                  <a:srgbClr val="1d528d"/>
                </a:solidFill>
                <a:latin typeface="华文琥珀"/>
                <a:ea typeface="华文琥珀"/>
              </a:rPr>
              <a:t>研究方法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380880" y="19375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彩云"/>
                <a:ea typeface="华文彩云"/>
              </a:rPr>
              <a:t>实地调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华文彩云"/>
              </a:rPr>
              <a:t>通过对新发地的实地调研，了解新发地现有农产品配送模式，以及电子商务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彩云"/>
                <a:ea typeface="华文彩云"/>
              </a:rPr>
              <a:t>文献分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通过对文献的查阅与分析，理解国内外现有农产品电子商务平台下的配送模式与网络的优化。掌握网点设置与网络优化的研究模型与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彩云"/>
                <a:ea typeface="华文彩云"/>
              </a:rPr>
              <a:t>模型研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运用哈夫模型与禁忌搜索法等模型，完成基于电子商务平台下的配送网点的设置与配送网络的优化</a:t>
            </a:r>
            <a:r>
              <a:rPr b="0" lang="zh-CN" sz="2400" spc="-1" strike="noStrike">
                <a:solidFill>
                  <a:srgbClr val="1d528d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华文琥珀"/>
                <a:ea typeface="华文琥珀"/>
              </a:rPr>
              <a:t>3.3</a:t>
            </a:r>
            <a:r>
              <a:rPr b="1" lang="zh-CN" sz="2800" spc="-1" strike="noStrike">
                <a:solidFill>
                  <a:srgbClr val="1d528d"/>
                </a:solidFill>
                <a:latin typeface="华文琥珀"/>
                <a:ea typeface="华文琥珀"/>
              </a:rPr>
              <a:t>研究思路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533160" y="1905120"/>
            <a:ext cx="7544160" cy="4556520"/>
            <a:chOff x="533160" y="1905120"/>
            <a:chExt cx="7544160" cy="4556520"/>
          </a:xfrm>
        </p:grpSpPr>
        <p:sp>
          <p:nvSpPr>
            <p:cNvPr id="408" name="Line 4"/>
            <p:cNvSpPr/>
            <p:nvPr/>
          </p:nvSpPr>
          <p:spPr>
            <a:xfrm flipH="1">
              <a:off x="609480" y="6455520"/>
              <a:ext cx="1657080" cy="21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 flipH="1">
              <a:off x="609480" y="563724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 flipH="1">
              <a:off x="533160" y="50277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7"/>
            <p:cNvSpPr/>
            <p:nvPr/>
          </p:nvSpPr>
          <p:spPr>
            <a:xfrm flipH="1">
              <a:off x="609480" y="327636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"/>
            <p:cNvSpPr/>
            <p:nvPr/>
          </p:nvSpPr>
          <p:spPr>
            <a:xfrm flipH="1">
              <a:off x="609480" y="191376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9"/>
            <p:cNvSpPr/>
            <p:nvPr/>
          </p:nvSpPr>
          <p:spPr>
            <a:xfrm>
              <a:off x="762120" y="1905120"/>
              <a:ext cx="0" cy="118548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0"/>
            <p:cNvSpPr/>
            <p:nvPr/>
          </p:nvSpPr>
          <p:spPr>
            <a:xfrm>
              <a:off x="762120" y="3090600"/>
              <a:ext cx="0" cy="11120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1"/>
            <p:cNvSpPr/>
            <p:nvPr/>
          </p:nvSpPr>
          <p:spPr>
            <a:xfrm>
              <a:off x="762120" y="4203000"/>
              <a:ext cx="0" cy="11102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2"/>
            <p:cNvSpPr/>
            <p:nvPr/>
          </p:nvSpPr>
          <p:spPr>
            <a:xfrm>
              <a:off x="762120" y="5315400"/>
              <a:ext cx="0" cy="11102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1291320" y="4049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四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067040" y="4548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三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1163520" y="5181480"/>
              <a:ext cx="8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 </a:t>
              </a: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二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6"/>
            <p:cNvSpPr/>
            <p:nvPr/>
          </p:nvSpPr>
          <p:spPr>
            <a:xfrm>
              <a:off x="1258920" y="574308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  </a:t>
              </a: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一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7"/>
            <p:cNvGrpSpPr/>
            <p:nvPr/>
          </p:nvGrpSpPr>
          <p:grpSpPr>
            <a:xfrm>
              <a:off x="2286000" y="2127240"/>
              <a:ext cx="5791320" cy="4334400"/>
              <a:chOff x="2286000" y="2127240"/>
              <a:chExt cx="5791320" cy="4334400"/>
            </a:xfrm>
          </p:grpSpPr>
          <p:sp>
            <p:nvSpPr>
              <p:cNvPr id="422" name="未知"/>
              <p:cNvSpPr/>
              <p:nvPr/>
            </p:nvSpPr>
            <p:spPr>
              <a:xfrm>
                <a:off x="4572000" y="2513520"/>
                <a:ext cx="3505320" cy="736560"/>
              </a:xfrm>
              <a:prstGeom prst="pie">
                <a:avLst/>
              </a:prstGeom>
              <a:solidFill>
                <a:srgbClr val="1db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>
                <a:off x="3505320" y="4265640"/>
                <a:ext cx="3593880" cy="3038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>
                <a:off x="2286000" y="5410080"/>
                <a:ext cx="4081320" cy="734040"/>
              </a:xfrm>
              <a:prstGeom prst="pie">
                <a:avLst/>
              </a:prstGeom>
              <a:solidFill>
                <a:srgbClr val="1d5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>
                <a:off x="2921040" y="2127240"/>
                <a:ext cx="1838160" cy="370404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26"/>
              <p:cNvSpPr/>
              <p:nvPr/>
            </p:nvSpPr>
            <p:spPr>
              <a:xfrm>
                <a:off x="4648320" y="3200760"/>
                <a:ext cx="2995560" cy="567360"/>
              </a:xfrm>
              <a:prstGeom prst="rect">
                <a:avLst/>
              </a:prstGeom>
              <a:gradFill rotWithShape="0">
                <a:gsLst>
                  <a:gs pos="0">
                    <a:srgbClr val="1db3ac"/>
                  </a:gs>
                  <a:gs pos="50000">
                    <a:srgbClr val="15827d"/>
                  </a:gs>
                  <a:gs pos="100000">
                    <a:srgbClr val="1db3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检验合理性与可行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7"/>
              <p:cNvSpPr/>
              <p:nvPr/>
            </p:nvSpPr>
            <p:spPr>
              <a:xfrm>
                <a:off x="3581280" y="4572000"/>
                <a:ext cx="3016440" cy="45792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6f6fb9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建模设置配送网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>
                <a:off x="2895480" y="5027760"/>
                <a:ext cx="3834000" cy="2739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9"/>
              <p:cNvSpPr/>
              <p:nvPr/>
            </p:nvSpPr>
            <p:spPr>
              <a:xfrm>
                <a:off x="3048120" y="5256720"/>
                <a:ext cx="3263760" cy="4057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6d6d6d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实地调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30"/>
              <p:cNvSpPr/>
              <p:nvPr/>
            </p:nvSpPr>
            <p:spPr>
              <a:xfrm>
                <a:off x="2327400" y="6058080"/>
                <a:ext cx="3512880" cy="403560"/>
              </a:xfrm>
              <a:prstGeom prst="rect">
                <a:avLst/>
              </a:prstGeom>
              <a:gradFill rotWithShape="0">
                <a:gsLst>
                  <a:gs pos="0">
                    <a:srgbClr val="1d528d"/>
                  </a:gs>
                  <a:gs pos="50000">
                    <a:srgbClr val="153b66"/>
                  </a:gs>
                  <a:gs pos="100000">
                    <a:srgbClr val="1d528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查阅文献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Rectangle 30"/>
          <p:cNvSpPr/>
          <p:nvPr/>
        </p:nvSpPr>
        <p:spPr>
          <a:xfrm>
            <a:off x="4114800" y="3962520"/>
            <a:ext cx="3200400" cy="403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50000">
                <a:srgbClr val="153b66"/>
              </a:gs>
              <a:gs pos="100000">
                <a:srgbClr val="1d52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完成配送网络的设置与优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4114800" y="3657600"/>
            <a:ext cx="3657600" cy="304920"/>
          </a:xfrm>
          <a:prstGeom prst="pie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5029200" y="2514600"/>
            <a:ext cx="3263760" cy="406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6d6d6d"/>
              </a:gs>
              <a:gs pos="100000">
                <a:srgbClr val="96969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结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4952880" y="2362320"/>
            <a:ext cx="3834000" cy="19836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 flipH="1">
            <a:off x="609120" y="396252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7"/>
          <p:cNvSpPr/>
          <p:nvPr/>
        </p:nvSpPr>
        <p:spPr>
          <a:xfrm flipH="1">
            <a:off x="685440" y="44956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2"/>
          <p:cNvSpPr/>
          <p:nvPr/>
        </p:nvSpPr>
        <p:spPr>
          <a:xfrm>
            <a:off x="1256040" y="2362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Verdana"/>
              </a:rPr>
              <a:t>第六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43"/>
          <p:cNvSpPr/>
          <p:nvPr/>
        </p:nvSpPr>
        <p:spPr>
          <a:xfrm>
            <a:off x="125604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Verdana"/>
              </a:rPr>
              <a:t>第五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d528d"/>
                </a:solidFill>
                <a:latin typeface="华文隶书"/>
                <a:ea typeface="华文隶书"/>
              </a:rPr>
              <a:t>论文框架</a:t>
            </a:r>
            <a:endParaRPr b="0" lang="en-US" sz="44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930240" y="1776240"/>
            <a:ext cx="1676160" cy="4035600"/>
            <a:chOff x="930240" y="1776240"/>
            <a:chExt cx="1676160" cy="4035600"/>
          </a:xfrm>
        </p:grpSpPr>
        <p:sp>
          <p:nvSpPr>
            <p:cNvPr id="442" name="AutoShape 4"/>
            <p:cNvSpPr/>
            <p:nvPr/>
          </p:nvSpPr>
          <p:spPr>
            <a:xfrm>
              <a:off x="930240" y="2084040"/>
              <a:ext cx="1671480" cy="2857680"/>
            </a:xfrm>
            <a:custGeom>
              <a:avLst/>
              <a:gdLst>
                <a:gd name="textAreaLeft" fmla="*/ 85680 w 1671480"/>
                <a:gd name="textAreaRight" fmla="*/ 1585800 w 1671480"/>
                <a:gd name="textAreaTop" fmla="*/ 85680 h 2857680"/>
                <a:gd name="textAreaBottom" fmla="*/ 2772000 h 2857680"/>
              </a:gdLst>
              <a:ahLst/>
              <a:rect l="textAreaLeft" t="textAreaTop" r="textAreaRight" b="textAreaBottom"/>
              <a:pathLst>
                <a:path w="21600" h="36926">
                  <a:moveTo>
                    <a:pt x="3782" y="0"/>
                  </a:moveTo>
                  <a:arcTo wR="3782" hR="3782" stAng="16200000" swAng="-5400000"/>
                  <a:lnTo>
                    <a:pt x="0" y="33144"/>
                  </a:lnTo>
                  <a:arcTo wR="3782" hR="3782" stAng="10800000" swAng="-5400000"/>
                  <a:lnTo>
                    <a:pt x="17818" y="3692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"/>
            <p:cNvSpPr/>
            <p:nvPr/>
          </p:nvSpPr>
          <p:spPr>
            <a:xfrm>
              <a:off x="955800" y="2092320"/>
              <a:ext cx="1621080" cy="2803320"/>
            </a:xfrm>
            <a:custGeom>
              <a:avLst/>
              <a:gdLst>
                <a:gd name="textAreaLeft" fmla="*/ 78840 w 1621080"/>
                <a:gd name="textAreaRight" fmla="*/ 1542240 w 1621080"/>
                <a:gd name="textAreaTop" fmla="*/ 78840 h 2803320"/>
                <a:gd name="textAreaBottom" fmla="*/ 2724480 h 2803320"/>
              </a:gdLst>
              <a:ahLst/>
              <a:rect l="textAreaLeft" t="textAreaTop" r="textAreaRight" b="textAreaBottom"/>
              <a:pathLst>
                <a:path w="21600" h="37349">
                  <a:moveTo>
                    <a:pt x="3600" y="0"/>
                  </a:moveTo>
                  <a:arcTo wR="3600" hR="3600" stAng="16200000" swAng="-5400000"/>
                  <a:lnTo>
                    <a:pt x="0" y="33749"/>
                  </a:lnTo>
                  <a:arcTo wR="3600" hR="3600" stAng="10800000" swAng="-5400000"/>
                  <a:lnTo>
                    <a:pt x="18000" y="37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"/>
            <p:cNvSpPr/>
            <p:nvPr/>
          </p:nvSpPr>
          <p:spPr>
            <a:xfrm>
              <a:off x="969120" y="4155840"/>
              <a:ext cx="159912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7"/>
            <p:cNvSpPr/>
            <p:nvPr/>
          </p:nvSpPr>
          <p:spPr>
            <a:xfrm>
              <a:off x="969120" y="2114280"/>
              <a:ext cx="159912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8"/>
            <p:cNvSpPr/>
            <p:nvPr/>
          </p:nvSpPr>
          <p:spPr>
            <a:xfrm>
              <a:off x="934920" y="4941720"/>
              <a:ext cx="167148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9"/>
            <p:cNvSpPr/>
            <p:nvPr/>
          </p:nvSpPr>
          <p:spPr>
            <a:xfrm>
              <a:off x="969120" y="4965480"/>
              <a:ext cx="15991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10"/>
            <p:cNvGrpSpPr/>
            <p:nvPr/>
          </p:nvGrpSpPr>
          <p:grpSpPr>
            <a:xfrm>
              <a:off x="1505160" y="1776240"/>
              <a:ext cx="496440" cy="642960"/>
              <a:chOff x="1505160" y="1776240"/>
              <a:chExt cx="496440" cy="642960"/>
            </a:xfrm>
          </p:grpSpPr>
          <p:sp>
            <p:nvSpPr>
              <p:cNvPr id="449" name="Oval 11"/>
              <p:cNvSpPr/>
              <p:nvPr/>
            </p:nvSpPr>
            <p:spPr>
              <a:xfrm>
                <a:off x="1505160" y="1776240"/>
                <a:ext cx="4964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12"/>
              <p:cNvSpPr/>
              <p:nvPr/>
            </p:nvSpPr>
            <p:spPr>
              <a:xfrm>
                <a:off x="1510200" y="1780920"/>
                <a:ext cx="48024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3"/>
              <p:cNvSpPr/>
              <p:nvPr/>
            </p:nvSpPr>
            <p:spPr>
              <a:xfrm>
                <a:off x="1515960" y="1784880"/>
                <a:ext cx="4690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14"/>
              <p:cNvSpPr/>
              <p:nvPr/>
            </p:nvSpPr>
            <p:spPr>
              <a:xfrm>
                <a:off x="1521360" y="1790640"/>
                <a:ext cx="4460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5"/>
              <p:cNvSpPr/>
              <p:nvPr/>
            </p:nvSpPr>
            <p:spPr>
              <a:xfrm>
                <a:off x="1547280" y="1806120"/>
                <a:ext cx="396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Text Box 16"/>
            <p:cNvSpPr/>
            <p:nvPr/>
          </p:nvSpPr>
          <p:spPr>
            <a:xfrm>
              <a:off x="1573920" y="186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8"/>
          <p:cNvGrpSpPr/>
          <p:nvPr/>
        </p:nvGrpSpPr>
        <p:grpSpPr>
          <a:xfrm>
            <a:off x="1898640" y="1785960"/>
            <a:ext cx="1415880" cy="4034880"/>
            <a:chOff x="1898640" y="1785960"/>
            <a:chExt cx="1415880" cy="4034880"/>
          </a:xfrm>
        </p:grpSpPr>
        <p:sp>
          <p:nvSpPr>
            <p:cNvPr id="456" name="AutoShape 19"/>
            <p:cNvSpPr/>
            <p:nvPr/>
          </p:nvSpPr>
          <p:spPr>
            <a:xfrm>
              <a:off x="1898640" y="2093400"/>
              <a:ext cx="1368720" cy="2857320"/>
            </a:xfrm>
            <a:custGeom>
              <a:avLst/>
              <a:gdLst>
                <a:gd name="textAreaLeft" fmla="*/ 70200 w 1368720"/>
                <a:gd name="textAreaRight" fmla="*/ 1298520 w 1368720"/>
                <a:gd name="textAreaTop" fmla="*/ 70200 h 2857320"/>
                <a:gd name="textAreaBottom" fmla="*/ 2787120 h 2857320"/>
              </a:gdLst>
              <a:ahLst/>
              <a:rect l="textAreaLeft" t="textAreaTop" r="textAreaRight" b="textAreaBottom"/>
              <a:pathLst>
                <a:path w="21600" h="45086">
                  <a:moveTo>
                    <a:pt x="3782" y="0"/>
                  </a:moveTo>
                  <a:arcTo wR="3782" hR="3782" stAng="16200000" swAng="-5400000"/>
                  <a:lnTo>
                    <a:pt x="0" y="41304"/>
                  </a:lnTo>
                  <a:arcTo wR="3782" hR="3782" stAng="10800000" swAng="-5400000"/>
                  <a:lnTo>
                    <a:pt x="17818" y="4508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20"/>
            <p:cNvSpPr/>
            <p:nvPr/>
          </p:nvSpPr>
          <p:spPr>
            <a:xfrm>
              <a:off x="1919520" y="2101680"/>
              <a:ext cx="1327680" cy="2802960"/>
            </a:xfrm>
            <a:custGeom>
              <a:avLst/>
              <a:gdLst>
                <a:gd name="textAreaLeft" fmla="*/ 64800 w 1327680"/>
                <a:gd name="textAreaRight" fmla="*/ 1262880 w 1327680"/>
                <a:gd name="textAreaTop" fmla="*/ 64800 h 2802960"/>
                <a:gd name="textAreaBottom" fmla="*/ 2738160 h 2802960"/>
              </a:gdLst>
              <a:ahLst/>
              <a:rect l="textAreaLeft" t="textAreaTop" r="textAreaRight" b="textAreaBottom"/>
              <a:pathLst>
                <a:path w="21600" h="45595">
                  <a:moveTo>
                    <a:pt x="3600" y="0"/>
                  </a:moveTo>
                  <a:arcTo wR="3600" hR="3600" stAng="16200000" swAng="-5400000"/>
                  <a:lnTo>
                    <a:pt x="0" y="41995"/>
                  </a:lnTo>
                  <a:arcTo wR="3600" hR="3600" stAng="10800000" swAng="-5400000"/>
                  <a:lnTo>
                    <a:pt x="18000" y="45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21"/>
            <p:cNvSpPr/>
            <p:nvPr/>
          </p:nvSpPr>
          <p:spPr>
            <a:xfrm>
              <a:off x="1930680" y="4165200"/>
              <a:ext cx="130968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2"/>
            <p:cNvSpPr/>
            <p:nvPr/>
          </p:nvSpPr>
          <p:spPr>
            <a:xfrm>
              <a:off x="1952640" y="2123640"/>
              <a:ext cx="130968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2369520" y="1785960"/>
              <a:ext cx="4068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2373480" y="1790280"/>
              <a:ext cx="3934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2378520" y="1793520"/>
              <a:ext cx="3844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2382480" y="1800000"/>
              <a:ext cx="3657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2404800" y="1815840"/>
              <a:ext cx="32436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8"/>
            <p:cNvSpPr/>
            <p:nvPr/>
          </p:nvSpPr>
          <p:spPr>
            <a:xfrm>
              <a:off x="2394000" y="187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9"/>
            <p:cNvSpPr/>
            <p:nvPr/>
          </p:nvSpPr>
          <p:spPr>
            <a:xfrm>
              <a:off x="1991880" y="2526840"/>
              <a:ext cx="1322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1900440" y="4951080"/>
              <a:ext cx="136872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1"/>
            <p:cNvSpPr/>
            <p:nvPr/>
          </p:nvSpPr>
          <p:spPr>
            <a:xfrm>
              <a:off x="1928520" y="4974840"/>
              <a:ext cx="130968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2"/>
          <p:cNvGrpSpPr/>
          <p:nvPr/>
        </p:nvGrpSpPr>
        <p:grpSpPr>
          <a:xfrm>
            <a:off x="2894040" y="1771560"/>
            <a:ext cx="1523520" cy="4035600"/>
            <a:chOff x="2894040" y="1771560"/>
            <a:chExt cx="1523520" cy="4035600"/>
          </a:xfrm>
        </p:grpSpPr>
        <p:sp>
          <p:nvSpPr>
            <p:cNvPr id="470" name="AutoShape 33"/>
            <p:cNvSpPr/>
            <p:nvPr/>
          </p:nvSpPr>
          <p:spPr>
            <a:xfrm>
              <a:off x="2898360" y="2079360"/>
              <a:ext cx="1519200" cy="2857680"/>
            </a:xfrm>
            <a:custGeom>
              <a:avLst/>
              <a:gdLst>
                <a:gd name="textAreaLeft" fmla="*/ 77760 w 1519200"/>
                <a:gd name="textAreaRight" fmla="*/ 1441440 w 1519200"/>
                <a:gd name="textAreaTop" fmla="*/ 77760 h 2857680"/>
                <a:gd name="textAreaBottom" fmla="*/ 2779920 h 2857680"/>
              </a:gdLst>
              <a:ahLst/>
              <a:rect l="textAreaLeft" t="textAreaTop" r="textAreaRight" b="textAreaBottom"/>
              <a:pathLst>
                <a:path w="21600" h="40626">
                  <a:moveTo>
                    <a:pt x="3782" y="0"/>
                  </a:moveTo>
                  <a:arcTo wR="3782" hR="3782" stAng="16200000" swAng="-5400000"/>
                  <a:lnTo>
                    <a:pt x="0" y="36844"/>
                  </a:lnTo>
                  <a:arcTo wR="3782" hR="3782" stAng="10800000" swAng="-5400000"/>
                  <a:lnTo>
                    <a:pt x="17818" y="4062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34"/>
            <p:cNvSpPr/>
            <p:nvPr/>
          </p:nvSpPr>
          <p:spPr>
            <a:xfrm>
              <a:off x="2921760" y="2087640"/>
              <a:ext cx="1473840" cy="2803320"/>
            </a:xfrm>
            <a:custGeom>
              <a:avLst/>
              <a:gdLst>
                <a:gd name="textAreaLeft" fmla="*/ 71640 w 1473840"/>
                <a:gd name="textAreaRight" fmla="*/ 1402200 w 1473840"/>
                <a:gd name="textAreaTop" fmla="*/ 71640 h 2803320"/>
                <a:gd name="textAreaBottom" fmla="*/ 2731680 h 2803320"/>
              </a:gdLst>
              <a:ahLst/>
              <a:rect l="textAreaLeft" t="textAreaTop" r="textAreaRight" b="textAreaBottom"/>
              <a:pathLst>
                <a:path w="21600" h="41080">
                  <a:moveTo>
                    <a:pt x="3600" y="0"/>
                  </a:moveTo>
                  <a:arcTo wR="3600" hR="3600" stAng="16200000" swAng="-5400000"/>
                  <a:lnTo>
                    <a:pt x="0" y="37480"/>
                  </a:lnTo>
                  <a:arcTo wR="3600" hR="3600" stAng="10800000" swAng="-5400000"/>
                  <a:lnTo>
                    <a:pt x="18000" y="410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35"/>
            <p:cNvSpPr/>
            <p:nvPr/>
          </p:nvSpPr>
          <p:spPr>
            <a:xfrm>
              <a:off x="2934000" y="4151160"/>
              <a:ext cx="145368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6"/>
            <p:cNvSpPr/>
            <p:nvPr/>
          </p:nvSpPr>
          <p:spPr>
            <a:xfrm>
              <a:off x="2934000" y="2109600"/>
              <a:ext cx="14536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37"/>
            <p:cNvGrpSpPr/>
            <p:nvPr/>
          </p:nvGrpSpPr>
          <p:grpSpPr>
            <a:xfrm>
              <a:off x="3421080" y="1771560"/>
              <a:ext cx="451440" cy="642960"/>
              <a:chOff x="3421080" y="1771560"/>
              <a:chExt cx="451440" cy="642960"/>
            </a:xfrm>
          </p:grpSpPr>
          <p:sp>
            <p:nvSpPr>
              <p:cNvPr id="475" name="Oval 38"/>
              <p:cNvSpPr/>
              <p:nvPr/>
            </p:nvSpPr>
            <p:spPr>
              <a:xfrm>
                <a:off x="3421080" y="1771560"/>
                <a:ext cx="4514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39"/>
              <p:cNvSpPr/>
              <p:nvPr/>
            </p:nvSpPr>
            <p:spPr>
              <a:xfrm>
                <a:off x="3425760" y="1776240"/>
                <a:ext cx="43668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40"/>
              <p:cNvSpPr/>
              <p:nvPr/>
            </p:nvSpPr>
            <p:spPr>
              <a:xfrm>
                <a:off x="3431160" y="1780200"/>
                <a:ext cx="42660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41"/>
              <p:cNvSpPr/>
              <p:nvPr/>
            </p:nvSpPr>
            <p:spPr>
              <a:xfrm>
                <a:off x="3435840" y="1785960"/>
                <a:ext cx="40536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42"/>
              <p:cNvSpPr/>
              <p:nvPr/>
            </p:nvSpPr>
            <p:spPr>
              <a:xfrm>
                <a:off x="3459240" y="1801440"/>
                <a:ext cx="360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Text Box 43"/>
            <p:cNvSpPr/>
            <p:nvPr/>
          </p:nvSpPr>
          <p:spPr>
            <a:xfrm>
              <a:off x="3467520" y="186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44"/>
            <p:cNvSpPr/>
            <p:nvPr/>
          </p:nvSpPr>
          <p:spPr>
            <a:xfrm>
              <a:off x="2951640" y="2533680"/>
              <a:ext cx="1444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45"/>
            <p:cNvSpPr/>
            <p:nvPr/>
          </p:nvSpPr>
          <p:spPr>
            <a:xfrm>
              <a:off x="2894040" y="4937040"/>
              <a:ext cx="15192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46"/>
            <p:cNvSpPr/>
            <p:nvPr/>
          </p:nvSpPr>
          <p:spPr>
            <a:xfrm>
              <a:off x="2925000" y="4960800"/>
              <a:ext cx="14536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8"/>
          <p:cNvGrpSpPr/>
          <p:nvPr/>
        </p:nvGrpSpPr>
        <p:grpSpPr>
          <a:xfrm>
            <a:off x="3922560" y="1771560"/>
            <a:ext cx="1371240" cy="4035600"/>
            <a:chOff x="3922560" y="1771560"/>
            <a:chExt cx="1371240" cy="4035600"/>
          </a:xfrm>
        </p:grpSpPr>
        <p:sp>
          <p:nvSpPr>
            <p:cNvPr id="485" name="AutoShape 19"/>
            <p:cNvSpPr/>
            <p:nvPr/>
          </p:nvSpPr>
          <p:spPr>
            <a:xfrm>
              <a:off x="3922560" y="2079360"/>
              <a:ext cx="1369440" cy="2857680"/>
            </a:xfrm>
            <a:custGeom>
              <a:avLst/>
              <a:gdLst>
                <a:gd name="textAreaLeft" fmla="*/ 70200 w 1369440"/>
                <a:gd name="textAreaRight" fmla="*/ 1299240 w 1369440"/>
                <a:gd name="textAreaTop" fmla="*/ 70200 h 2857680"/>
                <a:gd name="textAreaBottom" fmla="*/ 2787480 h 2857680"/>
              </a:gdLst>
              <a:ahLst/>
              <a:rect l="textAreaLeft" t="textAreaTop" r="textAreaRight" b="textAreaBottom"/>
              <a:pathLst>
                <a:path w="21600" h="45068">
                  <a:moveTo>
                    <a:pt x="3782" y="0"/>
                  </a:moveTo>
                  <a:arcTo wR="3782" hR="3782" stAng="16200000" swAng="-5400000"/>
                  <a:lnTo>
                    <a:pt x="0" y="41286"/>
                  </a:lnTo>
                  <a:arcTo wR="3782" hR="3782" stAng="10800000" swAng="-5400000"/>
                  <a:lnTo>
                    <a:pt x="17818" y="450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20"/>
            <p:cNvSpPr/>
            <p:nvPr/>
          </p:nvSpPr>
          <p:spPr>
            <a:xfrm>
              <a:off x="3943440" y="2087640"/>
              <a:ext cx="1328400" cy="2803320"/>
            </a:xfrm>
            <a:custGeom>
              <a:avLst/>
              <a:gdLst>
                <a:gd name="textAreaLeft" fmla="*/ 64800 w 1328400"/>
                <a:gd name="textAreaRight" fmla="*/ 1263600 w 1328400"/>
                <a:gd name="textAreaTop" fmla="*/ 64800 h 2803320"/>
                <a:gd name="textAreaBottom" fmla="*/ 2738520 h 2803320"/>
              </a:gdLst>
              <a:ahLst/>
              <a:rect l="textAreaLeft" t="textAreaTop" r="textAreaRight" b="textAreaBottom"/>
              <a:pathLst>
                <a:path w="21600" h="45576">
                  <a:moveTo>
                    <a:pt x="3600" y="0"/>
                  </a:moveTo>
                  <a:arcTo wR="3600" hR="3600" stAng="16200000" swAng="-5400000"/>
                  <a:lnTo>
                    <a:pt x="0" y="41976"/>
                  </a:lnTo>
                  <a:arcTo wR="3600" hR="3600" stAng="10800000" swAng="-5400000"/>
                  <a:lnTo>
                    <a:pt x="18000" y="45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21"/>
            <p:cNvSpPr/>
            <p:nvPr/>
          </p:nvSpPr>
          <p:spPr>
            <a:xfrm>
              <a:off x="3954600" y="4151160"/>
              <a:ext cx="13104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2"/>
            <p:cNvSpPr/>
            <p:nvPr/>
          </p:nvSpPr>
          <p:spPr>
            <a:xfrm>
              <a:off x="3954600" y="2109600"/>
              <a:ext cx="13104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3"/>
            <p:cNvSpPr/>
            <p:nvPr/>
          </p:nvSpPr>
          <p:spPr>
            <a:xfrm>
              <a:off x="4393800" y="1771560"/>
              <a:ext cx="4068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24"/>
            <p:cNvSpPr/>
            <p:nvPr/>
          </p:nvSpPr>
          <p:spPr>
            <a:xfrm>
              <a:off x="4397760" y="1776240"/>
              <a:ext cx="3934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5"/>
            <p:cNvSpPr/>
            <p:nvPr/>
          </p:nvSpPr>
          <p:spPr>
            <a:xfrm>
              <a:off x="4402800" y="1779480"/>
              <a:ext cx="3848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6"/>
            <p:cNvSpPr/>
            <p:nvPr/>
          </p:nvSpPr>
          <p:spPr>
            <a:xfrm>
              <a:off x="4406760" y="1785960"/>
              <a:ext cx="3657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7"/>
            <p:cNvSpPr/>
            <p:nvPr/>
          </p:nvSpPr>
          <p:spPr>
            <a:xfrm>
              <a:off x="4429080" y="1801800"/>
              <a:ext cx="32436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28"/>
            <p:cNvSpPr/>
            <p:nvPr/>
          </p:nvSpPr>
          <p:spPr>
            <a:xfrm>
              <a:off x="4417920" y="186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9"/>
            <p:cNvSpPr/>
            <p:nvPr/>
          </p:nvSpPr>
          <p:spPr>
            <a:xfrm>
              <a:off x="3970800" y="2533680"/>
              <a:ext cx="1302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30"/>
            <p:cNvSpPr/>
            <p:nvPr/>
          </p:nvSpPr>
          <p:spPr>
            <a:xfrm>
              <a:off x="3924360" y="4937040"/>
              <a:ext cx="136944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31"/>
            <p:cNvSpPr/>
            <p:nvPr/>
          </p:nvSpPr>
          <p:spPr>
            <a:xfrm>
              <a:off x="3952440" y="4960800"/>
              <a:ext cx="13104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2"/>
          <p:cNvGrpSpPr/>
          <p:nvPr/>
        </p:nvGrpSpPr>
        <p:grpSpPr>
          <a:xfrm>
            <a:off x="4870440" y="1785960"/>
            <a:ext cx="1371240" cy="4003200"/>
            <a:chOff x="4870440" y="1785960"/>
            <a:chExt cx="1371240" cy="4003200"/>
          </a:xfrm>
        </p:grpSpPr>
        <p:sp>
          <p:nvSpPr>
            <p:cNvPr id="499" name="AutoShape 33"/>
            <p:cNvSpPr/>
            <p:nvPr/>
          </p:nvSpPr>
          <p:spPr>
            <a:xfrm>
              <a:off x="4874400" y="2091240"/>
              <a:ext cx="1367280" cy="2834640"/>
            </a:xfrm>
            <a:custGeom>
              <a:avLst/>
              <a:gdLst>
                <a:gd name="textAreaLeft" fmla="*/ 69840 w 1367280"/>
                <a:gd name="textAreaRight" fmla="*/ 1297440 w 1367280"/>
                <a:gd name="textAreaTop" fmla="*/ 69840 h 2834640"/>
                <a:gd name="textAreaBottom" fmla="*/ 2764800 h 2834640"/>
              </a:gdLst>
              <a:ahLst/>
              <a:rect l="textAreaLeft" t="textAreaTop" r="textAreaRight" b="textAreaBottom"/>
              <a:pathLst>
                <a:path w="21600" h="44775">
                  <a:moveTo>
                    <a:pt x="3782" y="0"/>
                  </a:moveTo>
                  <a:arcTo wR="3782" hR="3782" stAng="16200000" swAng="-5400000"/>
                  <a:lnTo>
                    <a:pt x="0" y="40993"/>
                  </a:lnTo>
                  <a:arcTo wR="3782" hR="3782" stAng="10800000" swAng="-5400000"/>
                  <a:lnTo>
                    <a:pt x="17818" y="4477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34"/>
            <p:cNvSpPr/>
            <p:nvPr/>
          </p:nvSpPr>
          <p:spPr>
            <a:xfrm>
              <a:off x="4895280" y="2099520"/>
              <a:ext cx="1326600" cy="2781000"/>
            </a:xfrm>
            <a:custGeom>
              <a:avLst/>
              <a:gdLst>
                <a:gd name="textAreaLeft" fmla="*/ 64440 w 1326600"/>
                <a:gd name="textAreaRight" fmla="*/ 1262160 w 1326600"/>
                <a:gd name="textAreaTop" fmla="*/ 64440 h 2781000"/>
                <a:gd name="textAreaBottom" fmla="*/ 2716560 h 2781000"/>
              </a:gdLst>
              <a:ahLst/>
              <a:rect l="textAreaLeft" t="textAreaTop" r="textAreaRight" b="textAreaBottom"/>
              <a:pathLst>
                <a:path w="21600" h="45274">
                  <a:moveTo>
                    <a:pt x="3600" y="0"/>
                  </a:moveTo>
                  <a:arcTo wR="3600" hR="3600" stAng="16200000" swAng="-5400000"/>
                  <a:lnTo>
                    <a:pt x="0" y="41674"/>
                  </a:lnTo>
                  <a:arcTo wR="3600" hR="3600" stAng="10800000" swAng="-5400000"/>
                  <a:lnTo>
                    <a:pt x="18000" y="45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35"/>
            <p:cNvSpPr/>
            <p:nvPr/>
          </p:nvSpPr>
          <p:spPr>
            <a:xfrm>
              <a:off x="4906440" y="4146480"/>
              <a:ext cx="1308240" cy="70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37"/>
            <p:cNvGrpSpPr/>
            <p:nvPr/>
          </p:nvGrpSpPr>
          <p:grpSpPr>
            <a:xfrm>
              <a:off x="5344920" y="1785960"/>
              <a:ext cx="406080" cy="637560"/>
              <a:chOff x="5344920" y="1785960"/>
              <a:chExt cx="406080" cy="637560"/>
            </a:xfrm>
          </p:grpSpPr>
          <p:sp>
            <p:nvSpPr>
              <p:cNvPr id="503" name="Oval 38"/>
              <p:cNvSpPr/>
              <p:nvPr/>
            </p:nvSpPr>
            <p:spPr>
              <a:xfrm>
                <a:off x="5344920" y="1785960"/>
                <a:ext cx="406080" cy="637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39"/>
              <p:cNvSpPr/>
              <p:nvPr/>
            </p:nvSpPr>
            <p:spPr>
              <a:xfrm>
                <a:off x="5348880" y="1790640"/>
                <a:ext cx="392760" cy="617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40"/>
              <p:cNvSpPr/>
              <p:nvPr/>
            </p:nvSpPr>
            <p:spPr>
              <a:xfrm>
                <a:off x="5353920" y="1794600"/>
                <a:ext cx="383760" cy="601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41"/>
              <p:cNvSpPr/>
              <p:nvPr/>
            </p:nvSpPr>
            <p:spPr>
              <a:xfrm>
                <a:off x="5358240" y="1800000"/>
                <a:ext cx="364680" cy="56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42"/>
              <p:cNvSpPr/>
              <p:nvPr/>
            </p:nvSpPr>
            <p:spPr>
              <a:xfrm>
                <a:off x="5379480" y="1815480"/>
                <a:ext cx="32400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43"/>
            <p:cNvSpPr/>
            <p:nvPr/>
          </p:nvSpPr>
          <p:spPr>
            <a:xfrm>
              <a:off x="5368680" y="187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4"/>
            <p:cNvSpPr/>
            <p:nvPr/>
          </p:nvSpPr>
          <p:spPr>
            <a:xfrm>
              <a:off x="4922280" y="2541960"/>
              <a:ext cx="1300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45"/>
            <p:cNvSpPr/>
            <p:nvPr/>
          </p:nvSpPr>
          <p:spPr>
            <a:xfrm>
              <a:off x="4870440" y="4926240"/>
              <a:ext cx="1367280" cy="862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46"/>
            <p:cNvSpPr/>
            <p:nvPr/>
          </p:nvSpPr>
          <p:spPr>
            <a:xfrm>
              <a:off x="4898160" y="4949640"/>
              <a:ext cx="1308600" cy="766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"/>
          <p:cNvGrpSpPr/>
          <p:nvPr/>
        </p:nvGrpSpPr>
        <p:grpSpPr>
          <a:xfrm>
            <a:off x="5807160" y="1776240"/>
            <a:ext cx="1874520" cy="4035600"/>
            <a:chOff x="5807160" y="1776240"/>
            <a:chExt cx="1874520" cy="4035600"/>
          </a:xfrm>
        </p:grpSpPr>
        <p:sp>
          <p:nvSpPr>
            <p:cNvPr id="513" name="AutoShape 4"/>
            <p:cNvSpPr/>
            <p:nvPr/>
          </p:nvSpPr>
          <p:spPr>
            <a:xfrm>
              <a:off x="5807160" y="2084040"/>
              <a:ext cx="1671120" cy="2857680"/>
            </a:xfrm>
            <a:custGeom>
              <a:avLst/>
              <a:gdLst>
                <a:gd name="textAreaLeft" fmla="*/ 85680 w 1671120"/>
                <a:gd name="textAreaRight" fmla="*/ 1585440 w 1671120"/>
                <a:gd name="textAreaTop" fmla="*/ 85680 h 2857680"/>
                <a:gd name="textAreaBottom" fmla="*/ 2772000 h 2857680"/>
              </a:gdLst>
              <a:ahLst/>
              <a:rect l="textAreaLeft" t="textAreaTop" r="textAreaRight" b="textAreaBottom"/>
              <a:pathLst>
                <a:path w="21600" h="36934">
                  <a:moveTo>
                    <a:pt x="3782" y="0"/>
                  </a:moveTo>
                  <a:arcTo wR="3782" hR="3782" stAng="16200000" swAng="-5400000"/>
                  <a:lnTo>
                    <a:pt x="0" y="33152"/>
                  </a:lnTo>
                  <a:arcTo wR="3782" hR="3782" stAng="10800000" swAng="-5400000"/>
                  <a:lnTo>
                    <a:pt x="17818" y="369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5"/>
            <p:cNvSpPr/>
            <p:nvPr/>
          </p:nvSpPr>
          <p:spPr>
            <a:xfrm>
              <a:off x="5832720" y="2092320"/>
              <a:ext cx="1620720" cy="2803320"/>
            </a:xfrm>
            <a:custGeom>
              <a:avLst/>
              <a:gdLst>
                <a:gd name="textAreaLeft" fmla="*/ 78840 w 1620720"/>
                <a:gd name="textAreaRight" fmla="*/ 1541880 w 1620720"/>
                <a:gd name="textAreaTop" fmla="*/ 78840 h 2803320"/>
                <a:gd name="textAreaBottom" fmla="*/ 2724480 h 2803320"/>
              </a:gdLst>
              <a:ahLst/>
              <a:rect l="textAreaLeft" t="textAreaTop" r="textAreaRight" b="textAreaBottom"/>
              <a:pathLst>
                <a:path w="21600" h="37357">
                  <a:moveTo>
                    <a:pt x="3600" y="0"/>
                  </a:moveTo>
                  <a:arcTo wR="3600" hR="3600" stAng="16200000" swAng="-5400000"/>
                  <a:lnTo>
                    <a:pt x="0" y="33757"/>
                  </a:lnTo>
                  <a:arcTo wR="3600" hR="3600" stAng="10800000" swAng="-5400000"/>
                  <a:lnTo>
                    <a:pt x="18000" y="373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"/>
            <p:cNvSpPr/>
            <p:nvPr/>
          </p:nvSpPr>
          <p:spPr>
            <a:xfrm>
              <a:off x="5846040" y="4155840"/>
              <a:ext cx="15987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7"/>
            <p:cNvSpPr/>
            <p:nvPr/>
          </p:nvSpPr>
          <p:spPr>
            <a:xfrm>
              <a:off x="5846040" y="2114280"/>
              <a:ext cx="15987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8"/>
            <p:cNvSpPr/>
            <p:nvPr/>
          </p:nvSpPr>
          <p:spPr>
            <a:xfrm>
              <a:off x="5811840" y="4941720"/>
              <a:ext cx="167112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9"/>
            <p:cNvSpPr/>
            <p:nvPr/>
          </p:nvSpPr>
          <p:spPr>
            <a:xfrm>
              <a:off x="5846040" y="4965480"/>
              <a:ext cx="15987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0"/>
            <p:cNvGrpSpPr/>
            <p:nvPr/>
          </p:nvGrpSpPr>
          <p:grpSpPr>
            <a:xfrm>
              <a:off x="6382080" y="1776240"/>
              <a:ext cx="496440" cy="642960"/>
              <a:chOff x="6382080" y="1776240"/>
              <a:chExt cx="496440" cy="642960"/>
            </a:xfrm>
          </p:grpSpPr>
          <p:sp>
            <p:nvSpPr>
              <p:cNvPr id="520" name="Oval 11"/>
              <p:cNvSpPr/>
              <p:nvPr/>
            </p:nvSpPr>
            <p:spPr>
              <a:xfrm>
                <a:off x="6382080" y="1776240"/>
                <a:ext cx="4964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2"/>
              <p:cNvSpPr/>
              <p:nvPr/>
            </p:nvSpPr>
            <p:spPr>
              <a:xfrm>
                <a:off x="6387120" y="1780920"/>
                <a:ext cx="48024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3"/>
              <p:cNvSpPr/>
              <p:nvPr/>
            </p:nvSpPr>
            <p:spPr>
              <a:xfrm>
                <a:off x="6392880" y="1784880"/>
                <a:ext cx="4690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4"/>
              <p:cNvSpPr/>
              <p:nvPr/>
            </p:nvSpPr>
            <p:spPr>
              <a:xfrm>
                <a:off x="6398280" y="1790640"/>
                <a:ext cx="4460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5"/>
              <p:cNvSpPr/>
              <p:nvPr/>
            </p:nvSpPr>
            <p:spPr>
              <a:xfrm>
                <a:off x="6424200" y="1806120"/>
                <a:ext cx="396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16"/>
            <p:cNvSpPr/>
            <p:nvPr/>
          </p:nvSpPr>
          <p:spPr>
            <a:xfrm>
              <a:off x="6450120" y="186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7"/>
            <p:cNvSpPr/>
            <p:nvPr/>
          </p:nvSpPr>
          <p:spPr>
            <a:xfrm>
              <a:off x="6092640" y="2570040"/>
              <a:ext cx="1589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8"/>
          <p:cNvGrpSpPr/>
          <p:nvPr/>
        </p:nvGrpSpPr>
        <p:grpSpPr>
          <a:xfrm>
            <a:off x="6865920" y="1781280"/>
            <a:ext cx="1371240" cy="4034880"/>
            <a:chOff x="6865920" y="1781280"/>
            <a:chExt cx="1371240" cy="4034880"/>
          </a:xfrm>
        </p:grpSpPr>
        <p:sp>
          <p:nvSpPr>
            <p:cNvPr id="528" name="AutoShape 19"/>
            <p:cNvSpPr/>
            <p:nvPr/>
          </p:nvSpPr>
          <p:spPr>
            <a:xfrm>
              <a:off x="6865920" y="2088720"/>
              <a:ext cx="1369440" cy="2857320"/>
            </a:xfrm>
            <a:custGeom>
              <a:avLst/>
              <a:gdLst>
                <a:gd name="textAreaLeft" fmla="*/ 70200 w 1369440"/>
                <a:gd name="textAreaRight" fmla="*/ 1299240 w 1369440"/>
                <a:gd name="textAreaTop" fmla="*/ 70200 h 2857320"/>
                <a:gd name="textAreaBottom" fmla="*/ 2787120 h 2857320"/>
              </a:gdLst>
              <a:ahLst/>
              <a:rect l="textAreaLeft" t="textAreaTop" r="textAreaRight" b="textAreaBottom"/>
              <a:pathLst>
                <a:path w="21600" h="45062">
                  <a:moveTo>
                    <a:pt x="3782" y="0"/>
                  </a:moveTo>
                  <a:arcTo wR="3782" hR="3782" stAng="16200000" swAng="-5400000"/>
                  <a:lnTo>
                    <a:pt x="0" y="41280"/>
                  </a:lnTo>
                  <a:arcTo wR="3782" hR="3782" stAng="10800000" swAng="-5400000"/>
                  <a:lnTo>
                    <a:pt x="17818" y="4506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20"/>
            <p:cNvSpPr/>
            <p:nvPr/>
          </p:nvSpPr>
          <p:spPr>
            <a:xfrm>
              <a:off x="6885720" y="2079360"/>
              <a:ext cx="1328400" cy="2803320"/>
            </a:xfrm>
            <a:custGeom>
              <a:avLst/>
              <a:gdLst>
                <a:gd name="textAreaLeft" fmla="*/ 64800 w 1328400"/>
                <a:gd name="textAreaRight" fmla="*/ 1263600 w 1328400"/>
                <a:gd name="textAreaTop" fmla="*/ 64800 h 2803320"/>
                <a:gd name="textAreaBottom" fmla="*/ 2738520 h 2803320"/>
              </a:gdLst>
              <a:ahLst/>
              <a:rect l="textAreaLeft" t="textAreaTop" r="textAreaRight" b="textAreaBottom"/>
              <a:pathLst>
                <a:path w="21600" h="45576">
                  <a:moveTo>
                    <a:pt x="3600" y="0"/>
                  </a:moveTo>
                  <a:arcTo wR="3600" hR="3600" stAng="16200000" swAng="-5400000"/>
                  <a:lnTo>
                    <a:pt x="0" y="41976"/>
                  </a:lnTo>
                  <a:arcTo wR="3600" hR="3600" stAng="10800000" swAng="-5400000"/>
                  <a:lnTo>
                    <a:pt x="18000" y="45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1"/>
            <p:cNvSpPr/>
            <p:nvPr/>
          </p:nvSpPr>
          <p:spPr>
            <a:xfrm>
              <a:off x="6897960" y="4160520"/>
              <a:ext cx="13104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22"/>
            <p:cNvSpPr/>
            <p:nvPr/>
          </p:nvSpPr>
          <p:spPr>
            <a:xfrm>
              <a:off x="6897960" y="2118960"/>
              <a:ext cx="13104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3"/>
            <p:cNvSpPr/>
            <p:nvPr/>
          </p:nvSpPr>
          <p:spPr>
            <a:xfrm>
              <a:off x="7337160" y="1781280"/>
              <a:ext cx="4068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4"/>
            <p:cNvSpPr/>
            <p:nvPr/>
          </p:nvSpPr>
          <p:spPr>
            <a:xfrm>
              <a:off x="7341120" y="1785600"/>
              <a:ext cx="3934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5"/>
            <p:cNvSpPr/>
            <p:nvPr/>
          </p:nvSpPr>
          <p:spPr>
            <a:xfrm>
              <a:off x="7346160" y="1788840"/>
              <a:ext cx="3848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6"/>
            <p:cNvSpPr/>
            <p:nvPr/>
          </p:nvSpPr>
          <p:spPr>
            <a:xfrm>
              <a:off x="7350120" y="1795320"/>
              <a:ext cx="3657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7"/>
            <p:cNvSpPr/>
            <p:nvPr/>
          </p:nvSpPr>
          <p:spPr>
            <a:xfrm>
              <a:off x="7372440" y="1811160"/>
              <a:ext cx="32436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8"/>
            <p:cNvSpPr/>
            <p:nvPr/>
          </p:nvSpPr>
          <p:spPr>
            <a:xfrm>
              <a:off x="7361280" y="187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9"/>
            <p:cNvSpPr/>
            <p:nvPr/>
          </p:nvSpPr>
          <p:spPr>
            <a:xfrm>
              <a:off x="6883920" y="2543040"/>
              <a:ext cx="1302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30"/>
            <p:cNvSpPr/>
            <p:nvPr/>
          </p:nvSpPr>
          <p:spPr>
            <a:xfrm>
              <a:off x="6867720" y="4946400"/>
              <a:ext cx="13694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31"/>
            <p:cNvSpPr/>
            <p:nvPr/>
          </p:nvSpPr>
          <p:spPr>
            <a:xfrm>
              <a:off x="6895800" y="4970160"/>
              <a:ext cx="13104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Box 3"/>
          <p:cNvSpPr/>
          <p:nvPr/>
        </p:nvSpPr>
        <p:spPr>
          <a:xfrm>
            <a:off x="1017360" y="2428920"/>
            <a:ext cx="729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1649520" y="2463840"/>
            <a:ext cx="100332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目的与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2564280" y="2428920"/>
            <a:ext cx="12776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．新发地农产品配送现状及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3618000" y="2247840"/>
            <a:ext cx="1003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配送网点的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4422960" y="2428920"/>
            <a:ext cx="127764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配送网络的设置及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5343840" y="2336760"/>
            <a:ext cx="12776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6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配送网络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9"/>
          <p:cNvSpPr/>
          <p:nvPr/>
        </p:nvSpPr>
        <p:spPr>
          <a:xfrm>
            <a:off x="7019640" y="2478240"/>
            <a:ext cx="729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7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Object 10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828960" cy="47624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0620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基于电子商务平台，提出合理的配送模式</a:t>
            </a:r>
            <a:br>
              <a:rPr sz="2000"/>
            </a:br>
            <a:r>
              <a:rPr b="0" lang="zh-CN" sz="2000" spc="-1" strike="noStrike">
                <a:solidFill>
                  <a:srgbClr val="1d528d"/>
                </a:solidFill>
                <a:latin typeface="Verdana"/>
                <a:ea typeface="宋体"/>
              </a:rPr>
              <a:t>　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　通过政策研究、现状分析、问卷调查、实地调研、国内外案例对比分析法等方法从消费者、经销商、政府部门、第三方物流服务商等多角度入手对生鲜农产品配送模式进行分析，提出合理的配送模式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完成配送网络的优化，实现北京市农产品最后</a:t>
            </a: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1</a:t>
            </a: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公里的配送。</a:t>
            </a:r>
            <a:br>
              <a:rPr sz="2000"/>
            </a:br>
            <a:r>
              <a:rPr b="0" lang="zh-CN" sz="2000" spc="-1" strike="noStrike">
                <a:solidFill>
                  <a:srgbClr val="1d528d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通过配送网点的选择与设置，完成北京市五环以内的社区的农产品配送网络。在基于电子商务平台的情况下，完成新发地电子商务的农产品的配送网络。实现农产品最后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公里的配送。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5" name="TextBox 66"/>
          <p:cNvSpPr/>
          <p:nvPr/>
        </p:nvSpPr>
        <p:spPr>
          <a:xfrm>
            <a:off x="5715000" y="152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528d"/>
                </a:solidFill>
                <a:latin typeface="华文新魏"/>
                <a:ea typeface="华文新魏"/>
              </a:rPr>
              <a:t>预期成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66"/>
          <p:cNvSpPr/>
          <p:nvPr/>
        </p:nvSpPr>
        <p:spPr>
          <a:xfrm>
            <a:off x="5715000" y="152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528d"/>
                </a:solidFill>
                <a:latin typeface="华文新魏"/>
                <a:ea typeface="华文新魏"/>
              </a:rPr>
              <a:t>进度安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914400" y="1523880"/>
          <a:ext cx="7238880" cy="3800520"/>
        </p:xfrm>
        <a:graphic>
          <a:graphicData uri="http://schemas.openxmlformats.org/drawingml/2006/table">
            <a:tbl>
              <a:tblPr/>
              <a:tblGrid>
                <a:gridCol w="673200"/>
                <a:gridCol w="4208400"/>
                <a:gridCol w="1515960"/>
                <a:gridCol w="84132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毕业设计（论文）各阶段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时间安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确定毕业设计题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阅读中英文相关文献、完成详细的文献阅读笔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确定研究问题、完成开题报告，进行论文相关数据收集、调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撰写研究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完成最终成果，上交所有资料，准备答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毕业设计答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2227320" y="1589040"/>
            <a:ext cx="2220840" cy="185904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0840" y="1589040"/>
            <a:ext cx="2219400" cy="1859040"/>
          </a:xfrm>
          <a:prstGeom prst="rect">
            <a:avLst/>
          </a:prstGeom>
          <a:solidFill>
            <a:srgbClr val="ff811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444760" y="202248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成本领先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4829040" y="20224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差异化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88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参考文献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矩形 1"/>
          <p:cNvSpPr/>
          <p:nvPr/>
        </p:nvSpPr>
        <p:spPr>
          <a:xfrm>
            <a:off x="754200" y="1268280"/>
            <a:ext cx="785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要参考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锁超市生鲜农产品物流配送模式选择分析——黑龙江八一农垦大学经济管理学院，朱晓琳 王新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鲜农产品配送模式的对比分析研究——浙江经贸职业技术学院，司银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农产品流通问题探究——以新发地为例，高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丘岳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陈亚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Dijkstr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算法在多约束农产品配送最优路径中的研究应用——浙江工业大学计算机科学与技术学院，张美玉，侯向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子商务环境下物流配送模式选择——中南林业科技大学，符瑛，彭银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子商务环境下的物流配送模式选择研究——郑州大学管理工程系，张成志，赵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蔬”香门“递”——蔬菜流通问题调查与研究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物流设计大赛参赛组鲜蔬时间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于配送中心发展中的若干问题与解决方案——中南财经政法大学工商管理学院，叶汉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9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于时效性和响应性的生鲜农产品配送中心选址模型研究——南开大学现代物流研究中心，肖建华，熊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227320" y="1589040"/>
            <a:ext cx="2220840" cy="185904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0840" y="1589040"/>
            <a:ext cx="2219400" cy="1859040"/>
          </a:xfrm>
          <a:prstGeom prst="rect">
            <a:avLst/>
          </a:prstGeom>
          <a:solidFill>
            <a:srgbClr val="ff811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444760" y="202248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成本领先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829040" y="20224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差异化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参考文献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矩形 1"/>
          <p:cNvSpPr/>
          <p:nvPr/>
        </p:nvSpPr>
        <p:spPr>
          <a:xfrm>
            <a:off x="754200" y="1268280"/>
            <a:ext cx="785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完善新发地农产品电子商务平台的对策建议——北京农业职业学院，北京市科学技术委员会农村发展中心，薛晓燕，张晓华，段晓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配送能力限制的易腐农产品配送中心选址方法——郑州大学，山东理工职业学院，狄卫民，岳耀雪，陈国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2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优化果蔬配送 发展农产品物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梅县果蔬物流现状的调查与思考，广东商学院工商管理学院，中山大学管理学院，韦琦，刘莹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3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农产品供应链网络模型及优化策略研究（博士学位论文）——山东大学控制理论与控制工程专业，廖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4]WJ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物流配送模式研究（硕士论文）——华中科技大学工商管理专业，郭慧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5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市农业支持政策体系研究（硕士论文）——中国农业大学农业经济管理专业，刘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6]LI Zheng-you et al. Discussion n the Neecessity of the Development of Modern Agricultural Product Logistics in China[J].Agricultural Science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7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农产品流通理论思考与实践探索：北京新发地市场的实践与经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张玉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使用规范说明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05D-AE79-4CDF-8CBD-60441BA15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目录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2050920" y="2720880"/>
            <a:ext cx="5311800" cy="689040"/>
            <a:chOff x="2050920" y="2720880"/>
            <a:chExt cx="5311800" cy="689040"/>
          </a:xfrm>
        </p:grpSpPr>
        <p:sp>
          <p:nvSpPr>
            <p:cNvPr id="185" name="AutoShape 4"/>
            <p:cNvSpPr/>
            <p:nvPr/>
          </p:nvSpPr>
          <p:spPr>
            <a:xfrm>
              <a:off x="2050920" y="272088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da1f28"/>
                </a:gs>
                <a:gs pos="50000">
                  <a:srgbClr val="c91c24"/>
                </a:gs>
                <a:gs pos="100000">
                  <a:srgbClr val="da1f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5"/>
            <p:cNvGrpSpPr/>
            <p:nvPr/>
          </p:nvGrpSpPr>
          <p:grpSpPr>
            <a:xfrm>
              <a:off x="2063880" y="2742120"/>
              <a:ext cx="5292000" cy="636840"/>
              <a:chOff x="2063880" y="2742120"/>
              <a:chExt cx="5292000" cy="63684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63880" y="3214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1f2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7"/>
              <p:cNvSpPr/>
              <p:nvPr/>
            </p:nvSpPr>
            <p:spPr>
              <a:xfrm>
                <a:off x="2063880" y="2742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a1f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8"/>
          <p:cNvGrpSpPr/>
          <p:nvPr/>
        </p:nvGrpSpPr>
        <p:grpSpPr>
          <a:xfrm>
            <a:off x="2050920" y="3586320"/>
            <a:ext cx="5311800" cy="688680"/>
            <a:chOff x="2050920" y="3586320"/>
            <a:chExt cx="5311800" cy="688680"/>
          </a:xfrm>
        </p:grpSpPr>
        <p:sp>
          <p:nvSpPr>
            <p:cNvPr id="190" name="AutoShape 9"/>
            <p:cNvSpPr/>
            <p:nvPr/>
          </p:nvSpPr>
          <p:spPr>
            <a:xfrm>
              <a:off x="2050920" y="3586320"/>
              <a:ext cx="5311800" cy="68868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8119"/>
                </a:gs>
                <a:gs pos="50000">
                  <a:srgbClr val="e97717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0"/>
            <p:cNvGrpSpPr/>
            <p:nvPr/>
          </p:nvGrpSpPr>
          <p:grpSpPr>
            <a:xfrm>
              <a:off x="2063880" y="3607560"/>
              <a:ext cx="5292000" cy="636840"/>
              <a:chOff x="2063880" y="3607560"/>
              <a:chExt cx="5292000" cy="63684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2063880" y="4079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811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2"/>
              <p:cNvSpPr/>
              <p:nvPr/>
            </p:nvSpPr>
            <p:spPr>
              <a:xfrm>
                <a:off x="2063880" y="3607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81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2049480" y="1857240"/>
            <a:ext cx="5311800" cy="689040"/>
            <a:chOff x="2049480" y="1857240"/>
            <a:chExt cx="5311800" cy="689040"/>
          </a:xfrm>
        </p:grpSpPr>
        <p:sp>
          <p:nvSpPr>
            <p:cNvPr id="195" name="AutoShape 19"/>
            <p:cNvSpPr/>
            <p:nvPr/>
          </p:nvSpPr>
          <p:spPr>
            <a:xfrm>
              <a:off x="2049480" y="185724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2da2bf"/>
                </a:gs>
                <a:gs pos="50000">
                  <a:srgbClr val="2995af"/>
                </a:gs>
                <a:gs pos="100000">
                  <a:srgbClr val="2d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0"/>
            <p:cNvGrpSpPr/>
            <p:nvPr/>
          </p:nvGrpSpPr>
          <p:grpSpPr>
            <a:xfrm>
              <a:off x="2062440" y="1878480"/>
              <a:ext cx="5292000" cy="636840"/>
              <a:chOff x="2062440" y="1878480"/>
              <a:chExt cx="5292000" cy="636840"/>
            </a:xfrm>
          </p:grpSpPr>
          <p:sp>
            <p:nvSpPr>
              <p:cNvPr id="197" name="AutoShape 21"/>
              <p:cNvSpPr/>
              <p:nvPr/>
            </p:nvSpPr>
            <p:spPr>
              <a:xfrm>
                <a:off x="2062440" y="2350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da2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22"/>
              <p:cNvSpPr/>
              <p:nvPr/>
            </p:nvSpPr>
            <p:spPr>
              <a:xfrm>
                <a:off x="2062440" y="1878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da2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 Box 23"/>
          <p:cNvSpPr/>
          <p:nvPr/>
        </p:nvSpPr>
        <p:spPr>
          <a:xfrm>
            <a:off x="2700360" y="1971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文献综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2529000" y="282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参考文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2529000" y="3687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研究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8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66960" y="3560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9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66960" y="2709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0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55800" y="1852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2"/>
          <p:cNvSpPr/>
          <p:nvPr/>
        </p:nvSpPr>
        <p:spPr>
          <a:xfrm>
            <a:off x="2359080" y="1949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2189160" y="2808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218916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140184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7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835280" y="5446800"/>
            <a:ext cx="79200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0" descr=""/>
          <p:cNvPicPr/>
          <p:nvPr/>
        </p:nvPicPr>
        <p:blipFill>
          <a:blip r:embed="rId1"/>
          <a:stretch/>
        </p:blipFill>
        <p:spPr>
          <a:xfrm>
            <a:off x="-57240" y="3718080"/>
            <a:ext cx="4619880" cy="2857320"/>
          </a:xfrm>
          <a:prstGeom prst="rect">
            <a:avLst/>
          </a:prstGeom>
          <a:ln w="0">
            <a:noFill/>
          </a:ln>
        </p:spPr>
      </p:pic>
      <p:sp>
        <p:nvSpPr>
          <p:cNvPr id="575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593"/>
              </a:gs>
              <a:gs pos="50000">
                <a:srgbClr val="48bae0"/>
              </a:gs>
              <a:gs pos="100000">
                <a:srgbClr val="007593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0" y="4952880"/>
            <a:ext cx="9144000" cy="1911600"/>
            <a:chOff x="0" y="4952880"/>
            <a:chExt cx="9144000" cy="1911600"/>
          </a:xfrm>
        </p:grpSpPr>
        <p:sp>
          <p:nvSpPr>
            <p:cNvPr id="577" name=""/>
            <p:cNvSpPr txBox="1"/>
            <p:nvPr/>
          </p:nvSpPr>
          <p:spPr>
            <a:xfrm>
              <a:off x="1690560" y="4952880"/>
              <a:ext cx="7453440" cy="487800"/>
            </a:xfrm>
            <a:prstGeom prst="rect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8880" y="5237280"/>
              <a:ext cx="9105120" cy="78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3600" y="5000760"/>
              <a:ext cx="9140400" cy="186372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tile tx="0" ty="0" sx="100000" sy="100000" algn="ctr"/>
            </a:blip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11"/>
            <p:cNvSpPr/>
            <p:nvPr/>
          </p:nvSpPr>
          <p:spPr>
            <a:xfrm>
              <a:off x="0" y="4997520"/>
              <a:ext cx="914400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98560" y="278136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Thank You!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3"/>
          <p:cNvCxnSpPr/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212" name="AutoShape 4"/>
          <p:cNvCxnSpPr/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213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农产品发展趋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123920" y="2496960"/>
            <a:ext cx="1314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686e"/>
                </a:solidFill>
                <a:latin typeface="黑体"/>
                <a:ea typeface="黑体"/>
              </a:rPr>
              <a:t>      </a:t>
            </a: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整个农产品的配送将逐渐趋向一体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221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3051000" y="2776680"/>
            <a:ext cx="122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配送专业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9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228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22"/>
          <p:cNvSpPr/>
          <p:nvPr/>
        </p:nvSpPr>
        <p:spPr>
          <a:xfrm>
            <a:off x="4948200" y="2595600"/>
            <a:ext cx="1212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农产品配送的网络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4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233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6634080" y="2695680"/>
            <a:ext cx="1650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农产品配送信息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673200" y="440856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2593800" y="4378320"/>
            <a:ext cx="21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4508640" y="43480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6404040" y="432108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研究背景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国内外研究现状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292720" y="1628640"/>
            <a:ext cx="2849400" cy="5042160"/>
          </a:xfrm>
          <a:custGeom>
            <a:avLst/>
            <a:gdLst>
              <a:gd name="textAreaLeft" fmla="*/ 66600 w 2849400"/>
              <a:gd name="textAreaRight" fmla="*/ 2782800 w 2849400"/>
              <a:gd name="textAreaTop" fmla="*/ 66600 h 5042160"/>
              <a:gd name="textAreaBottom" fmla="*/ 4975560 h 5042160"/>
            </a:gdLst>
            <a:ahLst/>
            <a:rect l="textAreaLeft" t="textAreaTop" r="textAreaRight" b="textAreaBottom"/>
            <a:pathLst>
              <a:path w="21600" h="38220">
                <a:moveTo>
                  <a:pt x="1731" y="0"/>
                </a:moveTo>
                <a:arcTo wR="1731" hR="1731" stAng="16200000" swAng="-5400000"/>
                <a:lnTo>
                  <a:pt x="0" y="36489"/>
                </a:lnTo>
                <a:arcTo wR="1731" hR="1731" stAng="10800000" swAng="-5400000"/>
                <a:lnTo>
                  <a:pt x="19869" y="38220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365800" y="1631880"/>
            <a:ext cx="2701800" cy="4970520"/>
          </a:xfrm>
          <a:custGeom>
            <a:avLst/>
            <a:gdLst>
              <a:gd name="textAreaLeft" fmla="*/ 62280 w 2701800"/>
              <a:gd name="textAreaRight" fmla="*/ 2639520 w 2701800"/>
              <a:gd name="textAreaTop" fmla="*/ 62280 h 4970520"/>
              <a:gd name="textAreaBottom" fmla="*/ 4908240 h 4970520"/>
            </a:gdLst>
            <a:ahLst/>
            <a:rect l="textAreaLeft" t="textAreaTop" r="textAreaRight" b="textAreaBottom"/>
            <a:pathLst>
              <a:path w="21600" h="39735">
                <a:moveTo>
                  <a:pt x="1708" y="0"/>
                </a:moveTo>
                <a:arcTo wR="1708" hR="1708" stAng="16200000" swAng="-5400000"/>
                <a:lnTo>
                  <a:pt x="0" y="38027"/>
                </a:lnTo>
                <a:arcTo wR="1708" hR="1708" stAng="10800000" swAng="-5400000"/>
                <a:lnTo>
                  <a:pt x="19892" y="39735"/>
                </a:lnTo>
                <a:arcTo wR="1708" hR="1708" stAng="5400000" swAng="-5400000"/>
                <a:lnTo>
                  <a:pt x="21600" y="1708"/>
                </a:lnTo>
                <a:arcTo wR="1708" hR="1708" stAng="0" swAng="-5400000"/>
                <a:close/>
              </a:path>
            </a:pathLst>
          </a:custGeom>
          <a:gradFill rotWithShape="0">
            <a:gsLst>
              <a:gs pos="0">
                <a:srgbClr val="afdbe7"/>
              </a:gs>
              <a:gs pos="100000">
                <a:srgbClr val="2da2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776160" y="1022400"/>
            <a:ext cx="2857320" cy="466560"/>
            <a:chOff x="776160" y="1022400"/>
            <a:chExt cx="2857320" cy="466560"/>
          </a:xfrm>
        </p:grpSpPr>
        <p:sp>
          <p:nvSpPr>
            <p:cNvPr id="246" name="AutoShape 6"/>
            <p:cNvSpPr/>
            <p:nvPr/>
          </p:nvSpPr>
          <p:spPr>
            <a:xfrm>
              <a:off x="776160" y="10224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1f28"/>
                </a:gs>
                <a:gs pos="50000">
                  <a:srgbClr val="ad191f"/>
                </a:gs>
                <a:gs pos="100000">
                  <a:srgbClr val="da1f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 flipH="1">
              <a:off x="349092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80640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5272200" y="1022400"/>
            <a:ext cx="2856960" cy="466560"/>
            <a:chOff x="5272200" y="1022400"/>
            <a:chExt cx="2856960" cy="466560"/>
          </a:xfrm>
        </p:grpSpPr>
        <p:sp>
          <p:nvSpPr>
            <p:cNvPr id="250" name="AutoShape 10"/>
            <p:cNvSpPr/>
            <p:nvPr/>
          </p:nvSpPr>
          <p:spPr>
            <a:xfrm>
              <a:off x="5272200" y="10224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da2bf"/>
                </a:gs>
                <a:gs pos="50000">
                  <a:srgbClr val="2890a9"/>
                </a:gs>
                <a:gs pos="100000">
                  <a:srgbClr val="2da2bf"/>
                </a:gs>
              </a:gsLst>
              <a:lin ang="10800000"/>
            </a:gradFill>
            <a:ln w="1260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 flipH="1">
              <a:off x="798660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530244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13"/>
          <p:cNvSpPr/>
          <p:nvPr/>
        </p:nvSpPr>
        <p:spPr>
          <a:xfrm>
            <a:off x="826920" y="1628640"/>
            <a:ext cx="2849760" cy="5042160"/>
          </a:xfrm>
          <a:custGeom>
            <a:avLst/>
            <a:gdLst>
              <a:gd name="textAreaLeft" fmla="*/ 66600 w 2849760"/>
              <a:gd name="textAreaRight" fmla="*/ 2783160 w 2849760"/>
              <a:gd name="textAreaTop" fmla="*/ 66600 h 5042160"/>
              <a:gd name="textAreaBottom" fmla="*/ 4975560 h 5042160"/>
            </a:gdLst>
            <a:ahLst/>
            <a:rect l="textAreaLeft" t="textAreaTop" r="textAreaRight" b="textAreaBottom"/>
            <a:pathLst>
              <a:path w="21600" h="38215">
                <a:moveTo>
                  <a:pt x="1731" y="0"/>
                </a:moveTo>
                <a:arcTo wR="1731" hR="1731" stAng="16200000" swAng="-5400000"/>
                <a:lnTo>
                  <a:pt x="0" y="36484"/>
                </a:lnTo>
                <a:arcTo wR="1731" hR="1731" stAng="10800000" swAng="-5400000"/>
                <a:lnTo>
                  <a:pt x="19869" y="38215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1042920" y="11016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国外研究现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5592600" y="11016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国内研究现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 flipH="1" flipV="1" rot="10806000">
            <a:off x="3706920" y="2133360"/>
            <a:ext cx="1446120" cy="755640"/>
          </a:xfrm>
          <a:prstGeom prst="rightArrow">
            <a:avLst>
              <a:gd name="adj1" fmla="val 46509"/>
              <a:gd name="adj2" fmla="val 42032"/>
            </a:avLst>
          </a:prstGeom>
          <a:gradFill rotWithShape="0">
            <a:gsLst>
              <a:gs pos="0">
                <a:srgbClr val="da1f28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918040" y="17272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物流配送领域的相关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6018120" y="22986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农产品物流配送方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5472000" y="2511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物流配送领域的相关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农产品物流配送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1"/>
          <p:cNvGrpSpPr/>
          <p:nvPr/>
        </p:nvGrpSpPr>
        <p:grpSpPr>
          <a:xfrm>
            <a:off x="5429160" y="1797120"/>
            <a:ext cx="168480" cy="168120"/>
            <a:chOff x="5429160" y="1797120"/>
            <a:chExt cx="168480" cy="168120"/>
          </a:xfrm>
        </p:grpSpPr>
        <p:sp>
          <p:nvSpPr>
            <p:cNvPr id="261" name="Oval 22"/>
            <p:cNvSpPr/>
            <p:nvPr/>
          </p:nvSpPr>
          <p:spPr>
            <a:xfrm>
              <a:off x="5429160" y="17971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1c7d3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3"/>
            <p:cNvSpPr/>
            <p:nvPr/>
          </p:nvSpPr>
          <p:spPr>
            <a:xfrm>
              <a:off x="5442480" y="18111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bc5d7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4"/>
          <p:cNvGrpSpPr/>
          <p:nvPr/>
        </p:nvGrpSpPr>
        <p:grpSpPr>
          <a:xfrm>
            <a:off x="5443560" y="2370240"/>
            <a:ext cx="168120" cy="168120"/>
            <a:chOff x="5443560" y="2370240"/>
            <a:chExt cx="168120" cy="168120"/>
          </a:xfrm>
        </p:grpSpPr>
        <p:sp>
          <p:nvSpPr>
            <p:cNvPr id="264" name="Oval 25"/>
            <p:cNvSpPr/>
            <p:nvPr/>
          </p:nvSpPr>
          <p:spPr>
            <a:xfrm>
              <a:off x="5443560" y="2370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1c7d3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6"/>
            <p:cNvSpPr/>
            <p:nvPr/>
          </p:nvSpPr>
          <p:spPr>
            <a:xfrm>
              <a:off x="5456880" y="2384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bc5d7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28"/>
          <p:cNvSpPr/>
          <p:nvPr/>
        </p:nvSpPr>
        <p:spPr>
          <a:xfrm>
            <a:off x="898560" y="2471760"/>
            <a:ext cx="2698560" cy="79200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9"/>
          <p:cNvSpPr/>
          <p:nvPr/>
        </p:nvSpPr>
        <p:spPr>
          <a:xfrm>
            <a:off x="898560" y="3335400"/>
            <a:ext cx="2698560" cy="66996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0"/>
          <p:cNvSpPr/>
          <p:nvPr/>
        </p:nvSpPr>
        <p:spPr>
          <a:xfrm>
            <a:off x="898560" y="1677960"/>
            <a:ext cx="2698560" cy="72072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1377720" y="1797120"/>
            <a:ext cx="18212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01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约翰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鲁威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启发了人们对于物流理论的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1166400" y="2543040"/>
            <a:ext cx="1892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代，物流概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的研究从内涵到外延的发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过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3"/>
          <p:cNvSpPr/>
          <p:nvPr/>
        </p:nvSpPr>
        <p:spPr>
          <a:xfrm>
            <a:off x="969840" y="3406680"/>
            <a:ext cx="2635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代初，物流的研究进入供应链管理阶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4"/>
          <p:cNvSpPr/>
          <p:nvPr/>
        </p:nvSpPr>
        <p:spPr>
          <a:xfrm flipV="1" rot="10794000">
            <a:off x="3676320" y="2736360"/>
            <a:ext cx="1447920" cy="755640"/>
          </a:xfrm>
          <a:prstGeom prst="rightArrow">
            <a:avLst>
              <a:gd name="adj1" fmla="val 46509"/>
              <a:gd name="adj2" fmla="val 42093"/>
            </a:avLst>
          </a:prstGeom>
          <a:gradFill rotWithShape="0">
            <a:gsLst>
              <a:gs pos="0">
                <a:srgbClr val="2da2b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9"/>
          <p:cNvSpPr/>
          <p:nvPr/>
        </p:nvSpPr>
        <p:spPr>
          <a:xfrm>
            <a:off x="880920" y="4095720"/>
            <a:ext cx="2698920" cy="73512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>
            <a:off x="961920" y="4125960"/>
            <a:ext cx="2635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01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，美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F.Growell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在关于农产品物流配送的报告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9"/>
          <p:cNvSpPr/>
          <p:nvPr/>
        </p:nvSpPr>
        <p:spPr>
          <a:xfrm>
            <a:off x="898560" y="4921200"/>
            <a:ext cx="2698560" cy="64764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898560" y="4919760"/>
            <a:ext cx="2635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有关农产品配送业的研究主要侧重于农产品物流配送模式、物流成本和物流效率等方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9"/>
          <p:cNvSpPr/>
          <p:nvPr/>
        </p:nvSpPr>
        <p:spPr>
          <a:xfrm>
            <a:off x="898560" y="5662440"/>
            <a:ext cx="2663640" cy="93672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3"/>
          <p:cNvSpPr/>
          <p:nvPr/>
        </p:nvSpPr>
        <p:spPr>
          <a:xfrm>
            <a:off x="898560" y="5734080"/>
            <a:ext cx="2736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这样存在小生产大市场的现实矛盾的国家，其农业是小规模化经营，而其市场资源是广阔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5959440" y="38955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生鲜农产品配送方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5442120" y="3981600"/>
            <a:ext cx="168120" cy="168120"/>
            <a:chOff x="5442120" y="3981600"/>
            <a:chExt cx="168120" cy="168120"/>
          </a:xfrm>
        </p:grpSpPr>
        <p:sp>
          <p:nvSpPr>
            <p:cNvPr id="281" name="Oval 25"/>
            <p:cNvSpPr/>
            <p:nvPr/>
          </p:nvSpPr>
          <p:spPr>
            <a:xfrm>
              <a:off x="5442120" y="398160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1c7d3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5455440" y="399564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bc5d7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20"/>
          <p:cNvSpPr/>
          <p:nvPr/>
        </p:nvSpPr>
        <p:spPr>
          <a:xfrm>
            <a:off x="5437080" y="417528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鲜农产品概念界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鲜农产品物流配送的特殊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鲜农产品配送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27320" y="1589040"/>
            <a:ext cx="2220840" cy="185904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0840" y="1589040"/>
            <a:ext cx="2219400" cy="1859040"/>
          </a:xfrm>
          <a:prstGeom prst="rect">
            <a:avLst/>
          </a:prstGeom>
          <a:solidFill>
            <a:srgbClr val="ff811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227320" y="3570120"/>
            <a:ext cx="2220840" cy="1857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0" y="3573360"/>
            <a:ext cx="2219400" cy="1857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039760" y="5513400"/>
            <a:ext cx="491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国内外现状综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347760" y="1484280"/>
            <a:ext cx="8426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国内外学者在物流配送领域的研究比较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丰富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并且有实用价值，但在农产品物流配送还处于外部研究的范畴，尤其是国内农产品物流本身处于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刚起步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发展阶段，大部分的研究还在借鉴国外的发展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因此农产品物流配送的研究多集中于配送主体组织的培育，配送系统的构建和模式发展的宏观探索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从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国外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农产品物流发展经验来看，连锁超市逐渐成为农产品经营的主体，而在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我国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批发市场在农产品供应商占据着很重要的地位，而现在大部分的研究都只是停留在总结发展现状，寻求对策的基础之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因此，我们希望对现在已有的定性分析的基础之上，能够提出一种新的以北京新发地为例的农产品配送模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5972040" y="2203560"/>
            <a:ext cx="2748240" cy="3097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研究问题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4402080" y="224172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365200" y="2243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55680" y="1943280"/>
            <a:ext cx="4426200" cy="517320"/>
          </a:xfrm>
          <a:prstGeom prst="rect">
            <a:avLst/>
          </a:prstGeom>
          <a:gradFill rotWithShape="0">
            <a:gsLst>
              <a:gs pos="0">
                <a:srgbClr val="da1f28"/>
              </a:gs>
              <a:gs pos="100000">
                <a:srgbClr val="640e1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422280" y="1946160"/>
            <a:ext cx="2882880" cy="289584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7083"/>
              </a:gs>
              <a:gs pos="100000">
                <a:srgbClr val="2da2b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22280" y="2243160"/>
            <a:ext cx="22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686e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ea686e"/>
                </a:solidFill>
                <a:latin typeface="黑体"/>
                <a:ea typeface="黑体"/>
              </a:rPr>
              <a:t>由于现在电子商务发展迅速，而且人们的生活水平也在逐渐的提升，简单的农产品的购买方式已经远远不满足现代人的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5694480" y="5300640"/>
            <a:ext cx="349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一种可行有效的配送方式，完成新发地电子商务在面向整个北京的个体客户的配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定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5076720" y="2749680"/>
            <a:ext cx="167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686e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ea686e"/>
                </a:solidFill>
                <a:latin typeface="黑体"/>
                <a:ea typeface="黑体"/>
              </a:rPr>
              <a:t>如何使新发地农产品电子商务平台直接面向居民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762120" y="1751040"/>
            <a:ext cx="647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59280" y="2287440"/>
            <a:ext cx="167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686e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ea686e"/>
                </a:solidFill>
                <a:latin typeface="黑体"/>
                <a:ea typeface="黑体"/>
              </a:rPr>
              <a:t>新发地已建有的电子商务平台，在农产品直接配送至个体顾客水中的业务还没有涉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研究意义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60352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22680" y="2778120"/>
            <a:ext cx="366840" cy="15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2300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6"/>
          <p:cNvGrpSpPr/>
          <p:nvPr/>
        </p:nvGrpSpPr>
        <p:grpSpPr>
          <a:xfrm>
            <a:off x="2266920" y="1628640"/>
            <a:ext cx="1361520" cy="1321920"/>
            <a:chOff x="2266920" y="1628640"/>
            <a:chExt cx="1361520" cy="1321920"/>
          </a:xfrm>
        </p:grpSpPr>
        <p:sp>
          <p:nvSpPr>
            <p:cNvPr id="307" name="AutoShape 7"/>
            <p:cNvSpPr/>
            <p:nvPr/>
          </p:nvSpPr>
          <p:spPr>
            <a:xfrm>
              <a:off x="2266920" y="162864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2da2bf"/>
                </a:gs>
                <a:gs pos="100000">
                  <a:srgbClr val="1f70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352600" y="1714320"/>
              <a:ext cx="677160" cy="660600"/>
            </a:xfrm>
            <a:prstGeom prst="rect">
              <a:avLst/>
            </a:prstGeom>
            <a:gradFill rotWithShape="0">
              <a:gsLst>
                <a:gs pos="0">
                  <a:srgbClr val="2da2bf"/>
                </a:gs>
                <a:gs pos="50000">
                  <a:srgbClr val="9ad3e1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9"/>
          <p:cNvSpPr/>
          <p:nvPr/>
        </p:nvSpPr>
        <p:spPr>
          <a:xfrm>
            <a:off x="2524320" y="1739880"/>
            <a:ext cx="79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减少农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流通中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环节，缩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产品流通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11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da1f28"/>
                </a:gs>
                <a:gs pos="100000">
                  <a:srgbClr val="9615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106880" y="1730160"/>
              <a:ext cx="676800" cy="660600"/>
            </a:xfrm>
            <a:prstGeom prst="rect">
              <a:avLst/>
            </a:prstGeom>
            <a:gradFill rotWithShape="0">
              <a:gsLst>
                <a:gs pos="0">
                  <a:srgbClr val="da1f28"/>
                </a:gs>
                <a:gs pos="50000">
                  <a:srgbClr val="ee9398"/>
                </a:gs>
                <a:gs pos="100000">
                  <a:srgbClr val="da1f28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314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8119"/>
                </a:gs>
                <a:gs pos="100000">
                  <a:srgbClr val="af59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894280" y="1739880"/>
              <a:ext cx="677160" cy="660240"/>
            </a:xfrm>
            <a:prstGeom prst="rect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c391"/>
                </a:gs>
                <a:gs pos="100000">
                  <a:srgbClr val="ff8119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6"/>
          <p:cNvSpPr/>
          <p:nvPr/>
        </p:nvSpPr>
        <p:spPr>
          <a:xfrm>
            <a:off x="4307040" y="1731960"/>
            <a:ext cx="79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降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农产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流通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5983200" y="1730520"/>
            <a:ext cx="101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健全农产品市场机制和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895480" y="4538520"/>
            <a:ext cx="47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健全市场价格机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改进市场交易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完善市场的信息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1" descr=""/>
          <p:cNvPicPr/>
          <p:nvPr/>
        </p:nvPicPr>
        <p:blipFill>
          <a:blip r:embed="rId1"/>
          <a:stretch/>
        </p:blipFill>
        <p:spPr>
          <a:xfrm>
            <a:off x="88740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2"/>
          <p:cNvSpPr/>
          <p:nvPr/>
        </p:nvSpPr>
        <p:spPr>
          <a:xfrm>
            <a:off x="1211400" y="461016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华文宋体"/>
                <a:ea typeface="华文宋体"/>
              </a:rPr>
              <a:t>健全农产品市场机制和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内部环境分析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60352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22680" y="2778120"/>
            <a:ext cx="366840" cy="15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92300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2266920" y="1628640"/>
            <a:ext cx="1361520" cy="1321920"/>
            <a:chOff x="2266920" y="1628640"/>
            <a:chExt cx="1361520" cy="1321920"/>
          </a:xfrm>
        </p:grpSpPr>
        <p:sp>
          <p:nvSpPr>
            <p:cNvPr id="327" name="AutoShape 7"/>
            <p:cNvSpPr/>
            <p:nvPr/>
          </p:nvSpPr>
          <p:spPr>
            <a:xfrm>
              <a:off x="2266920" y="162864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2da2bf"/>
                </a:gs>
                <a:gs pos="100000">
                  <a:srgbClr val="1f70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2352600" y="1714320"/>
              <a:ext cx="677160" cy="660600"/>
            </a:xfrm>
            <a:prstGeom prst="rect">
              <a:avLst/>
            </a:prstGeom>
            <a:gradFill rotWithShape="0">
              <a:gsLst>
                <a:gs pos="0">
                  <a:srgbClr val="2da2bf"/>
                </a:gs>
                <a:gs pos="50000">
                  <a:srgbClr val="9ad3e1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9"/>
          <p:cNvSpPr/>
          <p:nvPr/>
        </p:nvSpPr>
        <p:spPr>
          <a:xfrm>
            <a:off x="2704320" y="17715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0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31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da1f28"/>
                </a:gs>
                <a:gs pos="100000">
                  <a:srgbClr val="9615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106880" y="1730160"/>
              <a:ext cx="676800" cy="660600"/>
            </a:xfrm>
            <a:prstGeom prst="rect">
              <a:avLst/>
            </a:prstGeom>
            <a:gradFill rotWithShape="0">
              <a:gsLst>
                <a:gs pos="0">
                  <a:srgbClr val="da1f28"/>
                </a:gs>
                <a:gs pos="50000">
                  <a:srgbClr val="ee9398"/>
                </a:gs>
                <a:gs pos="100000">
                  <a:srgbClr val="da1f28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3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334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8119"/>
                </a:gs>
                <a:gs pos="100000">
                  <a:srgbClr val="af59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894280" y="1739880"/>
              <a:ext cx="677160" cy="660240"/>
            </a:xfrm>
            <a:prstGeom prst="rect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c391"/>
                </a:gs>
                <a:gs pos="100000">
                  <a:srgbClr val="ff8119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16"/>
          <p:cNvSpPr/>
          <p:nvPr/>
        </p:nvSpPr>
        <p:spPr>
          <a:xfrm>
            <a:off x="4433040" y="17715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6157800" y="1771560"/>
            <a:ext cx="7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1" descr="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b9ad9"/>
                </a:solidFill>
                <a:latin typeface="黑体"/>
                <a:ea typeface="黑体"/>
              </a:rPr>
              <a:t>研究方法</a:t>
            </a:r>
            <a:endParaRPr b="0" lang="en-US" sz="4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-2402280" y="1089000"/>
            <a:ext cx="9335880" cy="5151240"/>
            <a:chOff x="-2402280" y="1089000"/>
            <a:chExt cx="9335880" cy="5151240"/>
          </a:xfrm>
        </p:grpSpPr>
        <p:sp>
          <p:nvSpPr>
            <p:cNvPr id="346" name="AutoShape 5"/>
            <p:cNvSpPr/>
            <p:nvPr/>
          </p:nvSpPr>
          <p:spPr>
            <a:xfrm rot="5400000">
              <a:off x="-2571480" y="1257840"/>
              <a:ext cx="5151240" cy="481284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2e2e2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6"/>
            <p:cNvSpPr/>
            <p:nvPr/>
          </p:nvSpPr>
          <p:spPr>
            <a:xfrm flipH="1" rot="5400000">
              <a:off x="-2147400" y="1693440"/>
              <a:ext cx="4309200" cy="3963960"/>
            </a:xfrm>
            <a:prstGeom prst="pie">
              <a:avLst/>
            </a:prstGeom>
            <a:gradFill rotWithShape="0">
              <a:gsLst>
                <a:gs pos="0">
                  <a:srgbClr val="1b9ad9">
                    <a:alpha val="36078"/>
                  </a:srgbClr>
                </a:gs>
                <a:gs pos="100000">
                  <a:srgbClr val="b2dd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7"/>
            <p:cNvGrpSpPr/>
            <p:nvPr/>
          </p:nvGrpSpPr>
          <p:grpSpPr>
            <a:xfrm>
              <a:off x="1475640" y="1487160"/>
              <a:ext cx="4779000" cy="541800"/>
              <a:chOff x="1475640" y="1487160"/>
              <a:chExt cx="4779000" cy="541800"/>
            </a:xfrm>
          </p:grpSpPr>
          <p:sp>
            <p:nvSpPr>
              <p:cNvPr id="349" name="AutoShape 8"/>
              <p:cNvSpPr/>
              <p:nvPr/>
            </p:nvSpPr>
            <p:spPr>
              <a:xfrm>
                <a:off x="1795680" y="1487160"/>
                <a:ext cx="445896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9"/>
              <p:cNvGrpSpPr/>
              <p:nvPr/>
            </p:nvGrpSpPr>
            <p:grpSpPr>
              <a:xfrm>
                <a:off x="1475640" y="1581840"/>
                <a:ext cx="384120" cy="406440"/>
                <a:chOff x="1475640" y="1581840"/>
                <a:chExt cx="384120" cy="406440"/>
              </a:xfrm>
            </p:grpSpPr>
            <p:sp>
              <p:nvSpPr>
                <p:cNvPr id="351" name="Oval 10"/>
                <p:cNvSpPr/>
                <p:nvPr/>
              </p:nvSpPr>
              <p:spPr>
                <a:xfrm>
                  <a:off x="1475640" y="1581840"/>
                  <a:ext cx="38412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1"/>
                <p:cNvSpPr/>
                <p:nvPr/>
              </p:nvSpPr>
              <p:spPr>
                <a:xfrm>
                  <a:off x="1497240" y="1604520"/>
                  <a:ext cx="34020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2"/>
                <p:cNvSpPr/>
                <p:nvPr/>
              </p:nvSpPr>
              <p:spPr>
                <a:xfrm>
                  <a:off x="1518840" y="1626480"/>
                  <a:ext cx="299880" cy="317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3"/>
                <p:cNvSpPr/>
                <p:nvPr/>
              </p:nvSpPr>
              <p:spPr>
                <a:xfrm>
                  <a:off x="1517400" y="1626120"/>
                  <a:ext cx="30024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4"/>
                <p:cNvSpPr/>
                <p:nvPr/>
              </p:nvSpPr>
              <p:spPr>
                <a:xfrm>
                  <a:off x="1537920" y="1647000"/>
                  <a:ext cx="260280" cy="27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5"/>
                <p:cNvSpPr/>
                <p:nvPr/>
              </p:nvSpPr>
              <p:spPr>
                <a:xfrm>
                  <a:off x="1537200" y="164700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6300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Group 16"/>
            <p:cNvGrpSpPr/>
            <p:nvPr/>
          </p:nvGrpSpPr>
          <p:grpSpPr>
            <a:xfrm>
              <a:off x="2013840" y="2309400"/>
              <a:ext cx="4766040" cy="541800"/>
              <a:chOff x="2013840" y="2309400"/>
              <a:chExt cx="4766040" cy="541800"/>
            </a:xfrm>
          </p:grpSpPr>
          <p:sp>
            <p:nvSpPr>
              <p:cNvPr id="358" name="AutoShape 17"/>
              <p:cNvSpPr/>
              <p:nvPr/>
            </p:nvSpPr>
            <p:spPr>
              <a:xfrm>
                <a:off x="2321280" y="230940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Group 18"/>
              <p:cNvGrpSpPr/>
              <p:nvPr/>
            </p:nvGrpSpPr>
            <p:grpSpPr>
              <a:xfrm>
                <a:off x="2013840" y="2422440"/>
                <a:ext cx="384120" cy="406800"/>
                <a:chOff x="2013840" y="2422440"/>
                <a:chExt cx="384120" cy="406800"/>
              </a:xfrm>
            </p:grpSpPr>
            <p:sp>
              <p:nvSpPr>
                <p:cNvPr id="360" name="Oval 19"/>
                <p:cNvSpPr/>
                <p:nvPr/>
              </p:nvSpPr>
              <p:spPr>
                <a:xfrm>
                  <a:off x="2013840" y="2422440"/>
                  <a:ext cx="38412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0"/>
                <p:cNvSpPr/>
                <p:nvPr/>
              </p:nvSpPr>
              <p:spPr>
                <a:xfrm>
                  <a:off x="2035440" y="2445120"/>
                  <a:ext cx="340200" cy="36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21"/>
                <p:cNvSpPr/>
                <p:nvPr/>
              </p:nvSpPr>
              <p:spPr>
                <a:xfrm>
                  <a:off x="2057040" y="2466000"/>
                  <a:ext cx="299880" cy="31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22"/>
                <p:cNvSpPr/>
                <p:nvPr/>
              </p:nvSpPr>
              <p:spPr>
                <a:xfrm>
                  <a:off x="2055600" y="2466720"/>
                  <a:ext cx="30024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23"/>
                <p:cNvSpPr/>
                <p:nvPr/>
              </p:nvSpPr>
              <p:spPr>
                <a:xfrm>
                  <a:off x="2076120" y="2486880"/>
                  <a:ext cx="26028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24"/>
                <p:cNvSpPr/>
                <p:nvPr/>
              </p:nvSpPr>
              <p:spPr>
                <a:xfrm>
                  <a:off x="2075400" y="248760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5c32"/>
                    </a:gs>
                    <a:gs pos="100000">
                      <a:srgbClr val="48be6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25"/>
            <p:cNvGrpSpPr/>
            <p:nvPr/>
          </p:nvGrpSpPr>
          <p:grpSpPr>
            <a:xfrm>
              <a:off x="2167560" y="3236400"/>
              <a:ext cx="4766040" cy="541800"/>
              <a:chOff x="2167560" y="3236400"/>
              <a:chExt cx="4766040" cy="541800"/>
            </a:xfrm>
          </p:grpSpPr>
          <p:sp>
            <p:nvSpPr>
              <p:cNvPr id="367" name="AutoShape 26"/>
              <p:cNvSpPr/>
              <p:nvPr/>
            </p:nvSpPr>
            <p:spPr>
              <a:xfrm>
                <a:off x="2475000" y="323640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27"/>
              <p:cNvGrpSpPr/>
              <p:nvPr/>
            </p:nvGrpSpPr>
            <p:grpSpPr>
              <a:xfrm>
                <a:off x="2167560" y="3317760"/>
                <a:ext cx="384120" cy="406440"/>
                <a:chOff x="2167560" y="3317760"/>
                <a:chExt cx="384120" cy="406440"/>
              </a:xfrm>
            </p:grpSpPr>
            <p:sp>
              <p:nvSpPr>
                <p:cNvPr id="369" name="Oval 28"/>
                <p:cNvSpPr/>
                <p:nvPr/>
              </p:nvSpPr>
              <p:spPr>
                <a:xfrm>
                  <a:off x="2167560" y="3317760"/>
                  <a:ext cx="38412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29"/>
                <p:cNvSpPr/>
                <p:nvPr/>
              </p:nvSpPr>
              <p:spPr>
                <a:xfrm>
                  <a:off x="2189160" y="3340440"/>
                  <a:ext cx="34020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30"/>
                <p:cNvSpPr/>
                <p:nvPr/>
              </p:nvSpPr>
              <p:spPr>
                <a:xfrm>
                  <a:off x="2209680" y="3362040"/>
                  <a:ext cx="29844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1"/>
                <p:cNvSpPr/>
                <p:nvPr/>
              </p:nvSpPr>
              <p:spPr>
                <a:xfrm>
                  <a:off x="2209320" y="3362040"/>
                  <a:ext cx="30024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3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32"/>
                <p:cNvSpPr/>
                <p:nvPr/>
              </p:nvSpPr>
              <p:spPr>
                <a:xfrm>
                  <a:off x="2228400" y="3382560"/>
                  <a:ext cx="258480" cy="2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33"/>
                <p:cNvSpPr/>
                <p:nvPr/>
              </p:nvSpPr>
              <p:spPr>
                <a:xfrm>
                  <a:off x="2229120" y="338292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576d"/>
                    </a:gs>
                    <a:gs pos="100000">
                      <a:srgbClr val="21b3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34"/>
            <p:cNvGrpSpPr/>
            <p:nvPr/>
          </p:nvGrpSpPr>
          <p:grpSpPr>
            <a:xfrm>
              <a:off x="2013840" y="4124880"/>
              <a:ext cx="4766040" cy="541800"/>
              <a:chOff x="2013840" y="4124880"/>
              <a:chExt cx="4766040" cy="541800"/>
            </a:xfrm>
          </p:grpSpPr>
          <p:sp>
            <p:nvSpPr>
              <p:cNvPr id="376" name="AutoShape 35"/>
              <p:cNvSpPr/>
              <p:nvPr/>
            </p:nvSpPr>
            <p:spPr>
              <a:xfrm>
                <a:off x="2321280" y="412488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</a:rPr>
                  <a:t>                 </a:t>
                </a: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</a:rPr>
                  <a:t>4.</a:t>
                </a: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</a:rPr>
                  <a:t>预期成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36"/>
              <p:cNvGrpSpPr/>
              <p:nvPr/>
            </p:nvGrpSpPr>
            <p:grpSpPr>
              <a:xfrm>
                <a:off x="2013840" y="4212720"/>
                <a:ext cx="384120" cy="406800"/>
                <a:chOff x="2013840" y="4212720"/>
                <a:chExt cx="384120" cy="406800"/>
              </a:xfrm>
            </p:grpSpPr>
            <p:sp>
              <p:nvSpPr>
                <p:cNvPr id="378" name="Oval 37"/>
                <p:cNvSpPr/>
                <p:nvPr/>
              </p:nvSpPr>
              <p:spPr>
                <a:xfrm>
                  <a:off x="2013840" y="4212720"/>
                  <a:ext cx="38412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8"/>
                <p:cNvSpPr/>
                <p:nvPr/>
              </p:nvSpPr>
              <p:spPr>
                <a:xfrm>
                  <a:off x="2035440" y="4235400"/>
                  <a:ext cx="340200" cy="36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9"/>
                <p:cNvSpPr/>
                <p:nvPr/>
              </p:nvSpPr>
              <p:spPr>
                <a:xfrm>
                  <a:off x="2057040" y="4257360"/>
                  <a:ext cx="299880" cy="31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40"/>
                <p:cNvSpPr/>
                <p:nvPr/>
              </p:nvSpPr>
              <p:spPr>
                <a:xfrm>
                  <a:off x="2055600" y="4257000"/>
                  <a:ext cx="30024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41"/>
                <p:cNvSpPr/>
                <p:nvPr/>
              </p:nvSpPr>
              <p:spPr>
                <a:xfrm>
                  <a:off x="2076120" y="4277880"/>
                  <a:ext cx="260280" cy="2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42"/>
                <p:cNvSpPr/>
                <p:nvPr/>
              </p:nvSpPr>
              <p:spPr>
                <a:xfrm>
                  <a:off x="2075400" y="427788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326d"/>
                    </a:gs>
                    <a:gs pos="100000">
                      <a:srgbClr val="8d67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Group 43"/>
            <p:cNvGrpSpPr/>
            <p:nvPr/>
          </p:nvGrpSpPr>
          <p:grpSpPr>
            <a:xfrm>
              <a:off x="1552680" y="4987440"/>
              <a:ext cx="4759560" cy="541800"/>
              <a:chOff x="1552680" y="4987440"/>
              <a:chExt cx="4759560" cy="541800"/>
            </a:xfrm>
          </p:grpSpPr>
          <p:sp>
            <p:nvSpPr>
              <p:cNvPr id="385" name="AutoShape 44"/>
              <p:cNvSpPr/>
              <p:nvPr/>
            </p:nvSpPr>
            <p:spPr>
              <a:xfrm>
                <a:off x="1853640" y="498744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45"/>
              <p:cNvGrpSpPr/>
              <p:nvPr/>
            </p:nvGrpSpPr>
            <p:grpSpPr>
              <a:xfrm>
                <a:off x="1552680" y="5040000"/>
                <a:ext cx="358560" cy="406440"/>
                <a:chOff x="1552680" y="5040000"/>
                <a:chExt cx="358560" cy="406440"/>
              </a:xfrm>
            </p:grpSpPr>
            <p:sp>
              <p:nvSpPr>
                <p:cNvPr id="387" name="Oval 46"/>
                <p:cNvSpPr/>
                <p:nvPr/>
              </p:nvSpPr>
              <p:spPr>
                <a:xfrm>
                  <a:off x="1552680" y="5040000"/>
                  <a:ext cx="35856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7"/>
                <p:cNvSpPr/>
                <p:nvPr/>
              </p:nvSpPr>
              <p:spPr>
                <a:xfrm>
                  <a:off x="1572840" y="5062680"/>
                  <a:ext cx="31752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8"/>
                <p:cNvSpPr/>
                <p:nvPr/>
              </p:nvSpPr>
              <p:spPr>
                <a:xfrm>
                  <a:off x="1591920" y="5084280"/>
                  <a:ext cx="27936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9"/>
                <p:cNvSpPr/>
                <p:nvPr/>
              </p:nvSpPr>
              <p:spPr>
                <a:xfrm>
                  <a:off x="1591560" y="5084280"/>
                  <a:ext cx="28008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50"/>
                <p:cNvSpPr/>
                <p:nvPr/>
              </p:nvSpPr>
              <p:spPr>
                <a:xfrm>
                  <a:off x="1611000" y="5104800"/>
                  <a:ext cx="242640" cy="2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51"/>
                <p:cNvSpPr/>
                <p:nvPr/>
              </p:nvSpPr>
              <p:spPr>
                <a:xfrm>
                  <a:off x="1609920" y="5105160"/>
                  <a:ext cx="24336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2e11"/>
                    </a:gs>
                    <a:gs pos="100000">
                      <a:srgbClr val="e35e2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TextBox 2"/>
          <p:cNvSpPr/>
          <p:nvPr/>
        </p:nvSpPr>
        <p:spPr>
          <a:xfrm>
            <a:off x="3048120" y="1619280"/>
            <a:ext cx="44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5"/>
          <p:cNvSpPr/>
          <p:nvPr/>
        </p:nvSpPr>
        <p:spPr>
          <a:xfrm>
            <a:off x="3219480" y="2395440"/>
            <a:ext cx="44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3809880" y="3251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2320920" y="5105520"/>
            <a:ext cx="27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进度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8:27:00Z</dcterms:created>
  <dc:creator>www.eeppt.cpm</dc:creator>
  <dc:description>www.eeppt.cpm</dc:description>
  <cp:keywords>www.eeppt.cpm</cp:keywords>
  <dc:language>en-US</dc:language>
  <cp:lastModifiedBy>微软用户</cp:lastModifiedBy>
  <dcterms:modified xsi:type="dcterms:W3CDTF">2015-08-11T14:22:34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