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A13-81EB-4123-9874-37651FBE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20D-A88B-4F40-9629-4C6EC08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615-33BA-4DE0-8AF1-3AC7C7E3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1FB-E0A4-43AA-B172-19F2F66E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CCE-514E-40BA-B925-0A2A4CE4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1E7-8462-414E-9F47-0ED10513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EAD-4020-4AE2-A7CC-2035B40F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D1C-448A-4D77-B882-7DFE745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BE8-9112-43C1-9AE8-8B0BD7B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4A8-8D4F-4DEE-8B99-CF03FD7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53A-B97D-4E6C-B523-2030CB7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C53-B493-4227-94FD-62BB27C8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801A-4B3C-43CB-AAC4-A99253E00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蝙蝠万圣节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652-555F-4AB9-9065-DD7F3242E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685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>www.eeppt.com;</dc:description>
  <cp:keywords>www.eeppt.com</cp:keywords>
  <dc:language>en-US</dc:language>
  <cp:lastModifiedBy>admin</cp:lastModifiedBy>
  <dcterms:modified xsi:type="dcterms:W3CDTF">2015-08-11T14:22:56Z</dcterms:modified>
  <cp:revision>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