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CD3-6120-4E56-B075-49995F2E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7600" y="447336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80B-DE52-41C7-90B9-CB3B2E9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448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088-2101-4775-AE1A-38880BFC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88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5816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760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88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5816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2FA-CEE0-4251-ADC5-29319020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6355-AF81-4C6C-A0C5-EC71EAB0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98D1-D04D-45A5-A86D-155E4814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7B33-B316-4A5F-A139-0FD656D6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BC0D-226E-4CAE-82AD-EEE28385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F296-90AE-40E5-B6B3-97A6A9CB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24080" y="1905120"/>
            <a:ext cx="579096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0764-A2D5-4656-B700-53C31FEE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5B5-5A26-4259-900B-1C280213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0F0-2369-4E8A-947E-1EAC3860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448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442D-35BA-47E7-9A2A-D7F5EBB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605-7249-4049-B433-833ADD0D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57600" y="447336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88CB-8277-46A1-835A-21E1711E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448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E1ED-9B53-4033-A9B5-E6478235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788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58160" y="266688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5760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788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58160" y="4473360"/>
            <a:ext cx="1618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22E3-F325-48D3-84D0-6A5B11EF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4E6-CDE1-43DE-812B-6E63B651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6DD-5F69-4DA4-BDB5-42BBCA0D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EBB-E2C6-4C4B-AD6A-C419E3B7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4080" y="1905120"/>
            <a:ext cx="579096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6A8-0D02-47E3-8093-1DE2D121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968-0C82-4567-91BD-E1E7D22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4480" y="447336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B0F-EA7B-45A0-AB55-18E35D6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4480" y="2666880"/>
            <a:ext cx="24537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7600" y="4473360"/>
            <a:ext cx="50288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C24-2CF7-48C5-AA63-01AC53A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4800" y="3581280"/>
            <a:ext cx="4419360" cy="108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zh-CN" sz="2400" spc="-1" strike="noStrike">
                <a:solidFill>
                  <a:srgbClr val="006666"/>
                </a:solidFill>
                <a:latin typeface="Arial Black"/>
              </a:rPr>
              <a:t>单击此处编辑母版标题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071D51-A55A-4553-8C91-541022E4F5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zh-CN" sz="2400" spc="-1" strike="noStrike">
                <a:solidFill>
                  <a:srgbClr val="006666"/>
                </a:solidFill>
                <a:latin typeface="Arial Black"/>
              </a:rPr>
              <a:t>单击此处编辑母版标题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1BF02B-C02B-4881-81CB-AC0E19B591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14800" y="4092480"/>
            <a:ext cx="4419360" cy="70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006666"/>
                </a:solidFill>
                <a:latin typeface="Arial Black"/>
                <a:ea typeface="宋体"/>
              </a:rPr>
              <a:t>Cool 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4648320"/>
            <a:ext cx="640044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209320" y="22770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抽象设计完整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2400" spc="-1" strike="noStrike">
                <a:solidFill>
                  <a:srgbClr val="006666"/>
                </a:solidFill>
                <a:latin typeface="Arial Black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1905120"/>
            <a:ext cx="57909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2400" spc="-1" strike="noStrike">
                <a:solidFill>
                  <a:srgbClr val="006666"/>
                </a:solidFill>
                <a:latin typeface="Arial Black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57600" y="2666880"/>
            <a:ext cx="5028840" cy="3458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14800" y="3581280"/>
            <a:ext cx="4419360" cy="108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2400" spc="-1" strike="noStrike">
                <a:solidFill>
                  <a:srgbClr val="006666"/>
                </a:solidFill>
                <a:latin typeface="Arial Black"/>
                <a:ea typeface="宋体"/>
              </a:rPr>
              <a:t>Transitional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95640" y="6381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1800" y="533520"/>
            <a:ext cx="5790960" cy="837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Aero"/>
                <a:ea typeface="宋体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ool_gage_prt"/>
          <p:cNvPicPr/>
          <p:nvPr/>
        </p:nvPicPr>
        <p:blipFill>
          <a:blip r:embed="rId1"/>
          <a:stretch/>
        </p:blipFill>
        <p:spPr>
          <a:xfrm>
            <a:off x="5867280" y="4495680"/>
            <a:ext cx="2819160" cy="21142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94" name="Picture 5" descr="cool_gage_qx"/>
          <p:cNvPicPr/>
          <p:nvPr/>
        </p:nvPicPr>
        <p:blipFill>
          <a:blip r:embed="rId2"/>
          <a:stretch/>
        </p:blipFill>
        <p:spPr>
          <a:xfrm>
            <a:off x="2438280" y="1828800"/>
            <a:ext cx="2819160" cy="21142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6" descr="cool_gage_sld"/>
          <p:cNvPicPr/>
          <p:nvPr/>
        </p:nvPicPr>
        <p:blipFill>
          <a:blip r:embed="rId3"/>
          <a:stretch/>
        </p:blipFill>
        <p:spPr>
          <a:xfrm>
            <a:off x="2438280" y="4495680"/>
            <a:ext cx="2819160" cy="21142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7" descr="cool_gage_trs"/>
          <p:cNvPicPr/>
          <p:nvPr/>
        </p:nvPicPr>
        <p:blipFill>
          <a:blip r:embed="rId4"/>
          <a:stretch/>
        </p:blipFill>
        <p:spPr>
          <a:xfrm>
            <a:off x="5867280" y="1828800"/>
            <a:ext cx="2819160" cy="21142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ol_kid">
  <a:themeElements>
    <a:clrScheme name="cool_kid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ol_kid">
  <a:themeElements>
    <a:clrScheme name="cool_kid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ol_kid</Template>
  <TotalTime>6</TotalTime>
  <Application>LibreOffice/7.4.7.2$Linux_X86_64 LibreOffice_project/40$Build-2</Application>
  <AppVersion>15.0000</AppVersion>
  <Words>54</Words>
  <Paragraphs>11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03:39:16Z</dcterms:created>
  <dc:creator>微软中国</dc:creator>
  <dc:description/>
  <dc:language>en-US</dc:language>
  <cp:lastModifiedBy>a</cp:lastModifiedBy>
  <dcterms:modified xsi:type="dcterms:W3CDTF">2015-07-24T07:08:00Z</dcterms:modified>
  <cp:revision>2</cp:revision>
  <dc:subject/>
  <dc:title>Cool Ki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