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7.png" ContentType="image/png"/>
  <Override PartName="/ppt/media/hdphoto3.wdp" ContentType="image/vnd.ms-photo"/>
  <Override PartName="/ppt/media/image18.png" ContentType="image/png"/>
  <Override PartName="/ppt/media/image6.png" ContentType="image/png"/>
  <Override PartName="/ppt/media/image9.png" ContentType="image/png"/>
  <Override PartName="/ppt/media/hdphoto2.wdp" ContentType="image/vnd.ms-photo"/>
  <Override PartName="/ppt/media/image17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8.png" ContentType="image/png"/>
  <Override PartName="/ppt/media/image15.png" ContentType="image/png"/>
  <Override PartName="/ppt/media/hdphoto6.wdp" ContentType="image/vnd.ms-photo"/>
  <Override PartName="/ppt/media/image14.png" ContentType="image/png"/>
  <Override PartName="/ppt/media/hdphoto5.wdp" ContentType="image/vnd.ms-photo"/>
  <Override PartName="/ppt/media/image13.png" ContentType="image/png"/>
  <Override PartName="/ppt/media/image12.png" ContentType="image/png"/>
  <Override PartName="/ppt/media/image11.png" ContentType="image/png"/>
  <Override PartName="/ppt/media/hdphoto4.wdp" ContentType="image/vnd.ms-photo"/>
  <Override PartName="/ppt/media/hdphoto1.wdp" ContentType="image/vnd.ms-photo"/>
  <Override PartName="/ppt/media/image16.jpeg" ContentType="image/jpe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BFA52F-3EB0-4916-8D79-9D903BCC8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360C57-27CE-4AF2-828F-C30E4759A90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5B685F-6643-40AE-945D-4F0FC498AF7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29F938-3489-4770-B484-89F223D0192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E1A528-B480-4B2F-8CFA-8508747BDB8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EEDA3F-1819-4828-BA12-8CF9EBBF614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2F47B6-A1EC-4B90-A0E1-E9F47E9D8CB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FDA15C-1845-4298-B4B2-D1B8A2C8950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7ABC-EC4F-4CF1-856B-85361ADF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6A1C-DD78-4AD3-B5D2-015A9E77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502-4735-4644-A3F7-2CD958C4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1D3-31AF-4018-B9C3-17758EE4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B55C-1733-43F8-B073-5EC49EC2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9EDB-9FD9-4A44-B6AF-D2B04AD3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6201-E6D3-4A3F-95A0-93774155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9990-6C31-4172-AD42-611648BB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E83F-0CCB-4469-9474-ACCB0DE2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7036-8F4A-4E32-B6CC-2BDF986D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C8A8-47E0-4ABF-A4EB-8FEB1713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E992-883F-459D-BBF1-6325E257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A37B-603E-42E2-B17F-06B54F5C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B3E9-26DE-4EFD-94FF-BB6F194B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4AE2-F203-4FB1-8FFC-708B1774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0792-A307-4507-806D-F4432FA1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B645-6564-44A9-A7D8-41852768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83A63-1257-452F-974D-C09292DB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FFCE9-C5EA-42BB-90AC-390D59E1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2C8B1-0DB3-4D27-B809-4EAD8223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1D827-BC3B-48F6-8462-67D21406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EC29C-0984-447B-8F45-BD46B1CA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273-F9DD-4A66-BBFC-89069941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319F5-AE27-442F-A316-5CDC5DEE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4AF73-8B97-4E2B-A052-7D59A04A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11FD3-EBCA-435D-A5C6-F46342C3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E3084-2111-42FD-B5CF-99087F72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132A5-721C-4EF5-BAAE-5512E7B4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F2B64-9BFF-47EF-9834-B92E9329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98BF4-9815-45E1-A3BC-E7AAAAEE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C15-3E3E-48E9-9B8F-15F11F0C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FDC-1E44-4276-AB26-79483CA2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AE45-6898-40ED-813D-B7E7092C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EC3A-C56D-44BA-8647-9ACEDFFE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EB7-A403-40F8-A421-BD9FF537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735-366E-41E8-AF8F-E8158D1B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D7DBEC-C22C-4542-8CFF-6B5A16E3B6D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9359CC-B4EE-4C90-884C-25D04FC2A75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2F0C71-C216-449A-AA51-2AFB658017D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microsoft.com/office/2007/relationships/hdphoto" Target="../media/hdphoto6.wdp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microsoft.com/office/2007/relationships/hdphoto" Target="../media/hdphoto1.wdp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microsoft.com/office/2007/relationships/hdphoto" Target="../media/hdphoto2.wdp"/><Relationship Id="rId3" Type="http://schemas.openxmlformats.org/officeDocument/2006/relationships/image" Target="../media/image6.png"/><Relationship Id="rId4" Type="http://schemas.microsoft.com/office/2007/relationships/hdphoto" Target="../media/hdphoto3.wdp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microsoft.com/office/2007/relationships/hdphoto" Target="../media/hdphoto4.wdp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microsoft.com/office/2007/relationships/hdphoto" Target="../media/hdphoto5.wdp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椭圆 24"/>
          <p:cNvSpPr/>
          <p:nvPr/>
        </p:nvSpPr>
        <p:spPr>
          <a:xfrm>
            <a:off x="2370600" y="4479840"/>
            <a:ext cx="118080" cy="215640"/>
          </a:xfrm>
          <a:prstGeom prst="ellipse">
            <a:avLst/>
          </a:prstGeom>
          <a:solidFill>
            <a:srgbClr val="2c7178"/>
          </a:solidFill>
          <a:ln w="9525">
            <a:solidFill>
              <a:srgbClr val="4fb8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椭圆 32"/>
          <p:cNvSpPr/>
          <p:nvPr/>
        </p:nvSpPr>
        <p:spPr>
          <a:xfrm>
            <a:off x="3163320" y="4489560"/>
            <a:ext cx="118080" cy="215640"/>
          </a:xfrm>
          <a:prstGeom prst="ellipse">
            <a:avLst/>
          </a:prstGeom>
          <a:solidFill>
            <a:srgbClr val="ab8700"/>
          </a:solidFill>
          <a:ln w="9525">
            <a:solidFill>
              <a:srgbClr val="fbd7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椭圆 20"/>
          <p:cNvSpPr/>
          <p:nvPr/>
        </p:nvSpPr>
        <p:spPr>
          <a:xfrm>
            <a:off x="1608480" y="4474080"/>
            <a:ext cx="118080" cy="215640"/>
          </a:xfrm>
          <a:prstGeom prst="ellipse">
            <a:avLst/>
          </a:prstGeom>
          <a:solidFill>
            <a:srgbClr val="bd1d0f"/>
          </a:solidFill>
          <a:ln w="9525">
            <a:solidFill>
              <a:srgbClr val="f1503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椭圆 17"/>
          <p:cNvSpPr/>
          <p:nvPr/>
        </p:nvSpPr>
        <p:spPr>
          <a:xfrm>
            <a:off x="857160" y="4467240"/>
            <a:ext cx="118080" cy="215640"/>
          </a:xfrm>
          <a:prstGeom prst="ellipse">
            <a:avLst/>
          </a:prstGeom>
          <a:solidFill>
            <a:srgbClr val="d21c18"/>
          </a:solidFill>
          <a:ln w="9525">
            <a:solidFill>
              <a:srgbClr val="f084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椭圆 28"/>
          <p:cNvSpPr/>
          <p:nvPr/>
        </p:nvSpPr>
        <p:spPr>
          <a:xfrm>
            <a:off x="117720" y="4464000"/>
            <a:ext cx="118080" cy="215640"/>
          </a:xfrm>
          <a:prstGeom prst="ellipse">
            <a:avLst/>
          </a:prstGeom>
          <a:solidFill>
            <a:srgbClr val="392c48"/>
          </a:solidFill>
          <a:ln w="9525"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椭圆 25"/>
          <p:cNvSpPr/>
          <p:nvPr/>
        </p:nvSpPr>
        <p:spPr>
          <a:xfrm>
            <a:off x="2360520" y="450360"/>
            <a:ext cx="118080" cy="215640"/>
          </a:xfrm>
          <a:prstGeom prst="ellipse">
            <a:avLst/>
          </a:prstGeom>
          <a:solidFill>
            <a:srgbClr val="2c7178"/>
          </a:solidFill>
          <a:ln w="9525">
            <a:solidFill>
              <a:srgbClr val="4fb8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椭圆 33"/>
          <p:cNvSpPr/>
          <p:nvPr/>
        </p:nvSpPr>
        <p:spPr>
          <a:xfrm>
            <a:off x="3153600" y="460080"/>
            <a:ext cx="118080" cy="215640"/>
          </a:xfrm>
          <a:prstGeom prst="ellipse">
            <a:avLst/>
          </a:prstGeom>
          <a:solidFill>
            <a:srgbClr val="ab8700"/>
          </a:solidFill>
          <a:ln w="9525">
            <a:solidFill>
              <a:srgbClr val="fbd7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椭圆 21"/>
          <p:cNvSpPr/>
          <p:nvPr/>
        </p:nvSpPr>
        <p:spPr>
          <a:xfrm>
            <a:off x="1590480" y="442800"/>
            <a:ext cx="118080" cy="215640"/>
          </a:xfrm>
          <a:prstGeom prst="ellipse">
            <a:avLst/>
          </a:prstGeom>
          <a:solidFill>
            <a:srgbClr val="bd1d0f"/>
          </a:solidFill>
          <a:ln w="9525">
            <a:solidFill>
              <a:srgbClr val="f1503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椭圆 16"/>
          <p:cNvSpPr/>
          <p:nvPr/>
        </p:nvSpPr>
        <p:spPr>
          <a:xfrm>
            <a:off x="847440" y="444240"/>
            <a:ext cx="118080" cy="215640"/>
          </a:xfrm>
          <a:prstGeom prst="ellipse">
            <a:avLst/>
          </a:prstGeom>
          <a:solidFill>
            <a:srgbClr val="d21c18"/>
          </a:solidFill>
          <a:ln w="9525">
            <a:solidFill>
              <a:srgbClr val="f0848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椭圆 29"/>
          <p:cNvSpPr/>
          <p:nvPr/>
        </p:nvSpPr>
        <p:spPr>
          <a:xfrm>
            <a:off x="107640" y="441000"/>
            <a:ext cx="118080" cy="215640"/>
          </a:xfrm>
          <a:prstGeom prst="ellipse">
            <a:avLst/>
          </a:prstGeom>
          <a:solidFill>
            <a:srgbClr val="392c48"/>
          </a:solidFill>
          <a:ln w="9525"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0" y="596160"/>
            <a:ext cx="9143640" cy="3960000"/>
          </a:xfrm>
          <a:prstGeom prst="rect">
            <a:avLst/>
          </a:prstGeom>
          <a:solidFill>
            <a:srgbClr val="dae7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-8280" y="596160"/>
            <a:ext cx="9143640" cy="3960000"/>
          </a:xfrm>
          <a:prstGeom prst="rect">
            <a:avLst/>
          </a:prstGeom>
          <a:pattFill prst="openDmnd">
            <a:fgClr>
              <a:srgbClr val="f2f2f2"/>
            </a:fgClr>
            <a:bgClr>
              <a:srgbClr val="d7d7d7"/>
            </a:bgClr>
          </a:patt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圆角矩形 15"/>
          <p:cNvSpPr/>
          <p:nvPr/>
        </p:nvSpPr>
        <p:spPr>
          <a:xfrm>
            <a:off x="888480" y="439560"/>
            <a:ext cx="606240" cy="4248000"/>
          </a:xfrm>
          <a:custGeom>
            <a:avLst/>
            <a:gdLst>
              <a:gd name="textAreaLeft" fmla="*/ 0 w 606240"/>
              <a:gd name="textAreaRight" fmla="*/ 606600 w 606240"/>
              <a:gd name="textAreaTop" fmla="*/ 0 h 4248000"/>
              <a:gd name="textAreaBottom" fmla="*/ 4248360 h 4248000"/>
            </a:gdLst>
            <a:ahLst/>
            <a:rect l="textAreaLeft" t="textAreaTop" r="textAreaRight" b="textAreaBottom"/>
            <a:pathLst>
              <a:path w="738285" h="4248500">
                <a:moveTo>
                  <a:pt x="90213" y="146124"/>
                </a:moveTo>
                <a:cubicBezTo>
                  <a:pt x="128313" y="-4018"/>
                  <a:pt x="-47164" y="10"/>
                  <a:pt x="12490" y="10"/>
                </a:cubicBezTo>
                <a:lnTo>
                  <a:pt x="630271" y="10"/>
                </a:lnTo>
                <a:cubicBezTo>
                  <a:pt x="689925" y="10"/>
                  <a:pt x="738285" y="48370"/>
                  <a:pt x="738285" y="108024"/>
                </a:cubicBezTo>
                <a:lnTo>
                  <a:pt x="738285" y="4140468"/>
                </a:lnTo>
                <a:cubicBezTo>
                  <a:pt x="738285" y="4200122"/>
                  <a:pt x="689925" y="4248482"/>
                  <a:pt x="630271" y="4248482"/>
                </a:cubicBezTo>
                <a:lnTo>
                  <a:pt x="36302" y="4248482"/>
                </a:lnTo>
                <a:cubicBezTo>
                  <a:pt x="-23352" y="4248482"/>
                  <a:pt x="94976" y="4252509"/>
                  <a:pt x="90213" y="4140468"/>
                </a:cubicBezTo>
                <a:lnTo>
                  <a:pt x="90213" y="146124"/>
                </a:lnTo>
                <a:close/>
              </a:path>
            </a:pathLst>
          </a:custGeom>
          <a:solidFill>
            <a:srgbClr val="f0848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圆角矩形 15"/>
          <p:cNvSpPr/>
          <p:nvPr/>
        </p:nvSpPr>
        <p:spPr>
          <a:xfrm>
            <a:off x="1639800" y="443160"/>
            <a:ext cx="606240" cy="4248000"/>
          </a:xfrm>
          <a:custGeom>
            <a:avLst/>
            <a:gdLst>
              <a:gd name="textAreaLeft" fmla="*/ 0 w 606240"/>
              <a:gd name="textAreaRight" fmla="*/ 606600 w 606240"/>
              <a:gd name="textAreaTop" fmla="*/ 0 h 4248000"/>
              <a:gd name="textAreaBottom" fmla="*/ 4248360 h 4248000"/>
            </a:gdLst>
            <a:ahLst/>
            <a:rect l="textAreaLeft" t="textAreaTop" r="textAreaRight" b="textAreaBottom"/>
            <a:pathLst>
              <a:path w="738285" h="4248500">
                <a:moveTo>
                  <a:pt x="90213" y="146124"/>
                </a:moveTo>
                <a:cubicBezTo>
                  <a:pt x="128313" y="-4018"/>
                  <a:pt x="-47164" y="10"/>
                  <a:pt x="12490" y="10"/>
                </a:cubicBezTo>
                <a:lnTo>
                  <a:pt x="630271" y="10"/>
                </a:lnTo>
                <a:cubicBezTo>
                  <a:pt x="689925" y="10"/>
                  <a:pt x="738285" y="48370"/>
                  <a:pt x="738285" y="108024"/>
                </a:cubicBezTo>
                <a:lnTo>
                  <a:pt x="738285" y="4140468"/>
                </a:lnTo>
                <a:cubicBezTo>
                  <a:pt x="738285" y="4200122"/>
                  <a:pt x="689925" y="4248482"/>
                  <a:pt x="630271" y="4248482"/>
                </a:cubicBezTo>
                <a:lnTo>
                  <a:pt x="36302" y="4248482"/>
                </a:lnTo>
                <a:cubicBezTo>
                  <a:pt x="-23352" y="4248482"/>
                  <a:pt x="94976" y="4252509"/>
                  <a:pt x="90213" y="4140468"/>
                </a:cubicBezTo>
                <a:lnTo>
                  <a:pt x="90213" y="146124"/>
                </a:lnTo>
                <a:close/>
              </a:path>
            </a:pathLst>
          </a:custGeom>
          <a:solidFill>
            <a:srgbClr val="f1503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圆角矩形 15"/>
          <p:cNvSpPr/>
          <p:nvPr/>
        </p:nvSpPr>
        <p:spPr>
          <a:xfrm>
            <a:off x="2401920" y="448920"/>
            <a:ext cx="606240" cy="4248000"/>
          </a:xfrm>
          <a:custGeom>
            <a:avLst/>
            <a:gdLst>
              <a:gd name="textAreaLeft" fmla="*/ 0 w 606240"/>
              <a:gd name="textAreaRight" fmla="*/ 606600 w 606240"/>
              <a:gd name="textAreaTop" fmla="*/ 0 h 4248000"/>
              <a:gd name="textAreaBottom" fmla="*/ 4248360 h 4248000"/>
            </a:gdLst>
            <a:ahLst/>
            <a:rect l="textAreaLeft" t="textAreaTop" r="textAreaRight" b="textAreaBottom"/>
            <a:pathLst>
              <a:path w="738285" h="4248500">
                <a:moveTo>
                  <a:pt x="90213" y="146124"/>
                </a:moveTo>
                <a:cubicBezTo>
                  <a:pt x="128313" y="-4018"/>
                  <a:pt x="-47164" y="10"/>
                  <a:pt x="12490" y="10"/>
                </a:cubicBezTo>
                <a:lnTo>
                  <a:pt x="630271" y="10"/>
                </a:lnTo>
                <a:cubicBezTo>
                  <a:pt x="689925" y="10"/>
                  <a:pt x="738285" y="48370"/>
                  <a:pt x="738285" y="108024"/>
                </a:cubicBezTo>
                <a:lnTo>
                  <a:pt x="738285" y="4140468"/>
                </a:lnTo>
                <a:cubicBezTo>
                  <a:pt x="738285" y="4200122"/>
                  <a:pt x="689925" y="4248482"/>
                  <a:pt x="630271" y="4248482"/>
                </a:cubicBezTo>
                <a:lnTo>
                  <a:pt x="36302" y="4248482"/>
                </a:lnTo>
                <a:cubicBezTo>
                  <a:pt x="-23352" y="4248482"/>
                  <a:pt x="94976" y="4252509"/>
                  <a:pt x="90213" y="4140468"/>
                </a:cubicBezTo>
                <a:lnTo>
                  <a:pt x="90213" y="146124"/>
                </a:lnTo>
                <a:close/>
              </a:path>
            </a:pathLst>
          </a:custGeom>
          <a:solidFill>
            <a:srgbClr val="4fb8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圆角矩形 15"/>
          <p:cNvSpPr/>
          <p:nvPr/>
        </p:nvSpPr>
        <p:spPr>
          <a:xfrm>
            <a:off x="149040" y="436320"/>
            <a:ext cx="606240" cy="4248000"/>
          </a:xfrm>
          <a:custGeom>
            <a:avLst/>
            <a:gdLst>
              <a:gd name="textAreaLeft" fmla="*/ 0 w 606240"/>
              <a:gd name="textAreaRight" fmla="*/ 606600 w 606240"/>
              <a:gd name="textAreaTop" fmla="*/ 0 h 4248000"/>
              <a:gd name="textAreaBottom" fmla="*/ 4248360 h 4248000"/>
            </a:gdLst>
            <a:ahLst/>
            <a:rect l="textAreaLeft" t="textAreaTop" r="textAreaRight" b="textAreaBottom"/>
            <a:pathLst>
              <a:path w="738285" h="4248500">
                <a:moveTo>
                  <a:pt x="90213" y="146124"/>
                </a:moveTo>
                <a:cubicBezTo>
                  <a:pt x="128313" y="-4018"/>
                  <a:pt x="-47164" y="10"/>
                  <a:pt x="12490" y="10"/>
                </a:cubicBezTo>
                <a:lnTo>
                  <a:pt x="630271" y="10"/>
                </a:lnTo>
                <a:cubicBezTo>
                  <a:pt x="689925" y="10"/>
                  <a:pt x="738285" y="48370"/>
                  <a:pt x="738285" y="108024"/>
                </a:cubicBezTo>
                <a:lnTo>
                  <a:pt x="738285" y="4140468"/>
                </a:lnTo>
                <a:cubicBezTo>
                  <a:pt x="738285" y="4200122"/>
                  <a:pt x="689925" y="4248482"/>
                  <a:pt x="630271" y="4248482"/>
                </a:cubicBezTo>
                <a:lnTo>
                  <a:pt x="36302" y="4248482"/>
                </a:lnTo>
                <a:cubicBezTo>
                  <a:pt x="-23352" y="4248482"/>
                  <a:pt x="94976" y="4252509"/>
                  <a:pt x="90213" y="4140468"/>
                </a:cubicBezTo>
                <a:lnTo>
                  <a:pt x="90213" y="146124"/>
                </a:lnTo>
                <a:close/>
              </a:path>
            </a:pathLst>
          </a:custGeom>
          <a:solidFill>
            <a:srgbClr val="765b9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圆角矩形 15"/>
          <p:cNvSpPr/>
          <p:nvPr/>
        </p:nvSpPr>
        <p:spPr>
          <a:xfrm>
            <a:off x="3194640" y="458640"/>
            <a:ext cx="606240" cy="4248000"/>
          </a:xfrm>
          <a:custGeom>
            <a:avLst/>
            <a:gdLst>
              <a:gd name="textAreaLeft" fmla="*/ 0 w 606240"/>
              <a:gd name="textAreaRight" fmla="*/ 606600 w 606240"/>
              <a:gd name="textAreaTop" fmla="*/ 0 h 4248000"/>
              <a:gd name="textAreaBottom" fmla="*/ 4248360 h 4248000"/>
            </a:gdLst>
            <a:ahLst/>
            <a:rect l="textAreaLeft" t="textAreaTop" r="textAreaRight" b="textAreaBottom"/>
            <a:pathLst>
              <a:path w="738285" h="4248500">
                <a:moveTo>
                  <a:pt x="90213" y="146124"/>
                </a:moveTo>
                <a:cubicBezTo>
                  <a:pt x="128313" y="-4018"/>
                  <a:pt x="-47164" y="10"/>
                  <a:pt x="12490" y="10"/>
                </a:cubicBezTo>
                <a:lnTo>
                  <a:pt x="630271" y="10"/>
                </a:lnTo>
                <a:cubicBezTo>
                  <a:pt x="689925" y="10"/>
                  <a:pt x="738285" y="48370"/>
                  <a:pt x="738285" y="108024"/>
                </a:cubicBezTo>
                <a:lnTo>
                  <a:pt x="738285" y="4140468"/>
                </a:lnTo>
                <a:cubicBezTo>
                  <a:pt x="738285" y="4200122"/>
                  <a:pt x="689925" y="4248482"/>
                  <a:pt x="630271" y="4248482"/>
                </a:cubicBezTo>
                <a:lnTo>
                  <a:pt x="36302" y="4248482"/>
                </a:lnTo>
                <a:cubicBezTo>
                  <a:pt x="-23352" y="4248482"/>
                  <a:pt x="94976" y="4252509"/>
                  <a:pt x="90213" y="4140468"/>
                </a:cubicBezTo>
                <a:lnTo>
                  <a:pt x="90213" y="146124"/>
                </a:lnTo>
                <a:close/>
              </a:path>
            </a:pathLst>
          </a:custGeom>
          <a:solidFill>
            <a:srgbClr val="b9a0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圆角矩形 15"/>
          <p:cNvSpPr/>
          <p:nvPr/>
        </p:nvSpPr>
        <p:spPr>
          <a:xfrm>
            <a:off x="251640" y="457560"/>
            <a:ext cx="431640" cy="4174920"/>
          </a:xfrm>
          <a:custGeom>
            <a:avLst/>
            <a:gdLst>
              <a:gd name="textAreaLeft" fmla="*/ 0 w 431640"/>
              <a:gd name="textAreaRight" fmla="*/ 432000 w 431640"/>
              <a:gd name="textAreaTop" fmla="*/ 0 h 4174920"/>
              <a:gd name="textAreaBottom" fmla="*/ 4175280 h 4174920"/>
            </a:gdLst>
            <a:ahLst/>
            <a:rect l="textAreaLeft" t="textAreaTop" r="textAreaRight" b="textAreaBottom"/>
            <a:pathLst>
              <a:path w="738285" h="4248500">
                <a:moveTo>
                  <a:pt x="90213" y="146124"/>
                </a:moveTo>
                <a:cubicBezTo>
                  <a:pt x="128313" y="-4018"/>
                  <a:pt x="-47164" y="10"/>
                  <a:pt x="12490" y="10"/>
                </a:cubicBezTo>
                <a:lnTo>
                  <a:pt x="630271" y="10"/>
                </a:lnTo>
                <a:cubicBezTo>
                  <a:pt x="689925" y="10"/>
                  <a:pt x="738285" y="48370"/>
                  <a:pt x="738285" y="108024"/>
                </a:cubicBezTo>
                <a:lnTo>
                  <a:pt x="738285" y="4140468"/>
                </a:lnTo>
                <a:cubicBezTo>
                  <a:pt x="738285" y="4200122"/>
                  <a:pt x="689925" y="4248482"/>
                  <a:pt x="630271" y="4248482"/>
                </a:cubicBezTo>
                <a:lnTo>
                  <a:pt x="36302" y="4248482"/>
                </a:lnTo>
                <a:cubicBezTo>
                  <a:pt x="-23352" y="4248482"/>
                  <a:pt x="94976" y="4252509"/>
                  <a:pt x="90213" y="4140468"/>
                </a:cubicBezTo>
                <a:lnTo>
                  <a:pt x="90213" y="146124"/>
                </a:lnTo>
                <a:close/>
              </a:path>
            </a:pathLst>
          </a:custGeom>
          <a:noFill/>
          <a:ln w="3175">
            <a:solidFill>
              <a:srgbClr val="ffffff">
                <a:lumMod val="65000"/>
              </a:srgbClr>
            </a:solidFill>
            <a:prstDash val="lg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圆角矩形 15"/>
          <p:cNvSpPr/>
          <p:nvPr/>
        </p:nvSpPr>
        <p:spPr>
          <a:xfrm>
            <a:off x="990720" y="468360"/>
            <a:ext cx="431640" cy="4174920"/>
          </a:xfrm>
          <a:custGeom>
            <a:avLst/>
            <a:gdLst>
              <a:gd name="textAreaLeft" fmla="*/ 0 w 431640"/>
              <a:gd name="textAreaRight" fmla="*/ 432000 w 431640"/>
              <a:gd name="textAreaTop" fmla="*/ 0 h 4174920"/>
              <a:gd name="textAreaBottom" fmla="*/ 4175280 h 4174920"/>
            </a:gdLst>
            <a:ahLst/>
            <a:rect l="textAreaLeft" t="textAreaTop" r="textAreaRight" b="textAreaBottom"/>
            <a:pathLst>
              <a:path w="738285" h="4248500">
                <a:moveTo>
                  <a:pt x="90213" y="146124"/>
                </a:moveTo>
                <a:cubicBezTo>
                  <a:pt x="128313" y="-4018"/>
                  <a:pt x="-47164" y="10"/>
                  <a:pt x="12490" y="10"/>
                </a:cubicBezTo>
                <a:lnTo>
                  <a:pt x="630271" y="10"/>
                </a:lnTo>
                <a:cubicBezTo>
                  <a:pt x="689925" y="10"/>
                  <a:pt x="738285" y="48370"/>
                  <a:pt x="738285" y="108024"/>
                </a:cubicBezTo>
                <a:lnTo>
                  <a:pt x="738285" y="4140468"/>
                </a:lnTo>
                <a:cubicBezTo>
                  <a:pt x="738285" y="4200122"/>
                  <a:pt x="689925" y="4248482"/>
                  <a:pt x="630271" y="4248482"/>
                </a:cubicBezTo>
                <a:lnTo>
                  <a:pt x="36302" y="4248482"/>
                </a:lnTo>
                <a:cubicBezTo>
                  <a:pt x="-23352" y="4248482"/>
                  <a:pt x="94976" y="4252509"/>
                  <a:pt x="90213" y="4140468"/>
                </a:cubicBezTo>
                <a:lnTo>
                  <a:pt x="90213" y="146124"/>
                </a:lnTo>
                <a:close/>
              </a:path>
            </a:pathLst>
          </a:custGeom>
          <a:noFill/>
          <a:ln w="3175">
            <a:solidFill>
              <a:srgbClr val="ffffff"/>
            </a:solidFill>
            <a:prstDash val="lg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圆角矩形 15"/>
          <p:cNvSpPr/>
          <p:nvPr/>
        </p:nvSpPr>
        <p:spPr>
          <a:xfrm>
            <a:off x="1754280" y="475560"/>
            <a:ext cx="431640" cy="4174920"/>
          </a:xfrm>
          <a:custGeom>
            <a:avLst/>
            <a:gdLst>
              <a:gd name="textAreaLeft" fmla="*/ 0 w 431640"/>
              <a:gd name="textAreaRight" fmla="*/ 432000 w 431640"/>
              <a:gd name="textAreaTop" fmla="*/ 0 h 4174920"/>
              <a:gd name="textAreaBottom" fmla="*/ 4175280 h 4174920"/>
            </a:gdLst>
            <a:ahLst/>
            <a:rect l="textAreaLeft" t="textAreaTop" r="textAreaRight" b="textAreaBottom"/>
            <a:pathLst>
              <a:path w="738285" h="4248500">
                <a:moveTo>
                  <a:pt x="90213" y="146124"/>
                </a:moveTo>
                <a:cubicBezTo>
                  <a:pt x="128313" y="-4018"/>
                  <a:pt x="-47164" y="10"/>
                  <a:pt x="12490" y="10"/>
                </a:cubicBezTo>
                <a:lnTo>
                  <a:pt x="630271" y="10"/>
                </a:lnTo>
                <a:cubicBezTo>
                  <a:pt x="689925" y="10"/>
                  <a:pt x="738285" y="48370"/>
                  <a:pt x="738285" y="108024"/>
                </a:cubicBezTo>
                <a:lnTo>
                  <a:pt x="738285" y="4140468"/>
                </a:lnTo>
                <a:cubicBezTo>
                  <a:pt x="738285" y="4200122"/>
                  <a:pt x="689925" y="4248482"/>
                  <a:pt x="630271" y="4248482"/>
                </a:cubicBezTo>
                <a:lnTo>
                  <a:pt x="36302" y="4248482"/>
                </a:lnTo>
                <a:cubicBezTo>
                  <a:pt x="-23352" y="4248482"/>
                  <a:pt x="94976" y="4252509"/>
                  <a:pt x="90213" y="4140468"/>
                </a:cubicBezTo>
                <a:lnTo>
                  <a:pt x="90213" y="146124"/>
                </a:lnTo>
                <a:close/>
              </a:path>
            </a:pathLst>
          </a:custGeom>
          <a:noFill/>
          <a:ln w="3175">
            <a:solidFill>
              <a:srgbClr val="ffffff"/>
            </a:solidFill>
            <a:prstDash val="lg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圆角矩形 15"/>
          <p:cNvSpPr/>
          <p:nvPr/>
        </p:nvSpPr>
        <p:spPr>
          <a:xfrm>
            <a:off x="2502720" y="484920"/>
            <a:ext cx="431640" cy="4174920"/>
          </a:xfrm>
          <a:custGeom>
            <a:avLst/>
            <a:gdLst>
              <a:gd name="textAreaLeft" fmla="*/ 0 w 431640"/>
              <a:gd name="textAreaRight" fmla="*/ 432000 w 431640"/>
              <a:gd name="textAreaTop" fmla="*/ 0 h 4174920"/>
              <a:gd name="textAreaBottom" fmla="*/ 4175280 h 4174920"/>
            </a:gdLst>
            <a:ahLst/>
            <a:rect l="textAreaLeft" t="textAreaTop" r="textAreaRight" b="textAreaBottom"/>
            <a:pathLst>
              <a:path w="738285" h="4248500">
                <a:moveTo>
                  <a:pt x="90213" y="146124"/>
                </a:moveTo>
                <a:cubicBezTo>
                  <a:pt x="128313" y="-4018"/>
                  <a:pt x="-47164" y="10"/>
                  <a:pt x="12490" y="10"/>
                </a:cubicBezTo>
                <a:lnTo>
                  <a:pt x="630271" y="10"/>
                </a:lnTo>
                <a:cubicBezTo>
                  <a:pt x="689925" y="10"/>
                  <a:pt x="738285" y="48370"/>
                  <a:pt x="738285" y="108024"/>
                </a:cubicBezTo>
                <a:lnTo>
                  <a:pt x="738285" y="4140468"/>
                </a:lnTo>
                <a:cubicBezTo>
                  <a:pt x="738285" y="4200122"/>
                  <a:pt x="689925" y="4248482"/>
                  <a:pt x="630271" y="4248482"/>
                </a:cubicBezTo>
                <a:lnTo>
                  <a:pt x="36302" y="4248482"/>
                </a:lnTo>
                <a:cubicBezTo>
                  <a:pt x="-23352" y="4248482"/>
                  <a:pt x="94976" y="4252509"/>
                  <a:pt x="90213" y="4140468"/>
                </a:cubicBezTo>
                <a:lnTo>
                  <a:pt x="90213" y="146124"/>
                </a:lnTo>
                <a:close/>
              </a:path>
            </a:pathLst>
          </a:custGeom>
          <a:noFill/>
          <a:ln w="3175">
            <a:solidFill>
              <a:srgbClr val="ffffff"/>
            </a:solidFill>
            <a:prstDash val="lg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圆角矩形 15"/>
          <p:cNvSpPr/>
          <p:nvPr/>
        </p:nvSpPr>
        <p:spPr>
          <a:xfrm>
            <a:off x="3285360" y="500040"/>
            <a:ext cx="431640" cy="4174920"/>
          </a:xfrm>
          <a:custGeom>
            <a:avLst/>
            <a:gdLst>
              <a:gd name="textAreaLeft" fmla="*/ 0 w 431640"/>
              <a:gd name="textAreaRight" fmla="*/ 432000 w 431640"/>
              <a:gd name="textAreaTop" fmla="*/ 0 h 4174920"/>
              <a:gd name="textAreaBottom" fmla="*/ 4175280 h 4174920"/>
            </a:gdLst>
            <a:ahLst/>
            <a:rect l="textAreaLeft" t="textAreaTop" r="textAreaRight" b="textAreaBottom"/>
            <a:pathLst>
              <a:path w="738285" h="4248500">
                <a:moveTo>
                  <a:pt x="90213" y="146124"/>
                </a:moveTo>
                <a:cubicBezTo>
                  <a:pt x="128313" y="-4018"/>
                  <a:pt x="-47164" y="10"/>
                  <a:pt x="12490" y="10"/>
                </a:cubicBezTo>
                <a:lnTo>
                  <a:pt x="630271" y="10"/>
                </a:lnTo>
                <a:cubicBezTo>
                  <a:pt x="689925" y="10"/>
                  <a:pt x="738285" y="48370"/>
                  <a:pt x="738285" y="108024"/>
                </a:cubicBezTo>
                <a:lnTo>
                  <a:pt x="738285" y="4140468"/>
                </a:lnTo>
                <a:cubicBezTo>
                  <a:pt x="738285" y="4200122"/>
                  <a:pt x="689925" y="4248482"/>
                  <a:pt x="630271" y="4248482"/>
                </a:cubicBezTo>
                <a:lnTo>
                  <a:pt x="36302" y="4248482"/>
                </a:lnTo>
                <a:cubicBezTo>
                  <a:pt x="-23352" y="4248482"/>
                  <a:pt x="94976" y="4252509"/>
                  <a:pt x="90213" y="4140468"/>
                </a:cubicBezTo>
                <a:lnTo>
                  <a:pt x="90213" y="146124"/>
                </a:lnTo>
                <a:close/>
              </a:path>
            </a:pathLst>
          </a:custGeom>
          <a:noFill/>
          <a:ln w="3175">
            <a:solidFill>
              <a:srgbClr val="ffffff"/>
            </a:solidFill>
            <a:prstDash val="lg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22400" y="1900080"/>
            <a:ext cx="3736440" cy="1626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rcRect l="0" t="0" r="0" b="10806"/>
          <a:stretch/>
        </p:blipFill>
        <p:spPr>
          <a:xfrm>
            <a:off x="4140000" y="492120"/>
            <a:ext cx="4657320" cy="3708000"/>
          </a:xfrm>
          <a:prstGeom prst="rect">
            <a:avLst/>
          </a:prstGeom>
          <a:ln w="0">
            <a:noFill/>
          </a:ln>
        </p:spPr>
      </p:pic>
      <p:sp>
        <p:nvSpPr>
          <p:cNvPr id="153" name="矩形 12"/>
          <p:cNvSpPr/>
          <p:nvPr/>
        </p:nvSpPr>
        <p:spPr>
          <a:xfrm>
            <a:off x="926280" y="47332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1" name="直接连接符 120"/>
          <p:cNvCxnSpPr/>
          <p:nvPr/>
        </p:nvCxnSpPr>
        <p:spPr>
          <a:xfrm>
            <a:off x="4260240" y="3246840"/>
            <a:ext cx="10800" cy="293040"/>
          </a:xfrm>
          <a:prstGeom prst="straightConnector1">
            <a:avLst/>
          </a:prstGeom>
          <a:ln w="12700">
            <a:solidFill>
              <a:srgbClr val="000100"/>
            </a:solidFill>
            <a:round/>
          </a:ln>
        </p:spPr>
      </p:cxnSp>
      <p:sp>
        <p:nvSpPr>
          <p:cNvPr id="432" name="文本框 121" hidden="1"/>
          <p:cNvSpPr/>
          <p:nvPr/>
        </p:nvSpPr>
        <p:spPr>
          <a:xfrm rot="12000">
            <a:off x="4224960" y="3170160"/>
            <a:ext cx="712440" cy="43380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>
            <a:bevelT prst="relaxedInset"/>
          </a:sp3d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c0101"/>
                </a:solidFill>
                <a:latin typeface="Times New Roman"/>
                <a:ea typeface="Gungsuh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122" hidden="1"/>
          <p:cNvSpPr/>
          <p:nvPr/>
        </p:nvSpPr>
        <p:spPr>
          <a:xfrm rot="21562200">
            <a:off x="3669840" y="3232080"/>
            <a:ext cx="6098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Sam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900" spc="-1" strike="noStrike">
                <a:solidFill>
                  <a:srgbClr val="494343"/>
                </a:solidFill>
                <a:latin typeface="Times New Roman"/>
              </a:rPr>
              <a:t>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23"/>
          <p:cNvGrpSpPr/>
          <p:nvPr/>
        </p:nvGrpSpPr>
        <p:grpSpPr>
          <a:xfrm>
            <a:off x="1121760" y="771480"/>
            <a:ext cx="6900480" cy="3108600"/>
            <a:chOff x="1121760" y="771480"/>
            <a:chExt cx="6900480" cy="3108600"/>
          </a:xfrm>
        </p:grpSpPr>
        <p:sp>
          <p:nvSpPr>
            <p:cNvPr id="435" name="平行四边形 86"/>
            <p:cNvSpPr/>
            <p:nvPr/>
          </p:nvSpPr>
          <p:spPr>
            <a:xfrm rot="10801200">
              <a:off x="1653120" y="2760840"/>
              <a:ext cx="2498760" cy="576360"/>
            </a:xfrm>
            <a:prstGeom prst="parallelogram">
              <a:avLst>
                <a:gd name="adj" fmla="val 100365"/>
              </a:avLst>
            </a:prstGeom>
            <a:solidFill>
              <a:srgbClr val="5cbad0"/>
            </a:solidFill>
            <a:ln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6" name="平行四边形 87"/>
            <p:cNvSpPr/>
            <p:nvPr/>
          </p:nvSpPr>
          <p:spPr>
            <a:xfrm rot="10801200">
              <a:off x="1122120" y="3290760"/>
              <a:ext cx="2524680" cy="576360"/>
            </a:xfrm>
            <a:prstGeom prst="parallelogram">
              <a:avLst>
                <a:gd name="adj" fmla="val 100365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  <a:effectLst>
              <a:outerShdw algn="ctr" blurRad="50760" dir="5400000" dist="38160" rotWithShape="0" sx="98000" sy="98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7" name="平行四边形 50"/>
            <p:cNvSpPr/>
            <p:nvPr/>
          </p:nvSpPr>
          <p:spPr>
            <a:xfrm rot="10801200">
              <a:off x="3548880" y="2760840"/>
              <a:ext cx="2524680" cy="576360"/>
            </a:xfrm>
            <a:prstGeom prst="parallelogram">
              <a:avLst>
                <a:gd name="adj" fmla="val 100365"/>
              </a:avLst>
            </a:prstGeom>
            <a:gradFill rotWithShape="0">
              <a:gsLst>
                <a:gs pos="43000">
                  <a:srgbClr val="30a0be"/>
                </a:gs>
                <a:gs pos="100000">
                  <a:srgbClr val="5cbad0"/>
                </a:gs>
              </a:gsLst>
              <a:lin ang="13194000"/>
            </a:gradFill>
            <a:ln>
              <a:noFill/>
            </a:ln>
            <a:effectLst>
              <a:outerShdw blurRad="50760" dir="16200000" dist="38160" rotWithShape="0" sx="98000" sy="98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8" name="平行四边形 72"/>
            <p:cNvSpPr/>
            <p:nvPr/>
          </p:nvSpPr>
          <p:spPr>
            <a:xfrm rot="10801200">
              <a:off x="3014640" y="3290760"/>
              <a:ext cx="2525040" cy="576360"/>
            </a:xfrm>
            <a:custGeom>
              <a:avLst/>
              <a:gdLst>
                <a:gd name="textAreaLeft" fmla="*/ 0 w 2525040"/>
                <a:gd name="textAreaRight" fmla="*/ 2525400 w 25250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703105" h="389094">
                  <a:moveTo>
                    <a:pt x="0" y="389094"/>
                  </a:moveTo>
                  <a:cubicBezTo>
                    <a:pt x="148132" y="259396"/>
                    <a:pt x="324888" y="128015"/>
                    <a:pt x="469653" y="8420"/>
                  </a:cubicBezTo>
                  <a:cubicBezTo>
                    <a:pt x="409339" y="6736"/>
                    <a:pt x="1283535" y="0"/>
                    <a:pt x="1703105" y="0"/>
                  </a:cubicBezTo>
                  <a:lnTo>
                    <a:pt x="1312591" y="389094"/>
                  </a:lnTo>
                  <a:lnTo>
                    <a:pt x="0" y="389094"/>
                  </a:lnTo>
                  <a:close/>
                </a:path>
              </a:pathLst>
            </a:custGeom>
            <a:gradFill rotWithShape="0">
              <a:gsLst>
                <a:gs pos="28000">
                  <a:srgbClr val="808080"/>
                </a:gs>
                <a:gs pos="100000">
                  <a:srgbClr val="bfbfbf"/>
                </a:gs>
              </a:gsLst>
              <a:lin ang="10794000"/>
            </a:gradFill>
            <a:ln>
              <a:noFill/>
            </a:ln>
            <a:effectLst>
              <a:outerShdw algn="ctr" blurRad="50760" dir="5400000" dist="38160" rotWithShape="0" sx="98000" sy="98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9" name="平行四边形 54"/>
            <p:cNvSpPr/>
            <p:nvPr/>
          </p:nvSpPr>
          <p:spPr>
            <a:xfrm rot="1200">
              <a:off x="4991760" y="1301760"/>
              <a:ext cx="2498760" cy="576360"/>
            </a:xfrm>
            <a:prstGeom prst="parallelogram">
              <a:avLst>
                <a:gd name="adj" fmla="val 100365"/>
              </a:avLst>
            </a:prstGeom>
            <a:solidFill>
              <a:srgbClr val="e6be96"/>
            </a:solidFill>
            <a:ln>
              <a:noFill/>
            </a:ln>
            <a:effectLst>
              <a:outerShdw algn="r" blurRad="50760" dir="108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0" name="平行四边形 55"/>
            <p:cNvSpPr/>
            <p:nvPr/>
          </p:nvSpPr>
          <p:spPr>
            <a:xfrm rot="1200">
              <a:off x="5496840" y="771840"/>
              <a:ext cx="2524680" cy="576360"/>
            </a:xfrm>
            <a:prstGeom prst="parallelogram">
              <a:avLst>
                <a:gd name="adj" fmla="val 100365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  <a:effectLst>
              <a:outerShdw algn="r" blurRad="50760" dir="10800000" dist="38160" rotWithShape="0" sx="98000" sy="98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1" name="平行四边形 56"/>
            <p:cNvSpPr/>
            <p:nvPr/>
          </p:nvSpPr>
          <p:spPr>
            <a:xfrm rot="1200">
              <a:off x="3070080" y="1301760"/>
              <a:ext cx="2524680" cy="576360"/>
            </a:xfrm>
            <a:prstGeom prst="parallelogram">
              <a:avLst>
                <a:gd name="adj" fmla="val 100365"/>
              </a:avLst>
            </a:prstGeom>
            <a:gradFill rotWithShape="0">
              <a:gsLst>
                <a:gs pos="57000">
                  <a:srgbClr val="da9f64"/>
                </a:gs>
                <a:gs pos="100000">
                  <a:srgbClr val="e6be96"/>
                </a:gs>
              </a:gsLst>
              <a:lin ang="21594000"/>
            </a:gradFill>
            <a:ln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2" name="平行四边形 72"/>
            <p:cNvSpPr/>
            <p:nvPr/>
          </p:nvSpPr>
          <p:spPr>
            <a:xfrm rot="1200">
              <a:off x="3607200" y="771840"/>
              <a:ext cx="2525040" cy="576360"/>
            </a:xfrm>
            <a:custGeom>
              <a:avLst/>
              <a:gdLst>
                <a:gd name="textAreaLeft" fmla="*/ 0 w 2525040"/>
                <a:gd name="textAreaRight" fmla="*/ 2525400 w 252504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703105" h="389094">
                  <a:moveTo>
                    <a:pt x="0" y="389094"/>
                  </a:moveTo>
                  <a:cubicBezTo>
                    <a:pt x="148132" y="259396"/>
                    <a:pt x="324888" y="128015"/>
                    <a:pt x="469653" y="8420"/>
                  </a:cubicBezTo>
                  <a:cubicBezTo>
                    <a:pt x="409339" y="6736"/>
                    <a:pt x="1283535" y="0"/>
                    <a:pt x="1703105" y="0"/>
                  </a:cubicBezTo>
                  <a:lnTo>
                    <a:pt x="1312591" y="389094"/>
                  </a:lnTo>
                  <a:lnTo>
                    <a:pt x="0" y="389094"/>
                  </a:lnTo>
                  <a:close/>
                </a:path>
              </a:pathLst>
            </a:custGeom>
            <a:gradFill rotWithShape="0">
              <a:gsLst>
                <a:gs pos="28000">
                  <a:srgbClr val="808080"/>
                </a:gs>
                <a:gs pos="100000">
                  <a:srgbClr val="bfbfbf"/>
                </a:gs>
              </a:gsLst>
              <a:lin ang="21594000"/>
            </a:gradFill>
            <a:ln>
              <a:noFill/>
            </a:ln>
            <a:effectLst>
              <a:outerShdw algn="r" blurRad="50760" dir="10800000" dist="38160" rotWithShape="0" sx="98000" sy="98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3" name="平行四边形 58"/>
            <p:cNvSpPr/>
            <p:nvPr/>
          </p:nvSpPr>
          <p:spPr>
            <a:xfrm flipV="1" rot="5401200">
              <a:off x="2046960" y="2318040"/>
              <a:ext cx="2524680" cy="576360"/>
            </a:xfrm>
            <a:prstGeom prst="parallelogram">
              <a:avLst>
                <a:gd name="adj" fmla="val 100365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  <a:effectLst>
              <a:outerShdw algn="br" blurRad="50760" dir="135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4" name="平行四边形 68"/>
            <p:cNvSpPr/>
            <p:nvPr/>
          </p:nvSpPr>
          <p:spPr>
            <a:xfrm flipV="1" rot="5401200">
              <a:off x="2697480" y="1676880"/>
              <a:ext cx="2511360" cy="709560"/>
            </a:xfrm>
            <a:custGeom>
              <a:avLst/>
              <a:gdLst>
                <a:gd name="textAreaLeft" fmla="*/ 0 w 2511360"/>
                <a:gd name="textAreaRight" fmla="*/ 2511720 w 2511360"/>
                <a:gd name="textAreaTop" fmla="*/ -360 h 709560"/>
                <a:gd name="textAreaBottom" fmla="*/ 709560 h 709560"/>
              </a:gdLst>
              <a:ahLst/>
              <a:rect l="textAreaLeft" t="textAreaTop" r="textAreaRight" b="textAreaBottom"/>
              <a:pathLst>
                <a:path w="1694125" h="478898">
                  <a:moveTo>
                    <a:pt x="1694125" y="0"/>
                  </a:moveTo>
                  <a:lnTo>
                    <a:pt x="381534" y="0"/>
                  </a:lnTo>
                  <a:cubicBezTo>
                    <a:pt x="254356" y="159633"/>
                    <a:pt x="77786" y="278854"/>
                    <a:pt x="0" y="478898"/>
                  </a:cubicBezTo>
                  <a:cubicBezTo>
                    <a:pt x="53968" y="405931"/>
                    <a:pt x="203700" y="371291"/>
                    <a:pt x="385240" y="358209"/>
                  </a:cubicBezTo>
                  <a:cubicBezTo>
                    <a:pt x="488323" y="351216"/>
                    <a:pt x="546507" y="352362"/>
                    <a:pt x="589951" y="351197"/>
                  </a:cubicBezTo>
                  <a:cubicBezTo>
                    <a:pt x="608542" y="350428"/>
                    <a:pt x="627215" y="350501"/>
                    <a:pt x="645907" y="351217"/>
                  </a:cubicBezTo>
                  <a:lnTo>
                    <a:pt x="1341381" y="351461"/>
                  </a:lnTo>
                  <a:lnTo>
                    <a:pt x="16941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cc57c"/>
                </a:gs>
                <a:gs pos="100000">
                  <a:srgbClr val="fa9614"/>
                </a:gs>
              </a:gsLst>
              <a:lin ang="13806000"/>
            </a:gradFill>
            <a:ln>
              <a:noFill/>
            </a:ln>
            <a:effectLst>
              <a:outerShdw algn="br" blurRad="50760" dir="135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5" name="平行四边形 69"/>
            <p:cNvSpPr/>
            <p:nvPr/>
          </p:nvSpPr>
          <p:spPr>
            <a:xfrm flipV="1" rot="16201200">
              <a:off x="4572000" y="1745640"/>
              <a:ext cx="2524680" cy="576360"/>
            </a:xfrm>
            <a:prstGeom prst="parallelogram">
              <a:avLst>
                <a:gd name="adj" fmla="val 100365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  <a:effectLst>
              <a:outerShdw algn="l" blurRad="5076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6" name="平行四边形 68"/>
            <p:cNvSpPr/>
            <p:nvPr/>
          </p:nvSpPr>
          <p:spPr>
            <a:xfrm flipV="1" rot="16201200">
              <a:off x="3938400" y="2248920"/>
              <a:ext cx="2511360" cy="709560"/>
            </a:xfrm>
            <a:custGeom>
              <a:avLst/>
              <a:gdLst>
                <a:gd name="textAreaLeft" fmla="*/ 0 w 2511360"/>
                <a:gd name="textAreaRight" fmla="*/ 2511720 w 2511360"/>
                <a:gd name="textAreaTop" fmla="*/ -360 h 709560"/>
                <a:gd name="textAreaBottom" fmla="*/ 709560 h 709560"/>
              </a:gdLst>
              <a:ahLst/>
              <a:rect l="textAreaLeft" t="textAreaTop" r="textAreaRight" b="textAreaBottom"/>
              <a:pathLst>
                <a:path w="1694125" h="478898">
                  <a:moveTo>
                    <a:pt x="1694125" y="0"/>
                  </a:moveTo>
                  <a:lnTo>
                    <a:pt x="381534" y="0"/>
                  </a:lnTo>
                  <a:cubicBezTo>
                    <a:pt x="254356" y="159633"/>
                    <a:pt x="77786" y="278854"/>
                    <a:pt x="0" y="478898"/>
                  </a:cubicBezTo>
                  <a:cubicBezTo>
                    <a:pt x="53968" y="405931"/>
                    <a:pt x="203700" y="371291"/>
                    <a:pt x="385240" y="358209"/>
                  </a:cubicBezTo>
                  <a:cubicBezTo>
                    <a:pt x="488323" y="351216"/>
                    <a:pt x="546507" y="352362"/>
                    <a:pt x="589951" y="351197"/>
                  </a:cubicBezTo>
                  <a:cubicBezTo>
                    <a:pt x="608542" y="350428"/>
                    <a:pt x="627215" y="350501"/>
                    <a:pt x="645907" y="351217"/>
                  </a:cubicBezTo>
                  <a:lnTo>
                    <a:pt x="1341381" y="351461"/>
                  </a:lnTo>
                  <a:lnTo>
                    <a:pt x="1694125" y="0"/>
                  </a:lnTo>
                  <a:close/>
                </a:path>
              </a:pathLst>
            </a:custGeom>
            <a:gradFill rotWithShape="0">
              <a:gsLst>
                <a:gs pos="43000">
                  <a:srgbClr val="9b8a43"/>
                </a:gs>
                <a:gs pos="100000">
                  <a:srgbClr val="c2b270"/>
                </a:gs>
              </a:gsLst>
              <a:lin ang="3000000"/>
            </a:gradFill>
            <a:ln>
              <a:noFill/>
            </a:ln>
            <a:effectLst>
              <a:outerShdw algn="bl" blurRad="50760" dir="189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447" name="组合 15"/>
            <p:cNvGrpSpPr/>
            <p:nvPr/>
          </p:nvGrpSpPr>
          <p:grpSpPr>
            <a:xfrm>
              <a:off x="3946320" y="808920"/>
              <a:ext cx="2337120" cy="959400"/>
              <a:chOff x="3946320" y="808920"/>
              <a:chExt cx="2337120" cy="959400"/>
            </a:xfrm>
          </p:grpSpPr>
          <p:sp>
            <p:nvSpPr>
              <p:cNvPr id="448" name="文本框 111"/>
              <p:cNvSpPr/>
              <p:nvPr/>
            </p:nvSpPr>
            <p:spPr>
              <a:xfrm rot="20400">
                <a:off x="3947400" y="1421640"/>
                <a:ext cx="1422360" cy="34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 he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文本框 110"/>
              <p:cNvSpPr/>
              <p:nvPr/>
            </p:nvSpPr>
            <p:spPr>
              <a:xfrm rot="20400">
                <a:off x="4286520" y="810360"/>
                <a:ext cx="568800" cy="494640"/>
              </a:xfrm>
              <a:prstGeom prst="rect">
                <a:avLst/>
              </a:prstGeom>
              <a:noFill/>
              <a:ln w="0">
                <a:noFill/>
              </a:ln>
              <a:scene3d>
                <a:camera prst="orthographicFront"/>
                <a:lightRig dir="t" rig="threePt"/>
              </a:scene3d>
              <a:sp3d>
                <a:bevelT prst="relaxedInset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omic"/>
                    <a:ea typeface="Gungsuh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50" name="直接连接符 13"/>
              <p:cNvCxnSpPr/>
              <p:nvPr/>
            </p:nvCxnSpPr>
            <p:spPr>
              <a:xfrm>
                <a:off x="4857840" y="832680"/>
                <a:ext cx="360" cy="455760"/>
              </a:xfrm>
              <a:prstGeom prst="straightConnector1">
                <a:avLst/>
              </a:prstGeom>
              <a:ln>
                <a:solidFill>
                  <a:srgbClr val="ffffff"/>
                </a:solidFill>
                <a:round/>
              </a:ln>
            </p:spPr>
          </p:cxnSp>
          <p:sp>
            <p:nvSpPr>
              <p:cNvPr id="451" name="文本框 111"/>
              <p:cNvSpPr/>
              <p:nvPr/>
            </p:nvSpPr>
            <p:spPr>
              <a:xfrm rot="20400">
                <a:off x="4860360" y="941040"/>
                <a:ext cx="1422360" cy="23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ex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文本框 111"/>
            <p:cNvSpPr/>
            <p:nvPr/>
          </p:nvSpPr>
          <p:spPr>
            <a:xfrm rot="20400">
              <a:off x="3757680" y="2859120"/>
              <a:ext cx="1422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文本框 110"/>
            <p:cNvSpPr/>
            <p:nvPr/>
          </p:nvSpPr>
          <p:spPr>
            <a:xfrm rot="20400">
              <a:off x="4285080" y="3328560"/>
              <a:ext cx="568800" cy="49464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>
              <a:bevelT prst="relaxedInset"/>
            </a:sp3d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comic"/>
                  <a:ea typeface="Gungsu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4" name="直接连接符 82"/>
            <p:cNvCxnSpPr/>
            <p:nvPr/>
          </p:nvCxnSpPr>
          <p:spPr>
            <a:xfrm>
              <a:off x="4284000" y="3350880"/>
              <a:ext cx="360" cy="4557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455" name="文本框 111"/>
            <p:cNvSpPr/>
            <p:nvPr/>
          </p:nvSpPr>
          <p:spPr>
            <a:xfrm rot="20400">
              <a:off x="2860560" y="3459240"/>
              <a:ext cx="14223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6" name="直接连接符 107"/>
            <p:cNvCxnSpPr/>
            <p:nvPr/>
          </p:nvCxnSpPr>
          <p:spPr>
            <a:xfrm>
              <a:off x="1145880" y="803520"/>
              <a:ext cx="837000" cy="882720"/>
            </a:xfrm>
            <a:prstGeom prst="straightConnector1">
              <a:avLst/>
            </a:prstGeom>
            <a:ln w="3175">
              <a:solidFill>
                <a:srgbClr val="da9f64"/>
              </a:solidFill>
              <a:prstDash val="sysDot"/>
              <a:round/>
            </a:ln>
          </p:spPr>
        </p:cxnSp>
        <p:sp>
          <p:nvSpPr>
            <p:cNvPr id="457" name="文本框 110"/>
            <p:cNvSpPr/>
            <p:nvPr/>
          </p:nvSpPr>
          <p:spPr>
            <a:xfrm rot="20400">
              <a:off x="1311480" y="1346400"/>
              <a:ext cx="625680" cy="49464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>
              <a:bevelT prst="relaxedInset"/>
            </a:sp3d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a9614"/>
                  </a:solidFill>
                  <a:latin typeface="comic"/>
                  <a:ea typeface="Gungsu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矩形 4"/>
            <p:cNvSpPr/>
            <p:nvPr/>
          </p:nvSpPr>
          <p:spPr>
            <a:xfrm>
              <a:off x="1127160" y="789120"/>
              <a:ext cx="1030680" cy="2106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2464985" h="504056">
                  <a:moveTo>
                    <a:pt x="0" y="0"/>
                  </a:moveTo>
                  <a:lnTo>
                    <a:pt x="2464985" y="0"/>
                  </a:lnTo>
                  <a:lnTo>
                    <a:pt x="2464985" y="1"/>
                  </a:lnTo>
                  <a:lnTo>
                    <a:pt x="1960930" y="504056"/>
                  </a:lnTo>
                  <a:lnTo>
                    <a:pt x="504056" y="504056"/>
                  </a:lnTo>
                  <a:close/>
                </a:path>
              </a:pathLst>
            </a:custGeom>
            <a:gradFill rotWithShape="0">
              <a:gsLst>
                <a:gs pos="27000">
                  <a:srgbClr val="808080"/>
                </a:gs>
                <a:gs pos="100000">
                  <a:srgbClr val="bfbfbf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9" name="矩形 4"/>
            <p:cNvSpPr/>
            <p:nvPr/>
          </p:nvSpPr>
          <p:spPr>
            <a:xfrm rot="16200000">
              <a:off x="711720" y="1199520"/>
              <a:ext cx="1030680" cy="2106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2464985" h="504056">
                  <a:moveTo>
                    <a:pt x="0" y="0"/>
                  </a:moveTo>
                  <a:lnTo>
                    <a:pt x="2464985" y="0"/>
                  </a:lnTo>
                  <a:lnTo>
                    <a:pt x="2464985" y="1"/>
                  </a:lnTo>
                  <a:lnTo>
                    <a:pt x="1960930" y="504056"/>
                  </a:lnTo>
                  <a:lnTo>
                    <a:pt x="504056" y="504056"/>
                  </a:lnTo>
                  <a:close/>
                </a:path>
              </a:pathLst>
            </a:custGeom>
            <a:gradFill rotWithShape="0">
              <a:gsLst>
                <a:gs pos="0">
                  <a:srgbClr val="fcc57c"/>
                </a:gs>
                <a:gs pos="100000">
                  <a:srgbClr val="fa9614"/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0" name="文本框 111"/>
            <p:cNvSpPr/>
            <p:nvPr/>
          </p:nvSpPr>
          <p:spPr>
            <a:xfrm rot="20400">
              <a:off x="1450080" y="1043280"/>
              <a:ext cx="15451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文本框 111"/>
            <p:cNvSpPr/>
            <p:nvPr/>
          </p:nvSpPr>
          <p:spPr>
            <a:xfrm rot="20400">
              <a:off x="2014920" y="1477080"/>
              <a:ext cx="1049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2" name="直接连接符 17"/>
            <p:cNvCxnSpPr/>
            <p:nvPr/>
          </p:nvCxnSpPr>
          <p:spPr>
            <a:xfrm>
              <a:off x="1748880" y="1433520"/>
              <a:ext cx="1440360" cy="360"/>
            </a:xfrm>
            <a:prstGeom prst="straightConnector1">
              <a:avLst/>
            </a:prstGeom>
            <a:ln w="3175">
              <a:solidFill>
                <a:srgbClr val="da9f64"/>
              </a:solidFill>
              <a:prstDash val="sysDot"/>
              <a:round/>
            </a:ln>
          </p:spPr>
        </p:cxnSp>
        <p:cxnSp>
          <p:nvCxnSpPr>
            <p:cNvPr id="463" name="直接连接符 102"/>
            <p:cNvCxnSpPr/>
            <p:nvPr/>
          </p:nvCxnSpPr>
          <p:spPr>
            <a:xfrm flipH="1" flipV="1">
              <a:off x="7161120" y="2983320"/>
              <a:ext cx="837000" cy="882720"/>
            </a:xfrm>
            <a:prstGeom prst="straightConnector1">
              <a:avLst/>
            </a:prstGeom>
            <a:ln w="3175">
              <a:solidFill>
                <a:srgbClr val="da9f64"/>
              </a:solidFill>
              <a:prstDash val="sysDot"/>
              <a:round/>
            </a:ln>
          </p:spPr>
        </p:cxnSp>
        <p:sp>
          <p:nvSpPr>
            <p:cNvPr id="464" name="文本框 110"/>
            <p:cNvSpPr/>
            <p:nvPr/>
          </p:nvSpPr>
          <p:spPr>
            <a:xfrm flipV="1" rot="10779600">
              <a:off x="7291800" y="2823480"/>
              <a:ext cx="625680" cy="49464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>
              <a:bevelT prst="relaxedInset"/>
            </a:sp3d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矩形 4"/>
            <p:cNvSpPr/>
            <p:nvPr/>
          </p:nvSpPr>
          <p:spPr>
            <a:xfrm rot="10800000">
              <a:off x="6986160" y="3669480"/>
              <a:ext cx="1030680" cy="2106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2464985" h="504056">
                  <a:moveTo>
                    <a:pt x="0" y="0"/>
                  </a:moveTo>
                  <a:lnTo>
                    <a:pt x="2464985" y="0"/>
                  </a:lnTo>
                  <a:lnTo>
                    <a:pt x="2464985" y="1"/>
                  </a:lnTo>
                  <a:lnTo>
                    <a:pt x="1960930" y="504056"/>
                  </a:lnTo>
                  <a:lnTo>
                    <a:pt x="504056" y="504056"/>
                  </a:lnTo>
                  <a:close/>
                </a:path>
              </a:pathLst>
            </a:custGeom>
            <a:gradFill rotWithShape="0">
              <a:gsLst>
                <a:gs pos="27000">
                  <a:srgbClr val="808080"/>
                </a:gs>
                <a:gs pos="100000">
                  <a:srgbClr val="bfbfbf"/>
                </a:gs>
              </a:gsLst>
              <a:lin ang="108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6" name="矩形 4"/>
            <p:cNvSpPr/>
            <p:nvPr/>
          </p:nvSpPr>
          <p:spPr>
            <a:xfrm rot="5400000">
              <a:off x="7401600" y="3259440"/>
              <a:ext cx="1030680" cy="2106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2464985" h="504056">
                  <a:moveTo>
                    <a:pt x="0" y="0"/>
                  </a:moveTo>
                  <a:lnTo>
                    <a:pt x="2464985" y="0"/>
                  </a:lnTo>
                  <a:lnTo>
                    <a:pt x="2464985" y="1"/>
                  </a:lnTo>
                  <a:lnTo>
                    <a:pt x="1960930" y="504056"/>
                  </a:lnTo>
                  <a:lnTo>
                    <a:pt x="504056" y="504056"/>
                  </a:lnTo>
                  <a:close/>
                </a:path>
              </a:pathLst>
            </a:custGeom>
            <a:gradFill rotWithShape="0">
              <a:gsLst>
                <a:gs pos="43000">
                  <a:srgbClr val="9b8a43"/>
                </a:gs>
                <a:gs pos="100000">
                  <a:srgbClr val="c2b270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7" name="文本框 111"/>
            <p:cNvSpPr/>
            <p:nvPr/>
          </p:nvSpPr>
          <p:spPr>
            <a:xfrm flipH="1" flipV="1" rot="10820400">
              <a:off x="6148440" y="3279600"/>
              <a:ext cx="15451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       </a:t>
              </a: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文本框 111"/>
            <p:cNvSpPr/>
            <p:nvPr/>
          </p:nvSpPr>
          <p:spPr>
            <a:xfrm flipV="1" rot="10779600">
              <a:off x="6079320" y="2953080"/>
              <a:ext cx="1049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Sample tex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直接连接符 125"/>
            <p:cNvCxnSpPr/>
            <p:nvPr/>
          </p:nvCxnSpPr>
          <p:spPr>
            <a:xfrm flipH="1">
              <a:off x="5954760" y="3235680"/>
              <a:ext cx="1440360" cy="360"/>
            </a:xfrm>
            <a:prstGeom prst="straightConnector1">
              <a:avLst/>
            </a:prstGeom>
            <a:ln w="3175">
              <a:solidFill>
                <a:srgbClr val="da9f64"/>
              </a:solidFill>
              <a:prstDash val="sysDot"/>
              <a:round/>
            </a:ln>
          </p:spPr>
        </p:cxnSp>
      </p:grpSp>
      <p:grpSp>
        <p:nvGrpSpPr>
          <p:cNvPr id="470" name="组合 1"/>
          <p:cNvGrpSpPr/>
          <p:nvPr/>
        </p:nvGrpSpPr>
        <p:grpSpPr>
          <a:xfrm>
            <a:off x="20160" y="4092480"/>
            <a:ext cx="2449080" cy="942840"/>
            <a:chOff x="20160" y="4092480"/>
            <a:chExt cx="2449080" cy="942840"/>
          </a:xfrm>
        </p:grpSpPr>
        <p:sp>
          <p:nvSpPr>
            <p:cNvPr id="471" name="TextBox 131"/>
            <p:cNvSpPr/>
            <p:nvPr/>
          </p:nvSpPr>
          <p:spPr>
            <a:xfrm>
              <a:off x="2016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组合 25"/>
            <p:cNvGrpSpPr/>
            <p:nvPr/>
          </p:nvGrpSpPr>
          <p:grpSpPr>
            <a:xfrm>
              <a:off x="783720" y="4663080"/>
              <a:ext cx="921600" cy="68040"/>
              <a:chOff x="783720" y="4663080"/>
              <a:chExt cx="921600" cy="68040"/>
            </a:xfrm>
          </p:grpSpPr>
          <p:sp>
            <p:nvSpPr>
              <p:cNvPr id="473" name="矩形 132"/>
              <p:cNvSpPr/>
              <p:nvPr/>
            </p:nvSpPr>
            <p:spPr>
              <a:xfrm>
                <a:off x="783720" y="4663080"/>
                <a:ext cx="197640" cy="68040"/>
              </a:xfrm>
              <a:prstGeom prst="rect">
                <a:avLst/>
              </a:prstGeom>
              <a:solidFill>
                <a:srgbClr val="fa961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74" name="矩形 133"/>
              <p:cNvSpPr/>
              <p:nvPr/>
            </p:nvSpPr>
            <p:spPr>
              <a:xfrm>
                <a:off x="1025280" y="466308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75" name="矩形 134"/>
              <p:cNvSpPr/>
              <p:nvPr/>
            </p:nvSpPr>
            <p:spPr>
              <a:xfrm>
                <a:off x="126648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49b2cb"/>
                  </a:gs>
                  <a:gs pos="100000">
                    <a:srgbClr val="30a0be"/>
                  </a:gs>
                </a:gsLst>
                <a:lin ang="13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76" name="矩形 135"/>
              <p:cNvSpPr/>
              <p:nvPr/>
            </p:nvSpPr>
            <p:spPr>
              <a:xfrm>
                <a:off x="1507680" y="4663080"/>
                <a:ext cx="197640" cy="68040"/>
              </a:xfrm>
              <a:prstGeom prst="rect">
                <a:avLst/>
              </a:prstGeom>
              <a:solidFill>
                <a:srgbClr val="fcc57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组合 7"/>
          <p:cNvGrpSpPr/>
          <p:nvPr/>
        </p:nvGrpSpPr>
        <p:grpSpPr>
          <a:xfrm>
            <a:off x="4457160" y="3225600"/>
            <a:ext cx="2494080" cy="1611000"/>
            <a:chOff x="4457160" y="3225600"/>
            <a:chExt cx="2494080" cy="1611000"/>
          </a:xfrm>
        </p:grpSpPr>
        <p:sp>
          <p:nvSpPr>
            <p:cNvPr id="478" name="任意多边形 87"/>
            <p:cNvSpPr/>
            <p:nvPr/>
          </p:nvSpPr>
          <p:spPr>
            <a:xfrm flipV="1" rot="16200000">
              <a:off x="6396120" y="4335120"/>
              <a:ext cx="822240" cy="18036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-360 h 180360"/>
                <a:gd name="textAreaBottom" fmla="*/ 180360 h 180360"/>
              </a:gdLst>
              <a:ahLst/>
              <a:rect l="textAreaLeft" t="textAreaTop" r="textAreaRight" b="textAreaBottom"/>
              <a:pathLst>
                <a:path w="3682981" h="970685">
                  <a:moveTo>
                    <a:pt x="263134" y="21948"/>
                  </a:moveTo>
                  <a:lnTo>
                    <a:pt x="3682981" y="256308"/>
                  </a:lnTo>
                  <a:cubicBezTo>
                    <a:pt x="3652830" y="682985"/>
                    <a:pt x="3508207" y="835384"/>
                    <a:pt x="3276581" y="970685"/>
                  </a:cubicBezTo>
                  <a:lnTo>
                    <a:pt x="517480" y="970685"/>
                  </a:lnTo>
                  <a:cubicBezTo>
                    <a:pt x="51737" y="721081"/>
                    <a:pt x="74927" y="389308"/>
                    <a:pt x="42391" y="262024"/>
                  </a:cubicBezTo>
                  <a:cubicBezTo>
                    <a:pt x="0" y="103901"/>
                    <a:pt x="59369" y="0"/>
                    <a:pt x="263134" y="21948"/>
                  </a:cubicBezTo>
                  <a:close/>
                </a:path>
              </a:pathLst>
            </a:custGeom>
            <a:gradFill rotWithShape="0">
              <a:gsLst>
                <a:gs pos="0">
                  <a:srgbClr val="9b8a43"/>
                </a:gs>
                <a:gs pos="11000">
                  <a:srgbClr val="9b8a43"/>
                </a:gs>
                <a:gs pos="50000">
                  <a:srgbClr val="cbbe87"/>
                </a:gs>
                <a:gs pos="89000">
                  <a:srgbClr val="9b8a43"/>
                </a:gs>
                <a:gs pos="100000">
                  <a:srgbClr val="9b8a43"/>
                </a:gs>
              </a:gsLst>
              <a:lin ang="0"/>
            </a:gradFill>
            <a:ln>
              <a:noFill/>
            </a:ln>
            <a:effectLst>
              <a:outerShdw algn="r" blurRad="241200" dir="10800000" dist="88920" rotWithShape="0" sx="104000" sy="104000">
                <a:schemeClr val="accent6">
                  <a:lumMod val="50000"/>
                  <a:alpha val="4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9" name="任意多边形 88"/>
            <p:cNvSpPr/>
            <p:nvPr/>
          </p:nvSpPr>
          <p:spPr>
            <a:xfrm>
              <a:off x="5668920" y="3482640"/>
              <a:ext cx="1248840" cy="1095840"/>
            </a:xfrm>
            <a:custGeom>
              <a:avLst/>
              <a:gdLst>
                <a:gd name="textAreaLeft" fmla="*/ 0 w 1248840"/>
                <a:gd name="textAreaRight" fmla="*/ 1249200 w 1248840"/>
                <a:gd name="textAreaTop" fmla="*/ 0 h 1095840"/>
                <a:gd name="textAreaBottom" fmla="*/ 1096200 h 1095840"/>
              </a:gdLst>
              <a:ahLst/>
              <a:rect l="textAreaLeft" t="textAreaTop" r="textAreaRight" b="textAreaBottom"/>
              <a:pathLst>
                <a:path w="3129936" h="3643338">
                  <a:moveTo>
                    <a:pt x="0" y="0"/>
                  </a:moveTo>
                  <a:lnTo>
                    <a:pt x="2363172" y="0"/>
                  </a:lnTo>
                  <a:cubicBezTo>
                    <a:pt x="2870894" y="86213"/>
                    <a:pt x="2967569" y="243376"/>
                    <a:pt x="3000395" y="351475"/>
                  </a:cubicBezTo>
                  <a:cubicBezTo>
                    <a:pt x="3000395" y="1353513"/>
                    <a:pt x="3129936" y="2641300"/>
                    <a:pt x="3129936" y="3643338"/>
                  </a:cubicBezTo>
                  <a:lnTo>
                    <a:pt x="0" y="36433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b8a4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0" name="任意多边形 89"/>
            <p:cNvSpPr/>
            <p:nvPr/>
          </p:nvSpPr>
          <p:spPr>
            <a:xfrm flipV="1" rot="16200000">
              <a:off x="6230520" y="4014360"/>
              <a:ext cx="1152360" cy="2887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360 h 288720"/>
                <a:gd name="textAreaBottom" fmla="*/ 289440 h 288720"/>
              </a:gdLst>
              <a:ahLst/>
              <a:rect l="textAreaLeft" t="textAreaTop" r="textAreaRight" b="textAreaBottom"/>
              <a:pathLst>
                <a:path w="3682981" h="970685">
                  <a:moveTo>
                    <a:pt x="263134" y="21948"/>
                  </a:moveTo>
                  <a:lnTo>
                    <a:pt x="3682981" y="256308"/>
                  </a:lnTo>
                  <a:cubicBezTo>
                    <a:pt x="3652830" y="682985"/>
                    <a:pt x="3508207" y="835384"/>
                    <a:pt x="3276581" y="970685"/>
                  </a:cubicBezTo>
                  <a:lnTo>
                    <a:pt x="517480" y="970685"/>
                  </a:lnTo>
                  <a:cubicBezTo>
                    <a:pt x="51737" y="721081"/>
                    <a:pt x="74927" y="389308"/>
                    <a:pt x="42391" y="262024"/>
                  </a:cubicBezTo>
                  <a:cubicBezTo>
                    <a:pt x="0" y="103901"/>
                    <a:pt x="59369" y="0"/>
                    <a:pt x="263134" y="21948"/>
                  </a:cubicBezTo>
                  <a:close/>
                </a:path>
              </a:pathLst>
            </a:custGeom>
            <a:gradFill rotWithShape="0">
              <a:gsLst>
                <a:gs pos="0">
                  <a:srgbClr val="9b8a43"/>
                </a:gs>
                <a:gs pos="11000">
                  <a:srgbClr val="9b8a43"/>
                </a:gs>
                <a:gs pos="50000">
                  <a:srgbClr val="cbbe87"/>
                </a:gs>
                <a:gs pos="89000">
                  <a:srgbClr val="9b8a43"/>
                </a:gs>
                <a:gs pos="100000">
                  <a:srgbClr val="9b8a43"/>
                </a:gs>
              </a:gsLst>
              <a:lin ang="0"/>
            </a:gradFill>
            <a:ln>
              <a:noFill/>
            </a:ln>
            <a:effectLst>
              <a:outerShdw algn="r" blurRad="241200" dir="10800000" dist="88920" rotWithShape="0" sx="104000" sy="104000">
                <a:schemeClr val="accent6">
                  <a:lumMod val="50000"/>
                  <a:alpha val="4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1" name="任意多边形 35"/>
            <p:cNvSpPr/>
            <p:nvPr/>
          </p:nvSpPr>
          <p:spPr>
            <a:xfrm flipH="1" rot="16200000">
              <a:off x="4188960" y="3546360"/>
              <a:ext cx="822240" cy="180360"/>
            </a:xfrm>
            <a:custGeom>
              <a:avLst/>
              <a:gdLst>
                <a:gd name="textAreaLeft" fmla="*/ 360 w 822240"/>
                <a:gd name="textAreaRight" fmla="*/ 822960 w 82224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3682981" h="970685">
                  <a:moveTo>
                    <a:pt x="263134" y="21948"/>
                  </a:moveTo>
                  <a:lnTo>
                    <a:pt x="3682981" y="256308"/>
                  </a:lnTo>
                  <a:cubicBezTo>
                    <a:pt x="3652830" y="682985"/>
                    <a:pt x="3508207" y="835384"/>
                    <a:pt x="3276581" y="970685"/>
                  </a:cubicBezTo>
                  <a:lnTo>
                    <a:pt x="517480" y="970685"/>
                  </a:lnTo>
                  <a:cubicBezTo>
                    <a:pt x="51737" y="721081"/>
                    <a:pt x="74927" y="389308"/>
                    <a:pt x="42391" y="262024"/>
                  </a:cubicBezTo>
                  <a:cubicBezTo>
                    <a:pt x="0" y="103901"/>
                    <a:pt x="59369" y="0"/>
                    <a:pt x="263134" y="21948"/>
                  </a:cubicBezTo>
                  <a:close/>
                </a:path>
              </a:pathLst>
            </a:custGeom>
            <a:gradFill rotWithShape="0">
              <a:gsLst>
                <a:gs pos="0">
                  <a:srgbClr val="9b8a43"/>
                </a:gs>
                <a:gs pos="11000">
                  <a:srgbClr val="9b8a43"/>
                </a:gs>
                <a:gs pos="50000">
                  <a:srgbClr val="ccbf8a"/>
                </a:gs>
                <a:gs pos="89000">
                  <a:srgbClr val="9b8a43"/>
                </a:gs>
                <a:gs pos="100000">
                  <a:srgbClr val="9b8a43"/>
                </a:gs>
              </a:gsLst>
              <a:lin ang="10800000"/>
            </a:gradFill>
            <a:ln>
              <a:noFill/>
            </a:ln>
            <a:effectLst>
              <a:outerShdw algn="tl" blurRad="241200" dir="2700000" dist="88586" rotWithShape="0" sx="104000" sy="104000">
                <a:schemeClr val="accent6">
                  <a:lumMod val="50000"/>
                  <a:alpha val="4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2" name="任意多边形 36"/>
            <p:cNvSpPr/>
            <p:nvPr/>
          </p:nvSpPr>
          <p:spPr>
            <a:xfrm flipH="1" flipV="1">
              <a:off x="4488840" y="3483360"/>
              <a:ext cx="1248840" cy="1095840"/>
            </a:xfrm>
            <a:custGeom>
              <a:avLst/>
              <a:gdLst>
                <a:gd name="textAreaLeft" fmla="*/ -360 w 1248840"/>
                <a:gd name="textAreaRight" fmla="*/ 1248840 w 1248840"/>
                <a:gd name="textAreaTop" fmla="*/ 360 h 1095840"/>
                <a:gd name="textAreaBottom" fmla="*/ 1096560 h 1095840"/>
              </a:gdLst>
              <a:ahLst/>
              <a:rect l="textAreaLeft" t="textAreaTop" r="textAreaRight" b="textAreaBottom"/>
              <a:pathLst>
                <a:path w="3129936" h="3643338">
                  <a:moveTo>
                    <a:pt x="0" y="0"/>
                  </a:moveTo>
                  <a:lnTo>
                    <a:pt x="2363172" y="0"/>
                  </a:lnTo>
                  <a:cubicBezTo>
                    <a:pt x="2870894" y="86213"/>
                    <a:pt x="2967569" y="243376"/>
                    <a:pt x="3000395" y="351475"/>
                  </a:cubicBezTo>
                  <a:cubicBezTo>
                    <a:pt x="3000395" y="1353513"/>
                    <a:pt x="3129936" y="2641300"/>
                    <a:pt x="3129936" y="3643338"/>
                  </a:cubicBezTo>
                  <a:lnTo>
                    <a:pt x="0" y="36433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b8a4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3" name="任意多边形 37"/>
            <p:cNvSpPr/>
            <p:nvPr/>
          </p:nvSpPr>
          <p:spPr>
            <a:xfrm flipH="1" rot="16200000">
              <a:off x="4025160" y="3758040"/>
              <a:ext cx="1152360" cy="288720"/>
            </a:xfrm>
            <a:custGeom>
              <a:avLst/>
              <a:gdLst>
                <a:gd name="textAreaLeft" fmla="*/ -360 w 1152360"/>
                <a:gd name="textAreaRight" fmla="*/ 1152360 w 115236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3682981" h="970685">
                  <a:moveTo>
                    <a:pt x="263134" y="21948"/>
                  </a:moveTo>
                  <a:lnTo>
                    <a:pt x="3682981" y="256308"/>
                  </a:lnTo>
                  <a:cubicBezTo>
                    <a:pt x="3652830" y="682985"/>
                    <a:pt x="3508207" y="835384"/>
                    <a:pt x="3276581" y="970685"/>
                  </a:cubicBezTo>
                  <a:lnTo>
                    <a:pt x="517480" y="970685"/>
                  </a:lnTo>
                  <a:cubicBezTo>
                    <a:pt x="51737" y="721081"/>
                    <a:pt x="74927" y="389308"/>
                    <a:pt x="42391" y="262024"/>
                  </a:cubicBezTo>
                  <a:cubicBezTo>
                    <a:pt x="0" y="103901"/>
                    <a:pt x="59369" y="0"/>
                    <a:pt x="263134" y="21948"/>
                  </a:cubicBezTo>
                  <a:close/>
                </a:path>
              </a:pathLst>
            </a:custGeom>
            <a:gradFill rotWithShape="0">
              <a:gsLst>
                <a:gs pos="0">
                  <a:srgbClr val="9b8a43"/>
                </a:gs>
                <a:gs pos="11000">
                  <a:srgbClr val="9b8a43"/>
                </a:gs>
                <a:gs pos="50000">
                  <a:srgbClr val="ccbf8a"/>
                </a:gs>
                <a:gs pos="89000">
                  <a:srgbClr val="9b8a43"/>
                </a:gs>
                <a:gs pos="100000">
                  <a:srgbClr val="9b8a43"/>
                </a:gs>
              </a:gsLst>
              <a:lin ang="10800000"/>
            </a:gradFill>
            <a:ln>
              <a:noFill/>
            </a:ln>
            <a:effectLst>
              <a:outerShdw algn="tl" blurRad="241200" dir="2700000" dist="88586" rotWithShape="0" sx="104000" sy="104000">
                <a:schemeClr val="accent6">
                  <a:lumMod val="50000"/>
                  <a:alpha val="40000"/>
                </a:scheme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84" name="组合 10"/>
          <p:cNvGrpSpPr/>
          <p:nvPr/>
        </p:nvGrpSpPr>
        <p:grpSpPr>
          <a:xfrm>
            <a:off x="2192760" y="316080"/>
            <a:ext cx="2545200" cy="1713960"/>
            <a:chOff x="2192760" y="316080"/>
            <a:chExt cx="2545200" cy="1713960"/>
          </a:xfrm>
        </p:grpSpPr>
        <p:grpSp>
          <p:nvGrpSpPr>
            <p:cNvPr id="485" name="组合 9"/>
            <p:cNvGrpSpPr/>
            <p:nvPr/>
          </p:nvGrpSpPr>
          <p:grpSpPr>
            <a:xfrm>
              <a:off x="2192760" y="316080"/>
              <a:ext cx="1323000" cy="1439280"/>
              <a:chOff x="2192760" y="316080"/>
              <a:chExt cx="1323000" cy="1439280"/>
            </a:xfrm>
          </p:grpSpPr>
          <p:sp>
            <p:nvSpPr>
              <p:cNvPr id="486" name="任意多边形 32"/>
              <p:cNvSpPr/>
              <p:nvPr/>
            </p:nvSpPr>
            <p:spPr>
              <a:xfrm flipH="1" rot="16200000">
                <a:off x="1908000" y="657000"/>
                <a:ext cx="874080" cy="191880"/>
              </a:xfrm>
              <a:custGeom>
                <a:avLst/>
                <a:gdLst>
                  <a:gd name="textAreaLeft" fmla="*/ 360 w 874080"/>
                  <a:gd name="textAreaRight" fmla="*/ 874800 w 87408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3682981" h="970685">
                    <a:moveTo>
                      <a:pt x="263134" y="21948"/>
                    </a:moveTo>
                    <a:lnTo>
                      <a:pt x="3682981" y="256308"/>
                    </a:lnTo>
                    <a:cubicBezTo>
                      <a:pt x="3652830" y="682985"/>
                      <a:pt x="3508207" y="835384"/>
                      <a:pt x="3276581" y="970685"/>
                    </a:cubicBezTo>
                    <a:lnTo>
                      <a:pt x="517480" y="970685"/>
                    </a:lnTo>
                    <a:cubicBezTo>
                      <a:pt x="51737" y="721081"/>
                      <a:pt x="74927" y="389308"/>
                      <a:pt x="42391" y="262024"/>
                    </a:cubicBezTo>
                    <a:cubicBezTo>
                      <a:pt x="0" y="103901"/>
                      <a:pt x="59369" y="0"/>
                      <a:pt x="263134" y="219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46954"/>
                  </a:gs>
                  <a:gs pos="11000">
                    <a:srgbClr val="b46954"/>
                  </a:gs>
                  <a:gs pos="50000">
                    <a:srgbClr val="d4a79c">
                      <a:alpha val="99215"/>
                    </a:srgbClr>
                  </a:gs>
                  <a:gs pos="89000">
                    <a:srgbClr val="b46954"/>
                  </a:gs>
                  <a:gs pos="100000">
                    <a:srgbClr val="b46954"/>
                  </a:gs>
                </a:gsLst>
                <a:lin ang="10800000"/>
              </a:gradFill>
              <a:ln>
                <a:noFill/>
              </a:ln>
              <a:effectLst>
                <a:outerShdw algn="tl" blurRad="241200" dir="2700000" dist="88586" rotWithShape="0" sx="104000" sy="104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" name="任意多边形 33"/>
              <p:cNvSpPr/>
              <p:nvPr/>
            </p:nvSpPr>
            <p:spPr>
              <a:xfrm flipH="1" flipV="1">
                <a:off x="2227680" y="590400"/>
                <a:ext cx="1288080" cy="1164960"/>
              </a:xfrm>
              <a:custGeom>
                <a:avLst/>
                <a:gdLst>
                  <a:gd name="textAreaLeft" fmla="*/ 360 w 1288080"/>
                  <a:gd name="textAreaRight" fmla="*/ 1288800 w 1288080"/>
                  <a:gd name="textAreaTop" fmla="*/ 360 h 1164960"/>
                  <a:gd name="textAreaBottom" fmla="*/ 1165680 h 1164960"/>
                </a:gdLst>
                <a:ahLst/>
                <a:rect l="textAreaLeft" t="textAreaTop" r="textAreaRight" b="textAreaBottom"/>
                <a:pathLst>
                  <a:path w="3129936" h="3643338">
                    <a:moveTo>
                      <a:pt x="0" y="0"/>
                    </a:moveTo>
                    <a:lnTo>
                      <a:pt x="2363172" y="0"/>
                    </a:lnTo>
                    <a:cubicBezTo>
                      <a:pt x="2870894" y="86213"/>
                      <a:pt x="2967569" y="243376"/>
                      <a:pt x="3000395" y="351475"/>
                    </a:cubicBezTo>
                    <a:cubicBezTo>
                      <a:pt x="3000395" y="1353513"/>
                      <a:pt x="3129936" y="2641300"/>
                      <a:pt x="3129936" y="3643338"/>
                    </a:cubicBezTo>
                    <a:lnTo>
                      <a:pt x="0" y="36433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695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" name="任意多边形 34"/>
              <p:cNvSpPr/>
              <p:nvPr/>
            </p:nvSpPr>
            <p:spPr>
              <a:xfrm flipH="1" rot="16200000">
                <a:off x="1733400" y="882000"/>
                <a:ext cx="1224720" cy="307080"/>
              </a:xfrm>
              <a:custGeom>
                <a:avLst/>
                <a:gdLst>
                  <a:gd name="textAreaLeft" fmla="*/ 360 w 1224720"/>
                  <a:gd name="textAreaRight" fmla="*/ 1225440 w 1224720"/>
                  <a:gd name="textAreaTop" fmla="*/ 0 h 307080"/>
                  <a:gd name="textAreaBottom" fmla="*/ 307440 h 307080"/>
                </a:gdLst>
                <a:ahLst/>
                <a:rect l="textAreaLeft" t="textAreaTop" r="textAreaRight" b="textAreaBottom"/>
                <a:pathLst>
                  <a:path w="3682981" h="970685">
                    <a:moveTo>
                      <a:pt x="263134" y="21948"/>
                    </a:moveTo>
                    <a:lnTo>
                      <a:pt x="3682981" y="256308"/>
                    </a:lnTo>
                    <a:cubicBezTo>
                      <a:pt x="3652830" y="682985"/>
                      <a:pt x="3508207" y="835384"/>
                      <a:pt x="3276581" y="970685"/>
                    </a:cubicBezTo>
                    <a:lnTo>
                      <a:pt x="517480" y="970685"/>
                    </a:lnTo>
                    <a:cubicBezTo>
                      <a:pt x="51737" y="721081"/>
                      <a:pt x="74927" y="389308"/>
                      <a:pt x="42391" y="262024"/>
                    </a:cubicBezTo>
                    <a:cubicBezTo>
                      <a:pt x="0" y="103901"/>
                      <a:pt x="59369" y="0"/>
                      <a:pt x="263134" y="219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46954"/>
                  </a:gs>
                  <a:gs pos="11000">
                    <a:srgbClr val="b46954"/>
                  </a:gs>
                  <a:gs pos="50000">
                    <a:srgbClr val="d4a79c">
                      <a:alpha val="99215"/>
                    </a:srgbClr>
                  </a:gs>
                  <a:gs pos="89000">
                    <a:srgbClr val="b46954"/>
                  </a:gs>
                  <a:gs pos="100000">
                    <a:srgbClr val="b46954"/>
                  </a:gs>
                </a:gsLst>
                <a:lin ang="10800000"/>
              </a:gradFill>
              <a:ln>
                <a:noFill/>
              </a:ln>
              <a:effectLst>
                <a:outerShdw algn="tl" blurRad="241200" dir="2700000" dist="88586" rotWithShape="0" sx="104000" sy="104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89" name="组合 63"/>
            <p:cNvGrpSpPr/>
            <p:nvPr/>
          </p:nvGrpSpPr>
          <p:grpSpPr>
            <a:xfrm>
              <a:off x="3415320" y="590760"/>
              <a:ext cx="1322640" cy="1439280"/>
              <a:chOff x="3415320" y="590760"/>
              <a:chExt cx="1322640" cy="1439280"/>
            </a:xfrm>
          </p:grpSpPr>
          <p:sp>
            <p:nvSpPr>
              <p:cNvPr id="490" name="任意多边形 64"/>
              <p:cNvSpPr/>
              <p:nvPr/>
            </p:nvSpPr>
            <p:spPr>
              <a:xfrm flipH="1" rot="5400000">
                <a:off x="4147200" y="1496880"/>
                <a:ext cx="874080" cy="191880"/>
              </a:xfrm>
              <a:custGeom>
                <a:avLst/>
                <a:gdLst>
                  <a:gd name="textAreaLeft" fmla="*/ 360 w 874080"/>
                  <a:gd name="textAreaRight" fmla="*/ 874800 w 87408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3682981" h="970685">
                    <a:moveTo>
                      <a:pt x="263134" y="21948"/>
                    </a:moveTo>
                    <a:lnTo>
                      <a:pt x="3682981" y="256308"/>
                    </a:lnTo>
                    <a:cubicBezTo>
                      <a:pt x="3652830" y="682985"/>
                      <a:pt x="3508207" y="835384"/>
                      <a:pt x="3276581" y="970685"/>
                    </a:cubicBezTo>
                    <a:lnTo>
                      <a:pt x="517480" y="970685"/>
                    </a:lnTo>
                    <a:cubicBezTo>
                      <a:pt x="51737" y="721081"/>
                      <a:pt x="74927" y="389308"/>
                      <a:pt x="42391" y="262024"/>
                    </a:cubicBezTo>
                    <a:cubicBezTo>
                      <a:pt x="0" y="103901"/>
                      <a:pt x="59369" y="0"/>
                      <a:pt x="263134" y="219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46954"/>
                  </a:gs>
                  <a:gs pos="11000">
                    <a:srgbClr val="b46954"/>
                  </a:gs>
                  <a:gs pos="50000">
                    <a:srgbClr val="d4a79c">
                      <a:alpha val="99215"/>
                    </a:srgbClr>
                  </a:gs>
                  <a:gs pos="89000">
                    <a:srgbClr val="b46954"/>
                  </a:gs>
                  <a:gs pos="100000">
                    <a:srgbClr val="b46954"/>
                  </a:gs>
                </a:gsLst>
                <a:lin ang="10800000"/>
              </a:gradFill>
              <a:ln>
                <a:noFill/>
              </a:ln>
              <a:effectLst>
                <a:outerShdw algn="r" blurRad="241200" dir="10800000" dist="88920" rotWithShape="0" sx="104000" sy="104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" name="任意多边形 65"/>
              <p:cNvSpPr/>
              <p:nvPr/>
            </p:nvSpPr>
            <p:spPr>
              <a:xfrm flipH="1" flipV="1" rot="10800000">
                <a:off x="3415320" y="590760"/>
                <a:ext cx="1288080" cy="1164960"/>
              </a:xfrm>
              <a:custGeom>
                <a:avLst/>
                <a:gdLst>
                  <a:gd name="textAreaLeft" fmla="*/ 360 w 1288080"/>
                  <a:gd name="textAreaRight" fmla="*/ 1288800 w 1288080"/>
                  <a:gd name="textAreaTop" fmla="*/ 360 h 1164960"/>
                  <a:gd name="textAreaBottom" fmla="*/ 1165680 h 1164960"/>
                </a:gdLst>
                <a:ahLst/>
                <a:rect l="textAreaLeft" t="textAreaTop" r="textAreaRight" b="textAreaBottom"/>
                <a:pathLst>
                  <a:path w="3129936" h="3643338">
                    <a:moveTo>
                      <a:pt x="0" y="0"/>
                    </a:moveTo>
                    <a:lnTo>
                      <a:pt x="2363172" y="0"/>
                    </a:lnTo>
                    <a:cubicBezTo>
                      <a:pt x="2870894" y="86213"/>
                      <a:pt x="2967569" y="243376"/>
                      <a:pt x="3000395" y="351475"/>
                    </a:cubicBezTo>
                    <a:cubicBezTo>
                      <a:pt x="3000395" y="1353513"/>
                      <a:pt x="3129936" y="2641300"/>
                      <a:pt x="3129936" y="3643338"/>
                    </a:cubicBezTo>
                    <a:lnTo>
                      <a:pt x="0" y="36433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695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" name="任意多边形 66"/>
              <p:cNvSpPr/>
              <p:nvPr/>
            </p:nvSpPr>
            <p:spPr>
              <a:xfrm flipH="1" rot="5400000">
                <a:off x="3971520" y="1156680"/>
                <a:ext cx="1224720" cy="307080"/>
              </a:xfrm>
              <a:custGeom>
                <a:avLst/>
                <a:gdLst>
                  <a:gd name="textAreaLeft" fmla="*/ 360 w 1224720"/>
                  <a:gd name="textAreaRight" fmla="*/ 1225440 w 1224720"/>
                  <a:gd name="textAreaTop" fmla="*/ 0 h 307080"/>
                  <a:gd name="textAreaBottom" fmla="*/ 307440 h 307080"/>
                </a:gdLst>
                <a:ahLst/>
                <a:rect l="textAreaLeft" t="textAreaTop" r="textAreaRight" b="textAreaBottom"/>
                <a:pathLst>
                  <a:path w="3682981" h="970685">
                    <a:moveTo>
                      <a:pt x="263134" y="21948"/>
                    </a:moveTo>
                    <a:lnTo>
                      <a:pt x="3682981" y="256308"/>
                    </a:lnTo>
                    <a:cubicBezTo>
                      <a:pt x="3652830" y="682985"/>
                      <a:pt x="3508207" y="835384"/>
                      <a:pt x="3276581" y="970685"/>
                    </a:cubicBezTo>
                    <a:lnTo>
                      <a:pt x="517480" y="970685"/>
                    </a:lnTo>
                    <a:cubicBezTo>
                      <a:pt x="51737" y="721081"/>
                      <a:pt x="74927" y="389308"/>
                      <a:pt x="42391" y="262024"/>
                    </a:cubicBezTo>
                    <a:cubicBezTo>
                      <a:pt x="0" y="103901"/>
                      <a:pt x="59369" y="0"/>
                      <a:pt x="263134" y="219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46954"/>
                  </a:gs>
                  <a:gs pos="11000">
                    <a:srgbClr val="b46954"/>
                  </a:gs>
                  <a:gs pos="50000">
                    <a:srgbClr val="d4a79c">
                      <a:alpha val="99215"/>
                    </a:srgbClr>
                  </a:gs>
                  <a:gs pos="89000">
                    <a:srgbClr val="b46954"/>
                  </a:gs>
                  <a:gs pos="100000">
                    <a:srgbClr val="b46954"/>
                  </a:gs>
                </a:gsLst>
                <a:lin ang="10800000"/>
              </a:gradFill>
              <a:ln>
                <a:noFill/>
              </a:ln>
              <a:effectLst>
                <a:outerShdw algn="r" blurRad="241200" dir="10800000" dist="88920" rotWithShape="0" sx="104000" sy="104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493" name="组合 11"/>
          <p:cNvGrpSpPr/>
          <p:nvPr/>
        </p:nvGrpSpPr>
        <p:grpSpPr>
          <a:xfrm>
            <a:off x="3312000" y="1753920"/>
            <a:ext cx="2545200" cy="1732680"/>
            <a:chOff x="3312000" y="1753920"/>
            <a:chExt cx="2545200" cy="1732680"/>
          </a:xfrm>
        </p:grpSpPr>
        <p:sp>
          <p:nvSpPr>
            <p:cNvPr id="494" name="任意多边形 74"/>
            <p:cNvSpPr/>
            <p:nvPr/>
          </p:nvSpPr>
          <p:spPr>
            <a:xfrm flipH="1" rot="16200000">
              <a:off x="3027240" y="2094840"/>
              <a:ext cx="874080" cy="191880"/>
            </a:xfrm>
            <a:custGeom>
              <a:avLst/>
              <a:gdLst>
                <a:gd name="textAreaLeft" fmla="*/ 360 w 874080"/>
                <a:gd name="textAreaRight" fmla="*/ 874800 w 8740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682981" h="970685">
                  <a:moveTo>
                    <a:pt x="263134" y="21948"/>
                  </a:moveTo>
                  <a:lnTo>
                    <a:pt x="3682981" y="256308"/>
                  </a:lnTo>
                  <a:cubicBezTo>
                    <a:pt x="3652830" y="682985"/>
                    <a:pt x="3508207" y="835384"/>
                    <a:pt x="3276581" y="970685"/>
                  </a:cubicBezTo>
                  <a:lnTo>
                    <a:pt x="517480" y="970685"/>
                  </a:lnTo>
                  <a:cubicBezTo>
                    <a:pt x="51737" y="721081"/>
                    <a:pt x="74927" y="389308"/>
                    <a:pt x="42391" y="262024"/>
                  </a:cubicBezTo>
                  <a:cubicBezTo>
                    <a:pt x="0" y="103901"/>
                    <a:pt x="59369" y="0"/>
                    <a:pt x="263134" y="21948"/>
                  </a:cubicBezTo>
                  <a:close/>
                </a:path>
              </a:pathLst>
            </a:custGeom>
            <a:gradFill rotWithShape="0">
              <a:gsLst>
                <a:gs pos="0">
                  <a:srgbClr val="49b2cb"/>
                </a:gs>
                <a:gs pos="11000">
                  <a:srgbClr val="49b2cb"/>
                </a:gs>
                <a:gs pos="50000">
                  <a:srgbClr val="7cc8da"/>
                </a:gs>
                <a:gs pos="89000">
                  <a:srgbClr val="49b2cb"/>
                </a:gs>
                <a:gs pos="100000">
                  <a:srgbClr val="49b2cb"/>
                </a:gs>
              </a:gsLst>
              <a:lin ang="10800000"/>
            </a:gradFill>
            <a:ln>
              <a:noFill/>
            </a:ln>
            <a:effectLst>
              <a:outerShdw algn="tl" blurRad="241200" dir="2700000" dist="88586" rotWithShape="0" sx="104000" sy="104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5" name="任意多边形 75"/>
            <p:cNvSpPr/>
            <p:nvPr/>
          </p:nvSpPr>
          <p:spPr>
            <a:xfrm flipH="1" flipV="1">
              <a:off x="3346920" y="2037600"/>
              <a:ext cx="1288080" cy="1164960"/>
            </a:xfrm>
            <a:custGeom>
              <a:avLst/>
              <a:gdLst>
                <a:gd name="textAreaLeft" fmla="*/ 360 w 1288080"/>
                <a:gd name="textAreaRight" fmla="*/ 1288800 w 1288080"/>
                <a:gd name="textAreaTop" fmla="*/ 360 h 1164960"/>
                <a:gd name="textAreaBottom" fmla="*/ 1165680 h 1164960"/>
              </a:gdLst>
              <a:ahLst/>
              <a:rect l="textAreaLeft" t="textAreaTop" r="textAreaRight" b="textAreaBottom"/>
              <a:pathLst>
                <a:path w="3129936" h="3643338">
                  <a:moveTo>
                    <a:pt x="0" y="0"/>
                  </a:moveTo>
                  <a:lnTo>
                    <a:pt x="2363172" y="0"/>
                  </a:lnTo>
                  <a:cubicBezTo>
                    <a:pt x="2870894" y="86213"/>
                    <a:pt x="2967569" y="243376"/>
                    <a:pt x="3000395" y="351475"/>
                  </a:cubicBezTo>
                  <a:cubicBezTo>
                    <a:pt x="3000395" y="1353513"/>
                    <a:pt x="3129936" y="2641300"/>
                    <a:pt x="3129936" y="3643338"/>
                  </a:cubicBezTo>
                  <a:lnTo>
                    <a:pt x="0" y="36433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b2cb"/>
            </a:solidFill>
            <a:ln>
              <a:noFill/>
            </a:ln>
            <a:effectLst>
              <a:outerShdw algn="tr" blurRad="50760" dir="8100000" dist="37674" rotWithShape="0" sx="96000" sy="96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6" name="任意多边形 80"/>
            <p:cNvSpPr/>
            <p:nvPr/>
          </p:nvSpPr>
          <p:spPr>
            <a:xfrm flipH="1" rot="16200000">
              <a:off x="2852640" y="2319480"/>
              <a:ext cx="1224720" cy="307080"/>
            </a:xfrm>
            <a:custGeom>
              <a:avLst/>
              <a:gdLst>
                <a:gd name="textAreaLeft" fmla="*/ 360 w 1224720"/>
                <a:gd name="textAreaRight" fmla="*/ 1225440 w 122472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3682981" h="970685">
                  <a:moveTo>
                    <a:pt x="263134" y="21948"/>
                  </a:moveTo>
                  <a:lnTo>
                    <a:pt x="3682981" y="256308"/>
                  </a:lnTo>
                  <a:cubicBezTo>
                    <a:pt x="3652830" y="682985"/>
                    <a:pt x="3508207" y="835384"/>
                    <a:pt x="3276581" y="970685"/>
                  </a:cubicBezTo>
                  <a:lnTo>
                    <a:pt x="517480" y="970685"/>
                  </a:lnTo>
                  <a:cubicBezTo>
                    <a:pt x="51737" y="721081"/>
                    <a:pt x="74927" y="389308"/>
                    <a:pt x="42391" y="262024"/>
                  </a:cubicBezTo>
                  <a:cubicBezTo>
                    <a:pt x="0" y="103901"/>
                    <a:pt x="59369" y="0"/>
                    <a:pt x="263134" y="21948"/>
                  </a:cubicBezTo>
                  <a:close/>
                </a:path>
              </a:pathLst>
            </a:custGeom>
            <a:gradFill rotWithShape="0">
              <a:gsLst>
                <a:gs pos="0">
                  <a:srgbClr val="49b2cb"/>
                </a:gs>
                <a:gs pos="11000">
                  <a:srgbClr val="49b2cb"/>
                </a:gs>
                <a:gs pos="50000">
                  <a:srgbClr val="7cc8da"/>
                </a:gs>
                <a:gs pos="89000">
                  <a:srgbClr val="49b2cb"/>
                </a:gs>
                <a:gs pos="100000">
                  <a:srgbClr val="49b2cb"/>
                </a:gs>
              </a:gsLst>
              <a:lin ang="10800000"/>
            </a:gradFill>
            <a:ln>
              <a:noFill/>
            </a:ln>
            <a:effectLst>
              <a:outerShdw algn="tl" blurRad="241200" dir="2700000" dist="88586" rotWithShape="0" sx="104000" sy="104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7" name="任意多边形 71"/>
            <p:cNvSpPr/>
            <p:nvPr/>
          </p:nvSpPr>
          <p:spPr>
            <a:xfrm flipH="1" rot="5400000">
              <a:off x="5266440" y="2953440"/>
              <a:ext cx="874080" cy="191880"/>
            </a:xfrm>
            <a:custGeom>
              <a:avLst/>
              <a:gdLst>
                <a:gd name="textAreaLeft" fmla="*/ 360 w 874080"/>
                <a:gd name="textAreaRight" fmla="*/ 874800 w 8740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682981" h="970685">
                  <a:moveTo>
                    <a:pt x="263134" y="21948"/>
                  </a:moveTo>
                  <a:lnTo>
                    <a:pt x="3682981" y="256308"/>
                  </a:lnTo>
                  <a:cubicBezTo>
                    <a:pt x="3652830" y="682985"/>
                    <a:pt x="3508207" y="835384"/>
                    <a:pt x="3276581" y="970685"/>
                  </a:cubicBezTo>
                  <a:lnTo>
                    <a:pt x="517480" y="970685"/>
                  </a:lnTo>
                  <a:cubicBezTo>
                    <a:pt x="51737" y="721081"/>
                    <a:pt x="74927" y="389308"/>
                    <a:pt x="42391" y="262024"/>
                  </a:cubicBezTo>
                  <a:cubicBezTo>
                    <a:pt x="0" y="103901"/>
                    <a:pt x="59369" y="0"/>
                    <a:pt x="263134" y="21948"/>
                  </a:cubicBezTo>
                  <a:close/>
                </a:path>
              </a:pathLst>
            </a:custGeom>
            <a:gradFill rotWithShape="0">
              <a:gsLst>
                <a:gs pos="0">
                  <a:srgbClr val="49b2cb"/>
                </a:gs>
                <a:gs pos="11000">
                  <a:srgbClr val="49b2cb"/>
                </a:gs>
                <a:gs pos="50000">
                  <a:srgbClr val="7cc8da"/>
                </a:gs>
                <a:gs pos="89000">
                  <a:srgbClr val="49b2cb"/>
                </a:gs>
                <a:gs pos="100000">
                  <a:srgbClr val="49b2cb"/>
                </a:gs>
              </a:gsLst>
              <a:lin ang="0"/>
            </a:gradFill>
            <a:ln>
              <a:noFill/>
            </a:ln>
            <a:effectLst>
              <a:outerShdw algn="r" blurRad="241200" dir="10800000" dist="88920" rotWithShape="0" sx="104000" sy="104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8" name="任意多边形 72"/>
            <p:cNvSpPr/>
            <p:nvPr/>
          </p:nvSpPr>
          <p:spPr>
            <a:xfrm flipH="1" flipV="1" rot="10800000">
              <a:off x="4534560" y="2037960"/>
              <a:ext cx="1288080" cy="1164960"/>
            </a:xfrm>
            <a:custGeom>
              <a:avLst/>
              <a:gdLst>
                <a:gd name="textAreaLeft" fmla="*/ 360 w 1288080"/>
                <a:gd name="textAreaRight" fmla="*/ 1288800 w 1288080"/>
                <a:gd name="textAreaTop" fmla="*/ 360 h 1164960"/>
                <a:gd name="textAreaBottom" fmla="*/ 1165680 h 1164960"/>
              </a:gdLst>
              <a:ahLst/>
              <a:rect l="textAreaLeft" t="textAreaTop" r="textAreaRight" b="textAreaBottom"/>
              <a:pathLst>
                <a:path w="3129936" h="3643338">
                  <a:moveTo>
                    <a:pt x="0" y="0"/>
                  </a:moveTo>
                  <a:lnTo>
                    <a:pt x="2363172" y="0"/>
                  </a:lnTo>
                  <a:cubicBezTo>
                    <a:pt x="2870894" y="86213"/>
                    <a:pt x="2967569" y="243376"/>
                    <a:pt x="3000395" y="351475"/>
                  </a:cubicBezTo>
                  <a:cubicBezTo>
                    <a:pt x="3000395" y="1353513"/>
                    <a:pt x="3129936" y="2641300"/>
                    <a:pt x="3129936" y="3643338"/>
                  </a:cubicBezTo>
                  <a:lnTo>
                    <a:pt x="0" y="36433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b2cb"/>
            </a:solidFill>
            <a:ln>
              <a:noFill/>
            </a:ln>
            <a:effectLst>
              <a:outerShdw algn="tr" blurRad="50760" dir="8100000" dist="37674" rotWithShape="0" sx="96000" sy="96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9" name="任意多边形 73"/>
            <p:cNvSpPr/>
            <p:nvPr/>
          </p:nvSpPr>
          <p:spPr>
            <a:xfrm flipH="1" rot="5400000">
              <a:off x="5090760" y="2613240"/>
              <a:ext cx="1224720" cy="307080"/>
            </a:xfrm>
            <a:custGeom>
              <a:avLst/>
              <a:gdLst>
                <a:gd name="textAreaLeft" fmla="*/ 360 w 1224720"/>
                <a:gd name="textAreaRight" fmla="*/ 1225440 w 122472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3682981" h="970685">
                  <a:moveTo>
                    <a:pt x="263134" y="21948"/>
                  </a:moveTo>
                  <a:lnTo>
                    <a:pt x="3682981" y="256308"/>
                  </a:lnTo>
                  <a:cubicBezTo>
                    <a:pt x="3652830" y="682985"/>
                    <a:pt x="3508207" y="835384"/>
                    <a:pt x="3276581" y="970685"/>
                  </a:cubicBezTo>
                  <a:lnTo>
                    <a:pt x="517480" y="970685"/>
                  </a:lnTo>
                  <a:cubicBezTo>
                    <a:pt x="51737" y="721081"/>
                    <a:pt x="74927" y="389308"/>
                    <a:pt x="42391" y="262024"/>
                  </a:cubicBezTo>
                  <a:cubicBezTo>
                    <a:pt x="0" y="103901"/>
                    <a:pt x="59369" y="0"/>
                    <a:pt x="263134" y="21948"/>
                  </a:cubicBezTo>
                  <a:close/>
                </a:path>
              </a:pathLst>
            </a:custGeom>
            <a:gradFill rotWithShape="0">
              <a:gsLst>
                <a:gs pos="0">
                  <a:srgbClr val="49b2cb"/>
                </a:gs>
                <a:gs pos="11000">
                  <a:srgbClr val="49b2cb"/>
                </a:gs>
                <a:gs pos="50000">
                  <a:srgbClr val="7cc8da"/>
                </a:gs>
                <a:gs pos="89000">
                  <a:srgbClr val="49b2cb"/>
                </a:gs>
                <a:gs pos="100000">
                  <a:srgbClr val="49b2cb"/>
                </a:gs>
              </a:gsLst>
              <a:lin ang="0"/>
            </a:gradFill>
            <a:ln>
              <a:noFill/>
            </a:ln>
            <a:effectLst>
              <a:outerShdw algn="r" blurRad="241200" dir="10800000" dist="88920" rotWithShape="0" sx="104000" sy="104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00" name="组合 18"/>
          <p:cNvGrpSpPr/>
          <p:nvPr/>
        </p:nvGrpSpPr>
        <p:grpSpPr>
          <a:xfrm>
            <a:off x="2457360" y="589320"/>
            <a:ext cx="2010960" cy="1052280"/>
            <a:chOff x="2457360" y="589320"/>
            <a:chExt cx="2010960" cy="1052280"/>
          </a:xfrm>
        </p:grpSpPr>
        <p:sp>
          <p:nvSpPr>
            <p:cNvPr id="501" name="TextBox 82"/>
            <p:cNvSpPr/>
            <p:nvPr/>
          </p:nvSpPr>
          <p:spPr>
            <a:xfrm>
              <a:off x="2457360" y="589320"/>
              <a:ext cx="82908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13"/>
            <p:cNvSpPr/>
            <p:nvPr/>
          </p:nvSpPr>
          <p:spPr>
            <a:xfrm>
              <a:off x="3069360" y="743400"/>
              <a:ext cx="13989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14"/>
            <p:cNvSpPr/>
            <p:nvPr/>
          </p:nvSpPr>
          <p:spPr>
            <a:xfrm>
              <a:off x="2602440" y="1186920"/>
              <a:ext cx="1726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4" name="直接连接符 16"/>
            <p:cNvCxnSpPr/>
            <p:nvPr/>
          </p:nvCxnSpPr>
          <p:spPr>
            <a:xfrm>
              <a:off x="3150000" y="788040"/>
              <a:ext cx="360" cy="249120"/>
            </a:xfrm>
            <a:prstGeom prst="straightConnector1">
              <a:avLst/>
            </a:prstGeom>
            <a:ln w="6350">
              <a:solidFill>
                <a:srgbClr val="ffffff"/>
              </a:solidFill>
              <a:prstDash val="sysDot"/>
              <a:round/>
            </a:ln>
          </p:spPr>
        </p:cxnSp>
      </p:grpSp>
      <p:grpSp>
        <p:nvGrpSpPr>
          <p:cNvPr id="505" name="组合 90"/>
          <p:cNvGrpSpPr/>
          <p:nvPr/>
        </p:nvGrpSpPr>
        <p:grpSpPr>
          <a:xfrm>
            <a:off x="3576600" y="2095560"/>
            <a:ext cx="2010960" cy="1051920"/>
            <a:chOff x="3576600" y="2095560"/>
            <a:chExt cx="2010960" cy="1051920"/>
          </a:xfrm>
        </p:grpSpPr>
        <p:sp>
          <p:nvSpPr>
            <p:cNvPr id="506" name="TextBox 102"/>
            <p:cNvSpPr/>
            <p:nvPr/>
          </p:nvSpPr>
          <p:spPr>
            <a:xfrm>
              <a:off x="3576600" y="2095560"/>
              <a:ext cx="82908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103"/>
            <p:cNvSpPr/>
            <p:nvPr/>
          </p:nvSpPr>
          <p:spPr>
            <a:xfrm>
              <a:off x="4188600" y="2249280"/>
              <a:ext cx="13989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104"/>
            <p:cNvSpPr/>
            <p:nvPr/>
          </p:nvSpPr>
          <p:spPr>
            <a:xfrm>
              <a:off x="3721680" y="2692800"/>
              <a:ext cx="1726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9" name="直接连接符 105"/>
            <p:cNvCxnSpPr/>
            <p:nvPr/>
          </p:nvCxnSpPr>
          <p:spPr>
            <a:xfrm>
              <a:off x="4268880" y="2294280"/>
              <a:ext cx="360" cy="248760"/>
            </a:xfrm>
            <a:prstGeom prst="straightConnector1">
              <a:avLst/>
            </a:prstGeom>
            <a:ln w="6350">
              <a:solidFill>
                <a:srgbClr val="ffffff"/>
              </a:solidFill>
              <a:prstDash val="sysDot"/>
              <a:round/>
            </a:ln>
          </p:spPr>
        </p:cxnSp>
      </p:grpSp>
      <p:grpSp>
        <p:nvGrpSpPr>
          <p:cNvPr id="510" name="组合 106"/>
          <p:cNvGrpSpPr/>
          <p:nvPr/>
        </p:nvGrpSpPr>
        <p:grpSpPr>
          <a:xfrm>
            <a:off x="4688280" y="3491640"/>
            <a:ext cx="2010960" cy="1051920"/>
            <a:chOff x="4688280" y="3491640"/>
            <a:chExt cx="2010960" cy="1051920"/>
          </a:xfrm>
        </p:grpSpPr>
        <p:sp>
          <p:nvSpPr>
            <p:cNvPr id="511" name="TextBox 107"/>
            <p:cNvSpPr/>
            <p:nvPr/>
          </p:nvSpPr>
          <p:spPr>
            <a:xfrm>
              <a:off x="4688280" y="3491640"/>
              <a:ext cx="82908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108"/>
            <p:cNvSpPr/>
            <p:nvPr/>
          </p:nvSpPr>
          <p:spPr>
            <a:xfrm>
              <a:off x="5300280" y="3645720"/>
              <a:ext cx="13989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109"/>
            <p:cNvSpPr/>
            <p:nvPr/>
          </p:nvSpPr>
          <p:spPr>
            <a:xfrm>
              <a:off x="4833360" y="4088880"/>
              <a:ext cx="1726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Add your texts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4" name="直接连接符 110"/>
            <p:cNvCxnSpPr/>
            <p:nvPr/>
          </p:nvCxnSpPr>
          <p:spPr>
            <a:xfrm>
              <a:off x="5380920" y="3690360"/>
              <a:ext cx="360" cy="248760"/>
            </a:xfrm>
            <a:prstGeom prst="straightConnector1">
              <a:avLst/>
            </a:prstGeom>
            <a:ln w="6350">
              <a:solidFill>
                <a:srgbClr val="ffffff"/>
              </a:solidFill>
              <a:prstDash val="sysDot"/>
              <a:round/>
            </a:ln>
          </p:spPr>
        </p:cxnSp>
      </p:grpSp>
      <p:grpSp>
        <p:nvGrpSpPr>
          <p:cNvPr id="515" name="组合 2"/>
          <p:cNvGrpSpPr/>
          <p:nvPr/>
        </p:nvGrpSpPr>
        <p:grpSpPr>
          <a:xfrm>
            <a:off x="18720" y="4092480"/>
            <a:ext cx="2449080" cy="942840"/>
            <a:chOff x="18720" y="4092480"/>
            <a:chExt cx="2449080" cy="942840"/>
          </a:xfrm>
        </p:grpSpPr>
        <p:grpSp>
          <p:nvGrpSpPr>
            <p:cNvPr id="516" name="组合 1"/>
            <p:cNvGrpSpPr/>
            <p:nvPr/>
          </p:nvGrpSpPr>
          <p:grpSpPr>
            <a:xfrm>
              <a:off x="902880" y="4663080"/>
              <a:ext cx="681120" cy="68040"/>
              <a:chOff x="902880" y="4663080"/>
              <a:chExt cx="681120" cy="68040"/>
            </a:xfrm>
          </p:grpSpPr>
          <p:sp>
            <p:nvSpPr>
              <p:cNvPr id="517" name="矩形 112"/>
              <p:cNvSpPr/>
              <p:nvPr/>
            </p:nvSpPr>
            <p:spPr>
              <a:xfrm>
                <a:off x="902880" y="4663080"/>
                <a:ext cx="197640" cy="68040"/>
              </a:xfrm>
              <a:prstGeom prst="rect">
                <a:avLst/>
              </a:prstGeom>
              <a:solidFill>
                <a:srgbClr val="b4695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8" name="矩形 113"/>
              <p:cNvSpPr/>
              <p:nvPr/>
            </p:nvSpPr>
            <p:spPr>
              <a:xfrm>
                <a:off x="1144800" y="466308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" name="矩形 114"/>
              <p:cNvSpPr/>
              <p:nvPr/>
            </p:nvSpPr>
            <p:spPr>
              <a:xfrm>
                <a:off x="1386360" y="466308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520" name="TextBox 116"/>
            <p:cNvSpPr/>
            <p:nvPr/>
          </p:nvSpPr>
          <p:spPr>
            <a:xfrm>
              <a:off x="1872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组合 56"/>
          <p:cNvGrpSpPr/>
          <p:nvPr/>
        </p:nvGrpSpPr>
        <p:grpSpPr>
          <a:xfrm>
            <a:off x="6675120" y="4092480"/>
            <a:ext cx="2449080" cy="942840"/>
            <a:chOff x="6675120" y="4092480"/>
            <a:chExt cx="2449080" cy="942840"/>
          </a:xfrm>
        </p:grpSpPr>
        <p:sp>
          <p:nvSpPr>
            <p:cNvPr id="522" name="矩形 108"/>
            <p:cNvSpPr/>
            <p:nvPr/>
          </p:nvSpPr>
          <p:spPr>
            <a:xfrm>
              <a:off x="7558920" y="4663080"/>
              <a:ext cx="197640" cy="68040"/>
            </a:xfrm>
            <a:prstGeom prst="rect">
              <a:avLst/>
            </a:prstGeom>
            <a:pattFill prst="openDmnd">
              <a:fgClr>
                <a:srgbClr val="8c9ea2"/>
              </a:fgClr>
              <a:bgClr>
                <a:srgbClr val="b6b6b6"/>
              </a:bgClr>
            </a:patt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3" name="矩形 109"/>
            <p:cNvSpPr/>
            <p:nvPr/>
          </p:nvSpPr>
          <p:spPr>
            <a:xfrm>
              <a:off x="7800840" y="4663080"/>
              <a:ext cx="197640" cy="68040"/>
            </a:xfrm>
            <a:prstGeom prst="rect">
              <a:avLst/>
            </a:prstGeom>
            <a:pattFill prst="openDmnd">
              <a:fgClr>
                <a:srgbClr val="c97d7d"/>
              </a:fgClr>
              <a:bgClr>
                <a:srgbClr val="d29696"/>
              </a:bgClr>
            </a:patt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4" name="矩形 110"/>
            <p:cNvSpPr/>
            <p:nvPr/>
          </p:nvSpPr>
          <p:spPr>
            <a:xfrm>
              <a:off x="8042760" y="4663080"/>
              <a:ext cx="197640" cy="68040"/>
            </a:xfrm>
            <a:prstGeom prst="rect">
              <a:avLst/>
            </a:prstGeom>
            <a:pattFill prst="openDmnd">
              <a:fgClr>
                <a:srgbClr val="a38841"/>
              </a:fgClr>
              <a:bgClr>
                <a:srgbClr val="b49650"/>
              </a:bgClr>
            </a:patt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5" name="TextBox 111"/>
            <p:cNvSpPr/>
            <p:nvPr/>
          </p:nvSpPr>
          <p:spPr>
            <a:xfrm>
              <a:off x="667512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组合 6"/>
          <p:cNvGrpSpPr/>
          <p:nvPr/>
        </p:nvGrpSpPr>
        <p:grpSpPr>
          <a:xfrm>
            <a:off x="2512800" y="440280"/>
            <a:ext cx="4080960" cy="4052520"/>
            <a:chOff x="2512800" y="440280"/>
            <a:chExt cx="4080960" cy="4052520"/>
          </a:xfrm>
        </p:grpSpPr>
        <p:sp>
          <p:nvSpPr>
            <p:cNvPr id="527" name="等腰三角形 90"/>
            <p:cNvSpPr/>
            <p:nvPr/>
          </p:nvSpPr>
          <p:spPr>
            <a:xfrm flipH="1" rot="5400000">
              <a:off x="1398600" y="1595520"/>
              <a:ext cx="4043160" cy="1742040"/>
            </a:xfrm>
            <a:prstGeom prst="triangle">
              <a:avLst>
                <a:gd name="adj" fmla="val 50000"/>
              </a:avLst>
            </a:prstGeom>
            <a:pattFill prst="ltHorz">
              <a:fgClr>
                <a:srgbClr val="9daeb1"/>
              </a:fgClr>
              <a:bgClr>
                <a:srgbClr val="ffffff"/>
              </a:bgClr>
            </a:patt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528" name="组合 34"/>
            <p:cNvGrpSpPr/>
            <p:nvPr/>
          </p:nvGrpSpPr>
          <p:grpSpPr>
            <a:xfrm>
              <a:off x="2550600" y="440280"/>
              <a:ext cx="4043160" cy="1742040"/>
              <a:chOff x="2550600" y="440280"/>
              <a:chExt cx="4043160" cy="1742040"/>
            </a:xfrm>
          </p:grpSpPr>
          <p:sp>
            <p:nvSpPr>
              <p:cNvPr id="529" name="等腰三角形 4"/>
              <p:cNvSpPr/>
              <p:nvPr/>
            </p:nvSpPr>
            <p:spPr>
              <a:xfrm rot="10800000">
                <a:off x="2550600" y="439920"/>
                <a:ext cx="4043160" cy="1742040"/>
              </a:xfrm>
              <a:prstGeom prst="triangle">
                <a:avLst>
                  <a:gd name="adj" fmla="val 50000"/>
                </a:avLst>
              </a:prstGeom>
              <a:solidFill>
                <a:srgbClr val="919fa5"/>
              </a:solidFill>
              <a:ln>
                <a:noFill/>
              </a:ln>
              <a:effectLst>
                <a:outerShdw algn="tr" blurRad="762120" dir="7198248" dist="317079" rotWithShape="0">
                  <a:srgbClr val="333333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" name="等腰三角形 7"/>
              <p:cNvSpPr/>
              <p:nvPr/>
            </p:nvSpPr>
            <p:spPr>
              <a:xfrm rot="10800000">
                <a:off x="2687040" y="439920"/>
                <a:ext cx="3770280" cy="1611360"/>
              </a:xfrm>
              <a:prstGeom prst="triangle">
                <a:avLst>
                  <a:gd name="adj" fmla="val 50000"/>
                </a:avLst>
              </a:prstGeom>
              <a:pattFill prst="openDmnd">
                <a:fgClr>
                  <a:srgbClr val="8c9ea2"/>
                </a:fgClr>
                <a:bgClr>
                  <a:srgbClr val="b6b6b6"/>
                </a:bgClr>
              </a:patt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1" name="五边形 64"/>
              <p:cNvSpPr/>
              <p:nvPr/>
            </p:nvSpPr>
            <p:spPr>
              <a:xfrm rot="5400000">
                <a:off x="4014720" y="874800"/>
                <a:ext cx="1114560" cy="782280"/>
              </a:xfrm>
              <a:custGeom>
                <a:avLst/>
                <a:gdLst>
                  <a:gd name="textAreaLeft" fmla="*/ 0 w 1114560"/>
                  <a:gd name="textAreaRight" fmla="*/ 1114920 w 1114560"/>
                  <a:gd name="textAreaTop" fmla="*/ 0 h 782280"/>
                  <a:gd name="textAreaBottom" fmla="*/ 782640 h 782280"/>
                </a:gdLst>
                <a:ahLst/>
                <a:rect l="textAreaLeft" t="textAreaTop" r="textAreaRight" b="textAreaBottom"/>
                <a:pathLst>
                  <a:path w="1114814" h="782631">
                    <a:moveTo>
                      <a:pt x="0" y="782631"/>
                    </a:moveTo>
                    <a:lnTo>
                      <a:pt x="0" y="0"/>
                    </a:lnTo>
                    <a:lnTo>
                      <a:pt x="796307" y="0"/>
                    </a:lnTo>
                    <a:lnTo>
                      <a:pt x="1114814" y="391316"/>
                    </a:lnTo>
                    <a:lnTo>
                      <a:pt x="796307" y="782631"/>
                    </a:lnTo>
                    <a:close/>
                  </a:path>
                </a:pathLst>
              </a:custGeom>
              <a:solidFill>
                <a:srgbClr val="dedede"/>
              </a:solidFill>
              <a:ln>
                <a:noFill/>
              </a:ln>
              <a:effectLst>
                <a:outerShdw algn="ctr" blurRad="63360" rotWithShape="0" sx="102000" sy="102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532" name="直接连接符 14"/>
              <p:cNvCxnSpPr/>
              <p:nvPr/>
            </p:nvCxnSpPr>
            <p:spPr>
              <a:xfrm>
                <a:off x="3706200" y="723960"/>
                <a:ext cx="1731600" cy="36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prstDash val="sysDash"/>
                <a:round/>
              </a:ln>
            </p:spPr>
          </p:cxnSp>
          <p:sp>
            <p:nvSpPr>
              <p:cNvPr id="533" name="五角星 122"/>
              <p:cNvSpPr/>
              <p:nvPr/>
            </p:nvSpPr>
            <p:spPr>
              <a:xfrm>
                <a:off x="4474080" y="828000"/>
                <a:ext cx="195120" cy="195120"/>
              </a:xfrm>
              <a:prstGeom prst="star5">
                <a:avLst>
                  <a:gd name="adj" fmla="val 19098"/>
                  <a:gd name="hf" fmla="val 105146"/>
                  <a:gd name="vf" fmla="val 110557"/>
                </a:avLst>
              </a:prstGeom>
              <a:pattFill prst="openDmnd">
                <a:fgClr>
                  <a:srgbClr val="7b9095"/>
                </a:fgClr>
                <a:bgClr>
                  <a:srgbClr val="91a5aa"/>
                </a:bgClr>
              </a:patt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4" name="TextBox 25"/>
              <p:cNvSpPr/>
              <p:nvPr/>
            </p:nvSpPr>
            <p:spPr>
              <a:xfrm>
                <a:off x="4219200" y="925920"/>
                <a:ext cx="7052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3600" spc="-1" strike="noStrike">
                    <a:solidFill>
                      <a:srgbClr val="8a9da3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五边形 62"/>
              <p:cNvSpPr/>
              <p:nvPr/>
            </p:nvSpPr>
            <p:spPr>
              <a:xfrm rot="5400000">
                <a:off x="4510080" y="254880"/>
                <a:ext cx="123840" cy="7822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782280"/>
                  <a:gd name="textAreaBottom" fmla="*/ 782640 h 782280"/>
                </a:gdLst>
                <a:ahLst/>
                <a:rect l="textAreaLeft" t="textAreaTop" r="textAreaRight" b="textAreaBottom"/>
                <a:pathLst>
                  <a:path w="124352" h="782631">
                    <a:moveTo>
                      <a:pt x="0" y="782631"/>
                    </a:moveTo>
                    <a:lnTo>
                      <a:pt x="0" y="0"/>
                    </a:lnTo>
                    <a:lnTo>
                      <a:pt x="124352" y="0"/>
                    </a:lnTo>
                    <a:lnTo>
                      <a:pt x="124352" y="782631"/>
                    </a:lnTo>
                    <a:close/>
                  </a:path>
                </a:pathLst>
              </a:custGeom>
              <a:solidFill>
                <a:srgbClr val="b2b2b2"/>
              </a:solidFill>
              <a:ln>
                <a:noFill/>
              </a:ln>
              <a:effectLst>
                <a:outerShdw algn="bl" blurRad="76320" dir="18900000" dist="63130" kx="-1200000" rotWithShape="0" sy="23000">
                  <a:schemeClr val="tx1">
                    <a:alpha val="20000"/>
                  </a:scheme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36" name="组合 32"/>
            <p:cNvGrpSpPr/>
            <p:nvPr/>
          </p:nvGrpSpPr>
          <p:grpSpPr>
            <a:xfrm>
              <a:off x="4851360" y="444960"/>
              <a:ext cx="1742040" cy="4043160"/>
              <a:chOff x="4851360" y="444960"/>
              <a:chExt cx="1742040" cy="4043160"/>
            </a:xfrm>
          </p:grpSpPr>
          <p:sp>
            <p:nvSpPr>
              <p:cNvPr id="537" name="等腰三角形 69"/>
              <p:cNvSpPr/>
              <p:nvPr/>
            </p:nvSpPr>
            <p:spPr>
              <a:xfrm rot="16200000">
                <a:off x="3700800" y="1595520"/>
                <a:ext cx="4043160" cy="1742040"/>
              </a:xfrm>
              <a:prstGeom prst="triangle">
                <a:avLst>
                  <a:gd name="adj" fmla="val 50000"/>
                </a:avLst>
              </a:prstGeom>
              <a:solidFill>
                <a:srgbClr val="d29696"/>
              </a:solidFill>
              <a:ln>
                <a:noFill/>
              </a:ln>
              <a:effectLst>
                <a:outerShdw algn="tr" blurRad="762120" dir="7198248" dist="317079" rotWithShape="0">
                  <a:srgbClr val="333333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8" name="等腰三角形 70"/>
              <p:cNvSpPr/>
              <p:nvPr/>
            </p:nvSpPr>
            <p:spPr>
              <a:xfrm rot="16200000">
                <a:off x="3902400" y="1660680"/>
                <a:ext cx="3770280" cy="1611360"/>
              </a:xfrm>
              <a:prstGeom prst="triangle">
                <a:avLst>
                  <a:gd name="adj" fmla="val 50000"/>
                </a:avLst>
              </a:prstGeom>
              <a:pattFill prst="openDmnd">
                <a:fgClr>
                  <a:srgbClr val="c97d7d"/>
                </a:fgClr>
                <a:bgClr>
                  <a:srgbClr val="d29696"/>
                </a:bgClr>
              </a:patt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9" name="五边形 64"/>
              <p:cNvSpPr/>
              <p:nvPr/>
            </p:nvSpPr>
            <p:spPr>
              <a:xfrm rot="10800000">
                <a:off x="5210280" y="2075400"/>
                <a:ext cx="1114560" cy="782280"/>
              </a:xfrm>
              <a:custGeom>
                <a:avLst/>
                <a:gdLst>
                  <a:gd name="textAreaLeft" fmla="*/ 0 w 1114560"/>
                  <a:gd name="textAreaRight" fmla="*/ 1114920 w 1114560"/>
                  <a:gd name="textAreaTop" fmla="*/ 0 h 782280"/>
                  <a:gd name="textAreaBottom" fmla="*/ 782640 h 782280"/>
                </a:gdLst>
                <a:ahLst/>
                <a:rect l="textAreaLeft" t="textAreaTop" r="textAreaRight" b="textAreaBottom"/>
                <a:pathLst>
                  <a:path w="1114814" h="782631">
                    <a:moveTo>
                      <a:pt x="0" y="782631"/>
                    </a:moveTo>
                    <a:lnTo>
                      <a:pt x="0" y="0"/>
                    </a:lnTo>
                    <a:lnTo>
                      <a:pt x="796307" y="0"/>
                    </a:lnTo>
                    <a:lnTo>
                      <a:pt x="1114814" y="391316"/>
                    </a:lnTo>
                    <a:lnTo>
                      <a:pt x="796307" y="782631"/>
                    </a:lnTo>
                    <a:close/>
                  </a:path>
                </a:pathLst>
              </a:custGeom>
              <a:solidFill>
                <a:srgbClr val="dedede"/>
              </a:solidFill>
              <a:ln>
                <a:noFill/>
              </a:ln>
              <a:effectLst>
                <a:outerShdw algn="ctr" blurRad="63360" rotWithShape="0" sx="102000" sy="102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540" name="直接连接符 72"/>
              <p:cNvCxnSpPr/>
              <p:nvPr/>
            </p:nvCxnSpPr>
            <p:spPr>
              <a:xfrm>
                <a:off x="6309360" y="1600560"/>
                <a:ext cx="360" cy="173160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prstDash val="sysDash"/>
                <a:round/>
              </a:ln>
            </p:spPr>
          </p:cxnSp>
          <p:sp>
            <p:nvSpPr>
              <p:cNvPr id="541" name="TextBox 74"/>
              <p:cNvSpPr/>
              <p:nvPr/>
            </p:nvSpPr>
            <p:spPr>
              <a:xfrm>
                <a:off x="5369760" y="2130840"/>
                <a:ext cx="7052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3600" spc="-1" strike="noStrike">
                    <a:solidFill>
                      <a:srgbClr val="af8282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五边形 62"/>
              <p:cNvSpPr/>
              <p:nvPr/>
            </p:nvSpPr>
            <p:spPr>
              <a:xfrm rot="10800000">
                <a:off x="6325560" y="2075400"/>
                <a:ext cx="123840" cy="7822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782280"/>
                  <a:gd name="textAreaBottom" fmla="*/ 782640 h 782280"/>
                </a:gdLst>
                <a:ahLst/>
                <a:rect l="textAreaLeft" t="textAreaTop" r="textAreaRight" b="textAreaBottom"/>
                <a:pathLst>
                  <a:path w="124352" h="782631">
                    <a:moveTo>
                      <a:pt x="0" y="782631"/>
                    </a:moveTo>
                    <a:lnTo>
                      <a:pt x="0" y="0"/>
                    </a:lnTo>
                    <a:lnTo>
                      <a:pt x="124352" y="0"/>
                    </a:lnTo>
                    <a:lnTo>
                      <a:pt x="124352" y="782631"/>
                    </a:lnTo>
                    <a:close/>
                  </a:path>
                </a:pathLst>
              </a:custGeom>
              <a:solidFill>
                <a:srgbClr val="b2b2b2"/>
              </a:solidFill>
              <a:ln>
                <a:noFill/>
              </a:ln>
              <a:effectLst>
                <a:outerShdw algn="l" blurRad="19044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3" name="椭圆 3"/>
              <p:cNvSpPr/>
              <p:nvPr/>
            </p:nvSpPr>
            <p:spPr>
              <a:xfrm>
                <a:off x="6009840" y="2369880"/>
                <a:ext cx="194040" cy="19404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w="324000" h="324000">
                    <a:moveTo>
                      <a:pt x="162000" y="87902"/>
                    </a:moveTo>
                    <a:cubicBezTo>
                      <a:pt x="121077" y="87902"/>
                      <a:pt x="87902" y="121077"/>
                      <a:pt x="87902" y="162000"/>
                    </a:cubicBezTo>
                    <a:cubicBezTo>
                      <a:pt x="87902" y="202923"/>
                      <a:pt x="121077" y="236098"/>
                      <a:pt x="162000" y="236098"/>
                    </a:cubicBezTo>
                    <a:cubicBezTo>
                      <a:pt x="202923" y="236098"/>
                      <a:pt x="236098" y="202923"/>
                      <a:pt x="236098" y="162000"/>
                    </a:cubicBezTo>
                    <a:cubicBezTo>
                      <a:pt x="236098" y="121077"/>
                      <a:pt x="202923" y="87902"/>
                      <a:pt x="162000" y="87902"/>
                    </a:cubicBezTo>
                    <a:close/>
                    <a:moveTo>
                      <a:pt x="162000" y="0"/>
                    </a:moveTo>
                    <a:cubicBezTo>
                      <a:pt x="251470" y="0"/>
                      <a:pt x="324000" y="72530"/>
                      <a:pt x="324000" y="162000"/>
                    </a:cubicBezTo>
                    <a:cubicBezTo>
                      <a:pt x="324000" y="251470"/>
                      <a:pt x="251470" y="324000"/>
                      <a:pt x="162000" y="324000"/>
                    </a:cubicBezTo>
                    <a:cubicBezTo>
                      <a:pt x="72530" y="324000"/>
                      <a:pt x="0" y="251470"/>
                      <a:pt x="0" y="162000"/>
                    </a:cubicBezTo>
                    <a:cubicBezTo>
                      <a:pt x="0" y="72530"/>
                      <a:pt x="72530" y="0"/>
                      <a:pt x="162000" y="0"/>
                    </a:cubicBezTo>
                    <a:close/>
                  </a:path>
                </a:pathLst>
              </a:custGeom>
              <a:pattFill prst="openDmnd">
                <a:fgClr>
                  <a:srgbClr val="c97d7d"/>
                </a:fgClr>
                <a:bgClr>
                  <a:srgbClr val="d29696"/>
                </a:bgClr>
              </a:patt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44" name="组合 31"/>
            <p:cNvGrpSpPr/>
            <p:nvPr/>
          </p:nvGrpSpPr>
          <p:grpSpPr>
            <a:xfrm>
              <a:off x="2550600" y="2750400"/>
              <a:ext cx="4043160" cy="1742400"/>
              <a:chOff x="2550600" y="2750400"/>
              <a:chExt cx="4043160" cy="1742400"/>
            </a:xfrm>
          </p:grpSpPr>
          <p:sp>
            <p:nvSpPr>
              <p:cNvPr id="545" name="等腰三角形 77"/>
              <p:cNvSpPr/>
              <p:nvPr/>
            </p:nvSpPr>
            <p:spPr>
              <a:xfrm flipV="1" rot="10800000">
                <a:off x="2550600" y="2750040"/>
                <a:ext cx="4043160" cy="1742040"/>
              </a:xfrm>
              <a:prstGeom prst="triangle">
                <a:avLst>
                  <a:gd name="adj" fmla="val 50000"/>
                </a:avLst>
              </a:prstGeom>
              <a:solidFill>
                <a:srgbClr val="c4af7a"/>
              </a:solidFill>
              <a:ln>
                <a:noFill/>
              </a:ln>
              <a:effectLst>
                <a:outerShdw algn="tr" blurRad="762120" dir="7198248" dist="317079" rotWithShape="0">
                  <a:srgbClr val="333333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" name="等腰三角形 78"/>
              <p:cNvSpPr/>
              <p:nvPr/>
            </p:nvSpPr>
            <p:spPr>
              <a:xfrm flipV="1" rot="10800000">
                <a:off x="2687040" y="2881440"/>
                <a:ext cx="3770280" cy="1611360"/>
              </a:xfrm>
              <a:prstGeom prst="triangle">
                <a:avLst>
                  <a:gd name="adj" fmla="val 50000"/>
                </a:avLst>
              </a:prstGeom>
              <a:pattFill prst="openDmnd">
                <a:fgClr>
                  <a:srgbClr val="a38841"/>
                </a:fgClr>
                <a:bgClr>
                  <a:srgbClr val="b49650"/>
                </a:bgClr>
              </a:patt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7" name="五边形 64"/>
              <p:cNvSpPr/>
              <p:nvPr/>
            </p:nvSpPr>
            <p:spPr>
              <a:xfrm flipV="1" rot="16200000">
                <a:off x="4014720" y="3275280"/>
                <a:ext cx="1114560" cy="782280"/>
              </a:xfrm>
              <a:custGeom>
                <a:avLst/>
                <a:gdLst>
                  <a:gd name="textAreaLeft" fmla="*/ 0 w 1114560"/>
                  <a:gd name="textAreaRight" fmla="*/ 1114920 w 1114560"/>
                  <a:gd name="textAreaTop" fmla="*/ -360 h 782280"/>
                  <a:gd name="textAreaBottom" fmla="*/ 782280 h 782280"/>
                </a:gdLst>
                <a:ahLst/>
                <a:rect l="textAreaLeft" t="textAreaTop" r="textAreaRight" b="textAreaBottom"/>
                <a:pathLst>
                  <a:path w="1114814" h="782631">
                    <a:moveTo>
                      <a:pt x="0" y="782631"/>
                    </a:moveTo>
                    <a:lnTo>
                      <a:pt x="0" y="0"/>
                    </a:lnTo>
                    <a:lnTo>
                      <a:pt x="796307" y="0"/>
                    </a:lnTo>
                    <a:lnTo>
                      <a:pt x="1114814" y="391316"/>
                    </a:lnTo>
                    <a:lnTo>
                      <a:pt x="796307" y="782631"/>
                    </a:lnTo>
                    <a:close/>
                  </a:path>
                </a:pathLst>
              </a:custGeom>
              <a:solidFill>
                <a:srgbClr val="dedede"/>
              </a:solidFill>
              <a:ln>
                <a:noFill/>
              </a:ln>
              <a:effectLst>
                <a:outerShdw algn="ctr" blurRad="63360" rotWithShape="0" sx="102000" sy="102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548" name="直接连接符 80"/>
              <p:cNvCxnSpPr/>
              <p:nvPr/>
            </p:nvCxnSpPr>
            <p:spPr>
              <a:xfrm>
                <a:off x="3706200" y="4208040"/>
                <a:ext cx="1731600" cy="36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prstDash val="sysDash"/>
                <a:round/>
              </a:ln>
            </p:spPr>
          </p:cxnSp>
          <p:sp>
            <p:nvSpPr>
              <p:cNvPr id="549" name="TextBox 82"/>
              <p:cNvSpPr/>
              <p:nvPr/>
            </p:nvSpPr>
            <p:spPr>
              <a:xfrm>
                <a:off x="4219200" y="3360600"/>
                <a:ext cx="7052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3600" spc="-1" strike="noStrike">
                    <a:solidFill>
                      <a:srgbClr val="b49650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五边形 62"/>
              <p:cNvSpPr/>
              <p:nvPr/>
            </p:nvSpPr>
            <p:spPr>
              <a:xfrm flipV="1" rot="16200000">
                <a:off x="4510080" y="3894480"/>
                <a:ext cx="123840" cy="7822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-360 h 782280"/>
                  <a:gd name="textAreaBottom" fmla="*/ 782280 h 782280"/>
                </a:gdLst>
                <a:ahLst/>
                <a:rect l="textAreaLeft" t="textAreaTop" r="textAreaRight" b="textAreaBottom"/>
                <a:pathLst>
                  <a:path w="124352" h="782631">
                    <a:moveTo>
                      <a:pt x="0" y="782631"/>
                    </a:moveTo>
                    <a:lnTo>
                      <a:pt x="0" y="0"/>
                    </a:lnTo>
                    <a:lnTo>
                      <a:pt x="124352" y="0"/>
                    </a:lnTo>
                    <a:lnTo>
                      <a:pt x="124352" y="782631"/>
                    </a:lnTo>
                    <a:close/>
                  </a:path>
                </a:pathLst>
              </a:custGeom>
              <a:solidFill>
                <a:srgbClr val="b6b6b6"/>
              </a:solidFill>
              <a:ln>
                <a:noFill/>
              </a:ln>
              <a:effectLst>
                <a:outerShdw algn="br" blurRad="76320" dir="13500000" dist="75858" kx="1200000" rotWithShape="0" sy="23000">
                  <a:srgbClr val="000000">
                    <a:alpha val="2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1" name="流程图: 联系 65"/>
              <p:cNvSpPr/>
              <p:nvPr/>
            </p:nvSpPr>
            <p:spPr>
              <a:xfrm>
                <a:off x="4475520" y="3910320"/>
                <a:ext cx="194040" cy="19404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w="324036" h="324036">
                    <a:moveTo>
                      <a:pt x="142355" y="54006"/>
                    </a:moveTo>
                    <a:lnTo>
                      <a:pt x="142355" y="142355"/>
                    </a:lnTo>
                    <a:lnTo>
                      <a:pt x="54006" y="142355"/>
                    </a:lnTo>
                    <a:lnTo>
                      <a:pt x="54006" y="181681"/>
                    </a:lnTo>
                    <a:lnTo>
                      <a:pt x="142355" y="181681"/>
                    </a:lnTo>
                    <a:lnTo>
                      <a:pt x="142355" y="270030"/>
                    </a:lnTo>
                    <a:lnTo>
                      <a:pt x="181681" y="270030"/>
                    </a:lnTo>
                    <a:lnTo>
                      <a:pt x="181681" y="181681"/>
                    </a:lnTo>
                    <a:lnTo>
                      <a:pt x="270030" y="181681"/>
                    </a:lnTo>
                    <a:lnTo>
                      <a:pt x="270030" y="142355"/>
                    </a:lnTo>
                    <a:lnTo>
                      <a:pt x="181681" y="142355"/>
                    </a:lnTo>
                    <a:lnTo>
                      <a:pt x="181681" y="54006"/>
                    </a:lnTo>
                    <a:close/>
                    <a:moveTo>
                      <a:pt x="162018" y="0"/>
                    </a:moveTo>
                    <a:cubicBezTo>
                      <a:pt x="251498" y="0"/>
                      <a:pt x="324036" y="72538"/>
                      <a:pt x="324036" y="162018"/>
                    </a:cubicBezTo>
                    <a:cubicBezTo>
                      <a:pt x="324036" y="251498"/>
                      <a:pt x="251498" y="324036"/>
                      <a:pt x="162018" y="324036"/>
                    </a:cubicBezTo>
                    <a:cubicBezTo>
                      <a:pt x="72538" y="324036"/>
                      <a:pt x="0" y="251498"/>
                      <a:pt x="0" y="162018"/>
                    </a:cubicBezTo>
                    <a:cubicBezTo>
                      <a:pt x="0" y="72538"/>
                      <a:pt x="72538" y="0"/>
                      <a:pt x="162018" y="0"/>
                    </a:cubicBezTo>
                    <a:close/>
                  </a:path>
                </a:pathLst>
              </a:custGeom>
              <a:pattFill prst="openDmnd">
                <a:fgClr>
                  <a:srgbClr val="a38841"/>
                </a:fgClr>
                <a:bgClr>
                  <a:srgbClr val="b49650"/>
                </a:bgClr>
              </a:patt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chemeClr val="lt1"/>
                    </a:solidFill>
                    <a:latin typeface="Calibri"/>
                  </a:rPr>
                  <a:t>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等腰三角形 91"/>
            <p:cNvSpPr/>
            <p:nvPr/>
          </p:nvSpPr>
          <p:spPr>
            <a:xfrm flipH="1" rot="5400000">
              <a:off x="2423520" y="1540800"/>
              <a:ext cx="442080" cy="190440"/>
            </a:xfrm>
            <a:prstGeom prst="triangle">
              <a:avLst>
                <a:gd name="adj" fmla="val 50000"/>
              </a:avLst>
            </a:prstGeom>
            <a:pattFill prst="openDmnd">
              <a:fgClr>
                <a:srgbClr val="8c9ea2"/>
              </a:fgClr>
              <a:bgClr>
                <a:srgbClr val="b6b6b6"/>
              </a:bgClr>
            </a:patt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3" name="等腰三角形 96"/>
            <p:cNvSpPr/>
            <p:nvPr/>
          </p:nvSpPr>
          <p:spPr>
            <a:xfrm flipH="1" rot="5400000">
              <a:off x="2423520" y="2359080"/>
              <a:ext cx="442080" cy="190440"/>
            </a:xfrm>
            <a:prstGeom prst="triangle">
              <a:avLst>
                <a:gd name="adj" fmla="val 50000"/>
              </a:avLst>
            </a:prstGeom>
            <a:pattFill prst="openDmnd">
              <a:fgClr>
                <a:srgbClr val="c97d7d"/>
              </a:fgClr>
              <a:bgClr>
                <a:srgbClr val="d29696"/>
              </a:bgClr>
            </a:patt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4" name="等腰三角形 99"/>
            <p:cNvSpPr/>
            <p:nvPr/>
          </p:nvSpPr>
          <p:spPr>
            <a:xfrm flipH="1" rot="5400000">
              <a:off x="2423520" y="3177000"/>
              <a:ext cx="442080" cy="190440"/>
            </a:xfrm>
            <a:prstGeom prst="triangle">
              <a:avLst>
                <a:gd name="adj" fmla="val 50000"/>
              </a:avLst>
            </a:prstGeom>
            <a:pattFill prst="openDmnd">
              <a:fgClr>
                <a:srgbClr val="a38841"/>
              </a:fgClr>
              <a:bgClr>
                <a:srgbClr val="b49650"/>
              </a:bgClr>
            </a:patt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5" name="矩形 94"/>
            <p:cNvSpPr/>
            <p:nvPr/>
          </p:nvSpPr>
          <p:spPr>
            <a:xfrm>
              <a:off x="2512800" y="1816920"/>
              <a:ext cx="13989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70828a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97"/>
            <p:cNvSpPr/>
            <p:nvPr/>
          </p:nvSpPr>
          <p:spPr>
            <a:xfrm>
              <a:off x="2775960" y="2297160"/>
              <a:ext cx="13989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a26e6e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100"/>
            <p:cNvSpPr/>
            <p:nvPr/>
          </p:nvSpPr>
          <p:spPr>
            <a:xfrm>
              <a:off x="2512800" y="2777040"/>
              <a:ext cx="13989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b9a063"/>
                  </a:solidFill>
                  <a:latin typeface="바탕"/>
                  <a:ea typeface="바탕"/>
                </a:rPr>
                <a:t>Sample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椭圆 1"/>
            <p:cNvSpPr/>
            <p:nvPr/>
          </p:nvSpPr>
          <p:spPr>
            <a:xfrm>
              <a:off x="4488120" y="23698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glow rad="1905120">
                <a:srgbClr val="ffffff">
                  <a:alpha val="52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1"/>
          <p:cNvSpPr/>
          <p:nvPr/>
        </p:nvSpPr>
        <p:spPr>
          <a:xfrm>
            <a:off x="0" y="0"/>
            <a:ext cx="9143640" cy="34668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466800"/>
              <a:gd name="textAreaBottom" fmla="*/ 3467160 h 3466800"/>
            </a:gdLst>
            <a:ahLst/>
            <a:rect l="textAreaLeft" t="textAreaTop" r="textAreaRight" b="textAreaBottom"/>
            <a:pathLst>
              <a:path w="9144000" h="3452775">
                <a:moveTo>
                  <a:pt x="0" y="0"/>
                </a:moveTo>
                <a:lnTo>
                  <a:pt x="9144000" y="0"/>
                </a:lnTo>
                <a:lnTo>
                  <a:pt x="9144000" y="1876515"/>
                </a:lnTo>
                <a:lnTo>
                  <a:pt x="4935079" y="1876515"/>
                </a:lnTo>
                <a:lnTo>
                  <a:pt x="5336439" y="3449117"/>
                </a:lnTo>
                <a:lnTo>
                  <a:pt x="3814877" y="3452775"/>
                </a:lnTo>
                <a:lnTo>
                  <a:pt x="4216241" y="1876515"/>
                </a:lnTo>
                <a:lnTo>
                  <a:pt x="0" y="1876515"/>
                </a:lnTo>
                <a:close/>
              </a:path>
            </a:pathLst>
          </a:custGeom>
          <a:solidFill>
            <a:srgbClr val="bea59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60" name="组合 16"/>
          <p:cNvGrpSpPr/>
          <p:nvPr/>
        </p:nvGrpSpPr>
        <p:grpSpPr>
          <a:xfrm>
            <a:off x="6675120" y="4092480"/>
            <a:ext cx="2449080" cy="942840"/>
            <a:chOff x="6675120" y="4092480"/>
            <a:chExt cx="2449080" cy="942840"/>
          </a:xfrm>
        </p:grpSpPr>
        <p:sp>
          <p:nvSpPr>
            <p:cNvPr id="561" name="矩形 56"/>
            <p:cNvSpPr/>
            <p:nvPr/>
          </p:nvSpPr>
          <p:spPr>
            <a:xfrm>
              <a:off x="7559280" y="4663080"/>
              <a:ext cx="197640" cy="68040"/>
            </a:xfrm>
            <a:prstGeom prst="rect">
              <a:avLst/>
            </a:prstGeom>
            <a:solidFill>
              <a:srgbClr val="ffd13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2" name="矩形 57"/>
            <p:cNvSpPr/>
            <p:nvPr/>
          </p:nvSpPr>
          <p:spPr>
            <a:xfrm>
              <a:off x="7800840" y="4663080"/>
              <a:ext cx="197640" cy="68040"/>
            </a:xfrm>
            <a:prstGeom prst="rect">
              <a:avLst/>
            </a:prstGeom>
            <a:solidFill>
              <a:srgbClr val="70828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3" name="矩形 58"/>
            <p:cNvSpPr/>
            <p:nvPr/>
          </p:nvSpPr>
          <p:spPr>
            <a:xfrm>
              <a:off x="8042760" y="4663080"/>
              <a:ext cx="197640" cy="68040"/>
            </a:xfrm>
            <a:prstGeom prst="rect">
              <a:avLst/>
            </a:prstGeom>
            <a:solidFill>
              <a:srgbClr val="a26e6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4" name="TextBox 59"/>
            <p:cNvSpPr/>
            <p:nvPr/>
          </p:nvSpPr>
          <p:spPr>
            <a:xfrm>
              <a:off x="667512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矩形 4"/>
          <p:cNvSpPr/>
          <p:nvPr/>
        </p:nvSpPr>
        <p:spPr>
          <a:xfrm flipH="1">
            <a:off x="5558400" y="939960"/>
            <a:ext cx="2184480" cy="949320"/>
          </a:xfrm>
          <a:custGeom>
            <a:avLst/>
            <a:gdLst>
              <a:gd name="textAreaLeft" fmla="*/ 360 w 2184480"/>
              <a:gd name="textAreaRight" fmla="*/ 2185200 w 218448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2184701" h="949842">
                <a:moveTo>
                  <a:pt x="1981368" y="129"/>
                </a:moveTo>
                <a:cubicBezTo>
                  <a:pt x="2031865" y="-2158"/>
                  <a:pt x="2091790" y="26125"/>
                  <a:pt x="2114672" y="65304"/>
                </a:cubicBezTo>
                <a:cubicBezTo>
                  <a:pt x="2148769" y="132770"/>
                  <a:pt x="2199572" y="192068"/>
                  <a:pt x="2180570" y="266162"/>
                </a:cubicBezTo>
                <a:lnTo>
                  <a:pt x="2016608" y="936720"/>
                </a:lnTo>
                <a:lnTo>
                  <a:pt x="2016007" y="936573"/>
                </a:lnTo>
                <a:lnTo>
                  <a:pt x="2012762" y="949842"/>
                </a:lnTo>
                <a:lnTo>
                  <a:pt x="669807" y="949842"/>
                </a:lnTo>
                <a:lnTo>
                  <a:pt x="596199" y="949842"/>
                </a:lnTo>
                <a:lnTo>
                  <a:pt x="0" y="949842"/>
                </a:lnTo>
                <a:cubicBezTo>
                  <a:pt x="298126" y="633913"/>
                  <a:pt x="324791" y="6040"/>
                  <a:pt x="894379" y="2055"/>
                </a:cubicBezTo>
                <a:lnTo>
                  <a:pt x="1981368" y="129"/>
                </a:lnTo>
                <a:close/>
              </a:path>
            </a:pathLst>
          </a:custGeom>
          <a:gradFill rotWithShape="0">
            <a:gsLst>
              <a:gs pos="36000">
                <a:srgbClr val="fbc753"/>
              </a:gs>
              <a:gs pos="100000">
                <a:srgbClr val="f9b61f"/>
              </a:gs>
            </a:gsLst>
            <a:lin ang="90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6" name="矩形 4"/>
          <p:cNvSpPr/>
          <p:nvPr/>
        </p:nvSpPr>
        <p:spPr>
          <a:xfrm>
            <a:off x="1400400" y="939960"/>
            <a:ext cx="2184480" cy="949320"/>
          </a:xfrm>
          <a:custGeom>
            <a:avLst/>
            <a:gdLst>
              <a:gd name="textAreaLeft" fmla="*/ 0 w 2184480"/>
              <a:gd name="textAreaRight" fmla="*/ 2184840 w 218448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2184701" h="949842">
                <a:moveTo>
                  <a:pt x="1981368" y="129"/>
                </a:moveTo>
                <a:cubicBezTo>
                  <a:pt x="2031865" y="-2158"/>
                  <a:pt x="2091790" y="26125"/>
                  <a:pt x="2114672" y="65304"/>
                </a:cubicBezTo>
                <a:cubicBezTo>
                  <a:pt x="2148769" y="132770"/>
                  <a:pt x="2199572" y="192068"/>
                  <a:pt x="2180570" y="266162"/>
                </a:cubicBezTo>
                <a:lnTo>
                  <a:pt x="2016608" y="936720"/>
                </a:lnTo>
                <a:lnTo>
                  <a:pt x="2016007" y="936573"/>
                </a:lnTo>
                <a:lnTo>
                  <a:pt x="2012762" y="949842"/>
                </a:lnTo>
                <a:lnTo>
                  <a:pt x="669807" y="949842"/>
                </a:lnTo>
                <a:lnTo>
                  <a:pt x="596199" y="949842"/>
                </a:lnTo>
                <a:lnTo>
                  <a:pt x="0" y="949842"/>
                </a:lnTo>
                <a:cubicBezTo>
                  <a:pt x="298126" y="633913"/>
                  <a:pt x="324791" y="6040"/>
                  <a:pt x="894379" y="2055"/>
                </a:cubicBezTo>
                <a:lnTo>
                  <a:pt x="1981368" y="129"/>
                </a:lnTo>
                <a:close/>
              </a:path>
            </a:pathLst>
          </a:custGeom>
          <a:gradFill rotWithShape="0">
            <a:gsLst>
              <a:gs pos="36000">
                <a:srgbClr val="fbc753"/>
              </a:gs>
              <a:gs pos="100000">
                <a:srgbClr val="f9b61f"/>
              </a:gs>
            </a:gsLst>
            <a:lin ang="1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67" name="组合 70"/>
          <p:cNvGrpSpPr/>
          <p:nvPr/>
        </p:nvGrpSpPr>
        <p:grpSpPr>
          <a:xfrm>
            <a:off x="2252160" y="953280"/>
            <a:ext cx="1078920" cy="1608480"/>
            <a:chOff x="2252160" y="953280"/>
            <a:chExt cx="1078920" cy="1608480"/>
          </a:xfrm>
        </p:grpSpPr>
        <p:sp>
          <p:nvSpPr>
            <p:cNvPr id="568" name="TextBox 74"/>
            <p:cNvSpPr/>
            <p:nvPr/>
          </p:nvSpPr>
          <p:spPr>
            <a:xfrm>
              <a:off x="2309040" y="953280"/>
              <a:ext cx="96444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75"/>
            <p:cNvSpPr/>
            <p:nvPr/>
          </p:nvSpPr>
          <p:spPr>
            <a:xfrm>
              <a:off x="2252160" y="1923480"/>
              <a:ext cx="10789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71"/>
          <p:cNvGrpSpPr/>
          <p:nvPr/>
        </p:nvGrpSpPr>
        <p:grpSpPr>
          <a:xfrm>
            <a:off x="5815080" y="953280"/>
            <a:ext cx="1078920" cy="1608480"/>
            <a:chOff x="5815080" y="953280"/>
            <a:chExt cx="1078920" cy="1608480"/>
          </a:xfrm>
        </p:grpSpPr>
        <p:sp>
          <p:nvSpPr>
            <p:cNvPr id="571" name="TextBox 72"/>
            <p:cNvSpPr/>
            <p:nvPr/>
          </p:nvSpPr>
          <p:spPr>
            <a:xfrm>
              <a:off x="5871960" y="953280"/>
              <a:ext cx="96444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73"/>
            <p:cNvSpPr/>
            <p:nvPr/>
          </p:nvSpPr>
          <p:spPr>
            <a:xfrm>
              <a:off x="5815080" y="1923480"/>
              <a:ext cx="10789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331c0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组合 3"/>
          <p:cNvGrpSpPr/>
          <p:nvPr/>
        </p:nvGrpSpPr>
        <p:grpSpPr>
          <a:xfrm>
            <a:off x="2930760" y="990000"/>
            <a:ext cx="1460160" cy="2562480"/>
            <a:chOff x="2930760" y="990000"/>
            <a:chExt cx="1460160" cy="2562480"/>
          </a:xfrm>
        </p:grpSpPr>
        <p:sp>
          <p:nvSpPr>
            <p:cNvPr id="574" name="矩形 4"/>
            <p:cNvSpPr/>
            <p:nvPr/>
          </p:nvSpPr>
          <p:spPr>
            <a:xfrm flipV="1" rot="17024400">
              <a:off x="2453400" y="1814760"/>
              <a:ext cx="2414880" cy="912600"/>
            </a:xfrm>
            <a:custGeom>
              <a:avLst/>
              <a:gdLst>
                <a:gd name="textAreaLeft" fmla="*/ 0 w 2414880"/>
                <a:gd name="textAreaRight" fmla="*/ 2415240 w 2414880"/>
                <a:gd name="textAreaTop" fmla="*/ -360 h 912600"/>
                <a:gd name="textAreaBottom" fmla="*/ 912600 h 912600"/>
              </a:gdLst>
              <a:ahLst/>
              <a:rect l="textAreaLeft" t="textAreaTop" r="textAreaRight" b="textAreaBottom"/>
              <a:pathLst>
                <a:path w="2415114" h="913003">
                  <a:moveTo>
                    <a:pt x="2415114" y="913003"/>
                  </a:moveTo>
                  <a:lnTo>
                    <a:pt x="2414066" y="910195"/>
                  </a:lnTo>
                  <a:lnTo>
                    <a:pt x="1826287" y="98976"/>
                  </a:lnTo>
                  <a:lnTo>
                    <a:pt x="1780153" y="35304"/>
                  </a:lnTo>
                  <a:cubicBezTo>
                    <a:pt x="1758919" y="16809"/>
                    <a:pt x="1733370" y="3628"/>
                    <a:pt x="1704794" y="0"/>
                  </a:cubicBezTo>
                  <a:lnTo>
                    <a:pt x="928320" y="2342"/>
                  </a:lnTo>
                  <a:lnTo>
                    <a:pt x="928320" y="1544"/>
                  </a:lnTo>
                  <a:lnTo>
                    <a:pt x="301774" y="1544"/>
                  </a:lnTo>
                  <a:lnTo>
                    <a:pt x="301774" y="2163"/>
                  </a:lnTo>
                  <a:lnTo>
                    <a:pt x="142933" y="2164"/>
                  </a:lnTo>
                  <a:lnTo>
                    <a:pt x="4132" y="569820"/>
                  </a:lnTo>
                  <a:cubicBezTo>
                    <a:pt x="-14795" y="643621"/>
                    <a:pt x="35530" y="702741"/>
                    <a:pt x="69593" y="769890"/>
                  </a:cubicBezTo>
                  <a:cubicBezTo>
                    <a:pt x="90100" y="787604"/>
                    <a:pt x="114808" y="799954"/>
                    <a:pt x="142322" y="803447"/>
                  </a:cubicBezTo>
                  <a:lnTo>
                    <a:pt x="918796" y="801103"/>
                  </a:lnTo>
                  <a:lnTo>
                    <a:pt x="918796" y="801901"/>
                  </a:lnTo>
                  <a:lnTo>
                    <a:pt x="1545342" y="801901"/>
                  </a:lnTo>
                  <a:lnTo>
                    <a:pt x="1545342" y="801282"/>
                  </a:lnTo>
                  <a:lnTo>
                    <a:pt x="2235654" y="801283"/>
                  </a:lnTo>
                  <a:cubicBezTo>
                    <a:pt x="2312142" y="800422"/>
                    <a:pt x="2357676" y="863857"/>
                    <a:pt x="2415114" y="913003"/>
                  </a:cubicBezTo>
                  <a:close/>
                </a:path>
              </a:pathLst>
            </a:custGeom>
            <a:solidFill>
              <a:srgbClr val="70828a"/>
            </a:solidFill>
            <a:ln>
              <a:noFill/>
            </a:ln>
            <a:effectLst>
              <a:outerShdw algn="r" blurRad="50760" dir="108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5" name="矩形 4"/>
            <p:cNvSpPr/>
            <p:nvPr/>
          </p:nvSpPr>
          <p:spPr>
            <a:xfrm flipV="1" rot="17024400">
              <a:off x="3077280" y="3177000"/>
              <a:ext cx="198720" cy="22932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-360 h 229320"/>
                <a:gd name="textAreaBottom" fmla="*/ 229320 h 229320"/>
              </a:gdLst>
              <a:ahLst/>
              <a:rect l="textAreaLeft" t="textAreaTop" r="textAreaRight" b="textAreaBottom"/>
              <a:pathLst>
                <a:path w="199064" h="229832">
                  <a:moveTo>
                    <a:pt x="199064" y="229659"/>
                  </a:moveTo>
                  <a:lnTo>
                    <a:pt x="3504" y="0"/>
                  </a:lnTo>
                  <a:cubicBezTo>
                    <a:pt x="-13586" y="71957"/>
                    <a:pt x="35646" y="130233"/>
                    <a:pt x="69148" y="196275"/>
                  </a:cubicBezTo>
                  <a:cubicBezTo>
                    <a:pt x="89655" y="213989"/>
                    <a:pt x="114363" y="226339"/>
                    <a:pt x="141877" y="229832"/>
                  </a:cubicBezTo>
                  <a:close/>
                </a:path>
              </a:pathLst>
            </a:cu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6" name="矩形 4"/>
            <p:cNvSpPr/>
            <p:nvPr/>
          </p:nvSpPr>
          <p:spPr>
            <a:xfrm flipV="1" rot="17083800">
              <a:off x="3098520" y="2883240"/>
              <a:ext cx="545040" cy="552240"/>
            </a:xfrm>
            <a:custGeom>
              <a:avLst/>
              <a:gdLst>
                <a:gd name="textAreaLeft" fmla="*/ 0 w 545040"/>
                <a:gd name="textAreaRight" fmla="*/ 545400 w 545040"/>
                <a:gd name="textAreaTop" fmla="*/ 360 h 552240"/>
                <a:gd name="textAreaBottom" fmla="*/ 552960 h 552240"/>
              </a:gdLst>
              <a:ahLst/>
              <a:rect l="textAreaLeft" t="textAreaTop" r="textAreaRight" b="textAreaBottom"/>
              <a:pathLst>
                <a:path w="545325" h="552626">
                  <a:moveTo>
                    <a:pt x="545325" y="551591"/>
                  </a:moveTo>
                  <a:lnTo>
                    <a:pt x="405698" y="387617"/>
                  </a:lnTo>
                  <a:lnTo>
                    <a:pt x="406344" y="387066"/>
                  </a:lnTo>
                  <a:lnTo>
                    <a:pt x="76750" y="0"/>
                  </a:lnTo>
                  <a:lnTo>
                    <a:pt x="0" y="313884"/>
                  </a:lnTo>
                  <a:lnTo>
                    <a:pt x="197791" y="546164"/>
                  </a:lnTo>
                  <a:lnTo>
                    <a:pt x="197145" y="546714"/>
                  </a:lnTo>
                  <a:lnTo>
                    <a:pt x="202180" y="552626"/>
                  </a:lnTo>
                  <a:close/>
                </a:path>
              </a:pathLst>
            </a:custGeom>
            <a:gradFill rotWithShape="0">
              <a:gsLst>
                <a:gs pos="4000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7718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77" name="组合 60"/>
          <p:cNvGrpSpPr/>
          <p:nvPr/>
        </p:nvGrpSpPr>
        <p:grpSpPr>
          <a:xfrm>
            <a:off x="4755960" y="990000"/>
            <a:ext cx="1460160" cy="2562480"/>
            <a:chOff x="4755960" y="990000"/>
            <a:chExt cx="1460160" cy="2562480"/>
          </a:xfrm>
        </p:grpSpPr>
        <p:sp>
          <p:nvSpPr>
            <p:cNvPr id="578" name="矩形 4"/>
            <p:cNvSpPr/>
            <p:nvPr/>
          </p:nvSpPr>
          <p:spPr>
            <a:xfrm flipH="1" flipV="1" rot="4575600">
              <a:off x="4278240" y="1814760"/>
              <a:ext cx="2414880" cy="912960"/>
            </a:xfrm>
            <a:custGeom>
              <a:avLst/>
              <a:gdLst>
                <a:gd name="textAreaLeft" fmla="*/ 360 w 2414880"/>
                <a:gd name="textAreaRight" fmla="*/ 2415600 w 2414880"/>
                <a:gd name="textAreaTop" fmla="*/ 360 h 912960"/>
                <a:gd name="textAreaBottom" fmla="*/ 913680 h 912960"/>
              </a:gdLst>
              <a:ahLst/>
              <a:rect l="textAreaLeft" t="textAreaTop" r="textAreaRight" b="textAreaBottom"/>
              <a:pathLst>
                <a:path w="2415114" h="913003">
                  <a:moveTo>
                    <a:pt x="2415114" y="913003"/>
                  </a:moveTo>
                  <a:lnTo>
                    <a:pt x="2414066" y="910195"/>
                  </a:lnTo>
                  <a:lnTo>
                    <a:pt x="1826287" y="98976"/>
                  </a:lnTo>
                  <a:lnTo>
                    <a:pt x="1780153" y="35304"/>
                  </a:lnTo>
                  <a:cubicBezTo>
                    <a:pt x="1758919" y="16809"/>
                    <a:pt x="1733370" y="3628"/>
                    <a:pt x="1704794" y="0"/>
                  </a:cubicBezTo>
                  <a:lnTo>
                    <a:pt x="928320" y="2342"/>
                  </a:lnTo>
                  <a:lnTo>
                    <a:pt x="928320" y="1544"/>
                  </a:lnTo>
                  <a:lnTo>
                    <a:pt x="301774" y="1544"/>
                  </a:lnTo>
                  <a:lnTo>
                    <a:pt x="301774" y="2163"/>
                  </a:lnTo>
                  <a:lnTo>
                    <a:pt x="142933" y="2164"/>
                  </a:lnTo>
                  <a:lnTo>
                    <a:pt x="4132" y="569820"/>
                  </a:lnTo>
                  <a:cubicBezTo>
                    <a:pt x="-14795" y="643621"/>
                    <a:pt x="35530" y="702741"/>
                    <a:pt x="69593" y="769890"/>
                  </a:cubicBezTo>
                  <a:cubicBezTo>
                    <a:pt x="90100" y="787604"/>
                    <a:pt x="114808" y="799954"/>
                    <a:pt x="142322" y="803447"/>
                  </a:cubicBezTo>
                  <a:lnTo>
                    <a:pt x="918796" y="801103"/>
                  </a:lnTo>
                  <a:lnTo>
                    <a:pt x="918796" y="801901"/>
                  </a:lnTo>
                  <a:lnTo>
                    <a:pt x="1545342" y="801901"/>
                  </a:lnTo>
                  <a:lnTo>
                    <a:pt x="1545342" y="801282"/>
                  </a:lnTo>
                  <a:lnTo>
                    <a:pt x="2235654" y="801283"/>
                  </a:lnTo>
                  <a:cubicBezTo>
                    <a:pt x="2312142" y="800422"/>
                    <a:pt x="2357676" y="863857"/>
                    <a:pt x="2415114" y="913003"/>
                  </a:cubicBezTo>
                  <a:close/>
                </a:path>
              </a:pathLst>
            </a:custGeom>
            <a:solidFill>
              <a:srgbClr val="70828a"/>
            </a:solidFill>
            <a:ln>
              <a:noFill/>
            </a:ln>
            <a:effectLst>
              <a:outerShdw algn="l" blurRad="5076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" name="矩形 4"/>
            <p:cNvSpPr/>
            <p:nvPr/>
          </p:nvSpPr>
          <p:spPr>
            <a:xfrm flipH="1" flipV="1" rot="4575600">
              <a:off x="5871240" y="3177000"/>
              <a:ext cx="198720" cy="229320"/>
            </a:xfrm>
            <a:custGeom>
              <a:avLst/>
              <a:gdLst>
                <a:gd name="textAreaLeft" fmla="*/ 360 w 198720"/>
                <a:gd name="textAreaRight" fmla="*/ 199440 w 198720"/>
                <a:gd name="textAreaTop" fmla="*/ -360 h 229320"/>
                <a:gd name="textAreaBottom" fmla="*/ 229320 h 229320"/>
              </a:gdLst>
              <a:ahLst/>
              <a:rect l="textAreaLeft" t="textAreaTop" r="textAreaRight" b="textAreaBottom"/>
              <a:pathLst>
                <a:path w="199064" h="229832">
                  <a:moveTo>
                    <a:pt x="199064" y="229659"/>
                  </a:moveTo>
                  <a:lnTo>
                    <a:pt x="3504" y="0"/>
                  </a:lnTo>
                  <a:cubicBezTo>
                    <a:pt x="-13586" y="71957"/>
                    <a:pt x="35646" y="130233"/>
                    <a:pt x="69148" y="196275"/>
                  </a:cubicBezTo>
                  <a:cubicBezTo>
                    <a:pt x="89655" y="213989"/>
                    <a:pt x="114363" y="226339"/>
                    <a:pt x="141877" y="229832"/>
                  </a:cubicBezTo>
                  <a:close/>
                </a:path>
              </a:pathLst>
            </a:cu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" name="矩形 4"/>
            <p:cNvSpPr/>
            <p:nvPr/>
          </p:nvSpPr>
          <p:spPr>
            <a:xfrm flipH="1" flipV="1" rot="4516200">
              <a:off x="5502600" y="2883240"/>
              <a:ext cx="545040" cy="552240"/>
            </a:xfrm>
            <a:custGeom>
              <a:avLst/>
              <a:gdLst>
                <a:gd name="textAreaLeft" fmla="*/ 360 w 545040"/>
                <a:gd name="textAreaRight" fmla="*/ 545760 w 545040"/>
                <a:gd name="textAreaTop" fmla="*/ 360 h 552240"/>
                <a:gd name="textAreaBottom" fmla="*/ 552960 h 552240"/>
              </a:gdLst>
              <a:ahLst/>
              <a:rect l="textAreaLeft" t="textAreaTop" r="textAreaRight" b="textAreaBottom"/>
              <a:pathLst>
                <a:path w="545325" h="552626">
                  <a:moveTo>
                    <a:pt x="545325" y="551591"/>
                  </a:moveTo>
                  <a:lnTo>
                    <a:pt x="405698" y="387617"/>
                  </a:lnTo>
                  <a:lnTo>
                    <a:pt x="406344" y="387066"/>
                  </a:lnTo>
                  <a:lnTo>
                    <a:pt x="76750" y="0"/>
                  </a:lnTo>
                  <a:lnTo>
                    <a:pt x="0" y="313884"/>
                  </a:lnTo>
                  <a:lnTo>
                    <a:pt x="197791" y="546164"/>
                  </a:lnTo>
                  <a:lnTo>
                    <a:pt x="197145" y="546714"/>
                  </a:lnTo>
                  <a:lnTo>
                    <a:pt x="202180" y="552626"/>
                  </a:lnTo>
                  <a:close/>
                </a:path>
              </a:pathLst>
            </a:custGeom>
            <a:gradFill rotWithShape="0">
              <a:gsLst>
                <a:gs pos="4000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2112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81" name="矩形 113"/>
          <p:cNvSpPr/>
          <p:nvPr/>
        </p:nvSpPr>
        <p:spPr>
          <a:xfrm flipH="1" rot="13784400">
            <a:off x="3190320" y="1440360"/>
            <a:ext cx="1291680" cy="228240"/>
          </a:xfrm>
          <a:custGeom>
            <a:avLst/>
            <a:gdLst>
              <a:gd name="textAreaLeft" fmla="*/ 360 w 1291680"/>
              <a:gd name="textAreaRight" fmla="*/ 1292400 w 1291680"/>
              <a:gd name="textAreaTop" fmla="*/ 0 h 228240"/>
              <a:gd name="textAreaBottom" fmla="*/ 228600 h 228240"/>
            </a:gdLst>
            <a:ahLst/>
            <a:rect l="textAreaLeft" t="textAreaTop" r="textAreaRight" b="textAreaBottom"/>
            <a:pathLst>
              <a:path w="1292108" h="228525">
                <a:moveTo>
                  <a:pt x="0" y="226298"/>
                </a:moveTo>
                <a:lnTo>
                  <a:pt x="2888" y="227100"/>
                </a:lnTo>
                <a:lnTo>
                  <a:pt x="1004665" y="228421"/>
                </a:lnTo>
                <a:lnTo>
                  <a:pt x="1083294" y="228525"/>
                </a:lnTo>
                <a:cubicBezTo>
                  <a:pt x="1110737" y="222218"/>
                  <a:pt x="1136419" y="209296"/>
                  <a:pt x="1156151" y="188311"/>
                </a:cubicBezTo>
                <a:lnTo>
                  <a:pt x="1292108" y="0"/>
                </a:lnTo>
                <a:lnTo>
                  <a:pt x="302518" y="0"/>
                </a:lnTo>
                <a:lnTo>
                  <a:pt x="195869" y="146783"/>
                </a:lnTo>
                <a:cubicBezTo>
                  <a:pt x="151605" y="209168"/>
                  <a:pt x="73521" y="208718"/>
                  <a:pt x="0" y="226298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352"/>
                </a:srgbClr>
              </a:gs>
              <a:gs pos="100000">
                <a:srgbClr val="ffffff">
                  <a:alpha val="45098"/>
                </a:srgbClr>
              </a:gs>
            </a:gsLst>
            <a:lin ang="19182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2" name="矩形 113"/>
          <p:cNvSpPr/>
          <p:nvPr/>
        </p:nvSpPr>
        <p:spPr>
          <a:xfrm rot="7815600">
            <a:off x="4665240" y="1440360"/>
            <a:ext cx="1291680" cy="228240"/>
          </a:xfrm>
          <a:custGeom>
            <a:avLst/>
            <a:gdLst>
              <a:gd name="textAreaLeft" fmla="*/ 0 w 1291680"/>
              <a:gd name="textAreaRight" fmla="*/ 1292040 w 1291680"/>
              <a:gd name="textAreaTop" fmla="*/ 0 h 228240"/>
              <a:gd name="textAreaBottom" fmla="*/ 228600 h 228240"/>
            </a:gdLst>
            <a:ahLst/>
            <a:rect l="textAreaLeft" t="textAreaTop" r="textAreaRight" b="textAreaBottom"/>
            <a:pathLst>
              <a:path w="1292108" h="228525">
                <a:moveTo>
                  <a:pt x="0" y="226298"/>
                </a:moveTo>
                <a:lnTo>
                  <a:pt x="2888" y="227100"/>
                </a:lnTo>
                <a:lnTo>
                  <a:pt x="1004665" y="228421"/>
                </a:lnTo>
                <a:lnTo>
                  <a:pt x="1083294" y="228525"/>
                </a:lnTo>
                <a:cubicBezTo>
                  <a:pt x="1110737" y="222218"/>
                  <a:pt x="1136419" y="209296"/>
                  <a:pt x="1156151" y="188311"/>
                </a:cubicBezTo>
                <a:lnTo>
                  <a:pt x="1292108" y="0"/>
                </a:lnTo>
                <a:lnTo>
                  <a:pt x="302518" y="0"/>
                </a:lnTo>
                <a:lnTo>
                  <a:pt x="195869" y="146783"/>
                </a:lnTo>
                <a:cubicBezTo>
                  <a:pt x="151605" y="209168"/>
                  <a:pt x="73521" y="208718"/>
                  <a:pt x="0" y="226298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352"/>
                </a:srgbClr>
              </a:gs>
              <a:gs pos="100000">
                <a:srgbClr val="ffffff">
                  <a:alpha val="45098"/>
                </a:srgbClr>
              </a:gs>
            </a:gsLst>
            <a:lin ang="13212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3" name="矩形 4"/>
          <p:cNvSpPr/>
          <p:nvPr/>
        </p:nvSpPr>
        <p:spPr>
          <a:xfrm rot="10800000">
            <a:off x="3088080" y="3301560"/>
            <a:ext cx="2973240" cy="912600"/>
          </a:xfrm>
          <a:custGeom>
            <a:avLst/>
            <a:gdLst>
              <a:gd name="textAreaLeft" fmla="*/ 0 w 2973240"/>
              <a:gd name="textAreaRight" fmla="*/ 2973600 w 2973240"/>
              <a:gd name="textAreaTop" fmla="*/ 0 h 912600"/>
              <a:gd name="textAreaBottom" fmla="*/ 912960 h 912600"/>
            </a:gdLst>
            <a:ahLst/>
            <a:rect l="textAreaLeft" t="textAreaTop" r="textAreaRight" b="textAreaBottom"/>
            <a:pathLst>
              <a:path w="2973586" h="913003">
                <a:moveTo>
                  <a:pt x="2973586" y="913003"/>
                </a:moveTo>
                <a:cubicBezTo>
                  <a:pt x="2916148" y="863857"/>
                  <a:pt x="2870614" y="800423"/>
                  <a:pt x="2794126" y="801283"/>
                </a:cubicBezTo>
                <a:lnTo>
                  <a:pt x="2103814" y="801283"/>
                </a:lnTo>
                <a:lnTo>
                  <a:pt x="2103814" y="801902"/>
                </a:lnTo>
                <a:lnTo>
                  <a:pt x="1496318" y="801902"/>
                </a:lnTo>
                <a:lnTo>
                  <a:pt x="1477268" y="801902"/>
                </a:lnTo>
                <a:lnTo>
                  <a:pt x="869772" y="801902"/>
                </a:lnTo>
                <a:lnTo>
                  <a:pt x="869772" y="801283"/>
                </a:lnTo>
                <a:lnTo>
                  <a:pt x="179460" y="801283"/>
                </a:lnTo>
                <a:cubicBezTo>
                  <a:pt x="102972" y="800423"/>
                  <a:pt x="57438" y="863857"/>
                  <a:pt x="0" y="913003"/>
                </a:cubicBezTo>
                <a:lnTo>
                  <a:pt x="1048" y="910195"/>
                </a:lnTo>
                <a:lnTo>
                  <a:pt x="588827" y="98976"/>
                </a:lnTo>
                <a:lnTo>
                  <a:pt x="634961" y="35305"/>
                </a:lnTo>
                <a:cubicBezTo>
                  <a:pt x="656195" y="16810"/>
                  <a:pt x="681744" y="3628"/>
                  <a:pt x="710320" y="0"/>
                </a:cubicBezTo>
                <a:lnTo>
                  <a:pt x="1486793" y="2343"/>
                </a:lnTo>
                <a:lnTo>
                  <a:pt x="2263266" y="0"/>
                </a:lnTo>
                <a:cubicBezTo>
                  <a:pt x="2291842" y="3628"/>
                  <a:pt x="2317391" y="16810"/>
                  <a:pt x="2338625" y="35305"/>
                </a:cubicBezTo>
                <a:lnTo>
                  <a:pt x="2384759" y="98976"/>
                </a:lnTo>
                <a:lnTo>
                  <a:pt x="2972538" y="910195"/>
                </a:lnTo>
                <a:close/>
              </a:path>
            </a:pathLst>
          </a:custGeom>
          <a:solidFill>
            <a:srgbClr val="a26e6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4" name="矩形 113"/>
          <p:cNvSpPr/>
          <p:nvPr/>
        </p:nvSpPr>
        <p:spPr>
          <a:xfrm flipH="1" rot="3249600">
            <a:off x="2956680" y="3556440"/>
            <a:ext cx="1413360" cy="401760"/>
          </a:xfrm>
          <a:custGeom>
            <a:avLst/>
            <a:gdLst>
              <a:gd name="textAreaLeft" fmla="*/ 360 w 1413360"/>
              <a:gd name="textAreaRight" fmla="*/ 1414080 w 141336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1413710" h="402021">
                <a:moveTo>
                  <a:pt x="1413710" y="402021"/>
                </a:moveTo>
                <a:cubicBezTo>
                  <a:pt x="1340720" y="384569"/>
                  <a:pt x="1263450" y="384350"/>
                  <a:pt x="1219677" y="322300"/>
                </a:cubicBezTo>
                <a:lnTo>
                  <a:pt x="986844" y="0"/>
                </a:lnTo>
                <a:lnTo>
                  <a:pt x="0" y="1"/>
                </a:lnTo>
                <a:lnTo>
                  <a:pt x="259285" y="361207"/>
                </a:lnTo>
                <a:cubicBezTo>
                  <a:pt x="278960" y="382247"/>
                  <a:pt x="304607" y="395238"/>
                  <a:pt x="332033" y="401619"/>
                </a:cubicBezTo>
                <a:lnTo>
                  <a:pt x="410661" y="401731"/>
                </a:lnTo>
                <a:lnTo>
                  <a:pt x="616505" y="402021"/>
                </a:lnTo>
                <a:close/>
              </a:path>
            </a:pathLst>
          </a:custGeom>
          <a:gradFill rotWithShape="0">
            <a:gsLst>
              <a:gs pos="0">
                <a:srgbClr val="262626">
                  <a:alpha val="0"/>
                </a:srgbClr>
              </a:gs>
              <a:gs pos="100000">
                <a:srgbClr val="ffffff">
                  <a:alpha val="34117"/>
                </a:srgbClr>
              </a:gs>
            </a:gsLst>
            <a:lin ang="8646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5" name="矩形 113"/>
          <p:cNvSpPr/>
          <p:nvPr/>
        </p:nvSpPr>
        <p:spPr>
          <a:xfrm rot="18350400">
            <a:off x="4777200" y="3556440"/>
            <a:ext cx="1413360" cy="401760"/>
          </a:xfrm>
          <a:custGeom>
            <a:avLst/>
            <a:gdLst>
              <a:gd name="textAreaLeft" fmla="*/ 0 w 1413360"/>
              <a:gd name="textAreaRight" fmla="*/ 1413720 w 141336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1413710" h="402021">
                <a:moveTo>
                  <a:pt x="1413710" y="402021"/>
                </a:moveTo>
                <a:cubicBezTo>
                  <a:pt x="1340720" y="384569"/>
                  <a:pt x="1263450" y="384350"/>
                  <a:pt x="1219677" y="322300"/>
                </a:cubicBezTo>
                <a:lnTo>
                  <a:pt x="986844" y="0"/>
                </a:lnTo>
                <a:lnTo>
                  <a:pt x="0" y="1"/>
                </a:lnTo>
                <a:lnTo>
                  <a:pt x="259285" y="361207"/>
                </a:lnTo>
                <a:cubicBezTo>
                  <a:pt x="278960" y="382247"/>
                  <a:pt x="304607" y="395238"/>
                  <a:pt x="332033" y="401619"/>
                </a:cubicBezTo>
                <a:lnTo>
                  <a:pt x="410661" y="401731"/>
                </a:lnTo>
                <a:lnTo>
                  <a:pt x="616505" y="402021"/>
                </a:lnTo>
                <a:close/>
              </a:path>
            </a:pathLst>
          </a:custGeom>
          <a:gradFill rotWithShape="0">
            <a:gsLst>
              <a:gs pos="0">
                <a:srgbClr val="262626">
                  <a:alpha val="0"/>
                </a:srgbClr>
              </a:gs>
              <a:gs pos="100000">
                <a:srgbClr val="ffffff">
                  <a:alpha val="34117"/>
                </a:srgbClr>
              </a:gs>
            </a:gsLst>
            <a:lin ang="2148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86" name="组合 76"/>
          <p:cNvGrpSpPr/>
          <p:nvPr/>
        </p:nvGrpSpPr>
        <p:grpSpPr>
          <a:xfrm>
            <a:off x="4003560" y="2478600"/>
            <a:ext cx="1141200" cy="1608480"/>
            <a:chOff x="4003560" y="2478600"/>
            <a:chExt cx="1141200" cy="1608480"/>
          </a:xfrm>
        </p:grpSpPr>
        <p:sp>
          <p:nvSpPr>
            <p:cNvPr id="587" name="TextBox 77"/>
            <p:cNvSpPr/>
            <p:nvPr/>
          </p:nvSpPr>
          <p:spPr>
            <a:xfrm>
              <a:off x="4003560" y="2478600"/>
              <a:ext cx="11412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ffffff"/>
                  </a:solidFill>
                  <a:latin typeface="comic"/>
                  <a:ea typeface="方正姚体"/>
                </a:rPr>
                <a:t>0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矩形 78"/>
            <p:cNvSpPr/>
            <p:nvPr/>
          </p:nvSpPr>
          <p:spPr>
            <a:xfrm>
              <a:off x="4034880" y="3448800"/>
              <a:ext cx="10789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7"/>
          <p:cNvGrpSpPr/>
          <p:nvPr/>
        </p:nvGrpSpPr>
        <p:grpSpPr>
          <a:xfrm>
            <a:off x="1260000" y="266040"/>
            <a:ext cx="2209680" cy="1789200"/>
            <a:chOff x="1260000" y="266040"/>
            <a:chExt cx="2209680" cy="1789200"/>
          </a:xfrm>
        </p:grpSpPr>
        <p:grpSp>
          <p:nvGrpSpPr>
            <p:cNvPr id="590" name="组合 6"/>
            <p:cNvGrpSpPr/>
            <p:nvPr/>
          </p:nvGrpSpPr>
          <p:grpSpPr>
            <a:xfrm>
              <a:off x="1367640" y="266040"/>
              <a:ext cx="1658880" cy="1789200"/>
              <a:chOff x="1367640" y="266040"/>
              <a:chExt cx="1658880" cy="1789200"/>
            </a:xfrm>
          </p:grpSpPr>
          <p:grpSp>
            <p:nvGrpSpPr>
              <p:cNvPr id="591" name="组合 2"/>
              <p:cNvGrpSpPr/>
              <p:nvPr/>
            </p:nvGrpSpPr>
            <p:grpSpPr>
              <a:xfrm>
                <a:off x="1367640" y="266040"/>
                <a:ext cx="1658880" cy="1789200"/>
                <a:chOff x="1367640" y="266040"/>
                <a:chExt cx="1658880" cy="1789200"/>
              </a:xfrm>
            </p:grpSpPr>
            <p:sp>
              <p:nvSpPr>
                <p:cNvPr id="592" name="圆角矩形 1"/>
                <p:cNvSpPr/>
                <p:nvPr/>
              </p:nvSpPr>
              <p:spPr>
                <a:xfrm rot="19787400">
                  <a:off x="1656720" y="439920"/>
                  <a:ext cx="1080720" cy="144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a26e6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1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圆角矩形 3"/>
                <p:cNvSpPr/>
                <p:nvPr/>
              </p:nvSpPr>
              <p:spPr>
                <a:xfrm rot="19787400">
                  <a:off x="1701720" y="500040"/>
                  <a:ext cx="990720" cy="1320840"/>
                </a:xfrm>
                <a:prstGeom prst="roundRect">
                  <a:avLst>
                    <a:gd name="adj" fmla="val 16667"/>
                  </a:avLst>
                </a:prstGeom>
                <a:noFill/>
                <a:ln w="15875">
                  <a:solidFill>
                    <a:srgbClr val="ffffff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94" name="圆角矩形 5"/>
              <p:cNvSpPr/>
              <p:nvPr/>
            </p:nvSpPr>
            <p:spPr>
              <a:xfrm rot="19787400">
                <a:off x="1825560" y="1054800"/>
                <a:ext cx="1077840" cy="780480"/>
              </a:xfrm>
              <a:custGeom>
                <a:avLst/>
                <a:gdLst>
                  <a:gd name="textAreaLeft" fmla="*/ 0 w 1077840"/>
                  <a:gd name="textAreaRight" fmla="*/ 1078200 w 1077840"/>
                  <a:gd name="textAreaTop" fmla="*/ 0 h 780480"/>
                  <a:gd name="textAreaBottom" fmla="*/ 780840 h 780480"/>
                </a:gdLst>
                <a:ahLst/>
                <a:rect l="textAreaLeft" t="textAreaTop" r="textAreaRight" b="textAreaBottom"/>
                <a:pathLst>
                  <a:path w="1292867" h="936362">
                    <a:moveTo>
                      <a:pt x="0" y="0"/>
                    </a:moveTo>
                    <a:lnTo>
                      <a:pt x="1292867" y="752847"/>
                    </a:lnTo>
                    <a:cubicBezTo>
                      <a:pt x="1277961" y="856795"/>
                      <a:pt x="1188330" y="936362"/>
                      <a:pt x="1080116" y="936362"/>
                    </a:cubicBezTo>
                    <a:lnTo>
                      <a:pt x="216028" y="936362"/>
                    </a:lnTo>
                    <a:cubicBezTo>
                      <a:pt x="96719" y="936362"/>
                      <a:pt x="0" y="839643"/>
                      <a:pt x="0" y="720334"/>
                    </a:cubicBezTo>
                    <a:close/>
                  </a:path>
                </a:pathLst>
              </a:custGeom>
              <a:solidFill>
                <a:schemeClr val="bg1">
                  <a:alpha val="43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5400" spc="-1" strike="noStrike">
                  <a:solidFill>
                    <a:srgbClr val="ffffff"/>
                  </a:solidFill>
                  <a:latin typeface="comic"/>
                </a:endParaRPr>
              </a:p>
            </p:txBody>
          </p:sp>
        </p:grpSp>
        <p:pic>
          <p:nvPicPr>
            <p:cNvPr id="595" name="Picture 3" descr=""/>
            <p:cNvPicPr/>
            <p:nvPr/>
          </p:nvPicPr>
          <p:blipFill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brightnessContrast bright="-40000" colorTemp="4700" contrast="40000" sat="400000"/>
                      </a14:imgEffect>
                    </a14:imgLayer>
                  </a14:imgProps>
                </a:ext>
              </a:extLst>
            </a:blip>
            <a:srcRect l="2765" t="0" r="7206" b="57698"/>
            <a:stretch/>
          </p:blipFill>
          <p:spPr>
            <a:xfrm flipH="1">
              <a:off x="1260000" y="1285920"/>
              <a:ext cx="2209680" cy="1033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96" name="直接连接符 10"/>
          <p:cNvCxnSpPr/>
          <p:nvPr/>
        </p:nvCxnSpPr>
        <p:spPr>
          <a:xfrm>
            <a:off x="3121200" y="836280"/>
            <a:ext cx="294300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prstDash val="sysDot"/>
            <a:round/>
            <a:headEnd len="sm" type="oval" w="sm"/>
            <a:tailEnd len="sm" type="oval" w="sm"/>
          </a:ln>
        </p:spPr>
      </p:cxnSp>
      <p:sp>
        <p:nvSpPr>
          <p:cNvPr id="597" name="TextBox 11"/>
          <p:cNvSpPr/>
          <p:nvPr/>
        </p:nvSpPr>
        <p:spPr>
          <a:xfrm>
            <a:off x="3121200" y="451440"/>
            <a:ext cx="1861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d7afa1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12"/>
          <p:cNvSpPr/>
          <p:nvPr/>
        </p:nvSpPr>
        <p:spPr>
          <a:xfrm>
            <a:off x="3121200" y="836640"/>
            <a:ext cx="2942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27"/>
          <p:cNvGrpSpPr/>
          <p:nvPr/>
        </p:nvGrpSpPr>
        <p:grpSpPr>
          <a:xfrm>
            <a:off x="2489040" y="1691640"/>
            <a:ext cx="2209680" cy="1789200"/>
            <a:chOff x="2489040" y="1691640"/>
            <a:chExt cx="2209680" cy="1789200"/>
          </a:xfrm>
        </p:grpSpPr>
        <p:grpSp>
          <p:nvGrpSpPr>
            <p:cNvPr id="600" name="组合 31"/>
            <p:cNvGrpSpPr/>
            <p:nvPr/>
          </p:nvGrpSpPr>
          <p:grpSpPr>
            <a:xfrm>
              <a:off x="2931840" y="1691640"/>
              <a:ext cx="1659240" cy="1789200"/>
              <a:chOff x="2931840" y="1691640"/>
              <a:chExt cx="1659240" cy="1789200"/>
            </a:xfrm>
          </p:grpSpPr>
          <p:grpSp>
            <p:nvGrpSpPr>
              <p:cNvPr id="601" name="组合 33"/>
              <p:cNvGrpSpPr/>
              <p:nvPr/>
            </p:nvGrpSpPr>
            <p:grpSpPr>
              <a:xfrm>
                <a:off x="2931840" y="1691640"/>
                <a:ext cx="1659240" cy="1789200"/>
                <a:chOff x="2931840" y="1691640"/>
                <a:chExt cx="1659240" cy="1789200"/>
              </a:xfrm>
            </p:grpSpPr>
            <p:sp>
              <p:nvSpPr>
                <p:cNvPr id="602" name="圆角矩形 35"/>
                <p:cNvSpPr/>
                <p:nvPr/>
              </p:nvSpPr>
              <p:spPr>
                <a:xfrm flipV="1" rot="12612600">
                  <a:off x="3220920" y="1865520"/>
                  <a:ext cx="1080720" cy="144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ea03c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2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圆角矩形 36"/>
                <p:cNvSpPr/>
                <p:nvPr/>
              </p:nvSpPr>
              <p:spPr>
                <a:xfrm flipV="1" rot="12612600">
                  <a:off x="3265920" y="1925280"/>
                  <a:ext cx="990720" cy="1320840"/>
                </a:xfrm>
                <a:prstGeom prst="roundRect">
                  <a:avLst>
                    <a:gd name="adj" fmla="val 16667"/>
                  </a:avLst>
                </a:prstGeom>
                <a:noFill/>
                <a:ln w="15875">
                  <a:solidFill>
                    <a:srgbClr val="ffffff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04" name="圆角矩形 5"/>
              <p:cNvSpPr/>
              <p:nvPr/>
            </p:nvSpPr>
            <p:spPr>
              <a:xfrm flipV="1" rot="12612600">
                <a:off x="3055680" y="2480400"/>
                <a:ext cx="1077480" cy="780480"/>
              </a:xfrm>
              <a:custGeom>
                <a:avLst/>
                <a:gdLst>
                  <a:gd name="textAreaLeft" fmla="*/ 0 w 1077480"/>
                  <a:gd name="textAreaRight" fmla="*/ 1077840 w 1077480"/>
                  <a:gd name="textAreaTop" fmla="*/ 360 h 780480"/>
                  <a:gd name="textAreaBottom" fmla="*/ 781200 h 780480"/>
                </a:gdLst>
                <a:ahLst/>
                <a:rect l="textAreaLeft" t="textAreaTop" r="textAreaRight" b="textAreaBottom"/>
                <a:pathLst>
                  <a:path w="1292867" h="936362">
                    <a:moveTo>
                      <a:pt x="0" y="0"/>
                    </a:moveTo>
                    <a:lnTo>
                      <a:pt x="1292867" y="752847"/>
                    </a:lnTo>
                    <a:cubicBezTo>
                      <a:pt x="1277961" y="856795"/>
                      <a:pt x="1188330" y="936362"/>
                      <a:pt x="1080116" y="936362"/>
                    </a:cubicBezTo>
                    <a:lnTo>
                      <a:pt x="216028" y="936362"/>
                    </a:lnTo>
                    <a:cubicBezTo>
                      <a:pt x="96719" y="936362"/>
                      <a:pt x="0" y="839643"/>
                      <a:pt x="0" y="720334"/>
                    </a:cubicBezTo>
                    <a:close/>
                  </a:path>
                </a:pathLst>
              </a:custGeom>
              <a:solidFill>
                <a:schemeClr val="bg1">
                  <a:alpha val="43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5400" spc="-1" strike="noStrike">
                  <a:solidFill>
                    <a:srgbClr val="ffffff"/>
                  </a:solidFill>
                  <a:latin typeface="comic"/>
                </a:endParaRPr>
              </a:p>
            </p:txBody>
          </p:sp>
        </p:grpSp>
        <p:pic>
          <p:nvPicPr>
            <p:cNvPr id="605" name="Picture 3" descr=""/>
            <p:cNvPicPr/>
            <p:nvPr/>
          </p:nvPicPr>
          <p:blipFill>
            <a:blip r:embed="rId3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brightnessContrast bright="-40000" colorTemp="4700" contrast="40000" sat="400000"/>
                      </a14:imgEffect>
                    </a14:imgLayer>
                  </a14:imgProps>
                </a:ext>
              </a:extLst>
            </a:blip>
            <a:srcRect l="2765" t="0" r="7206" b="57698"/>
            <a:stretch/>
          </p:blipFill>
          <p:spPr>
            <a:xfrm>
              <a:off x="2489040" y="2711520"/>
              <a:ext cx="2209680" cy="1033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606" name="直接连接符 28"/>
          <p:cNvCxnSpPr/>
          <p:nvPr/>
        </p:nvCxnSpPr>
        <p:spPr>
          <a:xfrm>
            <a:off x="4653360" y="2482920"/>
            <a:ext cx="294300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prstDash val="sysDot"/>
            <a:round/>
            <a:headEnd len="sm" type="oval" w="sm"/>
            <a:tailEnd len="sm" type="oval" w="sm"/>
          </a:ln>
        </p:spPr>
      </p:cxnSp>
      <p:sp>
        <p:nvSpPr>
          <p:cNvPr id="607" name="TextBox 29"/>
          <p:cNvSpPr/>
          <p:nvPr/>
        </p:nvSpPr>
        <p:spPr>
          <a:xfrm>
            <a:off x="4653720" y="2098080"/>
            <a:ext cx="1861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bea03c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30"/>
          <p:cNvSpPr/>
          <p:nvPr/>
        </p:nvSpPr>
        <p:spPr>
          <a:xfrm>
            <a:off x="4653720" y="2482920"/>
            <a:ext cx="2942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组合 38"/>
          <p:cNvGrpSpPr/>
          <p:nvPr/>
        </p:nvGrpSpPr>
        <p:grpSpPr>
          <a:xfrm>
            <a:off x="1352160" y="3116520"/>
            <a:ext cx="2209680" cy="1789200"/>
            <a:chOff x="1352160" y="3116520"/>
            <a:chExt cx="2209680" cy="1789200"/>
          </a:xfrm>
        </p:grpSpPr>
        <p:grpSp>
          <p:nvGrpSpPr>
            <p:cNvPr id="610" name="组合 42"/>
            <p:cNvGrpSpPr/>
            <p:nvPr/>
          </p:nvGrpSpPr>
          <p:grpSpPr>
            <a:xfrm>
              <a:off x="1459800" y="3116520"/>
              <a:ext cx="1658880" cy="1789200"/>
              <a:chOff x="1459800" y="3116520"/>
              <a:chExt cx="1658880" cy="1789200"/>
            </a:xfrm>
          </p:grpSpPr>
          <p:grpSp>
            <p:nvGrpSpPr>
              <p:cNvPr id="611" name="组合 44"/>
              <p:cNvGrpSpPr/>
              <p:nvPr/>
            </p:nvGrpSpPr>
            <p:grpSpPr>
              <a:xfrm>
                <a:off x="1459800" y="3116520"/>
                <a:ext cx="1658880" cy="1789200"/>
                <a:chOff x="1459800" y="3116520"/>
                <a:chExt cx="1658880" cy="1789200"/>
              </a:xfrm>
            </p:grpSpPr>
            <p:sp>
              <p:nvSpPr>
                <p:cNvPr id="612" name="圆角矩形 46"/>
                <p:cNvSpPr/>
                <p:nvPr/>
              </p:nvSpPr>
              <p:spPr>
                <a:xfrm rot="19787400">
                  <a:off x="1748880" y="3290400"/>
                  <a:ext cx="1080720" cy="144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3bed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4800" spc="-1" strike="noStrike">
                      <a:solidFill>
                        <a:srgbClr val="ffffff"/>
                      </a:solidFill>
                      <a:latin typeface="comic"/>
                    </a:rPr>
                    <a:t>03</a:t>
                  </a: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圆角矩形 47"/>
                <p:cNvSpPr/>
                <p:nvPr/>
              </p:nvSpPr>
              <p:spPr>
                <a:xfrm rot="19787400">
                  <a:off x="1793880" y="3350520"/>
                  <a:ext cx="990720" cy="1320840"/>
                </a:xfrm>
                <a:prstGeom prst="roundRect">
                  <a:avLst>
                    <a:gd name="adj" fmla="val 16667"/>
                  </a:avLst>
                </a:prstGeom>
                <a:noFill/>
                <a:ln w="15875">
                  <a:solidFill>
                    <a:srgbClr val="ffffff"/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4" name="圆角矩形 5"/>
              <p:cNvSpPr/>
              <p:nvPr/>
            </p:nvSpPr>
            <p:spPr>
              <a:xfrm rot="19787400">
                <a:off x="1917720" y="3905640"/>
                <a:ext cx="1077840" cy="780480"/>
              </a:xfrm>
              <a:custGeom>
                <a:avLst/>
                <a:gdLst>
                  <a:gd name="textAreaLeft" fmla="*/ 0 w 1077840"/>
                  <a:gd name="textAreaRight" fmla="*/ 1078200 w 1077840"/>
                  <a:gd name="textAreaTop" fmla="*/ 0 h 780480"/>
                  <a:gd name="textAreaBottom" fmla="*/ 780840 h 780480"/>
                </a:gdLst>
                <a:ahLst/>
                <a:rect l="textAreaLeft" t="textAreaTop" r="textAreaRight" b="textAreaBottom"/>
                <a:pathLst>
                  <a:path w="1292867" h="936362">
                    <a:moveTo>
                      <a:pt x="0" y="0"/>
                    </a:moveTo>
                    <a:lnTo>
                      <a:pt x="1292867" y="752847"/>
                    </a:lnTo>
                    <a:cubicBezTo>
                      <a:pt x="1277961" y="856795"/>
                      <a:pt x="1188330" y="936362"/>
                      <a:pt x="1080116" y="936362"/>
                    </a:cubicBezTo>
                    <a:lnTo>
                      <a:pt x="216028" y="936362"/>
                    </a:lnTo>
                    <a:cubicBezTo>
                      <a:pt x="96719" y="936362"/>
                      <a:pt x="0" y="839643"/>
                      <a:pt x="0" y="720334"/>
                    </a:cubicBezTo>
                    <a:close/>
                  </a:path>
                </a:pathLst>
              </a:custGeom>
              <a:solidFill>
                <a:schemeClr val="bg1">
                  <a:alpha val="43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5400" spc="-1" strike="noStrike">
                  <a:solidFill>
                    <a:srgbClr val="ffffff"/>
                  </a:solidFill>
                  <a:latin typeface="comic"/>
                </a:endParaRPr>
              </a:p>
            </p:txBody>
          </p:sp>
        </p:grpSp>
        <p:pic>
          <p:nvPicPr>
            <p:cNvPr id="615" name="Picture 3" descr=""/>
            <p:cNvPicPr/>
            <p:nvPr/>
          </p:nvPicPr>
          <p:blipFill>
            <a:blip r:embed="rId4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brightnessContrast bright="-40000" colorTemp="4700" contrast="40000" sat="400000"/>
                      </a14:imgEffect>
                    </a14:imgLayer>
                  </a14:imgProps>
                </a:ext>
              </a:extLst>
            </a:blip>
            <a:srcRect l="2765" t="0" r="7206" b="57698"/>
            <a:stretch/>
          </p:blipFill>
          <p:spPr>
            <a:xfrm flipH="1">
              <a:off x="1352160" y="4136760"/>
              <a:ext cx="2209680" cy="1033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616" name="直接连接符 39"/>
          <p:cNvCxnSpPr/>
          <p:nvPr/>
        </p:nvCxnSpPr>
        <p:spPr>
          <a:xfrm>
            <a:off x="3213360" y="3687120"/>
            <a:ext cx="2943000" cy="360"/>
          </a:xfrm>
          <a:prstGeom prst="straightConnector1">
            <a:avLst/>
          </a:prstGeom>
          <a:ln w="3175">
            <a:solidFill>
              <a:srgbClr val="000000">
                <a:lumMod val="75000"/>
                <a:lumOff val="25000"/>
              </a:srgbClr>
            </a:solidFill>
            <a:prstDash val="sysDot"/>
            <a:round/>
            <a:headEnd len="sm" type="oval" w="sm"/>
            <a:tailEnd len="sm" type="oval" w="sm"/>
          </a:ln>
        </p:spPr>
      </p:cxnSp>
      <p:sp>
        <p:nvSpPr>
          <p:cNvPr id="617" name="TextBox 40"/>
          <p:cNvSpPr/>
          <p:nvPr/>
        </p:nvSpPr>
        <p:spPr>
          <a:xfrm>
            <a:off x="3213360" y="3302280"/>
            <a:ext cx="1861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63bed2"/>
                </a:solidFill>
                <a:latin typeface="바탕"/>
                <a:ea typeface="바탕"/>
              </a:rPr>
              <a:t>Simple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41"/>
          <p:cNvSpPr/>
          <p:nvPr/>
        </p:nvSpPr>
        <p:spPr>
          <a:xfrm>
            <a:off x="3213360" y="3687120"/>
            <a:ext cx="2942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바탕"/>
                <a:ea typeface="바탕"/>
              </a:rPr>
              <a:t>Please add your tex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组合 49"/>
          <p:cNvGrpSpPr/>
          <p:nvPr/>
        </p:nvGrpSpPr>
        <p:grpSpPr>
          <a:xfrm>
            <a:off x="6675120" y="4092480"/>
            <a:ext cx="2449080" cy="942840"/>
            <a:chOff x="6675120" y="4092480"/>
            <a:chExt cx="2449080" cy="942840"/>
          </a:xfrm>
        </p:grpSpPr>
        <p:sp>
          <p:nvSpPr>
            <p:cNvPr id="620" name="TextBox 51"/>
            <p:cNvSpPr/>
            <p:nvPr/>
          </p:nvSpPr>
          <p:spPr>
            <a:xfrm>
              <a:off x="667512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矩形 52"/>
            <p:cNvSpPr/>
            <p:nvPr/>
          </p:nvSpPr>
          <p:spPr>
            <a:xfrm>
              <a:off x="7558920" y="4663080"/>
              <a:ext cx="197640" cy="68040"/>
            </a:xfrm>
            <a:prstGeom prst="rect">
              <a:avLst/>
            </a:prstGeom>
            <a:solidFill>
              <a:srgbClr val="d7afa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2" name="矩形 53"/>
            <p:cNvSpPr/>
            <p:nvPr/>
          </p:nvSpPr>
          <p:spPr>
            <a:xfrm>
              <a:off x="7801200" y="4663080"/>
              <a:ext cx="197640" cy="68040"/>
            </a:xfrm>
            <a:prstGeom prst="rect">
              <a:avLst/>
            </a:prstGeom>
            <a:solidFill>
              <a:srgbClr val="bea03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3" name="矩形 54"/>
            <p:cNvSpPr/>
            <p:nvPr/>
          </p:nvSpPr>
          <p:spPr>
            <a:xfrm>
              <a:off x="8043120" y="4663080"/>
              <a:ext cx="197640" cy="68040"/>
            </a:xfrm>
            <a:prstGeom prst="rect">
              <a:avLst/>
            </a:prstGeom>
            <a:solidFill>
              <a:srgbClr val="63bed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圆角矩形 31"/>
          <p:cNvSpPr/>
          <p:nvPr/>
        </p:nvSpPr>
        <p:spPr>
          <a:xfrm>
            <a:off x="2823840" y="-129600"/>
            <a:ext cx="569160" cy="86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bdbb"/>
              </a:gs>
              <a:gs pos="100000">
                <a:srgbClr val="ccc1bf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5" name="圆角矩形 53"/>
          <p:cNvSpPr/>
          <p:nvPr/>
        </p:nvSpPr>
        <p:spPr>
          <a:xfrm flipV="1">
            <a:off x="3179880" y="-135000"/>
            <a:ext cx="569160" cy="738360"/>
          </a:xfrm>
          <a:custGeom>
            <a:avLst/>
            <a:gdLst>
              <a:gd name="textAreaLeft" fmla="*/ 0 w 569160"/>
              <a:gd name="textAreaRight" fmla="*/ 569520 w 569160"/>
              <a:gd name="textAreaTop" fmla="*/ -360 h 738360"/>
              <a:gd name="textAreaBottom" fmla="*/ 738360 h 738360"/>
            </a:gdLst>
            <a:ahLst/>
            <a:rect l="textAreaLeft" t="textAreaTop" r="textAreaRight" b="textAreaBottom"/>
            <a:pathLst>
              <a:path w="569554" h="747598">
                <a:moveTo>
                  <a:pt x="0" y="652670"/>
                </a:moveTo>
                <a:lnTo>
                  <a:pt x="3027" y="59160"/>
                </a:lnTo>
                <a:cubicBezTo>
                  <a:pt x="12903" y="40248"/>
                  <a:pt x="13358" y="11838"/>
                  <a:pt x="51152" y="44"/>
                </a:cubicBezTo>
                <a:lnTo>
                  <a:pt x="568072" y="0"/>
                </a:lnTo>
                <a:cubicBezTo>
                  <a:pt x="569457" y="2361"/>
                  <a:pt x="569554" y="4840"/>
                  <a:pt x="569554" y="7341"/>
                </a:cubicBezTo>
                <a:lnTo>
                  <a:pt x="569554" y="652670"/>
                </a:lnTo>
                <a:cubicBezTo>
                  <a:pt x="569554" y="705097"/>
                  <a:pt x="527053" y="747598"/>
                  <a:pt x="474626" y="747598"/>
                </a:cubicBezTo>
                <a:lnTo>
                  <a:pt x="94928" y="747598"/>
                </a:lnTo>
                <a:cubicBezTo>
                  <a:pt x="42501" y="747598"/>
                  <a:pt x="0" y="705097"/>
                  <a:pt x="0" y="652670"/>
                </a:cubicBezTo>
                <a:close/>
              </a:path>
            </a:pathLst>
          </a:custGeom>
          <a:gradFill rotWithShape="0">
            <a:gsLst>
              <a:gs pos="0">
                <a:srgbClr val="c8bdbb"/>
              </a:gs>
              <a:gs pos="100000">
                <a:srgbClr val="ccc1bf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6" name="圆角矩形 19"/>
          <p:cNvSpPr/>
          <p:nvPr/>
        </p:nvSpPr>
        <p:spPr>
          <a:xfrm>
            <a:off x="2909160" y="2385000"/>
            <a:ext cx="569160" cy="43488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>
            <a:noFill/>
          </a:ln>
          <a:effectLst>
            <a:outerShdw algn="l" blurRad="34308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7" name="任意多边形 17"/>
          <p:cNvSpPr/>
          <p:nvPr/>
        </p:nvSpPr>
        <p:spPr>
          <a:xfrm flipH="1" flipV="1" rot="21360000">
            <a:off x="3180600" y="1759320"/>
            <a:ext cx="3450960" cy="821160"/>
          </a:xfrm>
          <a:custGeom>
            <a:avLst/>
            <a:gdLst>
              <a:gd name="textAreaLeft" fmla="*/ 360 w 3450960"/>
              <a:gd name="textAreaRight" fmla="*/ 3451680 w 3450960"/>
              <a:gd name="textAreaTop" fmla="*/ -360 h 821160"/>
              <a:gd name="textAreaBottom" fmla="*/ 821160 h 821160"/>
            </a:gdLst>
            <a:ahLst/>
            <a:rect l="textAreaLeft" t="textAreaTop" r="textAreaRight" b="textAreaBottom"/>
            <a:pathLst>
              <a:path w="3499390" h="821095">
                <a:moveTo>
                  <a:pt x="0" y="666557"/>
                </a:moveTo>
                <a:cubicBezTo>
                  <a:pt x="13449" y="653347"/>
                  <a:pt x="13975" y="620123"/>
                  <a:pt x="53072" y="611141"/>
                </a:cubicBezTo>
                <a:lnTo>
                  <a:pt x="2943311" y="821095"/>
                </a:lnTo>
                <a:cubicBezTo>
                  <a:pt x="3005436" y="801540"/>
                  <a:pt x="3012370" y="796979"/>
                  <a:pt x="3052789" y="746927"/>
                </a:cubicBezTo>
                <a:cubicBezTo>
                  <a:pt x="3124834" y="660979"/>
                  <a:pt x="3397427" y="366219"/>
                  <a:pt x="3499390" y="216502"/>
                </a:cubicBezTo>
                <a:cubicBezTo>
                  <a:pt x="3058516" y="208688"/>
                  <a:pt x="1019877" y="29034"/>
                  <a:pt x="504142" y="869"/>
                </a:cubicBezTo>
                <a:cubicBezTo>
                  <a:pt x="486496" y="-3445"/>
                  <a:pt x="427767" y="7706"/>
                  <a:pt x="404982" y="47512"/>
                </a:cubicBezTo>
                <a:cubicBezTo>
                  <a:pt x="203651" y="342131"/>
                  <a:pt x="16460" y="568583"/>
                  <a:pt x="0" y="666557"/>
                </a:cubicBezTo>
                <a:close/>
              </a:path>
            </a:pathLst>
          </a:custGeom>
          <a:gradFill rotWithShape="0">
            <a:gsLst>
              <a:gs pos="0">
                <a:srgbClr val="bcb4b4"/>
              </a:gs>
              <a:gs pos="100000">
                <a:srgbClr val="dcd7de"/>
              </a:gs>
            </a:gsLst>
            <a:lin ang="2160000"/>
          </a:gradFill>
          <a:ln w="3175">
            <a:noFill/>
          </a:ln>
          <a:effectLst>
            <a:outerShdw algn="t" blurRad="50760" dir="5400000" dist="38160" rotWithShape="0" sx="96000" sy="96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8" name="圆角矩形 18"/>
          <p:cNvSpPr/>
          <p:nvPr/>
        </p:nvSpPr>
        <p:spPr>
          <a:xfrm>
            <a:off x="2831400" y="2353320"/>
            <a:ext cx="503640" cy="466200"/>
          </a:xfrm>
          <a:prstGeom prst="roundRect">
            <a:avLst>
              <a:gd name="adj" fmla="val 16667"/>
            </a:avLst>
          </a:prstGeom>
          <a:solidFill>
            <a:srgbClr val="a1999b"/>
          </a:solidFill>
          <a:ln>
            <a:noFill/>
          </a:ln>
          <a:effectLst>
            <a:outerShdw algn="l" blurRad="419040" dist="38160" rotWithShape="0" sx="107000" sy="107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9" name="圆角矩形 13"/>
          <p:cNvSpPr/>
          <p:nvPr/>
        </p:nvSpPr>
        <p:spPr>
          <a:xfrm>
            <a:off x="6203880" y="1203480"/>
            <a:ext cx="569160" cy="695520"/>
          </a:xfrm>
          <a:prstGeom prst="roundRect">
            <a:avLst>
              <a:gd name="adj" fmla="val 16667"/>
            </a:avLst>
          </a:prstGeom>
          <a:solidFill>
            <a:srgbClr val="a1999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0" name="圆角矩形 12"/>
          <p:cNvSpPr/>
          <p:nvPr/>
        </p:nvSpPr>
        <p:spPr>
          <a:xfrm>
            <a:off x="6410520" y="1334880"/>
            <a:ext cx="569160" cy="43704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1" name="任意多边形 6"/>
          <p:cNvSpPr/>
          <p:nvPr/>
        </p:nvSpPr>
        <p:spPr>
          <a:xfrm rot="21394200">
            <a:off x="2809080" y="1630440"/>
            <a:ext cx="4210920" cy="825480"/>
          </a:xfrm>
          <a:custGeom>
            <a:avLst/>
            <a:gdLst>
              <a:gd name="textAreaLeft" fmla="*/ 0 w 4210920"/>
              <a:gd name="textAreaRight" fmla="*/ 4211280 w 421092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3511599" h="825699">
                <a:moveTo>
                  <a:pt x="0" y="666557"/>
                </a:moveTo>
                <a:cubicBezTo>
                  <a:pt x="13449" y="653347"/>
                  <a:pt x="13975" y="620123"/>
                  <a:pt x="53072" y="611141"/>
                </a:cubicBezTo>
                <a:lnTo>
                  <a:pt x="2943311" y="821095"/>
                </a:lnTo>
                <a:cubicBezTo>
                  <a:pt x="2975788" y="837579"/>
                  <a:pt x="3031717" y="807910"/>
                  <a:pt x="3067934" y="762327"/>
                </a:cubicBezTo>
                <a:cubicBezTo>
                  <a:pt x="3414504" y="357356"/>
                  <a:pt x="3496611" y="292229"/>
                  <a:pt x="3511599" y="131498"/>
                </a:cubicBezTo>
                <a:cubicBezTo>
                  <a:pt x="3474461" y="224648"/>
                  <a:pt x="3535433" y="225055"/>
                  <a:pt x="3262326" y="215695"/>
                </a:cubicBezTo>
                <a:cubicBezTo>
                  <a:pt x="2755575" y="184779"/>
                  <a:pt x="965368" y="23846"/>
                  <a:pt x="504142" y="869"/>
                </a:cubicBezTo>
                <a:cubicBezTo>
                  <a:pt x="486496" y="-3445"/>
                  <a:pt x="427767" y="7706"/>
                  <a:pt x="404982" y="47512"/>
                </a:cubicBezTo>
                <a:cubicBezTo>
                  <a:pt x="203651" y="342131"/>
                  <a:pt x="16460" y="568583"/>
                  <a:pt x="0" y="66655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fdae0"/>
              </a:gs>
            </a:gsLst>
            <a:lin ang="12990000"/>
          </a:gradFill>
          <a:ln w="3175">
            <a:noFill/>
          </a:ln>
          <a:effectLst>
            <a:outerShdw algn="t" blurRad="127080" dir="6475127" dist="63184" rotWithShape="0" sx="93000" sy="93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2" name="圆角矩形 23"/>
          <p:cNvSpPr/>
          <p:nvPr/>
        </p:nvSpPr>
        <p:spPr>
          <a:xfrm>
            <a:off x="6190920" y="3240720"/>
            <a:ext cx="569160" cy="695520"/>
          </a:xfrm>
          <a:prstGeom prst="roundRect">
            <a:avLst>
              <a:gd name="adj" fmla="val 16667"/>
            </a:avLst>
          </a:prstGeom>
          <a:solidFill>
            <a:srgbClr val="a1999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3" name="圆角矩形 24"/>
          <p:cNvSpPr/>
          <p:nvPr/>
        </p:nvSpPr>
        <p:spPr>
          <a:xfrm>
            <a:off x="6404760" y="3368520"/>
            <a:ext cx="569160" cy="437040"/>
          </a:xfrm>
          <a:prstGeom prst="roundRect">
            <a:avLst>
              <a:gd name="adj" fmla="val 16667"/>
            </a:avLst>
          </a:prstGeom>
          <a:solidFill>
            <a:srgbClr val="8c81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4" name="任意多边形 27"/>
          <p:cNvSpPr/>
          <p:nvPr/>
        </p:nvSpPr>
        <p:spPr>
          <a:xfrm flipV="1" rot="205800">
            <a:off x="2801880" y="2691720"/>
            <a:ext cx="4196160" cy="820800"/>
          </a:xfrm>
          <a:custGeom>
            <a:avLst/>
            <a:gdLst>
              <a:gd name="textAreaLeft" fmla="*/ 0 w 4196160"/>
              <a:gd name="textAreaRight" fmla="*/ 4196520 w 4196160"/>
              <a:gd name="textAreaTop" fmla="*/ 360 h 820800"/>
              <a:gd name="textAreaBottom" fmla="*/ 821520 h 820800"/>
            </a:gdLst>
            <a:ahLst/>
            <a:rect l="textAreaLeft" t="textAreaTop" r="textAreaRight" b="textAreaBottom"/>
            <a:pathLst>
              <a:path w="3499390" h="821095">
                <a:moveTo>
                  <a:pt x="0" y="666557"/>
                </a:moveTo>
                <a:cubicBezTo>
                  <a:pt x="13449" y="653347"/>
                  <a:pt x="13975" y="620123"/>
                  <a:pt x="53072" y="611141"/>
                </a:cubicBezTo>
                <a:lnTo>
                  <a:pt x="2943311" y="821095"/>
                </a:lnTo>
                <a:cubicBezTo>
                  <a:pt x="3005436" y="801540"/>
                  <a:pt x="3012370" y="796979"/>
                  <a:pt x="3052789" y="746927"/>
                </a:cubicBezTo>
                <a:cubicBezTo>
                  <a:pt x="3124834" y="660979"/>
                  <a:pt x="3397427" y="366219"/>
                  <a:pt x="3499390" y="216502"/>
                </a:cubicBezTo>
                <a:cubicBezTo>
                  <a:pt x="3058516" y="208688"/>
                  <a:pt x="1019877" y="29034"/>
                  <a:pt x="504142" y="869"/>
                </a:cubicBezTo>
                <a:cubicBezTo>
                  <a:pt x="486496" y="-3445"/>
                  <a:pt x="427767" y="7706"/>
                  <a:pt x="404982" y="47512"/>
                </a:cubicBezTo>
                <a:cubicBezTo>
                  <a:pt x="203651" y="342131"/>
                  <a:pt x="16460" y="568583"/>
                  <a:pt x="0" y="66655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fdae0"/>
              </a:gs>
            </a:gsLst>
            <a:lin ang="8610000"/>
          </a:gradFill>
          <a:ln w="3175">
            <a:noFill/>
          </a:ln>
          <a:effectLst>
            <a:outerShdw blurRad="50760" dir="15971156" dist="37883" rotWithShape="0" sx="94000" sy="94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5" name="圆角矩形 28"/>
          <p:cNvSpPr/>
          <p:nvPr/>
        </p:nvSpPr>
        <p:spPr>
          <a:xfrm>
            <a:off x="2831760" y="4375440"/>
            <a:ext cx="569160" cy="88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bdbb"/>
              </a:gs>
              <a:gs pos="100000">
                <a:srgbClr val="ccc1bf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6" name="任意多边形 11"/>
          <p:cNvSpPr/>
          <p:nvPr/>
        </p:nvSpPr>
        <p:spPr>
          <a:xfrm flipV="1" rot="286800">
            <a:off x="3151800" y="508680"/>
            <a:ext cx="3346920" cy="820800"/>
          </a:xfrm>
          <a:custGeom>
            <a:avLst/>
            <a:gdLst>
              <a:gd name="textAreaLeft" fmla="*/ 0 w 3346920"/>
              <a:gd name="textAreaRight" fmla="*/ 3347280 w 3346920"/>
              <a:gd name="textAreaTop" fmla="*/ 360 h 820800"/>
              <a:gd name="textAreaBottom" fmla="*/ 821520 h 820800"/>
            </a:gdLst>
            <a:ahLst/>
            <a:rect l="textAreaLeft" t="textAreaTop" r="textAreaRight" b="textAreaBottom"/>
            <a:pathLst>
              <a:path w="3499390" h="821095">
                <a:moveTo>
                  <a:pt x="0" y="666557"/>
                </a:moveTo>
                <a:cubicBezTo>
                  <a:pt x="13449" y="653347"/>
                  <a:pt x="13975" y="620123"/>
                  <a:pt x="53072" y="611141"/>
                </a:cubicBezTo>
                <a:lnTo>
                  <a:pt x="2943311" y="821095"/>
                </a:lnTo>
                <a:cubicBezTo>
                  <a:pt x="3005436" y="801540"/>
                  <a:pt x="3012370" y="796979"/>
                  <a:pt x="3052789" y="746927"/>
                </a:cubicBezTo>
                <a:cubicBezTo>
                  <a:pt x="3124834" y="660979"/>
                  <a:pt x="3397427" y="366219"/>
                  <a:pt x="3499390" y="216502"/>
                </a:cubicBezTo>
                <a:cubicBezTo>
                  <a:pt x="3058516" y="208688"/>
                  <a:pt x="1019877" y="29034"/>
                  <a:pt x="504142" y="869"/>
                </a:cubicBezTo>
                <a:cubicBezTo>
                  <a:pt x="486496" y="-3445"/>
                  <a:pt x="427767" y="7706"/>
                  <a:pt x="404982" y="47512"/>
                </a:cubicBezTo>
                <a:cubicBezTo>
                  <a:pt x="203651" y="342131"/>
                  <a:pt x="16460" y="568583"/>
                  <a:pt x="0" y="666557"/>
                </a:cubicBezTo>
                <a:close/>
              </a:path>
            </a:pathLst>
          </a:custGeom>
          <a:gradFill rotWithShape="0">
            <a:gsLst>
              <a:gs pos="0">
                <a:srgbClr val="bcb4b4"/>
              </a:gs>
              <a:gs pos="100000">
                <a:srgbClr val="dcd7de"/>
              </a:gs>
            </a:gsLst>
            <a:lin ang="8688000"/>
          </a:gra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7" name="任意多边形 9"/>
          <p:cNvSpPr/>
          <p:nvPr/>
        </p:nvSpPr>
        <p:spPr>
          <a:xfrm flipV="1" rot="205800">
            <a:off x="2808720" y="641880"/>
            <a:ext cx="4196160" cy="820800"/>
          </a:xfrm>
          <a:custGeom>
            <a:avLst/>
            <a:gdLst>
              <a:gd name="textAreaLeft" fmla="*/ 0 w 4196160"/>
              <a:gd name="textAreaRight" fmla="*/ 4196520 w 4196160"/>
              <a:gd name="textAreaTop" fmla="*/ 360 h 820800"/>
              <a:gd name="textAreaBottom" fmla="*/ 821520 h 820800"/>
            </a:gdLst>
            <a:ahLst/>
            <a:rect l="textAreaLeft" t="textAreaTop" r="textAreaRight" b="textAreaBottom"/>
            <a:pathLst>
              <a:path w="3499390" h="821095">
                <a:moveTo>
                  <a:pt x="0" y="666557"/>
                </a:moveTo>
                <a:cubicBezTo>
                  <a:pt x="13449" y="653347"/>
                  <a:pt x="13975" y="620123"/>
                  <a:pt x="53072" y="611141"/>
                </a:cubicBezTo>
                <a:lnTo>
                  <a:pt x="2943311" y="821095"/>
                </a:lnTo>
                <a:cubicBezTo>
                  <a:pt x="3005436" y="801540"/>
                  <a:pt x="3012370" y="796979"/>
                  <a:pt x="3052789" y="746927"/>
                </a:cubicBezTo>
                <a:cubicBezTo>
                  <a:pt x="3124834" y="660979"/>
                  <a:pt x="3397427" y="366219"/>
                  <a:pt x="3499390" y="216502"/>
                </a:cubicBezTo>
                <a:cubicBezTo>
                  <a:pt x="3058516" y="208688"/>
                  <a:pt x="1019877" y="29034"/>
                  <a:pt x="504142" y="869"/>
                </a:cubicBezTo>
                <a:cubicBezTo>
                  <a:pt x="486496" y="-3445"/>
                  <a:pt x="427767" y="7706"/>
                  <a:pt x="404982" y="47512"/>
                </a:cubicBezTo>
                <a:cubicBezTo>
                  <a:pt x="203651" y="342131"/>
                  <a:pt x="16460" y="568583"/>
                  <a:pt x="0" y="66655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fdae0"/>
              </a:gs>
            </a:gsLst>
            <a:lin ang="8610000"/>
          </a:gradFill>
          <a:ln w="3175">
            <a:noFill/>
          </a:ln>
          <a:effectLst>
            <a:outerShdw algn="ctr" blurRad="291960" dir="12543277" dist="151963" rotWithShape="0" sx="99000" sy="99000">
              <a:srgbClr val="000000">
                <a:alpha val="23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638" name="组合 3"/>
          <p:cNvGrpSpPr/>
          <p:nvPr/>
        </p:nvGrpSpPr>
        <p:grpSpPr>
          <a:xfrm>
            <a:off x="3297240" y="723240"/>
            <a:ext cx="2751840" cy="638280"/>
            <a:chOff x="3297240" y="723240"/>
            <a:chExt cx="2751840" cy="638280"/>
          </a:xfrm>
        </p:grpSpPr>
        <p:sp>
          <p:nvSpPr>
            <p:cNvPr id="639" name="文本框 33"/>
            <p:cNvSpPr/>
            <p:nvPr/>
          </p:nvSpPr>
          <p:spPr>
            <a:xfrm>
              <a:off x="3297240" y="723240"/>
              <a:ext cx="106020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>
              <a:bevelT prst="relaxedInset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644444"/>
                  </a:solidFill>
                  <a:latin typeface="comic"/>
                  <a:ea typeface="Gungsuh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0" name="直接连接符 35"/>
            <p:cNvCxnSpPr/>
            <p:nvPr/>
          </p:nvCxnSpPr>
          <p:spPr>
            <a:xfrm>
              <a:off x="3957480" y="764640"/>
              <a:ext cx="360" cy="563760"/>
            </a:xfrm>
            <a:prstGeom prst="straightConnector1">
              <a:avLst/>
            </a:prstGeom>
            <a:ln w="28575">
              <a:solidFill>
                <a:srgbClr val="644444">
                  <a:alpha val="65000"/>
                </a:srgbClr>
              </a:solidFill>
              <a:round/>
            </a:ln>
          </p:spPr>
        </p:cxnSp>
        <p:sp>
          <p:nvSpPr>
            <p:cNvPr id="641" name="文本框 38"/>
            <p:cNvSpPr/>
            <p:nvPr/>
          </p:nvSpPr>
          <p:spPr>
            <a:xfrm>
              <a:off x="4039920" y="838800"/>
              <a:ext cx="790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644444"/>
                  </a:solidFill>
                  <a:latin typeface="바탕"/>
                  <a:ea typeface="바탕"/>
                </a:rPr>
                <a:t>Sample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644444"/>
                  </a:solidFill>
                  <a:latin typeface="바탕"/>
                  <a:ea typeface="바탕"/>
                </a:rPr>
                <a:t>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矩形 39"/>
            <p:cNvSpPr/>
            <p:nvPr/>
          </p:nvSpPr>
          <p:spPr>
            <a:xfrm>
              <a:off x="4666680" y="792720"/>
              <a:ext cx="13824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圆角矩形 53"/>
          <p:cNvSpPr/>
          <p:nvPr/>
        </p:nvSpPr>
        <p:spPr>
          <a:xfrm>
            <a:off x="3203280" y="4521960"/>
            <a:ext cx="569160" cy="742320"/>
          </a:xfrm>
          <a:custGeom>
            <a:avLst/>
            <a:gdLst>
              <a:gd name="textAreaLeft" fmla="*/ 0 w 569160"/>
              <a:gd name="textAreaRight" fmla="*/ 569520 w 569160"/>
              <a:gd name="textAreaTop" fmla="*/ 0 h 742320"/>
              <a:gd name="textAreaBottom" fmla="*/ 742680 h 742320"/>
            </a:gdLst>
            <a:ahLst/>
            <a:rect l="textAreaLeft" t="textAreaTop" r="textAreaRight" b="textAreaBottom"/>
            <a:pathLst>
              <a:path w="569554" h="747598">
                <a:moveTo>
                  <a:pt x="0" y="652670"/>
                </a:moveTo>
                <a:lnTo>
                  <a:pt x="3027" y="59160"/>
                </a:lnTo>
                <a:cubicBezTo>
                  <a:pt x="3378" y="40248"/>
                  <a:pt x="13358" y="11838"/>
                  <a:pt x="51152" y="44"/>
                </a:cubicBezTo>
                <a:lnTo>
                  <a:pt x="568072" y="0"/>
                </a:lnTo>
                <a:cubicBezTo>
                  <a:pt x="569457" y="2361"/>
                  <a:pt x="569554" y="4840"/>
                  <a:pt x="569554" y="7341"/>
                </a:cubicBezTo>
                <a:lnTo>
                  <a:pt x="569554" y="652670"/>
                </a:lnTo>
                <a:cubicBezTo>
                  <a:pt x="569554" y="705097"/>
                  <a:pt x="527053" y="747598"/>
                  <a:pt x="474626" y="747598"/>
                </a:cubicBezTo>
                <a:lnTo>
                  <a:pt x="94928" y="747598"/>
                </a:lnTo>
                <a:cubicBezTo>
                  <a:pt x="42501" y="747598"/>
                  <a:pt x="0" y="705097"/>
                  <a:pt x="0" y="652670"/>
                </a:cubicBezTo>
                <a:close/>
              </a:path>
            </a:pathLst>
          </a:custGeom>
          <a:gradFill rotWithShape="0">
            <a:gsLst>
              <a:gs pos="0">
                <a:srgbClr val="c8bdbb"/>
              </a:gs>
              <a:gs pos="100000">
                <a:srgbClr val="ccc1bf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4" name="任意多边形 22"/>
          <p:cNvSpPr/>
          <p:nvPr/>
        </p:nvSpPr>
        <p:spPr>
          <a:xfrm flipH="1" flipV="1" rot="10546800">
            <a:off x="3180960" y="3796920"/>
            <a:ext cx="3450960" cy="820440"/>
          </a:xfrm>
          <a:custGeom>
            <a:avLst/>
            <a:gdLst>
              <a:gd name="textAreaLeft" fmla="*/ 360 w 3450960"/>
              <a:gd name="textAreaRight" fmla="*/ 3451680 w 3450960"/>
              <a:gd name="textAreaTop" fmla="*/ -360 h 820440"/>
              <a:gd name="textAreaBottom" fmla="*/ 820440 h 820440"/>
            </a:gdLst>
            <a:ahLst/>
            <a:rect l="textAreaLeft" t="textAreaTop" r="textAreaRight" b="textAreaBottom"/>
            <a:pathLst>
              <a:path w="3499390" h="821095">
                <a:moveTo>
                  <a:pt x="0" y="666557"/>
                </a:moveTo>
                <a:cubicBezTo>
                  <a:pt x="13449" y="653347"/>
                  <a:pt x="13975" y="620123"/>
                  <a:pt x="53072" y="611141"/>
                </a:cubicBezTo>
                <a:lnTo>
                  <a:pt x="2943311" y="821095"/>
                </a:lnTo>
                <a:cubicBezTo>
                  <a:pt x="3005436" y="801540"/>
                  <a:pt x="3012370" y="796979"/>
                  <a:pt x="3052789" y="746927"/>
                </a:cubicBezTo>
                <a:cubicBezTo>
                  <a:pt x="3124834" y="660979"/>
                  <a:pt x="3397427" y="366219"/>
                  <a:pt x="3499390" y="216502"/>
                </a:cubicBezTo>
                <a:cubicBezTo>
                  <a:pt x="3058516" y="208688"/>
                  <a:pt x="1019877" y="29034"/>
                  <a:pt x="504142" y="869"/>
                </a:cubicBezTo>
                <a:cubicBezTo>
                  <a:pt x="486496" y="-3445"/>
                  <a:pt x="427767" y="7706"/>
                  <a:pt x="404982" y="47512"/>
                </a:cubicBezTo>
                <a:cubicBezTo>
                  <a:pt x="203651" y="342131"/>
                  <a:pt x="16460" y="568583"/>
                  <a:pt x="0" y="666557"/>
                </a:cubicBezTo>
                <a:close/>
              </a:path>
            </a:pathLst>
          </a:custGeom>
          <a:gradFill rotWithShape="0">
            <a:gsLst>
              <a:gs pos="0">
                <a:srgbClr val="bcb4b4"/>
              </a:gs>
              <a:gs pos="100000">
                <a:srgbClr val="dcd7de"/>
              </a:gs>
            </a:gsLst>
            <a:lin ang="12942000"/>
          </a:gradFill>
          <a:ln w="3175">
            <a:noFill/>
          </a:ln>
          <a:effectLst>
            <a:outerShdw algn="t" blurRad="469800" dir="8338015" dist="253893" rotWithShape="0" sx="83000" sy="83000">
              <a:srgbClr val="000000">
                <a:alpha val="59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5" name="任意多边形 26"/>
          <p:cNvSpPr/>
          <p:nvPr/>
        </p:nvSpPr>
        <p:spPr>
          <a:xfrm rot="21394200">
            <a:off x="2796120" y="3667680"/>
            <a:ext cx="4210920" cy="825480"/>
          </a:xfrm>
          <a:custGeom>
            <a:avLst/>
            <a:gdLst>
              <a:gd name="textAreaLeft" fmla="*/ 0 w 4210920"/>
              <a:gd name="textAreaRight" fmla="*/ 4211280 w 421092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3511599" h="825699">
                <a:moveTo>
                  <a:pt x="0" y="666557"/>
                </a:moveTo>
                <a:cubicBezTo>
                  <a:pt x="13449" y="653347"/>
                  <a:pt x="13975" y="620123"/>
                  <a:pt x="53072" y="611141"/>
                </a:cubicBezTo>
                <a:lnTo>
                  <a:pt x="2943311" y="821095"/>
                </a:lnTo>
                <a:cubicBezTo>
                  <a:pt x="2975788" y="837579"/>
                  <a:pt x="3031717" y="807910"/>
                  <a:pt x="3067934" y="762327"/>
                </a:cubicBezTo>
                <a:cubicBezTo>
                  <a:pt x="3414504" y="357356"/>
                  <a:pt x="3496611" y="292229"/>
                  <a:pt x="3511599" y="131498"/>
                </a:cubicBezTo>
                <a:cubicBezTo>
                  <a:pt x="3474461" y="224648"/>
                  <a:pt x="3535433" y="225055"/>
                  <a:pt x="3262326" y="215695"/>
                </a:cubicBezTo>
                <a:cubicBezTo>
                  <a:pt x="2755575" y="184779"/>
                  <a:pt x="965368" y="23846"/>
                  <a:pt x="504142" y="869"/>
                </a:cubicBezTo>
                <a:cubicBezTo>
                  <a:pt x="486496" y="-3445"/>
                  <a:pt x="427767" y="7706"/>
                  <a:pt x="404982" y="47512"/>
                </a:cubicBezTo>
                <a:cubicBezTo>
                  <a:pt x="203651" y="342131"/>
                  <a:pt x="16460" y="568583"/>
                  <a:pt x="0" y="66655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fdae0"/>
              </a:gs>
            </a:gsLst>
            <a:lin ang="12990000"/>
          </a:gradFill>
          <a:ln w="3175">
            <a:noFill/>
          </a:ln>
          <a:effectLst>
            <a:outerShdw algn="t" blurRad="127080" dir="6475127" dist="63184" rotWithShape="0" sx="93000" sy="93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122040" rIns="122040" tIns="60840" bIns="60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646" name="组合 67"/>
          <p:cNvGrpSpPr/>
          <p:nvPr/>
        </p:nvGrpSpPr>
        <p:grpSpPr>
          <a:xfrm>
            <a:off x="3708000" y="1737000"/>
            <a:ext cx="3017160" cy="638280"/>
            <a:chOff x="3708000" y="1737000"/>
            <a:chExt cx="3017160" cy="638280"/>
          </a:xfrm>
        </p:grpSpPr>
        <p:sp>
          <p:nvSpPr>
            <p:cNvPr id="647" name="文本框 33"/>
            <p:cNvSpPr/>
            <p:nvPr/>
          </p:nvSpPr>
          <p:spPr>
            <a:xfrm flipH="1">
              <a:off x="5664600" y="1737000"/>
              <a:ext cx="106020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>
              <a:bevelT prst="relaxedInset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49b2cb"/>
                  </a:solidFill>
                  <a:latin typeface="comic"/>
                  <a:ea typeface="Gungsuh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8" name="直接连接符 69"/>
            <p:cNvCxnSpPr/>
            <p:nvPr/>
          </p:nvCxnSpPr>
          <p:spPr>
            <a:xfrm>
              <a:off x="5646960" y="1778040"/>
              <a:ext cx="360" cy="563760"/>
            </a:xfrm>
            <a:prstGeom prst="straightConnector1">
              <a:avLst/>
            </a:prstGeom>
            <a:ln w="28575">
              <a:solidFill>
                <a:srgbClr val="49b2cb">
                  <a:alpha val="65000"/>
                </a:srgbClr>
              </a:solidFill>
              <a:round/>
            </a:ln>
          </p:spPr>
        </p:cxnSp>
        <p:sp>
          <p:nvSpPr>
            <p:cNvPr id="649" name="文本框 38"/>
            <p:cNvSpPr/>
            <p:nvPr/>
          </p:nvSpPr>
          <p:spPr>
            <a:xfrm flipH="1">
              <a:off x="4926240" y="1852200"/>
              <a:ext cx="790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49b2cb"/>
                  </a:solidFill>
                  <a:latin typeface="바탕"/>
                  <a:ea typeface="바탕"/>
                </a:rPr>
                <a:t>Sample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49b2cb"/>
                  </a:solidFill>
                  <a:latin typeface="바탕"/>
                  <a:ea typeface="바탕"/>
                </a:rPr>
                <a:t>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矩形 71"/>
            <p:cNvSpPr/>
            <p:nvPr/>
          </p:nvSpPr>
          <p:spPr>
            <a:xfrm flipH="1">
              <a:off x="3708000" y="1806120"/>
              <a:ext cx="13824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组合 72"/>
          <p:cNvGrpSpPr/>
          <p:nvPr/>
        </p:nvGrpSpPr>
        <p:grpSpPr>
          <a:xfrm>
            <a:off x="3260520" y="2767320"/>
            <a:ext cx="2751840" cy="638280"/>
            <a:chOff x="3260520" y="2767320"/>
            <a:chExt cx="2751840" cy="638280"/>
          </a:xfrm>
        </p:grpSpPr>
        <p:sp>
          <p:nvSpPr>
            <p:cNvPr id="652" name="文本框 33"/>
            <p:cNvSpPr/>
            <p:nvPr/>
          </p:nvSpPr>
          <p:spPr>
            <a:xfrm>
              <a:off x="3260520" y="2767320"/>
              <a:ext cx="106020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>
              <a:bevelT prst="relaxedInset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9b8a43"/>
                  </a:solidFill>
                  <a:latin typeface="comic"/>
                  <a:ea typeface="Gungsuh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3" name="直接连接符 74"/>
            <p:cNvCxnSpPr/>
            <p:nvPr/>
          </p:nvCxnSpPr>
          <p:spPr>
            <a:xfrm>
              <a:off x="3920760" y="2808360"/>
              <a:ext cx="360" cy="563760"/>
            </a:xfrm>
            <a:prstGeom prst="straightConnector1">
              <a:avLst/>
            </a:prstGeom>
            <a:ln w="28575">
              <a:solidFill>
                <a:srgbClr val="9b8a43">
                  <a:alpha val="65000"/>
                </a:srgbClr>
              </a:solidFill>
              <a:round/>
            </a:ln>
          </p:spPr>
        </p:cxnSp>
        <p:sp>
          <p:nvSpPr>
            <p:cNvPr id="654" name="文本框 38"/>
            <p:cNvSpPr/>
            <p:nvPr/>
          </p:nvSpPr>
          <p:spPr>
            <a:xfrm>
              <a:off x="4003200" y="2882520"/>
              <a:ext cx="790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9b8a43"/>
                  </a:solidFill>
                  <a:latin typeface="바탕"/>
                  <a:ea typeface="바탕"/>
                </a:rPr>
                <a:t>Sample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9b8a43"/>
                  </a:solidFill>
                  <a:latin typeface="바탕"/>
                  <a:ea typeface="바탕"/>
                </a:rPr>
                <a:t>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矩形 76"/>
            <p:cNvSpPr/>
            <p:nvPr/>
          </p:nvSpPr>
          <p:spPr>
            <a:xfrm>
              <a:off x="4629960" y="2836440"/>
              <a:ext cx="13824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595959"/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组合 77"/>
          <p:cNvGrpSpPr/>
          <p:nvPr/>
        </p:nvGrpSpPr>
        <p:grpSpPr>
          <a:xfrm>
            <a:off x="3509640" y="3761640"/>
            <a:ext cx="3017160" cy="638280"/>
            <a:chOff x="3509640" y="3761640"/>
            <a:chExt cx="3017160" cy="638280"/>
          </a:xfrm>
        </p:grpSpPr>
        <p:sp>
          <p:nvSpPr>
            <p:cNvPr id="657" name="文本框 33"/>
            <p:cNvSpPr/>
            <p:nvPr/>
          </p:nvSpPr>
          <p:spPr>
            <a:xfrm flipH="1">
              <a:off x="5466240" y="3761640"/>
              <a:ext cx="106020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>
              <a:bevelT prst="relaxedInset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chemeClr val="accent3">
                      <a:lumMod val="50000"/>
                    </a:schemeClr>
                  </a:solidFill>
                  <a:latin typeface="comic"/>
                  <a:ea typeface="Gungsuh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8" name="直接连接符 79"/>
            <p:cNvCxnSpPr/>
            <p:nvPr/>
          </p:nvCxnSpPr>
          <p:spPr>
            <a:xfrm>
              <a:off x="5448960" y="3802680"/>
              <a:ext cx="360" cy="563760"/>
            </a:xfrm>
            <a:prstGeom prst="straightConnector1">
              <a:avLst/>
            </a:prstGeom>
            <a:ln w="28575">
              <a:solidFill>
                <a:srgbClr val="9bbb59">
                  <a:lumMod val="50000"/>
                  <a:alpha val="65000"/>
                </a:srgbClr>
              </a:solidFill>
              <a:round/>
            </a:ln>
          </p:spPr>
        </p:cxnSp>
        <p:sp>
          <p:nvSpPr>
            <p:cNvPr id="659" name="文本框 38"/>
            <p:cNvSpPr/>
            <p:nvPr/>
          </p:nvSpPr>
          <p:spPr>
            <a:xfrm flipH="1">
              <a:off x="4727880" y="3876840"/>
              <a:ext cx="790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chemeClr val="accent3">
                      <a:lumMod val="50000"/>
                    </a:schemeClr>
                  </a:solidFill>
                  <a:latin typeface="바탕"/>
                  <a:ea typeface="바탕"/>
                </a:rPr>
                <a:t>Sample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chemeClr val="accent3">
                      <a:lumMod val="50000"/>
                    </a:schemeClr>
                  </a:solidFill>
                  <a:latin typeface="바탕"/>
                  <a:ea typeface="바탕"/>
                </a:rPr>
                <a:t>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81"/>
            <p:cNvSpPr/>
            <p:nvPr/>
          </p:nvSpPr>
          <p:spPr>
            <a:xfrm flipH="1">
              <a:off x="3509640" y="3830760"/>
              <a:ext cx="13824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chemeClr val="accent3">
                      <a:lumMod val="50000"/>
                    </a:schemeClr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chemeClr val="accent3">
                      <a:lumMod val="50000"/>
                    </a:schemeClr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chemeClr val="accent3">
                      <a:lumMod val="50000"/>
                    </a:schemeClr>
                  </a:solidFill>
                  <a:latin typeface="바탕"/>
                  <a:ea typeface="바탕"/>
                </a:rPr>
                <a:t>Add your text h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组合 1"/>
          <p:cNvGrpSpPr/>
          <p:nvPr/>
        </p:nvGrpSpPr>
        <p:grpSpPr>
          <a:xfrm>
            <a:off x="6674400" y="4092480"/>
            <a:ext cx="2449080" cy="942840"/>
            <a:chOff x="6674400" y="4092480"/>
            <a:chExt cx="2449080" cy="942840"/>
          </a:xfrm>
        </p:grpSpPr>
        <p:sp>
          <p:nvSpPr>
            <p:cNvPr id="662" name="TextBox 54"/>
            <p:cNvSpPr/>
            <p:nvPr/>
          </p:nvSpPr>
          <p:spPr>
            <a:xfrm>
              <a:off x="667440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组合 4"/>
            <p:cNvGrpSpPr/>
            <p:nvPr/>
          </p:nvGrpSpPr>
          <p:grpSpPr>
            <a:xfrm>
              <a:off x="7425000" y="4663080"/>
              <a:ext cx="948240" cy="68040"/>
              <a:chOff x="7425000" y="4663080"/>
              <a:chExt cx="948240" cy="68040"/>
            </a:xfrm>
          </p:grpSpPr>
          <p:sp>
            <p:nvSpPr>
              <p:cNvPr id="664" name="矩形 37"/>
              <p:cNvSpPr/>
              <p:nvPr/>
            </p:nvSpPr>
            <p:spPr>
              <a:xfrm>
                <a:off x="7425000" y="4663080"/>
                <a:ext cx="197640" cy="68040"/>
              </a:xfrm>
              <a:prstGeom prst="rect">
                <a:avLst/>
              </a:prstGeom>
              <a:solidFill>
                <a:srgbClr val="9b8a4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65" name="矩形 52"/>
              <p:cNvSpPr/>
              <p:nvPr/>
            </p:nvSpPr>
            <p:spPr>
              <a:xfrm>
                <a:off x="7666920" y="4663080"/>
                <a:ext cx="197640" cy="68040"/>
              </a:xfrm>
              <a:prstGeom prst="rect">
                <a:avLst/>
              </a:prstGeom>
              <a:solidFill>
                <a:srgbClr val="49b2c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66" name="矩形 53"/>
              <p:cNvSpPr/>
              <p:nvPr/>
            </p:nvSpPr>
            <p:spPr>
              <a:xfrm>
                <a:off x="7908480" y="4663080"/>
                <a:ext cx="197640" cy="68040"/>
              </a:xfrm>
              <a:prstGeom prst="rect">
                <a:avLst/>
              </a:prstGeom>
              <a:solidFill>
                <a:srgbClr val="64444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67" name="矩形 82"/>
              <p:cNvSpPr/>
              <p:nvPr/>
            </p:nvSpPr>
            <p:spPr>
              <a:xfrm>
                <a:off x="8175600" y="4663080"/>
                <a:ext cx="197640" cy="68040"/>
              </a:xfrm>
              <a:prstGeom prst="rect">
                <a:avLst/>
              </a:prstGeom>
              <a:solidFill>
                <a:schemeClr val="accent3">
                  <a:lumMod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668" name="矩形 12"/>
          <p:cNvSpPr/>
          <p:nvPr/>
        </p:nvSpPr>
        <p:spPr>
          <a:xfrm>
            <a:off x="388800" y="48628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组合 7"/>
          <p:cNvGrpSpPr/>
          <p:nvPr/>
        </p:nvGrpSpPr>
        <p:grpSpPr>
          <a:xfrm>
            <a:off x="1860480" y="1262160"/>
            <a:ext cx="1774800" cy="1115640"/>
            <a:chOff x="1860480" y="1262160"/>
            <a:chExt cx="1774800" cy="1115640"/>
          </a:xfrm>
        </p:grpSpPr>
        <p:grpSp>
          <p:nvGrpSpPr>
            <p:cNvPr id="670" name="组合 2"/>
            <p:cNvGrpSpPr/>
            <p:nvPr/>
          </p:nvGrpSpPr>
          <p:grpSpPr>
            <a:xfrm>
              <a:off x="1860480" y="1262160"/>
              <a:ext cx="1774800" cy="1115640"/>
              <a:chOff x="1860480" y="1262160"/>
              <a:chExt cx="1774800" cy="1115640"/>
            </a:xfrm>
          </p:grpSpPr>
          <p:sp>
            <p:nvSpPr>
              <p:cNvPr id="671" name="矩形 1"/>
              <p:cNvSpPr/>
              <p:nvPr/>
            </p:nvSpPr>
            <p:spPr>
              <a:xfrm>
                <a:off x="1860480" y="1262160"/>
                <a:ext cx="1774440" cy="1115640"/>
              </a:xfrm>
              <a:prstGeom prst="rect">
                <a:avLst/>
              </a:prstGeom>
              <a:gradFill rotWithShape="0">
                <a:gsLst>
                  <a:gs pos="0">
                    <a:srgbClr val="ca401f"/>
                  </a:gs>
                  <a:gs pos="100000">
                    <a:srgbClr val="e96543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72" name="Picture 3" descr=""/>
              <p:cNvPicPr/>
              <p:nvPr/>
            </p:nvPicPr>
            <p:blipFill>
              <a:blip r:embed="rId1"/>
              <a:srcRect l="2762" t="0" r="7209" b="57622"/>
              <a:stretch/>
            </p:blipFill>
            <p:spPr>
              <a:xfrm rot="16200000">
                <a:off x="3022560" y="1764720"/>
                <a:ext cx="111492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3" name="组合 6"/>
            <p:cNvGrpSpPr/>
            <p:nvPr/>
          </p:nvGrpSpPr>
          <p:grpSpPr>
            <a:xfrm>
              <a:off x="3146400" y="1704960"/>
              <a:ext cx="215640" cy="215640"/>
              <a:chOff x="3146400" y="1704960"/>
              <a:chExt cx="215640" cy="215640"/>
            </a:xfrm>
          </p:grpSpPr>
          <p:sp>
            <p:nvSpPr>
              <p:cNvPr id="674" name="椭圆 4"/>
              <p:cNvSpPr/>
              <p:nvPr/>
            </p:nvSpPr>
            <p:spPr>
              <a:xfrm>
                <a:off x="3146400" y="1704960"/>
                <a:ext cx="215640" cy="2156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5" name="L 形 5"/>
              <p:cNvSpPr/>
              <p:nvPr/>
            </p:nvSpPr>
            <p:spPr>
              <a:xfrm flipH="1" rot="18900000">
                <a:off x="3184200" y="1749960"/>
                <a:ext cx="126720" cy="124560"/>
              </a:xfrm>
              <a:prstGeom prst="corner">
                <a:avLst>
                  <a:gd name="adj1" fmla="val 20370"/>
                  <a:gd name="adj2" fmla="val 18254"/>
                </a:avLst>
              </a:prstGeom>
              <a:solidFill>
                <a:srgbClr val="ca401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676" name="组合 13"/>
          <p:cNvGrpSpPr/>
          <p:nvPr/>
        </p:nvGrpSpPr>
        <p:grpSpPr>
          <a:xfrm>
            <a:off x="5486040" y="1262160"/>
            <a:ext cx="1775880" cy="1116000"/>
            <a:chOff x="5486040" y="1262160"/>
            <a:chExt cx="1775880" cy="1116000"/>
          </a:xfrm>
        </p:grpSpPr>
        <p:grpSp>
          <p:nvGrpSpPr>
            <p:cNvPr id="677" name="组合 14"/>
            <p:cNvGrpSpPr/>
            <p:nvPr/>
          </p:nvGrpSpPr>
          <p:grpSpPr>
            <a:xfrm>
              <a:off x="5486040" y="1262160"/>
              <a:ext cx="1775880" cy="1116000"/>
              <a:chOff x="5486040" y="1262160"/>
              <a:chExt cx="1775880" cy="1116000"/>
            </a:xfrm>
          </p:grpSpPr>
          <p:sp>
            <p:nvSpPr>
              <p:cNvPr id="678" name="矩形 18"/>
              <p:cNvSpPr/>
              <p:nvPr/>
            </p:nvSpPr>
            <p:spPr>
              <a:xfrm flipH="1">
                <a:off x="5485680" y="1262160"/>
                <a:ext cx="1775880" cy="1115640"/>
              </a:xfrm>
              <a:prstGeom prst="rect">
                <a:avLst/>
              </a:prstGeom>
              <a:gradFill rotWithShape="0">
                <a:gsLst>
                  <a:gs pos="0">
                    <a:srgbClr val="017caa"/>
                  </a:gs>
                  <a:gs pos="100000">
                    <a:srgbClr val="0e9cb1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79" name="Picture 3" descr=""/>
              <p:cNvPicPr/>
              <p:nvPr/>
            </p:nvPicPr>
            <p:blipFill>
              <a:blip r:embed="rId2"/>
              <a:srcRect l="2762" t="0" r="7209" b="57622"/>
              <a:stretch/>
            </p:blipFill>
            <p:spPr>
              <a:xfrm flipH="1" rot="5400000">
                <a:off x="4983840" y="1765080"/>
                <a:ext cx="111600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0" name="组合 15"/>
            <p:cNvGrpSpPr/>
            <p:nvPr/>
          </p:nvGrpSpPr>
          <p:grpSpPr>
            <a:xfrm>
              <a:off x="5758920" y="1704960"/>
              <a:ext cx="215640" cy="215640"/>
              <a:chOff x="5758920" y="1704960"/>
              <a:chExt cx="215640" cy="215640"/>
            </a:xfrm>
          </p:grpSpPr>
          <p:sp>
            <p:nvSpPr>
              <p:cNvPr id="681" name="椭圆 16"/>
              <p:cNvSpPr/>
              <p:nvPr/>
            </p:nvSpPr>
            <p:spPr>
              <a:xfrm flipH="1">
                <a:off x="5758560" y="1704960"/>
                <a:ext cx="215640" cy="2156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2" name="L 形 17"/>
              <p:cNvSpPr/>
              <p:nvPr/>
            </p:nvSpPr>
            <p:spPr>
              <a:xfrm rot="2700000">
                <a:off x="5810760" y="1749960"/>
                <a:ext cx="126720" cy="124920"/>
              </a:xfrm>
              <a:prstGeom prst="corner">
                <a:avLst>
                  <a:gd name="adj1" fmla="val 20370"/>
                  <a:gd name="adj2" fmla="val 18254"/>
                </a:avLst>
              </a:prstGeom>
              <a:solidFill>
                <a:srgbClr val="ca401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683" name="组合 20"/>
          <p:cNvGrpSpPr/>
          <p:nvPr/>
        </p:nvGrpSpPr>
        <p:grpSpPr>
          <a:xfrm>
            <a:off x="1860480" y="2476440"/>
            <a:ext cx="1774800" cy="1115640"/>
            <a:chOff x="1860480" y="2476440"/>
            <a:chExt cx="1774800" cy="1115640"/>
          </a:xfrm>
        </p:grpSpPr>
        <p:grpSp>
          <p:nvGrpSpPr>
            <p:cNvPr id="684" name="组合 21"/>
            <p:cNvGrpSpPr/>
            <p:nvPr/>
          </p:nvGrpSpPr>
          <p:grpSpPr>
            <a:xfrm>
              <a:off x="1860480" y="2476440"/>
              <a:ext cx="1774800" cy="1115640"/>
              <a:chOff x="1860480" y="2476440"/>
              <a:chExt cx="1774800" cy="1115640"/>
            </a:xfrm>
          </p:grpSpPr>
          <p:sp>
            <p:nvSpPr>
              <p:cNvPr id="685" name="矩形 25"/>
              <p:cNvSpPr/>
              <p:nvPr/>
            </p:nvSpPr>
            <p:spPr>
              <a:xfrm>
                <a:off x="1860480" y="2476440"/>
                <a:ext cx="1774440" cy="1115640"/>
              </a:xfrm>
              <a:prstGeom prst="rect">
                <a:avLst/>
              </a:prstGeom>
              <a:gradFill rotWithShape="0">
                <a:gsLst>
                  <a:gs pos="0">
                    <a:srgbClr val="25333c"/>
                  </a:gs>
                  <a:gs pos="100000">
                    <a:srgbClr val="41505e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86" name="Picture 3" descr=""/>
              <p:cNvPicPr/>
              <p:nvPr/>
            </p:nvPicPr>
            <p:blipFill>
              <a:blip r:embed="rId3"/>
              <a:srcRect l="2762" t="0" r="7209" b="57622"/>
              <a:stretch/>
            </p:blipFill>
            <p:spPr>
              <a:xfrm rot="16200000">
                <a:off x="3022560" y="2979360"/>
                <a:ext cx="111492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7" name="组合 22"/>
            <p:cNvGrpSpPr/>
            <p:nvPr/>
          </p:nvGrpSpPr>
          <p:grpSpPr>
            <a:xfrm>
              <a:off x="3146400" y="2919240"/>
              <a:ext cx="215640" cy="215640"/>
              <a:chOff x="3146400" y="2919240"/>
              <a:chExt cx="215640" cy="215640"/>
            </a:xfrm>
          </p:grpSpPr>
          <p:sp>
            <p:nvSpPr>
              <p:cNvPr id="688" name="椭圆 23"/>
              <p:cNvSpPr/>
              <p:nvPr/>
            </p:nvSpPr>
            <p:spPr>
              <a:xfrm>
                <a:off x="3146400" y="2919240"/>
                <a:ext cx="215640" cy="215640"/>
              </a:xfrm>
              <a:prstGeom prst="ellipse">
                <a:avLst/>
              </a:prstGeom>
              <a:solidFill>
                <a:schemeClr val="bg1">
                  <a:lumMod val="8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9" name="L 形 24"/>
              <p:cNvSpPr/>
              <p:nvPr/>
            </p:nvSpPr>
            <p:spPr>
              <a:xfrm flipH="1" rot="18900000">
                <a:off x="3184200" y="2964240"/>
                <a:ext cx="126720" cy="124560"/>
              </a:xfrm>
              <a:prstGeom prst="corner">
                <a:avLst>
                  <a:gd name="adj1" fmla="val 20370"/>
                  <a:gd name="adj2" fmla="val 18254"/>
                </a:avLst>
              </a:prstGeom>
              <a:solidFill>
                <a:srgbClr val="25333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690" name="平行四边形 27"/>
          <p:cNvSpPr/>
          <p:nvPr/>
        </p:nvSpPr>
        <p:spPr>
          <a:xfrm rot="5400000">
            <a:off x="3255480" y="2845440"/>
            <a:ext cx="1669680" cy="931680"/>
          </a:xfrm>
          <a:prstGeom prst="parallelogram">
            <a:avLst>
              <a:gd name="adj" fmla="val 59429"/>
            </a:avLst>
          </a:prstGeom>
          <a:gradFill rotWithShape="0">
            <a:gsLst>
              <a:gs pos="0">
                <a:srgbClr val="25333c"/>
              </a:gs>
              <a:gs pos="100000">
                <a:srgbClr val="506775"/>
              </a:gs>
            </a:gsLst>
            <a:lin ang="189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1" name="平行四边形 28"/>
          <p:cNvSpPr/>
          <p:nvPr/>
        </p:nvSpPr>
        <p:spPr>
          <a:xfrm flipH="1" rot="16200000">
            <a:off x="4185720" y="2846160"/>
            <a:ext cx="1669680" cy="929880"/>
          </a:xfrm>
          <a:prstGeom prst="parallelogram">
            <a:avLst>
              <a:gd name="adj" fmla="val 59429"/>
            </a:avLst>
          </a:prstGeom>
          <a:gradFill rotWithShape="0">
            <a:gsLst>
              <a:gs pos="0">
                <a:srgbClr val="c0d0ce"/>
              </a:gs>
              <a:gs pos="100000">
                <a:srgbClr val="8497a4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692" name="组合 29"/>
          <p:cNvGrpSpPr/>
          <p:nvPr/>
        </p:nvGrpSpPr>
        <p:grpSpPr>
          <a:xfrm>
            <a:off x="5482800" y="2476440"/>
            <a:ext cx="1775880" cy="1116000"/>
            <a:chOff x="5482800" y="2476440"/>
            <a:chExt cx="1775880" cy="1116000"/>
          </a:xfrm>
        </p:grpSpPr>
        <p:grpSp>
          <p:nvGrpSpPr>
            <p:cNvPr id="693" name="组合 30"/>
            <p:cNvGrpSpPr/>
            <p:nvPr/>
          </p:nvGrpSpPr>
          <p:grpSpPr>
            <a:xfrm>
              <a:off x="5482800" y="2476440"/>
              <a:ext cx="1775880" cy="1116000"/>
              <a:chOff x="5482800" y="2476440"/>
              <a:chExt cx="1775880" cy="1116000"/>
            </a:xfrm>
          </p:grpSpPr>
          <p:sp>
            <p:nvSpPr>
              <p:cNvPr id="694" name="矩形 34"/>
              <p:cNvSpPr/>
              <p:nvPr/>
            </p:nvSpPr>
            <p:spPr>
              <a:xfrm flipH="1">
                <a:off x="5482440" y="2476440"/>
                <a:ext cx="1775880" cy="1115640"/>
              </a:xfrm>
              <a:prstGeom prst="rect">
                <a:avLst/>
              </a:prstGeom>
              <a:gradFill rotWithShape="0">
                <a:gsLst>
                  <a:gs pos="0">
                    <a:srgbClr val="8497a4"/>
                  </a:gs>
                  <a:gs pos="100000">
                    <a:srgbClr val="c0d0c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pic>
            <p:nvPicPr>
              <p:cNvPr id="695" name="Picture 3" descr=""/>
              <p:cNvPicPr/>
              <p:nvPr/>
            </p:nvPicPr>
            <p:blipFill>
              <a:blip r:embed="rId4"/>
              <a:srcRect l="2762" t="0" r="7209" b="57622"/>
              <a:stretch/>
            </p:blipFill>
            <p:spPr>
              <a:xfrm flipH="1" rot="5400000">
                <a:off x="4980600" y="2979360"/>
                <a:ext cx="1116000" cy="11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6" name="组合 31"/>
            <p:cNvGrpSpPr/>
            <p:nvPr/>
          </p:nvGrpSpPr>
          <p:grpSpPr>
            <a:xfrm>
              <a:off x="5756040" y="2919240"/>
              <a:ext cx="215640" cy="215640"/>
              <a:chOff x="5756040" y="2919240"/>
              <a:chExt cx="215640" cy="215640"/>
            </a:xfrm>
          </p:grpSpPr>
          <p:sp>
            <p:nvSpPr>
              <p:cNvPr id="697" name="椭圆 32"/>
              <p:cNvSpPr/>
              <p:nvPr/>
            </p:nvSpPr>
            <p:spPr>
              <a:xfrm flipH="1">
                <a:off x="5755680" y="2919240"/>
                <a:ext cx="215640" cy="215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98" name="L 形 33"/>
              <p:cNvSpPr/>
              <p:nvPr/>
            </p:nvSpPr>
            <p:spPr>
              <a:xfrm rot="2700000">
                <a:off x="5807880" y="2964240"/>
                <a:ext cx="126720" cy="124920"/>
              </a:xfrm>
              <a:prstGeom prst="corner">
                <a:avLst>
                  <a:gd name="adj1" fmla="val 20370"/>
                  <a:gd name="adj2" fmla="val 18254"/>
                </a:avLst>
              </a:prstGeom>
              <a:solidFill>
                <a:srgbClr val="8497a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699" name="平行四边形 11"/>
          <p:cNvSpPr/>
          <p:nvPr/>
        </p:nvSpPr>
        <p:spPr>
          <a:xfrm rot="12540000">
            <a:off x="3748320" y="1994040"/>
            <a:ext cx="1625400" cy="972720"/>
          </a:xfrm>
          <a:custGeom>
            <a:avLst/>
            <a:gdLst>
              <a:gd name="textAreaLeft" fmla="*/ 0 w 1625400"/>
              <a:gd name="textAreaRight" fmla="*/ 1625760 w 1625400"/>
              <a:gd name="textAreaTop" fmla="*/ 0 h 972720"/>
              <a:gd name="textAreaBottom" fmla="*/ 973080 h 972720"/>
            </a:gdLst>
            <a:ahLst/>
            <a:rect l="textAreaLeft" t="textAreaTop" r="textAreaRight" b="textAreaBottom"/>
            <a:pathLst>
              <a:path w="1625962" h="972069">
                <a:moveTo>
                  <a:pt x="0" y="929986"/>
                </a:moveTo>
                <a:lnTo>
                  <a:pt x="542236" y="0"/>
                </a:lnTo>
                <a:lnTo>
                  <a:pt x="1625962" y="31444"/>
                </a:lnTo>
                <a:lnTo>
                  <a:pt x="1084178" y="972069"/>
                </a:lnTo>
                <a:lnTo>
                  <a:pt x="0" y="929986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b6b6b6"/>
              </a:gs>
            </a:gsLst>
            <a:lin ang="1794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700" name="组合 9"/>
          <p:cNvGrpSpPr/>
          <p:nvPr/>
        </p:nvGrpSpPr>
        <p:grpSpPr>
          <a:xfrm>
            <a:off x="3609720" y="444960"/>
            <a:ext cx="1892520" cy="2486880"/>
            <a:chOff x="3609720" y="444960"/>
            <a:chExt cx="1892520" cy="2486880"/>
          </a:xfrm>
        </p:grpSpPr>
        <p:sp>
          <p:nvSpPr>
            <p:cNvPr id="701" name="平行四边形 8"/>
            <p:cNvSpPr/>
            <p:nvPr/>
          </p:nvSpPr>
          <p:spPr>
            <a:xfrm rot="5400000">
              <a:off x="3255480" y="1631160"/>
              <a:ext cx="1669680" cy="931680"/>
            </a:xfrm>
            <a:prstGeom prst="parallelogram">
              <a:avLst>
                <a:gd name="adj" fmla="val 59429"/>
              </a:avLst>
            </a:prstGeom>
            <a:gradFill rotWithShape="0">
              <a:gsLst>
                <a:gs pos="0">
                  <a:srgbClr val="df492d"/>
                </a:gs>
                <a:gs pos="100000">
                  <a:srgbClr val="feb07b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02" name="平行四边形 11"/>
            <p:cNvSpPr/>
            <p:nvPr/>
          </p:nvSpPr>
          <p:spPr>
            <a:xfrm rot="12540000">
              <a:off x="3743280" y="777960"/>
              <a:ext cx="1625400" cy="971280"/>
            </a:xfrm>
            <a:custGeom>
              <a:avLst/>
              <a:gdLst>
                <a:gd name="textAreaLeft" fmla="*/ 0 w 1625400"/>
                <a:gd name="textAreaRight" fmla="*/ 1625760 w 1625400"/>
                <a:gd name="textAreaTop" fmla="*/ 0 h 971280"/>
                <a:gd name="textAreaBottom" fmla="*/ 971640 h 971280"/>
              </a:gdLst>
              <a:ahLst/>
              <a:rect l="textAreaLeft" t="textAreaTop" r="textAreaRight" b="textAreaBottom"/>
              <a:pathLst>
                <a:path w="1625962" h="972069">
                  <a:moveTo>
                    <a:pt x="0" y="929986"/>
                  </a:moveTo>
                  <a:lnTo>
                    <a:pt x="542236" y="0"/>
                  </a:lnTo>
                  <a:lnTo>
                    <a:pt x="1625962" y="31444"/>
                  </a:lnTo>
                  <a:lnTo>
                    <a:pt x="1084178" y="972069"/>
                  </a:lnTo>
                  <a:lnTo>
                    <a:pt x="0" y="929986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b6b6b6"/>
                </a:gs>
              </a:gsLst>
              <a:lin ang="1794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03" name="平行四边形 12"/>
            <p:cNvSpPr/>
            <p:nvPr/>
          </p:nvSpPr>
          <p:spPr>
            <a:xfrm flipH="1" rot="16200000">
              <a:off x="4185720" y="1631880"/>
              <a:ext cx="1669680" cy="929880"/>
            </a:xfrm>
            <a:prstGeom prst="parallelogram">
              <a:avLst>
                <a:gd name="adj" fmla="val 59429"/>
              </a:avLst>
            </a:prstGeom>
            <a:gradFill rotWithShape="0">
              <a:gsLst>
                <a:gs pos="0">
                  <a:srgbClr val="017caa"/>
                </a:gs>
                <a:gs pos="100000">
                  <a:srgbClr val="0e9cb1"/>
                </a:gs>
              </a:gsLst>
              <a:lin ang="135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04" name="组合 38"/>
          <p:cNvGrpSpPr/>
          <p:nvPr/>
        </p:nvGrpSpPr>
        <p:grpSpPr>
          <a:xfrm>
            <a:off x="1833480" y="1496880"/>
            <a:ext cx="1380240" cy="638280"/>
            <a:chOff x="1833480" y="1496880"/>
            <a:chExt cx="1380240" cy="638280"/>
          </a:xfrm>
        </p:grpSpPr>
        <p:sp>
          <p:nvSpPr>
            <p:cNvPr id="705" name="TextBox 39"/>
            <p:cNvSpPr/>
            <p:nvPr/>
          </p:nvSpPr>
          <p:spPr>
            <a:xfrm flipH="1">
              <a:off x="2421720" y="1496880"/>
              <a:ext cx="79164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矩形 40"/>
            <p:cNvSpPr/>
            <p:nvPr/>
          </p:nvSpPr>
          <p:spPr>
            <a:xfrm flipH="1">
              <a:off x="1833480" y="1578600"/>
              <a:ext cx="737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41"/>
          <p:cNvGrpSpPr/>
          <p:nvPr/>
        </p:nvGrpSpPr>
        <p:grpSpPr>
          <a:xfrm>
            <a:off x="1833480" y="2711520"/>
            <a:ext cx="1380240" cy="638280"/>
            <a:chOff x="1833480" y="2711520"/>
            <a:chExt cx="1380240" cy="638280"/>
          </a:xfrm>
        </p:grpSpPr>
        <p:sp>
          <p:nvSpPr>
            <p:cNvPr id="708" name="TextBox 42"/>
            <p:cNvSpPr/>
            <p:nvPr/>
          </p:nvSpPr>
          <p:spPr>
            <a:xfrm flipH="1">
              <a:off x="2421720" y="2711520"/>
              <a:ext cx="79164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矩形 43"/>
            <p:cNvSpPr/>
            <p:nvPr/>
          </p:nvSpPr>
          <p:spPr>
            <a:xfrm flipH="1">
              <a:off x="1833480" y="2793240"/>
              <a:ext cx="737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组合 44"/>
          <p:cNvGrpSpPr/>
          <p:nvPr/>
        </p:nvGrpSpPr>
        <p:grpSpPr>
          <a:xfrm>
            <a:off x="5922360" y="1487520"/>
            <a:ext cx="1379520" cy="638280"/>
            <a:chOff x="5922360" y="1487520"/>
            <a:chExt cx="1379520" cy="638280"/>
          </a:xfrm>
        </p:grpSpPr>
        <p:sp>
          <p:nvSpPr>
            <p:cNvPr id="711" name="TextBox 45"/>
            <p:cNvSpPr/>
            <p:nvPr/>
          </p:nvSpPr>
          <p:spPr>
            <a:xfrm flipH="1">
              <a:off x="6510600" y="1487520"/>
              <a:ext cx="79092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矩形 46"/>
            <p:cNvSpPr/>
            <p:nvPr/>
          </p:nvSpPr>
          <p:spPr>
            <a:xfrm flipH="1">
              <a:off x="5922360" y="1569240"/>
              <a:ext cx="737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组合 47"/>
          <p:cNvGrpSpPr/>
          <p:nvPr/>
        </p:nvGrpSpPr>
        <p:grpSpPr>
          <a:xfrm>
            <a:off x="5922360" y="2711520"/>
            <a:ext cx="1379520" cy="638280"/>
            <a:chOff x="5922360" y="2711520"/>
            <a:chExt cx="1379520" cy="638280"/>
          </a:xfrm>
        </p:grpSpPr>
        <p:sp>
          <p:nvSpPr>
            <p:cNvPr id="714" name="TextBox 48"/>
            <p:cNvSpPr/>
            <p:nvPr/>
          </p:nvSpPr>
          <p:spPr>
            <a:xfrm flipH="1">
              <a:off x="6510600" y="2711520"/>
              <a:ext cx="79092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  <a:ea typeface="宋体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矩形 49"/>
            <p:cNvSpPr/>
            <p:nvPr/>
          </p:nvSpPr>
          <p:spPr>
            <a:xfrm flipH="1">
              <a:off x="5922360" y="2793240"/>
              <a:ext cx="737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TextBox 50"/>
          <p:cNvSpPr/>
          <p:nvPr/>
        </p:nvSpPr>
        <p:spPr>
          <a:xfrm flipH="1">
            <a:off x="4625280" y="1563480"/>
            <a:ext cx="791280" cy="1095120"/>
          </a:xfrm>
          <a:prstGeom prst="rect">
            <a:avLst/>
          </a:prstGeom>
          <a:noFill/>
          <a:ln w="0">
            <a:noFill/>
          </a:ln>
          <a:scene3d>
            <a:camera prst="isometricOffAxis2Righ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51"/>
          <p:cNvSpPr/>
          <p:nvPr/>
        </p:nvSpPr>
        <p:spPr>
          <a:xfrm flipH="1">
            <a:off x="4644000" y="2715840"/>
            <a:ext cx="791280" cy="1095120"/>
          </a:xfrm>
          <a:prstGeom prst="rect">
            <a:avLst/>
          </a:prstGeom>
          <a:noFill/>
          <a:ln w="0">
            <a:noFill/>
          </a:ln>
          <a:scene3d>
            <a:camera prst="isometricOffAxis2Righ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506775"/>
                </a:solidFill>
                <a:latin typeface="comic"/>
                <a:ea typeface="宋体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52"/>
          <p:cNvSpPr/>
          <p:nvPr/>
        </p:nvSpPr>
        <p:spPr>
          <a:xfrm flipH="1" rot="175200">
            <a:off x="3694320" y="1542960"/>
            <a:ext cx="791280" cy="1095120"/>
          </a:xfrm>
          <a:prstGeom prst="rect">
            <a:avLst/>
          </a:prstGeom>
          <a:noFill/>
          <a:ln w="0">
            <a:noFill/>
          </a:ln>
          <a:scene3d>
            <a:camera prst="isometricOffAxis1Lef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53"/>
          <p:cNvSpPr/>
          <p:nvPr/>
        </p:nvSpPr>
        <p:spPr>
          <a:xfrm flipH="1" rot="175200">
            <a:off x="3694320" y="2715840"/>
            <a:ext cx="791280" cy="1095120"/>
          </a:xfrm>
          <a:prstGeom prst="rect">
            <a:avLst/>
          </a:prstGeom>
          <a:noFill/>
          <a:ln w="0">
            <a:noFill/>
          </a:ln>
          <a:scene3d>
            <a:camera prst="isometricOffAxis1Lef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comic"/>
                <a:ea typeface="宋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组合 54"/>
          <p:cNvGrpSpPr/>
          <p:nvPr/>
        </p:nvGrpSpPr>
        <p:grpSpPr>
          <a:xfrm>
            <a:off x="6674400" y="4092480"/>
            <a:ext cx="2449080" cy="942840"/>
            <a:chOff x="6674400" y="4092480"/>
            <a:chExt cx="2449080" cy="942840"/>
          </a:xfrm>
        </p:grpSpPr>
        <p:sp>
          <p:nvSpPr>
            <p:cNvPr id="721" name="TextBox 55"/>
            <p:cNvSpPr/>
            <p:nvPr/>
          </p:nvSpPr>
          <p:spPr>
            <a:xfrm>
              <a:off x="667440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组合 56"/>
            <p:cNvGrpSpPr/>
            <p:nvPr/>
          </p:nvGrpSpPr>
          <p:grpSpPr>
            <a:xfrm>
              <a:off x="7425000" y="4663080"/>
              <a:ext cx="948240" cy="68040"/>
              <a:chOff x="7425000" y="4663080"/>
              <a:chExt cx="948240" cy="68040"/>
            </a:xfrm>
          </p:grpSpPr>
          <p:sp>
            <p:nvSpPr>
              <p:cNvPr id="723" name="矩形 57"/>
              <p:cNvSpPr/>
              <p:nvPr/>
            </p:nvSpPr>
            <p:spPr>
              <a:xfrm>
                <a:off x="7425000" y="4663080"/>
                <a:ext cx="197640" cy="68040"/>
              </a:xfrm>
              <a:prstGeom prst="rect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24" name="矩形 58"/>
              <p:cNvSpPr/>
              <p:nvPr/>
            </p:nvSpPr>
            <p:spPr>
              <a:xfrm>
                <a:off x="7666920" y="4663080"/>
                <a:ext cx="197640" cy="68040"/>
              </a:xfrm>
              <a:prstGeom prst="rect">
                <a:avLst/>
              </a:prstGeom>
              <a:solidFill>
                <a:srgbClr val="0070c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25" name="矩形 59"/>
              <p:cNvSpPr/>
              <p:nvPr/>
            </p:nvSpPr>
            <p:spPr>
              <a:xfrm>
                <a:off x="7908480" y="466308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26" name="矩形 60"/>
              <p:cNvSpPr/>
              <p:nvPr/>
            </p:nvSpPr>
            <p:spPr>
              <a:xfrm>
                <a:off x="8175600" y="4663080"/>
                <a:ext cx="197640" cy="68040"/>
              </a:xfrm>
              <a:prstGeom prst="rect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2" descr=""/>
          <p:cNvPicPr/>
          <p:nvPr/>
        </p:nvPicPr>
        <p:blipFill>
          <a:blip r:embed="rId2"/>
          <a:stretch/>
        </p:blipFill>
        <p:spPr>
          <a:xfrm>
            <a:off x="2339640" y="339480"/>
            <a:ext cx="5859000" cy="29746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2" descr=""/>
          <p:cNvPicPr/>
          <p:nvPr/>
        </p:nvPicPr>
        <p:blipFill>
          <a:blip r:embed="rId3"/>
          <a:stretch/>
        </p:blipFill>
        <p:spPr>
          <a:xfrm>
            <a:off x="2877840" y="1645560"/>
            <a:ext cx="1480680" cy="14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任意多边形 92"/>
          <p:cNvSpPr/>
          <p:nvPr/>
        </p:nvSpPr>
        <p:spPr>
          <a:xfrm rot="10444800">
            <a:off x="4082760" y="2729520"/>
            <a:ext cx="320400" cy="363600"/>
          </a:xfrm>
          <a:custGeom>
            <a:avLst/>
            <a:gdLst>
              <a:gd name="textAreaLeft" fmla="*/ 0 w 320400"/>
              <a:gd name="textAreaRight" fmla="*/ 320760 w 32040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64010" h="244177">
                <a:moveTo>
                  <a:pt x="0" y="69373"/>
                </a:moveTo>
                <a:cubicBezTo>
                  <a:pt x="166260" y="-21179"/>
                  <a:pt x="276979" y="-73794"/>
                  <a:pt x="262788" y="244177"/>
                </a:cubicBezTo>
              </a:path>
            </a:pathLst>
          </a:custGeom>
          <a:gradFill rotWithShape="0">
            <a:gsLst>
              <a:gs pos="0">
                <a:srgbClr val="6494c4"/>
              </a:gs>
              <a:gs pos="100000">
                <a:srgbClr val="c4d6eb"/>
              </a:gs>
            </a:gsLst>
            <a:lin ang="15840000"/>
          </a:gradFill>
          <a:ln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任意多边形 93"/>
          <p:cNvSpPr/>
          <p:nvPr/>
        </p:nvSpPr>
        <p:spPr>
          <a:xfrm rot="10800000">
            <a:off x="4109400" y="2777400"/>
            <a:ext cx="344160" cy="264240"/>
          </a:xfrm>
          <a:custGeom>
            <a:avLst/>
            <a:gdLst>
              <a:gd name="textAreaLeft" fmla="*/ 0 w 344160"/>
              <a:gd name="textAreaRight" fmla="*/ 344520 w 344160"/>
              <a:gd name="textAreaTop" fmla="*/ 0 h 264240"/>
              <a:gd name="textAreaBottom" fmla="*/ 264600 h 264240"/>
            </a:gdLst>
            <a:ahLst/>
            <a:rect l="textAreaLeft" t="textAreaTop" r="textAreaRight" b="textAreaBottom"/>
            <a:pathLst>
              <a:path w="344646" h="264543">
                <a:moveTo>
                  <a:pt x="0" y="47055"/>
                </a:moveTo>
                <a:cubicBezTo>
                  <a:pt x="216394" y="-3921"/>
                  <a:pt x="301031" y="-88109"/>
                  <a:pt x="344646" y="264543"/>
                </a:cubicBezTo>
              </a:path>
            </a:pathLst>
          </a:custGeom>
          <a:solidFill>
            <a:srgbClr val="4c617b"/>
          </a:solidFill>
          <a:ln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任意多边形 88"/>
          <p:cNvSpPr/>
          <p:nvPr/>
        </p:nvSpPr>
        <p:spPr>
          <a:xfrm rot="21244800">
            <a:off x="4741920" y="2046240"/>
            <a:ext cx="320400" cy="363600"/>
          </a:xfrm>
          <a:custGeom>
            <a:avLst/>
            <a:gdLst>
              <a:gd name="textAreaLeft" fmla="*/ 0 w 320400"/>
              <a:gd name="textAreaRight" fmla="*/ 320760 w 32040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64010" h="244177">
                <a:moveTo>
                  <a:pt x="0" y="69373"/>
                </a:moveTo>
                <a:cubicBezTo>
                  <a:pt x="166260" y="-21179"/>
                  <a:pt x="276979" y="-73794"/>
                  <a:pt x="262788" y="244177"/>
                </a:cubicBezTo>
              </a:path>
            </a:pathLst>
          </a:custGeom>
          <a:gradFill rotWithShape="0">
            <a:gsLst>
              <a:gs pos="0">
                <a:srgbClr val="6494c4"/>
              </a:gs>
              <a:gs pos="100000">
                <a:srgbClr val="c4d6eb"/>
              </a:gs>
            </a:gsLst>
            <a:lin ang="5040000"/>
          </a:gradFill>
          <a:ln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任意多边形 74"/>
          <p:cNvSpPr/>
          <p:nvPr/>
        </p:nvSpPr>
        <p:spPr>
          <a:xfrm>
            <a:off x="4699440" y="2112120"/>
            <a:ext cx="344160" cy="253080"/>
          </a:xfrm>
          <a:custGeom>
            <a:avLst/>
            <a:gdLst>
              <a:gd name="textAreaLeft" fmla="*/ 0 w 344160"/>
              <a:gd name="textAreaRight" fmla="*/ 344520 w 344160"/>
              <a:gd name="textAreaTop" fmla="*/ 0 h 253080"/>
              <a:gd name="textAreaBottom" fmla="*/ 253440 h 253080"/>
            </a:gdLst>
            <a:ahLst/>
            <a:rect l="textAreaLeft" t="textAreaTop" r="textAreaRight" b="textAreaBottom"/>
            <a:pathLst>
              <a:path w="344646" h="253365">
                <a:moveTo>
                  <a:pt x="0" y="35877"/>
                </a:moveTo>
                <a:cubicBezTo>
                  <a:pt x="287832" y="11095"/>
                  <a:pt x="301031" y="-99287"/>
                  <a:pt x="344646" y="253365"/>
                </a:cubicBezTo>
              </a:path>
            </a:pathLst>
          </a:custGeom>
          <a:solidFill>
            <a:srgbClr val="4c617b"/>
          </a:solidFill>
          <a:ln>
            <a:noFill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任意多边形 75"/>
          <p:cNvSpPr/>
          <p:nvPr/>
        </p:nvSpPr>
        <p:spPr>
          <a:xfrm>
            <a:off x="1977480" y="1871640"/>
            <a:ext cx="3028680" cy="2253600"/>
          </a:xfrm>
          <a:custGeom>
            <a:avLst/>
            <a:gdLst>
              <a:gd name="textAreaLeft" fmla="*/ 0 w 3028680"/>
              <a:gd name="textAreaRight" fmla="*/ 3029040 w 3028680"/>
              <a:gd name="textAreaTop" fmla="*/ 0 h 2253600"/>
              <a:gd name="textAreaBottom" fmla="*/ 2253960 h 2253600"/>
            </a:gdLst>
            <a:ahLst/>
            <a:rect l="textAreaLeft" t="textAreaTop" r="textAreaRight" b="textAreaBottom"/>
            <a:pathLst>
              <a:path w="3028950" h="2254001">
                <a:moveTo>
                  <a:pt x="0" y="2254001"/>
                </a:moveTo>
                <a:cubicBezTo>
                  <a:pt x="1587" y="1846014"/>
                  <a:pt x="3175" y="1438026"/>
                  <a:pt x="4762" y="1030039"/>
                </a:cubicBezTo>
                <a:cubicBezTo>
                  <a:pt x="1408087" y="59060"/>
                  <a:pt x="2218804" y="0"/>
                  <a:pt x="2671762" y="1339"/>
                </a:cubicBezTo>
                <a:lnTo>
                  <a:pt x="3028950" y="263276"/>
                </a:lnTo>
                <a:cubicBezTo>
                  <a:pt x="2794249" y="173410"/>
                  <a:pt x="1225426" y="913780"/>
                  <a:pt x="0" y="2254001"/>
                </a:cubicBezTo>
                <a:close/>
              </a:path>
            </a:pathLst>
          </a:custGeom>
          <a:solidFill>
            <a:srgbClr val="6a93bf"/>
          </a:solidFill>
          <a:ln w="12700">
            <a:noFill/>
          </a:ln>
          <a:effectLst>
            <a:outerShdw algn="ctr" blurRad="647640" rotWithShape="0" sx="83000" sy="83000">
              <a:srgbClr val="000000">
                <a:alpha val="31000"/>
              </a:srgbClr>
            </a:outerShdw>
          </a:effectLst>
          <a:scene3d>
            <a:camera prst="orthographicFront"/>
            <a:lightRig dir="t" rig="threePt"/>
          </a:scene3d>
          <a:sp3d extrusionH="463550">
            <a:bevelT w="0" h="63500"/>
            <a:bevelB w="165100" h="184150"/>
            <a:extrusionClr>
              <a:srgbClr val="6a93bf"/>
            </a:extrusionClr>
            <a:contourClr>
              <a:srgbClr val="6a93bf"/>
            </a:contourClr>
          </a:sp3d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任意多边形 59"/>
          <p:cNvSpPr/>
          <p:nvPr/>
        </p:nvSpPr>
        <p:spPr>
          <a:xfrm>
            <a:off x="1984680" y="342360"/>
            <a:ext cx="1395000" cy="811800"/>
          </a:xfrm>
          <a:custGeom>
            <a:avLst/>
            <a:gdLst>
              <a:gd name="textAreaLeft" fmla="*/ 0 w 1395000"/>
              <a:gd name="textAreaRight" fmla="*/ 1395360 w 1395000"/>
              <a:gd name="textAreaTop" fmla="*/ 0 h 811800"/>
              <a:gd name="textAreaBottom" fmla="*/ 812160 h 811800"/>
            </a:gdLst>
            <a:ahLst/>
            <a:rect l="textAreaLeft" t="textAreaTop" r="textAreaRight" b="textAreaBottom"/>
            <a:pathLst>
              <a:path w="1395413" h="812005">
                <a:moveTo>
                  <a:pt x="0" y="0"/>
                </a:moveTo>
                <a:cubicBezTo>
                  <a:pt x="111919" y="25499"/>
                  <a:pt x="444475" y="-23837"/>
                  <a:pt x="1395413" y="728662"/>
                </a:cubicBezTo>
                <a:lnTo>
                  <a:pt x="4762" y="812005"/>
                </a:lnTo>
                <a:cubicBezTo>
                  <a:pt x="794" y="1586"/>
                  <a:pt x="3969" y="815181"/>
                  <a:pt x="0" y="0"/>
                </a:cubicBezTo>
                <a:close/>
              </a:path>
            </a:pathLst>
          </a:custGeom>
          <a:gradFill rotWithShape="0">
            <a:gsLst>
              <a:gs pos="35000">
                <a:srgbClr val="fcd5b5"/>
              </a:gs>
              <a:gs pos="100000">
                <a:srgbClr val="f9b41b"/>
              </a:gs>
            </a:gsLst>
            <a:lin ang="8400000"/>
          </a:gradFill>
          <a:ln>
            <a:noFill/>
          </a:ln>
          <a:effectLst>
            <a:glow rad="63360">
              <a:srgbClr val="ffffff">
                <a:alpha val="40000"/>
              </a:srgbClr>
            </a:glow>
            <a:outerShdw algn="br" blurRad="50760" dir="135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任意多边形 49"/>
          <p:cNvSpPr/>
          <p:nvPr/>
        </p:nvSpPr>
        <p:spPr>
          <a:xfrm>
            <a:off x="1984680" y="967320"/>
            <a:ext cx="1985760" cy="980280"/>
          </a:xfrm>
          <a:custGeom>
            <a:avLst/>
            <a:gdLst>
              <a:gd name="textAreaLeft" fmla="*/ 0 w 1985760"/>
              <a:gd name="textAreaRight" fmla="*/ 1986120 w 1985760"/>
              <a:gd name="textAreaTop" fmla="*/ 0 h 980280"/>
              <a:gd name="textAreaBottom" fmla="*/ 980640 h 980280"/>
            </a:gdLst>
            <a:ahLst/>
            <a:rect l="textAreaLeft" t="textAreaTop" r="textAreaRight" b="textAreaBottom"/>
            <a:pathLst>
              <a:path w="1985963" h="980505">
                <a:moveTo>
                  <a:pt x="4763" y="175642"/>
                </a:moveTo>
                <a:cubicBezTo>
                  <a:pt x="3175" y="443930"/>
                  <a:pt x="1588" y="712217"/>
                  <a:pt x="0" y="980505"/>
                </a:cubicBezTo>
                <a:cubicBezTo>
                  <a:pt x="780455" y="561603"/>
                  <a:pt x="1661145" y="448445"/>
                  <a:pt x="1985963" y="480442"/>
                </a:cubicBezTo>
                <a:lnTo>
                  <a:pt x="1495425" y="118492"/>
                </a:lnTo>
                <a:cubicBezTo>
                  <a:pt x="999853" y="0"/>
                  <a:pt x="425996" y="123825"/>
                  <a:pt x="4763" y="175642"/>
                </a:cubicBezTo>
                <a:close/>
              </a:path>
            </a:pathLst>
          </a:custGeom>
          <a:gradFill rotWithShape="0">
            <a:gsLst>
              <a:gs pos="41000">
                <a:srgbClr val="70828a"/>
              </a:gs>
              <a:gs pos="100000">
                <a:srgbClr val="919fa5"/>
              </a:gs>
            </a:gsLst>
            <a:lin ang="19200000"/>
          </a:gradFill>
          <a:ln w="12700"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61" name="任意多边形 50"/>
          <p:cNvSpPr/>
          <p:nvPr/>
        </p:nvSpPr>
        <p:spPr>
          <a:xfrm>
            <a:off x="1984680" y="1356480"/>
            <a:ext cx="2580840" cy="1505160"/>
          </a:xfrm>
          <a:custGeom>
            <a:avLst/>
            <a:gdLst>
              <a:gd name="textAreaLeft" fmla="*/ 0 w 2580840"/>
              <a:gd name="textAreaRight" fmla="*/ 2581200 w 2580840"/>
              <a:gd name="textAreaTop" fmla="*/ 0 h 1505160"/>
              <a:gd name="textAreaBottom" fmla="*/ 1505520 h 1505160"/>
            </a:gdLst>
            <a:ahLst/>
            <a:rect l="textAreaLeft" t="textAreaTop" r="textAreaRight" b="textAreaBottom"/>
            <a:pathLst>
              <a:path w="2581275" h="1505346">
                <a:moveTo>
                  <a:pt x="0" y="1505346"/>
                </a:moveTo>
                <a:lnTo>
                  <a:pt x="0" y="586184"/>
                </a:lnTo>
                <a:cubicBezTo>
                  <a:pt x="1161851" y="0"/>
                  <a:pt x="2028527" y="90711"/>
                  <a:pt x="2076450" y="95646"/>
                </a:cubicBezTo>
                <a:lnTo>
                  <a:pt x="2581275" y="471884"/>
                </a:lnTo>
                <a:cubicBezTo>
                  <a:pt x="1524050" y="472132"/>
                  <a:pt x="403771" y="1233438"/>
                  <a:pt x="0" y="1505346"/>
                </a:cubicBezTo>
                <a:close/>
              </a:path>
            </a:pathLst>
          </a:custGeom>
          <a:gradFill rotWithShape="0">
            <a:gsLst>
              <a:gs pos="41000">
                <a:srgbClr val="d7d7d7"/>
              </a:gs>
              <a:gs pos="100000">
                <a:srgbClr val="d9d9d9"/>
              </a:gs>
            </a:gsLst>
            <a:lin ang="18600000"/>
          </a:gradFill>
          <a:ln w="12700"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162" name="任意多边形 52"/>
          <p:cNvSpPr/>
          <p:nvPr/>
        </p:nvSpPr>
        <p:spPr>
          <a:xfrm>
            <a:off x="1980000" y="1807560"/>
            <a:ext cx="3028680" cy="2253600"/>
          </a:xfrm>
          <a:custGeom>
            <a:avLst/>
            <a:gdLst>
              <a:gd name="textAreaLeft" fmla="*/ 0 w 3028680"/>
              <a:gd name="textAreaRight" fmla="*/ 3029040 w 3028680"/>
              <a:gd name="textAreaTop" fmla="*/ 0 h 2253600"/>
              <a:gd name="textAreaBottom" fmla="*/ 2253960 h 2253600"/>
            </a:gdLst>
            <a:ahLst/>
            <a:rect l="textAreaLeft" t="textAreaTop" r="textAreaRight" b="textAreaBottom"/>
            <a:pathLst>
              <a:path w="3028950" h="2254001">
                <a:moveTo>
                  <a:pt x="0" y="2254001"/>
                </a:moveTo>
                <a:cubicBezTo>
                  <a:pt x="1587" y="1846014"/>
                  <a:pt x="3175" y="1438026"/>
                  <a:pt x="4762" y="1030039"/>
                </a:cubicBezTo>
                <a:cubicBezTo>
                  <a:pt x="1408087" y="59060"/>
                  <a:pt x="2218804" y="0"/>
                  <a:pt x="2671762" y="1339"/>
                </a:cubicBezTo>
                <a:lnTo>
                  <a:pt x="3028950" y="263276"/>
                </a:lnTo>
                <a:cubicBezTo>
                  <a:pt x="2794249" y="173410"/>
                  <a:pt x="1225426" y="913780"/>
                  <a:pt x="0" y="2254001"/>
                </a:cubicBezTo>
                <a:close/>
              </a:path>
            </a:pathLst>
          </a:custGeom>
          <a:gradFill rotWithShape="0">
            <a:gsLst>
              <a:gs pos="41000">
                <a:srgbClr val="00b0f0"/>
              </a:gs>
              <a:gs pos="100000">
                <a:srgbClr val="63bed2"/>
              </a:gs>
            </a:gsLst>
            <a:lin ang="18600000"/>
          </a:gradFill>
          <a:ln w="12700"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hreePt"/>
          </a:scene3d>
          <a:sp3d extrusionH="463550">
            <a:bevelT w="0" h="63500"/>
            <a:bevelB w="165100" h="184150"/>
            <a:extrusionClr>
              <a:srgbClr val="6a93bf"/>
            </a:extrusionClr>
            <a:contourClr>
              <a:srgbClr val="6a93bf"/>
            </a:contourClr>
          </a:sp3d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TextBox 107"/>
          <p:cNvSpPr/>
          <p:nvPr/>
        </p:nvSpPr>
        <p:spPr>
          <a:xfrm>
            <a:off x="2016360" y="455400"/>
            <a:ext cx="705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10"/>
          <p:cNvSpPr/>
          <p:nvPr/>
        </p:nvSpPr>
        <p:spPr>
          <a:xfrm>
            <a:off x="2016360" y="1158120"/>
            <a:ext cx="705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13"/>
          <p:cNvSpPr/>
          <p:nvPr/>
        </p:nvSpPr>
        <p:spPr>
          <a:xfrm>
            <a:off x="2016360" y="1897560"/>
            <a:ext cx="705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595959"/>
                </a:solidFill>
                <a:latin typeface="comic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9"/>
          <p:cNvSpPr/>
          <p:nvPr/>
        </p:nvSpPr>
        <p:spPr>
          <a:xfrm>
            <a:off x="2016360" y="2685600"/>
            <a:ext cx="705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"/>
          <p:cNvSpPr txBox="1"/>
          <p:nvPr/>
        </p:nvSpPr>
        <p:spPr>
          <a:xfrm rot="19900800">
            <a:off x="2760120" y="2311200"/>
            <a:ext cx="1997640" cy="387720"/>
          </a:xfrm>
          <a:prstGeom prst="rect">
            <a:avLst/>
          </a:prstGeom>
        </p:spPr>
        <p:txBody>
          <a:bodyPr wrap="none" lIns="68760" rIns="68760" tIns="34200" bIns="34200" anchor="b" anchorCtr="1">
            <a:prstTxWarp prst="textArchUp">
              <a:avLst>
                <a:gd name="adj" fmla="val 7880006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Calibri"/>
              </a:rPr>
              <a:t>INFOGRA</a:t>
            </a:r>
            <a:r>
              <a:rPr b="1" lang="en-US" sz="1600" spc="-1" strike="noStrike">
                <a:ln w="0">
                  <a:noFill/>
                </a:ln>
                <a:solidFill>
                  <a:srgbClr val="ffffff"/>
                </a:solidFill>
                <a:latin typeface="Calibri"/>
              </a:rPr>
              <a:t>PHIC DATA</a:t>
            </a:r>
            <a:endParaRPr b="0" lang="en-US" sz="1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矩形 1"/>
          <p:cNvSpPr txBox="1"/>
          <p:nvPr/>
        </p:nvSpPr>
        <p:spPr>
          <a:xfrm rot="20656200">
            <a:off x="2530800" y="1779480"/>
            <a:ext cx="1797840" cy="387720"/>
          </a:xfrm>
          <a:prstGeom prst="rect">
            <a:avLst/>
          </a:prstGeom>
        </p:spPr>
        <p:txBody>
          <a:bodyPr wrap="none" lIns="68760" rIns="68760" tIns="34200" bIns="34200" anchor="b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ln w="0">
                  <a:noFill/>
                </a:ln>
                <a:solidFill>
                  <a:srgbClr val="393f59"/>
                </a:solidFill>
                <a:latin typeface="Calibri"/>
              </a:rPr>
              <a:t>INFOGRAPHIC DATA</a:t>
            </a:r>
            <a:endParaRPr b="0" lang="en-US" sz="1400" spc="-1" strike="noStrike">
              <a:ln w="0">
                <a:noFill/>
              </a:ln>
              <a:solidFill>
                <a:srgbClr val="393f59"/>
              </a:solidFill>
              <a:latin typeface="Arial"/>
            </a:endParaRPr>
          </a:p>
        </p:txBody>
      </p:sp>
      <p:sp>
        <p:nvSpPr>
          <p:cNvPr id="169" name="任意多边形 64"/>
          <p:cNvSpPr/>
          <p:nvPr/>
        </p:nvSpPr>
        <p:spPr>
          <a:xfrm rot="10800000">
            <a:off x="4145040" y="1020600"/>
            <a:ext cx="3028680" cy="2253600"/>
          </a:xfrm>
          <a:custGeom>
            <a:avLst/>
            <a:gdLst>
              <a:gd name="textAreaLeft" fmla="*/ 0 w 3028680"/>
              <a:gd name="textAreaRight" fmla="*/ 3029040 w 3028680"/>
              <a:gd name="textAreaTop" fmla="*/ 0 h 2253600"/>
              <a:gd name="textAreaBottom" fmla="*/ 2253960 h 2253600"/>
            </a:gdLst>
            <a:ahLst/>
            <a:rect l="textAreaLeft" t="textAreaTop" r="textAreaRight" b="textAreaBottom"/>
            <a:pathLst>
              <a:path w="3028950" h="2254001">
                <a:moveTo>
                  <a:pt x="0" y="2254001"/>
                </a:moveTo>
                <a:cubicBezTo>
                  <a:pt x="1587" y="1846014"/>
                  <a:pt x="3175" y="1438026"/>
                  <a:pt x="4762" y="1030039"/>
                </a:cubicBezTo>
                <a:cubicBezTo>
                  <a:pt x="1408087" y="59060"/>
                  <a:pt x="2218804" y="0"/>
                  <a:pt x="2671762" y="1339"/>
                </a:cubicBezTo>
                <a:lnTo>
                  <a:pt x="3028950" y="263276"/>
                </a:lnTo>
                <a:cubicBezTo>
                  <a:pt x="2794249" y="173410"/>
                  <a:pt x="1225426" y="913780"/>
                  <a:pt x="0" y="2254001"/>
                </a:cubicBezTo>
                <a:close/>
              </a:path>
            </a:pathLst>
          </a:custGeom>
          <a:solidFill>
            <a:srgbClr val="6a93bf"/>
          </a:solidFill>
          <a:ln w="12700">
            <a:noFill/>
          </a:ln>
          <a:effectLst>
            <a:outerShdw algn="ctr" blurRad="647640" rotWithShape="0" sx="83000" sy="83000">
              <a:srgbClr val="000000">
                <a:alpha val="31000"/>
              </a:srgbClr>
            </a:outerShdw>
          </a:effectLst>
          <a:scene3d>
            <a:camera prst="orthographicFront"/>
            <a:lightRig dir="t" rig="threePt"/>
          </a:scene3d>
          <a:sp3d extrusionH="463550">
            <a:bevelT w="0" h="63500"/>
            <a:bevelB w="165100" h="184150"/>
            <a:extrusionClr>
              <a:srgbClr val="6a93bf"/>
            </a:extrusionClr>
            <a:contourClr>
              <a:srgbClr val="6a93bf"/>
            </a:contourClr>
          </a:sp3d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70" name="组合 6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71" name="Group 173"/>
          <p:cNvGrpSpPr/>
          <p:nvPr/>
        </p:nvGrpSpPr>
        <p:grpSpPr>
          <a:xfrm>
            <a:off x="6581160" y="1698840"/>
            <a:ext cx="447120" cy="575640"/>
            <a:chOff x="6581160" y="1698840"/>
            <a:chExt cx="447120" cy="575640"/>
          </a:xfrm>
        </p:grpSpPr>
        <p:sp>
          <p:nvSpPr>
            <p:cNvPr id="172" name="Freeform 19"/>
            <p:cNvSpPr/>
            <p:nvPr/>
          </p:nvSpPr>
          <p:spPr>
            <a:xfrm>
              <a:off x="6725160" y="1723320"/>
              <a:ext cx="106200" cy="1069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171" h="171">
                  <a:moveTo>
                    <a:pt x="168" y="82"/>
                  </a:moveTo>
                  <a:cubicBezTo>
                    <a:pt x="170" y="82"/>
                    <a:pt x="171" y="81"/>
                    <a:pt x="171" y="79"/>
                  </a:cubicBezTo>
                  <a:cubicBezTo>
                    <a:pt x="171" y="79"/>
                    <a:pt x="171" y="79"/>
                    <a:pt x="171" y="79"/>
                  </a:cubicBezTo>
                  <a:cubicBezTo>
                    <a:pt x="171" y="78"/>
                    <a:pt x="169" y="77"/>
                    <a:pt x="168" y="77"/>
                  </a:cubicBezTo>
                  <a:cubicBezTo>
                    <a:pt x="154" y="75"/>
                    <a:pt x="154" y="75"/>
                    <a:pt x="154" y="75"/>
                  </a:cubicBezTo>
                  <a:cubicBezTo>
                    <a:pt x="154" y="71"/>
                    <a:pt x="153" y="68"/>
                    <a:pt x="152" y="65"/>
                  </a:cubicBezTo>
                  <a:cubicBezTo>
                    <a:pt x="163" y="57"/>
                    <a:pt x="163" y="57"/>
                    <a:pt x="163" y="57"/>
                  </a:cubicBezTo>
                  <a:cubicBezTo>
                    <a:pt x="164" y="56"/>
                    <a:pt x="165" y="55"/>
                    <a:pt x="165" y="54"/>
                  </a:cubicBezTo>
                  <a:cubicBezTo>
                    <a:pt x="165" y="54"/>
                    <a:pt x="165" y="53"/>
                    <a:pt x="165" y="53"/>
                  </a:cubicBezTo>
                  <a:cubicBezTo>
                    <a:pt x="164" y="52"/>
                    <a:pt x="163" y="51"/>
                    <a:pt x="161" y="52"/>
                  </a:cubicBezTo>
                  <a:cubicBezTo>
                    <a:pt x="147" y="54"/>
                    <a:pt x="147" y="54"/>
                    <a:pt x="147" y="54"/>
                  </a:cubicBezTo>
                  <a:cubicBezTo>
                    <a:pt x="146" y="51"/>
                    <a:pt x="144" y="48"/>
                    <a:pt x="142" y="45"/>
                  </a:cubicBezTo>
                  <a:cubicBezTo>
                    <a:pt x="151" y="34"/>
                    <a:pt x="151" y="34"/>
                    <a:pt x="151" y="34"/>
                  </a:cubicBezTo>
                  <a:cubicBezTo>
                    <a:pt x="151" y="34"/>
                    <a:pt x="152" y="33"/>
                    <a:pt x="152" y="32"/>
                  </a:cubicBezTo>
                  <a:cubicBezTo>
                    <a:pt x="152" y="31"/>
                    <a:pt x="151" y="31"/>
                    <a:pt x="151" y="30"/>
                  </a:cubicBezTo>
                  <a:cubicBezTo>
                    <a:pt x="150" y="29"/>
                    <a:pt x="148" y="29"/>
                    <a:pt x="147" y="30"/>
                  </a:cubicBezTo>
                  <a:cubicBezTo>
                    <a:pt x="135" y="36"/>
                    <a:pt x="135" y="36"/>
                    <a:pt x="135" y="36"/>
                  </a:cubicBezTo>
                  <a:cubicBezTo>
                    <a:pt x="132" y="34"/>
                    <a:pt x="130" y="32"/>
                    <a:pt x="127" y="30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5"/>
                  </a:cubicBezTo>
                  <a:cubicBezTo>
                    <a:pt x="132" y="14"/>
                    <a:pt x="132" y="13"/>
                    <a:pt x="131" y="13"/>
                  </a:cubicBezTo>
                  <a:cubicBezTo>
                    <a:pt x="129" y="12"/>
                    <a:pt x="128" y="12"/>
                    <a:pt x="127" y="14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4" y="22"/>
                    <a:pt x="111" y="21"/>
                    <a:pt x="108" y="20"/>
                  </a:cubicBezTo>
                  <a:cubicBezTo>
                    <a:pt x="108" y="6"/>
                    <a:pt x="108" y="6"/>
                    <a:pt x="108" y="6"/>
                  </a:cubicBezTo>
                  <a:cubicBezTo>
                    <a:pt x="108" y="5"/>
                    <a:pt x="108" y="5"/>
                    <a:pt x="108" y="5"/>
                  </a:cubicBezTo>
                  <a:cubicBezTo>
                    <a:pt x="108" y="4"/>
                    <a:pt x="107" y="3"/>
                    <a:pt x="106" y="2"/>
                  </a:cubicBezTo>
                  <a:cubicBezTo>
                    <a:pt x="105" y="2"/>
                    <a:pt x="103" y="3"/>
                    <a:pt x="103" y="4"/>
                  </a:cubicBezTo>
                  <a:cubicBezTo>
                    <a:pt x="96" y="17"/>
                    <a:pt x="96" y="17"/>
                    <a:pt x="96" y="17"/>
                  </a:cubicBezTo>
                  <a:cubicBezTo>
                    <a:pt x="93" y="16"/>
                    <a:pt x="90" y="16"/>
                    <a:pt x="86" y="16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1"/>
                    <a:pt x="81" y="0"/>
                    <a:pt x="79" y="0"/>
                  </a:cubicBezTo>
                  <a:cubicBezTo>
                    <a:pt x="78" y="0"/>
                    <a:pt x="77" y="1"/>
                    <a:pt x="77" y="3"/>
                  </a:cubicBezTo>
                  <a:cubicBezTo>
                    <a:pt x="77" y="3"/>
                    <a:pt x="77" y="3"/>
                    <a:pt x="77" y="3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1" y="17"/>
                    <a:pt x="68" y="18"/>
                    <a:pt x="65" y="19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6" y="6"/>
                    <a:pt x="55" y="5"/>
                    <a:pt x="53" y="6"/>
                  </a:cubicBezTo>
                  <a:cubicBezTo>
                    <a:pt x="52" y="6"/>
                    <a:pt x="52" y="7"/>
                    <a:pt x="52" y="9"/>
                  </a:cubicBezTo>
                  <a:cubicBezTo>
                    <a:pt x="52" y="9"/>
                    <a:pt x="52" y="9"/>
                    <a:pt x="52" y="10"/>
                  </a:cubicBezTo>
                  <a:cubicBezTo>
                    <a:pt x="54" y="23"/>
                    <a:pt x="54" y="23"/>
                    <a:pt x="54" y="23"/>
                  </a:cubicBezTo>
                  <a:cubicBezTo>
                    <a:pt x="51" y="25"/>
                    <a:pt x="48" y="27"/>
                    <a:pt x="45" y="29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3" y="19"/>
                    <a:pt x="32" y="19"/>
                    <a:pt x="30" y="20"/>
                  </a:cubicBezTo>
                  <a:cubicBezTo>
                    <a:pt x="30" y="20"/>
                    <a:pt x="29" y="21"/>
                    <a:pt x="29" y="22"/>
                  </a:cubicBezTo>
                  <a:cubicBezTo>
                    <a:pt x="29" y="23"/>
                    <a:pt x="30" y="23"/>
                    <a:pt x="30" y="2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34" y="39"/>
                    <a:pt x="32" y="41"/>
                    <a:pt x="30" y="44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5" y="38"/>
                    <a:pt x="14" y="39"/>
                    <a:pt x="13" y="40"/>
                  </a:cubicBezTo>
                  <a:cubicBezTo>
                    <a:pt x="13" y="41"/>
                    <a:pt x="12" y="41"/>
                    <a:pt x="12" y="42"/>
                  </a:cubicBezTo>
                  <a:cubicBezTo>
                    <a:pt x="12" y="42"/>
                    <a:pt x="13" y="43"/>
                    <a:pt x="14" y="4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2" y="57"/>
                    <a:pt x="21" y="60"/>
                    <a:pt x="20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4" y="62"/>
                    <a:pt x="3" y="63"/>
                    <a:pt x="2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7"/>
                    <a:pt x="3" y="68"/>
                    <a:pt x="4" y="68"/>
                  </a:cubicBezTo>
                  <a:cubicBezTo>
                    <a:pt x="17" y="74"/>
                    <a:pt x="17" y="74"/>
                    <a:pt x="17" y="74"/>
                  </a:cubicBezTo>
                  <a:cubicBezTo>
                    <a:pt x="16" y="78"/>
                    <a:pt x="16" y="81"/>
                    <a:pt x="16" y="84"/>
                  </a:cubicBezTo>
                  <a:cubicBezTo>
                    <a:pt x="3" y="89"/>
                    <a:pt x="3" y="89"/>
                    <a:pt x="3" y="89"/>
                  </a:cubicBezTo>
                  <a:cubicBezTo>
                    <a:pt x="1" y="89"/>
                    <a:pt x="0" y="90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3"/>
                    <a:pt x="2" y="94"/>
                    <a:pt x="3" y="94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9"/>
                    <a:pt x="18" y="103"/>
                    <a:pt x="19" y="106"/>
                  </a:cubicBezTo>
                  <a:cubicBezTo>
                    <a:pt x="8" y="114"/>
                    <a:pt x="8" y="114"/>
                    <a:pt x="8" y="114"/>
                  </a:cubicBezTo>
                  <a:cubicBezTo>
                    <a:pt x="7" y="114"/>
                    <a:pt x="6" y="115"/>
                    <a:pt x="6" y="116"/>
                  </a:cubicBezTo>
                  <a:cubicBezTo>
                    <a:pt x="6" y="117"/>
                    <a:pt x="6" y="117"/>
                    <a:pt x="6" y="118"/>
                  </a:cubicBezTo>
                  <a:cubicBezTo>
                    <a:pt x="7" y="119"/>
                    <a:pt x="8" y="120"/>
                    <a:pt x="10" y="119"/>
                  </a:cubicBezTo>
                  <a:cubicBezTo>
                    <a:pt x="24" y="117"/>
                    <a:pt x="24" y="117"/>
                    <a:pt x="24" y="117"/>
                  </a:cubicBezTo>
                  <a:cubicBezTo>
                    <a:pt x="25" y="120"/>
                    <a:pt x="27" y="123"/>
                    <a:pt x="29" y="125"/>
                  </a:cubicBezTo>
                  <a:cubicBezTo>
                    <a:pt x="20" y="137"/>
                    <a:pt x="20" y="137"/>
                    <a:pt x="20" y="137"/>
                  </a:cubicBezTo>
                  <a:cubicBezTo>
                    <a:pt x="20" y="137"/>
                    <a:pt x="19" y="138"/>
                    <a:pt x="19" y="139"/>
                  </a:cubicBezTo>
                  <a:cubicBezTo>
                    <a:pt x="19" y="139"/>
                    <a:pt x="20" y="140"/>
                    <a:pt x="20" y="140"/>
                  </a:cubicBezTo>
                  <a:cubicBezTo>
                    <a:pt x="21" y="142"/>
                    <a:pt x="23" y="142"/>
                    <a:pt x="24" y="141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9" y="137"/>
                    <a:pt x="41" y="139"/>
                    <a:pt x="44" y="141"/>
                  </a:cubicBezTo>
                  <a:cubicBezTo>
                    <a:pt x="39" y="154"/>
                    <a:pt x="39" y="154"/>
                    <a:pt x="39" y="154"/>
                  </a:cubicBezTo>
                  <a:cubicBezTo>
                    <a:pt x="39" y="155"/>
                    <a:pt x="39" y="155"/>
                    <a:pt x="39" y="156"/>
                  </a:cubicBezTo>
                  <a:cubicBezTo>
                    <a:pt x="39" y="157"/>
                    <a:pt x="39" y="157"/>
                    <a:pt x="40" y="158"/>
                  </a:cubicBezTo>
                  <a:cubicBezTo>
                    <a:pt x="42" y="159"/>
                    <a:pt x="43" y="158"/>
                    <a:pt x="44" y="157"/>
                  </a:cubicBezTo>
                  <a:cubicBezTo>
                    <a:pt x="54" y="147"/>
                    <a:pt x="54" y="147"/>
                    <a:pt x="54" y="147"/>
                  </a:cubicBezTo>
                  <a:cubicBezTo>
                    <a:pt x="57" y="149"/>
                    <a:pt x="60" y="150"/>
                    <a:pt x="63" y="151"/>
                  </a:cubicBezTo>
                  <a:cubicBezTo>
                    <a:pt x="63" y="165"/>
                    <a:pt x="63" y="165"/>
                    <a:pt x="63" y="165"/>
                  </a:cubicBezTo>
                  <a:cubicBezTo>
                    <a:pt x="63" y="165"/>
                    <a:pt x="63" y="166"/>
                    <a:pt x="63" y="166"/>
                  </a:cubicBezTo>
                  <a:cubicBezTo>
                    <a:pt x="63" y="167"/>
                    <a:pt x="64" y="168"/>
                    <a:pt x="65" y="168"/>
                  </a:cubicBezTo>
                  <a:cubicBezTo>
                    <a:pt x="66" y="169"/>
                    <a:pt x="68" y="168"/>
                    <a:pt x="68" y="166"/>
                  </a:cubicBezTo>
                  <a:cubicBezTo>
                    <a:pt x="75" y="154"/>
                    <a:pt x="75" y="154"/>
                    <a:pt x="75" y="154"/>
                  </a:cubicBezTo>
                  <a:cubicBezTo>
                    <a:pt x="78" y="154"/>
                    <a:pt x="81" y="155"/>
                    <a:pt x="85" y="155"/>
                  </a:cubicBezTo>
                  <a:cubicBezTo>
                    <a:pt x="89" y="168"/>
                    <a:pt x="89" y="168"/>
                    <a:pt x="89" y="168"/>
                  </a:cubicBezTo>
                  <a:cubicBezTo>
                    <a:pt x="89" y="170"/>
                    <a:pt x="90" y="171"/>
                    <a:pt x="91" y="171"/>
                  </a:cubicBezTo>
                  <a:cubicBezTo>
                    <a:pt x="91" y="171"/>
                    <a:pt x="92" y="171"/>
                    <a:pt x="92" y="171"/>
                  </a:cubicBezTo>
                  <a:cubicBezTo>
                    <a:pt x="93" y="171"/>
                    <a:pt x="94" y="169"/>
                    <a:pt x="94" y="168"/>
                  </a:cubicBezTo>
                  <a:cubicBezTo>
                    <a:pt x="94" y="168"/>
                    <a:pt x="94" y="168"/>
                    <a:pt x="94" y="168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100" y="153"/>
                    <a:pt x="103" y="153"/>
                    <a:pt x="106" y="152"/>
                  </a:cubicBezTo>
                  <a:cubicBezTo>
                    <a:pt x="114" y="163"/>
                    <a:pt x="114" y="163"/>
                    <a:pt x="114" y="163"/>
                  </a:cubicBezTo>
                  <a:cubicBezTo>
                    <a:pt x="115" y="165"/>
                    <a:pt x="116" y="165"/>
                    <a:pt x="118" y="165"/>
                  </a:cubicBezTo>
                  <a:cubicBezTo>
                    <a:pt x="119" y="164"/>
                    <a:pt x="119" y="163"/>
                    <a:pt x="119" y="162"/>
                  </a:cubicBezTo>
                  <a:cubicBezTo>
                    <a:pt x="119" y="162"/>
                    <a:pt x="119" y="161"/>
                    <a:pt x="119" y="161"/>
                  </a:cubicBezTo>
                  <a:cubicBezTo>
                    <a:pt x="117" y="147"/>
                    <a:pt x="117" y="147"/>
                    <a:pt x="117" y="147"/>
                  </a:cubicBezTo>
                  <a:cubicBezTo>
                    <a:pt x="120" y="146"/>
                    <a:pt x="123" y="144"/>
                    <a:pt x="126" y="142"/>
                  </a:cubicBezTo>
                  <a:cubicBezTo>
                    <a:pt x="137" y="150"/>
                    <a:pt x="137" y="150"/>
                    <a:pt x="137" y="150"/>
                  </a:cubicBezTo>
                  <a:cubicBezTo>
                    <a:pt x="138" y="152"/>
                    <a:pt x="139" y="152"/>
                    <a:pt x="141" y="151"/>
                  </a:cubicBezTo>
                  <a:cubicBezTo>
                    <a:pt x="141" y="150"/>
                    <a:pt x="142" y="149"/>
                    <a:pt x="142" y="149"/>
                  </a:cubicBezTo>
                  <a:cubicBezTo>
                    <a:pt x="142" y="148"/>
                    <a:pt x="141" y="147"/>
                    <a:pt x="141" y="147"/>
                  </a:cubicBezTo>
                  <a:cubicBezTo>
                    <a:pt x="135" y="134"/>
                    <a:pt x="135" y="134"/>
                    <a:pt x="135" y="134"/>
                  </a:cubicBezTo>
                  <a:cubicBezTo>
                    <a:pt x="137" y="132"/>
                    <a:pt x="139" y="130"/>
                    <a:pt x="141" y="127"/>
                  </a:cubicBezTo>
                  <a:cubicBezTo>
                    <a:pt x="154" y="131"/>
                    <a:pt x="154" y="131"/>
                    <a:pt x="154" y="131"/>
                  </a:cubicBezTo>
                  <a:cubicBezTo>
                    <a:pt x="156" y="132"/>
                    <a:pt x="157" y="132"/>
                    <a:pt x="158" y="131"/>
                  </a:cubicBezTo>
                  <a:cubicBezTo>
                    <a:pt x="158" y="130"/>
                    <a:pt x="159" y="130"/>
                    <a:pt x="159" y="129"/>
                  </a:cubicBezTo>
                  <a:cubicBezTo>
                    <a:pt x="159" y="128"/>
                    <a:pt x="158" y="127"/>
                    <a:pt x="157" y="127"/>
                  </a:cubicBezTo>
                  <a:cubicBezTo>
                    <a:pt x="147" y="117"/>
                    <a:pt x="147" y="117"/>
                    <a:pt x="147" y="117"/>
                  </a:cubicBezTo>
                  <a:cubicBezTo>
                    <a:pt x="149" y="114"/>
                    <a:pt x="150" y="111"/>
                    <a:pt x="151" y="108"/>
                  </a:cubicBezTo>
                  <a:cubicBezTo>
                    <a:pt x="165" y="108"/>
                    <a:pt x="165" y="108"/>
                    <a:pt x="165" y="108"/>
                  </a:cubicBezTo>
                  <a:cubicBezTo>
                    <a:pt x="167" y="108"/>
                    <a:pt x="168" y="107"/>
                    <a:pt x="169" y="106"/>
                  </a:cubicBezTo>
                  <a:cubicBezTo>
                    <a:pt x="169" y="106"/>
                    <a:pt x="169" y="105"/>
                    <a:pt x="169" y="105"/>
                  </a:cubicBezTo>
                  <a:cubicBezTo>
                    <a:pt x="169" y="104"/>
                    <a:pt x="168" y="103"/>
                    <a:pt x="167" y="103"/>
                  </a:cubicBezTo>
                  <a:cubicBezTo>
                    <a:pt x="154" y="96"/>
                    <a:pt x="154" y="96"/>
                    <a:pt x="154" y="96"/>
                  </a:cubicBezTo>
                  <a:cubicBezTo>
                    <a:pt x="155" y="93"/>
                    <a:pt x="155" y="90"/>
                    <a:pt x="155" y="86"/>
                  </a:cubicBezTo>
                  <a:lnTo>
                    <a:pt x="168" y="82"/>
                  </a:lnTo>
                  <a:close/>
                  <a:moveTo>
                    <a:pt x="86" y="101"/>
                  </a:moveTo>
                  <a:cubicBezTo>
                    <a:pt x="77" y="101"/>
                    <a:pt x="70" y="94"/>
                    <a:pt x="70" y="85"/>
                  </a:cubicBezTo>
                  <a:cubicBezTo>
                    <a:pt x="70" y="77"/>
                    <a:pt x="77" y="70"/>
                    <a:pt x="86" y="70"/>
                  </a:cubicBezTo>
                  <a:cubicBezTo>
                    <a:pt x="94" y="70"/>
                    <a:pt x="101" y="77"/>
                    <a:pt x="101" y="85"/>
                  </a:cubicBezTo>
                  <a:cubicBezTo>
                    <a:pt x="101" y="94"/>
                    <a:pt x="94" y="101"/>
                    <a:pt x="86" y="10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53640" bIns="53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0"/>
            <p:cNvSpPr/>
            <p:nvPr/>
          </p:nvSpPr>
          <p:spPr>
            <a:xfrm>
              <a:off x="6820560" y="1698840"/>
              <a:ext cx="75240" cy="756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21" h="121">
                  <a:moveTo>
                    <a:pt x="120" y="58"/>
                  </a:moveTo>
                  <a:cubicBezTo>
                    <a:pt x="121" y="58"/>
                    <a:pt x="121" y="57"/>
                    <a:pt x="121" y="56"/>
                  </a:cubicBezTo>
                  <a:cubicBezTo>
                    <a:pt x="121" y="56"/>
                    <a:pt x="121" y="56"/>
                    <a:pt x="121" y="56"/>
                  </a:cubicBezTo>
                  <a:cubicBezTo>
                    <a:pt x="121" y="55"/>
                    <a:pt x="120" y="54"/>
                    <a:pt x="119" y="54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09" y="50"/>
                    <a:pt x="109" y="48"/>
                    <a:pt x="108" y="46"/>
                  </a:cubicBezTo>
                  <a:cubicBezTo>
                    <a:pt x="116" y="40"/>
                    <a:pt x="116" y="40"/>
                    <a:pt x="116" y="40"/>
                  </a:cubicBezTo>
                  <a:cubicBezTo>
                    <a:pt x="117" y="40"/>
                    <a:pt x="117" y="39"/>
                    <a:pt x="117" y="38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17" y="37"/>
                    <a:pt x="116" y="36"/>
                    <a:pt x="115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4" y="36"/>
                    <a:pt x="102" y="34"/>
                    <a:pt x="101" y="32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4"/>
                    <a:pt x="108" y="23"/>
                    <a:pt x="108" y="23"/>
                  </a:cubicBezTo>
                  <a:cubicBezTo>
                    <a:pt x="108" y="22"/>
                    <a:pt x="108" y="22"/>
                    <a:pt x="107" y="21"/>
                  </a:cubicBezTo>
                  <a:cubicBezTo>
                    <a:pt x="107" y="21"/>
                    <a:pt x="105" y="20"/>
                    <a:pt x="105" y="21"/>
                  </a:cubicBezTo>
                  <a:cubicBezTo>
                    <a:pt x="96" y="26"/>
                    <a:pt x="96" y="26"/>
                    <a:pt x="96" y="26"/>
                  </a:cubicBezTo>
                  <a:cubicBezTo>
                    <a:pt x="94" y="24"/>
                    <a:pt x="92" y="22"/>
                    <a:pt x="90" y="21"/>
                  </a:cubicBezTo>
                  <a:cubicBezTo>
                    <a:pt x="94" y="12"/>
                    <a:pt x="94" y="12"/>
                    <a:pt x="94" y="12"/>
                  </a:cubicBezTo>
                  <a:cubicBezTo>
                    <a:pt x="94" y="11"/>
                    <a:pt x="94" y="11"/>
                    <a:pt x="94" y="11"/>
                  </a:cubicBezTo>
                  <a:cubicBezTo>
                    <a:pt x="94" y="10"/>
                    <a:pt x="94" y="9"/>
                    <a:pt x="93" y="9"/>
                  </a:cubicBezTo>
                  <a:cubicBezTo>
                    <a:pt x="92" y="8"/>
                    <a:pt x="91" y="9"/>
                    <a:pt x="90" y="10"/>
                  </a:cubicBezTo>
                  <a:cubicBezTo>
                    <a:pt x="83" y="17"/>
                    <a:pt x="83" y="17"/>
                    <a:pt x="83" y="17"/>
                  </a:cubicBezTo>
                  <a:cubicBezTo>
                    <a:pt x="81" y="15"/>
                    <a:pt x="79" y="15"/>
                    <a:pt x="77" y="14"/>
                  </a:cubicBezTo>
                  <a:cubicBezTo>
                    <a:pt x="77" y="4"/>
                    <a:pt x="77" y="4"/>
                    <a:pt x="77" y="4"/>
                  </a:cubicBezTo>
                  <a:cubicBezTo>
                    <a:pt x="77" y="4"/>
                    <a:pt x="77" y="4"/>
                    <a:pt x="77" y="3"/>
                  </a:cubicBezTo>
                  <a:cubicBezTo>
                    <a:pt x="77" y="2"/>
                    <a:pt x="76" y="2"/>
                    <a:pt x="75" y="1"/>
                  </a:cubicBezTo>
                  <a:cubicBezTo>
                    <a:pt x="74" y="1"/>
                    <a:pt x="73" y="2"/>
                    <a:pt x="73" y="3"/>
                  </a:cubicBezTo>
                  <a:cubicBezTo>
                    <a:pt x="69" y="12"/>
                    <a:pt x="69" y="12"/>
                    <a:pt x="69" y="12"/>
                  </a:cubicBezTo>
                  <a:cubicBezTo>
                    <a:pt x="66" y="11"/>
                    <a:pt x="64" y="11"/>
                    <a:pt x="61" y="11"/>
                  </a:cubicBezTo>
                  <a:cubicBezTo>
                    <a:pt x="59" y="2"/>
                    <a:pt x="59" y="2"/>
                    <a:pt x="59" y="2"/>
                  </a:cubicBezTo>
                  <a:cubicBezTo>
                    <a:pt x="58" y="1"/>
                    <a:pt x="58" y="0"/>
                    <a:pt x="56" y="0"/>
                  </a:cubicBezTo>
                  <a:cubicBezTo>
                    <a:pt x="55" y="0"/>
                    <a:pt x="55" y="1"/>
                    <a:pt x="55" y="2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51" y="12"/>
                    <a:pt x="48" y="13"/>
                    <a:pt x="46" y="13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40" y="4"/>
                    <a:pt x="39" y="4"/>
                    <a:pt x="38" y="4"/>
                  </a:cubicBezTo>
                  <a:cubicBezTo>
                    <a:pt x="37" y="4"/>
                    <a:pt x="37" y="5"/>
                    <a:pt x="37" y="6"/>
                  </a:cubicBezTo>
                  <a:cubicBezTo>
                    <a:pt x="37" y="6"/>
                    <a:pt x="37" y="6"/>
                    <a:pt x="37" y="7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36" y="18"/>
                    <a:pt x="34" y="19"/>
                    <a:pt x="32" y="20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3"/>
                    <a:pt x="22" y="13"/>
                    <a:pt x="22" y="14"/>
                  </a:cubicBezTo>
                  <a:cubicBezTo>
                    <a:pt x="21" y="14"/>
                    <a:pt x="21" y="15"/>
                    <a:pt x="21" y="15"/>
                  </a:cubicBezTo>
                  <a:cubicBezTo>
                    <a:pt x="21" y="16"/>
                    <a:pt x="21" y="16"/>
                    <a:pt x="21" y="17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4" y="27"/>
                    <a:pt x="23" y="29"/>
                    <a:pt x="21" y="31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0" y="27"/>
                    <a:pt x="9" y="28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9" y="30"/>
                    <a:pt x="9" y="31"/>
                    <a:pt x="10" y="31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6" y="40"/>
                    <a:pt x="15" y="42"/>
                    <a:pt x="14" y="45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" y="44"/>
                    <a:pt x="2" y="45"/>
                    <a:pt x="2" y="46"/>
                  </a:cubicBezTo>
                  <a:cubicBezTo>
                    <a:pt x="2" y="46"/>
                    <a:pt x="2" y="46"/>
                    <a:pt x="2" y="46"/>
                  </a:cubicBezTo>
                  <a:cubicBezTo>
                    <a:pt x="2" y="47"/>
                    <a:pt x="2" y="48"/>
                    <a:pt x="3" y="48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5"/>
                    <a:pt x="11" y="57"/>
                    <a:pt x="11" y="60"/>
                  </a:cubicBezTo>
                  <a:cubicBezTo>
                    <a:pt x="2" y="63"/>
                    <a:pt x="2" y="63"/>
                    <a:pt x="2" y="63"/>
                  </a:cubicBezTo>
                  <a:cubicBezTo>
                    <a:pt x="1" y="63"/>
                    <a:pt x="0" y="64"/>
                    <a:pt x="0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6"/>
                    <a:pt x="1" y="67"/>
                    <a:pt x="2" y="67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12" y="71"/>
                    <a:pt x="13" y="73"/>
                    <a:pt x="14" y="75"/>
                  </a:cubicBezTo>
                  <a:cubicBezTo>
                    <a:pt x="5" y="81"/>
                    <a:pt x="5" y="81"/>
                    <a:pt x="5" y="81"/>
                  </a:cubicBezTo>
                  <a:cubicBezTo>
                    <a:pt x="5" y="81"/>
                    <a:pt x="4" y="82"/>
                    <a:pt x="4" y="83"/>
                  </a:cubicBezTo>
                  <a:cubicBezTo>
                    <a:pt x="4" y="83"/>
                    <a:pt x="4" y="83"/>
                    <a:pt x="4" y="83"/>
                  </a:cubicBezTo>
                  <a:cubicBezTo>
                    <a:pt x="5" y="84"/>
                    <a:pt x="6" y="85"/>
                    <a:pt x="7" y="84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8" y="85"/>
                    <a:pt x="19" y="87"/>
                    <a:pt x="20" y="89"/>
                  </a:cubicBezTo>
                  <a:cubicBezTo>
                    <a:pt x="14" y="97"/>
                    <a:pt x="14" y="97"/>
                    <a:pt x="14" y="97"/>
                  </a:cubicBezTo>
                  <a:cubicBezTo>
                    <a:pt x="14" y="97"/>
                    <a:pt x="14" y="98"/>
                    <a:pt x="14" y="98"/>
                  </a:cubicBezTo>
                  <a:cubicBezTo>
                    <a:pt x="14" y="99"/>
                    <a:pt x="14" y="99"/>
                    <a:pt x="14" y="100"/>
                  </a:cubicBezTo>
                  <a:cubicBezTo>
                    <a:pt x="15" y="100"/>
                    <a:pt x="16" y="101"/>
                    <a:pt x="17" y="100"/>
                  </a:cubicBezTo>
                  <a:cubicBezTo>
                    <a:pt x="26" y="95"/>
                    <a:pt x="26" y="95"/>
                    <a:pt x="26" y="95"/>
                  </a:cubicBezTo>
                  <a:cubicBezTo>
                    <a:pt x="28" y="97"/>
                    <a:pt x="29" y="99"/>
                    <a:pt x="31" y="100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28" y="110"/>
                    <a:pt x="28" y="110"/>
                    <a:pt x="28" y="110"/>
                  </a:cubicBezTo>
                  <a:cubicBezTo>
                    <a:pt x="28" y="111"/>
                    <a:pt x="28" y="112"/>
                    <a:pt x="29" y="112"/>
                  </a:cubicBezTo>
                  <a:cubicBezTo>
                    <a:pt x="30" y="113"/>
                    <a:pt x="31" y="112"/>
                    <a:pt x="31" y="112"/>
                  </a:cubicBezTo>
                  <a:cubicBezTo>
                    <a:pt x="38" y="104"/>
                    <a:pt x="38" y="104"/>
                    <a:pt x="38" y="104"/>
                  </a:cubicBezTo>
                  <a:cubicBezTo>
                    <a:pt x="40" y="106"/>
                    <a:pt x="43" y="106"/>
                    <a:pt x="45" y="107"/>
                  </a:cubicBezTo>
                  <a:cubicBezTo>
                    <a:pt x="45" y="117"/>
                    <a:pt x="45" y="117"/>
                    <a:pt x="45" y="117"/>
                  </a:cubicBezTo>
                  <a:cubicBezTo>
                    <a:pt x="45" y="117"/>
                    <a:pt x="45" y="117"/>
                    <a:pt x="45" y="118"/>
                  </a:cubicBezTo>
                  <a:cubicBezTo>
                    <a:pt x="45" y="119"/>
                    <a:pt x="45" y="119"/>
                    <a:pt x="46" y="120"/>
                  </a:cubicBezTo>
                  <a:cubicBezTo>
                    <a:pt x="47" y="120"/>
                    <a:pt x="48" y="119"/>
                    <a:pt x="49" y="118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5" y="110"/>
                    <a:pt x="58" y="110"/>
                    <a:pt x="60" y="110"/>
                  </a:cubicBezTo>
                  <a:cubicBezTo>
                    <a:pt x="63" y="119"/>
                    <a:pt x="63" y="119"/>
                    <a:pt x="63" y="119"/>
                  </a:cubicBezTo>
                  <a:cubicBezTo>
                    <a:pt x="63" y="120"/>
                    <a:pt x="64" y="121"/>
                    <a:pt x="65" y="121"/>
                  </a:cubicBezTo>
                  <a:cubicBezTo>
                    <a:pt x="65" y="121"/>
                    <a:pt x="65" y="121"/>
                    <a:pt x="65" y="121"/>
                  </a:cubicBezTo>
                  <a:cubicBezTo>
                    <a:pt x="66" y="121"/>
                    <a:pt x="67" y="120"/>
                    <a:pt x="67" y="119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8" y="109"/>
                    <a:pt x="68" y="109"/>
                    <a:pt x="68" y="109"/>
                  </a:cubicBezTo>
                  <a:cubicBezTo>
                    <a:pt x="71" y="109"/>
                    <a:pt x="73" y="108"/>
                    <a:pt x="75" y="108"/>
                  </a:cubicBezTo>
                  <a:cubicBezTo>
                    <a:pt x="81" y="116"/>
                    <a:pt x="81" y="116"/>
                    <a:pt x="81" y="116"/>
                  </a:cubicBezTo>
                  <a:cubicBezTo>
                    <a:pt x="82" y="117"/>
                    <a:pt x="83" y="117"/>
                    <a:pt x="84" y="117"/>
                  </a:cubicBezTo>
                  <a:cubicBezTo>
                    <a:pt x="84" y="117"/>
                    <a:pt x="85" y="116"/>
                    <a:pt x="85" y="115"/>
                  </a:cubicBezTo>
                  <a:cubicBezTo>
                    <a:pt x="85" y="115"/>
                    <a:pt x="85" y="115"/>
                    <a:pt x="85" y="114"/>
                  </a:cubicBezTo>
                  <a:cubicBezTo>
                    <a:pt x="83" y="104"/>
                    <a:pt x="83" y="104"/>
                    <a:pt x="83" y="104"/>
                  </a:cubicBezTo>
                  <a:cubicBezTo>
                    <a:pt x="85" y="103"/>
                    <a:pt x="87" y="102"/>
                    <a:pt x="89" y="101"/>
                  </a:cubicBezTo>
                  <a:cubicBezTo>
                    <a:pt x="97" y="107"/>
                    <a:pt x="97" y="107"/>
                    <a:pt x="97" y="107"/>
                  </a:cubicBezTo>
                  <a:cubicBezTo>
                    <a:pt x="98" y="108"/>
                    <a:pt x="99" y="108"/>
                    <a:pt x="100" y="107"/>
                  </a:cubicBezTo>
                  <a:cubicBezTo>
                    <a:pt x="100" y="107"/>
                    <a:pt x="101" y="106"/>
                    <a:pt x="101" y="106"/>
                  </a:cubicBezTo>
                  <a:cubicBezTo>
                    <a:pt x="101" y="105"/>
                    <a:pt x="100" y="105"/>
                    <a:pt x="100" y="104"/>
                  </a:cubicBezTo>
                  <a:cubicBezTo>
                    <a:pt x="96" y="95"/>
                    <a:pt x="96" y="95"/>
                    <a:pt x="96" y="95"/>
                  </a:cubicBezTo>
                  <a:cubicBezTo>
                    <a:pt x="97" y="94"/>
                    <a:pt x="99" y="92"/>
                    <a:pt x="100" y="90"/>
                  </a:cubicBezTo>
                  <a:cubicBezTo>
                    <a:pt x="110" y="93"/>
                    <a:pt x="110" y="93"/>
                    <a:pt x="110" y="93"/>
                  </a:cubicBezTo>
                  <a:cubicBezTo>
                    <a:pt x="111" y="94"/>
                    <a:pt x="112" y="94"/>
                    <a:pt x="112" y="93"/>
                  </a:cubicBezTo>
                  <a:cubicBezTo>
                    <a:pt x="113" y="92"/>
                    <a:pt x="113" y="92"/>
                    <a:pt x="113" y="92"/>
                  </a:cubicBezTo>
                  <a:cubicBezTo>
                    <a:pt x="113" y="91"/>
                    <a:pt x="112" y="90"/>
                    <a:pt x="112" y="90"/>
                  </a:cubicBezTo>
                  <a:cubicBezTo>
                    <a:pt x="105" y="83"/>
                    <a:pt x="105" y="83"/>
                    <a:pt x="105" y="83"/>
                  </a:cubicBezTo>
                  <a:cubicBezTo>
                    <a:pt x="106" y="81"/>
                    <a:pt x="107" y="79"/>
                    <a:pt x="107" y="76"/>
                  </a:cubicBezTo>
                  <a:cubicBezTo>
                    <a:pt x="117" y="77"/>
                    <a:pt x="117" y="77"/>
                    <a:pt x="117" y="77"/>
                  </a:cubicBezTo>
                  <a:cubicBezTo>
                    <a:pt x="118" y="77"/>
                    <a:pt x="120" y="76"/>
                    <a:pt x="120" y="75"/>
                  </a:cubicBezTo>
                  <a:cubicBezTo>
                    <a:pt x="120" y="75"/>
                    <a:pt x="120" y="75"/>
                    <a:pt x="120" y="75"/>
                  </a:cubicBezTo>
                  <a:cubicBezTo>
                    <a:pt x="120" y="74"/>
                    <a:pt x="119" y="73"/>
                    <a:pt x="118" y="73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10" y="66"/>
                    <a:pt x="110" y="64"/>
                    <a:pt x="110" y="61"/>
                  </a:cubicBezTo>
                  <a:lnTo>
                    <a:pt x="120" y="58"/>
                  </a:lnTo>
                  <a:close/>
                  <a:moveTo>
                    <a:pt x="61" y="72"/>
                  </a:moveTo>
                  <a:cubicBezTo>
                    <a:pt x="55" y="72"/>
                    <a:pt x="50" y="67"/>
                    <a:pt x="50" y="61"/>
                  </a:cubicBezTo>
                  <a:cubicBezTo>
                    <a:pt x="50" y="54"/>
                    <a:pt x="55" y="49"/>
                    <a:pt x="61" y="49"/>
                  </a:cubicBezTo>
                  <a:cubicBezTo>
                    <a:pt x="67" y="49"/>
                    <a:pt x="72" y="54"/>
                    <a:pt x="72" y="61"/>
                  </a:cubicBezTo>
                  <a:cubicBezTo>
                    <a:pt x="72" y="67"/>
                    <a:pt x="67" y="72"/>
                    <a:pt x="61" y="7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21"/>
            <p:cNvSpPr/>
            <p:nvPr/>
          </p:nvSpPr>
          <p:spPr>
            <a:xfrm>
              <a:off x="6866640" y="1834200"/>
              <a:ext cx="28080" cy="2844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22"/>
            <p:cNvSpPr/>
            <p:nvPr/>
          </p:nvSpPr>
          <p:spPr>
            <a:xfrm>
              <a:off x="6746760" y="1889280"/>
              <a:ext cx="19080" cy="1944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840" bIns="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3"/>
            <p:cNvSpPr/>
            <p:nvPr/>
          </p:nvSpPr>
          <p:spPr>
            <a:xfrm>
              <a:off x="6581160" y="1830600"/>
              <a:ext cx="447120" cy="44388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43880"/>
                <a:gd name="textAreaBottom" fmla="*/ 444240 h 443880"/>
              </a:gdLst>
              <a:ahLst/>
              <a:rect l="textAreaLeft" t="textAreaTop" r="textAreaRight" b="textAreaBottom"/>
              <a:pathLst>
                <a:path w="718" h="709">
                  <a:moveTo>
                    <a:pt x="606" y="330"/>
                  </a:moveTo>
                  <a:cubicBezTo>
                    <a:pt x="718" y="140"/>
                    <a:pt x="627" y="0"/>
                    <a:pt x="627" y="0"/>
                  </a:cubicBezTo>
                  <a:cubicBezTo>
                    <a:pt x="578" y="0"/>
                    <a:pt x="578" y="0"/>
                    <a:pt x="578" y="0"/>
                  </a:cubicBezTo>
                  <a:cubicBezTo>
                    <a:pt x="579" y="4"/>
                    <a:pt x="580" y="9"/>
                    <a:pt x="581" y="13"/>
                  </a:cubicBezTo>
                  <a:cubicBezTo>
                    <a:pt x="601" y="16"/>
                    <a:pt x="601" y="16"/>
                    <a:pt x="601" y="16"/>
                  </a:cubicBezTo>
                  <a:cubicBezTo>
                    <a:pt x="603" y="16"/>
                    <a:pt x="605" y="18"/>
                    <a:pt x="605" y="20"/>
                  </a:cubicBezTo>
                  <a:cubicBezTo>
                    <a:pt x="605" y="20"/>
                    <a:pt x="605" y="20"/>
                    <a:pt x="605" y="20"/>
                  </a:cubicBezTo>
                  <a:cubicBezTo>
                    <a:pt x="605" y="23"/>
                    <a:pt x="604" y="24"/>
                    <a:pt x="601" y="24"/>
                  </a:cubicBezTo>
                  <a:cubicBezTo>
                    <a:pt x="582" y="30"/>
                    <a:pt x="582" y="30"/>
                    <a:pt x="582" y="30"/>
                  </a:cubicBezTo>
                  <a:cubicBezTo>
                    <a:pt x="582" y="35"/>
                    <a:pt x="581" y="40"/>
                    <a:pt x="581" y="45"/>
                  </a:cubicBezTo>
                  <a:cubicBezTo>
                    <a:pt x="599" y="54"/>
                    <a:pt x="599" y="54"/>
                    <a:pt x="599" y="54"/>
                  </a:cubicBezTo>
                  <a:cubicBezTo>
                    <a:pt x="601" y="55"/>
                    <a:pt x="602" y="56"/>
                    <a:pt x="602" y="58"/>
                  </a:cubicBezTo>
                  <a:cubicBezTo>
                    <a:pt x="602" y="58"/>
                    <a:pt x="602" y="59"/>
                    <a:pt x="602" y="59"/>
                  </a:cubicBezTo>
                  <a:cubicBezTo>
                    <a:pt x="601" y="61"/>
                    <a:pt x="599" y="62"/>
                    <a:pt x="597" y="62"/>
                  </a:cubicBezTo>
                  <a:cubicBezTo>
                    <a:pt x="577" y="62"/>
                    <a:pt x="577" y="62"/>
                    <a:pt x="577" y="62"/>
                  </a:cubicBezTo>
                  <a:cubicBezTo>
                    <a:pt x="575" y="66"/>
                    <a:pt x="573" y="71"/>
                    <a:pt x="571" y="75"/>
                  </a:cubicBezTo>
                  <a:cubicBezTo>
                    <a:pt x="585" y="89"/>
                    <a:pt x="585" y="89"/>
                    <a:pt x="585" y="89"/>
                  </a:cubicBezTo>
                  <a:cubicBezTo>
                    <a:pt x="587" y="90"/>
                    <a:pt x="587" y="91"/>
                    <a:pt x="587" y="93"/>
                  </a:cubicBezTo>
                  <a:cubicBezTo>
                    <a:pt x="587" y="94"/>
                    <a:pt x="587" y="94"/>
                    <a:pt x="587" y="95"/>
                  </a:cubicBezTo>
                  <a:cubicBezTo>
                    <a:pt x="585" y="97"/>
                    <a:pt x="583" y="97"/>
                    <a:pt x="581" y="96"/>
                  </a:cubicBezTo>
                  <a:cubicBezTo>
                    <a:pt x="562" y="90"/>
                    <a:pt x="562" y="90"/>
                    <a:pt x="562" y="90"/>
                  </a:cubicBezTo>
                  <a:cubicBezTo>
                    <a:pt x="559" y="94"/>
                    <a:pt x="556" y="97"/>
                    <a:pt x="552" y="101"/>
                  </a:cubicBezTo>
                  <a:cubicBezTo>
                    <a:pt x="562" y="119"/>
                    <a:pt x="562" y="119"/>
                    <a:pt x="562" y="119"/>
                  </a:cubicBezTo>
                  <a:cubicBezTo>
                    <a:pt x="562" y="120"/>
                    <a:pt x="563" y="120"/>
                    <a:pt x="563" y="121"/>
                  </a:cubicBezTo>
                  <a:cubicBezTo>
                    <a:pt x="563" y="122"/>
                    <a:pt x="562" y="124"/>
                    <a:pt x="561" y="124"/>
                  </a:cubicBezTo>
                  <a:cubicBezTo>
                    <a:pt x="559" y="126"/>
                    <a:pt x="557" y="126"/>
                    <a:pt x="555" y="124"/>
                  </a:cubicBezTo>
                  <a:cubicBezTo>
                    <a:pt x="539" y="112"/>
                    <a:pt x="539" y="112"/>
                    <a:pt x="539" y="112"/>
                  </a:cubicBezTo>
                  <a:cubicBezTo>
                    <a:pt x="535" y="114"/>
                    <a:pt x="531" y="117"/>
                    <a:pt x="527" y="119"/>
                  </a:cubicBezTo>
                  <a:cubicBezTo>
                    <a:pt x="530" y="139"/>
                    <a:pt x="530" y="139"/>
                    <a:pt x="530" y="139"/>
                  </a:cubicBezTo>
                  <a:cubicBezTo>
                    <a:pt x="530" y="140"/>
                    <a:pt x="530" y="140"/>
                    <a:pt x="530" y="141"/>
                  </a:cubicBezTo>
                  <a:cubicBezTo>
                    <a:pt x="530" y="142"/>
                    <a:pt x="529" y="144"/>
                    <a:pt x="528" y="145"/>
                  </a:cubicBezTo>
                  <a:cubicBezTo>
                    <a:pt x="526" y="145"/>
                    <a:pt x="523" y="144"/>
                    <a:pt x="522" y="142"/>
                  </a:cubicBezTo>
                  <a:cubicBezTo>
                    <a:pt x="511" y="126"/>
                    <a:pt x="511" y="126"/>
                    <a:pt x="511" y="126"/>
                  </a:cubicBezTo>
                  <a:cubicBezTo>
                    <a:pt x="506" y="127"/>
                    <a:pt x="501" y="128"/>
                    <a:pt x="497" y="12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51"/>
                    <a:pt x="492" y="153"/>
                    <a:pt x="490" y="153"/>
                  </a:cubicBezTo>
                  <a:cubicBezTo>
                    <a:pt x="490" y="153"/>
                    <a:pt x="490" y="153"/>
                    <a:pt x="489" y="153"/>
                  </a:cubicBezTo>
                  <a:cubicBezTo>
                    <a:pt x="487" y="153"/>
                    <a:pt x="486" y="152"/>
                    <a:pt x="485" y="150"/>
                  </a:cubicBezTo>
                  <a:cubicBezTo>
                    <a:pt x="479" y="130"/>
                    <a:pt x="479" y="130"/>
                    <a:pt x="479" y="130"/>
                  </a:cubicBezTo>
                  <a:cubicBezTo>
                    <a:pt x="475" y="130"/>
                    <a:pt x="470" y="130"/>
                    <a:pt x="465" y="129"/>
                  </a:cubicBezTo>
                  <a:cubicBezTo>
                    <a:pt x="456" y="147"/>
                    <a:pt x="456" y="147"/>
                    <a:pt x="456" y="147"/>
                  </a:cubicBezTo>
                  <a:cubicBezTo>
                    <a:pt x="455" y="149"/>
                    <a:pt x="453" y="151"/>
                    <a:pt x="451" y="150"/>
                  </a:cubicBezTo>
                  <a:cubicBezTo>
                    <a:pt x="449" y="150"/>
                    <a:pt x="448" y="148"/>
                    <a:pt x="448" y="146"/>
                  </a:cubicBezTo>
                  <a:cubicBezTo>
                    <a:pt x="448" y="146"/>
                    <a:pt x="448" y="146"/>
                    <a:pt x="448" y="145"/>
                  </a:cubicBezTo>
                  <a:cubicBezTo>
                    <a:pt x="448" y="125"/>
                    <a:pt x="448" y="125"/>
                    <a:pt x="448" y="125"/>
                  </a:cubicBezTo>
                  <a:cubicBezTo>
                    <a:pt x="444" y="123"/>
                    <a:pt x="439" y="121"/>
                    <a:pt x="435" y="119"/>
                  </a:cubicBezTo>
                  <a:cubicBezTo>
                    <a:pt x="420" y="134"/>
                    <a:pt x="420" y="134"/>
                    <a:pt x="420" y="134"/>
                  </a:cubicBezTo>
                  <a:cubicBezTo>
                    <a:pt x="419" y="135"/>
                    <a:pt x="417" y="136"/>
                    <a:pt x="415" y="135"/>
                  </a:cubicBezTo>
                  <a:cubicBezTo>
                    <a:pt x="414" y="134"/>
                    <a:pt x="413" y="133"/>
                    <a:pt x="413" y="131"/>
                  </a:cubicBezTo>
                  <a:cubicBezTo>
                    <a:pt x="413" y="131"/>
                    <a:pt x="413" y="130"/>
                    <a:pt x="414" y="129"/>
                  </a:cubicBezTo>
                  <a:cubicBezTo>
                    <a:pt x="420" y="110"/>
                    <a:pt x="420" y="110"/>
                    <a:pt x="420" y="110"/>
                  </a:cubicBezTo>
                  <a:cubicBezTo>
                    <a:pt x="416" y="107"/>
                    <a:pt x="413" y="104"/>
                    <a:pt x="409" y="101"/>
                  </a:cubicBezTo>
                  <a:cubicBezTo>
                    <a:pt x="391" y="110"/>
                    <a:pt x="391" y="110"/>
                    <a:pt x="391" y="110"/>
                  </a:cubicBezTo>
                  <a:cubicBezTo>
                    <a:pt x="389" y="111"/>
                    <a:pt x="387" y="111"/>
                    <a:pt x="386" y="109"/>
                  </a:cubicBezTo>
                  <a:cubicBezTo>
                    <a:pt x="385" y="109"/>
                    <a:pt x="385" y="108"/>
                    <a:pt x="385" y="107"/>
                  </a:cubicBezTo>
                  <a:cubicBezTo>
                    <a:pt x="385" y="106"/>
                    <a:pt x="385" y="104"/>
                    <a:pt x="386" y="104"/>
                  </a:cubicBezTo>
                  <a:cubicBezTo>
                    <a:pt x="398" y="87"/>
                    <a:pt x="398" y="87"/>
                    <a:pt x="398" y="87"/>
                  </a:cubicBezTo>
                  <a:cubicBezTo>
                    <a:pt x="395" y="83"/>
                    <a:pt x="393" y="79"/>
                    <a:pt x="391" y="75"/>
                  </a:cubicBezTo>
                  <a:cubicBezTo>
                    <a:pt x="371" y="78"/>
                    <a:pt x="371" y="78"/>
                    <a:pt x="371" y="78"/>
                  </a:cubicBezTo>
                  <a:cubicBezTo>
                    <a:pt x="369" y="79"/>
                    <a:pt x="366" y="78"/>
                    <a:pt x="365" y="76"/>
                  </a:cubicBezTo>
                  <a:cubicBezTo>
                    <a:pt x="365" y="75"/>
                    <a:pt x="365" y="75"/>
                    <a:pt x="365" y="74"/>
                  </a:cubicBezTo>
                  <a:cubicBezTo>
                    <a:pt x="365" y="73"/>
                    <a:pt x="366" y="71"/>
                    <a:pt x="368" y="71"/>
                  </a:cubicBezTo>
                  <a:cubicBezTo>
                    <a:pt x="384" y="59"/>
                    <a:pt x="384" y="59"/>
                    <a:pt x="384" y="59"/>
                  </a:cubicBezTo>
                  <a:cubicBezTo>
                    <a:pt x="383" y="54"/>
                    <a:pt x="382" y="50"/>
                    <a:pt x="381" y="45"/>
                  </a:cubicBezTo>
                  <a:cubicBezTo>
                    <a:pt x="361" y="42"/>
                    <a:pt x="361" y="42"/>
                    <a:pt x="361" y="42"/>
                  </a:cubicBezTo>
                  <a:cubicBezTo>
                    <a:pt x="359" y="42"/>
                    <a:pt x="357" y="40"/>
                    <a:pt x="357" y="38"/>
                  </a:cubicBezTo>
                  <a:cubicBezTo>
                    <a:pt x="357" y="38"/>
                    <a:pt x="357" y="38"/>
                    <a:pt x="357" y="38"/>
                  </a:cubicBezTo>
                  <a:cubicBezTo>
                    <a:pt x="357" y="36"/>
                    <a:pt x="358" y="34"/>
                    <a:pt x="360" y="34"/>
                  </a:cubicBezTo>
                  <a:cubicBezTo>
                    <a:pt x="380" y="28"/>
                    <a:pt x="380" y="28"/>
                    <a:pt x="380" y="28"/>
                  </a:cubicBezTo>
                  <a:cubicBezTo>
                    <a:pt x="380" y="23"/>
                    <a:pt x="380" y="18"/>
                    <a:pt x="381" y="13"/>
                  </a:cubicBezTo>
                  <a:cubicBezTo>
                    <a:pt x="363" y="4"/>
                    <a:pt x="363" y="4"/>
                    <a:pt x="363" y="4"/>
                  </a:cubicBezTo>
                  <a:cubicBezTo>
                    <a:pt x="361" y="4"/>
                    <a:pt x="360" y="2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03" y="41"/>
                    <a:pt x="83" y="85"/>
                    <a:pt x="83" y="85"/>
                  </a:cubicBezTo>
                  <a:cubicBezTo>
                    <a:pt x="71" y="115"/>
                    <a:pt x="79" y="137"/>
                    <a:pt x="79" y="137"/>
                  </a:cubicBezTo>
                  <a:cubicBezTo>
                    <a:pt x="103" y="178"/>
                    <a:pt x="84" y="200"/>
                    <a:pt x="68" y="221"/>
                  </a:cubicBezTo>
                  <a:cubicBezTo>
                    <a:pt x="53" y="242"/>
                    <a:pt x="0" y="315"/>
                    <a:pt x="51" y="317"/>
                  </a:cubicBezTo>
                  <a:cubicBezTo>
                    <a:pt x="99" y="318"/>
                    <a:pt x="84" y="334"/>
                    <a:pt x="84" y="334"/>
                  </a:cubicBezTo>
                  <a:cubicBezTo>
                    <a:pt x="63" y="380"/>
                    <a:pt x="96" y="381"/>
                    <a:pt x="96" y="381"/>
                  </a:cubicBezTo>
                  <a:cubicBezTo>
                    <a:pt x="81" y="408"/>
                    <a:pt x="103" y="409"/>
                    <a:pt x="103" y="409"/>
                  </a:cubicBezTo>
                  <a:cubicBezTo>
                    <a:pt x="135" y="409"/>
                    <a:pt x="118" y="438"/>
                    <a:pt x="118" y="438"/>
                  </a:cubicBezTo>
                  <a:cubicBezTo>
                    <a:pt x="79" y="481"/>
                    <a:pt x="113" y="524"/>
                    <a:pt x="162" y="514"/>
                  </a:cubicBezTo>
                  <a:cubicBezTo>
                    <a:pt x="259" y="494"/>
                    <a:pt x="309" y="527"/>
                    <a:pt x="286" y="597"/>
                  </a:cubicBezTo>
                  <a:cubicBezTo>
                    <a:pt x="263" y="666"/>
                    <a:pt x="232" y="709"/>
                    <a:pt x="232" y="709"/>
                  </a:cubicBezTo>
                  <a:cubicBezTo>
                    <a:pt x="659" y="709"/>
                    <a:pt x="659" y="709"/>
                    <a:pt x="659" y="709"/>
                  </a:cubicBezTo>
                  <a:cubicBezTo>
                    <a:pt x="568" y="521"/>
                    <a:pt x="568" y="521"/>
                    <a:pt x="568" y="521"/>
                  </a:cubicBezTo>
                  <a:cubicBezTo>
                    <a:pt x="540" y="458"/>
                    <a:pt x="606" y="330"/>
                    <a:pt x="606" y="330"/>
                  </a:cubicBezTo>
                  <a:close/>
                  <a:moveTo>
                    <a:pt x="334" y="176"/>
                  </a:moveTo>
                  <a:cubicBezTo>
                    <a:pt x="322" y="168"/>
                    <a:pt x="322" y="168"/>
                    <a:pt x="322" y="168"/>
                  </a:cubicBezTo>
                  <a:cubicBezTo>
                    <a:pt x="320" y="169"/>
                    <a:pt x="317" y="171"/>
                    <a:pt x="314" y="173"/>
                  </a:cubicBezTo>
                  <a:cubicBezTo>
                    <a:pt x="316" y="187"/>
                    <a:pt x="316" y="187"/>
                    <a:pt x="316" y="187"/>
                  </a:cubicBezTo>
                  <a:cubicBezTo>
                    <a:pt x="316" y="187"/>
                    <a:pt x="316" y="188"/>
                    <a:pt x="316" y="188"/>
                  </a:cubicBezTo>
                  <a:cubicBezTo>
                    <a:pt x="316" y="189"/>
                    <a:pt x="315" y="190"/>
                    <a:pt x="314" y="191"/>
                  </a:cubicBezTo>
                  <a:cubicBezTo>
                    <a:pt x="313" y="191"/>
                    <a:pt x="311" y="190"/>
                    <a:pt x="311" y="189"/>
                  </a:cubicBezTo>
                  <a:cubicBezTo>
                    <a:pt x="302" y="177"/>
                    <a:pt x="302" y="177"/>
                    <a:pt x="302" y="177"/>
                  </a:cubicBezTo>
                  <a:cubicBezTo>
                    <a:pt x="299" y="178"/>
                    <a:pt x="296" y="179"/>
                    <a:pt x="293" y="180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5"/>
                    <a:pt x="289" y="197"/>
                    <a:pt x="288" y="197"/>
                  </a:cubicBezTo>
                  <a:cubicBezTo>
                    <a:pt x="288" y="197"/>
                    <a:pt x="288" y="197"/>
                    <a:pt x="288" y="197"/>
                  </a:cubicBezTo>
                  <a:cubicBezTo>
                    <a:pt x="286" y="197"/>
                    <a:pt x="285" y="196"/>
                    <a:pt x="285" y="194"/>
                  </a:cubicBezTo>
                  <a:cubicBezTo>
                    <a:pt x="281" y="180"/>
                    <a:pt x="281" y="180"/>
                    <a:pt x="281" y="180"/>
                  </a:cubicBezTo>
                  <a:cubicBezTo>
                    <a:pt x="277" y="180"/>
                    <a:pt x="274" y="180"/>
                    <a:pt x="270" y="180"/>
                  </a:cubicBezTo>
                  <a:cubicBezTo>
                    <a:pt x="264" y="192"/>
                    <a:pt x="264" y="192"/>
                    <a:pt x="264" y="192"/>
                  </a:cubicBezTo>
                  <a:cubicBezTo>
                    <a:pt x="264" y="194"/>
                    <a:pt x="262" y="195"/>
                    <a:pt x="261" y="194"/>
                  </a:cubicBezTo>
                  <a:cubicBezTo>
                    <a:pt x="259" y="194"/>
                    <a:pt x="258" y="193"/>
                    <a:pt x="258" y="192"/>
                  </a:cubicBezTo>
                  <a:cubicBezTo>
                    <a:pt x="258" y="191"/>
                    <a:pt x="258" y="191"/>
                    <a:pt x="259" y="191"/>
                  </a:cubicBezTo>
                  <a:cubicBezTo>
                    <a:pt x="259" y="177"/>
                    <a:pt x="259" y="177"/>
                    <a:pt x="259" y="177"/>
                  </a:cubicBezTo>
                  <a:cubicBezTo>
                    <a:pt x="255" y="176"/>
                    <a:pt x="252" y="174"/>
                    <a:pt x="249" y="173"/>
                  </a:cubicBezTo>
                  <a:cubicBezTo>
                    <a:pt x="239" y="183"/>
                    <a:pt x="239" y="183"/>
                    <a:pt x="239" y="183"/>
                  </a:cubicBezTo>
                  <a:cubicBezTo>
                    <a:pt x="238" y="184"/>
                    <a:pt x="237" y="185"/>
                    <a:pt x="235" y="184"/>
                  </a:cubicBezTo>
                  <a:cubicBezTo>
                    <a:pt x="235" y="183"/>
                    <a:pt x="234" y="182"/>
                    <a:pt x="234" y="181"/>
                  </a:cubicBezTo>
                  <a:cubicBezTo>
                    <a:pt x="234" y="181"/>
                    <a:pt x="234" y="180"/>
                    <a:pt x="235" y="180"/>
                  </a:cubicBezTo>
                  <a:cubicBezTo>
                    <a:pt x="239" y="166"/>
                    <a:pt x="239" y="166"/>
                    <a:pt x="239" y="166"/>
                  </a:cubicBezTo>
                  <a:cubicBezTo>
                    <a:pt x="236" y="164"/>
                    <a:pt x="234" y="162"/>
                    <a:pt x="231" y="160"/>
                  </a:cubicBezTo>
                  <a:cubicBezTo>
                    <a:pt x="219" y="166"/>
                    <a:pt x="219" y="166"/>
                    <a:pt x="219" y="166"/>
                  </a:cubicBezTo>
                  <a:cubicBezTo>
                    <a:pt x="218" y="167"/>
                    <a:pt x="216" y="167"/>
                    <a:pt x="215" y="166"/>
                  </a:cubicBezTo>
                  <a:cubicBezTo>
                    <a:pt x="214" y="165"/>
                    <a:pt x="214" y="165"/>
                    <a:pt x="214" y="164"/>
                  </a:cubicBezTo>
                  <a:cubicBezTo>
                    <a:pt x="214" y="163"/>
                    <a:pt x="214" y="163"/>
                    <a:pt x="215" y="162"/>
                  </a:cubicBezTo>
                  <a:cubicBezTo>
                    <a:pt x="224" y="151"/>
                    <a:pt x="224" y="151"/>
                    <a:pt x="224" y="151"/>
                  </a:cubicBezTo>
                  <a:cubicBezTo>
                    <a:pt x="222" y="148"/>
                    <a:pt x="220" y="145"/>
                    <a:pt x="218" y="142"/>
                  </a:cubicBezTo>
                  <a:cubicBezTo>
                    <a:pt x="204" y="144"/>
                    <a:pt x="204" y="144"/>
                    <a:pt x="204" y="144"/>
                  </a:cubicBezTo>
                  <a:cubicBezTo>
                    <a:pt x="203" y="145"/>
                    <a:pt x="201" y="144"/>
                    <a:pt x="201" y="143"/>
                  </a:cubicBezTo>
                  <a:cubicBezTo>
                    <a:pt x="201" y="142"/>
                    <a:pt x="201" y="142"/>
                    <a:pt x="201" y="141"/>
                  </a:cubicBezTo>
                  <a:cubicBezTo>
                    <a:pt x="201" y="140"/>
                    <a:pt x="201" y="139"/>
                    <a:pt x="202" y="139"/>
                  </a:cubicBezTo>
                  <a:cubicBezTo>
                    <a:pt x="214" y="131"/>
                    <a:pt x="214" y="131"/>
                    <a:pt x="214" y="131"/>
                  </a:cubicBezTo>
                  <a:cubicBezTo>
                    <a:pt x="213" y="127"/>
                    <a:pt x="212" y="124"/>
                    <a:pt x="212" y="121"/>
                  </a:cubicBezTo>
                  <a:cubicBezTo>
                    <a:pt x="198" y="119"/>
                    <a:pt x="198" y="119"/>
                    <a:pt x="198" y="119"/>
                  </a:cubicBezTo>
                  <a:cubicBezTo>
                    <a:pt x="196" y="119"/>
                    <a:pt x="195" y="118"/>
                    <a:pt x="195" y="116"/>
                  </a:cubicBezTo>
                  <a:cubicBezTo>
                    <a:pt x="195" y="116"/>
                    <a:pt x="195" y="116"/>
                    <a:pt x="195" y="116"/>
                  </a:cubicBezTo>
                  <a:cubicBezTo>
                    <a:pt x="195" y="114"/>
                    <a:pt x="196" y="113"/>
                    <a:pt x="197" y="113"/>
                  </a:cubicBezTo>
                  <a:cubicBezTo>
                    <a:pt x="211" y="109"/>
                    <a:pt x="211" y="109"/>
                    <a:pt x="211" y="109"/>
                  </a:cubicBezTo>
                  <a:cubicBezTo>
                    <a:pt x="211" y="105"/>
                    <a:pt x="211" y="102"/>
                    <a:pt x="212" y="99"/>
                  </a:cubicBezTo>
                  <a:cubicBezTo>
                    <a:pt x="199" y="92"/>
                    <a:pt x="199" y="92"/>
                    <a:pt x="199" y="92"/>
                  </a:cubicBezTo>
                  <a:cubicBezTo>
                    <a:pt x="198" y="92"/>
                    <a:pt x="197" y="91"/>
                    <a:pt x="197" y="89"/>
                  </a:cubicBezTo>
                  <a:cubicBezTo>
                    <a:pt x="197" y="89"/>
                    <a:pt x="197" y="89"/>
                    <a:pt x="197" y="89"/>
                  </a:cubicBezTo>
                  <a:cubicBezTo>
                    <a:pt x="197" y="87"/>
                    <a:pt x="199" y="86"/>
                    <a:pt x="200" y="87"/>
                  </a:cubicBezTo>
                  <a:cubicBezTo>
                    <a:pt x="215" y="87"/>
                    <a:pt x="215" y="87"/>
                    <a:pt x="215" y="87"/>
                  </a:cubicBezTo>
                  <a:cubicBezTo>
                    <a:pt x="216" y="84"/>
                    <a:pt x="217" y="81"/>
                    <a:pt x="218" y="78"/>
                  </a:cubicBezTo>
                  <a:cubicBezTo>
                    <a:pt x="208" y="68"/>
                    <a:pt x="208" y="68"/>
                    <a:pt x="208" y="68"/>
                  </a:cubicBezTo>
                  <a:cubicBezTo>
                    <a:pt x="208" y="67"/>
                    <a:pt x="207" y="66"/>
                    <a:pt x="207" y="65"/>
                  </a:cubicBezTo>
                  <a:cubicBezTo>
                    <a:pt x="207" y="65"/>
                    <a:pt x="207" y="64"/>
                    <a:pt x="207" y="64"/>
                  </a:cubicBezTo>
                  <a:cubicBezTo>
                    <a:pt x="208" y="62"/>
                    <a:pt x="210" y="62"/>
                    <a:pt x="211" y="63"/>
                  </a:cubicBezTo>
                  <a:cubicBezTo>
                    <a:pt x="225" y="67"/>
                    <a:pt x="225" y="67"/>
                    <a:pt x="225" y="67"/>
                  </a:cubicBezTo>
                  <a:cubicBezTo>
                    <a:pt x="227" y="65"/>
                    <a:pt x="229" y="62"/>
                    <a:pt x="232" y="60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5" y="46"/>
                    <a:pt x="224" y="46"/>
                    <a:pt x="224" y="45"/>
                  </a:cubicBezTo>
                  <a:cubicBezTo>
                    <a:pt x="224" y="44"/>
                    <a:pt x="225" y="44"/>
                    <a:pt x="225" y="43"/>
                  </a:cubicBezTo>
                  <a:cubicBezTo>
                    <a:pt x="227" y="42"/>
                    <a:pt x="228" y="42"/>
                    <a:pt x="229" y="43"/>
                  </a:cubicBezTo>
                  <a:cubicBezTo>
                    <a:pt x="241" y="52"/>
                    <a:pt x="241" y="52"/>
                    <a:pt x="241" y="52"/>
                  </a:cubicBezTo>
                  <a:cubicBezTo>
                    <a:pt x="243" y="50"/>
                    <a:pt x="246" y="48"/>
                    <a:pt x="249" y="47"/>
                  </a:cubicBezTo>
                  <a:cubicBezTo>
                    <a:pt x="247" y="33"/>
                    <a:pt x="247" y="33"/>
                    <a:pt x="247" y="33"/>
                  </a:cubicBezTo>
                  <a:cubicBezTo>
                    <a:pt x="247" y="32"/>
                    <a:pt x="247" y="32"/>
                    <a:pt x="247" y="32"/>
                  </a:cubicBezTo>
                  <a:cubicBezTo>
                    <a:pt x="247" y="30"/>
                    <a:pt x="248" y="29"/>
                    <a:pt x="249" y="29"/>
                  </a:cubicBezTo>
                  <a:cubicBezTo>
                    <a:pt x="250" y="28"/>
                    <a:pt x="252" y="29"/>
                    <a:pt x="252" y="31"/>
                  </a:cubicBezTo>
                  <a:cubicBezTo>
                    <a:pt x="261" y="42"/>
                    <a:pt x="261" y="42"/>
                    <a:pt x="261" y="42"/>
                  </a:cubicBezTo>
                  <a:cubicBezTo>
                    <a:pt x="264" y="41"/>
                    <a:pt x="267" y="40"/>
                    <a:pt x="270" y="40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4"/>
                    <a:pt x="274" y="23"/>
                    <a:pt x="275" y="23"/>
                  </a:cubicBezTo>
                  <a:cubicBezTo>
                    <a:pt x="277" y="23"/>
                    <a:pt x="278" y="24"/>
                    <a:pt x="278" y="25"/>
                  </a:cubicBezTo>
                  <a:cubicBezTo>
                    <a:pt x="282" y="39"/>
                    <a:pt x="282" y="39"/>
                    <a:pt x="282" y="39"/>
                  </a:cubicBezTo>
                  <a:cubicBezTo>
                    <a:pt x="286" y="39"/>
                    <a:pt x="289" y="39"/>
                    <a:pt x="293" y="40"/>
                  </a:cubicBezTo>
                  <a:cubicBezTo>
                    <a:pt x="299" y="27"/>
                    <a:pt x="299" y="27"/>
                    <a:pt x="299" y="27"/>
                  </a:cubicBezTo>
                  <a:cubicBezTo>
                    <a:pt x="299" y="26"/>
                    <a:pt x="301" y="25"/>
                    <a:pt x="302" y="25"/>
                  </a:cubicBezTo>
                  <a:cubicBezTo>
                    <a:pt x="304" y="25"/>
                    <a:pt x="305" y="27"/>
                    <a:pt x="305" y="28"/>
                  </a:cubicBezTo>
                  <a:cubicBezTo>
                    <a:pt x="305" y="28"/>
                    <a:pt x="305" y="28"/>
                    <a:pt x="304" y="29"/>
                  </a:cubicBezTo>
                  <a:cubicBezTo>
                    <a:pt x="304" y="43"/>
                    <a:pt x="304" y="43"/>
                    <a:pt x="304" y="43"/>
                  </a:cubicBezTo>
                  <a:cubicBezTo>
                    <a:pt x="308" y="44"/>
                    <a:pt x="311" y="45"/>
                    <a:pt x="314" y="47"/>
                  </a:cubicBezTo>
                  <a:cubicBezTo>
                    <a:pt x="324" y="37"/>
                    <a:pt x="324" y="37"/>
                    <a:pt x="324" y="37"/>
                  </a:cubicBezTo>
                  <a:cubicBezTo>
                    <a:pt x="325" y="35"/>
                    <a:pt x="326" y="35"/>
                    <a:pt x="328" y="36"/>
                  </a:cubicBezTo>
                  <a:cubicBezTo>
                    <a:pt x="328" y="36"/>
                    <a:pt x="329" y="37"/>
                    <a:pt x="329" y="38"/>
                  </a:cubicBezTo>
                  <a:cubicBezTo>
                    <a:pt x="329" y="39"/>
                    <a:pt x="329" y="39"/>
                    <a:pt x="328" y="40"/>
                  </a:cubicBezTo>
                  <a:cubicBezTo>
                    <a:pt x="324" y="53"/>
                    <a:pt x="324" y="53"/>
                    <a:pt x="324" y="53"/>
                  </a:cubicBezTo>
                  <a:cubicBezTo>
                    <a:pt x="327" y="55"/>
                    <a:pt x="329" y="57"/>
                    <a:pt x="332" y="60"/>
                  </a:cubicBezTo>
                  <a:cubicBezTo>
                    <a:pt x="344" y="53"/>
                    <a:pt x="344" y="53"/>
                    <a:pt x="344" y="53"/>
                  </a:cubicBezTo>
                  <a:cubicBezTo>
                    <a:pt x="345" y="52"/>
                    <a:pt x="347" y="52"/>
                    <a:pt x="348" y="54"/>
                  </a:cubicBezTo>
                  <a:cubicBezTo>
                    <a:pt x="349" y="54"/>
                    <a:pt x="349" y="55"/>
                    <a:pt x="349" y="55"/>
                  </a:cubicBezTo>
                  <a:cubicBezTo>
                    <a:pt x="349" y="56"/>
                    <a:pt x="349" y="57"/>
                    <a:pt x="348" y="58"/>
                  </a:cubicBezTo>
                  <a:cubicBezTo>
                    <a:pt x="339" y="69"/>
                    <a:pt x="339" y="69"/>
                    <a:pt x="339" y="69"/>
                  </a:cubicBezTo>
                  <a:cubicBezTo>
                    <a:pt x="341" y="72"/>
                    <a:pt x="343" y="75"/>
                    <a:pt x="345" y="78"/>
                  </a:cubicBezTo>
                  <a:cubicBezTo>
                    <a:pt x="359" y="75"/>
                    <a:pt x="359" y="75"/>
                    <a:pt x="359" y="75"/>
                  </a:cubicBezTo>
                  <a:cubicBezTo>
                    <a:pt x="360" y="75"/>
                    <a:pt x="362" y="76"/>
                    <a:pt x="362" y="77"/>
                  </a:cubicBezTo>
                  <a:cubicBezTo>
                    <a:pt x="362" y="77"/>
                    <a:pt x="362" y="78"/>
                    <a:pt x="362" y="78"/>
                  </a:cubicBezTo>
                  <a:cubicBezTo>
                    <a:pt x="362" y="79"/>
                    <a:pt x="362" y="80"/>
                    <a:pt x="361" y="81"/>
                  </a:cubicBezTo>
                  <a:cubicBezTo>
                    <a:pt x="349" y="89"/>
                    <a:pt x="349" y="89"/>
                    <a:pt x="349" y="89"/>
                  </a:cubicBezTo>
                  <a:cubicBezTo>
                    <a:pt x="350" y="92"/>
                    <a:pt x="351" y="95"/>
                    <a:pt x="351" y="99"/>
                  </a:cubicBezTo>
                  <a:cubicBezTo>
                    <a:pt x="365" y="101"/>
                    <a:pt x="365" y="101"/>
                    <a:pt x="365" y="101"/>
                  </a:cubicBezTo>
                  <a:cubicBezTo>
                    <a:pt x="367" y="101"/>
                    <a:pt x="368" y="102"/>
                    <a:pt x="368" y="104"/>
                  </a:cubicBezTo>
                  <a:cubicBezTo>
                    <a:pt x="368" y="104"/>
                    <a:pt x="368" y="104"/>
                    <a:pt x="368" y="104"/>
                  </a:cubicBezTo>
                  <a:cubicBezTo>
                    <a:pt x="368" y="105"/>
                    <a:pt x="367" y="106"/>
                    <a:pt x="366" y="107"/>
                  </a:cubicBezTo>
                  <a:cubicBezTo>
                    <a:pt x="352" y="111"/>
                    <a:pt x="352" y="111"/>
                    <a:pt x="352" y="111"/>
                  </a:cubicBezTo>
                  <a:cubicBezTo>
                    <a:pt x="352" y="114"/>
                    <a:pt x="352" y="118"/>
                    <a:pt x="351" y="121"/>
                  </a:cubicBezTo>
                  <a:cubicBezTo>
                    <a:pt x="364" y="127"/>
                    <a:pt x="364" y="127"/>
                    <a:pt x="364" y="127"/>
                  </a:cubicBezTo>
                  <a:cubicBezTo>
                    <a:pt x="365" y="128"/>
                    <a:pt x="366" y="129"/>
                    <a:pt x="366" y="130"/>
                  </a:cubicBezTo>
                  <a:cubicBezTo>
                    <a:pt x="366" y="130"/>
                    <a:pt x="366" y="130"/>
                    <a:pt x="366" y="131"/>
                  </a:cubicBezTo>
                  <a:cubicBezTo>
                    <a:pt x="366" y="132"/>
                    <a:pt x="364" y="133"/>
                    <a:pt x="363" y="133"/>
                  </a:cubicBezTo>
                  <a:cubicBezTo>
                    <a:pt x="348" y="133"/>
                    <a:pt x="348" y="133"/>
                    <a:pt x="348" y="133"/>
                  </a:cubicBezTo>
                  <a:cubicBezTo>
                    <a:pt x="347" y="136"/>
                    <a:pt x="346" y="139"/>
                    <a:pt x="345" y="142"/>
                  </a:cubicBezTo>
                  <a:cubicBezTo>
                    <a:pt x="355" y="152"/>
                    <a:pt x="355" y="152"/>
                    <a:pt x="355" y="152"/>
                  </a:cubicBezTo>
                  <a:cubicBezTo>
                    <a:pt x="355" y="153"/>
                    <a:pt x="356" y="153"/>
                    <a:pt x="356" y="154"/>
                  </a:cubicBezTo>
                  <a:cubicBezTo>
                    <a:pt x="356" y="155"/>
                    <a:pt x="356" y="155"/>
                    <a:pt x="356" y="156"/>
                  </a:cubicBezTo>
                  <a:cubicBezTo>
                    <a:pt x="355" y="157"/>
                    <a:pt x="353" y="158"/>
                    <a:pt x="352" y="157"/>
                  </a:cubicBezTo>
                  <a:cubicBezTo>
                    <a:pt x="338" y="152"/>
                    <a:pt x="338" y="152"/>
                    <a:pt x="338" y="152"/>
                  </a:cubicBezTo>
                  <a:cubicBezTo>
                    <a:pt x="336" y="155"/>
                    <a:pt x="334" y="157"/>
                    <a:pt x="331" y="160"/>
                  </a:cubicBezTo>
                  <a:cubicBezTo>
                    <a:pt x="338" y="173"/>
                    <a:pt x="338" y="173"/>
                    <a:pt x="338" y="173"/>
                  </a:cubicBezTo>
                  <a:cubicBezTo>
                    <a:pt x="338" y="173"/>
                    <a:pt x="339" y="174"/>
                    <a:pt x="339" y="174"/>
                  </a:cubicBezTo>
                  <a:cubicBezTo>
                    <a:pt x="339" y="175"/>
                    <a:pt x="338" y="176"/>
                    <a:pt x="338" y="176"/>
                  </a:cubicBezTo>
                  <a:cubicBezTo>
                    <a:pt x="336" y="177"/>
                    <a:pt x="335" y="177"/>
                    <a:pt x="334" y="176"/>
                  </a:cubicBezTo>
                  <a:close/>
                  <a:moveTo>
                    <a:pt x="451" y="192"/>
                  </a:moveTo>
                  <a:cubicBezTo>
                    <a:pt x="442" y="195"/>
                    <a:pt x="442" y="195"/>
                    <a:pt x="442" y="195"/>
                  </a:cubicBezTo>
                  <a:cubicBezTo>
                    <a:pt x="442" y="197"/>
                    <a:pt x="442" y="200"/>
                    <a:pt x="441" y="202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51" y="206"/>
                    <a:pt x="451" y="207"/>
                    <a:pt x="451" y="208"/>
                  </a:cubicBezTo>
                  <a:cubicBezTo>
                    <a:pt x="451" y="208"/>
                    <a:pt x="451" y="208"/>
                    <a:pt x="451" y="208"/>
                  </a:cubicBezTo>
                  <a:cubicBezTo>
                    <a:pt x="451" y="209"/>
                    <a:pt x="450" y="210"/>
                    <a:pt x="449" y="210"/>
                  </a:cubicBezTo>
                  <a:cubicBezTo>
                    <a:pt x="439" y="210"/>
                    <a:pt x="439" y="210"/>
                    <a:pt x="439" y="210"/>
                  </a:cubicBezTo>
                  <a:cubicBezTo>
                    <a:pt x="439" y="212"/>
                    <a:pt x="438" y="214"/>
                    <a:pt x="437" y="216"/>
                  </a:cubicBezTo>
                  <a:cubicBezTo>
                    <a:pt x="444" y="223"/>
                    <a:pt x="444" y="223"/>
                    <a:pt x="444" y="223"/>
                  </a:cubicBezTo>
                  <a:cubicBezTo>
                    <a:pt x="444" y="223"/>
                    <a:pt x="444" y="224"/>
                    <a:pt x="444" y="224"/>
                  </a:cubicBezTo>
                  <a:cubicBezTo>
                    <a:pt x="444" y="225"/>
                    <a:pt x="444" y="225"/>
                    <a:pt x="444" y="225"/>
                  </a:cubicBezTo>
                  <a:cubicBezTo>
                    <a:pt x="444" y="226"/>
                    <a:pt x="443" y="226"/>
                    <a:pt x="442" y="226"/>
                  </a:cubicBezTo>
                  <a:cubicBezTo>
                    <a:pt x="433" y="223"/>
                    <a:pt x="433" y="223"/>
                    <a:pt x="433" y="223"/>
                  </a:cubicBezTo>
                  <a:cubicBezTo>
                    <a:pt x="431" y="224"/>
                    <a:pt x="430" y="226"/>
                    <a:pt x="428" y="228"/>
                  </a:cubicBezTo>
                  <a:cubicBezTo>
                    <a:pt x="433" y="236"/>
                    <a:pt x="433" y="236"/>
                    <a:pt x="433" y="236"/>
                  </a:cubicBezTo>
                  <a:cubicBezTo>
                    <a:pt x="433" y="237"/>
                    <a:pt x="433" y="237"/>
                    <a:pt x="433" y="237"/>
                  </a:cubicBezTo>
                  <a:cubicBezTo>
                    <a:pt x="433" y="238"/>
                    <a:pt x="433" y="239"/>
                    <a:pt x="432" y="239"/>
                  </a:cubicBezTo>
                  <a:cubicBezTo>
                    <a:pt x="431" y="240"/>
                    <a:pt x="430" y="239"/>
                    <a:pt x="430" y="239"/>
                  </a:cubicBezTo>
                  <a:cubicBezTo>
                    <a:pt x="422" y="233"/>
                    <a:pt x="422" y="233"/>
                    <a:pt x="422" y="233"/>
                  </a:cubicBezTo>
                  <a:cubicBezTo>
                    <a:pt x="420" y="234"/>
                    <a:pt x="418" y="235"/>
                    <a:pt x="416" y="236"/>
                  </a:cubicBezTo>
                  <a:cubicBezTo>
                    <a:pt x="418" y="246"/>
                    <a:pt x="418" y="246"/>
                    <a:pt x="418" y="246"/>
                  </a:cubicBezTo>
                  <a:cubicBezTo>
                    <a:pt x="418" y="246"/>
                    <a:pt x="418" y="246"/>
                    <a:pt x="418" y="247"/>
                  </a:cubicBezTo>
                  <a:cubicBezTo>
                    <a:pt x="418" y="247"/>
                    <a:pt x="417" y="248"/>
                    <a:pt x="417" y="248"/>
                  </a:cubicBezTo>
                  <a:cubicBezTo>
                    <a:pt x="416" y="249"/>
                    <a:pt x="415" y="248"/>
                    <a:pt x="414" y="247"/>
                  </a:cubicBezTo>
                  <a:cubicBezTo>
                    <a:pt x="409" y="239"/>
                    <a:pt x="409" y="239"/>
                    <a:pt x="409" y="239"/>
                  </a:cubicBezTo>
                  <a:cubicBezTo>
                    <a:pt x="407" y="240"/>
                    <a:pt x="404" y="241"/>
                    <a:pt x="402" y="241"/>
                  </a:cubicBezTo>
                  <a:cubicBezTo>
                    <a:pt x="401" y="250"/>
                    <a:pt x="401" y="250"/>
                    <a:pt x="401" y="250"/>
                  </a:cubicBezTo>
                  <a:cubicBezTo>
                    <a:pt x="401" y="250"/>
                    <a:pt x="401" y="251"/>
                    <a:pt x="401" y="251"/>
                  </a:cubicBezTo>
                  <a:cubicBezTo>
                    <a:pt x="401" y="252"/>
                    <a:pt x="400" y="252"/>
                    <a:pt x="399" y="252"/>
                  </a:cubicBezTo>
                  <a:cubicBezTo>
                    <a:pt x="399" y="252"/>
                    <a:pt x="399" y="252"/>
                    <a:pt x="399" y="252"/>
                  </a:cubicBezTo>
                  <a:cubicBezTo>
                    <a:pt x="398" y="252"/>
                    <a:pt x="397" y="252"/>
                    <a:pt x="397" y="251"/>
                  </a:cubicBezTo>
                  <a:cubicBezTo>
                    <a:pt x="394" y="242"/>
                    <a:pt x="394" y="242"/>
                    <a:pt x="394" y="242"/>
                  </a:cubicBezTo>
                  <a:cubicBezTo>
                    <a:pt x="392" y="242"/>
                    <a:pt x="390" y="241"/>
                    <a:pt x="387" y="241"/>
                  </a:cubicBezTo>
                  <a:cubicBezTo>
                    <a:pt x="383" y="250"/>
                    <a:pt x="383" y="250"/>
                    <a:pt x="383" y="250"/>
                  </a:cubicBezTo>
                  <a:cubicBezTo>
                    <a:pt x="383" y="251"/>
                    <a:pt x="382" y="251"/>
                    <a:pt x="381" y="251"/>
                  </a:cubicBezTo>
                  <a:cubicBezTo>
                    <a:pt x="380" y="251"/>
                    <a:pt x="379" y="250"/>
                    <a:pt x="379" y="249"/>
                  </a:cubicBezTo>
                  <a:cubicBezTo>
                    <a:pt x="379" y="249"/>
                    <a:pt x="379" y="249"/>
                    <a:pt x="379" y="249"/>
                  </a:cubicBezTo>
                  <a:cubicBezTo>
                    <a:pt x="380" y="239"/>
                    <a:pt x="380" y="239"/>
                    <a:pt x="380" y="239"/>
                  </a:cubicBezTo>
                  <a:cubicBezTo>
                    <a:pt x="377" y="238"/>
                    <a:pt x="375" y="237"/>
                    <a:pt x="373" y="236"/>
                  </a:cubicBezTo>
                  <a:cubicBezTo>
                    <a:pt x="367" y="243"/>
                    <a:pt x="367" y="243"/>
                    <a:pt x="367" y="243"/>
                  </a:cubicBezTo>
                  <a:cubicBezTo>
                    <a:pt x="366" y="244"/>
                    <a:pt x="365" y="244"/>
                    <a:pt x="364" y="244"/>
                  </a:cubicBezTo>
                  <a:cubicBezTo>
                    <a:pt x="364" y="243"/>
                    <a:pt x="363" y="243"/>
                    <a:pt x="363" y="242"/>
                  </a:cubicBezTo>
                  <a:cubicBezTo>
                    <a:pt x="363" y="242"/>
                    <a:pt x="363" y="242"/>
                    <a:pt x="364" y="241"/>
                  </a:cubicBezTo>
                  <a:cubicBezTo>
                    <a:pt x="367" y="232"/>
                    <a:pt x="367" y="232"/>
                    <a:pt x="367" y="232"/>
                  </a:cubicBezTo>
                  <a:cubicBezTo>
                    <a:pt x="365" y="231"/>
                    <a:pt x="363" y="229"/>
                    <a:pt x="361" y="228"/>
                  </a:cubicBezTo>
                  <a:cubicBezTo>
                    <a:pt x="353" y="232"/>
                    <a:pt x="353" y="232"/>
                    <a:pt x="353" y="232"/>
                  </a:cubicBezTo>
                  <a:cubicBezTo>
                    <a:pt x="352" y="233"/>
                    <a:pt x="351" y="233"/>
                    <a:pt x="350" y="232"/>
                  </a:cubicBezTo>
                  <a:cubicBezTo>
                    <a:pt x="350" y="232"/>
                    <a:pt x="350" y="231"/>
                    <a:pt x="350" y="231"/>
                  </a:cubicBezTo>
                  <a:cubicBezTo>
                    <a:pt x="350" y="230"/>
                    <a:pt x="350" y="230"/>
                    <a:pt x="351" y="229"/>
                  </a:cubicBezTo>
                  <a:cubicBezTo>
                    <a:pt x="356" y="222"/>
                    <a:pt x="356" y="222"/>
                    <a:pt x="356" y="222"/>
                  </a:cubicBezTo>
                  <a:cubicBezTo>
                    <a:pt x="355" y="220"/>
                    <a:pt x="354" y="218"/>
                    <a:pt x="353" y="216"/>
                  </a:cubicBezTo>
                  <a:cubicBezTo>
                    <a:pt x="343" y="217"/>
                    <a:pt x="343" y="217"/>
                    <a:pt x="343" y="217"/>
                  </a:cubicBezTo>
                  <a:cubicBezTo>
                    <a:pt x="342" y="218"/>
                    <a:pt x="341" y="217"/>
                    <a:pt x="341" y="216"/>
                  </a:cubicBezTo>
                  <a:cubicBezTo>
                    <a:pt x="341" y="216"/>
                    <a:pt x="341" y="216"/>
                    <a:pt x="341" y="216"/>
                  </a:cubicBezTo>
                  <a:cubicBezTo>
                    <a:pt x="341" y="215"/>
                    <a:pt x="341" y="214"/>
                    <a:pt x="342" y="214"/>
                  </a:cubicBezTo>
                  <a:cubicBezTo>
                    <a:pt x="350" y="208"/>
                    <a:pt x="350" y="208"/>
                    <a:pt x="350" y="208"/>
                  </a:cubicBezTo>
                  <a:cubicBezTo>
                    <a:pt x="349" y="206"/>
                    <a:pt x="349" y="204"/>
                    <a:pt x="348" y="202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8" y="200"/>
                    <a:pt x="337" y="200"/>
                    <a:pt x="337" y="199"/>
                  </a:cubicBezTo>
                  <a:cubicBezTo>
                    <a:pt x="337" y="199"/>
                    <a:pt x="337" y="198"/>
                    <a:pt x="337" y="198"/>
                  </a:cubicBezTo>
                  <a:cubicBezTo>
                    <a:pt x="337" y="197"/>
                    <a:pt x="338" y="197"/>
                    <a:pt x="339" y="197"/>
                  </a:cubicBezTo>
                  <a:cubicBezTo>
                    <a:pt x="348" y="194"/>
                    <a:pt x="348" y="194"/>
                    <a:pt x="348" y="194"/>
                  </a:cubicBezTo>
                  <a:cubicBezTo>
                    <a:pt x="348" y="191"/>
                    <a:pt x="348" y="189"/>
                    <a:pt x="348" y="187"/>
                  </a:cubicBezTo>
                  <a:cubicBezTo>
                    <a:pt x="340" y="183"/>
                    <a:pt x="340" y="183"/>
                    <a:pt x="340" y="183"/>
                  </a:cubicBezTo>
                  <a:cubicBezTo>
                    <a:pt x="339" y="182"/>
                    <a:pt x="338" y="182"/>
                    <a:pt x="338" y="181"/>
                  </a:cubicBezTo>
                  <a:cubicBezTo>
                    <a:pt x="338" y="181"/>
                    <a:pt x="338" y="181"/>
                    <a:pt x="338" y="180"/>
                  </a:cubicBezTo>
                  <a:cubicBezTo>
                    <a:pt x="339" y="179"/>
                    <a:pt x="340" y="179"/>
                    <a:pt x="341" y="179"/>
                  </a:cubicBezTo>
                  <a:cubicBezTo>
                    <a:pt x="350" y="179"/>
                    <a:pt x="350" y="179"/>
                    <a:pt x="350" y="179"/>
                  </a:cubicBezTo>
                  <a:cubicBezTo>
                    <a:pt x="351" y="177"/>
                    <a:pt x="352" y="175"/>
                    <a:pt x="353" y="173"/>
                  </a:cubicBezTo>
                  <a:cubicBezTo>
                    <a:pt x="346" y="166"/>
                    <a:pt x="346" y="166"/>
                    <a:pt x="346" y="166"/>
                  </a:cubicBezTo>
                  <a:cubicBezTo>
                    <a:pt x="346" y="166"/>
                    <a:pt x="345" y="165"/>
                    <a:pt x="345" y="165"/>
                  </a:cubicBezTo>
                  <a:cubicBezTo>
                    <a:pt x="345" y="164"/>
                    <a:pt x="345" y="164"/>
                    <a:pt x="345" y="164"/>
                  </a:cubicBezTo>
                  <a:cubicBezTo>
                    <a:pt x="346" y="163"/>
                    <a:pt x="347" y="163"/>
                    <a:pt x="348" y="163"/>
                  </a:cubicBezTo>
                  <a:cubicBezTo>
                    <a:pt x="357" y="166"/>
                    <a:pt x="357" y="166"/>
                    <a:pt x="357" y="166"/>
                  </a:cubicBezTo>
                  <a:cubicBezTo>
                    <a:pt x="358" y="164"/>
                    <a:pt x="360" y="163"/>
                    <a:pt x="361" y="161"/>
                  </a:cubicBezTo>
                  <a:cubicBezTo>
                    <a:pt x="357" y="153"/>
                    <a:pt x="357" y="153"/>
                    <a:pt x="357" y="153"/>
                  </a:cubicBezTo>
                  <a:cubicBezTo>
                    <a:pt x="357" y="152"/>
                    <a:pt x="357" y="152"/>
                    <a:pt x="357" y="151"/>
                  </a:cubicBezTo>
                  <a:cubicBezTo>
                    <a:pt x="357" y="151"/>
                    <a:pt x="357" y="150"/>
                    <a:pt x="357" y="150"/>
                  </a:cubicBezTo>
                  <a:cubicBezTo>
                    <a:pt x="358" y="149"/>
                    <a:pt x="359" y="149"/>
                    <a:pt x="360" y="150"/>
                  </a:cubicBezTo>
                  <a:cubicBezTo>
                    <a:pt x="368" y="156"/>
                    <a:pt x="368" y="156"/>
                    <a:pt x="368" y="156"/>
                  </a:cubicBezTo>
                  <a:cubicBezTo>
                    <a:pt x="369" y="155"/>
                    <a:pt x="371" y="153"/>
                    <a:pt x="373" y="152"/>
                  </a:cubicBezTo>
                  <a:cubicBezTo>
                    <a:pt x="372" y="143"/>
                    <a:pt x="372" y="143"/>
                    <a:pt x="372" y="143"/>
                  </a:cubicBezTo>
                  <a:cubicBezTo>
                    <a:pt x="372" y="143"/>
                    <a:pt x="372" y="143"/>
                    <a:pt x="372" y="142"/>
                  </a:cubicBezTo>
                  <a:cubicBezTo>
                    <a:pt x="372" y="142"/>
                    <a:pt x="372" y="141"/>
                    <a:pt x="373" y="141"/>
                  </a:cubicBezTo>
                  <a:cubicBezTo>
                    <a:pt x="374" y="140"/>
                    <a:pt x="375" y="141"/>
                    <a:pt x="375" y="142"/>
                  </a:cubicBezTo>
                  <a:cubicBezTo>
                    <a:pt x="381" y="149"/>
                    <a:pt x="381" y="149"/>
                    <a:pt x="381" y="149"/>
                  </a:cubicBezTo>
                  <a:cubicBezTo>
                    <a:pt x="383" y="149"/>
                    <a:pt x="385" y="148"/>
                    <a:pt x="387" y="14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7"/>
                    <a:pt x="390" y="136"/>
                    <a:pt x="391" y="136"/>
                  </a:cubicBezTo>
                  <a:cubicBezTo>
                    <a:pt x="392" y="136"/>
                    <a:pt x="393" y="137"/>
                    <a:pt x="393" y="138"/>
                  </a:cubicBezTo>
                  <a:cubicBezTo>
                    <a:pt x="395" y="147"/>
                    <a:pt x="395" y="147"/>
                    <a:pt x="395" y="147"/>
                  </a:cubicBezTo>
                  <a:cubicBezTo>
                    <a:pt x="398" y="147"/>
                    <a:pt x="400" y="147"/>
                    <a:pt x="402" y="148"/>
                  </a:cubicBezTo>
                  <a:cubicBezTo>
                    <a:pt x="407" y="139"/>
                    <a:pt x="407" y="139"/>
                    <a:pt x="407" y="139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10" y="138"/>
                    <a:pt x="410" y="139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50"/>
                    <a:pt x="410" y="150"/>
                    <a:pt x="410" y="150"/>
                  </a:cubicBezTo>
                  <a:cubicBezTo>
                    <a:pt x="412" y="150"/>
                    <a:pt x="414" y="151"/>
                    <a:pt x="416" y="152"/>
                  </a:cubicBezTo>
                  <a:cubicBezTo>
                    <a:pt x="423" y="146"/>
                    <a:pt x="423" y="146"/>
                    <a:pt x="423" y="146"/>
                  </a:cubicBezTo>
                  <a:cubicBezTo>
                    <a:pt x="424" y="145"/>
                    <a:pt x="425" y="145"/>
                    <a:pt x="426" y="145"/>
                  </a:cubicBezTo>
                  <a:cubicBezTo>
                    <a:pt x="426" y="145"/>
                    <a:pt x="426" y="146"/>
                    <a:pt x="426" y="147"/>
                  </a:cubicBezTo>
                  <a:cubicBezTo>
                    <a:pt x="426" y="147"/>
                    <a:pt x="426" y="147"/>
                    <a:pt x="426" y="148"/>
                  </a:cubicBezTo>
                  <a:cubicBezTo>
                    <a:pt x="423" y="157"/>
                    <a:pt x="423" y="157"/>
                    <a:pt x="423" y="157"/>
                  </a:cubicBezTo>
                  <a:cubicBezTo>
                    <a:pt x="425" y="158"/>
                    <a:pt x="427" y="159"/>
                    <a:pt x="428" y="161"/>
                  </a:cubicBezTo>
                  <a:cubicBezTo>
                    <a:pt x="437" y="157"/>
                    <a:pt x="437" y="157"/>
                    <a:pt x="437" y="157"/>
                  </a:cubicBezTo>
                  <a:cubicBezTo>
                    <a:pt x="437" y="156"/>
                    <a:pt x="439" y="156"/>
                    <a:pt x="439" y="157"/>
                  </a:cubicBezTo>
                  <a:cubicBezTo>
                    <a:pt x="440" y="157"/>
                    <a:pt x="440" y="158"/>
                    <a:pt x="440" y="158"/>
                  </a:cubicBezTo>
                  <a:cubicBezTo>
                    <a:pt x="440" y="159"/>
                    <a:pt x="440" y="159"/>
                    <a:pt x="439" y="160"/>
                  </a:cubicBezTo>
                  <a:cubicBezTo>
                    <a:pt x="433" y="167"/>
                    <a:pt x="433" y="167"/>
                    <a:pt x="433" y="167"/>
                  </a:cubicBezTo>
                  <a:cubicBezTo>
                    <a:pt x="435" y="169"/>
                    <a:pt x="436" y="171"/>
                    <a:pt x="437" y="173"/>
                  </a:cubicBezTo>
                  <a:cubicBezTo>
                    <a:pt x="446" y="172"/>
                    <a:pt x="446" y="172"/>
                    <a:pt x="446" y="172"/>
                  </a:cubicBezTo>
                  <a:cubicBezTo>
                    <a:pt x="447" y="171"/>
                    <a:pt x="448" y="172"/>
                    <a:pt x="449" y="173"/>
                  </a:cubicBezTo>
                  <a:cubicBezTo>
                    <a:pt x="449" y="173"/>
                    <a:pt x="449" y="173"/>
                    <a:pt x="449" y="173"/>
                  </a:cubicBezTo>
                  <a:cubicBezTo>
                    <a:pt x="449" y="174"/>
                    <a:pt x="448" y="175"/>
                    <a:pt x="448" y="175"/>
                  </a:cubicBezTo>
                  <a:cubicBezTo>
                    <a:pt x="440" y="180"/>
                    <a:pt x="440" y="180"/>
                    <a:pt x="440" y="180"/>
                  </a:cubicBezTo>
                  <a:cubicBezTo>
                    <a:pt x="441" y="183"/>
                    <a:pt x="441" y="185"/>
                    <a:pt x="441" y="187"/>
                  </a:cubicBezTo>
                  <a:cubicBezTo>
                    <a:pt x="451" y="189"/>
                    <a:pt x="451" y="189"/>
                    <a:pt x="451" y="189"/>
                  </a:cubicBezTo>
                  <a:cubicBezTo>
                    <a:pt x="452" y="188"/>
                    <a:pt x="453" y="189"/>
                    <a:pt x="453" y="190"/>
                  </a:cubicBezTo>
                  <a:cubicBezTo>
                    <a:pt x="453" y="190"/>
                    <a:pt x="453" y="190"/>
                    <a:pt x="453" y="190"/>
                  </a:cubicBezTo>
                  <a:cubicBezTo>
                    <a:pt x="453" y="191"/>
                    <a:pt x="452" y="192"/>
                    <a:pt x="451" y="19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Oval 24"/>
            <p:cNvSpPr/>
            <p:nvPr/>
          </p:nvSpPr>
          <p:spPr>
            <a:xfrm>
              <a:off x="6820560" y="1945800"/>
              <a:ext cx="12600" cy="12960"/>
            </a:xfrm>
            <a:prstGeom prst="ellipse">
              <a:avLst/>
            </a:prstGeom>
            <a:solidFill>
              <a:schemeClr val="bg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25"/>
            <p:cNvSpPr/>
            <p:nvPr/>
          </p:nvSpPr>
          <p:spPr>
            <a:xfrm>
              <a:off x="6805440" y="1770840"/>
              <a:ext cx="147600" cy="594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237" h="95">
                  <a:moveTo>
                    <a:pt x="218" y="95"/>
                  </a:moveTo>
                  <a:cubicBezTo>
                    <a:pt x="218" y="95"/>
                    <a:pt x="217" y="94"/>
                    <a:pt x="217" y="94"/>
                  </a:cubicBezTo>
                  <a:cubicBezTo>
                    <a:pt x="234" y="82"/>
                    <a:pt x="234" y="82"/>
                    <a:pt x="234" y="82"/>
                  </a:cubicBezTo>
                  <a:cubicBezTo>
                    <a:pt x="236" y="82"/>
                    <a:pt x="237" y="80"/>
                    <a:pt x="237" y="79"/>
                  </a:cubicBezTo>
                  <a:cubicBezTo>
                    <a:pt x="237" y="78"/>
                    <a:pt x="236" y="78"/>
                    <a:pt x="236" y="77"/>
                  </a:cubicBezTo>
                  <a:cubicBezTo>
                    <a:pt x="235" y="75"/>
                    <a:pt x="233" y="74"/>
                    <a:pt x="231" y="75"/>
                  </a:cubicBezTo>
                  <a:cubicBezTo>
                    <a:pt x="211" y="78"/>
                    <a:pt x="211" y="78"/>
                    <a:pt x="211" y="78"/>
                  </a:cubicBezTo>
                  <a:cubicBezTo>
                    <a:pt x="209" y="74"/>
                    <a:pt x="206" y="70"/>
                    <a:pt x="203" y="66"/>
                  </a:cubicBezTo>
                  <a:cubicBezTo>
                    <a:pt x="216" y="49"/>
                    <a:pt x="216" y="49"/>
                    <a:pt x="216" y="49"/>
                  </a:cubicBezTo>
                  <a:cubicBezTo>
                    <a:pt x="217" y="49"/>
                    <a:pt x="217" y="48"/>
                    <a:pt x="217" y="46"/>
                  </a:cubicBezTo>
                  <a:cubicBezTo>
                    <a:pt x="217" y="46"/>
                    <a:pt x="217" y="45"/>
                    <a:pt x="216" y="44"/>
                  </a:cubicBezTo>
                  <a:cubicBezTo>
                    <a:pt x="215" y="42"/>
                    <a:pt x="212" y="42"/>
                    <a:pt x="211" y="43"/>
                  </a:cubicBezTo>
                  <a:cubicBezTo>
                    <a:pt x="192" y="53"/>
                    <a:pt x="192" y="53"/>
                    <a:pt x="192" y="53"/>
                  </a:cubicBezTo>
                  <a:cubicBezTo>
                    <a:pt x="189" y="49"/>
                    <a:pt x="185" y="46"/>
                    <a:pt x="181" y="43"/>
                  </a:cubicBezTo>
                  <a:cubicBezTo>
                    <a:pt x="188" y="24"/>
                    <a:pt x="188" y="24"/>
                    <a:pt x="188" y="24"/>
                  </a:cubicBezTo>
                  <a:cubicBezTo>
                    <a:pt x="188" y="23"/>
                    <a:pt x="189" y="22"/>
                    <a:pt x="189" y="22"/>
                  </a:cubicBezTo>
                  <a:cubicBezTo>
                    <a:pt x="189" y="20"/>
                    <a:pt x="188" y="19"/>
                    <a:pt x="187" y="18"/>
                  </a:cubicBezTo>
                  <a:cubicBezTo>
                    <a:pt x="185" y="17"/>
                    <a:pt x="182" y="18"/>
                    <a:pt x="181" y="20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2" y="32"/>
                    <a:pt x="158" y="30"/>
                    <a:pt x="153" y="28"/>
                  </a:cubicBezTo>
                  <a:cubicBezTo>
                    <a:pt x="154" y="8"/>
                    <a:pt x="154" y="8"/>
                    <a:pt x="154" y="8"/>
                  </a:cubicBezTo>
                  <a:cubicBezTo>
                    <a:pt x="154" y="8"/>
                    <a:pt x="154" y="7"/>
                    <a:pt x="154" y="7"/>
                  </a:cubicBezTo>
                  <a:cubicBezTo>
                    <a:pt x="154" y="5"/>
                    <a:pt x="153" y="4"/>
                    <a:pt x="151" y="3"/>
                  </a:cubicBezTo>
                  <a:cubicBezTo>
                    <a:pt x="149" y="3"/>
                    <a:pt x="146" y="4"/>
                    <a:pt x="146" y="6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2" y="24"/>
                    <a:pt x="127" y="23"/>
                    <a:pt x="122" y="23"/>
                  </a:cubicBezTo>
                  <a:cubicBezTo>
                    <a:pt x="116" y="4"/>
                    <a:pt x="116" y="4"/>
                    <a:pt x="116" y="4"/>
                  </a:cubicBezTo>
                  <a:cubicBezTo>
                    <a:pt x="116" y="1"/>
                    <a:pt x="114" y="0"/>
                    <a:pt x="112" y="0"/>
                  </a:cubicBezTo>
                  <a:cubicBezTo>
                    <a:pt x="110" y="0"/>
                    <a:pt x="108" y="2"/>
                    <a:pt x="108" y="4"/>
                  </a:cubicBezTo>
                  <a:cubicBezTo>
                    <a:pt x="108" y="4"/>
                    <a:pt x="108" y="4"/>
                    <a:pt x="108" y="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0" y="25"/>
                    <a:pt x="95" y="26"/>
                    <a:pt x="91" y="28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9"/>
                    <a:pt x="76" y="8"/>
                    <a:pt x="74" y="9"/>
                  </a:cubicBezTo>
                  <a:cubicBezTo>
                    <a:pt x="72" y="9"/>
                    <a:pt x="71" y="11"/>
                    <a:pt x="71" y="12"/>
                  </a:cubicBezTo>
                  <a:cubicBezTo>
                    <a:pt x="71" y="13"/>
                    <a:pt x="72" y="13"/>
                    <a:pt x="72" y="14"/>
                  </a:cubicBezTo>
                  <a:cubicBezTo>
                    <a:pt x="75" y="34"/>
                    <a:pt x="75" y="34"/>
                    <a:pt x="75" y="34"/>
                  </a:cubicBezTo>
                  <a:cubicBezTo>
                    <a:pt x="71" y="36"/>
                    <a:pt x="66" y="39"/>
                    <a:pt x="63" y="42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5" y="28"/>
                    <a:pt x="42" y="27"/>
                    <a:pt x="41" y="29"/>
                  </a:cubicBezTo>
                  <a:cubicBezTo>
                    <a:pt x="40" y="30"/>
                    <a:pt x="39" y="31"/>
                    <a:pt x="39" y="32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6" y="56"/>
                    <a:pt x="43" y="60"/>
                    <a:pt x="40" y="64"/>
                  </a:cubicBezTo>
                  <a:cubicBezTo>
                    <a:pt x="21" y="57"/>
                    <a:pt x="21" y="57"/>
                    <a:pt x="21" y="57"/>
                  </a:cubicBezTo>
                  <a:cubicBezTo>
                    <a:pt x="19" y="56"/>
                    <a:pt x="16" y="56"/>
                    <a:pt x="15" y="58"/>
                  </a:cubicBezTo>
                  <a:cubicBezTo>
                    <a:pt x="15" y="59"/>
                    <a:pt x="14" y="60"/>
                    <a:pt x="14" y="60"/>
                  </a:cubicBezTo>
                  <a:cubicBezTo>
                    <a:pt x="14" y="62"/>
                    <a:pt x="15" y="63"/>
                    <a:pt x="16" y="64"/>
                  </a:cubicBezTo>
                  <a:cubicBezTo>
                    <a:pt x="31" y="78"/>
                    <a:pt x="31" y="78"/>
                    <a:pt x="31" y="78"/>
                  </a:cubicBezTo>
                  <a:cubicBezTo>
                    <a:pt x="29" y="82"/>
                    <a:pt x="27" y="87"/>
                    <a:pt x="25" y="92"/>
                  </a:cubicBezTo>
                  <a:cubicBezTo>
                    <a:pt x="5" y="91"/>
                    <a:pt x="5" y="91"/>
                    <a:pt x="5" y="91"/>
                  </a:cubicBezTo>
                  <a:cubicBezTo>
                    <a:pt x="3" y="91"/>
                    <a:pt x="0" y="92"/>
                    <a:pt x="0" y="94"/>
                  </a:cubicBezTo>
                  <a:cubicBezTo>
                    <a:pt x="0" y="94"/>
                    <a:pt x="0" y="95"/>
                    <a:pt x="0" y="95"/>
                  </a:cubicBezTo>
                  <a:lnTo>
                    <a:pt x="218" y="9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29880" bIns="29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9" name="Picture 34" descr="Efficiency.png"/>
          <p:cNvPicPr/>
          <p:nvPr/>
        </p:nvPicPr>
        <p:blipFill>
          <a:blip r:embed="rId1">
            <a:grayscl/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GlowEdges/>
                    </a14:imgEffect>
                  </a14:imgLayer>
                </a14:imgProps>
              </a:ext>
            </a:extLst>
          </a:blip>
          <a:stretch/>
        </p:blipFill>
        <p:spPr>
          <a:xfrm>
            <a:off x="6517080" y="2631960"/>
            <a:ext cx="575640" cy="53424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grpSp>
        <p:nvGrpSpPr>
          <p:cNvPr id="180" name="组合 204"/>
          <p:cNvGrpSpPr/>
          <p:nvPr/>
        </p:nvGrpSpPr>
        <p:grpSpPr>
          <a:xfrm>
            <a:off x="6578640" y="3523680"/>
            <a:ext cx="452520" cy="367920"/>
            <a:chOff x="6578640" y="3523680"/>
            <a:chExt cx="452520" cy="367920"/>
          </a:xfrm>
        </p:grpSpPr>
        <p:sp>
          <p:nvSpPr>
            <p:cNvPr id="181" name="Freeform 86"/>
            <p:cNvSpPr/>
            <p:nvPr/>
          </p:nvSpPr>
          <p:spPr>
            <a:xfrm>
              <a:off x="6578640" y="3559680"/>
              <a:ext cx="330120" cy="33192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292" h="294">
                  <a:moveTo>
                    <a:pt x="292" y="140"/>
                  </a:moveTo>
                  <a:cubicBezTo>
                    <a:pt x="287" y="113"/>
                    <a:pt x="287" y="113"/>
                    <a:pt x="287" y="113"/>
                  </a:cubicBezTo>
                  <a:cubicBezTo>
                    <a:pt x="286" y="110"/>
                    <a:pt x="284" y="108"/>
                    <a:pt x="280" y="107"/>
                  </a:cubicBezTo>
                  <a:cubicBezTo>
                    <a:pt x="239" y="105"/>
                    <a:pt x="239" y="105"/>
                    <a:pt x="239" y="105"/>
                  </a:cubicBezTo>
                  <a:cubicBezTo>
                    <a:pt x="237" y="102"/>
                    <a:pt x="235" y="98"/>
                    <a:pt x="233" y="95"/>
                  </a:cubicBezTo>
                  <a:cubicBezTo>
                    <a:pt x="252" y="58"/>
                    <a:pt x="252" y="58"/>
                    <a:pt x="252" y="58"/>
                  </a:cubicBezTo>
                  <a:cubicBezTo>
                    <a:pt x="254" y="55"/>
                    <a:pt x="253" y="51"/>
                    <a:pt x="250" y="49"/>
                  </a:cubicBezTo>
                  <a:cubicBezTo>
                    <a:pt x="229" y="32"/>
                    <a:pt x="229" y="32"/>
                    <a:pt x="229" y="32"/>
                  </a:cubicBezTo>
                  <a:cubicBezTo>
                    <a:pt x="227" y="29"/>
                    <a:pt x="223" y="29"/>
                    <a:pt x="220" y="31"/>
                  </a:cubicBezTo>
                  <a:cubicBezTo>
                    <a:pt x="187" y="57"/>
                    <a:pt x="187" y="57"/>
                    <a:pt x="187" y="57"/>
                  </a:cubicBezTo>
                  <a:cubicBezTo>
                    <a:pt x="184" y="55"/>
                    <a:pt x="181" y="54"/>
                    <a:pt x="177" y="53"/>
                  </a:cubicBezTo>
                  <a:cubicBezTo>
                    <a:pt x="167" y="6"/>
                    <a:pt x="167" y="6"/>
                    <a:pt x="167" y="6"/>
                  </a:cubicBezTo>
                  <a:cubicBezTo>
                    <a:pt x="166" y="3"/>
                    <a:pt x="163" y="0"/>
                    <a:pt x="160" y="0"/>
                  </a:cubicBezTo>
                  <a:cubicBezTo>
                    <a:pt x="132" y="0"/>
                    <a:pt x="132" y="0"/>
                    <a:pt x="132" y="0"/>
                  </a:cubicBezTo>
                  <a:cubicBezTo>
                    <a:pt x="129" y="0"/>
                    <a:pt x="126" y="3"/>
                    <a:pt x="125" y="6"/>
                  </a:cubicBezTo>
                  <a:cubicBezTo>
                    <a:pt x="115" y="53"/>
                    <a:pt x="115" y="53"/>
                    <a:pt x="115" y="53"/>
                  </a:cubicBezTo>
                  <a:cubicBezTo>
                    <a:pt x="111" y="54"/>
                    <a:pt x="108" y="55"/>
                    <a:pt x="105" y="57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69" y="29"/>
                    <a:pt x="65" y="29"/>
                    <a:pt x="63" y="31"/>
                  </a:cubicBezTo>
                  <a:cubicBezTo>
                    <a:pt x="42" y="49"/>
                    <a:pt x="42" y="49"/>
                    <a:pt x="42" y="49"/>
                  </a:cubicBezTo>
                  <a:cubicBezTo>
                    <a:pt x="39" y="51"/>
                    <a:pt x="39" y="55"/>
                    <a:pt x="40" y="58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57" y="98"/>
                    <a:pt x="55" y="102"/>
                    <a:pt x="53" y="105"/>
                  </a:cubicBezTo>
                  <a:cubicBezTo>
                    <a:pt x="12" y="107"/>
                    <a:pt x="12" y="107"/>
                    <a:pt x="12" y="107"/>
                  </a:cubicBezTo>
                  <a:cubicBezTo>
                    <a:pt x="8" y="107"/>
                    <a:pt x="6" y="110"/>
                    <a:pt x="5" y="113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0" y="143"/>
                    <a:pt x="1" y="147"/>
                    <a:pt x="4" y="148"/>
                  </a:cubicBezTo>
                  <a:cubicBezTo>
                    <a:pt x="43" y="164"/>
                    <a:pt x="43" y="164"/>
                    <a:pt x="43" y="164"/>
                  </a:cubicBezTo>
                  <a:cubicBezTo>
                    <a:pt x="44" y="168"/>
                    <a:pt x="44" y="172"/>
                    <a:pt x="45" y="176"/>
                  </a:cubicBezTo>
                  <a:cubicBezTo>
                    <a:pt x="14" y="204"/>
                    <a:pt x="14" y="204"/>
                    <a:pt x="14" y="204"/>
                  </a:cubicBezTo>
                  <a:cubicBezTo>
                    <a:pt x="12" y="206"/>
                    <a:pt x="11" y="210"/>
                    <a:pt x="13" y="213"/>
                  </a:cubicBezTo>
                  <a:cubicBezTo>
                    <a:pt x="27" y="237"/>
                    <a:pt x="27" y="237"/>
                    <a:pt x="27" y="237"/>
                  </a:cubicBezTo>
                  <a:cubicBezTo>
                    <a:pt x="28" y="239"/>
                    <a:pt x="32" y="241"/>
                    <a:pt x="35" y="240"/>
                  </a:cubicBezTo>
                  <a:cubicBezTo>
                    <a:pt x="75" y="227"/>
                    <a:pt x="75" y="227"/>
                    <a:pt x="75" y="227"/>
                  </a:cubicBezTo>
                  <a:cubicBezTo>
                    <a:pt x="78" y="230"/>
                    <a:pt x="81" y="233"/>
                    <a:pt x="84" y="235"/>
                  </a:cubicBezTo>
                  <a:cubicBezTo>
                    <a:pt x="79" y="276"/>
                    <a:pt x="79" y="276"/>
                    <a:pt x="79" y="276"/>
                  </a:cubicBezTo>
                  <a:cubicBezTo>
                    <a:pt x="78" y="280"/>
                    <a:pt x="80" y="283"/>
                    <a:pt x="83" y="284"/>
                  </a:cubicBezTo>
                  <a:cubicBezTo>
                    <a:pt x="109" y="293"/>
                    <a:pt x="109" y="293"/>
                    <a:pt x="109" y="293"/>
                  </a:cubicBezTo>
                  <a:cubicBezTo>
                    <a:pt x="112" y="294"/>
                    <a:pt x="116" y="293"/>
                    <a:pt x="118" y="291"/>
                  </a:cubicBezTo>
                  <a:cubicBezTo>
                    <a:pt x="140" y="255"/>
                    <a:pt x="140" y="255"/>
                    <a:pt x="140" y="255"/>
                  </a:cubicBezTo>
                  <a:cubicBezTo>
                    <a:pt x="142" y="255"/>
                    <a:pt x="144" y="256"/>
                    <a:pt x="146" y="256"/>
                  </a:cubicBezTo>
                  <a:cubicBezTo>
                    <a:pt x="148" y="256"/>
                    <a:pt x="150" y="255"/>
                    <a:pt x="152" y="255"/>
                  </a:cubicBezTo>
                  <a:cubicBezTo>
                    <a:pt x="174" y="291"/>
                    <a:pt x="174" y="291"/>
                    <a:pt x="174" y="291"/>
                  </a:cubicBezTo>
                  <a:cubicBezTo>
                    <a:pt x="176" y="293"/>
                    <a:pt x="180" y="294"/>
                    <a:pt x="183" y="293"/>
                  </a:cubicBezTo>
                  <a:cubicBezTo>
                    <a:pt x="209" y="284"/>
                    <a:pt x="209" y="284"/>
                    <a:pt x="209" y="284"/>
                  </a:cubicBezTo>
                  <a:cubicBezTo>
                    <a:pt x="212" y="283"/>
                    <a:pt x="214" y="280"/>
                    <a:pt x="213" y="276"/>
                  </a:cubicBezTo>
                  <a:cubicBezTo>
                    <a:pt x="208" y="235"/>
                    <a:pt x="208" y="235"/>
                    <a:pt x="208" y="235"/>
                  </a:cubicBezTo>
                  <a:cubicBezTo>
                    <a:pt x="211" y="232"/>
                    <a:pt x="214" y="230"/>
                    <a:pt x="217" y="227"/>
                  </a:cubicBezTo>
                  <a:cubicBezTo>
                    <a:pt x="257" y="240"/>
                    <a:pt x="257" y="240"/>
                    <a:pt x="257" y="240"/>
                  </a:cubicBezTo>
                  <a:cubicBezTo>
                    <a:pt x="260" y="241"/>
                    <a:pt x="264" y="239"/>
                    <a:pt x="265" y="237"/>
                  </a:cubicBezTo>
                  <a:cubicBezTo>
                    <a:pt x="279" y="213"/>
                    <a:pt x="279" y="213"/>
                    <a:pt x="279" y="213"/>
                  </a:cubicBezTo>
                  <a:cubicBezTo>
                    <a:pt x="281" y="210"/>
                    <a:pt x="280" y="206"/>
                    <a:pt x="278" y="204"/>
                  </a:cubicBezTo>
                  <a:cubicBezTo>
                    <a:pt x="247" y="176"/>
                    <a:pt x="247" y="176"/>
                    <a:pt x="247" y="176"/>
                  </a:cubicBezTo>
                  <a:cubicBezTo>
                    <a:pt x="248" y="172"/>
                    <a:pt x="248" y="168"/>
                    <a:pt x="249" y="164"/>
                  </a:cubicBezTo>
                  <a:cubicBezTo>
                    <a:pt x="288" y="148"/>
                    <a:pt x="288" y="148"/>
                    <a:pt x="288" y="148"/>
                  </a:cubicBezTo>
                  <a:cubicBezTo>
                    <a:pt x="291" y="147"/>
                    <a:pt x="292" y="144"/>
                    <a:pt x="292" y="140"/>
                  </a:cubicBezTo>
                  <a:close/>
                  <a:moveTo>
                    <a:pt x="204" y="152"/>
                  </a:moveTo>
                  <a:cubicBezTo>
                    <a:pt x="204" y="168"/>
                    <a:pt x="197" y="182"/>
                    <a:pt x="187" y="193"/>
                  </a:cubicBezTo>
                  <a:cubicBezTo>
                    <a:pt x="176" y="203"/>
                    <a:pt x="162" y="210"/>
                    <a:pt x="146" y="210"/>
                  </a:cubicBezTo>
                  <a:cubicBezTo>
                    <a:pt x="130" y="210"/>
                    <a:pt x="116" y="203"/>
                    <a:pt x="105" y="193"/>
                  </a:cubicBezTo>
                  <a:cubicBezTo>
                    <a:pt x="95" y="182"/>
                    <a:pt x="88" y="168"/>
                    <a:pt x="88" y="152"/>
                  </a:cubicBezTo>
                  <a:cubicBezTo>
                    <a:pt x="88" y="136"/>
                    <a:pt x="95" y="121"/>
                    <a:pt x="105" y="111"/>
                  </a:cubicBezTo>
                  <a:cubicBezTo>
                    <a:pt x="116" y="100"/>
                    <a:pt x="130" y="94"/>
                    <a:pt x="146" y="94"/>
                  </a:cubicBezTo>
                  <a:cubicBezTo>
                    <a:pt x="162" y="94"/>
                    <a:pt x="176" y="100"/>
                    <a:pt x="187" y="111"/>
                  </a:cubicBezTo>
                  <a:cubicBezTo>
                    <a:pt x="197" y="121"/>
                    <a:pt x="204" y="136"/>
                    <a:pt x="204" y="15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88"/>
            <p:cNvSpPr/>
            <p:nvPr/>
          </p:nvSpPr>
          <p:spPr>
            <a:xfrm>
              <a:off x="6863760" y="3523680"/>
              <a:ext cx="167400" cy="18000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48" h="160">
                  <a:moveTo>
                    <a:pt x="129" y="91"/>
                  </a:moveTo>
                  <a:cubicBezTo>
                    <a:pt x="130" y="88"/>
                    <a:pt x="131" y="84"/>
                    <a:pt x="131" y="80"/>
                  </a:cubicBezTo>
                  <a:cubicBezTo>
                    <a:pt x="131" y="77"/>
                    <a:pt x="130" y="73"/>
                    <a:pt x="129" y="70"/>
                  </a:cubicBezTo>
                  <a:cubicBezTo>
                    <a:pt x="145" y="55"/>
                    <a:pt x="145" y="55"/>
                    <a:pt x="145" y="55"/>
                  </a:cubicBezTo>
                  <a:cubicBezTo>
                    <a:pt x="147" y="54"/>
                    <a:pt x="147" y="52"/>
                    <a:pt x="147" y="50"/>
                  </a:cubicBezTo>
                  <a:cubicBezTo>
                    <a:pt x="147" y="49"/>
                    <a:pt x="147" y="47"/>
                    <a:pt x="147" y="46"/>
                  </a:cubicBezTo>
                  <a:cubicBezTo>
                    <a:pt x="140" y="34"/>
                    <a:pt x="140" y="34"/>
                    <a:pt x="140" y="34"/>
                  </a:cubicBezTo>
                  <a:cubicBezTo>
                    <a:pt x="138" y="32"/>
                    <a:pt x="136" y="31"/>
                    <a:pt x="133" y="31"/>
                  </a:cubicBezTo>
                  <a:cubicBezTo>
                    <a:pt x="133" y="31"/>
                    <a:pt x="132" y="31"/>
                    <a:pt x="131" y="31"/>
                  </a:cubicBezTo>
                  <a:cubicBezTo>
                    <a:pt x="111" y="37"/>
                    <a:pt x="111" y="37"/>
                    <a:pt x="111" y="37"/>
                  </a:cubicBezTo>
                  <a:cubicBezTo>
                    <a:pt x="105" y="33"/>
                    <a:pt x="99" y="29"/>
                    <a:pt x="92" y="27"/>
                  </a:cubicBezTo>
                  <a:cubicBezTo>
                    <a:pt x="88" y="6"/>
                    <a:pt x="88" y="6"/>
                    <a:pt x="88" y="6"/>
                  </a:cubicBezTo>
                  <a:cubicBezTo>
                    <a:pt x="87" y="3"/>
                    <a:pt x="84" y="0"/>
                    <a:pt x="81" y="0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3" y="0"/>
                    <a:pt x="61" y="3"/>
                    <a:pt x="60" y="6"/>
                  </a:cubicBezTo>
                  <a:cubicBezTo>
                    <a:pt x="55" y="27"/>
                    <a:pt x="55" y="27"/>
                    <a:pt x="55" y="27"/>
                  </a:cubicBezTo>
                  <a:cubicBezTo>
                    <a:pt x="48" y="29"/>
                    <a:pt x="42" y="33"/>
                    <a:pt x="37" y="38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1"/>
                    <a:pt x="15" y="31"/>
                    <a:pt x="14" y="31"/>
                  </a:cubicBezTo>
                  <a:cubicBezTo>
                    <a:pt x="12" y="31"/>
                    <a:pt x="9" y="32"/>
                    <a:pt x="8" y="34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0" y="47"/>
                    <a:pt x="0" y="49"/>
                    <a:pt x="0" y="50"/>
                  </a:cubicBezTo>
                  <a:cubicBezTo>
                    <a:pt x="0" y="52"/>
                    <a:pt x="1" y="54"/>
                    <a:pt x="2" y="55"/>
                  </a:cubicBezTo>
                  <a:cubicBezTo>
                    <a:pt x="19" y="70"/>
                    <a:pt x="19" y="70"/>
                    <a:pt x="19" y="70"/>
                  </a:cubicBezTo>
                  <a:cubicBezTo>
                    <a:pt x="18" y="73"/>
                    <a:pt x="17" y="77"/>
                    <a:pt x="17" y="80"/>
                  </a:cubicBezTo>
                  <a:cubicBezTo>
                    <a:pt x="17" y="84"/>
                    <a:pt x="18" y="87"/>
                    <a:pt x="19" y="91"/>
                  </a:cubicBezTo>
                  <a:cubicBezTo>
                    <a:pt x="2" y="106"/>
                    <a:pt x="2" y="106"/>
                    <a:pt x="2" y="106"/>
                  </a:cubicBezTo>
                  <a:cubicBezTo>
                    <a:pt x="1" y="107"/>
                    <a:pt x="0" y="109"/>
                    <a:pt x="0" y="111"/>
                  </a:cubicBezTo>
                  <a:cubicBezTo>
                    <a:pt x="0" y="112"/>
                    <a:pt x="0" y="113"/>
                    <a:pt x="1" y="114"/>
                  </a:cubicBezTo>
                  <a:cubicBezTo>
                    <a:pt x="8" y="126"/>
                    <a:pt x="8" y="126"/>
                    <a:pt x="8" y="126"/>
                  </a:cubicBezTo>
                  <a:cubicBezTo>
                    <a:pt x="9" y="129"/>
                    <a:pt x="12" y="130"/>
                    <a:pt x="14" y="130"/>
                  </a:cubicBezTo>
                  <a:cubicBezTo>
                    <a:pt x="15" y="130"/>
                    <a:pt x="15" y="130"/>
                    <a:pt x="16" y="130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42" y="127"/>
                    <a:pt x="48" y="131"/>
                    <a:pt x="55" y="133"/>
                  </a:cubicBezTo>
                  <a:cubicBezTo>
                    <a:pt x="60" y="155"/>
                    <a:pt x="60" y="155"/>
                    <a:pt x="60" y="155"/>
                  </a:cubicBezTo>
                  <a:cubicBezTo>
                    <a:pt x="61" y="158"/>
                    <a:pt x="63" y="160"/>
                    <a:pt x="67" y="160"/>
                  </a:cubicBezTo>
                  <a:cubicBezTo>
                    <a:pt x="81" y="160"/>
                    <a:pt x="81" y="160"/>
                    <a:pt x="81" y="160"/>
                  </a:cubicBezTo>
                  <a:cubicBezTo>
                    <a:pt x="84" y="160"/>
                    <a:pt x="87" y="158"/>
                    <a:pt x="88" y="155"/>
                  </a:cubicBezTo>
                  <a:cubicBezTo>
                    <a:pt x="92" y="134"/>
                    <a:pt x="92" y="134"/>
                    <a:pt x="92" y="134"/>
                  </a:cubicBezTo>
                  <a:cubicBezTo>
                    <a:pt x="99" y="131"/>
                    <a:pt x="105" y="128"/>
                    <a:pt x="111" y="123"/>
                  </a:cubicBezTo>
                  <a:cubicBezTo>
                    <a:pt x="131" y="130"/>
                    <a:pt x="131" y="130"/>
                    <a:pt x="131" y="130"/>
                  </a:cubicBezTo>
                  <a:cubicBezTo>
                    <a:pt x="132" y="130"/>
                    <a:pt x="133" y="130"/>
                    <a:pt x="133" y="130"/>
                  </a:cubicBezTo>
                  <a:cubicBezTo>
                    <a:pt x="136" y="130"/>
                    <a:pt x="138" y="129"/>
                    <a:pt x="140" y="126"/>
                  </a:cubicBezTo>
                  <a:cubicBezTo>
                    <a:pt x="147" y="114"/>
                    <a:pt x="147" y="114"/>
                    <a:pt x="147" y="114"/>
                  </a:cubicBezTo>
                  <a:cubicBezTo>
                    <a:pt x="147" y="113"/>
                    <a:pt x="148" y="112"/>
                    <a:pt x="147" y="111"/>
                  </a:cubicBezTo>
                  <a:cubicBezTo>
                    <a:pt x="148" y="109"/>
                    <a:pt x="147" y="107"/>
                    <a:pt x="145" y="106"/>
                  </a:cubicBezTo>
                  <a:lnTo>
                    <a:pt x="129" y="91"/>
                  </a:lnTo>
                  <a:close/>
                  <a:moveTo>
                    <a:pt x="96" y="80"/>
                  </a:moveTo>
                  <a:cubicBezTo>
                    <a:pt x="96" y="92"/>
                    <a:pt x="86" y="102"/>
                    <a:pt x="74" y="102"/>
                  </a:cubicBezTo>
                  <a:cubicBezTo>
                    <a:pt x="62" y="102"/>
                    <a:pt x="52" y="92"/>
                    <a:pt x="52" y="80"/>
                  </a:cubicBezTo>
                  <a:cubicBezTo>
                    <a:pt x="52" y="68"/>
                    <a:pt x="62" y="58"/>
                    <a:pt x="74" y="58"/>
                  </a:cubicBezTo>
                  <a:cubicBezTo>
                    <a:pt x="86" y="58"/>
                    <a:pt x="96" y="68"/>
                    <a:pt x="96" y="8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Freeform 89"/>
          <p:cNvSpPr/>
          <p:nvPr/>
        </p:nvSpPr>
        <p:spPr>
          <a:xfrm>
            <a:off x="6573240" y="4248720"/>
            <a:ext cx="463320" cy="29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298080"/>
              <a:gd name="textAreaBottom" fmla="*/ 298440 h 298080"/>
            </a:gdLst>
            <a:ahLst/>
            <a:rect l="textAreaLeft" t="textAreaTop" r="textAreaRight" b="textAreaBottom"/>
            <a:pathLst>
              <a:path w="3153" h="2031">
                <a:moveTo>
                  <a:pt x="448" y="830"/>
                </a:moveTo>
                <a:cubicBezTo>
                  <a:pt x="368" y="755"/>
                  <a:pt x="368" y="615"/>
                  <a:pt x="448" y="539"/>
                </a:cubicBezTo>
                <a:cubicBezTo>
                  <a:pt x="393" y="549"/>
                  <a:pt x="339" y="610"/>
                  <a:pt x="339" y="685"/>
                </a:cubicBezTo>
                <a:cubicBezTo>
                  <a:pt x="339" y="759"/>
                  <a:pt x="393" y="820"/>
                  <a:pt x="448" y="830"/>
                </a:cubicBezTo>
                <a:close/>
                <a:moveTo>
                  <a:pt x="2814" y="685"/>
                </a:moveTo>
                <a:cubicBezTo>
                  <a:pt x="2815" y="610"/>
                  <a:pt x="2761" y="549"/>
                  <a:pt x="2706" y="539"/>
                </a:cubicBezTo>
                <a:cubicBezTo>
                  <a:pt x="2786" y="615"/>
                  <a:pt x="2786" y="755"/>
                  <a:pt x="2706" y="830"/>
                </a:cubicBezTo>
                <a:cubicBezTo>
                  <a:pt x="2761" y="820"/>
                  <a:pt x="2815" y="759"/>
                  <a:pt x="2814" y="685"/>
                </a:cubicBezTo>
                <a:close/>
                <a:moveTo>
                  <a:pt x="2804" y="935"/>
                </a:moveTo>
                <a:cubicBezTo>
                  <a:pt x="2886" y="904"/>
                  <a:pt x="2970" y="808"/>
                  <a:pt x="2969" y="685"/>
                </a:cubicBezTo>
                <a:cubicBezTo>
                  <a:pt x="2970" y="561"/>
                  <a:pt x="2886" y="465"/>
                  <a:pt x="2804" y="434"/>
                </a:cubicBezTo>
                <a:cubicBezTo>
                  <a:pt x="2871" y="501"/>
                  <a:pt x="2915" y="591"/>
                  <a:pt x="2914" y="685"/>
                </a:cubicBezTo>
                <a:cubicBezTo>
                  <a:pt x="2915" y="778"/>
                  <a:pt x="2871" y="868"/>
                  <a:pt x="2804" y="935"/>
                </a:cubicBezTo>
                <a:close/>
                <a:moveTo>
                  <a:pt x="350" y="935"/>
                </a:moveTo>
                <a:cubicBezTo>
                  <a:pt x="282" y="868"/>
                  <a:pt x="239" y="778"/>
                  <a:pt x="239" y="685"/>
                </a:cubicBezTo>
                <a:cubicBezTo>
                  <a:pt x="239" y="591"/>
                  <a:pt x="282" y="501"/>
                  <a:pt x="350" y="434"/>
                </a:cubicBezTo>
                <a:cubicBezTo>
                  <a:pt x="267" y="465"/>
                  <a:pt x="183" y="561"/>
                  <a:pt x="184" y="685"/>
                </a:cubicBezTo>
                <a:cubicBezTo>
                  <a:pt x="183" y="808"/>
                  <a:pt x="267" y="904"/>
                  <a:pt x="350" y="935"/>
                </a:cubicBezTo>
                <a:close/>
                <a:moveTo>
                  <a:pt x="2877" y="1804"/>
                </a:moveTo>
                <a:cubicBezTo>
                  <a:pt x="2844" y="1765"/>
                  <a:pt x="2811" y="1726"/>
                  <a:pt x="2778" y="1687"/>
                </a:cubicBezTo>
                <a:cubicBezTo>
                  <a:pt x="2705" y="1601"/>
                  <a:pt x="2633" y="1516"/>
                  <a:pt x="2560" y="1430"/>
                </a:cubicBezTo>
                <a:cubicBezTo>
                  <a:pt x="2557" y="1426"/>
                  <a:pt x="2553" y="1421"/>
                  <a:pt x="2549" y="1417"/>
                </a:cubicBezTo>
                <a:cubicBezTo>
                  <a:pt x="2534" y="1399"/>
                  <a:pt x="2511" y="1389"/>
                  <a:pt x="2489" y="1381"/>
                </a:cubicBezTo>
                <a:cubicBezTo>
                  <a:pt x="2466" y="1373"/>
                  <a:pt x="2441" y="1368"/>
                  <a:pt x="2416" y="1367"/>
                </a:cubicBezTo>
                <a:cubicBezTo>
                  <a:pt x="2503" y="1344"/>
                  <a:pt x="2567" y="1266"/>
                  <a:pt x="2567" y="1172"/>
                </a:cubicBezTo>
                <a:cubicBezTo>
                  <a:pt x="2567" y="202"/>
                  <a:pt x="2567" y="202"/>
                  <a:pt x="2567" y="202"/>
                </a:cubicBezTo>
                <a:cubicBezTo>
                  <a:pt x="2567" y="90"/>
                  <a:pt x="2476" y="0"/>
                  <a:pt x="2365" y="0"/>
                </a:cubicBezTo>
                <a:cubicBezTo>
                  <a:pt x="788" y="0"/>
                  <a:pt x="788" y="0"/>
                  <a:pt x="788" y="0"/>
                </a:cubicBezTo>
                <a:cubicBezTo>
                  <a:pt x="677" y="0"/>
                  <a:pt x="586" y="90"/>
                  <a:pt x="586" y="202"/>
                </a:cubicBezTo>
                <a:cubicBezTo>
                  <a:pt x="586" y="1172"/>
                  <a:pt x="586" y="1172"/>
                  <a:pt x="586" y="1172"/>
                </a:cubicBezTo>
                <a:cubicBezTo>
                  <a:pt x="586" y="1266"/>
                  <a:pt x="651" y="1345"/>
                  <a:pt x="738" y="1368"/>
                </a:cubicBezTo>
                <a:cubicBezTo>
                  <a:pt x="689" y="1370"/>
                  <a:pt x="633" y="1388"/>
                  <a:pt x="600" y="1426"/>
                </a:cubicBezTo>
                <a:cubicBezTo>
                  <a:pt x="575" y="1457"/>
                  <a:pt x="549" y="1487"/>
                  <a:pt x="524" y="1518"/>
                </a:cubicBezTo>
                <a:cubicBezTo>
                  <a:pt x="446" y="1610"/>
                  <a:pt x="368" y="1703"/>
                  <a:pt x="290" y="1796"/>
                </a:cubicBezTo>
                <a:cubicBezTo>
                  <a:pt x="271" y="1819"/>
                  <a:pt x="235" y="1852"/>
                  <a:pt x="235" y="1884"/>
                </a:cubicBezTo>
                <a:cubicBezTo>
                  <a:pt x="235" y="1971"/>
                  <a:pt x="235" y="1971"/>
                  <a:pt x="235" y="1971"/>
                </a:cubicBezTo>
                <a:cubicBezTo>
                  <a:pt x="236" y="1982"/>
                  <a:pt x="238" y="1993"/>
                  <a:pt x="244" y="2002"/>
                </a:cubicBezTo>
                <a:cubicBezTo>
                  <a:pt x="264" y="2030"/>
                  <a:pt x="304" y="2031"/>
                  <a:pt x="336" y="2031"/>
                </a:cubicBezTo>
                <a:cubicBezTo>
                  <a:pt x="380" y="2031"/>
                  <a:pt x="2688" y="2031"/>
                  <a:pt x="2758" y="2031"/>
                </a:cubicBezTo>
                <a:cubicBezTo>
                  <a:pt x="2792" y="2031"/>
                  <a:pt x="2831" y="2027"/>
                  <a:pt x="2865" y="2020"/>
                </a:cubicBezTo>
                <a:cubicBezTo>
                  <a:pt x="2888" y="2016"/>
                  <a:pt x="2915" y="2003"/>
                  <a:pt x="2918" y="1976"/>
                </a:cubicBezTo>
                <a:cubicBezTo>
                  <a:pt x="2918" y="1882"/>
                  <a:pt x="2918" y="1882"/>
                  <a:pt x="2918" y="1882"/>
                </a:cubicBezTo>
                <a:cubicBezTo>
                  <a:pt x="2921" y="1861"/>
                  <a:pt x="2909" y="1841"/>
                  <a:pt x="2896" y="1826"/>
                </a:cubicBezTo>
                <a:cubicBezTo>
                  <a:pt x="2889" y="1818"/>
                  <a:pt x="2883" y="1811"/>
                  <a:pt x="2877" y="1804"/>
                </a:cubicBezTo>
                <a:close/>
                <a:moveTo>
                  <a:pt x="705" y="1159"/>
                </a:moveTo>
                <a:cubicBezTo>
                  <a:pt x="705" y="215"/>
                  <a:pt x="705" y="215"/>
                  <a:pt x="705" y="215"/>
                </a:cubicBezTo>
                <a:cubicBezTo>
                  <a:pt x="705" y="157"/>
                  <a:pt x="752" y="111"/>
                  <a:pt x="809" y="111"/>
                </a:cubicBezTo>
                <a:cubicBezTo>
                  <a:pt x="2344" y="111"/>
                  <a:pt x="2344" y="111"/>
                  <a:pt x="2344" y="111"/>
                </a:cubicBezTo>
                <a:cubicBezTo>
                  <a:pt x="2401" y="111"/>
                  <a:pt x="2448" y="157"/>
                  <a:pt x="2448" y="215"/>
                </a:cubicBezTo>
                <a:cubicBezTo>
                  <a:pt x="2448" y="1159"/>
                  <a:pt x="2448" y="1159"/>
                  <a:pt x="2448" y="1159"/>
                </a:cubicBezTo>
                <a:cubicBezTo>
                  <a:pt x="2448" y="1216"/>
                  <a:pt x="2401" y="1263"/>
                  <a:pt x="2344" y="1263"/>
                </a:cubicBezTo>
                <a:cubicBezTo>
                  <a:pt x="809" y="1263"/>
                  <a:pt x="809" y="1263"/>
                  <a:pt x="809" y="1263"/>
                </a:cubicBezTo>
                <a:cubicBezTo>
                  <a:pt x="752" y="1263"/>
                  <a:pt x="705" y="1216"/>
                  <a:pt x="705" y="1159"/>
                </a:cubicBezTo>
                <a:close/>
                <a:moveTo>
                  <a:pt x="2407" y="1487"/>
                </a:moveTo>
                <a:cubicBezTo>
                  <a:pt x="2407" y="1489"/>
                  <a:pt x="2406" y="1491"/>
                  <a:pt x="2404" y="1493"/>
                </a:cubicBezTo>
                <a:cubicBezTo>
                  <a:pt x="2404" y="1493"/>
                  <a:pt x="2403" y="1493"/>
                  <a:pt x="2403" y="1493"/>
                </a:cubicBezTo>
                <a:cubicBezTo>
                  <a:pt x="2403" y="1493"/>
                  <a:pt x="2403" y="1493"/>
                  <a:pt x="2403" y="1493"/>
                </a:cubicBezTo>
                <a:cubicBezTo>
                  <a:pt x="2403" y="1494"/>
                  <a:pt x="2403" y="1494"/>
                  <a:pt x="2402" y="1494"/>
                </a:cubicBezTo>
                <a:cubicBezTo>
                  <a:pt x="2402" y="1494"/>
                  <a:pt x="2402" y="1494"/>
                  <a:pt x="2401" y="1495"/>
                </a:cubicBezTo>
                <a:cubicBezTo>
                  <a:pt x="2401" y="1495"/>
                  <a:pt x="2400" y="1495"/>
                  <a:pt x="2400" y="1496"/>
                </a:cubicBezTo>
                <a:cubicBezTo>
                  <a:pt x="2399" y="1496"/>
                  <a:pt x="2399" y="1496"/>
                  <a:pt x="2398" y="1496"/>
                </a:cubicBezTo>
                <a:cubicBezTo>
                  <a:pt x="2388" y="1501"/>
                  <a:pt x="2374" y="1500"/>
                  <a:pt x="2362" y="1500"/>
                </a:cubicBezTo>
                <a:cubicBezTo>
                  <a:pt x="2304" y="1500"/>
                  <a:pt x="2304" y="1500"/>
                  <a:pt x="2304" y="1500"/>
                </a:cubicBezTo>
                <a:cubicBezTo>
                  <a:pt x="2293" y="1500"/>
                  <a:pt x="2281" y="1498"/>
                  <a:pt x="2271" y="1493"/>
                </a:cubicBezTo>
                <a:cubicBezTo>
                  <a:pt x="2267" y="1491"/>
                  <a:pt x="2263" y="1489"/>
                  <a:pt x="2260" y="1487"/>
                </a:cubicBezTo>
                <a:cubicBezTo>
                  <a:pt x="2257" y="1484"/>
                  <a:pt x="2254" y="1482"/>
                  <a:pt x="2252" y="1479"/>
                </a:cubicBezTo>
                <a:cubicBezTo>
                  <a:pt x="2250" y="1474"/>
                  <a:pt x="2250" y="1474"/>
                  <a:pt x="2250" y="1474"/>
                </a:cubicBezTo>
                <a:cubicBezTo>
                  <a:pt x="2244" y="1463"/>
                  <a:pt x="2236" y="1453"/>
                  <a:pt x="2231" y="1441"/>
                </a:cubicBezTo>
                <a:cubicBezTo>
                  <a:pt x="2227" y="1433"/>
                  <a:pt x="2231" y="1429"/>
                  <a:pt x="2238" y="1426"/>
                </a:cubicBezTo>
                <a:cubicBezTo>
                  <a:pt x="2240" y="1425"/>
                  <a:pt x="2242" y="1424"/>
                  <a:pt x="2244" y="1424"/>
                </a:cubicBezTo>
                <a:cubicBezTo>
                  <a:pt x="2248" y="1423"/>
                  <a:pt x="2253" y="1422"/>
                  <a:pt x="2258" y="1422"/>
                </a:cubicBezTo>
                <a:cubicBezTo>
                  <a:pt x="2266" y="1422"/>
                  <a:pt x="2266" y="1422"/>
                  <a:pt x="2266" y="1422"/>
                </a:cubicBezTo>
                <a:cubicBezTo>
                  <a:pt x="2266" y="1422"/>
                  <a:pt x="2266" y="1422"/>
                  <a:pt x="2266" y="1422"/>
                </a:cubicBezTo>
                <a:cubicBezTo>
                  <a:pt x="2282" y="1422"/>
                  <a:pt x="2297" y="1422"/>
                  <a:pt x="2312" y="1422"/>
                </a:cubicBezTo>
                <a:cubicBezTo>
                  <a:pt x="2313" y="1422"/>
                  <a:pt x="2313" y="1422"/>
                  <a:pt x="2313" y="1422"/>
                </a:cubicBezTo>
                <a:cubicBezTo>
                  <a:pt x="2328" y="1422"/>
                  <a:pt x="2328" y="1422"/>
                  <a:pt x="2328" y="1422"/>
                </a:cubicBezTo>
                <a:cubicBezTo>
                  <a:pt x="2333" y="1422"/>
                  <a:pt x="2339" y="1422"/>
                  <a:pt x="2344" y="1423"/>
                </a:cubicBezTo>
                <a:cubicBezTo>
                  <a:pt x="2347" y="1424"/>
                  <a:pt x="2351" y="1425"/>
                  <a:pt x="2354" y="1426"/>
                </a:cubicBezTo>
                <a:cubicBezTo>
                  <a:pt x="2355" y="1426"/>
                  <a:pt x="2355" y="1426"/>
                  <a:pt x="2356" y="1426"/>
                </a:cubicBezTo>
                <a:cubicBezTo>
                  <a:pt x="2356" y="1427"/>
                  <a:pt x="2356" y="1427"/>
                  <a:pt x="2357" y="1427"/>
                </a:cubicBezTo>
                <a:cubicBezTo>
                  <a:pt x="2357" y="1427"/>
                  <a:pt x="2358" y="1427"/>
                  <a:pt x="2358" y="1427"/>
                </a:cubicBezTo>
                <a:cubicBezTo>
                  <a:pt x="2363" y="1429"/>
                  <a:pt x="2367" y="1431"/>
                  <a:pt x="2371" y="1433"/>
                </a:cubicBezTo>
                <a:cubicBezTo>
                  <a:pt x="2374" y="1436"/>
                  <a:pt x="2377" y="1438"/>
                  <a:pt x="2379" y="1441"/>
                </a:cubicBezTo>
                <a:cubicBezTo>
                  <a:pt x="2391" y="1458"/>
                  <a:pt x="2391" y="1458"/>
                  <a:pt x="2391" y="1458"/>
                </a:cubicBezTo>
                <a:cubicBezTo>
                  <a:pt x="2394" y="1463"/>
                  <a:pt x="2401" y="1471"/>
                  <a:pt x="2404" y="1478"/>
                </a:cubicBezTo>
                <a:cubicBezTo>
                  <a:pt x="2404" y="1478"/>
                  <a:pt x="2404" y="1478"/>
                  <a:pt x="2404" y="1478"/>
                </a:cubicBezTo>
                <a:cubicBezTo>
                  <a:pt x="2406" y="1481"/>
                  <a:pt x="2407" y="1484"/>
                  <a:pt x="2407" y="1487"/>
                </a:cubicBezTo>
                <a:close/>
                <a:moveTo>
                  <a:pt x="1589" y="1480"/>
                </a:moveTo>
                <a:cubicBezTo>
                  <a:pt x="1589" y="1483"/>
                  <a:pt x="1588" y="1485"/>
                  <a:pt x="1587" y="1487"/>
                </a:cubicBezTo>
                <a:cubicBezTo>
                  <a:pt x="1576" y="1507"/>
                  <a:pt x="1525" y="1502"/>
                  <a:pt x="1507" y="1502"/>
                </a:cubicBezTo>
                <a:cubicBezTo>
                  <a:pt x="1496" y="1502"/>
                  <a:pt x="1485" y="1502"/>
                  <a:pt x="1474" y="1502"/>
                </a:cubicBezTo>
                <a:cubicBezTo>
                  <a:pt x="1464" y="1502"/>
                  <a:pt x="1451" y="1500"/>
                  <a:pt x="1442" y="1493"/>
                </a:cubicBezTo>
                <a:cubicBezTo>
                  <a:pt x="1442" y="1493"/>
                  <a:pt x="1441" y="1492"/>
                  <a:pt x="1441" y="1492"/>
                </a:cubicBezTo>
                <a:cubicBezTo>
                  <a:pt x="1441" y="1492"/>
                  <a:pt x="1440" y="1491"/>
                  <a:pt x="1440" y="1491"/>
                </a:cubicBezTo>
                <a:cubicBezTo>
                  <a:pt x="1439" y="1490"/>
                  <a:pt x="1439" y="1490"/>
                  <a:pt x="1439" y="1489"/>
                </a:cubicBezTo>
                <a:cubicBezTo>
                  <a:pt x="1439" y="1489"/>
                  <a:pt x="1439" y="1489"/>
                  <a:pt x="1438" y="1489"/>
                </a:cubicBezTo>
                <a:cubicBezTo>
                  <a:pt x="1438" y="1489"/>
                  <a:pt x="1438" y="1489"/>
                  <a:pt x="1438" y="1489"/>
                </a:cubicBezTo>
                <a:cubicBezTo>
                  <a:pt x="1438" y="1488"/>
                  <a:pt x="1437" y="1487"/>
                  <a:pt x="1437" y="1486"/>
                </a:cubicBezTo>
                <a:cubicBezTo>
                  <a:pt x="1436" y="1484"/>
                  <a:pt x="1436" y="1483"/>
                  <a:pt x="1436" y="1481"/>
                </a:cubicBezTo>
                <a:cubicBezTo>
                  <a:pt x="1436" y="1479"/>
                  <a:pt x="1436" y="1479"/>
                  <a:pt x="1436" y="1479"/>
                </a:cubicBezTo>
                <a:cubicBezTo>
                  <a:pt x="1437" y="1477"/>
                  <a:pt x="1437" y="1474"/>
                  <a:pt x="1437" y="1472"/>
                </a:cubicBezTo>
                <a:cubicBezTo>
                  <a:pt x="1437" y="1471"/>
                  <a:pt x="1437" y="1471"/>
                  <a:pt x="1437" y="1471"/>
                </a:cubicBezTo>
                <a:cubicBezTo>
                  <a:pt x="1438" y="1463"/>
                  <a:pt x="1438" y="1454"/>
                  <a:pt x="1440" y="1446"/>
                </a:cubicBezTo>
                <a:cubicBezTo>
                  <a:pt x="1440" y="1443"/>
                  <a:pt x="1440" y="1443"/>
                  <a:pt x="1440" y="1443"/>
                </a:cubicBezTo>
                <a:cubicBezTo>
                  <a:pt x="1441" y="1441"/>
                  <a:pt x="1442" y="1438"/>
                  <a:pt x="1444" y="1436"/>
                </a:cubicBezTo>
                <a:cubicBezTo>
                  <a:pt x="1446" y="1434"/>
                  <a:pt x="1448" y="1433"/>
                  <a:pt x="1450" y="1431"/>
                </a:cubicBezTo>
                <a:cubicBezTo>
                  <a:pt x="1450" y="1431"/>
                  <a:pt x="1450" y="1431"/>
                  <a:pt x="1450" y="1431"/>
                </a:cubicBezTo>
                <a:cubicBezTo>
                  <a:pt x="1451" y="1431"/>
                  <a:pt x="1451" y="1430"/>
                  <a:pt x="1452" y="1430"/>
                </a:cubicBezTo>
                <a:cubicBezTo>
                  <a:pt x="1452" y="1430"/>
                  <a:pt x="1453" y="1430"/>
                  <a:pt x="1453" y="1429"/>
                </a:cubicBezTo>
                <a:cubicBezTo>
                  <a:pt x="1453" y="1429"/>
                  <a:pt x="1454" y="1429"/>
                  <a:pt x="1454" y="1429"/>
                </a:cubicBezTo>
                <a:cubicBezTo>
                  <a:pt x="1455" y="1428"/>
                  <a:pt x="1457" y="1428"/>
                  <a:pt x="1458" y="1427"/>
                </a:cubicBezTo>
                <a:cubicBezTo>
                  <a:pt x="1459" y="1427"/>
                  <a:pt x="1459" y="1427"/>
                  <a:pt x="1460" y="1427"/>
                </a:cubicBezTo>
                <a:cubicBezTo>
                  <a:pt x="1461" y="1426"/>
                  <a:pt x="1463" y="1426"/>
                  <a:pt x="1464" y="1426"/>
                </a:cubicBezTo>
                <a:cubicBezTo>
                  <a:pt x="1465" y="1426"/>
                  <a:pt x="1465" y="1425"/>
                  <a:pt x="1466" y="1425"/>
                </a:cubicBezTo>
                <a:cubicBezTo>
                  <a:pt x="1466" y="1425"/>
                  <a:pt x="1466" y="1425"/>
                  <a:pt x="1466" y="1425"/>
                </a:cubicBezTo>
                <a:cubicBezTo>
                  <a:pt x="1467" y="1425"/>
                  <a:pt x="1468" y="1425"/>
                  <a:pt x="1468" y="1425"/>
                </a:cubicBezTo>
                <a:cubicBezTo>
                  <a:pt x="1472" y="1424"/>
                  <a:pt x="1476" y="1424"/>
                  <a:pt x="1480" y="1424"/>
                </a:cubicBezTo>
                <a:cubicBezTo>
                  <a:pt x="1483" y="1424"/>
                  <a:pt x="1483" y="1424"/>
                  <a:pt x="1483" y="1424"/>
                </a:cubicBezTo>
                <a:cubicBezTo>
                  <a:pt x="1487" y="1424"/>
                  <a:pt x="1492" y="1424"/>
                  <a:pt x="1496" y="1424"/>
                </a:cubicBezTo>
                <a:cubicBezTo>
                  <a:pt x="1550" y="1424"/>
                  <a:pt x="1550" y="1424"/>
                  <a:pt x="1550" y="1424"/>
                </a:cubicBezTo>
                <a:cubicBezTo>
                  <a:pt x="1551" y="1424"/>
                  <a:pt x="1552" y="1424"/>
                  <a:pt x="1554" y="1424"/>
                </a:cubicBezTo>
                <a:cubicBezTo>
                  <a:pt x="1554" y="1424"/>
                  <a:pt x="1555" y="1424"/>
                  <a:pt x="1555" y="1424"/>
                </a:cubicBezTo>
                <a:cubicBezTo>
                  <a:pt x="1556" y="1424"/>
                  <a:pt x="1558" y="1424"/>
                  <a:pt x="1559" y="1424"/>
                </a:cubicBezTo>
                <a:cubicBezTo>
                  <a:pt x="1570" y="1425"/>
                  <a:pt x="1582" y="1428"/>
                  <a:pt x="1586" y="1438"/>
                </a:cubicBezTo>
                <a:cubicBezTo>
                  <a:pt x="1587" y="1438"/>
                  <a:pt x="1587" y="1439"/>
                  <a:pt x="1587" y="1440"/>
                </a:cubicBezTo>
                <a:cubicBezTo>
                  <a:pt x="1588" y="1440"/>
                  <a:pt x="1588" y="1440"/>
                  <a:pt x="1588" y="1440"/>
                </a:cubicBezTo>
                <a:cubicBezTo>
                  <a:pt x="1591" y="1452"/>
                  <a:pt x="1588" y="1466"/>
                  <a:pt x="1589" y="1478"/>
                </a:cubicBezTo>
                <a:lnTo>
                  <a:pt x="1589" y="1480"/>
                </a:lnTo>
                <a:close/>
                <a:moveTo>
                  <a:pt x="1511" y="1543"/>
                </a:moveTo>
                <a:cubicBezTo>
                  <a:pt x="1531" y="1543"/>
                  <a:pt x="1577" y="1537"/>
                  <a:pt x="1588" y="1559"/>
                </a:cubicBezTo>
                <a:cubicBezTo>
                  <a:pt x="1589" y="1561"/>
                  <a:pt x="1590" y="1563"/>
                  <a:pt x="1590" y="1566"/>
                </a:cubicBezTo>
                <a:cubicBezTo>
                  <a:pt x="1590" y="1589"/>
                  <a:pt x="1590" y="1589"/>
                  <a:pt x="1590" y="1589"/>
                </a:cubicBezTo>
                <a:cubicBezTo>
                  <a:pt x="1590" y="1595"/>
                  <a:pt x="1590" y="1602"/>
                  <a:pt x="1590" y="1609"/>
                </a:cubicBezTo>
                <a:cubicBezTo>
                  <a:pt x="1590" y="1609"/>
                  <a:pt x="1590" y="1609"/>
                  <a:pt x="1590" y="1609"/>
                </a:cubicBezTo>
                <a:cubicBezTo>
                  <a:pt x="1590" y="1612"/>
                  <a:pt x="1590" y="1612"/>
                  <a:pt x="1590" y="1612"/>
                </a:cubicBezTo>
                <a:cubicBezTo>
                  <a:pt x="1590" y="1615"/>
                  <a:pt x="1589" y="1619"/>
                  <a:pt x="1587" y="1622"/>
                </a:cubicBezTo>
                <a:cubicBezTo>
                  <a:pt x="1587" y="1622"/>
                  <a:pt x="1586" y="1623"/>
                  <a:pt x="1586" y="1623"/>
                </a:cubicBezTo>
                <a:cubicBezTo>
                  <a:pt x="1585" y="1624"/>
                  <a:pt x="1584" y="1625"/>
                  <a:pt x="1583" y="1626"/>
                </a:cubicBezTo>
                <a:cubicBezTo>
                  <a:pt x="1583" y="1626"/>
                  <a:pt x="1583" y="1626"/>
                  <a:pt x="1583" y="1626"/>
                </a:cubicBezTo>
                <a:cubicBezTo>
                  <a:pt x="1578" y="1631"/>
                  <a:pt x="1571" y="1634"/>
                  <a:pt x="1563" y="1636"/>
                </a:cubicBezTo>
                <a:cubicBezTo>
                  <a:pt x="1563" y="1636"/>
                  <a:pt x="1563" y="1636"/>
                  <a:pt x="1563" y="1636"/>
                </a:cubicBezTo>
                <a:cubicBezTo>
                  <a:pt x="1563" y="1636"/>
                  <a:pt x="1563" y="1636"/>
                  <a:pt x="1563" y="1636"/>
                </a:cubicBezTo>
                <a:cubicBezTo>
                  <a:pt x="1560" y="1637"/>
                  <a:pt x="1558" y="1637"/>
                  <a:pt x="1556" y="1637"/>
                </a:cubicBezTo>
                <a:cubicBezTo>
                  <a:pt x="1555" y="1637"/>
                  <a:pt x="1554" y="1637"/>
                  <a:pt x="1554" y="1638"/>
                </a:cubicBezTo>
                <a:cubicBezTo>
                  <a:pt x="1551" y="1638"/>
                  <a:pt x="1548" y="1638"/>
                  <a:pt x="1546" y="1638"/>
                </a:cubicBezTo>
                <a:cubicBezTo>
                  <a:pt x="1546" y="1638"/>
                  <a:pt x="1546" y="1638"/>
                  <a:pt x="1546" y="1638"/>
                </a:cubicBezTo>
                <a:cubicBezTo>
                  <a:pt x="1463" y="1638"/>
                  <a:pt x="1463" y="1638"/>
                  <a:pt x="1463" y="1638"/>
                </a:cubicBezTo>
                <a:cubicBezTo>
                  <a:pt x="1453" y="1638"/>
                  <a:pt x="1441" y="1636"/>
                  <a:pt x="1432" y="1631"/>
                </a:cubicBezTo>
                <a:cubicBezTo>
                  <a:pt x="1432" y="1631"/>
                  <a:pt x="1432" y="1631"/>
                  <a:pt x="1432" y="1631"/>
                </a:cubicBezTo>
                <a:cubicBezTo>
                  <a:pt x="1432" y="1631"/>
                  <a:pt x="1432" y="1630"/>
                  <a:pt x="1432" y="1630"/>
                </a:cubicBezTo>
                <a:cubicBezTo>
                  <a:pt x="1431" y="1629"/>
                  <a:pt x="1429" y="1628"/>
                  <a:pt x="1427" y="1627"/>
                </a:cubicBezTo>
                <a:cubicBezTo>
                  <a:pt x="1426" y="1626"/>
                  <a:pt x="1425" y="1624"/>
                  <a:pt x="1424" y="1623"/>
                </a:cubicBezTo>
                <a:cubicBezTo>
                  <a:pt x="1424" y="1623"/>
                  <a:pt x="1424" y="1623"/>
                  <a:pt x="1424" y="1622"/>
                </a:cubicBezTo>
                <a:cubicBezTo>
                  <a:pt x="1422" y="1619"/>
                  <a:pt x="1421" y="1616"/>
                  <a:pt x="1421" y="1612"/>
                </a:cubicBezTo>
                <a:cubicBezTo>
                  <a:pt x="1422" y="1606"/>
                  <a:pt x="1422" y="1606"/>
                  <a:pt x="1422" y="1606"/>
                </a:cubicBezTo>
                <a:cubicBezTo>
                  <a:pt x="1422" y="1606"/>
                  <a:pt x="1422" y="1606"/>
                  <a:pt x="1422" y="1606"/>
                </a:cubicBezTo>
                <a:cubicBezTo>
                  <a:pt x="1424" y="1593"/>
                  <a:pt x="1425" y="1580"/>
                  <a:pt x="1427" y="1567"/>
                </a:cubicBezTo>
                <a:cubicBezTo>
                  <a:pt x="1427" y="1566"/>
                  <a:pt x="1427" y="1566"/>
                  <a:pt x="1427" y="1566"/>
                </a:cubicBezTo>
                <a:cubicBezTo>
                  <a:pt x="1427" y="1566"/>
                  <a:pt x="1427" y="1566"/>
                  <a:pt x="1427" y="1565"/>
                </a:cubicBezTo>
                <a:cubicBezTo>
                  <a:pt x="1432" y="1536"/>
                  <a:pt x="1490" y="1543"/>
                  <a:pt x="1511" y="1543"/>
                </a:cubicBezTo>
                <a:close/>
                <a:moveTo>
                  <a:pt x="1175" y="1631"/>
                </a:moveTo>
                <a:cubicBezTo>
                  <a:pt x="1173" y="1630"/>
                  <a:pt x="1172" y="1629"/>
                  <a:pt x="1170" y="1627"/>
                </a:cubicBezTo>
                <a:cubicBezTo>
                  <a:pt x="1169" y="1626"/>
                  <a:pt x="1169" y="1625"/>
                  <a:pt x="1168" y="1624"/>
                </a:cubicBezTo>
                <a:cubicBezTo>
                  <a:pt x="1168" y="1623"/>
                  <a:pt x="1168" y="1623"/>
                  <a:pt x="1168" y="1623"/>
                </a:cubicBezTo>
                <a:cubicBezTo>
                  <a:pt x="1166" y="1620"/>
                  <a:pt x="1166" y="1616"/>
                  <a:pt x="1167" y="1613"/>
                </a:cubicBezTo>
                <a:cubicBezTo>
                  <a:pt x="1169" y="1607"/>
                  <a:pt x="1169" y="1607"/>
                  <a:pt x="1169" y="1607"/>
                </a:cubicBezTo>
                <a:cubicBezTo>
                  <a:pt x="1169" y="1607"/>
                  <a:pt x="1169" y="1607"/>
                  <a:pt x="1169" y="1607"/>
                </a:cubicBezTo>
                <a:cubicBezTo>
                  <a:pt x="1169" y="1606"/>
                  <a:pt x="1169" y="1605"/>
                  <a:pt x="1170" y="1604"/>
                </a:cubicBezTo>
                <a:cubicBezTo>
                  <a:pt x="1181" y="1567"/>
                  <a:pt x="1181" y="1567"/>
                  <a:pt x="1181" y="1567"/>
                </a:cubicBezTo>
                <a:cubicBezTo>
                  <a:pt x="1181" y="1566"/>
                  <a:pt x="1181" y="1566"/>
                  <a:pt x="1182" y="1565"/>
                </a:cubicBezTo>
                <a:cubicBezTo>
                  <a:pt x="1193" y="1537"/>
                  <a:pt x="1244" y="1543"/>
                  <a:pt x="1268" y="1543"/>
                </a:cubicBezTo>
                <a:cubicBezTo>
                  <a:pt x="1278" y="1543"/>
                  <a:pt x="1297" y="1542"/>
                  <a:pt x="1314" y="1543"/>
                </a:cubicBezTo>
                <a:cubicBezTo>
                  <a:pt x="1317" y="1544"/>
                  <a:pt x="1320" y="1544"/>
                  <a:pt x="1323" y="1545"/>
                </a:cubicBezTo>
                <a:cubicBezTo>
                  <a:pt x="1323" y="1545"/>
                  <a:pt x="1323" y="1545"/>
                  <a:pt x="1324" y="1545"/>
                </a:cubicBezTo>
                <a:cubicBezTo>
                  <a:pt x="1332" y="1547"/>
                  <a:pt x="1339" y="1551"/>
                  <a:pt x="1342" y="1556"/>
                </a:cubicBezTo>
                <a:cubicBezTo>
                  <a:pt x="1342" y="1557"/>
                  <a:pt x="1342" y="1557"/>
                  <a:pt x="1343" y="1557"/>
                </a:cubicBezTo>
                <a:cubicBezTo>
                  <a:pt x="1343" y="1558"/>
                  <a:pt x="1343" y="1558"/>
                  <a:pt x="1343" y="1558"/>
                </a:cubicBezTo>
                <a:cubicBezTo>
                  <a:pt x="1343" y="1558"/>
                  <a:pt x="1343" y="1559"/>
                  <a:pt x="1343" y="1559"/>
                </a:cubicBezTo>
                <a:cubicBezTo>
                  <a:pt x="1344" y="1561"/>
                  <a:pt x="1345" y="1564"/>
                  <a:pt x="1344" y="1567"/>
                </a:cubicBezTo>
                <a:cubicBezTo>
                  <a:pt x="1344" y="1569"/>
                  <a:pt x="1344" y="1569"/>
                  <a:pt x="1344" y="1569"/>
                </a:cubicBezTo>
                <a:cubicBezTo>
                  <a:pt x="1344" y="1569"/>
                  <a:pt x="1344" y="1569"/>
                  <a:pt x="1344" y="1569"/>
                </a:cubicBezTo>
                <a:cubicBezTo>
                  <a:pt x="1343" y="1576"/>
                  <a:pt x="1341" y="1583"/>
                  <a:pt x="1340" y="1589"/>
                </a:cubicBezTo>
                <a:cubicBezTo>
                  <a:pt x="1336" y="1612"/>
                  <a:pt x="1336" y="1612"/>
                  <a:pt x="1336" y="1612"/>
                </a:cubicBezTo>
                <a:cubicBezTo>
                  <a:pt x="1336" y="1616"/>
                  <a:pt x="1334" y="1619"/>
                  <a:pt x="1331" y="1622"/>
                </a:cubicBezTo>
                <a:cubicBezTo>
                  <a:pt x="1331" y="1623"/>
                  <a:pt x="1330" y="1623"/>
                  <a:pt x="1330" y="1623"/>
                </a:cubicBezTo>
                <a:cubicBezTo>
                  <a:pt x="1330" y="1624"/>
                  <a:pt x="1329" y="1624"/>
                  <a:pt x="1329" y="1624"/>
                </a:cubicBezTo>
                <a:cubicBezTo>
                  <a:pt x="1328" y="1625"/>
                  <a:pt x="1327" y="1626"/>
                  <a:pt x="1326" y="1627"/>
                </a:cubicBezTo>
                <a:cubicBezTo>
                  <a:pt x="1320" y="1632"/>
                  <a:pt x="1312" y="1635"/>
                  <a:pt x="1305" y="1636"/>
                </a:cubicBezTo>
                <a:cubicBezTo>
                  <a:pt x="1305" y="1637"/>
                  <a:pt x="1305" y="1637"/>
                  <a:pt x="1305" y="1637"/>
                </a:cubicBezTo>
                <a:cubicBezTo>
                  <a:pt x="1304" y="1637"/>
                  <a:pt x="1304" y="1637"/>
                  <a:pt x="1304" y="1637"/>
                </a:cubicBezTo>
                <a:cubicBezTo>
                  <a:pt x="1302" y="1637"/>
                  <a:pt x="1300" y="1638"/>
                  <a:pt x="1297" y="1638"/>
                </a:cubicBezTo>
                <a:cubicBezTo>
                  <a:pt x="1297" y="1638"/>
                  <a:pt x="1296" y="1638"/>
                  <a:pt x="1295" y="1638"/>
                </a:cubicBezTo>
                <a:cubicBezTo>
                  <a:pt x="1292" y="1638"/>
                  <a:pt x="1290" y="1639"/>
                  <a:pt x="1287" y="1639"/>
                </a:cubicBezTo>
                <a:cubicBezTo>
                  <a:pt x="1287" y="1639"/>
                  <a:pt x="1287" y="1639"/>
                  <a:pt x="1287" y="1639"/>
                </a:cubicBezTo>
                <a:cubicBezTo>
                  <a:pt x="1204" y="1639"/>
                  <a:pt x="1204" y="1639"/>
                  <a:pt x="1204" y="1639"/>
                </a:cubicBezTo>
                <a:cubicBezTo>
                  <a:pt x="1194" y="1639"/>
                  <a:pt x="1183" y="1637"/>
                  <a:pt x="1175" y="1631"/>
                </a:cubicBezTo>
                <a:cubicBezTo>
                  <a:pt x="1175" y="1631"/>
                  <a:pt x="1175" y="1631"/>
                  <a:pt x="1175" y="1631"/>
                </a:cubicBezTo>
                <a:close/>
                <a:moveTo>
                  <a:pt x="1278" y="1502"/>
                </a:moveTo>
                <a:cubicBezTo>
                  <a:pt x="1266" y="1502"/>
                  <a:pt x="1253" y="1502"/>
                  <a:pt x="1241" y="1502"/>
                </a:cubicBezTo>
                <a:cubicBezTo>
                  <a:pt x="1230" y="1502"/>
                  <a:pt x="1213" y="1500"/>
                  <a:pt x="1207" y="1489"/>
                </a:cubicBezTo>
                <a:cubicBezTo>
                  <a:pt x="1207" y="1488"/>
                  <a:pt x="1207" y="1487"/>
                  <a:pt x="1207" y="1486"/>
                </a:cubicBezTo>
                <a:cubicBezTo>
                  <a:pt x="1206" y="1486"/>
                  <a:pt x="1206" y="1485"/>
                  <a:pt x="1206" y="1484"/>
                </a:cubicBezTo>
                <a:cubicBezTo>
                  <a:pt x="1206" y="1483"/>
                  <a:pt x="1207" y="1482"/>
                  <a:pt x="1207" y="1481"/>
                </a:cubicBezTo>
                <a:cubicBezTo>
                  <a:pt x="1207" y="1481"/>
                  <a:pt x="1207" y="1481"/>
                  <a:pt x="1207" y="1481"/>
                </a:cubicBezTo>
                <a:cubicBezTo>
                  <a:pt x="1207" y="1481"/>
                  <a:pt x="1207" y="1481"/>
                  <a:pt x="1207" y="1481"/>
                </a:cubicBezTo>
                <a:cubicBezTo>
                  <a:pt x="1207" y="1478"/>
                  <a:pt x="1209" y="1474"/>
                  <a:pt x="1210" y="1472"/>
                </a:cubicBezTo>
                <a:cubicBezTo>
                  <a:pt x="1212" y="1463"/>
                  <a:pt x="1214" y="1453"/>
                  <a:pt x="1218" y="1445"/>
                </a:cubicBezTo>
                <a:cubicBezTo>
                  <a:pt x="1218" y="1444"/>
                  <a:pt x="1218" y="1444"/>
                  <a:pt x="1218" y="1444"/>
                </a:cubicBezTo>
                <a:cubicBezTo>
                  <a:pt x="1219" y="1441"/>
                  <a:pt x="1221" y="1438"/>
                  <a:pt x="1223" y="1436"/>
                </a:cubicBezTo>
                <a:cubicBezTo>
                  <a:pt x="1225" y="1435"/>
                  <a:pt x="1226" y="1434"/>
                  <a:pt x="1228" y="1433"/>
                </a:cubicBezTo>
                <a:cubicBezTo>
                  <a:pt x="1233" y="1429"/>
                  <a:pt x="1239" y="1427"/>
                  <a:pt x="1245" y="1426"/>
                </a:cubicBezTo>
                <a:cubicBezTo>
                  <a:pt x="1246" y="1426"/>
                  <a:pt x="1246" y="1426"/>
                  <a:pt x="1247" y="1426"/>
                </a:cubicBezTo>
                <a:cubicBezTo>
                  <a:pt x="1251" y="1425"/>
                  <a:pt x="1257" y="1424"/>
                  <a:pt x="1262" y="1424"/>
                </a:cubicBezTo>
                <a:cubicBezTo>
                  <a:pt x="1269" y="1424"/>
                  <a:pt x="1269" y="1424"/>
                  <a:pt x="1269" y="1424"/>
                </a:cubicBezTo>
                <a:cubicBezTo>
                  <a:pt x="1271" y="1424"/>
                  <a:pt x="1274" y="1424"/>
                  <a:pt x="1276" y="1424"/>
                </a:cubicBezTo>
                <a:cubicBezTo>
                  <a:pt x="1291" y="1424"/>
                  <a:pt x="1307" y="1424"/>
                  <a:pt x="1322" y="1424"/>
                </a:cubicBezTo>
                <a:cubicBezTo>
                  <a:pt x="1324" y="1424"/>
                  <a:pt x="1326" y="1424"/>
                  <a:pt x="1329" y="1424"/>
                </a:cubicBezTo>
                <a:cubicBezTo>
                  <a:pt x="1331" y="1424"/>
                  <a:pt x="1331" y="1424"/>
                  <a:pt x="1331" y="1424"/>
                </a:cubicBezTo>
                <a:cubicBezTo>
                  <a:pt x="1332" y="1424"/>
                  <a:pt x="1332" y="1424"/>
                  <a:pt x="1333" y="1424"/>
                </a:cubicBezTo>
                <a:cubicBezTo>
                  <a:pt x="1335" y="1424"/>
                  <a:pt x="1337" y="1424"/>
                  <a:pt x="1339" y="1425"/>
                </a:cubicBezTo>
                <a:cubicBezTo>
                  <a:pt x="1339" y="1425"/>
                  <a:pt x="1339" y="1425"/>
                  <a:pt x="1339" y="1425"/>
                </a:cubicBezTo>
                <a:cubicBezTo>
                  <a:pt x="1351" y="1426"/>
                  <a:pt x="1364" y="1429"/>
                  <a:pt x="1366" y="1439"/>
                </a:cubicBezTo>
                <a:cubicBezTo>
                  <a:pt x="1366" y="1439"/>
                  <a:pt x="1366" y="1440"/>
                  <a:pt x="1366" y="1440"/>
                </a:cubicBezTo>
                <a:cubicBezTo>
                  <a:pt x="1366" y="1440"/>
                  <a:pt x="1366" y="1440"/>
                  <a:pt x="1366" y="1441"/>
                </a:cubicBezTo>
                <a:cubicBezTo>
                  <a:pt x="1367" y="1452"/>
                  <a:pt x="1362" y="1467"/>
                  <a:pt x="1360" y="1478"/>
                </a:cubicBezTo>
                <a:cubicBezTo>
                  <a:pt x="1360" y="1478"/>
                  <a:pt x="1360" y="1478"/>
                  <a:pt x="1360" y="1478"/>
                </a:cubicBezTo>
                <a:cubicBezTo>
                  <a:pt x="1359" y="1481"/>
                  <a:pt x="1359" y="1481"/>
                  <a:pt x="1359" y="1481"/>
                </a:cubicBezTo>
                <a:cubicBezTo>
                  <a:pt x="1359" y="1483"/>
                  <a:pt x="1358" y="1485"/>
                  <a:pt x="1356" y="1487"/>
                </a:cubicBezTo>
                <a:cubicBezTo>
                  <a:pt x="1356" y="1488"/>
                  <a:pt x="1355" y="1488"/>
                  <a:pt x="1355" y="1489"/>
                </a:cubicBezTo>
                <a:cubicBezTo>
                  <a:pt x="1355" y="1489"/>
                  <a:pt x="1355" y="1489"/>
                  <a:pt x="1355" y="1489"/>
                </a:cubicBezTo>
                <a:cubicBezTo>
                  <a:pt x="1355" y="1489"/>
                  <a:pt x="1355" y="1489"/>
                  <a:pt x="1354" y="1489"/>
                </a:cubicBezTo>
                <a:cubicBezTo>
                  <a:pt x="1339" y="1507"/>
                  <a:pt x="1298" y="1502"/>
                  <a:pt x="1278" y="1502"/>
                </a:cubicBezTo>
                <a:close/>
                <a:moveTo>
                  <a:pt x="911" y="1620"/>
                </a:moveTo>
                <a:cubicBezTo>
                  <a:pt x="911" y="1619"/>
                  <a:pt x="911" y="1618"/>
                  <a:pt x="911" y="1618"/>
                </a:cubicBezTo>
                <a:cubicBezTo>
                  <a:pt x="912" y="1616"/>
                  <a:pt x="912" y="1615"/>
                  <a:pt x="913" y="1614"/>
                </a:cubicBezTo>
                <a:cubicBezTo>
                  <a:pt x="913" y="1614"/>
                  <a:pt x="913" y="1614"/>
                  <a:pt x="913" y="1613"/>
                </a:cubicBezTo>
                <a:cubicBezTo>
                  <a:pt x="913" y="1612"/>
                  <a:pt x="913" y="1612"/>
                  <a:pt x="913" y="1612"/>
                </a:cubicBezTo>
                <a:cubicBezTo>
                  <a:pt x="914" y="1611"/>
                  <a:pt x="915" y="1609"/>
                  <a:pt x="916" y="1607"/>
                </a:cubicBezTo>
                <a:cubicBezTo>
                  <a:pt x="922" y="1594"/>
                  <a:pt x="928" y="1582"/>
                  <a:pt x="935" y="1569"/>
                </a:cubicBezTo>
                <a:cubicBezTo>
                  <a:pt x="935" y="1569"/>
                  <a:pt x="935" y="1569"/>
                  <a:pt x="935" y="1569"/>
                </a:cubicBezTo>
                <a:cubicBezTo>
                  <a:pt x="935" y="1568"/>
                  <a:pt x="935" y="1568"/>
                  <a:pt x="935" y="1568"/>
                </a:cubicBezTo>
                <a:cubicBezTo>
                  <a:pt x="936" y="1567"/>
                  <a:pt x="936" y="1566"/>
                  <a:pt x="937" y="1566"/>
                </a:cubicBezTo>
                <a:cubicBezTo>
                  <a:pt x="937" y="1565"/>
                  <a:pt x="938" y="1564"/>
                  <a:pt x="938" y="1563"/>
                </a:cubicBezTo>
                <a:cubicBezTo>
                  <a:pt x="938" y="1563"/>
                  <a:pt x="938" y="1563"/>
                  <a:pt x="939" y="1563"/>
                </a:cubicBezTo>
                <a:cubicBezTo>
                  <a:pt x="956" y="1539"/>
                  <a:pt x="997" y="1544"/>
                  <a:pt x="1023" y="1544"/>
                </a:cubicBezTo>
                <a:cubicBezTo>
                  <a:pt x="1023" y="1544"/>
                  <a:pt x="1023" y="1544"/>
                  <a:pt x="1023" y="1544"/>
                </a:cubicBezTo>
                <a:cubicBezTo>
                  <a:pt x="1030" y="1544"/>
                  <a:pt x="1049" y="1542"/>
                  <a:pt x="1066" y="1544"/>
                </a:cubicBezTo>
                <a:cubicBezTo>
                  <a:pt x="1071" y="1544"/>
                  <a:pt x="1077" y="1544"/>
                  <a:pt x="1081" y="1545"/>
                </a:cubicBezTo>
                <a:cubicBezTo>
                  <a:pt x="1084" y="1546"/>
                  <a:pt x="1087" y="1547"/>
                  <a:pt x="1089" y="1548"/>
                </a:cubicBezTo>
                <a:cubicBezTo>
                  <a:pt x="1095" y="1551"/>
                  <a:pt x="1099" y="1556"/>
                  <a:pt x="1099" y="1562"/>
                </a:cubicBezTo>
                <a:cubicBezTo>
                  <a:pt x="1099" y="1562"/>
                  <a:pt x="1099" y="1562"/>
                  <a:pt x="1099" y="1562"/>
                </a:cubicBezTo>
                <a:cubicBezTo>
                  <a:pt x="1099" y="1563"/>
                  <a:pt x="1099" y="1563"/>
                  <a:pt x="1099" y="1564"/>
                </a:cubicBezTo>
                <a:cubicBezTo>
                  <a:pt x="1099" y="1565"/>
                  <a:pt x="1099" y="1566"/>
                  <a:pt x="1099" y="1567"/>
                </a:cubicBezTo>
                <a:cubicBezTo>
                  <a:pt x="1082" y="1613"/>
                  <a:pt x="1082" y="1613"/>
                  <a:pt x="1082" y="1613"/>
                </a:cubicBezTo>
                <a:cubicBezTo>
                  <a:pt x="1081" y="1617"/>
                  <a:pt x="1078" y="1620"/>
                  <a:pt x="1075" y="1623"/>
                </a:cubicBezTo>
                <a:cubicBezTo>
                  <a:pt x="1071" y="1626"/>
                  <a:pt x="1067" y="1629"/>
                  <a:pt x="1062" y="1631"/>
                </a:cubicBezTo>
                <a:cubicBezTo>
                  <a:pt x="1062" y="1632"/>
                  <a:pt x="1061" y="1632"/>
                  <a:pt x="1061" y="1632"/>
                </a:cubicBezTo>
                <a:cubicBezTo>
                  <a:pt x="1054" y="1635"/>
                  <a:pt x="1047" y="1637"/>
                  <a:pt x="1039" y="1639"/>
                </a:cubicBezTo>
                <a:cubicBezTo>
                  <a:pt x="1038" y="1639"/>
                  <a:pt x="1038" y="1639"/>
                  <a:pt x="1038" y="1639"/>
                </a:cubicBezTo>
                <a:cubicBezTo>
                  <a:pt x="1036" y="1639"/>
                  <a:pt x="1035" y="1639"/>
                  <a:pt x="1034" y="1639"/>
                </a:cubicBezTo>
                <a:cubicBezTo>
                  <a:pt x="1020" y="1640"/>
                  <a:pt x="1005" y="1639"/>
                  <a:pt x="990" y="1639"/>
                </a:cubicBezTo>
                <a:cubicBezTo>
                  <a:pt x="975" y="1639"/>
                  <a:pt x="960" y="1640"/>
                  <a:pt x="945" y="1640"/>
                </a:cubicBezTo>
                <a:cubicBezTo>
                  <a:pt x="935" y="1640"/>
                  <a:pt x="920" y="1638"/>
                  <a:pt x="914" y="1628"/>
                </a:cubicBezTo>
                <a:cubicBezTo>
                  <a:pt x="913" y="1628"/>
                  <a:pt x="913" y="1628"/>
                  <a:pt x="913" y="1627"/>
                </a:cubicBezTo>
                <a:cubicBezTo>
                  <a:pt x="913" y="1627"/>
                  <a:pt x="912" y="1626"/>
                  <a:pt x="912" y="1626"/>
                </a:cubicBezTo>
                <a:cubicBezTo>
                  <a:pt x="912" y="1625"/>
                  <a:pt x="912" y="1624"/>
                  <a:pt x="911" y="1624"/>
                </a:cubicBezTo>
                <a:cubicBezTo>
                  <a:pt x="911" y="1624"/>
                  <a:pt x="911" y="1624"/>
                  <a:pt x="911" y="1624"/>
                </a:cubicBezTo>
                <a:cubicBezTo>
                  <a:pt x="911" y="1623"/>
                  <a:pt x="911" y="1623"/>
                  <a:pt x="911" y="1623"/>
                </a:cubicBezTo>
                <a:cubicBezTo>
                  <a:pt x="911" y="1622"/>
                  <a:pt x="911" y="1621"/>
                  <a:pt x="911" y="1620"/>
                </a:cubicBezTo>
                <a:close/>
                <a:moveTo>
                  <a:pt x="910" y="1465"/>
                </a:moveTo>
                <a:cubicBezTo>
                  <a:pt x="910" y="1465"/>
                  <a:pt x="910" y="1465"/>
                  <a:pt x="910" y="1465"/>
                </a:cubicBezTo>
                <a:cubicBezTo>
                  <a:pt x="900" y="1482"/>
                  <a:pt x="900" y="1482"/>
                  <a:pt x="900" y="1482"/>
                </a:cubicBezTo>
                <a:cubicBezTo>
                  <a:pt x="899" y="1485"/>
                  <a:pt x="896" y="1488"/>
                  <a:pt x="893" y="1490"/>
                </a:cubicBezTo>
                <a:cubicBezTo>
                  <a:pt x="889" y="1493"/>
                  <a:pt x="885" y="1495"/>
                  <a:pt x="880" y="1497"/>
                </a:cubicBezTo>
                <a:cubicBezTo>
                  <a:pt x="879" y="1497"/>
                  <a:pt x="878" y="1498"/>
                  <a:pt x="876" y="1498"/>
                </a:cubicBezTo>
                <a:cubicBezTo>
                  <a:pt x="876" y="1499"/>
                  <a:pt x="875" y="1499"/>
                  <a:pt x="874" y="1499"/>
                </a:cubicBezTo>
                <a:cubicBezTo>
                  <a:pt x="874" y="1499"/>
                  <a:pt x="874" y="1499"/>
                  <a:pt x="874" y="1499"/>
                </a:cubicBezTo>
                <a:cubicBezTo>
                  <a:pt x="871" y="1500"/>
                  <a:pt x="868" y="1501"/>
                  <a:pt x="865" y="1502"/>
                </a:cubicBezTo>
                <a:cubicBezTo>
                  <a:pt x="859" y="1503"/>
                  <a:pt x="854" y="1503"/>
                  <a:pt x="848" y="1503"/>
                </a:cubicBezTo>
                <a:cubicBezTo>
                  <a:pt x="832" y="1503"/>
                  <a:pt x="832" y="1503"/>
                  <a:pt x="832" y="1503"/>
                </a:cubicBezTo>
                <a:cubicBezTo>
                  <a:pt x="832" y="1503"/>
                  <a:pt x="832" y="1503"/>
                  <a:pt x="832" y="1503"/>
                </a:cubicBezTo>
                <a:cubicBezTo>
                  <a:pt x="812" y="1503"/>
                  <a:pt x="793" y="1504"/>
                  <a:pt x="774" y="1504"/>
                </a:cubicBezTo>
                <a:cubicBezTo>
                  <a:pt x="765" y="1504"/>
                  <a:pt x="747" y="1502"/>
                  <a:pt x="745" y="1491"/>
                </a:cubicBezTo>
                <a:cubicBezTo>
                  <a:pt x="745" y="1489"/>
                  <a:pt x="745" y="1488"/>
                  <a:pt x="746" y="1486"/>
                </a:cubicBezTo>
                <a:cubicBezTo>
                  <a:pt x="747" y="1482"/>
                  <a:pt x="751" y="1478"/>
                  <a:pt x="753" y="1475"/>
                </a:cubicBezTo>
                <a:cubicBezTo>
                  <a:pt x="760" y="1464"/>
                  <a:pt x="766" y="1452"/>
                  <a:pt x="775" y="1443"/>
                </a:cubicBezTo>
                <a:cubicBezTo>
                  <a:pt x="775" y="1442"/>
                  <a:pt x="776" y="1442"/>
                  <a:pt x="776" y="1441"/>
                </a:cubicBezTo>
                <a:cubicBezTo>
                  <a:pt x="776" y="1441"/>
                  <a:pt x="777" y="1441"/>
                  <a:pt x="777" y="1441"/>
                </a:cubicBezTo>
                <a:cubicBezTo>
                  <a:pt x="799" y="1419"/>
                  <a:pt x="845" y="1425"/>
                  <a:pt x="873" y="1425"/>
                </a:cubicBezTo>
                <a:cubicBezTo>
                  <a:pt x="886" y="1425"/>
                  <a:pt x="901" y="1423"/>
                  <a:pt x="913" y="1428"/>
                </a:cubicBezTo>
                <a:cubicBezTo>
                  <a:pt x="913" y="1428"/>
                  <a:pt x="913" y="1428"/>
                  <a:pt x="913" y="1428"/>
                </a:cubicBezTo>
                <a:cubicBezTo>
                  <a:pt x="915" y="1429"/>
                  <a:pt x="916" y="1430"/>
                  <a:pt x="917" y="1430"/>
                </a:cubicBezTo>
                <a:cubicBezTo>
                  <a:pt x="917" y="1430"/>
                  <a:pt x="917" y="1431"/>
                  <a:pt x="918" y="1431"/>
                </a:cubicBezTo>
                <a:cubicBezTo>
                  <a:pt x="920" y="1432"/>
                  <a:pt x="922" y="1435"/>
                  <a:pt x="922" y="1437"/>
                </a:cubicBezTo>
                <a:cubicBezTo>
                  <a:pt x="923" y="1439"/>
                  <a:pt x="923" y="1442"/>
                  <a:pt x="921" y="1444"/>
                </a:cubicBezTo>
                <a:cubicBezTo>
                  <a:pt x="920" y="1446"/>
                  <a:pt x="920" y="1446"/>
                  <a:pt x="920" y="1446"/>
                </a:cubicBezTo>
                <a:cubicBezTo>
                  <a:pt x="918" y="1452"/>
                  <a:pt x="913" y="1460"/>
                  <a:pt x="910" y="1465"/>
                </a:cubicBezTo>
                <a:close/>
                <a:moveTo>
                  <a:pt x="1095" y="1502"/>
                </a:moveTo>
                <a:cubicBezTo>
                  <a:pt x="1093" y="1502"/>
                  <a:pt x="1091" y="1502"/>
                  <a:pt x="1089" y="1502"/>
                </a:cubicBezTo>
                <a:cubicBezTo>
                  <a:pt x="1089" y="1502"/>
                  <a:pt x="1089" y="1503"/>
                  <a:pt x="1088" y="1503"/>
                </a:cubicBezTo>
                <a:cubicBezTo>
                  <a:pt x="1077" y="1504"/>
                  <a:pt x="1066" y="1503"/>
                  <a:pt x="1054" y="1503"/>
                </a:cubicBezTo>
                <a:cubicBezTo>
                  <a:pt x="1007" y="1503"/>
                  <a:pt x="1007" y="1503"/>
                  <a:pt x="1007" y="1503"/>
                </a:cubicBezTo>
                <a:cubicBezTo>
                  <a:pt x="997" y="1503"/>
                  <a:pt x="980" y="1501"/>
                  <a:pt x="976" y="1490"/>
                </a:cubicBezTo>
                <a:cubicBezTo>
                  <a:pt x="976" y="1489"/>
                  <a:pt x="976" y="1488"/>
                  <a:pt x="976" y="1487"/>
                </a:cubicBezTo>
                <a:cubicBezTo>
                  <a:pt x="976" y="1486"/>
                  <a:pt x="976" y="1486"/>
                  <a:pt x="976" y="1485"/>
                </a:cubicBezTo>
                <a:cubicBezTo>
                  <a:pt x="977" y="1481"/>
                  <a:pt x="980" y="1477"/>
                  <a:pt x="982" y="1473"/>
                </a:cubicBezTo>
                <a:cubicBezTo>
                  <a:pt x="986" y="1463"/>
                  <a:pt x="990" y="1449"/>
                  <a:pt x="998" y="1441"/>
                </a:cubicBezTo>
                <a:cubicBezTo>
                  <a:pt x="998" y="1440"/>
                  <a:pt x="999" y="1440"/>
                  <a:pt x="999" y="1440"/>
                </a:cubicBezTo>
                <a:cubicBezTo>
                  <a:pt x="1000" y="1439"/>
                  <a:pt x="1000" y="1439"/>
                  <a:pt x="1000" y="1438"/>
                </a:cubicBezTo>
                <a:cubicBezTo>
                  <a:pt x="1001" y="1438"/>
                  <a:pt x="1001" y="1438"/>
                  <a:pt x="1001" y="1438"/>
                </a:cubicBezTo>
                <a:cubicBezTo>
                  <a:pt x="1002" y="1437"/>
                  <a:pt x="1002" y="1437"/>
                  <a:pt x="1002" y="1437"/>
                </a:cubicBezTo>
                <a:cubicBezTo>
                  <a:pt x="1003" y="1436"/>
                  <a:pt x="1003" y="1436"/>
                  <a:pt x="1003" y="1436"/>
                </a:cubicBezTo>
                <a:cubicBezTo>
                  <a:pt x="1010" y="1431"/>
                  <a:pt x="1018" y="1428"/>
                  <a:pt x="1027" y="1427"/>
                </a:cubicBezTo>
                <a:cubicBezTo>
                  <a:pt x="1027" y="1427"/>
                  <a:pt x="1027" y="1426"/>
                  <a:pt x="1028" y="1426"/>
                </a:cubicBezTo>
                <a:cubicBezTo>
                  <a:pt x="1033" y="1425"/>
                  <a:pt x="1038" y="1425"/>
                  <a:pt x="1043" y="1425"/>
                </a:cubicBezTo>
                <a:cubicBezTo>
                  <a:pt x="1072" y="1425"/>
                  <a:pt x="1072" y="1425"/>
                  <a:pt x="1072" y="1425"/>
                </a:cubicBezTo>
                <a:cubicBezTo>
                  <a:pt x="1081" y="1425"/>
                  <a:pt x="1090" y="1425"/>
                  <a:pt x="1099" y="1425"/>
                </a:cubicBezTo>
                <a:cubicBezTo>
                  <a:pt x="1112" y="1425"/>
                  <a:pt x="1130" y="1423"/>
                  <a:pt x="1140" y="1432"/>
                </a:cubicBezTo>
                <a:cubicBezTo>
                  <a:pt x="1140" y="1433"/>
                  <a:pt x="1141" y="1433"/>
                  <a:pt x="1141" y="1434"/>
                </a:cubicBezTo>
                <a:cubicBezTo>
                  <a:pt x="1142" y="1434"/>
                  <a:pt x="1142" y="1434"/>
                  <a:pt x="1142" y="1434"/>
                </a:cubicBezTo>
                <a:cubicBezTo>
                  <a:pt x="1142" y="1434"/>
                  <a:pt x="1142" y="1435"/>
                  <a:pt x="1142" y="1435"/>
                </a:cubicBezTo>
                <a:cubicBezTo>
                  <a:pt x="1143" y="1435"/>
                  <a:pt x="1143" y="1436"/>
                  <a:pt x="1143" y="1436"/>
                </a:cubicBezTo>
                <a:cubicBezTo>
                  <a:pt x="1144" y="1438"/>
                  <a:pt x="1144" y="1440"/>
                  <a:pt x="1144" y="1442"/>
                </a:cubicBezTo>
                <a:cubicBezTo>
                  <a:pt x="1143" y="1452"/>
                  <a:pt x="1135" y="1467"/>
                  <a:pt x="1133" y="1473"/>
                </a:cubicBezTo>
                <a:cubicBezTo>
                  <a:pt x="1133" y="1474"/>
                  <a:pt x="1133" y="1474"/>
                  <a:pt x="1133" y="1474"/>
                </a:cubicBezTo>
                <a:cubicBezTo>
                  <a:pt x="1132" y="1476"/>
                  <a:pt x="1131" y="1478"/>
                  <a:pt x="1130" y="1480"/>
                </a:cubicBezTo>
                <a:cubicBezTo>
                  <a:pt x="1130" y="1481"/>
                  <a:pt x="1130" y="1481"/>
                  <a:pt x="1130" y="1481"/>
                </a:cubicBezTo>
                <a:cubicBezTo>
                  <a:pt x="1130" y="1482"/>
                  <a:pt x="1129" y="1483"/>
                  <a:pt x="1129" y="1483"/>
                </a:cubicBezTo>
                <a:cubicBezTo>
                  <a:pt x="1129" y="1484"/>
                  <a:pt x="1128" y="1484"/>
                  <a:pt x="1128" y="1485"/>
                </a:cubicBezTo>
                <a:cubicBezTo>
                  <a:pt x="1128" y="1485"/>
                  <a:pt x="1127" y="1486"/>
                  <a:pt x="1127" y="1487"/>
                </a:cubicBezTo>
                <a:cubicBezTo>
                  <a:pt x="1126" y="1487"/>
                  <a:pt x="1126" y="1487"/>
                  <a:pt x="1126" y="1488"/>
                </a:cubicBezTo>
                <a:cubicBezTo>
                  <a:pt x="1125" y="1488"/>
                  <a:pt x="1125" y="1488"/>
                  <a:pt x="1125" y="1488"/>
                </a:cubicBezTo>
                <a:cubicBezTo>
                  <a:pt x="1124" y="1489"/>
                  <a:pt x="1124" y="1489"/>
                  <a:pt x="1124" y="1490"/>
                </a:cubicBezTo>
                <a:cubicBezTo>
                  <a:pt x="1122" y="1491"/>
                  <a:pt x="1121" y="1492"/>
                  <a:pt x="1119" y="1493"/>
                </a:cubicBezTo>
                <a:cubicBezTo>
                  <a:pt x="1117" y="1494"/>
                  <a:pt x="1115" y="1495"/>
                  <a:pt x="1114" y="1496"/>
                </a:cubicBezTo>
                <a:cubicBezTo>
                  <a:pt x="1113" y="1496"/>
                  <a:pt x="1113" y="1496"/>
                  <a:pt x="1113" y="1496"/>
                </a:cubicBezTo>
                <a:cubicBezTo>
                  <a:pt x="1112" y="1497"/>
                  <a:pt x="1112" y="1497"/>
                  <a:pt x="1112" y="1497"/>
                </a:cubicBezTo>
                <a:cubicBezTo>
                  <a:pt x="1106" y="1499"/>
                  <a:pt x="1100" y="1501"/>
                  <a:pt x="1095" y="1502"/>
                </a:cubicBezTo>
                <a:close/>
                <a:moveTo>
                  <a:pt x="773" y="1710"/>
                </a:moveTo>
                <a:cubicBezTo>
                  <a:pt x="773" y="1710"/>
                  <a:pt x="773" y="1710"/>
                  <a:pt x="773" y="1710"/>
                </a:cubicBezTo>
                <a:cubicBezTo>
                  <a:pt x="771" y="1721"/>
                  <a:pt x="762" y="1732"/>
                  <a:pt x="756" y="1742"/>
                </a:cubicBezTo>
                <a:cubicBezTo>
                  <a:pt x="756" y="1742"/>
                  <a:pt x="756" y="1742"/>
                  <a:pt x="756" y="1742"/>
                </a:cubicBezTo>
                <a:cubicBezTo>
                  <a:pt x="750" y="1753"/>
                  <a:pt x="744" y="1767"/>
                  <a:pt x="736" y="1777"/>
                </a:cubicBezTo>
                <a:cubicBezTo>
                  <a:pt x="735" y="1778"/>
                  <a:pt x="735" y="1779"/>
                  <a:pt x="734" y="1781"/>
                </a:cubicBezTo>
                <a:cubicBezTo>
                  <a:pt x="734" y="1781"/>
                  <a:pt x="733" y="1781"/>
                  <a:pt x="733" y="1781"/>
                </a:cubicBezTo>
                <a:cubicBezTo>
                  <a:pt x="732" y="1782"/>
                  <a:pt x="731" y="1783"/>
                  <a:pt x="730" y="1784"/>
                </a:cubicBezTo>
                <a:cubicBezTo>
                  <a:pt x="729" y="1785"/>
                  <a:pt x="729" y="1785"/>
                  <a:pt x="728" y="1786"/>
                </a:cubicBezTo>
                <a:cubicBezTo>
                  <a:pt x="728" y="1786"/>
                  <a:pt x="728" y="1786"/>
                  <a:pt x="728" y="1786"/>
                </a:cubicBezTo>
                <a:cubicBezTo>
                  <a:pt x="719" y="1794"/>
                  <a:pt x="708" y="1799"/>
                  <a:pt x="696" y="1802"/>
                </a:cubicBezTo>
                <a:cubicBezTo>
                  <a:pt x="695" y="1803"/>
                  <a:pt x="693" y="1803"/>
                  <a:pt x="692" y="1804"/>
                </a:cubicBezTo>
                <a:cubicBezTo>
                  <a:pt x="685" y="1805"/>
                  <a:pt x="678" y="1806"/>
                  <a:pt x="671" y="1806"/>
                </a:cubicBezTo>
                <a:cubicBezTo>
                  <a:pt x="665" y="1806"/>
                  <a:pt x="665" y="1806"/>
                  <a:pt x="665" y="1806"/>
                </a:cubicBezTo>
                <a:cubicBezTo>
                  <a:pt x="665" y="1806"/>
                  <a:pt x="665" y="1806"/>
                  <a:pt x="665" y="1806"/>
                </a:cubicBezTo>
                <a:cubicBezTo>
                  <a:pt x="636" y="1806"/>
                  <a:pt x="607" y="1807"/>
                  <a:pt x="578" y="1807"/>
                </a:cubicBezTo>
                <a:cubicBezTo>
                  <a:pt x="575" y="1807"/>
                  <a:pt x="573" y="1806"/>
                  <a:pt x="571" y="1806"/>
                </a:cubicBezTo>
                <a:cubicBezTo>
                  <a:pt x="567" y="1806"/>
                  <a:pt x="563" y="1805"/>
                  <a:pt x="560" y="1804"/>
                </a:cubicBezTo>
                <a:cubicBezTo>
                  <a:pt x="555" y="1802"/>
                  <a:pt x="551" y="1800"/>
                  <a:pt x="549" y="1797"/>
                </a:cubicBezTo>
                <a:cubicBezTo>
                  <a:pt x="546" y="1794"/>
                  <a:pt x="545" y="1790"/>
                  <a:pt x="545" y="1786"/>
                </a:cubicBezTo>
                <a:cubicBezTo>
                  <a:pt x="545" y="1783"/>
                  <a:pt x="546" y="1780"/>
                  <a:pt x="548" y="1777"/>
                </a:cubicBezTo>
                <a:cubicBezTo>
                  <a:pt x="548" y="1776"/>
                  <a:pt x="549" y="1776"/>
                  <a:pt x="549" y="1776"/>
                </a:cubicBezTo>
                <a:cubicBezTo>
                  <a:pt x="549" y="1775"/>
                  <a:pt x="549" y="1774"/>
                  <a:pt x="550" y="1774"/>
                </a:cubicBezTo>
                <a:cubicBezTo>
                  <a:pt x="551" y="1772"/>
                  <a:pt x="551" y="1772"/>
                  <a:pt x="551" y="1772"/>
                </a:cubicBezTo>
                <a:cubicBezTo>
                  <a:pt x="551" y="1772"/>
                  <a:pt x="551" y="1772"/>
                  <a:pt x="551" y="1772"/>
                </a:cubicBezTo>
                <a:cubicBezTo>
                  <a:pt x="558" y="1761"/>
                  <a:pt x="566" y="1750"/>
                  <a:pt x="574" y="1739"/>
                </a:cubicBezTo>
                <a:cubicBezTo>
                  <a:pt x="579" y="1730"/>
                  <a:pt x="585" y="1720"/>
                  <a:pt x="592" y="1713"/>
                </a:cubicBezTo>
                <a:cubicBezTo>
                  <a:pt x="593" y="1712"/>
                  <a:pt x="593" y="1711"/>
                  <a:pt x="594" y="1710"/>
                </a:cubicBezTo>
                <a:cubicBezTo>
                  <a:pt x="594" y="1710"/>
                  <a:pt x="595" y="1710"/>
                  <a:pt x="595" y="1710"/>
                </a:cubicBezTo>
                <a:cubicBezTo>
                  <a:pt x="596" y="1708"/>
                  <a:pt x="598" y="1707"/>
                  <a:pt x="600" y="1705"/>
                </a:cubicBezTo>
                <a:cubicBezTo>
                  <a:pt x="600" y="1705"/>
                  <a:pt x="600" y="1705"/>
                  <a:pt x="600" y="1705"/>
                </a:cubicBezTo>
                <a:cubicBezTo>
                  <a:pt x="600" y="1705"/>
                  <a:pt x="600" y="1705"/>
                  <a:pt x="600" y="1705"/>
                </a:cubicBezTo>
                <a:cubicBezTo>
                  <a:pt x="610" y="1697"/>
                  <a:pt x="622" y="1692"/>
                  <a:pt x="635" y="1690"/>
                </a:cubicBezTo>
                <a:cubicBezTo>
                  <a:pt x="635" y="1690"/>
                  <a:pt x="635" y="1690"/>
                  <a:pt x="635" y="1690"/>
                </a:cubicBezTo>
                <a:cubicBezTo>
                  <a:pt x="636" y="1690"/>
                  <a:pt x="636" y="1690"/>
                  <a:pt x="636" y="1690"/>
                </a:cubicBezTo>
                <a:cubicBezTo>
                  <a:pt x="638" y="1689"/>
                  <a:pt x="640" y="1689"/>
                  <a:pt x="643" y="1688"/>
                </a:cubicBezTo>
                <a:cubicBezTo>
                  <a:pt x="644" y="1688"/>
                  <a:pt x="646" y="1688"/>
                  <a:pt x="647" y="1688"/>
                </a:cubicBezTo>
                <a:cubicBezTo>
                  <a:pt x="649" y="1688"/>
                  <a:pt x="650" y="1688"/>
                  <a:pt x="652" y="1688"/>
                </a:cubicBezTo>
                <a:cubicBezTo>
                  <a:pt x="653" y="1687"/>
                  <a:pt x="654" y="1687"/>
                  <a:pt x="655" y="1687"/>
                </a:cubicBezTo>
                <a:cubicBezTo>
                  <a:pt x="656" y="1687"/>
                  <a:pt x="656" y="1687"/>
                  <a:pt x="656" y="1687"/>
                </a:cubicBezTo>
                <a:cubicBezTo>
                  <a:pt x="656" y="1687"/>
                  <a:pt x="656" y="1687"/>
                  <a:pt x="656" y="1687"/>
                </a:cubicBezTo>
                <a:cubicBezTo>
                  <a:pt x="683" y="1687"/>
                  <a:pt x="709" y="1687"/>
                  <a:pt x="736" y="1687"/>
                </a:cubicBezTo>
                <a:cubicBezTo>
                  <a:pt x="736" y="1687"/>
                  <a:pt x="736" y="1687"/>
                  <a:pt x="736" y="1687"/>
                </a:cubicBezTo>
                <a:cubicBezTo>
                  <a:pt x="740" y="1687"/>
                  <a:pt x="740" y="1687"/>
                  <a:pt x="740" y="1687"/>
                </a:cubicBezTo>
                <a:cubicBezTo>
                  <a:pt x="747" y="1687"/>
                  <a:pt x="753" y="1688"/>
                  <a:pt x="757" y="1689"/>
                </a:cubicBezTo>
                <a:cubicBezTo>
                  <a:pt x="759" y="1690"/>
                  <a:pt x="760" y="1690"/>
                  <a:pt x="761" y="1691"/>
                </a:cubicBezTo>
                <a:cubicBezTo>
                  <a:pt x="761" y="1691"/>
                  <a:pt x="762" y="1691"/>
                  <a:pt x="763" y="1691"/>
                </a:cubicBezTo>
                <a:cubicBezTo>
                  <a:pt x="763" y="1692"/>
                  <a:pt x="763" y="1692"/>
                  <a:pt x="764" y="1692"/>
                </a:cubicBezTo>
                <a:cubicBezTo>
                  <a:pt x="771" y="1695"/>
                  <a:pt x="775" y="1701"/>
                  <a:pt x="773" y="1710"/>
                </a:cubicBezTo>
                <a:close/>
                <a:moveTo>
                  <a:pt x="828" y="1613"/>
                </a:moveTo>
                <a:cubicBezTo>
                  <a:pt x="827" y="1614"/>
                  <a:pt x="827" y="1614"/>
                  <a:pt x="827" y="1614"/>
                </a:cubicBezTo>
                <a:cubicBezTo>
                  <a:pt x="827" y="1614"/>
                  <a:pt x="827" y="1614"/>
                  <a:pt x="827" y="1614"/>
                </a:cubicBezTo>
                <a:cubicBezTo>
                  <a:pt x="826" y="1616"/>
                  <a:pt x="825" y="1617"/>
                  <a:pt x="824" y="1619"/>
                </a:cubicBezTo>
                <a:cubicBezTo>
                  <a:pt x="824" y="1619"/>
                  <a:pt x="824" y="1619"/>
                  <a:pt x="823" y="1619"/>
                </a:cubicBezTo>
                <a:cubicBezTo>
                  <a:pt x="817" y="1627"/>
                  <a:pt x="807" y="1632"/>
                  <a:pt x="797" y="1635"/>
                </a:cubicBezTo>
                <a:cubicBezTo>
                  <a:pt x="797" y="1635"/>
                  <a:pt x="797" y="1635"/>
                  <a:pt x="797" y="1635"/>
                </a:cubicBezTo>
                <a:cubicBezTo>
                  <a:pt x="795" y="1636"/>
                  <a:pt x="794" y="1636"/>
                  <a:pt x="792" y="1636"/>
                </a:cubicBezTo>
                <a:cubicBezTo>
                  <a:pt x="791" y="1637"/>
                  <a:pt x="790" y="1637"/>
                  <a:pt x="789" y="1637"/>
                </a:cubicBezTo>
                <a:cubicBezTo>
                  <a:pt x="788" y="1637"/>
                  <a:pt x="788" y="1638"/>
                  <a:pt x="787" y="1638"/>
                </a:cubicBezTo>
                <a:cubicBezTo>
                  <a:pt x="781" y="1639"/>
                  <a:pt x="774" y="1640"/>
                  <a:pt x="768" y="1640"/>
                </a:cubicBezTo>
                <a:cubicBezTo>
                  <a:pt x="767" y="1640"/>
                  <a:pt x="767" y="1640"/>
                  <a:pt x="767" y="1640"/>
                </a:cubicBezTo>
                <a:cubicBezTo>
                  <a:pt x="756" y="1641"/>
                  <a:pt x="745" y="1640"/>
                  <a:pt x="735" y="1640"/>
                </a:cubicBezTo>
                <a:cubicBezTo>
                  <a:pt x="718" y="1640"/>
                  <a:pt x="702" y="1640"/>
                  <a:pt x="685" y="1640"/>
                </a:cubicBezTo>
                <a:cubicBezTo>
                  <a:pt x="683" y="1640"/>
                  <a:pt x="680" y="1640"/>
                  <a:pt x="677" y="1640"/>
                </a:cubicBezTo>
                <a:cubicBezTo>
                  <a:pt x="677" y="1640"/>
                  <a:pt x="677" y="1640"/>
                  <a:pt x="676" y="1640"/>
                </a:cubicBezTo>
                <a:cubicBezTo>
                  <a:pt x="674" y="1639"/>
                  <a:pt x="672" y="1639"/>
                  <a:pt x="669" y="1638"/>
                </a:cubicBezTo>
                <a:cubicBezTo>
                  <a:pt x="669" y="1638"/>
                  <a:pt x="669" y="1638"/>
                  <a:pt x="669" y="1638"/>
                </a:cubicBezTo>
                <a:cubicBezTo>
                  <a:pt x="669" y="1638"/>
                  <a:pt x="669" y="1638"/>
                  <a:pt x="669" y="1638"/>
                </a:cubicBezTo>
                <a:cubicBezTo>
                  <a:pt x="662" y="1636"/>
                  <a:pt x="655" y="1632"/>
                  <a:pt x="655" y="1624"/>
                </a:cubicBezTo>
                <a:cubicBezTo>
                  <a:pt x="655" y="1623"/>
                  <a:pt x="655" y="1621"/>
                  <a:pt x="656" y="1620"/>
                </a:cubicBezTo>
                <a:cubicBezTo>
                  <a:pt x="656" y="1619"/>
                  <a:pt x="656" y="1619"/>
                  <a:pt x="656" y="1618"/>
                </a:cubicBezTo>
                <a:cubicBezTo>
                  <a:pt x="657" y="1617"/>
                  <a:pt x="657" y="1616"/>
                  <a:pt x="658" y="1614"/>
                </a:cubicBezTo>
                <a:cubicBezTo>
                  <a:pt x="658" y="1614"/>
                  <a:pt x="658" y="1614"/>
                  <a:pt x="658" y="1614"/>
                </a:cubicBezTo>
                <a:cubicBezTo>
                  <a:pt x="659" y="1613"/>
                  <a:pt x="659" y="1613"/>
                  <a:pt x="659" y="1613"/>
                </a:cubicBezTo>
                <a:cubicBezTo>
                  <a:pt x="660" y="1612"/>
                  <a:pt x="661" y="1610"/>
                  <a:pt x="662" y="1609"/>
                </a:cubicBezTo>
                <a:cubicBezTo>
                  <a:pt x="670" y="1597"/>
                  <a:pt x="678" y="1585"/>
                  <a:pt x="686" y="1572"/>
                </a:cubicBezTo>
                <a:cubicBezTo>
                  <a:pt x="687" y="1572"/>
                  <a:pt x="687" y="1572"/>
                  <a:pt x="687" y="1572"/>
                </a:cubicBezTo>
                <a:cubicBezTo>
                  <a:pt x="689" y="1568"/>
                  <a:pt x="689" y="1568"/>
                  <a:pt x="689" y="1568"/>
                </a:cubicBezTo>
                <a:cubicBezTo>
                  <a:pt x="692" y="1565"/>
                  <a:pt x="695" y="1562"/>
                  <a:pt x="699" y="1559"/>
                </a:cubicBezTo>
                <a:cubicBezTo>
                  <a:pt x="702" y="1557"/>
                  <a:pt x="705" y="1555"/>
                  <a:pt x="708" y="1554"/>
                </a:cubicBezTo>
                <a:cubicBezTo>
                  <a:pt x="709" y="1553"/>
                  <a:pt x="710" y="1553"/>
                  <a:pt x="711" y="1552"/>
                </a:cubicBezTo>
                <a:cubicBezTo>
                  <a:pt x="712" y="1552"/>
                  <a:pt x="712" y="1552"/>
                  <a:pt x="713" y="1551"/>
                </a:cubicBezTo>
                <a:cubicBezTo>
                  <a:pt x="713" y="1551"/>
                  <a:pt x="714" y="1551"/>
                  <a:pt x="714" y="1551"/>
                </a:cubicBezTo>
                <a:cubicBezTo>
                  <a:pt x="715" y="1551"/>
                  <a:pt x="715" y="1551"/>
                  <a:pt x="716" y="1550"/>
                </a:cubicBezTo>
                <a:cubicBezTo>
                  <a:pt x="720" y="1549"/>
                  <a:pt x="725" y="1547"/>
                  <a:pt x="730" y="1546"/>
                </a:cubicBezTo>
                <a:cubicBezTo>
                  <a:pt x="735" y="1545"/>
                  <a:pt x="741" y="1544"/>
                  <a:pt x="747" y="1544"/>
                </a:cubicBezTo>
                <a:cubicBezTo>
                  <a:pt x="763" y="1544"/>
                  <a:pt x="763" y="1544"/>
                  <a:pt x="763" y="1544"/>
                </a:cubicBezTo>
                <a:cubicBezTo>
                  <a:pt x="767" y="1544"/>
                  <a:pt x="770" y="1544"/>
                  <a:pt x="774" y="1544"/>
                </a:cubicBezTo>
                <a:cubicBezTo>
                  <a:pt x="789" y="1544"/>
                  <a:pt x="803" y="1544"/>
                  <a:pt x="818" y="1544"/>
                </a:cubicBezTo>
                <a:cubicBezTo>
                  <a:pt x="818" y="1544"/>
                  <a:pt x="818" y="1544"/>
                  <a:pt x="818" y="1544"/>
                </a:cubicBezTo>
                <a:cubicBezTo>
                  <a:pt x="824" y="1544"/>
                  <a:pt x="824" y="1544"/>
                  <a:pt x="824" y="1544"/>
                </a:cubicBezTo>
                <a:cubicBezTo>
                  <a:pt x="830" y="1544"/>
                  <a:pt x="835" y="1545"/>
                  <a:pt x="839" y="1546"/>
                </a:cubicBezTo>
                <a:cubicBezTo>
                  <a:pt x="843" y="1547"/>
                  <a:pt x="845" y="1548"/>
                  <a:pt x="847" y="1549"/>
                </a:cubicBezTo>
                <a:cubicBezTo>
                  <a:pt x="854" y="1553"/>
                  <a:pt x="858" y="1559"/>
                  <a:pt x="853" y="1568"/>
                </a:cubicBezTo>
                <a:cubicBezTo>
                  <a:pt x="848" y="1579"/>
                  <a:pt x="841" y="1590"/>
                  <a:pt x="835" y="1600"/>
                </a:cubicBezTo>
                <a:cubicBezTo>
                  <a:pt x="828" y="1613"/>
                  <a:pt x="828" y="1613"/>
                  <a:pt x="828" y="1613"/>
                </a:cubicBezTo>
                <a:cubicBezTo>
                  <a:pt x="828" y="1613"/>
                  <a:pt x="828" y="1613"/>
                  <a:pt x="828" y="1613"/>
                </a:cubicBezTo>
                <a:close/>
                <a:moveTo>
                  <a:pt x="1592" y="1771"/>
                </a:moveTo>
                <a:cubicBezTo>
                  <a:pt x="1592" y="1773"/>
                  <a:pt x="1592" y="1775"/>
                  <a:pt x="1591" y="1777"/>
                </a:cubicBezTo>
                <a:cubicBezTo>
                  <a:pt x="1591" y="1778"/>
                  <a:pt x="1591" y="1778"/>
                  <a:pt x="1591" y="1778"/>
                </a:cubicBezTo>
                <a:cubicBezTo>
                  <a:pt x="1590" y="1780"/>
                  <a:pt x="1590" y="1782"/>
                  <a:pt x="1589" y="1783"/>
                </a:cubicBezTo>
                <a:cubicBezTo>
                  <a:pt x="1589" y="1783"/>
                  <a:pt x="1589" y="1783"/>
                  <a:pt x="1589" y="1784"/>
                </a:cubicBezTo>
                <a:cubicBezTo>
                  <a:pt x="1588" y="1784"/>
                  <a:pt x="1588" y="1784"/>
                  <a:pt x="1588" y="1784"/>
                </a:cubicBezTo>
                <a:cubicBezTo>
                  <a:pt x="1587" y="1786"/>
                  <a:pt x="1586" y="1788"/>
                  <a:pt x="1584" y="1789"/>
                </a:cubicBezTo>
                <a:cubicBezTo>
                  <a:pt x="1584" y="1789"/>
                  <a:pt x="1584" y="1789"/>
                  <a:pt x="1584" y="1789"/>
                </a:cubicBezTo>
                <a:cubicBezTo>
                  <a:pt x="1582" y="1791"/>
                  <a:pt x="1581" y="1792"/>
                  <a:pt x="1579" y="1794"/>
                </a:cubicBezTo>
                <a:cubicBezTo>
                  <a:pt x="1578" y="1794"/>
                  <a:pt x="1578" y="1794"/>
                  <a:pt x="1578" y="1794"/>
                </a:cubicBezTo>
                <a:cubicBezTo>
                  <a:pt x="1578" y="1794"/>
                  <a:pt x="1577" y="1795"/>
                  <a:pt x="1577" y="1795"/>
                </a:cubicBezTo>
                <a:cubicBezTo>
                  <a:pt x="1575" y="1796"/>
                  <a:pt x="1573" y="1797"/>
                  <a:pt x="1571" y="1798"/>
                </a:cubicBezTo>
                <a:cubicBezTo>
                  <a:pt x="1571" y="1798"/>
                  <a:pt x="1571" y="1798"/>
                  <a:pt x="1570" y="1798"/>
                </a:cubicBezTo>
                <a:cubicBezTo>
                  <a:pt x="1569" y="1799"/>
                  <a:pt x="1567" y="1800"/>
                  <a:pt x="1566" y="1800"/>
                </a:cubicBezTo>
                <a:cubicBezTo>
                  <a:pt x="1565" y="1800"/>
                  <a:pt x="1564" y="1801"/>
                  <a:pt x="1563" y="1801"/>
                </a:cubicBezTo>
                <a:cubicBezTo>
                  <a:pt x="1563" y="1801"/>
                  <a:pt x="1563" y="1801"/>
                  <a:pt x="1562" y="1801"/>
                </a:cubicBezTo>
                <a:cubicBezTo>
                  <a:pt x="1562" y="1801"/>
                  <a:pt x="1561" y="1801"/>
                  <a:pt x="1561" y="1802"/>
                </a:cubicBezTo>
                <a:cubicBezTo>
                  <a:pt x="1559" y="1802"/>
                  <a:pt x="1557" y="1802"/>
                  <a:pt x="1555" y="1803"/>
                </a:cubicBezTo>
                <a:cubicBezTo>
                  <a:pt x="1553" y="1803"/>
                  <a:pt x="1551" y="1803"/>
                  <a:pt x="1550" y="1803"/>
                </a:cubicBezTo>
                <a:cubicBezTo>
                  <a:pt x="1548" y="1804"/>
                  <a:pt x="1546" y="1804"/>
                  <a:pt x="1544" y="1804"/>
                </a:cubicBezTo>
                <a:cubicBezTo>
                  <a:pt x="1544" y="1804"/>
                  <a:pt x="1543" y="1804"/>
                  <a:pt x="1542" y="1804"/>
                </a:cubicBezTo>
                <a:cubicBezTo>
                  <a:pt x="1540" y="1804"/>
                  <a:pt x="1540" y="1804"/>
                  <a:pt x="1540" y="1804"/>
                </a:cubicBezTo>
                <a:cubicBezTo>
                  <a:pt x="1540" y="1804"/>
                  <a:pt x="1540" y="1804"/>
                  <a:pt x="1540" y="1804"/>
                </a:cubicBezTo>
                <a:cubicBezTo>
                  <a:pt x="1530" y="1804"/>
                  <a:pt x="1519" y="1804"/>
                  <a:pt x="1509" y="1804"/>
                </a:cubicBezTo>
                <a:cubicBezTo>
                  <a:pt x="1461" y="1804"/>
                  <a:pt x="908" y="1806"/>
                  <a:pt x="869" y="1806"/>
                </a:cubicBezTo>
                <a:cubicBezTo>
                  <a:pt x="866" y="1806"/>
                  <a:pt x="863" y="1806"/>
                  <a:pt x="861" y="1805"/>
                </a:cubicBezTo>
                <a:cubicBezTo>
                  <a:pt x="857" y="1805"/>
                  <a:pt x="853" y="1804"/>
                  <a:pt x="850" y="1803"/>
                </a:cubicBezTo>
                <a:cubicBezTo>
                  <a:pt x="845" y="1802"/>
                  <a:pt x="841" y="1799"/>
                  <a:pt x="838" y="1796"/>
                </a:cubicBezTo>
                <a:cubicBezTo>
                  <a:pt x="835" y="1793"/>
                  <a:pt x="833" y="1790"/>
                  <a:pt x="832" y="1786"/>
                </a:cubicBezTo>
                <a:cubicBezTo>
                  <a:pt x="832" y="1782"/>
                  <a:pt x="832" y="1778"/>
                  <a:pt x="834" y="1773"/>
                </a:cubicBezTo>
                <a:cubicBezTo>
                  <a:pt x="836" y="1771"/>
                  <a:pt x="836" y="1771"/>
                  <a:pt x="836" y="1771"/>
                </a:cubicBezTo>
                <a:cubicBezTo>
                  <a:pt x="836" y="1771"/>
                  <a:pt x="836" y="1771"/>
                  <a:pt x="836" y="1771"/>
                </a:cubicBezTo>
                <a:cubicBezTo>
                  <a:pt x="842" y="1758"/>
                  <a:pt x="848" y="1745"/>
                  <a:pt x="854" y="1732"/>
                </a:cubicBezTo>
                <a:cubicBezTo>
                  <a:pt x="856" y="1730"/>
                  <a:pt x="857" y="1728"/>
                  <a:pt x="858" y="1726"/>
                </a:cubicBezTo>
                <a:cubicBezTo>
                  <a:pt x="862" y="1716"/>
                  <a:pt x="862" y="1716"/>
                  <a:pt x="862" y="1716"/>
                </a:cubicBezTo>
                <a:cubicBezTo>
                  <a:pt x="864" y="1712"/>
                  <a:pt x="868" y="1708"/>
                  <a:pt x="872" y="1704"/>
                </a:cubicBezTo>
                <a:cubicBezTo>
                  <a:pt x="873" y="1704"/>
                  <a:pt x="874" y="1703"/>
                  <a:pt x="875" y="1702"/>
                </a:cubicBezTo>
                <a:cubicBezTo>
                  <a:pt x="875" y="1702"/>
                  <a:pt x="876" y="1701"/>
                  <a:pt x="877" y="1701"/>
                </a:cubicBezTo>
                <a:cubicBezTo>
                  <a:pt x="878" y="1700"/>
                  <a:pt x="878" y="1700"/>
                  <a:pt x="879" y="1699"/>
                </a:cubicBezTo>
                <a:cubicBezTo>
                  <a:pt x="880" y="1699"/>
                  <a:pt x="880" y="1699"/>
                  <a:pt x="880" y="1699"/>
                </a:cubicBezTo>
                <a:cubicBezTo>
                  <a:pt x="881" y="1698"/>
                  <a:pt x="881" y="1698"/>
                  <a:pt x="882" y="1698"/>
                </a:cubicBezTo>
                <a:cubicBezTo>
                  <a:pt x="883" y="1697"/>
                  <a:pt x="885" y="1696"/>
                  <a:pt x="886" y="1695"/>
                </a:cubicBezTo>
                <a:cubicBezTo>
                  <a:pt x="887" y="1695"/>
                  <a:pt x="888" y="1695"/>
                  <a:pt x="889" y="1694"/>
                </a:cubicBezTo>
                <a:cubicBezTo>
                  <a:pt x="890" y="1694"/>
                  <a:pt x="891" y="1693"/>
                  <a:pt x="893" y="1693"/>
                </a:cubicBezTo>
                <a:cubicBezTo>
                  <a:pt x="895" y="1692"/>
                  <a:pt x="897" y="1691"/>
                  <a:pt x="899" y="1690"/>
                </a:cubicBezTo>
                <a:cubicBezTo>
                  <a:pt x="900" y="1690"/>
                  <a:pt x="901" y="1690"/>
                  <a:pt x="903" y="1689"/>
                </a:cubicBezTo>
                <a:cubicBezTo>
                  <a:pt x="903" y="1689"/>
                  <a:pt x="904" y="1689"/>
                  <a:pt x="904" y="1689"/>
                </a:cubicBezTo>
                <a:cubicBezTo>
                  <a:pt x="910" y="1687"/>
                  <a:pt x="917" y="1687"/>
                  <a:pt x="923" y="1687"/>
                </a:cubicBezTo>
                <a:cubicBezTo>
                  <a:pt x="923" y="1687"/>
                  <a:pt x="1503" y="1685"/>
                  <a:pt x="1525" y="1685"/>
                </a:cubicBezTo>
                <a:cubicBezTo>
                  <a:pt x="1531" y="1685"/>
                  <a:pt x="1538" y="1685"/>
                  <a:pt x="1545" y="1685"/>
                </a:cubicBezTo>
                <a:cubicBezTo>
                  <a:pt x="1548" y="1685"/>
                  <a:pt x="1551" y="1685"/>
                  <a:pt x="1554" y="1686"/>
                </a:cubicBezTo>
                <a:cubicBezTo>
                  <a:pt x="1554" y="1686"/>
                  <a:pt x="1555" y="1686"/>
                  <a:pt x="1555" y="1686"/>
                </a:cubicBezTo>
                <a:cubicBezTo>
                  <a:pt x="1557" y="1686"/>
                  <a:pt x="1560" y="1686"/>
                  <a:pt x="1562" y="1687"/>
                </a:cubicBezTo>
                <a:cubicBezTo>
                  <a:pt x="1562" y="1687"/>
                  <a:pt x="1563" y="1687"/>
                  <a:pt x="1563" y="1687"/>
                </a:cubicBezTo>
                <a:cubicBezTo>
                  <a:pt x="1563" y="1687"/>
                  <a:pt x="1563" y="1687"/>
                  <a:pt x="1563" y="1687"/>
                </a:cubicBezTo>
                <a:cubicBezTo>
                  <a:pt x="1566" y="1688"/>
                  <a:pt x="1568" y="1689"/>
                  <a:pt x="1570" y="1690"/>
                </a:cubicBezTo>
                <a:cubicBezTo>
                  <a:pt x="1570" y="1690"/>
                  <a:pt x="1571" y="1690"/>
                  <a:pt x="1571" y="1690"/>
                </a:cubicBezTo>
                <a:cubicBezTo>
                  <a:pt x="1573" y="1691"/>
                  <a:pt x="1575" y="1692"/>
                  <a:pt x="1577" y="1693"/>
                </a:cubicBezTo>
                <a:cubicBezTo>
                  <a:pt x="1577" y="1693"/>
                  <a:pt x="1577" y="1693"/>
                  <a:pt x="1578" y="1693"/>
                </a:cubicBezTo>
                <a:cubicBezTo>
                  <a:pt x="1578" y="1694"/>
                  <a:pt x="1578" y="1694"/>
                  <a:pt x="1578" y="1694"/>
                </a:cubicBezTo>
                <a:cubicBezTo>
                  <a:pt x="1580" y="1695"/>
                  <a:pt x="1581" y="1696"/>
                  <a:pt x="1582" y="1697"/>
                </a:cubicBezTo>
                <a:cubicBezTo>
                  <a:pt x="1584" y="1698"/>
                  <a:pt x="1586" y="1700"/>
                  <a:pt x="1588" y="1703"/>
                </a:cubicBezTo>
                <a:cubicBezTo>
                  <a:pt x="1590" y="1706"/>
                  <a:pt x="1592" y="1710"/>
                  <a:pt x="1592" y="1714"/>
                </a:cubicBezTo>
                <a:cubicBezTo>
                  <a:pt x="1592" y="1717"/>
                  <a:pt x="1592" y="1717"/>
                  <a:pt x="1592" y="1717"/>
                </a:cubicBezTo>
                <a:cubicBezTo>
                  <a:pt x="1592" y="1717"/>
                  <a:pt x="1592" y="1717"/>
                  <a:pt x="1592" y="1717"/>
                </a:cubicBezTo>
                <a:cubicBezTo>
                  <a:pt x="1592" y="1731"/>
                  <a:pt x="1592" y="1746"/>
                  <a:pt x="1592" y="1760"/>
                </a:cubicBezTo>
                <a:cubicBezTo>
                  <a:pt x="1592" y="1764"/>
                  <a:pt x="1593" y="1767"/>
                  <a:pt x="1592" y="1771"/>
                </a:cubicBezTo>
                <a:close/>
                <a:moveTo>
                  <a:pt x="1671" y="1490"/>
                </a:moveTo>
                <a:cubicBezTo>
                  <a:pt x="1671" y="1490"/>
                  <a:pt x="1670" y="1489"/>
                  <a:pt x="1670" y="1489"/>
                </a:cubicBezTo>
                <a:cubicBezTo>
                  <a:pt x="1670" y="1489"/>
                  <a:pt x="1669" y="1489"/>
                  <a:pt x="1669" y="1488"/>
                </a:cubicBezTo>
                <a:cubicBezTo>
                  <a:pt x="1667" y="1486"/>
                  <a:pt x="1666" y="1483"/>
                  <a:pt x="1665" y="1480"/>
                </a:cubicBezTo>
                <a:cubicBezTo>
                  <a:pt x="1665" y="1477"/>
                  <a:pt x="1665" y="1477"/>
                  <a:pt x="1665" y="1477"/>
                </a:cubicBezTo>
                <a:cubicBezTo>
                  <a:pt x="1665" y="1475"/>
                  <a:pt x="1665" y="1473"/>
                  <a:pt x="1665" y="1471"/>
                </a:cubicBezTo>
                <a:cubicBezTo>
                  <a:pt x="1665" y="1471"/>
                  <a:pt x="1665" y="1471"/>
                  <a:pt x="1665" y="1471"/>
                </a:cubicBezTo>
                <a:cubicBezTo>
                  <a:pt x="1664" y="1463"/>
                  <a:pt x="1662" y="1454"/>
                  <a:pt x="1663" y="1445"/>
                </a:cubicBezTo>
                <a:cubicBezTo>
                  <a:pt x="1663" y="1443"/>
                  <a:pt x="1663" y="1443"/>
                  <a:pt x="1663" y="1443"/>
                </a:cubicBezTo>
                <a:cubicBezTo>
                  <a:pt x="1662" y="1440"/>
                  <a:pt x="1663" y="1437"/>
                  <a:pt x="1665" y="1435"/>
                </a:cubicBezTo>
                <a:cubicBezTo>
                  <a:pt x="1667" y="1433"/>
                  <a:pt x="1669" y="1431"/>
                  <a:pt x="1673" y="1429"/>
                </a:cubicBezTo>
                <a:cubicBezTo>
                  <a:pt x="1676" y="1427"/>
                  <a:pt x="1680" y="1426"/>
                  <a:pt x="1684" y="1425"/>
                </a:cubicBezTo>
                <a:cubicBezTo>
                  <a:pt x="1684" y="1425"/>
                  <a:pt x="1684" y="1425"/>
                  <a:pt x="1684" y="1425"/>
                </a:cubicBezTo>
                <a:cubicBezTo>
                  <a:pt x="1685" y="1425"/>
                  <a:pt x="1685" y="1425"/>
                  <a:pt x="1685" y="1425"/>
                </a:cubicBezTo>
                <a:cubicBezTo>
                  <a:pt x="1687" y="1424"/>
                  <a:pt x="1689" y="1424"/>
                  <a:pt x="1690" y="1424"/>
                </a:cubicBezTo>
                <a:cubicBezTo>
                  <a:pt x="1691" y="1424"/>
                  <a:pt x="1692" y="1424"/>
                  <a:pt x="1693" y="1424"/>
                </a:cubicBezTo>
                <a:cubicBezTo>
                  <a:pt x="1700" y="1423"/>
                  <a:pt x="1708" y="1423"/>
                  <a:pt x="1716" y="1423"/>
                </a:cubicBezTo>
                <a:cubicBezTo>
                  <a:pt x="1769" y="1423"/>
                  <a:pt x="1769" y="1423"/>
                  <a:pt x="1769" y="1423"/>
                </a:cubicBezTo>
                <a:cubicBezTo>
                  <a:pt x="1772" y="1423"/>
                  <a:pt x="1775" y="1423"/>
                  <a:pt x="1778" y="1424"/>
                </a:cubicBezTo>
                <a:cubicBezTo>
                  <a:pt x="1792" y="1425"/>
                  <a:pt x="1808" y="1429"/>
                  <a:pt x="1810" y="1442"/>
                </a:cubicBezTo>
                <a:cubicBezTo>
                  <a:pt x="1814" y="1454"/>
                  <a:pt x="1815" y="1466"/>
                  <a:pt x="1817" y="1478"/>
                </a:cubicBezTo>
                <a:cubicBezTo>
                  <a:pt x="1818" y="1480"/>
                  <a:pt x="1818" y="1480"/>
                  <a:pt x="1818" y="1480"/>
                </a:cubicBezTo>
                <a:cubicBezTo>
                  <a:pt x="1818" y="1482"/>
                  <a:pt x="1818" y="1485"/>
                  <a:pt x="1817" y="1487"/>
                </a:cubicBezTo>
                <a:cubicBezTo>
                  <a:pt x="1817" y="1487"/>
                  <a:pt x="1817" y="1488"/>
                  <a:pt x="1816" y="1488"/>
                </a:cubicBezTo>
                <a:cubicBezTo>
                  <a:pt x="1816" y="1488"/>
                  <a:pt x="1816" y="1488"/>
                  <a:pt x="1816" y="1488"/>
                </a:cubicBezTo>
                <a:cubicBezTo>
                  <a:pt x="1816" y="1488"/>
                  <a:pt x="1816" y="1488"/>
                  <a:pt x="1816" y="1488"/>
                </a:cubicBezTo>
                <a:cubicBezTo>
                  <a:pt x="1813" y="1494"/>
                  <a:pt x="1807" y="1497"/>
                  <a:pt x="1799" y="1499"/>
                </a:cubicBezTo>
                <a:cubicBezTo>
                  <a:pt x="1798" y="1499"/>
                  <a:pt x="1798" y="1499"/>
                  <a:pt x="1797" y="1499"/>
                </a:cubicBezTo>
                <a:cubicBezTo>
                  <a:pt x="1796" y="1500"/>
                  <a:pt x="1796" y="1500"/>
                  <a:pt x="1795" y="1500"/>
                </a:cubicBezTo>
                <a:cubicBezTo>
                  <a:pt x="1794" y="1500"/>
                  <a:pt x="1794" y="1500"/>
                  <a:pt x="1793" y="1500"/>
                </a:cubicBezTo>
                <a:cubicBezTo>
                  <a:pt x="1792" y="1500"/>
                  <a:pt x="1790" y="1501"/>
                  <a:pt x="1789" y="1501"/>
                </a:cubicBezTo>
                <a:cubicBezTo>
                  <a:pt x="1771" y="1503"/>
                  <a:pt x="1750" y="1501"/>
                  <a:pt x="1741" y="1501"/>
                </a:cubicBezTo>
                <a:cubicBezTo>
                  <a:pt x="1707" y="1501"/>
                  <a:pt x="1707" y="1501"/>
                  <a:pt x="1707" y="1501"/>
                </a:cubicBezTo>
                <a:cubicBezTo>
                  <a:pt x="1704" y="1501"/>
                  <a:pt x="1702" y="1501"/>
                  <a:pt x="1699" y="1501"/>
                </a:cubicBezTo>
                <a:cubicBezTo>
                  <a:pt x="1697" y="1501"/>
                  <a:pt x="1695" y="1500"/>
                  <a:pt x="1693" y="1500"/>
                </a:cubicBezTo>
                <a:cubicBezTo>
                  <a:pt x="1693" y="1500"/>
                  <a:pt x="1692" y="1500"/>
                  <a:pt x="1692" y="1500"/>
                </a:cubicBezTo>
                <a:cubicBezTo>
                  <a:pt x="1691" y="1500"/>
                  <a:pt x="1691" y="1500"/>
                  <a:pt x="1691" y="1500"/>
                </a:cubicBezTo>
                <a:cubicBezTo>
                  <a:pt x="1689" y="1499"/>
                  <a:pt x="1687" y="1499"/>
                  <a:pt x="1685" y="1498"/>
                </a:cubicBezTo>
                <a:cubicBezTo>
                  <a:pt x="1684" y="1498"/>
                  <a:pt x="1684" y="1497"/>
                  <a:pt x="1683" y="1497"/>
                </a:cubicBezTo>
                <a:cubicBezTo>
                  <a:pt x="1681" y="1496"/>
                  <a:pt x="1680" y="1496"/>
                  <a:pt x="1678" y="1495"/>
                </a:cubicBezTo>
                <a:cubicBezTo>
                  <a:pt x="1676" y="1494"/>
                  <a:pt x="1674" y="1492"/>
                  <a:pt x="1672" y="1491"/>
                </a:cubicBezTo>
                <a:cubicBezTo>
                  <a:pt x="1672" y="1491"/>
                  <a:pt x="1671" y="1490"/>
                  <a:pt x="1671" y="1490"/>
                </a:cubicBezTo>
                <a:close/>
                <a:moveTo>
                  <a:pt x="1680" y="1622"/>
                </a:moveTo>
                <a:cubicBezTo>
                  <a:pt x="1677" y="1618"/>
                  <a:pt x="1676" y="1615"/>
                  <a:pt x="1675" y="1612"/>
                </a:cubicBezTo>
                <a:cubicBezTo>
                  <a:pt x="1675" y="1607"/>
                  <a:pt x="1675" y="1607"/>
                  <a:pt x="1675" y="1607"/>
                </a:cubicBezTo>
                <a:cubicBezTo>
                  <a:pt x="1675" y="1607"/>
                  <a:pt x="1675" y="1607"/>
                  <a:pt x="1675" y="1607"/>
                </a:cubicBezTo>
                <a:cubicBezTo>
                  <a:pt x="1674" y="1593"/>
                  <a:pt x="1673" y="1580"/>
                  <a:pt x="1672" y="1567"/>
                </a:cubicBezTo>
                <a:cubicBezTo>
                  <a:pt x="1672" y="1567"/>
                  <a:pt x="1672" y="1567"/>
                  <a:pt x="1672" y="1567"/>
                </a:cubicBezTo>
                <a:cubicBezTo>
                  <a:pt x="1672" y="1566"/>
                  <a:pt x="1672" y="1566"/>
                  <a:pt x="1672" y="1566"/>
                </a:cubicBezTo>
                <a:cubicBezTo>
                  <a:pt x="1672" y="1565"/>
                  <a:pt x="1672" y="1564"/>
                  <a:pt x="1672" y="1563"/>
                </a:cubicBezTo>
                <a:cubicBezTo>
                  <a:pt x="1675" y="1535"/>
                  <a:pt x="1735" y="1542"/>
                  <a:pt x="1754" y="1542"/>
                </a:cubicBezTo>
                <a:cubicBezTo>
                  <a:pt x="1776" y="1542"/>
                  <a:pt x="1819" y="1537"/>
                  <a:pt x="1832" y="1559"/>
                </a:cubicBezTo>
                <a:cubicBezTo>
                  <a:pt x="1833" y="1561"/>
                  <a:pt x="1835" y="1563"/>
                  <a:pt x="1835" y="1565"/>
                </a:cubicBezTo>
                <a:cubicBezTo>
                  <a:pt x="1836" y="1568"/>
                  <a:pt x="1836" y="1568"/>
                  <a:pt x="1836" y="1568"/>
                </a:cubicBezTo>
                <a:cubicBezTo>
                  <a:pt x="1836" y="1568"/>
                  <a:pt x="1836" y="1568"/>
                  <a:pt x="1836" y="1568"/>
                </a:cubicBezTo>
                <a:cubicBezTo>
                  <a:pt x="1837" y="1575"/>
                  <a:pt x="1838" y="1581"/>
                  <a:pt x="1840" y="1588"/>
                </a:cubicBezTo>
                <a:cubicBezTo>
                  <a:pt x="1844" y="1611"/>
                  <a:pt x="1844" y="1611"/>
                  <a:pt x="1844" y="1611"/>
                </a:cubicBezTo>
                <a:cubicBezTo>
                  <a:pt x="1845" y="1615"/>
                  <a:pt x="1844" y="1618"/>
                  <a:pt x="1843" y="1621"/>
                </a:cubicBezTo>
                <a:cubicBezTo>
                  <a:pt x="1842" y="1623"/>
                  <a:pt x="1840" y="1625"/>
                  <a:pt x="1838" y="1627"/>
                </a:cubicBezTo>
                <a:cubicBezTo>
                  <a:pt x="1838" y="1627"/>
                  <a:pt x="1837" y="1628"/>
                  <a:pt x="1836" y="1629"/>
                </a:cubicBezTo>
                <a:cubicBezTo>
                  <a:pt x="1836" y="1629"/>
                  <a:pt x="1835" y="1629"/>
                  <a:pt x="1835" y="1630"/>
                </a:cubicBezTo>
                <a:cubicBezTo>
                  <a:pt x="1835" y="1630"/>
                  <a:pt x="1834" y="1630"/>
                  <a:pt x="1834" y="1630"/>
                </a:cubicBezTo>
                <a:cubicBezTo>
                  <a:pt x="1833" y="1631"/>
                  <a:pt x="1832" y="1631"/>
                  <a:pt x="1830" y="1632"/>
                </a:cubicBezTo>
                <a:cubicBezTo>
                  <a:pt x="1829" y="1633"/>
                  <a:pt x="1828" y="1633"/>
                  <a:pt x="1827" y="1634"/>
                </a:cubicBezTo>
                <a:cubicBezTo>
                  <a:pt x="1826" y="1634"/>
                  <a:pt x="1825" y="1634"/>
                  <a:pt x="1825" y="1634"/>
                </a:cubicBezTo>
                <a:cubicBezTo>
                  <a:pt x="1824" y="1635"/>
                  <a:pt x="1823" y="1635"/>
                  <a:pt x="1822" y="1635"/>
                </a:cubicBezTo>
                <a:cubicBezTo>
                  <a:pt x="1821" y="1635"/>
                  <a:pt x="1820" y="1636"/>
                  <a:pt x="1819" y="1636"/>
                </a:cubicBezTo>
                <a:cubicBezTo>
                  <a:pt x="1818" y="1636"/>
                  <a:pt x="1818" y="1636"/>
                  <a:pt x="1818" y="1636"/>
                </a:cubicBezTo>
                <a:cubicBezTo>
                  <a:pt x="1816" y="1636"/>
                  <a:pt x="1814" y="1637"/>
                  <a:pt x="1812" y="1637"/>
                </a:cubicBezTo>
                <a:cubicBezTo>
                  <a:pt x="1809" y="1637"/>
                  <a:pt x="1807" y="1637"/>
                  <a:pt x="1805" y="1637"/>
                </a:cubicBezTo>
                <a:cubicBezTo>
                  <a:pt x="1805" y="1637"/>
                  <a:pt x="1805" y="1637"/>
                  <a:pt x="1805" y="1637"/>
                </a:cubicBezTo>
                <a:cubicBezTo>
                  <a:pt x="1804" y="1637"/>
                  <a:pt x="1804" y="1637"/>
                  <a:pt x="1804" y="1637"/>
                </a:cubicBezTo>
                <a:cubicBezTo>
                  <a:pt x="1804" y="1637"/>
                  <a:pt x="1804" y="1637"/>
                  <a:pt x="1804" y="1637"/>
                </a:cubicBezTo>
                <a:cubicBezTo>
                  <a:pt x="1777" y="1637"/>
                  <a:pt x="1750" y="1637"/>
                  <a:pt x="1722" y="1638"/>
                </a:cubicBezTo>
                <a:cubicBezTo>
                  <a:pt x="1719" y="1638"/>
                  <a:pt x="1716" y="1637"/>
                  <a:pt x="1714" y="1637"/>
                </a:cubicBezTo>
                <a:cubicBezTo>
                  <a:pt x="1713" y="1637"/>
                  <a:pt x="1712" y="1637"/>
                  <a:pt x="1712" y="1637"/>
                </a:cubicBezTo>
                <a:cubicBezTo>
                  <a:pt x="1709" y="1636"/>
                  <a:pt x="1707" y="1636"/>
                  <a:pt x="1705" y="1636"/>
                </a:cubicBezTo>
                <a:cubicBezTo>
                  <a:pt x="1705" y="1636"/>
                  <a:pt x="1705" y="1636"/>
                  <a:pt x="1705" y="1636"/>
                </a:cubicBezTo>
                <a:cubicBezTo>
                  <a:pt x="1704" y="1635"/>
                  <a:pt x="1704" y="1635"/>
                  <a:pt x="1704" y="1635"/>
                </a:cubicBezTo>
                <a:cubicBezTo>
                  <a:pt x="1701" y="1635"/>
                  <a:pt x="1699" y="1634"/>
                  <a:pt x="1697" y="1633"/>
                </a:cubicBezTo>
                <a:cubicBezTo>
                  <a:pt x="1696" y="1633"/>
                  <a:pt x="1695" y="1632"/>
                  <a:pt x="1695" y="1632"/>
                </a:cubicBezTo>
                <a:cubicBezTo>
                  <a:pt x="1693" y="1632"/>
                  <a:pt x="1692" y="1631"/>
                  <a:pt x="1691" y="1630"/>
                </a:cubicBezTo>
                <a:cubicBezTo>
                  <a:pt x="1691" y="1630"/>
                  <a:pt x="1690" y="1630"/>
                  <a:pt x="1690" y="1630"/>
                </a:cubicBezTo>
                <a:cubicBezTo>
                  <a:pt x="1686" y="1628"/>
                  <a:pt x="1682" y="1625"/>
                  <a:pt x="1680" y="1622"/>
                </a:cubicBezTo>
                <a:close/>
                <a:moveTo>
                  <a:pt x="1875" y="1783"/>
                </a:moveTo>
                <a:cubicBezTo>
                  <a:pt x="1873" y="1787"/>
                  <a:pt x="1870" y="1790"/>
                  <a:pt x="1866" y="1793"/>
                </a:cubicBezTo>
                <a:cubicBezTo>
                  <a:pt x="1862" y="1796"/>
                  <a:pt x="1858" y="1799"/>
                  <a:pt x="1852" y="1800"/>
                </a:cubicBezTo>
                <a:cubicBezTo>
                  <a:pt x="1846" y="1802"/>
                  <a:pt x="1840" y="1803"/>
                  <a:pt x="1833" y="1803"/>
                </a:cubicBezTo>
                <a:cubicBezTo>
                  <a:pt x="1815" y="1803"/>
                  <a:pt x="1815" y="1803"/>
                  <a:pt x="1815" y="1803"/>
                </a:cubicBezTo>
                <a:cubicBezTo>
                  <a:pt x="1814" y="1803"/>
                  <a:pt x="1814" y="1803"/>
                  <a:pt x="1814" y="1803"/>
                </a:cubicBezTo>
                <a:cubicBezTo>
                  <a:pt x="1789" y="1803"/>
                  <a:pt x="1765" y="1803"/>
                  <a:pt x="1740" y="1803"/>
                </a:cubicBezTo>
                <a:cubicBezTo>
                  <a:pt x="1737" y="1803"/>
                  <a:pt x="1734" y="1803"/>
                  <a:pt x="1731" y="1803"/>
                </a:cubicBezTo>
                <a:cubicBezTo>
                  <a:pt x="1730" y="1803"/>
                  <a:pt x="1730" y="1803"/>
                  <a:pt x="1729" y="1803"/>
                </a:cubicBezTo>
                <a:cubicBezTo>
                  <a:pt x="1726" y="1802"/>
                  <a:pt x="1724" y="1802"/>
                  <a:pt x="1721" y="1801"/>
                </a:cubicBezTo>
                <a:cubicBezTo>
                  <a:pt x="1721" y="1801"/>
                  <a:pt x="1721" y="1801"/>
                  <a:pt x="1720" y="1801"/>
                </a:cubicBezTo>
                <a:cubicBezTo>
                  <a:pt x="1720" y="1801"/>
                  <a:pt x="1720" y="1801"/>
                  <a:pt x="1720" y="1801"/>
                </a:cubicBezTo>
                <a:cubicBezTo>
                  <a:pt x="1709" y="1798"/>
                  <a:pt x="1698" y="1792"/>
                  <a:pt x="1692" y="1783"/>
                </a:cubicBezTo>
                <a:cubicBezTo>
                  <a:pt x="1692" y="1783"/>
                  <a:pt x="1692" y="1783"/>
                  <a:pt x="1692" y="1783"/>
                </a:cubicBezTo>
                <a:cubicBezTo>
                  <a:pt x="1692" y="1783"/>
                  <a:pt x="1692" y="1783"/>
                  <a:pt x="1692" y="1783"/>
                </a:cubicBezTo>
                <a:cubicBezTo>
                  <a:pt x="1691" y="1782"/>
                  <a:pt x="1690" y="1780"/>
                  <a:pt x="1690" y="1778"/>
                </a:cubicBezTo>
                <a:cubicBezTo>
                  <a:pt x="1689" y="1777"/>
                  <a:pt x="1689" y="1776"/>
                  <a:pt x="1689" y="1775"/>
                </a:cubicBezTo>
                <a:cubicBezTo>
                  <a:pt x="1688" y="1774"/>
                  <a:pt x="1688" y="1773"/>
                  <a:pt x="1688" y="1772"/>
                </a:cubicBezTo>
                <a:cubicBezTo>
                  <a:pt x="1688" y="1772"/>
                  <a:pt x="1688" y="1771"/>
                  <a:pt x="1688" y="1771"/>
                </a:cubicBezTo>
                <a:cubicBezTo>
                  <a:pt x="1687" y="1769"/>
                  <a:pt x="1687" y="1769"/>
                  <a:pt x="1687" y="1769"/>
                </a:cubicBezTo>
                <a:cubicBezTo>
                  <a:pt x="1687" y="1769"/>
                  <a:pt x="1687" y="1769"/>
                  <a:pt x="1687" y="1769"/>
                </a:cubicBezTo>
                <a:cubicBezTo>
                  <a:pt x="1686" y="1756"/>
                  <a:pt x="1685" y="1742"/>
                  <a:pt x="1684" y="1728"/>
                </a:cubicBezTo>
                <a:cubicBezTo>
                  <a:pt x="1684" y="1725"/>
                  <a:pt x="1684" y="1723"/>
                  <a:pt x="1684" y="1721"/>
                </a:cubicBezTo>
                <a:cubicBezTo>
                  <a:pt x="1683" y="1714"/>
                  <a:pt x="1683" y="1714"/>
                  <a:pt x="1683" y="1714"/>
                </a:cubicBezTo>
                <a:cubicBezTo>
                  <a:pt x="1683" y="1713"/>
                  <a:pt x="1683" y="1713"/>
                  <a:pt x="1683" y="1713"/>
                </a:cubicBezTo>
                <a:cubicBezTo>
                  <a:pt x="1683" y="1711"/>
                  <a:pt x="1683" y="1710"/>
                  <a:pt x="1684" y="1709"/>
                </a:cubicBezTo>
                <a:cubicBezTo>
                  <a:pt x="1684" y="1708"/>
                  <a:pt x="1684" y="1707"/>
                  <a:pt x="1684" y="1707"/>
                </a:cubicBezTo>
                <a:cubicBezTo>
                  <a:pt x="1685" y="1706"/>
                  <a:pt x="1685" y="1705"/>
                  <a:pt x="1685" y="1704"/>
                </a:cubicBezTo>
                <a:cubicBezTo>
                  <a:pt x="1686" y="1703"/>
                  <a:pt x="1686" y="1703"/>
                  <a:pt x="1686" y="1702"/>
                </a:cubicBezTo>
                <a:cubicBezTo>
                  <a:pt x="1686" y="1702"/>
                  <a:pt x="1686" y="1702"/>
                  <a:pt x="1686" y="1702"/>
                </a:cubicBezTo>
                <a:cubicBezTo>
                  <a:pt x="1687" y="1700"/>
                  <a:pt x="1688" y="1699"/>
                  <a:pt x="1689" y="1698"/>
                </a:cubicBezTo>
                <a:cubicBezTo>
                  <a:pt x="1690" y="1697"/>
                  <a:pt x="1691" y="1697"/>
                  <a:pt x="1691" y="1696"/>
                </a:cubicBezTo>
                <a:cubicBezTo>
                  <a:pt x="1692" y="1695"/>
                  <a:pt x="1693" y="1695"/>
                  <a:pt x="1694" y="1694"/>
                </a:cubicBezTo>
                <a:cubicBezTo>
                  <a:pt x="1695" y="1694"/>
                  <a:pt x="1695" y="1693"/>
                  <a:pt x="1695" y="1693"/>
                </a:cubicBezTo>
                <a:cubicBezTo>
                  <a:pt x="1695" y="1693"/>
                  <a:pt x="1696" y="1693"/>
                  <a:pt x="1696" y="1693"/>
                </a:cubicBezTo>
                <a:cubicBezTo>
                  <a:pt x="1698" y="1692"/>
                  <a:pt x="1699" y="1691"/>
                  <a:pt x="1701" y="1690"/>
                </a:cubicBezTo>
                <a:cubicBezTo>
                  <a:pt x="1702" y="1690"/>
                  <a:pt x="1702" y="1689"/>
                  <a:pt x="1702" y="1689"/>
                </a:cubicBezTo>
                <a:cubicBezTo>
                  <a:pt x="1703" y="1689"/>
                  <a:pt x="1703" y="1689"/>
                  <a:pt x="1703" y="1689"/>
                </a:cubicBezTo>
                <a:cubicBezTo>
                  <a:pt x="1704" y="1689"/>
                  <a:pt x="1704" y="1689"/>
                  <a:pt x="1705" y="1688"/>
                </a:cubicBezTo>
                <a:cubicBezTo>
                  <a:pt x="1706" y="1688"/>
                  <a:pt x="1708" y="1687"/>
                  <a:pt x="1709" y="1687"/>
                </a:cubicBezTo>
                <a:cubicBezTo>
                  <a:pt x="1710" y="1687"/>
                  <a:pt x="1711" y="1686"/>
                  <a:pt x="1712" y="1686"/>
                </a:cubicBezTo>
                <a:cubicBezTo>
                  <a:pt x="1713" y="1686"/>
                  <a:pt x="1714" y="1686"/>
                  <a:pt x="1714" y="1686"/>
                </a:cubicBezTo>
                <a:cubicBezTo>
                  <a:pt x="1717" y="1685"/>
                  <a:pt x="1720" y="1685"/>
                  <a:pt x="1723" y="1685"/>
                </a:cubicBezTo>
                <a:cubicBezTo>
                  <a:pt x="1723" y="1685"/>
                  <a:pt x="1724" y="1685"/>
                  <a:pt x="1724" y="1685"/>
                </a:cubicBezTo>
                <a:cubicBezTo>
                  <a:pt x="1725" y="1685"/>
                  <a:pt x="1726" y="1685"/>
                  <a:pt x="1727" y="1685"/>
                </a:cubicBezTo>
                <a:cubicBezTo>
                  <a:pt x="1731" y="1685"/>
                  <a:pt x="1731" y="1685"/>
                  <a:pt x="1731" y="1685"/>
                </a:cubicBezTo>
                <a:cubicBezTo>
                  <a:pt x="1736" y="1684"/>
                  <a:pt x="1740" y="1684"/>
                  <a:pt x="1744" y="1684"/>
                </a:cubicBezTo>
                <a:cubicBezTo>
                  <a:pt x="1748" y="1684"/>
                  <a:pt x="1752" y="1684"/>
                  <a:pt x="1755" y="1684"/>
                </a:cubicBezTo>
                <a:cubicBezTo>
                  <a:pt x="1791" y="1684"/>
                  <a:pt x="1791" y="1684"/>
                  <a:pt x="1791" y="1684"/>
                </a:cubicBezTo>
                <a:cubicBezTo>
                  <a:pt x="1801" y="1684"/>
                  <a:pt x="1811" y="1684"/>
                  <a:pt x="1820" y="1685"/>
                </a:cubicBezTo>
                <a:cubicBezTo>
                  <a:pt x="1822" y="1685"/>
                  <a:pt x="1823" y="1685"/>
                  <a:pt x="1825" y="1685"/>
                </a:cubicBezTo>
                <a:cubicBezTo>
                  <a:pt x="1826" y="1686"/>
                  <a:pt x="1827" y="1686"/>
                  <a:pt x="1828" y="1686"/>
                </a:cubicBezTo>
                <a:cubicBezTo>
                  <a:pt x="1828" y="1686"/>
                  <a:pt x="1829" y="1686"/>
                  <a:pt x="1830" y="1686"/>
                </a:cubicBezTo>
                <a:cubicBezTo>
                  <a:pt x="1830" y="1686"/>
                  <a:pt x="1831" y="1686"/>
                  <a:pt x="1831" y="1687"/>
                </a:cubicBezTo>
                <a:cubicBezTo>
                  <a:pt x="1832" y="1687"/>
                  <a:pt x="1832" y="1687"/>
                  <a:pt x="1833" y="1687"/>
                </a:cubicBezTo>
                <a:cubicBezTo>
                  <a:pt x="1834" y="1687"/>
                  <a:pt x="1836" y="1688"/>
                  <a:pt x="1838" y="1689"/>
                </a:cubicBezTo>
                <a:cubicBezTo>
                  <a:pt x="1839" y="1689"/>
                  <a:pt x="1840" y="1689"/>
                  <a:pt x="1841" y="1690"/>
                </a:cubicBezTo>
                <a:cubicBezTo>
                  <a:pt x="1842" y="1690"/>
                  <a:pt x="1842" y="1690"/>
                  <a:pt x="1843" y="1691"/>
                </a:cubicBezTo>
                <a:cubicBezTo>
                  <a:pt x="1845" y="1691"/>
                  <a:pt x="1846" y="1692"/>
                  <a:pt x="1847" y="1693"/>
                </a:cubicBezTo>
                <a:cubicBezTo>
                  <a:pt x="1852" y="1695"/>
                  <a:pt x="1856" y="1698"/>
                  <a:pt x="1859" y="1702"/>
                </a:cubicBezTo>
                <a:cubicBezTo>
                  <a:pt x="1862" y="1705"/>
                  <a:pt x="1864" y="1709"/>
                  <a:pt x="1865" y="1713"/>
                </a:cubicBezTo>
                <a:cubicBezTo>
                  <a:pt x="1870" y="1736"/>
                  <a:pt x="1870" y="1736"/>
                  <a:pt x="1870" y="1736"/>
                </a:cubicBezTo>
                <a:cubicBezTo>
                  <a:pt x="1871" y="1746"/>
                  <a:pt x="1873" y="1755"/>
                  <a:pt x="1875" y="1764"/>
                </a:cubicBezTo>
                <a:cubicBezTo>
                  <a:pt x="1875" y="1764"/>
                  <a:pt x="1875" y="1764"/>
                  <a:pt x="1875" y="1764"/>
                </a:cubicBezTo>
                <a:cubicBezTo>
                  <a:pt x="1876" y="1770"/>
                  <a:pt x="1876" y="1770"/>
                  <a:pt x="1876" y="1770"/>
                </a:cubicBezTo>
                <a:cubicBezTo>
                  <a:pt x="1877" y="1775"/>
                  <a:pt x="1877" y="1779"/>
                  <a:pt x="1875" y="1783"/>
                </a:cubicBezTo>
                <a:close/>
                <a:moveTo>
                  <a:pt x="2041" y="1494"/>
                </a:moveTo>
                <a:cubicBezTo>
                  <a:pt x="2036" y="1492"/>
                  <a:pt x="2032" y="1490"/>
                  <a:pt x="2030" y="1487"/>
                </a:cubicBezTo>
                <a:cubicBezTo>
                  <a:pt x="2027" y="1485"/>
                  <a:pt x="2024" y="1482"/>
                  <a:pt x="2023" y="1479"/>
                </a:cubicBezTo>
                <a:cubicBezTo>
                  <a:pt x="2021" y="1474"/>
                  <a:pt x="2021" y="1474"/>
                  <a:pt x="2021" y="1474"/>
                </a:cubicBezTo>
                <a:cubicBezTo>
                  <a:pt x="2019" y="1467"/>
                  <a:pt x="2016" y="1460"/>
                  <a:pt x="2014" y="1453"/>
                </a:cubicBezTo>
                <a:cubicBezTo>
                  <a:pt x="2012" y="1449"/>
                  <a:pt x="2009" y="1444"/>
                  <a:pt x="2009" y="1439"/>
                </a:cubicBezTo>
                <a:cubicBezTo>
                  <a:pt x="2009" y="1439"/>
                  <a:pt x="2009" y="1438"/>
                  <a:pt x="2009" y="1437"/>
                </a:cubicBezTo>
                <a:cubicBezTo>
                  <a:pt x="2009" y="1437"/>
                  <a:pt x="2009" y="1437"/>
                  <a:pt x="2009" y="1437"/>
                </a:cubicBezTo>
                <a:cubicBezTo>
                  <a:pt x="2009" y="1436"/>
                  <a:pt x="2009" y="1436"/>
                  <a:pt x="2009" y="1436"/>
                </a:cubicBezTo>
                <a:cubicBezTo>
                  <a:pt x="2010" y="1435"/>
                  <a:pt x="2009" y="1435"/>
                  <a:pt x="2010" y="1434"/>
                </a:cubicBezTo>
                <a:cubicBezTo>
                  <a:pt x="2010" y="1434"/>
                  <a:pt x="2010" y="1434"/>
                  <a:pt x="2010" y="1434"/>
                </a:cubicBezTo>
                <a:cubicBezTo>
                  <a:pt x="2016" y="1421"/>
                  <a:pt x="2039" y="1423"/>
                  <a:pt x="2051" y="1423"/>
                </a:cubicBezTo>
                <a:cubicBezTo>
                  <a:pt x="2110" y="1422"/>
                  <a:pt x="2110" y="1422"/>
                  <a:pt x="2110" y="1422"/>
                </a:cubicBezTo>
                <a:cubicBezTo>
                  <a:pt x="2115" y="1422"/>
                  <a:pt x="2120" y="1423"/>
                  <a:pt x="2125" y="1424"/>
                </a:cubicBezTo>
                <a:cubicBezTo>
                  <a:pt x="2126" y="1424"/>
                  <a:pt x="2128" y="1424"/>
                  <a:pt x="2129" y="1425"/>
                </a:cubicBezTo>
                <a:cubicBezTo>
                  <a:pt x="2129" y="1425"/>
                  <a:pt x="2130" y="1425"/>
                  <a:pt x="2131" y="1425"/>
                </a:cubicBezTo>
                <a:cubicBezTo>
                  <a:pt x="2132" y="1425"/>
                  <a:pt x="2133" y="1426"/>
                  <a:pt x="2133" y="1426"/>
                </a:cubicBezTo>
                <a:cubicBezTo>
                  <a:pt x="2135" y="1426"/>
                  <a:pt x="2137" y="1427"/>
                  <a:pt x="2138" y="1428"/>
                </a:cubicBezTo>
                <a:cubicBezTo>
                  <a:pt x="2139" y="1428"/>
                  <a:pt x="2139" y="1428"/>
                  <a:pt x="2139" y="1428"/>
                </a:cubicBezTo>
                <a:cubicBezTo>
                  <a:pt x="2139" y="1428"/>
                  <a:pt x="2139" y="1428"/>
                  <a:pt x="2140" y="1428"/>
                </a:cubicBezTo>
                <a:cubicBezTo>
                  <a:pt x="2141" y="1429"/>
                  <a:pt x="2142" y="1429"/>
                  <a:pt x="2144" y="1430"/>
                </a:cubicBezTo>
                <a:cubicBezTo>
                  <a:pt x="2145" y="1431"/>
                  <a:pt x="2146" y="1431"/>
                  <a:pt x="2146" y="1431"/>
                </a:cubicBezTo>
                <a:cubicBezTo>
                  <a:pt x="2147" y="1432"/>
                  <a:pt x="2147" y="1432"/>
                  <a:pt x="2148" y="1432"/>
                </a:cubicBezTo>
                <a:cubicBezTo>
                  <a:pt x="2148" y="1433"/>
                  <a:pt x="2148" y="1433"/>
                  <a:pt x="2149" y="1433"/>
                </a:cubicBezTo>
                <a:cubicBezTo>
                  <a:pt x="2149" y="1433"/>
                  <a:pt x="2150" y="1434"/>
                  <a:pt x="2150" y="1434"/>
                </a:cubicBezTo>
                <a:cubicBezTo>
                  <a:pt x="2153" y="1436"/>
                  <a:pt x="2156" y="1439"/>
                  <a:pt x="2157" y="1442"/>
                </a:cubicBezTo>
                <a:cubicBezTo>
                  <a:pt x="2157" y="1442"/>
                  <a:pt x="2157" y="1442"/>
                  <a:pt x="2157" y="1442"/>
                </a:cubicBezTo>
                <a:cubicBezTo>
                  <a:pt x="2163" y="1450"/>
                  <a:pt x="2166" y="1460"/>
                  <a:pt x="2170" y="1468"/>
                </a:cubicBezTo>
                <a:cubicBezTo>
                  <a:pt x="2170" y="1468"/>
                  <a:pt x="2170" y="1468"/>
                  <a:pt x="2170" y="1468"/>
                </a:cubicBezTo>
                <a:cubicBezTo>
                  <a:pt x="2172" y="1473"/>
                  <a:pt x="2176" y="1477"/>
                  <a:pt x="2177" y="1482"/>
                </a:cubicBezTo>
                <a:cubicBezTo>
                  <a:pt x="2177" y="1482"/>
                  <a:pt x="2177" y="1483"/>
                  <a:pt x="2177" y="1483"/>
                </a:cubicBezTo>
                <a:cubicBezTo>
                  <a:pt x="2177" y="1483"/>
                  <a:pt x="2177" y="1483"/>
                  <a:pt x="2177" y="1483"/>
                </a:cubicBezTo>
                <a:cubicBezTo>
                  <a:pt x="2178" y="1492"/>
                  <a:pt x="2170" y="1496"/>
                  <a:pt x="2162" y="1498"/>
                </a:cubicBezTo>
                <a:cubicBezTo>
                  <a:pt x="2161" y="1498"/>
                  <a:pt x="2161" y="1498"/>
                  <a:pt x="2161" y="1499"/>
                </a:cubicBezTo>
                <a:cubicBezTo>
                  <a:pt x="2160" y="1499"/>
                  <a:pt x="2160" y="1499"/>
                  <a:pt x="2159" y="1499"/>
                </a:cubicBezTo>
                <a:cubicBezTo>
                  <a:pt x="2158" y="1499"/>
                  <a:pt x="2156" y="1499"/>
                  <a:pt x="2155" y="1500"/>
                </a:cubicBezTo>
                <a:cubicBezTo>
                  <a:pt x="2154" y="1500"/>
                  <a:pt x="2154" y="1500"/>
                  <a:pt x="2153" y="1500"/>
                </a:cubicBezTo>
                <a:cubicBezTo>
                  <a:pt x="2152" y="1500"/>
                  <a:pt x="2150" y="1500"/>
                  <a:pt x="2149" y="1500"/>
                </a:cubicBezTo>
                <a:cubicBezTo>
                  <a:pt x="2148" y="1500"/>
                  <a:pt x="2147" y="1500"/>
                  <a:pt x="2146" y="1500"/>
                </a:cubicBezTo>
                <a:cubicBezTo>
                  <a:pt x="2146" y="1500"/>
                  <a:pt x="2146" y="1500"/>
                  <a:pt x="2146" y="1500"/>
                </a:cubicBezTo>
                <a:cubicBezTo>
                  <a:pt x="2144" y="1500"/>
                  <a:pt x="2144" y="1500"/>
                  <a:pt x="2144" y="1500"/>
                </a:cubicBezTo>
                <a:cubicBezTo>
                  <a:pt x="2135" y="1500"/>
                  <a:pt x="2126" y="1500"/>
                  <a:pt x="2117" y="1500"/>
                </a:cubicBezTo>
                <a:cubicBezTo>
                  <a:pt x="2102" y="1500"/>
                  <a:pt x="2087" y="1500"/>
                  <a:pt x="2072" y="1500"/>
                </a:cubicBezTo>
                <a:cubicBezTo>
                  <a:pt x="2061" y="1500"/>
                  <a:pt x="2050" y="1499"/>
                  <a:pt x="2041" y="1494"/>
                </a:cubicBezTo>
                <a:cubicBezTo>
                  <a:pt x="2041" y="1494"/>
                  <a:pt x="2041" y="1494"/>
                  <a:pt x="2041" y="1494"/>
                </a:cubicBezTo>
                <a:close/>
                <a:moveTo>
                  <a:pt x="2079" y="1621"/>
                </a:moveTo>
                <a:cubicBezTo>
                  <a:pt x="2076" y="1617"/>
                  <a:pt x="2073" y="1614"/>
                  <a:pt x="2072" y="1611"/>
                </a:cubicBezTo>
                <a:cubicBezTo>
                  <a:pt x="2064" y="1588"/>
                  <a:pt x="2064" y="1588"/>
                  <a:pt x="2064" y="1588"/>
                </a:cubicBezTo>
                <a:cubicBezTo>
                  <a:pt x="2061" y="1581"/>
                  <a:pt x="2059" y="1575"/>
                  <a:pt x="2056" y="1568"/>
                </a:cubicBezTo>
                <a:cubicBezTo>
                  <a:pt x="2056" y="1568"/>
                  <a:pt x="2056" y="1568"/>
                  <a:pt x="2056" y="1568"/>
                </a:cubicBezTo>
                <a:cubicBezTo>
                  <a:pt x="2055" y="1565"/>
                  <a:pt x="2055" y="1565"/>
                  <a:pt x="2055" y="1565"/>
                </a:cubicBezTo>
                <a:cubicBezTo>
                  <a:pt x="2054" y="1561"/>
                  <a:pt x="2054" y="1558"/>
                  <a:pt x="2055" y="1555"/>
                </a:cubicBezTo>
                <a:cubicBezTo>
                  <a:pt x="2056" y="1553"/>
                  <a:pt x="2057" y="1552"/>
                  <a:pt x="2059" y="1550"/>
                </a:cubicBezTo>
                <a:cubicBezTo>
                  <a:pt x="2059" y="1550"/>
                  <a:pt x="2059" y="1550"/>
                  <a:pt x="2060" y="1549"/>
                </a:cubicBezTo>
                <a:cubicBezTo>
                  <a:pt x="2060" y="1549"/>
                  <a:pt x="2061" y="1548"/>
                  <a:pt x="2061" y="1548"/>
                </a:cubicBezTo>
                <a:cubicBezTo>
                  <a:pt x="2064" y="1546"/>
                  <a:pt x="2068" y="1544"/>
                  <a:pt x="2072" y="1543"/>
                </a:cubicBezTo>
                <a:cubicBezTo>
                  <a:pt x="2076" y="1542"/>
                  <a:pt x="2080" y="1542"/>
                  <a:pt x="2084" y="1541"/>
                </a:cubicBezTo>
                <a:cubicBezTo>
                  <a:pt x="2100" y="1540"/>
                  <a:pt x="2117" y="1541"/>
                  <a:pt x="2125" y="1541"/>
                </a:cubicBezTo>
                <a:cubicBezTo>
                  <a:pt x="2153" y="1541"/>
                  <a:pt x="2202" y="1535"/>
                  <a:pt x="2218" y="1564"/>
                </a:cubicBezTo>
                <a:cubicBezTo>
                  <a:pt x="2218" y="1564"/>
                  <a:pt x="2218" y="1564"/>
                  <a:pt x="2218" y="1564"/>
                </a:cubicBezTo>
                <a:cubicBezTo>
                  <a:pt x="2218" y="1565"/>
                  <a:pt x="2218" y="1565"/>
                  <a:pt x="2218" y="1565"/>
                </a:cubicBezTo>
                <a:cubicBezTo>
                  <a:pt x="2218" y="1565"/>
                  <a:pt x="2218" y="1565"/>
                  <a:pt x="2218" y="1565"/>
                </a:cubicBezTo>
                <a:cubicBezTo>
                  <a:pt x="2224" y="1577"/>
                  <a:pt x="2230" y="1589"/>
                  <a:pt x="2236" y="1601"/>
                </a:cubicBezTo>
                <a:cubicBezTo>
                  <a:pt x="2238" y="1605"/>
                  <a:pt x="2241" y="1609"/>
                  <a:pt x="2242" y="1614"/>
                </a:cubicBezTo>
                <a:cubicBezTo>
                  <a:pt x="2242" y="1614"/>
                  <a:pt x="2242" y="1614"/>
                  <a:pt x="2242" y="1614"/>
                </a:cubicBezTo>
                <a:cubicBezTo>
                  <a:pt x="2242" y="1615"/>
                  <a:pt x="2242" y="1616"/>
                  <a:pt x="2242" y="1617"/>
                </a:cubicBezTo>
                <a:cubicBezTo>
                  <a:pt x="2242" y="1618"/>
                  <a:pt x="2242" y="1619"/>
                  <a:pt x="2242" y="1620"/>
                </a:cubicBezTo>
                <a:cubicBezTo>
                  <a:pt x="2242" y="1620"/>
                  <a:pt x="2242" y="1620"/>
                  <a:pt x="2242" y="1620"/>
                </a:cubicBezTo>
                <a:cubicBezTo>
                  <a:pt x="2242" y="1620"/>
                  <a:pt x="2242" y="1621"/>
                  <a:pt x="2242" y="1621"/>
                </a:cubicBezTo>
                <a:cubicBezTo>
                  <a:pt x="2242" y="1622"/>
                  <a:pt x="2241" y="1623"/>
                  <a:pt x="2240" y="1624"/>
                </a:cubicBezTo>
                <a:cubicBezTo>
                  <a:pt x="2240" y="1625"/>
                  <a:pt x="2240" y="1625"/>
                  <a:pt x="2240" y="1625"/>
                </a:cubicBezTo>
                <a:cubicBezTo>
                  <a:pt x="2239" y="1626"/>
                  <a:pt x="2238" y="1627"/>
                  <a:pt x="2237" y="1628"/>
                </a:cubicBezTo>
                <a:cubicBezTo>
                  <a:pt x="2237" y="1628"/>
                  <a:pt x="2237" y="1628"/>
                  <a:pt x="2237" y="1628"/>
                </a:cubicBezTo>
                <a:cubicBezTo>
                  <a:pt x="2236" y="1629"/>
                  <a:pt x="2236" y="1629"/>
                  <a:pt x="2236" y="1629"/>
                </a:cubicBezTo>
                <a:cubicBezTo>
                  <a:pt x="2235" y="1630"/>
                  <a:pt x="2234" y="1630"/>
                  <a:pt x="2234" y="1630"/>
                </a:cubicBezTo>
                <a:cubicBezTo>
                  <a:pt x="2231" y="1632"/>
                  <a:pt x="2229" y="1633"/>
                  <a:pt x="2225" y="1634"/>
                </a:cubicBezTo>
                <a:cubicBezTo>
                  <a:pt x="2225" y="1634"/>
                  <a:pt x="2224" y="1635"/>
                  <a:pt x="2223" y="1635"/>
                </a:cubicBezTo>
                <a:cubicBezTo>
                  <a:pt x="2221" y="1635"/>
                  <a:pt x="2220" y="1635"/>
                  <a:pt x="2219" y="1636"/>
                </a:cubicBezTo>
                <a:cubicBezTo>
                  <a:pt x="2218" y="1636"/>
                  <a:pt x="2218" y="1636"/>
                  <a:pt x="2217" y="1636"/>
                </a:cubicBezTo>
                <a:cubicBezTo>
                  <a:pt x="2217" y="1636"/>
                  <a:pt x="2216" y="1636"/>
                  <a:pt x="2216" y="1636"/>
                </a:cubicBezTo>
                <a:cubicBezTo>
                  <a:pt x="2187" y="1639"/>
                  <a:pt x="2156" y="1636"/>
                  <a:pt x="2126" y="1637"/>
                </a:cubicBezTo>
                <a:cubicBezTo>
                  <a:pt x="2123" y="1637"/>
                  <a:pt x="2120" y="1636"/>
                  <a:pt x="2117" y="1636"/>
                </a:cubicBezTo>
                <a:cubicBezTo>
                  <a:pt x="2117" y="1636"/>
                  <a:pt x="2117" y="1636"/>
                  <a:pt x="2117" y="1636"/>
                </a:cubicBezTo>
                <a:cubicBezTo>
                  <a:pt x="2106" y="1635"/>
                  <a:pt x="2095" y="1631"/>
                  <a:pt x="2086" y="1625"/>
                </a:cubicBezTo>
                <a:cubicBezTo>
                  <a:pt x="2083" y="1624"/>
                  <a:pt x="2081" y="1622"/>
                  <a:pt x="2079" y="1621"/>
                </a:cubicBezTo>
                <a:close/>
                <a:moveTo>
                  <a:pt x="2322" y="1782"/>
                </a:moveTo>
                <a:cubicBezTo>
                  <a:pt x="2322" y="1783"/>
                  <a:pt x="2321" y="1783"/>
                  <a:pt x="2321" y="1784"/>
                </a:cubicBezTo>
                <a:cubicBezTo>
                  <a:pt x="2321" y="1785"/>
                  <a:pt x="2321" y="1785"/>
                  <a:pt x="2321" y="1786"/>
                </a:cubicBezTo>
                <a:cubicBezTo>
                  <a:pt x="2320" y="1787"/>
                  <a:pt x="2320" y="1788"/>
                  <a:pt x="2319" y="1789"/>
                </a:cubicBezTo>
                <a:cubicBezTo>
                  <a:pt x="2319" y="1789"/>
                  <a:pt x="2319" y="1789"/>
                  <a:pt x="2319" y="1790"/>
                </a:cubicBezTo>
                <a:cubicBezTo>
                  <a:pt x="2318" y="1790"/>
                  <a:pt x="2318" y="1791"/>
                  <a:pt x="2317" y="1791"/>
                </a:cubicBezTo>
                <a:cubicBezTo>
                  <a:pt x="2317" y="1791"/>
                  <a:pt x="2317" y="1792"/>
                  <a:pt x="2316" y="1792"/>
                </a:cubicBezTo>
                <a:cubicBezTo>
                  <a:pt x="2316" y="1792"/>
                  <a:pt x="2316" y="1792"/>
                  <a:pt x="2316" y="1793"/>
                </a:cubicBezTo>
                <a:cubicBezTo>
                  <a:pt x="2310" y="1798"/>
                  <a:pt x="2303" y="1800"/>
                  <a:pt x="2296" y="1801"/>
                </a:cubicBezTo>
                <a:cubicBezTo>
                  <a:pt x="2296" y="1801"/>
                  <a:pt x="2295" y="1801"/>
                  <a:pt x="2295" y="1801"/>
                </a:cubicBezTo>
                <a:cubicBezTo>
                  <a:pt x="2292" y="1802"/>
                  <a:pt x="2289" y="1802"/>
                  <a:pt x="2286" y="1802"/>
                </a:cubicBezTo>
                <a:cubicBezTo>
                  <a:pt x="2286" y="1802"/>
                  <a:pt x="2286" y="1802"/>
                  <a:pt x="2286" y="1802"/>
                </a:cubicBezTo>
                <a:cubicBezTo>
                  <a:pt x="2283" y="1802"/>
                  <a:pt x="2283" y="1802"/>
                  <a:pt x="2283" y="1802"/>
                </a:cubicBezTo>
                <a:cubicBezTo>
                  <a:pt x="2280" y="1802"/>
                  <a:pt x="2277" y="1802"/>
                  <a:pt x="2275" y="1802"/>
                </a:cubicBezTo>
                <a:cubicBezTo>
                  <a:pt x="2193" y="1802"/>
                  <a:pt x="2193" y="1802"/>
                  <a:pt x="2193" y="1802"/>
                </a:cubicBezTo>
                <a:cubicBezTo>
                  <a:pt x="2190" y="1802"/>
                  <a:pt x="2187" y="1802"/>
                  <a:pt x="2184" y="1802"/>
                </a:cubicBezTo>
                <a:cubicBezTo>
                  <a:pt x="2183" y="1801"/>
                  <a:pt x="2182" y="1801"/>
                  <a:pt x="2181" y="1801"/>
                </a:cubicBezTo>
                <a:cubicBezTo>
                  <a:pt x="2164" y="1799"/>
                  <a:pt x="2144" y="1791"/>
                  <a:pt x="2135" y="1776"/>
                </a:cubicBezTo>
                <a:cubicBezTo>
                  <a:pt x="2133" y="1774"/>
                  <a:pt x="2132" y="1772"/>
                  <a:pt x="2131" y="1770"/>
                </a:cubicBezTo>
                <a:cubicBezTo>
                  <a:pt x="2131" y="1769"/>
                  <a:pt x="2131" y="1769"/>
                  <a:pt x="2131" y="1769"/>
                </a:cubicBezTo>
                <a:cubicBezTo>
                  <a:pt x="2131" y="1769"/>
                  <a:pt x="2131" y="1769"/>
                  <a:pt x="2131" y="1769"/>
                </a:cubicBezTo>
                <a:cubicBezTo>
                  <a:pt x="2127" y="1757"/>
                  <a:pt x="2122" y="1746"/>
                  <a:pt x="2118" y="1734"/>
                </a:cubicBezTo>
                <a:cubicBezTo>
                  <a:pt x="2116" y="1728"/>
                  <a:pt x="2112" y="1720"/>
                  <a:pt x="2110" y="1713"/>
                </a:cubicBezTo>
                <a:cubicBezTo>
                  <a:pt x="2110" y="1713"/>
                  <a:pt x="2110" y="1713"/>
                  <a:pt x="2110" y="1713"/>
                </a:cubicBezTo>
                <a:cubicBezTo>
                  <a:pt x="2110" y="1713"/>
                  <a:pt x="2110" y="1712"/>
                  <a:pt x="2110" y="1712"/>
                </a:cubicBezTo>
                <a:cubicBezTo>
                  <a:pt x="2110" y="1712"/>
                  <a:pt x="2109" y="1711"/>
                  <a:pt x="2109" y="1710"/>
                </a:cubicBezTo>
                <a:cubicBezTo>
                  <a:pt x="2109" y="1707"/>
                  <a:pt x="2109" y="1704"/>
                  <a:pt x="2109" y="1701"/>
                </a:cubicBezTo>
                <a:cubicBezTo>
                  <a:pt x="2110" y="1699"/>
                  <a:pt x="2111" y="1698"/>
                  <a:pt x="2112" y="1696"/>
                </a:cubicBezTo>
                <a:cubicBezTo>
                  <a:pt x="2112" y="1696"/>
                  <a:pt x="2112" y="1696"/>
                  <a:pt x="2112" y="1696"/>
                </a:cubicBezTo>
                <a:cubicBezTo>
                  <a:pt x="2117" y="1688"/>
                  <a:pt x="2126" y="1685"/>
                  <a:pt x="2136" y="1684"/>
                </a:cubicBezTo>
                <a:cubicBezTo>
                  <a:pt x="2136" y="1684"/>
                  <a:pt x="2136" y="1684"/>
                  <a:pt x="2137" y="1684"/>
                </a:cubicBezTo>
                <a:cubicBezTo>
                  <a:pt x="2139" y="1684"/>
                  <a:pt x="2141" y="1684"/>
                  <a:pt x="2144" y="1684"/>
                </a:cubicBezTo>
                <a:cubicBezTo>
                  <a:pt x="2144" y="1684"/>
                  <a:pt x="2145" y="1683"/>
                  <a:pt x="2145" y="1683"/>
                </a:cubicBezTo>
                <a:cubicBezTo>
                  <a:pt x="2151" y="1683"/>
                  <a:pt x="2151" y="1683"/>
                  <a:pt x="2151" y="1683"/>
                </a:cubicBezTo>
                <a:cubicBezTo>
                  <a:pt x="2152" y="1683"/>
                  <a:pt x="2153" y="1683"/>
                  <a:pt x="2155" y="1683"/>
                </a:cubicBezTo>
                <a:cubicBezTo>
                  <a:pt x="2180" y="1683"/>
                  <a:pt x="2205" y="1683"/>
                  <a:pt x="2231" y="1683"/>
                </a:cubicBezTo>
                <a:cubicBezTo>
                  <a:pt x="2231" y="1683"/>
                  <a:pt x="2231" y="1683"/>
                  <a:pt x="2231" y="1683"/>
                </a:cubicBezTo>
                <a:cubicBezTo>
                  <a:pt x="2231" y="1683"/>
                  <a:pt x="2231" y="1683"/>
                  <a:pt x="2231" y="1683"/>
                </a:cubicBezTo>
                <a:cubicBezTo>
                  <a:pt x="2234" y="1683"/>
                  <a:pt x="2237" y="1683"/>
                  <a:pt x="2240" y="1684"/>
                </a:cubicBezTo>
                <a:cubicBezTo>
                  <a:pt x="2240" y="1684"/>
                  <a:pt x="2241" y="1684"/>
                  <a:pt x="2241" y="1684"/>
                </a:cubicBezTo>
                <a:cubicBezTo>
                  <a:pt x="2258" y="1686"/>
                  <a:pt x="2277" y="1693"/>
                  <a:pt x="2287" y="1706"/>
                </a:cubicBezTo>
                <a:cubicBezTo>
                  <a:pt x="2289" y="1708"/>
                  <a:pt x="2290" y="1710"/>
                  <a:pt x="2291" y="1712"/>
                </a:cubicBezTo>
                <a:cubicBezTo>
                  <a:pt x="2294" y="1717"/>
                  <a:pt x="2294" y="1717"/>
                  <a:pt x="2294" y="1717"/>
                </a:cubicBezTo>
                <a:cubicBezTo>
                  <a:pt x="2299" y="1727"/>
                  <a:pt x="2304" y="1737"/>
                  <a:pt x="2309" y="1748"/>
                </a:cubicBezTo>
                <a:cubicBezTo>
                  <a:pt x="2312" y="1754"/>
                  <a:pt x="2318" y="1762"/>
                  <a:pt x="2320" y="1771"/>
                </a:cubicBezTo>
                <a:cubicBezTo>
                  <a:pt x="2322" y="1775"/>
                  <a:pt x="2323" y="1778"/>
                  <a:pt x="2322" y="1782"/>
                </a:cubicBezTo>
                <a:close/>
                <a:moveTo>
                  <a:pt x="2340" y="1624"/>
                </a:moveTo>
                <a:cubicBezTo>
                  <a:pt x="2338" y="1622"/>
                  <a:pt x="2337" y="1621"/>
                  <a:pt x="2335" y="1620"/>
                </a:cubicBezTo>
                <a:cubicBezTo>
                  <a:pt x="2331" y="1617"/>
                  <a:pt x="2328" y="1613"/>
                  <a:pt x="2326" y="1610"/>
                </a:cubicBezTo>
                <a:cubicBezTo>
                  <a:pt x="2324" y="1607"/>
                  <a:pt x="2324" y="1607"/>
                  <a:pt x="2324" y="1607"/>
                </a:cubicBezTo>
                <a:cubicBezTo>
                  <a:pt x="2324" y="1607"/>
                  <a:pt x="2324" y="1607"/>
                  <a:pt x="2324" y="1607"/>
                </a:cubicBezTo>
                <a:cubicBezTo>
                  <a:pt x="2317" y="1594"/>
                  <a:pt x="2310" y="1582"/>
                  <a:pt x="2303" y="1569"/>
                </a:cubicBezTo>
                <a:cubicBezTo>
                  <a:pt x="2303" y="1569"/>
                  <a:pt x="2303" y="1569"/>
                  <a:pt x="2303" y="1569"/>
                </a:cubicBezTo>
                <a:cubicBezTo>
                  <a:pt x="2300" y="1564"/>
                  <a:pt x="2300" y="1564"/>
                  <a:pt x="2300" y="1564"/>
                </a:cubicBezTo>
                <a:cubicBezTo>
                  <a:pt x="2298" y="1561"/>
                  <a:pt x="2298" y="1558"/>
                  <a:pt x="2298" y="1555"/>
                </a:cubicBezTo>
                <a:cubicBezTo>
                  <a:pt x="2299" y="1552"/>
                  <a:pt x="2300" y="1550"/>
                  <a:pt x="2303" y="1547"/>
                </a:cubicBezTo>
                <a:cubicBezTo>
                  <a:pt x="2306" y="1545"/>
                  <a:pt x="2309" y="1544"/>
                  <a:pt x="2313" y="1542"/>
                </a:cubicBezTo>
                <a:cubicBezTo>
                  <a:pt x="2318" y="1541"/>
                  <a:pt x="2323" y="1541"/>
                  <a:pt x="2329" y="1541"/>
                </a:cubicBezTo>
                <a:cubicBezTo>
                  <a:pt x="2330" y="1541"/>
                  <a:pt x="2330" y="1541"/>
                  <a:pt x="2330" y="1541"/>
                </a:cubicBezTo>
                <a:cubicBezTo>
                  <a:pt x="2342" y="1540"/>
                  <a:pt x="2356" y="1540"/>
                  <a:pt x="2363" y="1540"/>
                </a:cubicBezTo>
                <a:cubicBezTo>
                  <a:pt x="2394" y="1540"/>
                  <a:pt x="2443" y="1534"/>
                  <a:pt x="2463" y="1564"/>
                </a:cubicBezTo>
                <a:cubicBezTo>
                  <a:pt x="2470" y="1573"/>
                  <a:pt x="2476" y="1583"/>
                  <a:pt x="2483" y="1593"/>
                </a:cubicBezTo>
                <a:cubicBezTo>
                  <a:pt x="2486" y="1598"/>
                  <a:pt x="2492" y="1605"/>
                  <a:pt x="2495" y="1611"/>
                </a:cubicBezTo>
                <a:cubicBezTo>
                  <a:pt x="2497" y="1614"/>
                  <a:pt x="2498" y="1617"/>
                  <a:pt x="2498" y="1620"/>
                </a:cubicBezTo>
                <a:cubicBezTo>
                  <a:pt x="2498" y="1621"/>
                  <a:pt x="2497" y="1623"/>
                  <a:pt x="2496" y="1625"/>
                </a:cubicBezTo>
                <a:cubicBezTo>
                  <a:pt x="2496" y="1626"/>
                  <a:pt x="2495" y="1627"/>
                  <a:pt x="2494" y="1628"/>
                </a:cubicBezTo>
                <a:cubicBezTo>
                  <a:pt x="2494" y="1628"/>
                  <a:pt x="2494" y="1628"/>
                  <a:pt x="2494" y="1628"/>
                </a:cubicBezTo>
                <a:cubicBezTo>
                  <a:pt x="2494" y="1628"/>
                  <a:pt x="2494" y="1628"/>
                  <a:pt x="2494" y="1628"/>
                </a:cubicBezTo>
                <a:cubicBezTo>
                  <a:pt x="2493" y="1629"/>
                  <a:pt x="2493" y="1629"/>
                  <a:pt x="2492" y="1630"/>
                </a:cubicBezTo>
                <a:cubicBezTo>
                  <a:pt x="2492" y="1630"/>
                  <a:pt x="2491" y="1630"/>
                  <a:pt x="2491" y="1630"/>
                </a:cubicBezTo>
                <a:cubicBezTo>
                  <a:pt x="2490" y="1631"/>
                  <a:pt x="2489" y="1631"/>
                  <a:pt x="2488" y="1632"/>
                </a:cubicBezTo>
                <a:cubicBezTo>
                  <a:pt x="2487" y="1632"/>
                  <a:pt x="2485" y="1633"/>
                  <a:pt x="2484" y="1633"/>
                </a:cubicBezTo>
                <a:cubicBezTo>
                  <a:pt x="2484" y="1633"/>
                  <a:pt x="2484" y="1634"/>
                  <a:pt x="2484" y="1634"/>
                </a:cubicBezTo>
                <a:cubicBezTo>
                  <a:pt x="2484" y="1634"/>
                  <a:pt x="2483" y="1634"/>
                  <a:pt x="2483" y="1634"/>
                </a:cubicBezTo>
                <a:cubicBezTo>
                  <a:pt x="2469" y="1638"/>
                  <a:pt x="2448" y="1636"/>
                  <a:pt x="2434" y="1636"/>
                </a:cubicBezTo>
                <a:cubicBezTo>
                  <a:pt x="2418" y="1636"/>
                  <a:pt x="2401" y="1636"/>
                  <a:pt x="2385" y="1636"/>
                </a:cubicBezTo>
                <a:cubicBezTo>
                  <a:pt x="2370" y="1636"/>
                  <a:pt x="2353" y="1632"/>
                  <a:pt x="2340" y="1624"/>
                </a:cubicBezTo>
                <a:close/>
                <a:moveTo>
                  <a:pt x="2605" y="1791"/>
                </a:moveTo>
                <a:cubicBezTo>
                  <a:pt x="2605" y="1791"/>
                  <a:pt x="2605" y="1791"/>
                  <a:pt x="2604" y="1791"/>
                </a:cubicBezTo>
                <a:cubicBezTo>
                  <a:pt x="2602" y="1794"/>
                  <a:pt x="2598" y="1797"/>
                  <a:pt x="2593" y="1798"/>
                </a:cubicBezTo>
                <a:cubicBezTo>
                  <a:pt x="2589" y="1800"/>
                  <a:pt x="2583" y="1801"/>
                  <a:pt x="2576" y="1801"/>
                </a:cubicBezTo>
                <a:cubicBezTo>
                  <a:pt x="2569" y="1801"/>
                  <a:pt x="2569" y="1801"/>
                  <a:pt x="2569" y="1801"/>
                </a:cubicBezTo>
                <a:cubicBezTo>
                  <a:pt x="2569" y="1801"/>
                  <a:pt x="2569" y="1801"/>
                  <a:pt x="2569" y="1801"/>
                </a:cubicBezTo>
                <a:cubicBezTo>
                  <a:pt x="2541" y="1801"/>
                  <a:pt x="2512" y="1801"/>
                  <a:pt x="2483" y="1801"/>
                </a:cubicBezTo>
                <a:cubicBezTo>
                  <a:pt x="2480" y="1801"/>
                  <a:pt x="2476" y="1801"/>
                  <a:pt x="2473" y="1801"/>
                </a:cubicBezTo>
                <a:cubicBezTo>
                  <a:pt x="2473" y="1801"/>
                  <a:pt x="2473" y="1801"/>
                  <a:pt x="2473" y="1801"/>
                </a:cubicBezTo>
                <a:cubicBezTo>
                  <a:pt x="2453" y="1799"/>
                  <a:pt x="2432" y="1790"/>
                  <a:pt x="2419" y="1775"/>
                </a:cubicBezTo>
                <a:cubicBezTo>
                  <a:pt x="2418" y="1773"/>
                  <a:pt x="2416" y="1771"/>
                  <a:pt x="2415" y="1769"/>
                </a:cubicBezTo>
                <a:cubicBezTo>
                  <a:pt x="2415" y="1769"/>
                  <a:pt x="2415" y="1769"/>
                  <a:pt x="2415" y="1769"/>
                </a:cubicBezTo>
                <a:cubicBezTo>
                  <a:pt x="2415" y="1769"/>
                  <a:pt x="2415" y="1769"/>
                  <a:pt x="2415" y="1769"/>
                </a:cubicBezTo>
                <a:cubicBezTo>
                  <a:pt x="2409" y="1758"/>
                  <a:pt x="2402" y="1747"/>
                  <a:pt x="2396" y="1736"/>
                </a:cubicBezTo>
                <a:cubicBezTo>
                  <a:pt x="2392" y="1728"/>
                  <a:pt x="2383" y="1716"/>
                  <a:pt x="2381" y="1706"/>
                </a:cubicBezTo>
                <a:cubicBezTo>
                  <a:pt x="2381" y="1706"/>
                  <a:pt x="2381" y="1706"/>
                  <a:pt x="2381" y="1706"/>
                </a:cubicBezTo>
                <a:cubicBezTo>
                  <a:pt x="2380" y="1705"/>
                  <a:pt x="2380" y="1704"/>
                  <a:pt x="2380" y="1703"/>
                </a:cubicBezTo>
                <a:cubicBezTo>
                  <a:pt x="2379" y="1693"/>
                  <a:pt x="2387" y="1688"/>
                  <a:pt x="2396" y="1685"/>
                </a:cubicBezTo>
                <a:cubicBezTo>
                  <a:pt x="2396" y="1685"/>
                  <a:pt x="2396" y="1685"/>
                  <a:pt x="2396" y="1685"/>
                </a:cubicBezTo>
                <a:cubicBezTo>
                  <a:pt x="2396" y="1685"/>
                  <a:pt x="2397" y="1685"/>
                  <a:pt x="2397" y="1685"/>
                </a:cubicBezTo>
                <a:cubicBezTo>
                  <a:pt x="2398" y="1685"/>
                  <a:pt x="2398" y="1685"/>
                  <a:pt x="2399" y="1684"/>
                </a:cubicBezTo>
                <a:cubicBezTo>
                  <a:pt x="2403" y="1683"/>
                  <a:pt x="2408" y="1683"/>
                  <a:pt x="2413" y="1683"/>
                </a:cubicBezTo>
                <a:cubicBezTo>
                  <a:pt x="2470" y="1683"/>
                  <a:pt x="2470" y="1683"/>
                  <a:pt x="2470" y="1683"/>
                </a:cubicBezTo>
                <a:cubicBezTo>
                  <a:pt x="2479" y="1683"/>
                  <a:pt x="2489" y="1683"/>
                  <a:pt x="2498" y="1683"/>
                </a:cubicBezTo>
                <a:cubicBezTo>
                  <a:pt x="2498" y="1683"/>
                  <a:pt x="2498" y="1683"/>
                  <a:pt x="2498" y="1683"/>
                </a:cubicBezTo>
                <a:cubicBezTo>
                  <a:pt x="2499" y="1683"/>
                  <a:pt x="2499" y="1683"/>
                  <a:pt x="2500" y="1683"/>
                </a:cubicBezTo>
                <a:cubicBezTo>
                  <a:pt x="2502" y="1683"/>
                  <a:pt x="2505" y="1683"/>
                  <a:pt x="2507" y="1683"/>
                </a:cubicBezTo>
                <a:cubicBezTo>
                  <a:pt x="2508" y="1683"/>
                  <a:pt x="2508" y="1683"/>
                  <a:pt x="2509" y="1683"/>
                </a:cubicBezTo>
                <a:cubicBezTo>
                  <a:pt x="2527" y="1685"/>
                  <a:pt x="2546" y="1692"/>
                  <a:pt x="2558" y="1705"/>
                </a:cubicBezTo>
                <a:cubicBezTo>
                  <a:pt x="2559" y="1705"/>
                  <a:pt x="2560" y="1706"/>
                  <a:pt x="2561" y="1707"/>
                </a:cubicBezTo>
                <a:cubicBezTo>
                  <a:pt x="2561" y="1708"/>
                  <a:pt x="2562" y="1708"/>
                  <a:pt x="2562" y="1709"/>
                </a:cubicBezTo>
                <a:cubicBezTo>
                  <a:pt x="2563" y="1710"/>
                  <a:pt x="2563" y="1710"/>
                  <a:pt x="2564" y="1711"/>
                </a:cubicBezTo>
                <a:cubicBezTo>
                  <a:pt x="2564" y="1711"/>
                  <a:pt x="2564" y="1711"/>
                  <a:pt x="2564" y="1711"/>
                </a:cubicBezTo>
                <a:cubicBezTo>
                  <a:pt x="2566" y="1713"/>
                  <a:pt x="2566" y="1713"/>
                  <a:pt x="2566" y="1713"/>
                </a:cubicBezTo>
                <a:cubicBezTo>
                  <a:pt x="2571" y="1721"/>
                  <a:pt x="2576" y="1729"/>
                  <a:pt x="2582" y="1737"/>
                </a:cubicBezTo>
                <a:cubicBezTo>
                  <a:pt x="2582" y="1737"/>
                  <a:pt x="2582" y="1737"/>
                  <a:pt x="2582" y="1737"/>
                </a:cubicBezTo>
                <a:cubicBezTo>
                  <a:pt x="2589" y="1748"/>
                  <a:pt x="2599" y="1759"/>
                  <a:pt x="2605" y="1772"/>
                </a:cubicBezTo>
                <a:cubicBezTo>
                  <a:pt x="2606" y="1773"/>
                  <a:pt x="2606" y="1773"/>
                  <a:pt x="2606" y="1774"/>
                </a:cubicBezTo>
                <a:cubicBezTo>
                  <a:pt x="2607" y="1775"/>
                  <a:pt x="2607" y="1775"/>
                  <a:pt x="2607" y="1775"/>
                </a:cubicBezTo>
                <a:cubicBezTo>
                  <a:pt x="2609" y="1782"/>
                  <a:pt x="2608" y="1787"/>
                  <a:pt x="2605" y="1791"/>
                </a:cubicBezTo>
                <a:close/>
                <a:moveTo>
                  <a:pt x="2937" y="318"/>
                </a:moveTo>
                <a:cubicBezTo>
                  <a:pt x="3034" y="414"/>
                  <a:pt x="3089" y="549"/>
                  <a:pt x="3089" y="685"/>
                </a:cubicBezTo>
                <a:cubicBezTo>
                  <a:pt x="3089" y="821"/>
                  <a:pt x="3034" y="955"/>
                  <a:pt x="2937" y="1051"/>
                </a:cubicBezTo>
                <a:cubicBezTo>
                  <a:pt x="3050" y="999"/>
                  <a:pt x="3153" y="855"/>
                  <a:pt x="3152" y="685"/>
                </a:cubicBezTo>
                <a:cubicBezTo>
                  <a:pt x="3153" y="514"/>
                  <a:pt x="3050" y="371"/>
                  <a:pt x="2937" y="318"/>
                </a:cubicBezTo>
                <a:close/>
                <a:moveTo>
                  <a:pt x="216" y="318"/>
                </a:moveTo>
                <a:cubicBezTo>
                  <a:pt x="104" y="371"/>
                  <a:pt x="0" y="514"/>
                  <a:pt x="2" y="685"/>
                </a:cubicBezTo>
                <a:cubicBezTo>
                  <a:pt x="0" y="855"/>
                  <a:pt x="104" y="999"/>
                  <a:pt x="216" y="1051"/>
                </a:cubicBezTo>
                <a:cubicBezTo>
                  <a:pt x="120" y="955"/>
                  <a:pt x="64" y="821"/>
                  <a:pt x="65" y="685"/>
                </a:cubicBezTo>
                <a:cubicBezTo>
                  <a:pt x="64" y="549"/>
                  <a:pt x="120" y="414"/>
                  <a:pt x="216" y="3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reflection algn="bl" blurRad="6350" dir="5400000" endA="300" endPos="35000" rotWithShape="0" stA="52000" sy="-100000"/>
          </a:effectLst>
        </p:spPr>
        <p:style>
          <a:lnRef idx="0"/>
          <a:fillRef idx="0"/>
          <a:effectRef idx="0"/>
          <a:fontRef idx="minor"/>
        </p:style>
        <p:txBody>
          <a:bodyPr numCol="1" spcCol="0" lIns="61560" rIns="61560" tIns="30960" bIns="30960" anchor="t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\\MAGNUM\Projects\Microsoft\Cloud Power FY12\Design\ICONS_PNG\Increase.png"/>
          <p:cNvPicPr/>
          <p:nvPr/>
        </p:nvPicPr>
        <p:blipFill>
          <a:blip r:embed="rId3"/>
          <a:srcRect l="0" t="0" r="0" b="16270"/>
          <a:stretch/>
        </p:blipFill>
        <p:spPr>
          <a:xfrm>
            <a:off x="4294080" y="2211840"/>
            <a:ext cx="543240" cy="45468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sp>
        <p:nvSpPr>
          <p:cNvPr id="185" name="矩形 1"/>
          <p:cNvSpPr txBox="1"/>
          <p:nvPr/>
        </p:nvSpPr>
        <p:spPr>
          <a:xfrm rot="19929600">
            <a:off x="4638240" y="2473560"/>
            <a:ext cx="1797840" cy="387720"/>
          </a:xfrm>
          <a:prstGeom prst="rect">
            <a:avLst/>
          </a:prstGeom>
        </p:spPr>
        <p:txBody>
          <a:bodyPr wrap="none" lIns="68760" rIns="68760" tIns="34200" bIns="34200" anchor="t" anchorCtr="1">
            <a:prstTxWarp prst="textArchDown">
              <a:avLst>
                <a:gd name="adj" fmla="val 13135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ln w="0">
                  <a:noFill/>
                </a:ln>
                <a:solidFill>
                  <a:srgbClr val="ffffff"/>
                </a:solidFill>
                <a:latin typeface="Calibri"/>
              </a:rPr>
              <a:t>INFOGRAPHIC DATA</a:t>
            </a:r>
            <a:endParaRPr b="0" lang="en-US" sz="1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1"/>
          <p:cNvSpPr txBox="1"/>
          <p:nvPr/>
        </p:nvSpPr>
        <p:spPr>
          <a:xfrm rot="20330400">
            <a:off x="4884480" y="3036960"/>
            <a:ext cx="1797840" cy="387720"/>
          </a:xfrm>
          <a:prstGeom prst="rect">
            <a:avLst/>
          </a:prstGeom>
        </p:spPr>
        <p:txBody>
          <a:bodyPr wrap="none" lIns="68760" rIns="68760" tIns="34200" bIns="34200" anchor="t" anchorCtr="1">
            <a:prstTxWarp prst="textArchDown">
              <a:avLst>
                <a:gd name="adj" fmla="val 75031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ln w="0">
                  <a:noFill/>
                </a:ln>
                <a:solidFill>
                  <a:srgbClr val="595959"/>
                </a:solidFill>
                <a:latin typeface="Calibri"/>
              </a:rPr>
              <a:t>INFOGRAPHIC DATA</a:t>
            </a:r>
            <a:endParaRPr b="0" lang="en-US" sz="1400" spc="-1" strike="noStrike">
              <a:ln w="0">
                <a:noFill/>
              </a:ln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187" name="组合 4"/>
          <p:cNvGrpSpPr/>
          <p:nvPr/>
        </p:nvGrpSpPr>
        <p:grpSpPr>
          <a:xfrm>
            <a:off x="18720" y="4092480"/>
            <a:ext cx="2449080" cy="942840"/>
            <a:chOff x="18720" y="4092480"/>
            <a:chExt cx="2449080" cy="942840"/>
          </a:xfrm>
        </p:grpSpPr>
        <p:sp>
          <p:nvSpPr>
            <p:cNvPr id="188" name="TextBox 58"/>
            <p:cNvSpPr/>
            <p:nvPr/>
          </p:nvSpPr>
          <p:spPr>
            <a:xfrm>
              <a:off x="1872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组合 2"/>
            <p:cNvGrpSpPr/>
            <p:nvPr/>
          </p:nvGrpSpPr>
          <p:grpSpPr>
            <a:xfrm>
              <a:off x="782640" y="4663080"/>
              <a:ext cx="921600" cy="68040"/>
              <a:chOff x="782640" y="4663080"/>
              <a:chExt cx="921600" cy="68040"/>
            </a:xfrm>
          </p:grpSpPr>
          <p:sp>
            <p:nvSpPr>
              <p:cNvPr id="190" name="矩形 62"/>
              <p:cNvSpPr/>
              <p:nvPr/>
            </p:nvSpPr>
            <p:spPr>
              <a:xfrm>
                <a:off x="782640" y="466308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>
                <a:noFill/>
              </a:ln>
              <a:effectLst>
                <a:glow rad="63360">
                  <a:srgbClr val="ffffff">
                    <a:alpha val="4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" name="矩形 63"/>
              <p:cNvSpPr/>
              <p:nvPr/>
            </p:nvSpPr>
            <p:spPr>
              <a:xfrm>
                <a:off x="1023840" y="466308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 w="12700">
                <a:noFill/>
              </a:ln>
            </p:spPr>
            <p:style>
              <a:lnRef idx="2">
                <a:schemeClr val="dk1"/>
              </a:lnRef>
              <a:fillRef idx="1">
                <a:schemeClr val="lt1"/>
              </a:fillRef>
              <a:effectRef idx="0">
                <a:schemeClr val="dk1"/>
              </a:effectRef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</a:endParaRPr>
              </a:p>
            </p:txBody>
          </p:sp>
          <p:sp>
            <p:nvSpPr>
              <p:cNvPr id="192" name="矩形 66"/>
              <p:cNvSpPr/>
              <p:nvPr/>
            </p:nvSpPr>
            <p:spPr>
              <a:xfrm>
                <a:off x="126540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d7d7d7"/>
                  </a:gs>
                  <a:gs pos="100000">
                    <a:srgbClr val="d9d9d9"/>
                  </a:gs>
                </a:gsLst>
                <a:lin ang="18600000"/>
              </a:gradFill>
              <a:ln w="12700">
                <a:noFill/>
              </a:ln>
            </p:spPr>
            <p:style>
              <a:lnRef idx="2">
                <a:schemeClr val="dk1"/>
              </a:lnRef>
              <a:fillRef idx="1">
                <a:schemeClr val="lt1"/>
              </a:fillRef>
              <a:effectRef idx="0">
                <a:schemeClr val="dk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dk1"/>
                  </a:solidFill>
                  <a:latin typeface="Calibri"/>
                </a:endParaRPr>
              </a:p>
            </p:txBody>
          </p:sp>
          <p:sp>
            <p:nvSpPr>
              <p:cNvPr id="193" name="矩形 67"/>
              <p:cNvSpPr/>
              <p:nvPr/>
            </p:nvSpPr>
            <p:spPr>
              <a:xfrm>
                <a:off x="1506600" y="466308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 w="12700">
                <a:noFill/>
              </a:ln>
              <a:scene3d>
                <a:camera prst="orthographicFront"/>
                <a:lightRig dir="t" rig="threePt"/>
              </a:scene3d>
              <a:sp3d extrusionH="463550">
                <a:bevelT w="0" h="63500"/>
                <a:bevelB w="165100" h="184150"/>
                <a:extrusionClr>
                  <a:srgbClr val="6a93bf"/>
                </a:extrusionClr>
                <a:contourClr>
                  <a:srgbClr val="6a93bf"/>
                </a:contourClr>
              </a:sp3d>
            </p:spPr>
            <p:style>
              <a:lnRef idx="2">
                <a:schemeClr val="dk1">
                  <a:shade val="50000"/>
                </a:schemeClr>
              </a:lnRef>
              <a:fillRef idx="1">
                <a:schemeClr val="dk1"/>
              </a:fillRef>
              <a:effectRef idx="0">
                <a:schemeClr val="dk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41"/>
          <p:cNvGrpSpPr/>
          <p:nvPr/>
        </p:nvGrpSpPr>
        <p:grpSpPr>
          <a:xfrm>
            <a:off x="973440" y="1256400"/>
            <a:ext cx="2446200" cy="2574720"/>
            <a:chOff x="973440" y="1256400"/>
            <a:chExt cx="2446200" cy="2574720"/>
          </a:xfrm>
        </p:grpSpPr>
        <p:sp>
          <p:nvSpPr>
            <p:cNvPr id="195" name="梯形 9"/>
            <p:cNvSpPr/>
            <p:nvPr/>
          </p:nvSpPr>
          <p:spPr>
            <a:xfrm flipV="1">
              <a:off x="973440" y="1256040"/>
              <a:ext cx="2170800" cy="2574720"/>
            </a:xfrm>
            <a:custGeom>
              <a:avLst/>
              <a:gdLst>
                <a:gd name="textAreaLeft" fmla="*/ 0 w 2170800"/>
                <a:gd name="textAreaRight" fmla="*/ 2171160 w 2170800"/>
                <a:gd name="textAreaTop" fmla="*/ 360 h 2574720"/>
                <a:gd name="textAreaBottom" fmla="*/ 2575440 h 2574720"/>
              </a:gdLst>
              <a:ahLst/>
              <a:rect l="textAreaLeft" t="textAreaTop" r="textAreaRight" b="textAreaBottom"/>
              <a:pathLst>
                <a:path w="1331890" h="1579553">
                  <a:moveTo>
                    <a:pt x="0" y="1579553"/>
                  </a:moveTo>
                  <a:lnTo>
                    <a:pt x="378710" y="2381"/>
                  </a:lnTo>
                  <a:lnTo>
                    <a:pt x="1110343" y="0"/>
                  </a:lnTo>
                  <a:lnTo>
                    <a:pt x="1331890" y="1579553"/>
                  </a:lnTo>
                  <a:lnTo>
                    <a:pt x="0" y="1579553"/>
                  </a:lnTo>
                  <a:close/>
                </a:path>
              </a:pathLst>
            </a:custGeom>
            <a:solidFill>
              <a:srgbClr val="70828a"/>
            </a:solidFill>
            <a:ln>
              <a:noFill/>
            </a:ln>
            <a:effectLst>
              <a:reflection algn="bl" blurRad="6350" dir="5400000" dist="12700" endPos="35000" rotWithShape="0" stA="30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6" name="矩形 2"/>
            <p:cNvSpPr/>
            <p:nvPr/>
          </p:nvSpPr>
          <p:spPr>
            <a:xfrm>
              <a:off x="1058760" y="1545120"/>
              <a:ext cx="2085480" cy="2193120"/>
            </a:xfrm>
            <a:custGeom>
              <a:avLst/>
              <a:gdLst>
                <a:gd name="textAreaLeft" fmla="*/ 0 w 2085480"/>
                <a:gd name="textAreaRight" fmla="*/ 2085840 w 2085480"/>
                <a:gd name="textAreaTop" fmla="*/ 0 h 2193120"/>
                <a:gd name="textAreaBottom" fmla="*/ 2193480 h 2193120"/>
              </a:gdLst>
              <a:ahLst/>
              <a:rect l="textAreaLeft" t="textAreaTop" r="textAreaRight" b="textAreaBottom"/>
              <a:pathLst>
                <a:path w="1279571" h="1345580">
                  <a:moveTo>
                    <a:pt x="0" y="329407"/>
                  </a:moveTo>
                  <a:cubicBezTo>
                    <a:pt x="391376" y="146315"/>
                    <a:pt x="624796" y="67204"/>
                    <a:pt x="1066973" y="0"/>
                  </a:cubicBezTo>
                  <a:cubicBezTo>
                    <a:pt x="1093431" y="74670"/>
                    <a:pt x="1340553" y="905785"/>
                    <a:pt x="1265411" y="1243980"/>
                  </a:cubicBezTo>
                  <a:lnTo>
                    <a:pt x="252413" y="1345580"/>
                  </a:lnTo>
                  <a:lnTo>
                    <a:pt x="0" y="329407"/>
                  </a:lnTo>
                  <a:close/>
                </a:path>
              </a:pathLst>
            </a:custGeom>
            <a:gradFill rotWithShape="0">
              <a:gsLst>
                <a:gs pos="0">
                  <a:srgbClr val="ffb153"/>
                </a:gs>
                <a:gs pos="100000">
                  <a:srgbClr val="f9b61f"/>
                </a:gs>
              </a:gsLst>
              <a:lin ang="6600000"/>
            </a:gradFill>
            <a:ln>
              <a:noFill/>
            </a:ln>
            <a:effectLst>
              <a:outerShdw blurRad="50760" dir="162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7" name="矩形 2"/>
            <p:cNvSpPr/>
            <p:nvPr/>
          </p:nvSpPr>
          <p:spPr>
            <a:xfrm>
              <a:off x="2796120" y="1545120"/>
              <a:ext cx="371520" cy="202716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2027160"/>
                <a:gd name="textAreaBottom" fmla="*/ 2027520 h 2027160"/>
              </a:gdLst>
              <a:ahLst/>
              <a:rect l="textAreaLeft" t="textAreaTop" r="textAreaRight" b="textAreaBottom"/>
              <a:pathLst>
                <a:path w="371846" h="2027489">
                  <a:moveTo>
                    <a:pt x="5911" y="0"/>
                  </a:moveTo>
                  <a:lnTo>
                    <a:pt x="297952" y="188568"/>
                  </a:lnTo>
                  <a:cubicBezTo>
                    <a:pt x="352167" y="634733"/>
                    <a:pt x="419556" y="1592856"/>
                    <a:pt x="323110" y="2027487"/>
                  </a:cubicBezTo>
                  <a:lnTo>
                    <a:pt x="323099" y="2027489"/>
                  </a:lnTo>
                  <a:cubicBezTo>
                    <a:pt x="444970" y="1477912"/>
                    <a:pt x="45505" y="131076"/>
                    <a:pt x="0" y="1208"/>
                  </a:cubicBezTo>
                  <a:cubicBezTo>
                    <a:pt x="1948" y="688"/>
                    <a:pt x="3930" y="344"/>
                    <a:pt x="59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9cd45"/>
                </a:gs>
                <a:gs pos="100000">
                  <a:srgbClr val="fbc753"/>
                </a:gs>
              </a:gsLst>
              <a:lin ang="5400000"/>
            </a:gradFill>
            <a:ln w="3175">
              <a:noFill/>
            </a:ln>
            <a:effectLst>
              <a:outerShdw blurRad="50760" dir="162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8" name="TextBox 6"/>
            <p:cNvSpPr/>
            <p:nvPr/>
          </p:nvSpPr>
          <p:spPr>
            <a:xfrm>
              <a:off x="1058760" y="1256400"/>
              <a:ext cx="82908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组合 40"/>
            <p:cNvGrpSpPr/>
            <p:nvPr/>
          </p:nvGrpSpPr>
          <p:grpSpPr>
            <a:xfrm>
              <a:off x="1186200" y="1991880"/>
              <a:ext cx="2233440" cy="1400400"/>
              <a:chOff x="1186200" y="1991880"/>
              <a:chExt cx="2233440" cy="1400400"/>
            </a:xfrm>
          </p:grpSpPr>
          <p:sp>
            <p:nvSpPr>
              <p:cNvPr id="200" name="TextBox 5"/>
              <p:cNvSpPr/>
              <p:nvPr/>
            </p:nvSpPr>
            <p:spPr>
              <a:xfrm>
                <a:off x="1206720" y="1991880"/>
                <a:ext cx="17038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Box 7"/>
              <p:cNvSpPr/>
              <p:nvPr/>
            </p:nvSpPr>
            <p:spPr>
              <a:xfrm>
                <a:off x="1186200" y="2390040"/>
                <a:ext cx="2233440" cy="10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组合 48"/>
          <p:cNvGrpSpPr/>
          <p:nvPr/>
        </p:nvGrpSpPr>
        <p:grpSpPr>
          <a:xfrm>
            <a:off x="3474720" y="1256400"/>
            <a:ext cx="2428920" cy="2574720"/>
            <a:chOff x="3474720" y="1256400"/>
            <a:chExt cx="2428920" cy="2574720"/>
          </a:xfrm>
        </p:grpSpPr>
        <p:sp>
          <p:nvSpPr>
            <p:cNvPr id="203" name="梯形 9"/>
            <p:cNvSpPr/>
            <p:nvPr/>
          </p:nvSpPr>
          <p:spPr>
            <a:xfrm flipV="1">
              <a:off x="3474720" y="1256040"/>
              <a:ext cx="2170800" cy="2574720"/>
            </a:xfrm>
            <a:custGeom>
              <a:avLst/>
              <a:gdLst>
                <a:gd name="textAreaLeft" fmla="*/ 0 w 2170800"/>
                <a:gd name="textAreaRight" fmla="*/ 2171160 w 2170800"/>
                <a:gd name="textAreaTop" fmla="*/ 360 h 2574720"/>
                <a:gd name="textAreaBottom" fmla="*/ 2575440 h 2574720"/>
              </a:gdLst>
              <a:ahLst/>
              <a:rect l="textAreaLeft" t="textAreaTop" r="textAreaRight" b="textAreaBottom"/>
              <a:pathLst>
                <a:path w="1331890" h="1579553">
                  <a:moveTo>
                    <a:pt x="0" y="1579553"/>
                  </a:moveTo>
                  <a:lnTo>
                    <a:pt x="378710" y="2381"/>
                  </a:lnTo>
                  <a:lnTo>
                    <a:pt x="1110343" y="0"/>
                  </a:lnTo>
                  <a:lnTo>
                    <a:pt x="1331890" y="1579553"/>
                  </a:lnTo>
                  <a:lnTo>
                    <a:pt x="0" y="1579553"/>
                  </a:lnTo>
                  <a:close/>
                </a:path>
              </a:pathLst>
            </a:custGeom>
            <a:solidFill>
              <a:srgbClr val="70828a"/>
            </a:solidFill>
            <a:ln>
              <a:noFill/>
            </a:ln>
            <a:effectLst>
              <a:reflection algn="bl" blurRad="6350" dir="5400000" dist="12700" endPos="35000" rotWithShape="0" stA="30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4" name="矩形 2"/>
            <p:cNvSpPr/>
            <p:nvPr/>
          </p:nvSpPr>
          <p:spPr>
            <a:xfrm>
              <a:off x="3560040" y="1545120"/>
              <a:ext cx="2085480" cy="2193120"/>
            </a:xfrm>
            <a:custGeom>
              <a:avLst/>
              <a:gdLst>
                <a:gd name="textAreaLeft" fmla="*/ 0 w 2085480"/>
                <a:gd name="textAreaRight" fmla="*/ 2085840 w 2085480"/>
                <a:gd name="textAreaTop" fmla="*/ 0 h 2193120"/>
                <a:gd name="textAreaBottom" fmla="*/ 2193480 h 2193120"/>
              </a:gdLst>
              <a:ahLst/>
              <a:rect l="textAreaLeft" t="textAreaTop" r="textAreaRight" b="textAreaBottom"/>
              <a:pathLst>
                <a:path w="1279571" h="1345580">
                  <a:moveTo>
                    <a:pt x="0" y="329407"/>
                  </a:moveTo>
                  <a:cubicBezTo>
                    <a:pt x="391376" y="146315"/>
                    <a:pt x="624796" y="67204"/>
                    <a:pt x="1066973" y="0"/>
                  </a:cubicBezTo>
                  <a:cubicBezTo>
                    <a:pt x="1093431" y="74670"/>
                    <a:pt x="1340553" y="905785"/>
                    <a:pt x="1265411" y="1243980"/>
                  </a:cubicBezTo>
                  <a:lnTo>
                    <a:pt x="252413" y="1345580"/>
                  </a:lnTo>
                  <a:lnTo>
                    <a:pt x="0" y="329407"/>
                  </a:lnTo>
                  <a:close/>
                </a:path>
              </a:pathLst>
            </a:custGeom>
            <a:gradFill rotWithShape="0">
              <a:gsLst>
                <a:gs pos="0">
                  <a:srgbClr val="377f99"/>
                </a:gs>
                <a:gs pos="100000">
                  <a:srgbClr val="4a94af"/>
                </a:gs>
              </a:gsLst>
              <a:lin ang="6600000"/>
            </a:gradFill>
            <a:ln>
              <a:noFill/>
            </a:ln>
            <a:effectLst>
              <a:outerShdw blurRad="50760" dir="162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5" name="矩形 2"/>
            <p:cNvSpPr/>
            <p:nvPr/>
          </p:nvSpPr>
          <p:spPr>
            <a:xfrm>
              <a:off x="5297400" y="1545120"/>
              <a:ext cx="371520" cy="202716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2027160"/>
                <a:gd name="textAreaBottom" fmla="*/ 2027520 h 2027160"/>
              </a:gdLst>
              <a:ahLst/>
              <a:rect l="textAreaLeft" t="textAreaTop" r="textAreaRight" b="textAreaBottom"/>
              <a:pathLst>
                <a:path w="371846" h="2027489">
                  <a:moveTo>
                    <a:pt x="5911" y="0"/>
                  </a:moveTo>
                  <a:lnTo>
                    <a:pt x="297952" y="188568"/>
                  </a:lnTo>
                  <a:cubicBezTo>
                    <a:pt x="352167" y="634733"/>
                    <a:pt x="419556" y="1592856"/>
                    <a:pt x="323110" y="2027487"/>
                  </a:cubicBezTo>
                  <a:lnTo>
                    <a:pt x="323099" y="2027489"/>
                  </a:lnTo>
                  <a:cubicBezTo>
                    <a:pt x="444970" y="1477912"/>
                    <a:pt x="45505" y="131076"/>
                    <a:pt x="0" y="1208"/>
                  </a:cubicBezTo>
                  <a:cubicBezTo>
                    <a:pt x="1948" y="688"/>
                    <a:pt x="3930" y="344"/>
                    <a:pt x="59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4a94af"/>
                </a:gs>
                <a:gs pos="100000">
                  <a:srgbClr val="6cb1ca"/>
                </a:gs>
              </a:gsLst>
              <a:lin ang="5400000"/>
            </a:gradFill>
            <a:ln>
              <a:noFill/>
            </a:ln>
            <a:effectLst>
              <a:outerShdw blurRad="50760" dir="162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6" name="TextBox 14"/>
            <p:cNvSpPr/>
            <p:nvPr/>
          </p:nvSpPr>
          <p:spPr>
            <a:xfrm>
              <a:off x="3560040" y="1256400"/>
              <a:ext cx="82908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组合 42"/>
            <p:cNvGrpSpPr/>
            <p:nvPr/>
          </p:nvGrpSpPr>
          <p:grpSpPr>
            <a:xfrm>
              <a:off x="3670200" y="1991880"/>
              <a:ext cx="2233440" cy="1400400"/>
              <a:chOff x="3670200" y="1991880"/>
              <a:chExt cx="2233440" cy="1400400"/>
            </a:xfrm>
          </p:grpSpPr>
          <p:sp>
            <p:nvSpPr>
              <p:cNvPr id="208" name="TextBox 43"/>
              <p:cNvSpPr/>
              <p:nvPr/>
            </p:nvSpPr>
            <p:spPr>
              <a:xfrm>
                <a:off x="3691080" y="1991880"/>
                <a:ext cx="17038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Box 44"/>
              <p:cNvSpPr/>
              <p:nvPr/>
            </p:nvSpPr>
            <p:spPr>
              <a:xfrm>
                <a:off x="3670200" y="2390040"/>
                <a:ext cx="2233440" cy="10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组合 49"/>
          <p:cNvGrpSpPr/>
          <p:nvPr/>
        </p:nvGrpSpPr>
        <p:grpSpPr>
          <a:xfrm>
            <a:off x="5976000" y="1256400"/>
            <a:ext cx="2412000" cy="2574720"/>
            <a:chOff x="5976000" y="1256400"/>
            <a:chExt cx="2412000" cy="2574720"/>
          </a:xfrm>
        </p:grpSpPr>
        <p:sp>
          <p:nvSpPr>
            <p:cNvPr id="211" name="梯形 9"/>
            <p:cNvSpPr/>
            <p:nvPr/>
          </p:nvSpPr>
          <p:spPr>
            <a:xfrm flipV="1">
              <a:off x="5976000" y="1256040"/>
              <a:ext cx="2170800" cy="2574720"/>
            </a:xfrm>
            <a:custGeom>
              <a:avLst/>
              <a:gdLst>
                <a:gd name="textAreaLeft" fmla="*/ 0 w 2170800"/>
                <a:gd name="textAreaRight" fmla="*/ 2171160 w 2170800"/>
                <a:gd name="textAreaTop" fmla="*/ 360 h 2574720"/>
                <a:gd name="textAreaBottom" fmla="*/ 2575440 h 2574720"/>
              </a:gdLst>
              <a:ahLst/>
              <a:rect l="textAreaLeft" t="textAreaTop" r="textAreaRight" b="textAreaBottom"/>
              <a:pathLst>
                <a:path w="1331890" h="1579553">
                  <a:moveTo>
                    <a:pt x="0" y="1579553"/>
                  </a:moveTo>
                  <a:lnTo>
                    <a:pt x="378710" y="2381"/>
                  </a:lnTo>
                  <a:lnTo>
                    <a:pt x="1110343" y="0"/>
                  </a:lnTo>
                  <a:lnTo>
                    <a:pt x="1331890" y="1579553"/>
                  </a:lnTo>
                  <a:lnTo>
                    <a:pt x="0" y="1579553"/>
                  </a:lnTo>
                  <a:close/>
                </a:path>
              </a:pathLst>
            </a:custGeom>
            <a:solidFill>
              <a:srgbClr val="70828a"/>
            </a:solidFill>
            <a:ln>
              <a:noFill/>
            </a:ln>
            <a:effectLst>
              <a:reflection algn="bl" blurRad="6350" dir="5400000" dist="12700" endPos="35000" rotWithShape="0" stA="30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矩形 2"/>
            <p:cNvSpPr/>
            <p:nvPr/>
          </p:nvSpPr>
          <p:spPr>
            <a:xfrm>
              <a:off x="6061320" y="1545120"/>
              <a:ext cx="2085480" cy="2193120"/>
            </a:xfrm>
            <a:custGeom>
              <a:avLst/>
              <a:gdLst>
                <a:gd name="textAreaLeft" fmla="*/ 0 w 2085480"/>
                <a:gd name="textAreaRight" fmla="*/ 2085840 w 2085480"/>
                <a:gd name="textAreaTop" fmla="*/ 0 h 2193120"/>
                <a:gd name="textAreaBottom" fmla="*/ 2193480 h 2193120"/>
              </a:gdLst>
              <a:ahLst/>
              <a:rect l="textAreaLeft" t="textAreaTop" r="textAreaRight" b="textAreaBottom"/>
              <a:pathLst>
                <a:path w="1279571" h="1345580">
                  <a:moveTo>
                    <a:pt x="0" y="329407"/>
                  </a:moveTo>
                  <a:cubicBezTo>
                    <a:pt x="391376" y="146315"/>
                    <a:pt x="624796" y="67204"/>
                    <a:pt x="1066973" y="0"/>
                  </a:cubicBezTo>
                  <a:cubicBezTo>
                    <a:pt x="1093431" y="74670"/>
                    <a:pt x="1340553" y="905785"/>
                    <a:pt x="1265411" y="1243980"/>
                  </a:cubicBezTo>
                  <a:lnTo>
                    <a:pt x="252413" y="1345580"/>
                  </a:lnTo>
                  <a:lnTo>
                    <a:pt x="0" y="329407"/>
                  </a:lnTo>
                  <a:close/>
                </a:path>
              </a:pathLst>
            </a:custGeom>
            <a:gradFill rotWithShape="0">
              <a:gsLst>
                <a:gs pos="0">
                  <a:srgbClr val="9e6226"/>
                </a:gs>
                <a:gs pos="100000">
                  <a:srgbClr val="ca7f34"/>
                </a:gs>
              </a:gsLst>
              <a:lin ang="6600000"/>
            </a:gradFill>
            <a:ln>
              <a:noFill/>
            </a:ln>
            <a:effectLst>
              <a:outerShdw blurRad="50760" dir="162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矩形 2"/>
            <p:cNvSpPr/>
            <p:nvPr/>
          </p:nvSpPr>
          <p:spPr>
            <a:xfrm>
              <a:off x="7798680" y="1545120"/>
              <a:ext cx="371520" cy="202716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2027160"/>
                <a:gd name="textAreaBottom" fmla="*/ 2027520 h 2027160"/>
              </a:gdLst>
              <a:ahLst/>
              <a:rect l="textAreaLeft" t="textAreaTop" r="textAreaRight" b="textAreaBottom"/>
              <a:pathLst>
                <a:path w="371846" h="2027489">
                  <a:moveTo>
                    <a:pt x="5911" y="0"/>
                  </a:moveTo>
                  <a:lnTo>
                    <a:pt x="297952" y="188568"/>
                  </a:lnTo>
                  <a:cubicBezTo>
                    <a:pt x="352167" y="634733"/>
                    <a:pt x="419556" y="1592856"/>
                    <a:pt x="323110" y="2027487"/>
                  </a:cubicBezTo>
                  <a:lnTo>
                    <a:pt x="323099" y="2027489"/>
                  </a:lnTo>
                  <a:cubicBezTo>
                    <a:pt x="444970" y="1477912"/>
                    <a:pt x="45505" y="131076"/>
                    <a:pt x="0" y="1208"/>
                  </a:cubicBezTo>
                  <a:cubicBezTo>
                    <a:pt x="1948" y="688"/>
                    <a:pt x="3930" y="344"/>
                    <a:pt x="59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a7f34"/>
                </a:gs>
                <a:gs pos="100000">
                  <a:srgbClr val="dca56e"/>
                </a:gs>
              </a:gsLst>
              <a:lin ang="5400000"/>
            </a:gradFill>
            <a:ln>
              <a:noFill/>
            </a:ln>
            <a:effectLst>
              <a:outerShdw blurRad="50760" dir="162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4" name="TextBox 19"/>
            <p:cNvSpPr/>
            <p:nvPr/>
          </p:nvSpPr>
          <p:spPr>
            <a:xfrm>
              <a:off x="6061320" y="1256400"/>
              <a:ext cx="829080" cy="63828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组合 45"/>
            <p:cNvGrpSpPr/>
            <p:nvPr/>
          </p:nvGrpSpPr>
          <p:grpSpPr>
            <a:xfrm>
              <a:off x="6154560" y="1991880"/>
              <a:ext cx="2233440" cy="1400400"/>
              <a:chOff x="6154560" y="1991880"/>
              <a:chExt cx="2233440" cy="1400400"/>
            </a:xfrm>
          </p:grpSpPr>
          <p:sp>
            <p:nvSpPr>
              <p:cNvPr id="216" name="TextBox 46"/>
              <p:cNvSpPr/>
              <p:nvPr/>
            </p:nvSpPr>
            <p:spPr>
              <a:xfrm>
                <a:off x="6175440" y="1991880"/>
                <a:ext cx="17038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47"/>
              <p:cNvSpPr/>
              <p:nvPr/>
            </p:nvSpPr>
            <p:spPr>
              <a:xfrm>
                <a:off x="6154560" y="2390040"/>
                <a:ext cx="2233440" cy="10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    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Add your texts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8" name="组合 3"/>
          <p:cNvGrpSpPr/>
          <p:nvPr/>
        </p:nvGrpSpPr>
        <p:grpSpPr>
          <a:xfrm>
            <a:off x="18720" y="4092480"/>
            <a:ext cx="2449080" cy="942840"/>
            <a:chOff x="18720" y="4092480"/>
            <a:chExt cx="2449080" cy="942840"/>
          </a:xfrm>
        </p:grpSpPr>
        <p:grpSp>
          <p:nvGrpSpPr>
            <p:cNvPr id="219" name="组合 2"/>
            <p:cNvGrpSpPr/>
            <p:nvPr/>
          </p:nvGrpSpPr>
          <p:grpSpPr>
            <a:xfrm>
              <a:off x="902880" y="4663080"/>
              <a:ext cx="681120" cy="68040"/>
              <a:chOff x="902880" y="4663080"/>
              <a:chExt cx="681120" cy="68040"/>
            </a:xfrm>
          </p:grpSpPr>
          <p:sp>
            <p:nvSpPr>
              <p:cNvPr id="220" name="矩形 28"/>
              <p:cNvSpPr/>
              <p:nvPr/>
            </p:nvSpPr>
            <p:spPr>
              <a:xfrm>
                <a:off x="90288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fb153"/>
                  </a:gs>
                  <a:gs pos="100000">
                    <a:srgbClr val="f9cd45"/>
                  </a:gs>
                </a:gsLst>
                <a:lin ang="66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" name="矩形 29"/>
              <p:cNvSpPr/>
              <p:nvPr/>
            </p:nvSpPr>
            <p:spPr>
              <a:xfrm>
                <a:off x="114480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377f99"/>
                  </a:gs>
                  <a:gs pos="100000">
                    <a:srgbClr val="4a94af"/>
                  </a:gs>
                </a:gsLst>
                <a:lin ang="6600000"/>
              </a:gradFill>
              <a:ln>
                <a:noFill/>
              </a:ln>
              <a:effectLst>
                <a:outerShdw algn="l" blurRad="50760" dist="38160" rotWithShape="0">
                  <a:srgbClr val="000000">
                    <a:alpha val="25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" name="矩形 30"/>
              <p:cNvSpPr/>
              <p:nvPr/>
            </p:nvSpPr>
            <p:spPr>
              <a:xfrm>
                <a:off x="138636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9e6226"/>
                  </a:gs>
                  <a:gs pos="100000">
                    <a:srgbClr val="ca7f34"/>
                  </a:gs>
                </a:gsLst>
                <a:lin ang="6600000"/>
              </a:gradFill>
              <a:ln>
                <a:noFill/>
              </a:ln>
              <a:effectLst>
                <a:outerShdw algn="l" blurRad="50760" dist="38160" rotWithShape="0">
                  <a:srgbClr val="000000">
                    <a:alpha val="25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23" name="TextBox 27"/>
            <p:cNvSpPr/>
            <p:nvPr/>
          </p:nvSpPr>
          <p:spPr>
            <a:xfrm>
              <a:off x="1872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57"/>
          <p:cNvSpPr/>
          <p:nvPr/>
        </p:nvSpPr>
        <p:spPr>
          <a:xfrm>
            <a:off x="1776960" y="-86400"/>
            <a:ext cx="550440" cy="3841560"/>
          </a:xfrm>
          <a:custGeom>
            <a:avLst/>
            <a:gdLst>
              <a:gd name="textAreaLeft" fmla="*/ 0 w 550440"/>
              <a:gd name="textAreaRight" fmla="*/ 550800 w 550440"/>
              <a:gd name="textAreaTop" fmla="*/ 0 h 3841560"/>
              <a:gd name="textAreaBottom" fmla="*/ 3841920 h 3841560"/>
            </a:gdLst>
            <a:ahLst/>
            <a:rect l="textAreaLeft" t="textAreaTop" r="textAreaRight" b="textAreaBottom"/>
            <a:pathLst>
              <a:path w="550641" h="3842062">
                <a:moveTo>
                  <a:pt x="0" y="0"/>
                </a:moveTo>
                <a:lnTo>
                  <a:pt x="550641" y="0"/>
                </a:lnTo>
                <a:lnTo>
                  <a:pt x="550641" y="509068"/>
                </a:lnTo>
                <a:lnTo>
                  <a:pt x="550641" y="606956"/>
                </a:lnTo>
                <a:lnTo>
                  <a:pt x="550641" y="3291421"/>
                </a:lnTo>
                <a:lnTo>
                  <a:pt x="0" y="3842062"/>
                </a:lnTo>
                <a:lnTo>
                  <a:pt x="0" y="606956"/>
                </a:lnTo>
                <a:lnTo>
                  <a:pt x="0" y="509068"/>
                </a:lnTo>
                <a:close/>
              </a:path>
            </a:pathLst>
          </a:custGeom>
          <a:solidFill>
            <a:srgbClr val="f9b41b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矩形 58"/>
          <p:cNvSpPr/>
          <p:nvPr/>
        </p:nvSpPr>
        <p:spPr>
          <a:xfrm>
            <a:off x="2327400" y="-86400"/>
            <a:ext cx="550440" cy="3291120"/>
          </a:xfrm>
          <a:custGeom>
            <a:avLst/>
            <a:gdLst>
              <a:gd name="textAreaLeft" fmla="*/ 0 w 550440"/>
              <a:gd name="textAreaRight" fmla="*/ 550800 w 550440"/>
              <a:gd name="textAreaTop" fmla="*/ 0 h 3291120"/>
              <a:gd name="textAreaBottom" fmla="*/ 3291480 h 3291120"/>
            </a:gdLst>
            <a:ahLst/>
            <a:rect l="textAreaLeft" t="textAreaTop" r="textAreaRight" b="textAreaBottom"/>
            <a:pathLst>
              <a:path w="550641" h="3291421">
                <a:moveTo>
                  <a:pt x="0" y="0"/>
                </a:moveTo>
                <a:lnTo>
                  <a:pt x="550641" y="0"/>
                </a:lnTo>
                <a:lnTo>
                  <a:pt x="550641" y="509068"/>
                </a:lnTo>
                <a:lnTo>
                  <a:pt x="550641" y="606956"/>
                </a:lnTo>
                <a:lnTo>
                  <a:pt x="550641" y="2740780"/>
                </a:lnTo>
                <a:lnTo>
                  <a:pt x="0" y="3291421"/>
                </a:lnTo>
                <a:lnTo>
                  <a:pt x="0" y="606956"/>
                </a:lnTo>
                <a:lnTo>
                  <a:pt x="0" y="509068"/>
                </a:lnTo>
                <a:close/>
              </a:path>
            </a:pathLst>
          </a:custGeom>
          <a:solidFill>
            <a:srgbClr val="a26e6e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矩形 25"/>
          <p:cNvSpPr/>
          <p:nvPr/>
        </p:nvSpPr>
        <p:spPr>
          <a:xfrm>
            <a:off x="2878200" y="-86400"/>
            <a:ext cx="550440" cy="2740320"/>
          </a:xfrm>
          <a:custGeom>
            <a:avLst/>
            <a:gdLst>
              <a:gd name="textAreaLeft" fmla="*/ 0 w 550440"/>
              <a:gd name="textAreaRight" fmla="*/ 550800 w 550440"/>
              <a:gd name="textAreaTop" fmla="*/ 0 h 2740320"/>
              <a:gd name="textAreaBottom" fmla="*/ 2740680 h 2740320"/>
            </a:gdLst>
            <a:ahLst/>
            <a:rect l="textAreaLeft" t="textAreaTop" r="textAreaRight" b="textAreaBottom"/>
            <a:pathLst>
              <a:path w="550641" h="2740780">
                <a:moveTo>
                  <a:pt x="0" y="0"/>
                </a:moveTo>
                <a:lnTo>
                  <a:pt x="550641" y="0"/>
                </a:lnTo>
                <a:lnTo>
                  <a:pt x="550641" y="509068"/>
                </a:lnTo>
                <a:lnTo>
                  <a:pt x="550641" y="606956"/>
                </a:lnTo>
                <a:lnTo>
                  <a:pt x="550641" y="2190139"/>
                </a:lnTo>
                <a:lnTo>
                  <a:pt x="0" y="2740780"/>
                </a:lnTo>
                <a:lnTo>
                  <a:pt x="0" y="606956"/>
                </a:lnTo>
                <a:lnTo>
                  <a:pt x="0" y="509068"/>
                </a:lnTo>
                <a:close/>
              </a:path>
            </a:pathLst>
          </a:custGeom>
          <a:solidFill>
            <a:srgbClr val="70828a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矩形 3"/>
          <p:cNvSpPr/>
          <p:nvPr/>
        </p:nvSpPr>
        <p:spPr>
          <a:xfrm flipH="1" rot="5400000">
            <a:off x="4586400" y="396000"/>
            <a:ext cx="550440" cy="6170760"/>
          </a:xfrm>
          <a:custGeom>
            <a:avLst/>
            <a:gdLst>
              <a:gd name="textAreaLeft" fmla="*/ -360 w 550440"/>
              <a:gd name="textAreaRight" fmla="*/ 550440 w 550440"/>
              <a:gd name="textAreaTop" fmla="*/ 0 h 6170760"/>
              <a:gd name="textAreaBottom" fmla="*/ 6171120 h 6170760"/>
            </a:gdLst>
            <a:ahLst/>
            <a:rect l="textAreaLeft" t="textAreaTop" r="textAreaRight" b="textAreaBottom"/>
            <a:pathLst>
              <a:path w="550642" h="6171147">
                <a:moveTo>
                  <a:pt x="550642" y="5620506"/>
                </a:moveTo>
                <a:lnTo>
                  <a:pt x="550642" y="2838153"/>
                </a:lnTo>
                <a:lnTo>
                  <a:pt x="550641" y="2838153"/>
                </a:lnTo>
                <a:lnTo>
                  <a:pt x="550641" y="550641"/>
                </a:lnTo>
                <a:lnTo>
                  <a:pt x="0" y="0"/>
                </a:lnTo>
                <a:lnTo>
                  <a:pt x="0" y="3332994"/>
                </a:lnTo>
                <a:lnTo>
                  <a:pt x="1" y="3332994"/>
                </a:lnTo>
                <a:lnTo>
                  <a:pt x="1" y="6171147"/>
                </a:lnTo>
                <a:close/>
              </a:path>
            </a:pathLst>
          </a:custGeom>
          <a:solidFill>
            <a:srgbClr val="f9b41b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矩形 24"/>
          <p:cNvSpPr/>
          <p:nvPr/>
        </p:nvSpPr>
        <p:spPr>
          <a:xfrm rot="16200000">
            <a:off x="4586760" y="396360"/>
            <a:ext cx="550440" cy="5069520"/>
          </a:xfrm>
          <a:custGeom>
            <a:avLst/>
            <a:gdLst>
              <a:gd name="textAreaLeft" fmla="*/ 0 w 550440"/>
              <a:gd name="textAreaRight" fmla="*/ 550800 w 550440"/>
              <a:gd name="textAreaTop" fmla="*/ 0 h 5069520"/>
              <a:gd name="textAreaBottom" fmla="*/ 5069880 h 5069520"/>
            </a:gdLst>
            <a:ahLst/>
            <a:rect l="textAreaLeft" t="textAreaTop" r="textAreaRight" b="textAreaBottom"/>
            <a:pathLst>
              <a:path w="550642" h="5069865">
                <a:moveTo>
                  <a:pt x="550642" y="550641"/>
                </a:moveTo>
                <a:lnTo>
                  <a:pt x="550642" y="2782353"/>
                </a:lnTo>
                <a:lnTo>
                  <a:pt x="550641" y="2782353"/>
                </a:lnTo>
                <a:lnTo>
                  <a:pt x="550641" y="4519224"/>
                </a:lnTo>
                <a:lnTo>
                  <a:pt x="0" y="5069865"/>
                </a:lnTo>
                <a:lnTo>
                  <a:pt x="0" y="2287512"/>
                </a:lnTo>
                <a:lnTo>
                  <a:pt x="1" y="2287512"/>
                </a:lnTo>
                <a:lnTo>
                  <a:pt x="1" y="0"/>
                </a:lnTo>
                <a:close/>
              </a:path>
            </a:pathLst>
          </a:custGeom>
          <a:solidFill>
            <a:srgbClr val="a26e6e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9" name="矩形 25"/>
          <p:cNvSpPr/>
          <p:nvPr/>
        </p:nvSpPr>
        <p:spPr>
          <a:xfrm rot="16200000">
            <a:off x="4587120" y="396360"/>
            <a:ext cx="550440" cy="3968280"/>
          </a:xfrm>
          <a:custGeom>
            <a:avLst/>
            <a:gdLst>
              <a:gd name="textAreaLeft" fmla="*/ 0 w 550440"/>
              <a:gd name="textAreaRight" fmla="*/ 550800 w 550440"/>
              <a:gd name="textAreaTop" fmla="*/ 0 h 3968280"/>
              <a:gd name="textAreaBottom" fmla="*/ 3968640 h 3968280"/>
            </a:gdLst>
            <a:ahLst/>
            <a:rect l="textAreaLeft" t="textAreaTop" r="textAreaRight" b="textAreaBottom"/>
            <a:pathLst>
              <a:path w="550642" h="3968582">
                <a:moveTo>
                  <a:pt x="550642" y="550641"/>
                </a:moveTo>
                <a:lnTo>
                  <a:pt x="550642" y="2231712"/>
                </a:lnTo>
                <a:lnTo>
                  <a:pt x="550641" y="2231712"/>
                </a:lnTo>
                <a:lnTo>
                  <a:pt x="550641" y="3417941"/>
                </a:lnTo>
                <a:lnTo>
                  <a:pt x="0" y="3968582"/>
                </a:lnTo>
                <a:lnTo>
                  <a:pt x="0" y="1736870"/>
                </a:lnTo>
                <a:lnTo>
                  <a:pt x="1" y="1736870"/>
                </a:lnTo>
                <a:lnTo>
                  <a:pt x="1" y="0"/>
                </a:lnTo>
                <a:close/>
              </a:path>
            </a:pathLst>
          </a:custGeom>
          <a:solidFill>
            <a:srgbClr val="70828a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矩形 26"/>
          <p:cNvSpPr/>
          <p:nvPr/>
        </p:nvSpPr>
        <p:spPr>
          <a:xfrm rot="16200000">
            <a:off x="4586760" y="396360"/>
            <a:ext cx="550440" cy="2867040"/>
          </a:xfrm>
          <a:custGeom>
            <a:avLst/>
            <a:gdLst>
              <a:gd name="textAreaLeft" fmla="*/ 0 w 550440"/>
              <a:gd name="textAreaRight" fmla="*/ 550800 w 550440"/>
              <a:gd name="textAreaTop" fmla="*/ 0 h 2867040"/>
              <a:gd name="textAreaBottom" fmla="*/ 2867400 h 2867040"/>
            </a:gdLst>
            <a:ahLst/>
            <a:rect l="textAreaLeft" t="textAreaTop" r="textAreaRight" b="textAreaBottom"/>
            <a:pathLst>
              <a:path w="550642" h="2867301">
                <a:moveTo>
                  <a:pt x="550642" y="550641"/>
                </a:moveTo>
                <a:lnTo>
                  <a:pt x="550642" y="1681071"/>
                </a:lnTo>
                <a:lnTo>
                  <a:pt x="550641" y="1681071"/>
                </a:lnTo>
                <a:lnTo>
                  <a:pt x="550641" y="2316660"/>
                </a:lnTo>
                <a:lnTo>
                  <a:pt x="0" y="2867301"/>
                </a:lnTo>
                <a:lnTo>
                  <a:pt x="0" y="1186230"/>
                </a:lnTo>
                <a:lnTo>
                  <a:pt x="1" y="1186230"/>
                </a:lnTo>
                <a:lnTo>
                  <a:pt x="1" y="0"/>
                </a:lnTo>
                <a:close/>
              </a:path>
            </a:pathLst>
          </a:custGeom>
          <a:solidFill>
            <a:srgbClr val="63bed2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矩形 3"/>
          <p:cNvSpPr/>
          <p:nvPr/>
        </p:nvSpPr>
        <p:spPr>
          <a:xfrm flipV="1">
            <a:off x="5745240" y="1554480"/>
            <a:ext cx="550440" cy="3674880"/>
          </a:xfrm>
          <a:custGeom>
            <a:avLst/>
            <a:gdLst>
              <a:gd name="textAreaLeft" fmla="*/ 0 w 550440"/>
              <a:gd name="textAreaRight" fmla="*/ 550800 w 550440"/>
              <a:gd name="textAreaTop" fmla="*/ 360 h 3674880"/>
              <a:gd name="textAreaBottom" fmla="*/ 3675600 h 3674880"/>
            </a:gdLst>
            <a:ahLst/>
            <a:rect l="textAreaLeft" t="textAreaTop" r="textAreaRight" b="textAreaBottom"/>
            <a:pathLst>
              <a:path w="550642" h="3675291">
                <a:moveTo>
                  <a:pt x="1" y="3675291"/>
                </a:moveTo>
                <a:lnTo>
                  <a:pt x="550642" y="3124650"/>
                </a:lnTo>
                <a:lnTo>
                  <a:pt x="550642" y="342297"/>
                </a:lnTo>
                <a:lnTo>
                  <a:pt x="550641" y="342297"/>
                </a:lnTo>
                <a:lnTo>
                  <a:pt x="550641" y="0"/>
                </a:lnTo>
                <a:lnTo>
                  <a:pt x="0" y="0"/>
                </a:lnTo>
                <a:lnTo>
                  <a:pt x="0" y="606956"/>
                </a:lnTo>
                <a:lnTo>
                  <a:pt x="1" y="606956"/>
                </a:lnTo>
                <a:close/>
              </a:path>
            </a:pathLst>
          </a:custGeom>
          <a:solidFill>
            <a:srgbClr val="63bed2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矩形 109"/>
          <p:cNvSpPr/>
          <p:nvPr/>
        </p:nvSpPr>
        <p:spPr>
          <a:xfrm>
            <a:off x="6296040" y="2105280"/>
            <a:ext cx="550440" cy="3124440"/>
          </a:xfrm>
          <a:custGeom>
            <a:avLst/>
            <a:gdLst>
              <a:gd name="textAreaLeft" fmla="*/ 0 w 550440"/>
              <a:gd name="textAreaRight" fmla="*/ 550800 w 550440"/>
              <a:gd name="textAreaTop" fmla="*/ 0 h 3124440"/>
              <a:gd name="textAreaBottom" fmla="*/ 3124800 h 3124440"/>
            </a:gdLst>
            <a:ahLst/>
            <a:rect l="textAreaLeft" t="textAreaTop" r="textAreaRight" b="textAreaBottom"/>
            <a:pathLst>
              <a:path w="550642" h="3124650">
                <a:moveTo>
                  <a:pt x="1" y="0"/>
                </a:moveTo>
                <a:lnTo>
                  <a:pt x="550642" y="550641"/>
                </a:lnTo>
                <a:lnTo>
                  <a:pt x="550642" y="2782353"/>
                </a:lnTo>
                <a:lnTo>
                  <a:pt x="550641" y="2782353"/>
                </a:lnTo>
                <a:lnTo>
                  <a:pt x="550641" y="3124650"/>
                </a:lnTo>
                <a:lnTo>
                  <a:pt x="0" y="3124650"/>
                </a:lnTo>
                <a:lnTo>
                  <a:pt x="0" y="2517694"/>
                </a:lnTo>
                <a:lnTo>
                  <a:pt x="1" y="2517694"/>
                </a:lnTo>
                <a:close/>
              </a:path>
            </a:pathLst>
          </a:custGeom>
          <a:solidFill>
            <a:srgbClr val="70828a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矩形 110"/>
          <p:cNvSpPr/>
          <p:nvPr/>
        </p:nvSpPr>
        <p:spPr>
          <a:xfrm>
            <a:off x="6846840" y="2655720"/>
            <a:ext cx="550440" cy="2573640"/>
          </a:xfrm>
          <a:custGeom>
            <a:avLst/>
            <a:gdLst>
              <a:gd name="textAreaLeft" fmla="*/ 0 w 550440"/>
              <a:gd name="textAreaRight" fmla="*/ 550800 w 550440"/>
              <a:gd name="textAreaTop" fmla="*/ 0 h 2573640"/>
              <a:gd name="textAreaBottom" fmla="*/ 2574000 h 2573640"/>
            </a:gdLst>
            <a:ahLst/>
            <a:rect l="textAreaLeft" t="textAreaTop" r="textAreaRight" b="textAreaBottom"/>
            <a:pathLst>
              <a:path w="550642" h="2574009">
                <a:moveTo>
                  <a:pt x="1" y="0"/>
                </a:moveTo>
                <a:lnTo>
                  <a:pt x="550642" y="550641"/>
                </a:lnTo>
                <a:lnTo>
                  <a:pt x="550642" y="2231712"/>
                </a:lnTo>
                <a:lnTo>
                  <a:pt x="550641" y="2231712"/>
                </a:lnTo>
                <a:lnTo>
                  <a:pt x="550641" y="2574009"/>
                </a:lnTo>
                <a:lnTo>
                  <a:pt x="0" y="2574009"/>
                </a:lnTo>
                <a:lnTo>
                  <a:pt x="0" y="1967053"/>
                </a:lnTo>
                <a:lnTo>
                  <a:pt x="1" y="1967053"/>
                </a:lnTo>
                <a:close/>
              </a:path>
            </a:pathLst>
          </a:custGeom>
          <a:solidFill>
            <a:srgbClr val="a26e6e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矩形 113"/>
          <p:cNvSpPr/>
          <p:nvPr/>
        </p:nvSpPr>
        <p:spPr>
          <a:xfrm rot="18900000">
            <a:off x="1195560" y="2379600"/>
            <a:ext cx="3355920" cy="231120"/>
          </a:xfrm>
          <a:custGeom>
            <a:avLst/>
            <a:gdLst>
              <a:gd name="textAreaLeft" fmla="*/ 0 w 3355920"/>
              <a:gd name="textAreaRight" fmla="*/ 3356280 w 3355920"/>
              <a:gd name="textAreaTop" fmla="*/ 0 h 231120"/>
              <a:gd name="textAreaBottom" fmla="*/ 231480 h 231120"/>
            </a:gdLst>
            <a:ahLst/>
            <a:rect l="textAreaLeft" t="textAreaTop" r="textAreaRight" b="textAreaBottom"/>
            <a:pathLst>
              <a:path w="3356255" h="231401">
                <a:moveTo>
                  <a:pt x="0" y="0"/>
                </a:moveTo>
                <a:lnTo>
                  <a:pt x="0" y="230653"/>
                </a:lnTo>
                <a:lnTo>
                  <a:pt x="0" y="230653"/>
                </a:lnTo>
                <a:close/>
                <a:moveTo>
                  <a:pt x="3356255" y="747"/>
                </a:moveTo>
                <a:lnTo>
                  <a:pt x="3126491" y="230512"/>
                </a:lnTo>
                <a:lnTo>
                  <a:pt x="3126491" y="230654"/>
                </a:lnTo>
                <a:lnTo>
                  <a:pt x="3126349" y="230654"/>
                </a:lnTo>
                <a:lnTo>
                  <a:pt x="3125601" y="231401"/>
                </a:lnTo>
                <a:lnTo>
                  <a:pt x="3112414" y="231401"/>
                </a:lnTo>
                <a:lnTo>
                  <a:pt x="3112414" y="230654"/>
                </a:lnTo>
                <a:lnTo>
                  <a:pt x="0" y="230654"/>
                </a:lnTo>
                <a:lnTo>
                  <a:pt x="0" y="230653"/>
                </a:lnTo>
                <a:lnTo>
                  <a:pt x="13187" y="230653"/>
                </a:lnTo>
                <a:lnTo>
                  <a:pt x="243841" y="0"/>
                </a:lnTo>
                <a:lnTo>
                  <a:pt x="3126491" y="0"/>
                </a:lnTo>
                <a:lnTo>
                  <a:pt x="3126491" y="747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262626">
                  <a:alpha val="5098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5" name="矩形 113"/>
          <p:cNvSpPr/>
          <p:nvPr/>
        </p:nvSpPr>
        <p:spPr>
          <a:xfrm flipH="1" rot="13500000">
            <a:off x="5164200" y="2644200"/>
            <a:ext cx="3355920" cy="231120"/>
          </a:xfrm>
          <a:custGeom>
            <a:avLst/>
            <a:gdLst>
              <a:gd name="textAreaLeft" fmla="*/ 360 w 3355920"/>
              <a:gd name="textAreaRight" fmla="*/ 3356640 w 3355920"/>
              <a:gd name="textAreaTop" fmla="*/ 0 h 231120"/>
              <a:gd name="textAreaBottom" fmla="*/ 231480 h 231120"/>
            </a:gdLst>
            <a:ahLst/>
            <a:rect l="textAreaLeft" t="textAreaTop" r="textAreaRight" b="textAreaBottom"/>
            <a:pathLst>
              <a:path w="3356255" h="231401">
                <a:moveTo>
                  <a:pt x="0" y="0"/>
                </a:moveTo>
                <a:lnTo>
                  <a:pt x="0" y="230653"/>
                </a:lnTo>
                <a:lnTo>
                  <a:pt x="0" y="230653"/>
                </a:lnTo>
                <a:close/>
                <a:moveTo>
                  <a:pt x="3356255" y="747"/>
                </a:moveTo>
                <a:lnTo>
                  <a:pt x="3126491" y="230512"/>
                </a:lnTo>
                <a:lnTo>
                  <a:pt x="3126491" y="230654"/>
                </a:lnTo>
                <a:lnTo>
                  <a:pt x="3126349" y="230654"/>
                </a:lnTo>
                <a:lnTo>
                  <a:pt x="3125601" y="231401"/>
                </a:lnTo>
                <a:lnTo>
                  <a:pt x="3112414" y="231401"/>
                </a:lnTo>
                <a:lnTo>
                  <a:pt x="3112414" y="230654"/>
                </a:lnTo>
                <a:lnTo>
                  <a:pt x="0" y="230654"/>
                </a:lnTo>
                <a:lnTo>
                  <a:pt x="0" y="230653"/>
                </a:lnTo>
                <a:lnTo>
                  <a:pt x="13187" y="230653"/>
                </a:lnTo>
                <a:lnTo>
                  <a:pt x="243841" y="0"/>
                </a:lnTo>
                <a:lnTo>
                  <a:pt x="3126491" y="0"/>
                </a:lnTo>
                <a:lnTo>
                  <a:pt x="3126491" y="747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2352"/>
                </a:srgbClr>
              </a:gs>
              <a:gs pos="100000">
                <a:srgbClr val="ffffff">
                  <a:alpha val="45098"/>
                </a:srgbClr>
              </a:gs>
            </a:gsLst>
            <a:lin ang="189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36" name="组合 197"/>
          <p:cNvGrpSpPr/>
          <p:nvPr/>
        </p:nvGrpSpPr>
        <p:grpSpPr>
          <a:xfrm>
            <a:off x="3777120" y="1495800"/>
            <a:ext cx="583560" cy="583200"/>
            <a:chOff x="3777120" y="1495800"/>
            <a:chExt cx="583560" cy="583200"/>
          </a:xfrm>
        </p:grpSpPr>
        <p:sp>
          <p:nvSpPr>
            <p:cNvPr id="237" name="椭圆 198"/>
            <p:cNvSpPr/>
            <p:nvPr/>
          </p:nvSpPr>
          <p:spPr>
            <a:xfrm rot="2871600">
              <a:off x="4027320" y="1746360"/>
              <a:ext cx="82440" cy="82440"/>
            </a:xfrm>
            <a:prstGeom prst="ellipse">
              <a:avLst/>
            </a:prstGeom>
            <a:solidFill>
              <a:schemeClr val="bg1">
                <a:alpha val="87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8" name="弧形 199"/>
            <p:cNvSpPr/>
            <p:nvPr/>
          </p:nvSpPr>
          <p:spPr>
            <a:xfrm rot="2871600">
              <a:off x="3944520" y="1663560"/>
              <a:ext cx="247680" cy="2476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弧形 200"/>
            <p:cNvSpPr/>
            <p:nvPr/>
          </p:nvSpPr>
          <p:spPr>
            <a:xfrm rot="2871600">
              <a:off x="3903120" y="1622160"/>
              <a:ext cx="330480" cy="3304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弧形 201"/>
            <p:cNvSpPr/>
            <p:nvPr/>
          </p:nvSpPr>
          <p:spPr>
            <a:xfrm rot="2871600">
              <a:off x="3862440" y="1580760"/>
              <a:ext cx="412920" cy="41292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弧形 202"/>
            <p:cNvSpPr/>
            <p:nvPr/>
          </p:nvSpPr>
          <p:spPr>
            <a:xfrm rot="2871600">
              <a:off x="3944520" y="1663560"/>
              <a:ext cx="247680" cy="247680"/>
            </a:xfrm>
            <a:prstGeom prst="arc">
              <a:avLst>
                <a:gd name="adj1" fmla="val 5326050"/>
                <a:gd name="adj2" fmla="val 10634375"/>
              </a:avLst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弧形 203"/>
            <p:cNvSpPr/>
            <p:nvPr/>
          </p:nvSpPr>
          <p:spPr>
            <a:xfrm rot="2871600">
              <a:off x="3903120" y="1622160"/>
              <a:ext cx="330480" cy="330480"/>
            </a:xfrm>
            <a:prstGeom prst="arc">
              <a:avLst>
                <a:gd name="adj1" fmla="val 5299373"/>
                <a:gd name="adj2" fmla="val 10617012"/>
              </a:avLst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弧形 204"/>
            <p:cNvSpPr/>
            <p:nvPr/>
          </p:nvSpPr>
          <p:spPr>
            <a:xfrm rot="2871600">
              <a:off x="3862440" y="1580760"/>
              <a:ext cx="412920" cy="412920"/>
            </a:xfrm>
            <a:prstGeom prst="arc">
              <a:avLst>
                <a:gd name="adj1" fmla="val 5198408"/>
                <a:gd name="adj2" fmla="val 10677568"/>
              </a:avLst>
            </a:prstGeom>
            <a:noFill/>
            <a:ln w="12700">
              <a:solidFill>
                <a:srgbClr val="ffffff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组合 205"/>
          <p:cNvGrpSpPr/>
          <p:nvPr/>
        </p:nvGrpSpPr>
        <p:grpSpPr>
          <a:xfrm>
            <a:off x="3295800" y="2216880"/>
            <a:ext cx="336600" cy="336600"/>
            <a:chOff x="3295800" y="2216880"/>
            <a:chExt cx="336600" cy="336600"/>
          </a:xfrm>
        </p:grpSpPr>
        <p:sp>
          <p:nvSpPr>
            <p:cNvPr id="245" name="椭圆 206"/>
            <p:cNvSpPr/>
            <p:nvPr/>
          </p:nvSpPr>
          <p:spPr>
            <a:xfrm>
              <a:off x="3295800" y="2216880"/>
              <a:ext cx="336600" cy="336600"/>
            </a:xfrm>
            <a:prstGeom prst="ellipse">
              <a:avLst/>
            </a:prstGeom>
            <a:noFill/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6" name="椭圆 207"/>
            <p:cNvSpPr/>
            <p:nvPr/>
          </p:nvSpPr>
          <p:spPr>
            <a:xfrm>
              <a:off x="3450240" y="2237040"/>
              <a:ext cx="28080" cy="28080"/>
            </a:xfrm>
            <a:prstGeom prst="ellipse">
              <a:avLst/>
            </a:prstGeom>
            <a:solidFill>
              <a:schemeClr val="bg1"/>
            </a:solidFill>
            <a:ln w="158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4840" bIns="-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椭圆 208"/>
            <p:cNvSpPr/>
            <p:nvPr/>
          </p:nvSpPr>
          <p:spPr>
            <a:xfrm>
              <a:off x="3320640" y="2371320"/>
              <a:ext cx="28080" cy="28080"/>
            </a:xfrm>
            <a:prstGeom prst="ellipse">
              <a:avLst/>
            </a:prstGeom>
            <a:solidFill>
              <a:schemeClr val="bg1"/>
            </a:solidFill>
            <a:ln w="158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4840" bIns="-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椭圆 209"/>
            <p:cNvSpPr/>
            <p:nvPr/>
          </p:nvSpPr>
          <p:spPr>
            <a:xfrm>
              <a:off x="3578400" y="2371320"/>
              <a:ext cx="28080" cy="28080"/>
            </a:xfrm>
            <a:prstGeom prst="ellipse">
              <a:avLst/>
            </a:prstGeom>
            <a:solidFill>
              <a:schemeClr val="bg1"/>
            </a:solidFill>
            <a:ln w="158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4840" bIns="-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椭圆 210"/>
            <p:cNvSpPr/>
            <p:nvPr/>
          </p:nvSpPr>
          <p:spPr>
            <a:xfrm>
              <a:off x="3450240" y="2506680"/>
              <a:ext cx="28080" cy="28080"/>
            </a:xfrm>
            <a:prstGeom prst="ellipse">
              <a:avLst/>
            </a:prstGeom>
            <a:solidFill>
              <a:schemeClr val="bg1"/>
            </a:solidFill>
            <a:ln w="158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4840" bIns="-24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50" name="直接连接符 211"/>
            <p:cNvCxnSpPr/>
            <p:nvPr/>
          </p:nvCxnSpPr>
          <p:spPr>
            <a:xfrm>
              <a:off x="3462840" y="2277000"/>
              <a:ext cx="1800" cy="111600"/>
            </a:xfrm>
            <a:prstGeom prst="straightConnector1">
              <a:avLst/>
            </a:prstGeom>
            <a:ln w="15875">
              <a:solidFill>
                <a:srgbClr val="ffffff"/>
              </a:solidFill>
              <a:round/>
            </a:ln>
          </p:spPr>
        </p:cxnSp>
        <p:cxnSp>
          <p:nvCxnSpPr>
            <p:cNvPr id="251" name="直接连接符 212"/>
            <p:cNvCxnSpPr/>
            <p:nvPr/>
          </p:nvCxnSpPr>
          <p:spPr>
            <a:xfrm>
              <a:off x="3374640" y="2386800"/>
              <a:ext cx="88560" cy="360"/>
            </a:xfrm>
            <a:prstGeom prst="straightConnector1">
              <a:avLst/>
            </a:prstGeom>
            <a:ln w="15875">
              <a:solidFill>
                <a:srgbClr val="ffffff"/>
              </a:solidFill>
              <a:round/>
            </a:ln>
          </p:spPr>
        </p:cxnSp>
      </p:grpSp>
      <p:grpSp>
        <p:nvGrpSpPr>
          <p:cNvPr id="252" name="组合 213"/>
          <p:cNvGrpSpPr/>
          <p:nvPr/>
        </p:nvGrpSpPr>
        <p:grpSpPr>
          <a:xfrm>
            <a:off x="2765160" y="2776320"/>
            <a:ext cx="301320" cy="325800"/>
            <a:chOff x="2765160" y="2776320"/>
            <a:chExt cx="301320" cy="325800"/>
          </a:xfrm>
        </p:grpSpPr>
        <p:sp>
          <p:nvSpPr>
            <p:cNvPr id="253" name="圆角矩形 214"/>
            <p:cNvSpPr/>
            <p:nvPr/>
          </p:nvSpPr>
          <p:spPr>
            <a:xfrm>
              <a:off x="2879640" y="3025440"/>
              <a:ext cx="72000" cy="2016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椭圆 215"/>
            <p:cNvSpPr/>
            <p:nvPr/>
          </p:nvSpPr>
          <p:spPr>
            <a:xfrm>
              <a:off x="2891880" y="3076200"/>
              <a:ext cx="47880" cy="2592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5" name="圆角矩形 216"/>
            <p:cNvSpPr/>
            <p:nvPr/>
          </p:nvSpPr>
          <p:spPr>
            <a:xfrm>
              <a:off x="2885040" y="3050640"/>
              <a:ext cx="61200" cy="2016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56" name="直接连接符 217"/>
            <p:cNvCxnSpPr/>
            <p:nvPr/>
          </p:nvCxnSpPr>
          <p:spPr>
            <a:xfrm>
              <a:off x="2765160" y="2822040"/>
              <a:ext cx="55080" cy="36720"/>
            </a:xfrm>
            <a:prstGeom prst="straightConnector1">
              <a:avLst/>
            </a:prstGeom>
            <a:ln w="15875">
              <a:solidFill>
                <a:srgbClr val="ffffff"/>
              </a:solidFill>
              <a:round/>
            </a:ln>
          </p:spPr>
        </p:cxnSp>
        <p:cxnSp>
          <p:nvCxnSpPr>
            <p:cNvPr id="257" name="直接连接符 218"/>
            <p:cNvCxnSpPr/>
            <p:nvPr/>
          </p:nvCxnSpPr>
          <p:spPr>
            <a:xfrm flipH="1">
              <a:off x="3011760" y="2825280"/>
              <a:ext cx="55080" cy="33480"/>
            </a:xfrm>
            <a:prstGeom prst="straightConnector1">
              <a:avLst/>
            </a:prstGeom>
            <a:ln w="15875">
              <a:solidFill>
                <a:srgbClr val="ffffff"/>
              </a:solidFill>
              <a:round/>
            </a:ln>
          </p:spPr>
        </p:cxnSp>
        <p:cxnSp>
          <p:nvCxnSpPr>
            <p:cNvPr id="258" name="直接连接符 219"/>
            <p:cNvCxnSpPr/>
            <p:nvPr/>
          </p:nvCxnSpPr>
          <p:spPr>
            <a:xfrm>
              <a:off x="2915640" y="2776320"/>
              <a:ext cx="360" cy="49320"/>
            </a:xfrm>
            <a:prstGeom prst="straightConnector1">
              <a:avLst/>
            </a:prstGeom>
            <a:ln w="15875">
              <a:solidFill>
                <a:srgbClr val="ffffff"/>
              </a:solidFill>
              <a:round/>
            </a:ln>
          </p:spPr>
        </p:cxnSp>
        <p:sp>
          <p:nvSpPr>
            <p:cNvPr id="259" name="圆角矩形 66"/>
            <p:cNvSpPr/>
            <p:nvPr/>
          </p:nvSpPr>
          <p:spPr>
            <a:xfrm>
              <a:off x="2819880" y="2840400"/>
              <a:ext cx="191520" cy="1742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86232" h="304231">
                  <a:moveTo>
                    <a:pt x="143116" y="0"/>
                  </a:moveTo>
                  <a:cubicBezTo>
                    <a:pt x="222157" y="0"/>
                    <a:pt x="286232" y="64075"/>
                    <a:pt x="286232" y="143116"/>
                  </a:cubicBezTo>
                  <a:cubicBezTo>
                    <a:pt x="286232" y="204128"/>
                    <a:pt x="248053" y="256223"/>
                    <a:pt x="193959" y="275967"/>
                  </a:cubicBezTo>
                  <a:lnTo>
                    <a:pt x="193959" y="298231"/>
                  </a:lnTo>
                  <a:cubicBezTo>
                    <a:pt x="193959" y="301545"/>
                    <a:pt x="191273" y="304231"/>
                    <a:pt x="187959" y="304231"/>
                  </a:cubicBezTo>
                  <a:lnTo>
                    <a:pt x="91959" y="304231"/>
                  </a:lnTo>
                  <a:cubicBezTo>
                    <a:pt x="88645" y="304231"/>
                    <a:pt x="85959" y="301545"/>
                    <a:pt x="85959" y="298231"/>
                  </a:cubicBezTo>
                  <a:lnTo>
                    <a:pt x="85959" y="274231"/>
                  </a:lnTo>
                  <a:lnTo>
                    <a:pt x="86092" y="274098"/>
                  </a:lnTo>
                  <a:cubicBezTo>
                    <a:pt x="35372" y="252309"/>
                    <a:pt x="0" y="201843"/>
                    <a:pt x="0" y="143116"/>
                  </a:cubicBezTo>
                  <a:cubicBezTo>
                    <a:pt x="0" y="64075"/>
                    <a:pt x="64075" y="0"/>
                    <a:pt x="143116" y="0"/>
                  </a:cubicBezTo>
                  <a:close/>
                </a:path>
              </a:pathLst>
            </a:custGeom>
            <a:noFill/>
            <a:ln w="2222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60" name="直接连接符 221"/>
            <p:cNvCxnSpPr/>
            <p:nvPr/>
          </p:nvCxnSpPr>
          <p:spPr>
            <a:xfrm>
              <a:off x="3011760" y="2972880"/>
              <a:ext cx="55080" cy="36720"/>
            </a:xfrm>
            <a:prstGeom prst="straightConnector1">
              <a:avLst/>
            </a:prstGeom>
            <a:ln w="15875">
              <a:solidFill>
                <a:srgbClr val="ffffff"/>
              </a:solidFill>
              <a:round/>
            </a:ln>
          </p:spPr>
        </p:cxnSp>
        <p:cxnSp>
          <p:nvCxnSpPr>
            <p:cNvPr id="261" name="直接连接符 222"/>
            <p:cNvCxnSpPr/>
            <p:nvPr/>
          </p:nvCxnSpPr>
          <p:spPr>
            <a:xfrm flipH="1">
              <a:off x="2765160" y="2973600"/>
              <a:ext cx="55080" cy="36000"/>
            </a:xfrm>
            <a:prstGeom prst="straightConnector1">
              <a:avLst/>
            </a:prstGeom>
            <a:ln w="15875">
              <a:solidFill>
                <a:srgbClr val="ffffff"/>
              </a:solidFill>
              <a:round/>
            </a:ln>
          </p:spPr>
        </p:cxnSp>
      </p:grpSp>
      <p:grpSp>
        <p:nvGrpSpPr>
          <p:cNvPr id="262" name="组合 223"/>
          <p:cNvGrpSpPr/>
          <p:nvPr/>
        </p:nvGrpSpPr>
        <p:grpSpPr>
          <a:xfrm>
            <a:off x="2195640" y="3324600"/>
            <a:ext cx="339840" cy="313920"/>
            <a:chOff x="2195640" y="3324600"/>
            <a:chExt cx="339840" cy="313920"/>
          </a:xfrm>
        </p:grpSpPr>
        <p:grpSp>
          <p:nvGrpSpPr>
            <p:cNvPr id="263" name="组合 224"/>
            <p:cNvGrpSpPr/>
            <p:nvPr/>
          </p:nvGrpSpPr>
          <p:grpSpPr>
            <a:xfrm>
              <a:off x="2195640" y="3358800"/>
              <a:ext cx="339840" cy="279720"/>
              <a:chOff x="2195640" y="3358800"/>
              <a:chExt cx="339840" cy="279720"/>
            </a:xfrm>
          </p:grpSpPr>
          <p:sp>
            <p:nvSpPr>
              <p:cNvPr id="264" name="矩形 226"/>
              <p:cNvSpPr/>
              <p:nvPr/>
            </p:nvSpPr>
            <p:spPr>
              <a:xfrm>
                <a:off x="2195640" y="3549600"/>
                <a:ext cx="51840" cy="889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" name="矩形 227"/>
              <p:cNvSpPr/>
              <p:nvPr/>
            </p:nvSpPr>
            <p:spPr>
              <a:xfrm>
                <a:off x="2291760" y="3498840"/>
                <a:ext cx="51840" cy="13968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" name="矩形 228"/>
              <p:cNvSpPr/>
              <p:nvPr/>
            </p:nvSpPr>
            <p:spPr>
              <a:xfrm>
                <a:off x="2483640" y="3358800"/>
                <a:ext cx="51840" cy="2797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7" name="矩形 229"/>
              <p:cNvSpPr/>
              <p:nvPr/>
            </p:nvSpPr>
            <p:spPr>
              <a:xfrm>
                <a:off x="2387880" y="3460680"/>
                <a:ext cx="51840" cy="17784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68" name="任意多边形 225"/>
            <p:cNvSpPr/>
            <p:nvPr/>
          </p:nvSpPr>
          <p:spPr>
            <a:xfrm>
              <a:off x="2198520" y="3324600"/>
              <a:ext cx="284760" cy="20376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416719" h="302419">
                  <a:moveTo>
                    <a:pt x="0" y="302419"/>
                  </a:moveTo>
                  <a:cubicBezTo>
                    <a:pt x="99814" y="259754"/>
                    <a:pt x="199629" y="217090"/>
                    <a:pt x="269082" y="166687"/>
                  </a:cubicBezTo>
                  <a:cubicBezTo>
                    <a:pt x="338535" y="116284"/>
                    <a:pt x="416719" y="0"/>
                    <a:pt x="416719" y="0"/>
                  </a:cubicBezTo>
                  <a:lnTo>
                    <a:pt x="416719" y="0"/>
                  </a:lnTo>
                </a:path>
              </a:pathLst>
            </a:custGeom>
            <a:noFill/>
            <a:ln w="15875">
              <a:solidFill>
                <a:srgbClr val="ffffff"/>
              </a:solidFill>
              <a:round/>
              <a:tailEnd len="med" type="triangle" w="sm"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TextBox 230"/>
          <p:cNvSpPr/>
          <p:nvPr/>
        </p:nvSpPr>
        <p:spPr>
          <a:xfrm>
            <a:off x="5605920" y="2427840"/>
            <a:ext cx="829080" cy="57708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31"/>
          <p:cNvSpPr/>
          <p:nvPr/>
        </p:nvSpPr>
        <p:spPr>
          <a:xfrm>
            <a:off x="6153840" y="2955960"/>
            <a:ext cx="829080" cy="57708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32"/>
          <p:cNvSpPr/>
          <p:nvPr/>
        </p:nvSpPr>
        <p:spPr>
          <a:xfrm>
            <a:off x="6701760" y="3483720"/>
            <a:ext cx="829080" cy="57708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33"/>
          <p:cNvSpPr/>
          <p:nvPr/>
        </p:nvSpPr>
        <p:spPr>
          <a:xfrm>
            <a:off x="7249680" y="4011840"/>
            <a:ext cx="829080" cy="57708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ffffff"/>
                </a:solidFill>
                <a:latin typeface="바탕"/>
                <a:ea typeface="바탕"/>
              </a:rPr>
              <a:t>Ste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34"/>
          <p:cNvSpPr/>
          <p:nvPr/>
        </p:nvSpPr>
        <p:spPr>
          <a:xfrm>
            <a:off x="4264920" y="1660680"/>
            <a:ext cx="1398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35"/>
          <p:cNvSpPr/>
          <p:nvPr/>
        </p:nvSpPr>
        <p:spPr>
          <a:xfrm>
            <a:off x="3642480" y="2211120"/>
            <a:ext cx="1398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236"/>
          <p:cNvSpPr/>
          <p:nvPr/>
        </p:nvSpPr>
        <p:spPr>
          <a:xfrm>
            <a:off x="3077280" y="2787120"/>
            <a:ext cx="1398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37"/>
          <p:cNvSpPr/>
          <p:nvPr/>
        </p:nvSpPr>
        <p:spPr>
          <a:xfrm>
            <a:off x="2589120" y="3329640"/>
            <a:ext cx="1398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组合 3"/>
          <p:cNvGrpSpPr/>
          <p:nvPr/>
        </p:nvGrpSpPr>
        <p:grpSpPr>
          <a:xfrm>
            <a:off x="18000" y="4092480"/>
            <a:ext cx="2449080" cy="942840"/>
            <a:chOff x="18000" y="4092480"/>
            <a:chExt cx="2449080" cy="942840"/>
          </a:xfrm>
        </p:grpSpPr>
        <p:sp>
          <p:nvSpPr>
            <p:cNvPr id="278" name="TextBox 242"/>
            <p:cNvSpPr/>
            <p:nvPr/>
          </p:nvSpPr>
          <p:spPr>
            <a:xfrm>
              <a:off x="1800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组合 1"/>
            <p:cNvGrpSpPr/>
            <p:nvPr/>
          </p:nvGrpSpPr>
          <p:grpSpPr>
            <a:xfrm>
              <a:off x="785160" y="4663080"/>
              <a:ext cx="915120" cy="68040"/>
              <a:chOff x="785160" y="4663080"/>
              <a:chExt cx="915120" cy="68040"/>
            </a:xfrm>
          </p:grpSpPr>
          <p:sp>
            <p:nvSpPr>
              <p:cNvPr id="280" name="矩形 239"/>
              <p:cNvSpPr/>
              <p:nvPr/>
            </p:nvSpPr>
            <p:spPr>
              <a:xfrm>
                <a:off x="785160" y="4663080"/>
                <a:ext cx="197640" cy="68040"/>
              </a:xfrm>
              <a:prstGeom prst="rect">
                <a:avLst/>
              </a:prstGeom>
              <a:solidFill>
                <a:srgbClr val="a26e6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1" name="矩形 240"/>
              <p:cNvSpPr/>
              <p:nvPr/>
            </p:nvSpPr>
            <p:spPr>
              <a:xfrm>
                <a:off x="1024200" y="4663080"/>
                <a:ext cx="197640" cy="68040"/>
              </a:xfrm>
              <a:prstGeom prst="rect">
                <a:avLst/>
              </a:prstGeom>
              <a:solidFill>
                <a:srgbClr val="70828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2" name="矩形 241"/>
              <p:cNvSpPr/>
              <p:nvPr/>
            </p:nvSpPr>
            <p:spPr>
              <a:xfrm>
                <a:off x="1263600" y="4663080"/>
                <a:ext cx="197640" cy="68040"/>
              </a:xfrm>
              <a:prstGeom prst="rect">
                <a:avLst/>
              </a:prstGeom>
              <a:solidFill>
                <a:srgbClr val="f9b41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3" name="矩形 243"/>
              <p:cNvSpPr/>
              <p:nvPr/>
            </p:nvSpPr>
            <p:spPr>
              <a:xfrm>
                <a:off x="1502640" y="4663080"/>
                <a:ext cx="197640" cy="68040"/>
              </a:xfrm>
              <a:prstGeom prst="rect">
                <a:avLst/>
              </a:prstGeom>
              <a:solidFill>
                <a:srgbClr val="63bed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284" name="矩形 113"/>
          <p:cNvSpPr/>
          <p:nvPr/>
        </p:nvSpPr>
        <p:spPr>
          <a:xfrm flipH="1" rot="18898800">
            <a:off x="1371240" y="2538000"/>
            <a:ext cx="3355920" cy="231120"/>
          </a:xfrm>
          <a:custGeom>
            <a:avLst/>
            <a:gdLst>
              <a:gd name="textAreaLeft" fmla="*/ 360 w 3355920"/>
              <a:gd name="textAreaRight" fmla="*/ 3356640 w 3355920"/>
              <a:gd name="textAreaTop" fmla="*/ 0 h 231120"/>
              <a:gd name="textAreaBottom" fmla="*/ 231480 h 231120"/>
            </a:gdLst>
            <a:ahLst/>
            <a:rect l="textAreaLeft" t="textAreaTop" r="textAreaRight" b="textAreaBottom"/>
            <a:pathLst>
              <a:path w="3356255" h="231401">
                <a:moveTo>
                  <a:pt x="0" y="0"/>
                </a:moveTo>
                <a:lnTo>
                  <a:pt x="0" y="230653"/>
                </a:lnTo>
                <a:lnTo>
                  <a:pt x="0" y="230653"/>
                </a:lnTo>
                <a:close/>
                <a:moveTo>
                  <a:pt x="3356255" y="747"/>
                </a:moveTo>
                <a:lnTo>
                  <a:pt x="3126491" y="230512"/>
                </a:lnTo>
                <a:lnTo>
                  <a:pt x="3126491" y="230654"/>
                </a:lnTo>
                <a:lnTo>
                  <a:pt x="3126349" y="230654"/>
                </a:lnTo>
                <a:lnTo>
                  <a:pt x="3125601" y="231401"/>
                </a:lnTo>
                <a:lnTo>
                  <a:pt x="3112414" y="231401"/>
                </a:lnTo>
                <a:lnTo>
                  <a:pt x="3112414" y="230654"/>
                </a:lnTo>
                <a:lnTo>
                  <a:pt x="0" y="230654"/>
                </a:lnTo>
                <a:lnTo>
                  <a:pt x="0" y="230653"/>
                </a:lnTo>
                <a:lnTo>
                  <a:pt x="13187" y="230653"/>
                </a:lnTo>
                <a:lnTo>
                  <a:pt x="243841" y="0"/>
                </a:lnTo>
                <a:lnTo>
                  <a:pt x="3126491" y="0"/>
                </a:lnTo>
                <a:lnTo>
                  <a:pt x="3126491" y="747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262626">
                  <a:alpha val="5098"/>
                </a:srgbClr>
              </a:gs>
            </a:gsLst>
            <a:lin ang="2694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5" name="矩形 60"/>
          <p:cNvSpPr/>
          <p:nvPr/>
        </p:nvSpPr>
        <p:spPr>
          <a:xfrm>
            <a:off x="3428640" y="-86400"/>
            <a:ext cx="550440" cy="2189880"/>
          </a:xfrm>
          <a:custGeom>
            <a:avLst/>
            <a:gdLst>
              <a:gd name="textAreaLeft" fmla="*/ 0 w 550440"/>
              <a:gd name="textAreaRight" fmla="*/ 550800 w 550440"/>
              <a:gd name="textAreaTop" fmla="*/ 0 h 2189880"/>
              <a:gd name="textAreaBottom" fmla="*/ 2190240 h 2189880"/>
            </a:gdLst>
            <a:ahLst/>
            <a:rect l="textAreaLeft" t="textAreaTop" r="textAreaRight" b="textAreaBottom"/>
            <a:pathLst>
              <a:path w="550641" h="2190139">
                <a:moveTo>
                  <a:pt x="0" y="0"/>
                </a:moveTo>
                <a:lnTo>
                  <a:pt x="550641" y="0"/>
                </a:lnTo>
                <a:lnTo>
                  <a:pt x="550641" y="509068"/>
                </a:lnTo>
                <a:lnTo>
                  <a:pt x="550641" y="606956"/>
                </a:lnTo>
                <a:lnTo>
                  <a:pt x="550641" y="1639498"/>
                </a:lnTo>
                <a:lnTo>
                  <a:pt x="0" y="2190139"/>
                </a:lnTo>
                <a:lnTo>
                  <a:pt x="0" y="606956"/>
                </a:lnTo>
                <a:lnTo>
                  <a:pt x="0" y="509068"/>
                </a:lnTo>
                <a:close/>
              </a:path>
            </a:pathLst>
          </a:custGeom>
          <a:solidFill>
            <a:srgbClr val="63bed2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6" name="矩形 26"/>
          <p:cNvSpPr/>
          <p:nvPr/>
        </p:nvSpPr>
        <p:spPr>
          <a:xfrm flipV="1">
            <a:off x="7397280" y="3205800"/>
            <a:ext cx="550440" cy="2022840"/>
          </a:xfrm>
          <a:custGeom>
            <a:avLst/>
            <a:gdLst>
              <a:gd name="textAreaLeft" fmla="*/ 0 w 550440"/>
              <a:gd name="textAreaRight" fmla="*/ 550800 w 550440"/>
              <a:gd name="textAreaTop" fmla="*/ -360 h 2022840"/>
              <a:gd name="textAreaBottom" fmla="*/ 2022840 h 2022840"/>
            </a:gdLst>
            <a:ahLst/>
            <a:rect l="textAreaLeft" t="textAreaTop" r="textAreaRight" b="textAreaBottom"/>
            <a:pathLst>
              <a:path w="550642" h="2023368">
                <a:moveTo>
                  <a:pt x="1" y="2023368"/>
                </a:moveTo>
                <a:lnTo>
                  <a:pt x="550642" y="1472727"/>
                </a:lnTo>
                <a:lnTo>
                  <a:pt x="550642" y="342297"/>
                </a:lnTo>
                <a:lnTo>
                  <a:pt x="550641" y="342297"/>
                </a:lnTo>
                <a:lnTo>
                  <a:pt x="550641" y="0"/>
                </a:lnTo>
                <a:lnTo>
                  <a:pt x="0" y="0"/>
                </a:lnTo>
                <a:lnTo>
                  <a:pt x="0" y="606956"/>
                </a:lnTo>
                <a:lnTo>
                  <a:pt x="1" y="606956"/>
                </a:lnTo>
                <a:close/>
              </a:path>
            </a:pathLst>
          </a:custGeom>
          <a:solidFill>
            <a:srgbClr val="f9b41b"/>
          </a:soli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组合 1"/>
          <p:cNvGrpSpPr/>
          <p:nvPr/>
        </p:nvGrpSpPr>
        <p:grpSpPr>
          <a:xfrm>
            <a:off x="2654640" y="669240"/>
            <a:ext cx="3834720" cy="3835800"/>
            <a:chOff x="2654640" y="669240"/>
            <a:chExt cx="3834720" cy="3835800"/>
          </a:xfrm>
        </p:grpSpPr>
        <p:sp>
          <p:nvSpPr>
            <p:cNvPr id="288" name="矩形 4"/>
            <p:cNvSpPr/>
            <p:nvPr/>
          </p:nvSpPr>
          <p:spPr>
            <a:xfrm>
              <a:off x="2682720" y="669240"/>
              <a:ext cx="2667960" cy="1336680"/>
            </a:xfrm>
            <a:custGeom>
              <a:avLst/>
              <a:gdLst>
                <a:gd name="textAreaLeft" fmla="*/ 0 w 2667960"/>
                <a:gd name="textAreaRight" fmla="*/ 2668320 w 266796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2668335" h="1336932">
                  <a:moveTo>
                    <a:pt x="1447433" y="0"/>
                  </a:moveTo>
                  <a:lnTo>
                    <a:pt x="2325108" y="6510"/>
                  </a:lnTo>
                  <a:cubicBezTo>
                    <a:pt x="2432281" y="6468"/>
                    <a:pt x="2460835" y="19228"/>
                    <a:pt x="2485992" y="33244"/>
                  </a:cubicBezTo>
                  <a:cubicBezTo>
                    <a:pt x="2577884" y="117841"/>
                    <a:pt x="2668335" y="166815"/>
                    <a:pt x="2668335" y="284379"/>
                  </a:cubicBezTo>
                  <a:lnTo>
                    <a:pt x="2668335" y="1145193"/>
                  </a:lnTo>
                  <a:lnTo>
                    <a:pt x="259344" y="1145193"/>
                  </a:lnTo>
                  <a:cubicBezTo>
                    <a:pt x="137892" y="1145193"/>
                    <a:pt x="89641" y="1241725"/>
                    <a:pt x="0" y="1336932"/>
                  </a:cubicBezTo>
                  <a:lnTo>
                    <a:pt x="858315" y="144541"/>
                  </a:lnTo>
                  <a:lnTo>
                    <a:pt x="925815" y="53822"/>
                  </a:lnTo>
                  <a:cubicBezTo>
                    <a:pt x="956885" y="27470"/>
                    <a:pt x="994266" y="8688"/>
                    <a:pt x="1036078" y="3518"/>
                  </a:cubicBezTo>
                  <a:cubicBezTo>
                    <a:pt x="1114663" y="930"/>
                    <a:pt x="1269702" y="24"/>
                    <a:pt x="14474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89918"/>
                </a:gs>
                <a:gs pos="100000">
                  <a:srgbClr val="f9b61f"/>
                </a:gs>
              </a:gsLst>
              <a:lin ang="2100000"/>
            </a:gradFill>
            <a:ln>
              <a:noFill/>
            </a:ln>
            <a:effectLst>
              <a:outerShdw algn="tl" blurRad="254160" dir="2700000" dist="37674" rotWithShape="0" sx="99000" sy="99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" name="矩形 4"/>
            <p:cNvSpPr/>
            <p:nvPr/>
          </p:nvSpPr>
          <p:spPr>
            <a:xfrm rot="5400000">
              <a:off x="4487040" y="1356840"/>
              <a:ext cx="2667960" cy="1336680"/>
            </a:xfrm>
            <a:custGeom>
              <a:avLst/>
              <a:gdLst>
                <a:gd name="textAreaLeft" fmla="*/ 0 w 2667960"/>
                <a:gd name="textAreaRight" fmla="*/ 2668320 w 266796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2668335" h="1336932">
                  <a:moveTo>
                    <a:pt x="1447433" y="0"/>
                  </a:moveTo>
                  <a:lnTo>
                    <a:pt x="2325108" y="6510"/>
                  </a:lnTo>
                  <a:cubicBezTo>
                    <a:pt x="2432281" y="6468"/>
                    <a:pt x="2460835" y="19228"/>
                    <a:pt x="2485992" y="33244"/>
                  </a:cubicBezTo>
                  <a:cubicBezTo>
                    <a:pt x="2577884" y="117841"/>
                    <a:pt x="2668335" y="166815"/>
                    <a:pt x="2668335" y="284379"/>
                  </a:cubicBezTo>
                  <a:lnTo>
                    <a:pt x="2668335" y="1145193"/>
                  </a:lnTo>
                  <a:lnTo>
                    <a:pt x="259344" y="1145193"/>
                  </a:lnTo>
                  <a:cubicBezTo>
                    <a:pt x="137892" y="1145193"/>
                    <a:pt x="89641" y="1241725"/>
                    <a:pt x="0" y="1336932"/>
                  </a:cubicBezTo>
                  <a:lnTo>
                    <a:pt x="858315" y="144541"/>
                  </a:lnTo>
                  <a:lnTo>
                    <a:pt x="925815" y="53822"/>
                  </a:lnTo>
                  <a:cubicBezTo>
                    <a:pt x="956885" y="27470"/>
                    <a:pt x="994266" y="8688"/>
                    <a:pt x="1036078" y="3518"/>
                  </a:cubicBezTo>
                  <a:cubicBezTo>
                    <a:pt x="1114663" y="930"/>
                    <a:pt x="1269702" y="24"/>
                    <a:pt x="14474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0b7d0"/>
                </a:gs>
                <a:gs pos="100000">
                  <a:srgbClr val="63bed2"/>
                </a:gs>
              </a:gsLst>
              <a:lin ang="7800000"/>
            </a:gradFill>
            <a:ln>
              <a:noFill/>
            </a:ln>
            <a:effectLst>
              <a:outerShdw algn="tr" blurRad="254160" dir="8100000" dist="37674" rotWithShape="0" sx="99000" sy="99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" name="矩形 4"/>
            <p:cNvSpPr/>
            <p:nvPr/>
          </p:nvSpPr>
          <p:spPr>
            <a:xfrm flipH="1" flipV="1">
              <a:off x="3792240" y="3168000"/>
              <a:ext cx="2667960" cy="1336680"/>
            </a:xfrm>
            <a:custGeom>
              <a:avLst/>
              <a:gdLst>
                <a:gd name="textAreaLeft" fmla="*/ -360 w 2667960"/>
                <a:gd name="textAreaRight" fmla="*/ 2667960 w 2667960"/>
                <a:gd name="textAreaTop" fmla="*/ -360 h 1336680"/>
                <a:gd name="textAreaBottom" fmla="*/ 1336680 h 1336680"/>
              </a:gdLst>
              <a:ahLst/>
              <a:rect l="textAreaLeft" t="textAreaTop" r="textAreaRight" b="textAreaBottom"/>
              <a:pathLst>
                <a:path w="2668335" h="1336932">
                  <a:moveTo>
                    <a:pt x="1447433" y="0"/>
                  </a:moveTo>
                  <a:lnTo>
                    <a:pt x="2325108" y="6510"/>
                  </a:lnTo>
                  <a:cubicBezTo>
                    <a:pt x="2432281" y="6468"/>
                    <a:pt x="2460835" y="19228"/>
                    <a:pt x="2485992" y="33244"/>
                  </a:cubicBezTo>
                  <a:cubicBezTo>
                    <a:pt x="2577884" y="117841"/>
                    <a:pt x="2668335" y="166815"/>
                    <a:pt x="2668335" y="284379"/>
                  </a:cubicBezTo>
                  <a:lnTo>
                    <a:pt x="2668335" y="1145193"/>
                  </a:lnTo>
                  <a:lnTo>
                    <a:pt x="259344" y="1145193"/>
                  </a:lnTo>
                  <a:cubicBezTo>
                    <a:pt x="137892" y="1145193"/>
                    <a:pt x="89641" y="1241725"/>
                    <a:pt x="0" y="1336932"/>
                  </a:cubicBezTo>
                  <a:lnTo>
                    <a:pt x="858315" y="144541"/>
                  </a:lnTo>
                  <a:lnTo>
                    <a:pt x="925815" y="53822"/>
                  </a:lnTo>
                  <a:cubicBezTo>
                    <a:pt x="956885" y="27470"/>
                    <a:pt x="994266" y="8688"/>
                    <a:pt x="1036078" y="3518"/>
                  </a:cubicBezTo>
                  <a:cubicBezTo>
                    <a:pt x="1114663" y="930"/>
                    <a:pt x="1269702" y="24"/>
                    <a:pt x="14474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2ba26"/>
                </a:gs>
                <a:gs pos="100000">
                  <a:srgbClr val="e1c251"/>
                </a:gs>
              </a:gsLst>
              <a:lin ang="13200000"/>
            </a:gradFill>
            <a:ln>
              <a:noFill/>
            </a:ln>
            <a:effectLst>
              <a:outerShdw algn="br" blurRad="254160" dir="13500000" dist="37674" rotWithShape="0" sx="99000" sy="99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" name="矩形 4"/>
            <p:cNvSpPr/>
            <p:nvPr/>
          </p:nvSpPr>
          <p:spPr>
            <a:xfrm flipH="1" flipV="1" rot="5400000">
              <a:off x="1988640" y="2479680"/>
              <a:ext cx="2667960" cy="1336680"/>
            </a:xfrm>
            <a:custGeom>
              <a:avLst/>
              <a:gdLst>
                <a:gd name="textAreaLeft" fmla="*/ -360 w 2667960"/>
                <a:gd name="textAreaRight" fmla="*/ 2667960 w 2667960"/>
                <a:gd name="textAreaTop" fmla="*/ -360 h 1336680"/>
                <a:gd name="textAreaBottom" fmla="*/ 1336680 h 1336680"/>
              </a:gdLst>
              <a:ahLst/>
              <a:rect l="textAreaLeft" t="textAreaTop" r="textAreaRight" b="textAreaBottom"/>
              <a:pathLst>
                <a:path w="2668335" h="1336932">
                  <a:moveTo>
                    <a:pt x="1447433" y="0"/>
                  </a:moveTo>
                  <a:lnTo>
                    <a:pt x="2325108" y="6510"/>
                  </a:lnTo>
                  <a:cubicBezTo>
                    <a:pt x="2432281" y="6468"/>
                    <a:pt x="2460835" y="19228"/>
                    <a:pt x="2485992" y="33244"/>
                  </a:cubicBezTo>
                  <a:cubicBezTo>
                    <a:pt x="2577884" y="117841"/>
                    <a:pt x="2668335" y="166815"/>
                    <a:pt x="2668335" y="284379"/>
                  </a:cubicBezTo>
                  <a:lnTo>
                    <a:pt x="2668335" y="1145193"/>
                  </a:lnTo>
                  <a:lnTo>
                    <a:pt x="259344" y="1145193"/>
                  </a:lnTo>
                  <a:cubicBezTo>
                    <a:pt x="137892" y="1145193"/>
                    <a:pt x="89641" y="1241725"/>
                    <a:pt x="0" y="1336932"/>
                  </a:cubicBezTo>
                  <a:lnTo>
                    <a:pt x="858315" y="144541"/>
                  </a:lnTo>
                  <a:lnTo>
                    <a:pt x="925815" y="53822"/>
                  </a:lnTo>
                  <a:cubicBezTo>
                    <a:pt x="956885" y="27470"/>
                    <a:pt x="994266" y="8688"/>
                    <a:pt x="1036078" y="3518"/>
                  </a:cubicBezTo>
                  <a:cubicBezTo>
                    <a:pt x="1114663" y="930"/>
                    <a:pt x="1269702" y="24"/>
                    <a:pt x="14474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0bfc2"/>
                </a:gs>
                <a:gs pos="100000">
                  <a:srgbClr val="edc9c9"/>
                </a:gs>
              </a:gsLst>
              <a:lin ang="18600000"/>
            </a:gradFill>
            <a:ln>
              <a:noFill/>
            </a:ln>
            <a:effectLst>
              <a:outerShdw algn="l" blurRad="254160" dist="38160" rotWithShape="0" sx="99000" sy="99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92" name="组合 4"/>
            <p:cNvGrpSpPr/>
            <p:nvPr/>
          </p:nvGrpSpPr>
          <p:grpSpPr>
            <a:xfrm>
              <a:off x="3324240" y="997920"/>
              <a:ext cx="1900440" cy="638280"/>
              <a:chOff x="3324240" y="997920"/>
              <a:chExt cx="1900440" cy="638280"/>
            </a:xfrm>
          </p:grpSpPr>
          <p:sp>
            <p:nvSpPr>
              <p:cNvPr id="293" name="TextBox 43"/>
              <p:cNvSpPr/>
              <p:nvPr/>
            </p:nvSpPr>
            <p:spPr>
              <a:xfrm>
                <a:off x="3678120" y="997920"/>
                <a:ext cx="7052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等腰三角形 2"/>
              <p:cNvSpPr/>
              <p:nvPr/>
            </p:nvSpPr>
            <p:spPr>
              <a:xfrm rot="16200000">
                <a:off x="3231720" y="1205280"/>
                <a:ext cx="450000" cy="2649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080120" h="931138">
                    <a:moveTo>
                      <a:pt x="540060" y="0"/>
                    </a:moveTo>
                    <a:lnTo>
                      <a:pt x="1080120" y="931138"/>
                    </a:lnTo>
                    <a:lnTo>
                      <a:pt x="810090" y="931138"/>
                    </a:lnTo>
                    <a:lnTo>
                      <a:pt x="540060" y="465569"/>
                    </a:lnTo>
                    <a:lnTo>
                      <a:pt x="270030" y="931138"/>
                    </a:lnTo>
                    <a:lnTo>
                      <a:pt x="0" y="931138"/>
                    </a:lnTo>
                    <a:close/>
                  </a:path>
                </a:pathLst>
              </a:custGeom>
              <a:solidFill>
                <a:srgbClr val="543f3b">
                  <a:alpha val="79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5" name="矩形 53"/>
              <p:cNvSpPr/>
              <p:nvPr/>
            </p:nvSpPr>
            <p:spPr>
              <a:xfrm>
                <a:off x="4248000" y="1028520"/>
                <a:ext cx="9766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组合 3"/>
            <p:cNvGrpSpPr/>
            <p:nvPr/>
          </p:nvGrpSpPr>
          <p:grpSpPr>
            <a:xfrm>
              <a:off x="5410800" y="1511640"/>
              <a:ext cx="976680" cy="1515240"/>
              <a:chOff x="5410800" y="1511640"/>
              <a:chExt cx="976680" cy="1515240"/>
            </a:xfrm>
          </p:grpSpPr>
          <p:sp>
            <p:nvSpPr>
              <p:cNvPr id="297" name="等腰三角形 2"/>
              <p:cNvSpPr/>
              <p:nvPr/>
            </p:nvSpPr>
            <p:spPr>
              <a:xfrm>
                <a:off x="5674320" y="1511640"/>
                <a:ext cx="450000" cy="2649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080120" h="931138">
                    <a:moveTo>
                      <a:pt x="540060" y="0"/>
                    </a:moveTo>
                    <a:lnTo>
                      <a:pt x="1080120" y="931138"/>
                    </a:lnTo>
                    <a:lnTo>
                      <a:pt x="810090" y="931138"/>
                    </a:lnTo>
                    <a:lnTo>
                      <a:pt x="540060" y="465569"/>
                    </a:lnTo>
                    <a:lnTo>
                      <a:pt x="270030" y="931138"/>
                    </a:lnTo>
                    <a:lnTo>
                      <a:pt x="0" y="931138"/>
                    </a:lnTo>
                    <a:close/>
                  </a:path>
                </a:pathLst>
              </a:custGeom>
              <a:solidFill>
                <a:srgbClr val="543f3b">
                  <a:alpha val="79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8" name="TextBox 64"/>
              <p:cNvSpPr/>
              <p:nvPr/>
            </p:nvSpPr>
            <p:spPr>
              <a:xfrm>
                <a:off x="5546880" y="1891080"/>
                <a:ext cx="7052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矩形 65"/>
              <p:cNvSpPr/>
              <p:nvPr/>
            </p:nvSpPr>
            <p:spPr>
              <a:xfrm>
                <a:off x="5410800" y="2450520"/>
                <a:ext cx="9766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组合 68"/>
            <p:cNvGrpSpPr/>
            <p:nvPr/>
          </p:nvGrpSpPr>
          <p:grpSpPr>
            <a:xfrm>
              <a:off x="2741400" y="1981080"/>
              <a:ext cx="976680" cy="1523160"/>
              <a:chOff x="2741400" y="1981080"/>
              <a:chExt cx="976680" cy="1523160"/>
            </a:xfrm>
          </p:grpSpPr>
          <p:sp>
            <p:nvSpPr>
              <p:cNvPr id="301" name="等腰三角形 2"/>
              <p:cNvSpPr/>
              <p:nvPr/>
            </p:nvSpPr>
            <p:spPr>
              <a:xfrm flipV="1">
                <a:off x="3004920" y="3239280"/>
                <a:ext cx="450000" cy="2649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360 h 264960"/>
                  <a:gd name="textAreaBottom" fmla="*/ 265680 h 264960"/>
                </a:gdLst>
                <a:ahLst/>
                <a:rect l="textAreaLeft" t="textAreaTop" r="textAreaRight" b="textAreaBottom"/>
                <a:pathLst>
                  <a:path w="1080120" h="931138">
                    <a:moveTo>
                      <a:pt x="540060" y="0"/>
                    </a:moveTo>
                    <a:lnTo>
                      <a:pt x="1080120" y="931138"/>
                    </a:lnTo>
                    <a:lnTo>
                      <a:pt x="810090" y="931138"/>
                    </a:lnTo>
                    <a:lnTo>
                      <a:pt x="540060" y="465569"/>
                    </a:lnTo>
                    <a:lnTo>
                      <a:pt x="270030" y="931138"/>
                    </a:lnTo>
                    <a:lnTo>
                      <a:pt x="0" y="931138"/>
                    </a:lnTo>
                    <a:close/>
                  </a:path>
                </a:pathLst>
              </a:custGeom>
              <a:solidFill>
                <a:srgbClr val="543f3b">
                  <a:alpha val="79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2" name="TextBox 70"/>
              <p:cNvSpPr/>
              <p:nvPr/>
            </p:nvSpPr>
            <p:spPr>
              <a:xfrm>
                <a:off x="2877480" y="2469240"/>
                <a:ext cx="7052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71"/>
              <p:cNvSpPr/>
              <p:nvPr/>
            </p:nvSpPr>
            <p:spPr>
              <a:xfrm>
                <a:off x="2741400" y="1981080"/>
                <a:ext cx="9766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组合 72"/>
            <p:cNvGrpSpPr/>
            <p:nvPr/>
          </p:nvGrpSpPr>
          <p:grpSpPr>
            <a:xfrm>
              <a:off x="3910320" y="3513960"/>
              <a:ext cx="1895760" cy="638280"/>
              <a:chOff x="3910320" y="3513960"/>
              <a:chExt cx="1895760" cy="638280"/>
            </a:xfrm>
          </p:grpSpPr>
          <p:sp>
            <p:nvSpPr>
              <p:cNvPr id="305" name="TextBox 73"/>
              <p:cNvSpPr/>
              <p:nvPr/>
            </p:nvSpPr>
            <p:spPr>
              <a:xfrm flipH="1">
                <a:off x="4785480" y="3513960"/>
                <a:ext cx="70524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方正姚体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等腰三角形 2"/>
              <p:cNvSpPr/>
              <p:nvPr/>
            </p:nvSpPr>
            <p:spPr>
              <a:xfrm flipH="1" rot="5400000">
                <a:off x="5448600" y="3721320"/>
                <a:ext cx="450000" cy="264960"/>
              </a:xfrm>
              <a:custGeom>
                <a:avLst/>
                <a:gdLst>
                  <a:gd name="textAreaLeft" fmla="*/ 360 w 450000"/>
                  <a:gd name="textAreaRight" fmla="*/ 450720 w 45000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080120" h="931138">
                    <a:moveTo>
                      <a:pt x="540060" y="0"/>
                    </a:moveTo>
                    <a:lnTo>
                      <a:pt x="1080120" y="931138"/>
                    </a:lnTo>
                    <a:lnTo>
                      <a:pt x="810090" y="931138"/>
                    </a:lnTo>
                    <a:lnTo>
                      <a:pt x="540060" y="465569"/>
                    </a:lnTo>
                    <a:lnTo>
                      <a:pt x="270030" y="931138"/>
                    </a:lnTo>
                    <a:lnTo>
                      <a:pt x="0" y="931138"/>
                    </a:lnTo>
                    <a:close/>
                  </a:path>
                </a:pathLst>
              </a:custGeom>
              <a:solidFill>
                <a:srgbClr val="543f3b">
                  <a:alpha val="79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7" name="矩形 75"/>
              <p:cNvSpPr/>
              <p:nvPr/>
            </p:nvSpPr>
            <p:spPr>
              <a:xfrm flipH="1">
                <a:off x="3909960" y="3561120"/>
                <a:ext cx="9234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组合 14"/>
            <p:cNvGrpSpPr/>
            <p:nvPr/>
          </p:nvGrpSpPr>
          <p:grpSpPr>
            <a:xfrm>
              <a:off x="4059360" y="2080080"/>
              <a:ext cx="981720" cy="718560"/>
              <a:chOff x="4059360" y="2080080"/>
              <a:chExt cx="981720" cy="718560"/>
            </a:xfrm>
          </p:grpSpPr>
          <p:sp>
            <p:nvSpPr>
              <p:cNvPr id="309" name="矩形 77"/>
              <p:cNvSpPr/>
              <p:nvPr/>
            </p:nvSpPr>
            <p:spPr>
              <a:xfrm>
                <a:off x="4267800" y="2080080"/>
                <a:ext cx="628560" cy="261360"/>
              </a:xfrm>
              <a:custGeom>
                <a:avLst/>
                <a:gdLst>
                  <a:gd name="textAreaLeft" fmla="*/ 0 w 628560"/>
                  <a:gd name="textAreaRight" fmla="*/ 628920 w 62856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1653088" h="687928">
                    <a:moveTo>
                      <a:pt x="154063" y="143410"/>
                    </a:moveTo>
                    <a:cubicBezTo>
                      <a:pt x="127010" y="143410"/>
                      <a:pt x="105079" y="165341"/>
                      <a:pt x="105079" y="192394"/>
                    </a:cubicBezTo>
                    <a:lnTo>
                      <a:pt x="105079" y="495534"/>
                    </a:lnTo>
                    <a:cubicBezTo>
                      <a:pt x="105079" y="522587"/>
                      <a:pt x="127010" y="544518"/>
                      <a:pt x="154063" y="544518"/>
                    </a:cubicBezTo>
                    <a:lnTo>
                      <a:pt x="349993" y="544518"/>
                    </a:lnTo>
                    <a:cubicBezTo>
                      <a:pt x="377046" y="544518"/>
                      <a:pt x="398977" y="522587"/>
                      <a:pt x="398977" y="495534"/>
                    </a:cubicBezTo>
                    <a:lnTo>
                      <a:pt x="398977" y="192394"/>
                    </a:lnTo>
                    <a:cubicBezTo>
                      <a:pt x="398977" y="165341"/>
                      <a:pt x="377046" y="143410"/>
                      <a:pt x="349993" y="143410"/>
                    </a:cubicBezTo>
                    <a:close/>
                    <a:moveTo>
                      <a:pt x="84011" y="0"/>
                    </a:moveTo>
                    <a:lnTo>
                      <a:pt x="420045" y="0"/>
                    </a:lnTo>
                    <a:cubicBezTo>
                      <a:pt x="466443" y="0"/>
                      <a:pt x="504056" y="37613"/>
                      <a:pt x="504056" y="84011"/>
                    </a:cubicBezTo>
                    <a:lnTo>
                      <a:pt x="504056" y="278486"/>
                    </a:lnTo>
                    <a:lnTo>
                      <a:pt x="1332148" y="278486"/>
                    </a:lnTo>
                    <a:lnTo>
                      <a:pt x="1332148" y="0"/>
                    </a:lnTo>
                    <a:lnTo>
                      <a:pt x="1404156" y="0"/>
                    </a:lnTo>
                    <a:lnTo>
                      <a:pt x="1404156" y="278486"/>
                    </a:lnTo>
                    <a:lnTo>
                      <a:pt x="1581080" y="278486"/>
                    </a:lnTo>
                    <a:lnTo>
                      <a:pt x="1581080" y="0"/>
                    </a:lnTo>
                    <a:lnTo>
                      <a:pt x="1653088" y="0"/>
                    </a:lnTo>
                    <a:lnTo>
                      <a:pt x="1653088" y="278486"/>
                    </a:lnTo>
                    <a:lnTo>
                      <a:pt x="1653088" y="409442"/>
                    </a:lnTo>
                    <a:lnTo>
                      <a:pt x="504056" y="409442"/>
                    </a:lnTo>
                    <a:lnTo>
                      <a:pt x="504056" y="603917"/>
                    </a:lnTo>
                    <a:cubicBezTo>
                      <a:pt x="504056" y="650315"/>
                      <a:pt x="466443" y="687928"/>
                      <a:pt x="420045" y="687928"/>
                    </a:cubicBezTo>
                    <a:lnTo>
                      <a:pt x="84011" y="687928"/>
                    </a:lnTo>
                    <a:cubicBezTo>
                      <a:pt x="37613" y="687928"/>
                      <a:pt x="0" y="650315"/>
                      <a:pt x="0" y="603917"/>
                    </a:cubicBezTo>
                    <a:lnTo>
                      <a:pt x="0" y="84011"/>
                    </a:lnTo>
                    <a:cubicBezTo>
                      <a:pt x="0" y="37613"/>
                      <a:pt x="37613" y="0"/>
                      <a:pt x="84011" y="0"/>
                    </a:cubicBezTo>
                    <a:close/>
                  </a:path>
                </a:pathLst>
              </a:custGeom>
              <a:solidFill>
                <a:srgbClr val="4e535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310" name="组合 13"/>
              <p:cNvGrpSpPr/>
              <p:nvPr/>
            </p:nvGrpSpPr>
            <p:grpSpPr>
              <a:xfrm>
                <a:off x="4059360" y="2400480"/>
                <a:ext cx="981720" cy="398160"/>
                <a:chOff x="4059360" y="2400480"/>
                <a:chExt cx="981720" cy="398160"/>
              </a:xfrm>
            </p:grpSpPr>
            <p:sp>
              <p:nvSpPr>
                <p:cNvPr id="311" name="任意多边形 10"/>
                <p:cNvSpPr/>
                <p:nvPr/>
              </p:nvSpPr>
              <p:spPr>
                <a:xfrm>
                  <a:off x="4159440" y="2400480"/>
                  <a:ext cx="881640" cy="297720"/>
                </a:xfrm>
                <a:custGeom>
                  <a:avLst/>
                  <a:gdLst>
                    <a:gd name="textAreaLeft" fmla="*/ 0 w 881640"/>
                    <a:gd name="textAreaRight" fmla="*/ 882000 w 881640"/>
                    <a:gd name="textAreaTop" fmla="*/ 0 h 297720"/>
                    <a:gd name="textAreaBottom" fmla="*/ 298080 h 297720"/>
                  </a:gdLst>
                  <a:ahLst/>
                  <a:rect l="textAreaLeft" t="textAreaTop" r="textAreaRight" b="textAreaBottom"/>
                  <a:pathLst>
                    <a:path w="500063" h="169069">
                      <a:moveTo>
                        <a:pt x="0" y="71437"/>
                      </a:moveTo>
                      <a:lnTo>
                        <a:pt x="104775" y="169069"/>
                      </a:lnTo>
                      <a:lnTo>
                        <a:pt x="135731" y="152400"/>
                      </a:lnTo>
                      <a:lnTo>
                        <a:pt x="328613" y="157162"/>
                      </a:lnTo>
                      <a:lnTo>
                        <a:pt x="452438" y="78581"/>
                      </a:lnTo>
                      <a:lnTo>
                        <a:pt x="500063" y="11906"/>
                      </a:lnTo>
                      <a:lnTo>
                        <a:pt x="454819" y="4762"/>
                      </a:lnTo>
                      <a:lnTo>
                        <a:pt x="376238" y="71437"/>
                      </a:lnTo>
                      <a:lnTo>
                        <a:pt x="328613" y="90487"/>
                      </a:lnTo>
                      <a:lnTo>
                        <a:pt x="295275" y="92869"/>
                      </a:lnTo>
                      <a:lnTo>
                        <a:pt x="216694" y="83344"/>
                      </a:lnTo>
                      <a:lnTo>
                        <a:pt x="192881" y="71437"/>
                      </a:lnTo>
                      <a:lnTo>
                        <a:pt x="219075" y="71437"/>
                      </a:lnTo>
                      <a:lnTo>
                        <a:pt x="302419" y="61912"/>
                      </a:lnTo>
                      <a:lnTo>
                        <a:pt x="340519" y="54769"/>
                      </a:lnTo>
                      <a:lnTo>
                        <a:pt x="357188" y="30956"/>
                      </a:lnTo>
                      <a:lnTo>
                        <a:pt x="359568" y="0"/>
                      </a:lnTo>
                      <a:lnTo>
                        <a:pt x="147638" y="0"/>
                      </a:lnTo>
                      <a:lnTo>
                        <a:pt x="107156" y="2381"/>
                      </a:lnTo>
                      <a:lnTo>
                        <a:pt x="0" y="71437"/>
                      </a:lnTo>
                      <a:close/>
                    </a:path>
                  </a:pathLst>
                </a:custGeom>
                <a:solidFill>
                  <a:srgbClr val="4e5355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" name="平行四边形 11"/>
                <p:cNvSpPr/>
                <p:nvPr/>
              </p:nvSpPr>
              <p:spPr>
                <a:xfrm flipV="1" rot="19611600">
                  <a:off x="4113360" y="2531520"/>
                  <a:ext cx="155160" cy="244080"/>
                </a:xfrm>
                <a:prstGeom prst="parallelogram">
                  <a:avLst>
                    <a:gd name="adj" fmla="val 38754"/>
                  </a:avLst>
                </a:prstGeom>
                <a:solidFill>
                  <a:srgbClr val="4e5355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3" name="TextBox 78"/>
            <p:cNvSpPr/>
            <p:nvPr/>
          </p:nvSpPr>
          <p:spPr>
            <a:xfrm>
              <a:off x="3834720" y="2761200"/>
              <a:ext cx="14857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404040"/>
                  </a:solidFill>
                  <a:latin typeface="comic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17"/>
          <p:cNvGrpSpPr/>
          <p:nvPr/>
        </p:nvGrpSpPr>
        <p:grpSpPr>
          <a:xfrm>
            <a:off x="18720" y="4092480"/>
            <a:ext cx="2449080" cy="942840"/>
            <a:chOff x="18720" y="4092480"/>
            <a:chExt cx="2449080" cy="942840"/>
          </a:xfrm>
        </p:grpSpPr>
        <p:sp>
          <p:nvSpPr>
            <p:cNvPr id="315" name="TextBox 83"/>
            <p:cNvSpPr/>
            <p:nvPr/>
          </p:nvSpPr>
          <p:spPr>
            <a:xfrm>
              <a:off x="1872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组合 16"/>
            <p:cNvGrpSpPr/>
            <p:nvPr/>
          </p:nvGrpSpPr>
          <p:grpSpPr>
            <a:xfrm>
              <a:off x="772920" y="4663080"/>
              <a:ext cx="941040" cy="68040"/>
              <a:chOff x="772920" y="4663080"/>
              <a:chExt cx="941040" cy="68040"/>
            </a:xfrm>
          </p:grpSpPr>
          <p:sp>
            <p:nvSpPr>
              <p:cNvPr id="317" name="矩形 80"/>
              <p:cNvSpPr/>
              <p:nvPr/>
            </p:nvSpPr>
            <p:spPr>
              <a:xfrm>
                <a:off x="77292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e89918"/>
                  </a:gs>
                  <a:gs pos="100000">
                    <a:srgbClr val="d68c32"/>
                  </a:gs>
                </a:gsLst>
                <a:lin ang="2100000"/>
              </a:gradFill>
              <a:ln>
                <a:noFill/>
              </a:ln>
              <a:effectLst>
                <a:outerShdw algn="tl" blurRad="254160" dir="2700000" dist="37674" rotWithShape="0" sx="99000" sy="99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18" name="矩形 81"/>
              <p:cNvSpPr/>
              <p:nvPr/>
            </p:nvSpPr>
            <p:spPr>
              <a:xfrm>
                <a:off x="102060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50b7d0"/>
                  </a:gs>
                  <a:gs pos="100000">
                    <a:srgbClr val="63bed2"/>
                  </a:gs>
                </a:gsLst>
                <a:lin ang="2400000"/>
              </a:gradFill>
              <a:ln>
                <a:noFill/>
              </a:ln>
              <a:effectLst>
                <a:outerShdw algn="tr" blurRad="254160" dir="8100000" dist="37674" rotWithShape="0" sx="99000" sy="99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19" name="矩形 82"/>
              <p:cNvSpPr/>
              <p:nvPr/>
            </p:nvSpPr>
            <p:spPr>
              <a:xfrm>
                <a:off x="126864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e2ba26"/>
                  </a:gs>
                  <a:gs pos="100000">
                    <a:srgbClr val="e1c251"/>
                  </a:gs>
                </a:gsLst>
                <a:lin ang="2400000"/>
              </a:gradFill>
              <a:ln>
                <a:noFill/>
              </a:ln>
              <a:effectLst>
                <a:outerShdw algn="br" blurRad="254160" dir="13500000" dist="37674" rotWithShape="0" sx="99000" sy="99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20" name="矩形 84"/>
              <p:cNvSpPr/>
              <p:nvPr/>
            </p:nvSpPr>
            <p:spPr>
              <a:xfrm>
                <a:off x="151632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d0bfc2"/>
                  </a:gs>
                  <a:gs pos="100000">
                    <a:srgbClr val="edc9c9"/>
                  </a:gs>
                </a:gsLst>
                <a:lin ang="2400000"/>
              </a:gradFill>
              <a:ln>
                <a:noFill/>
              </a:ln>
              <a:effectLst>
                <a:outerShdw algn="l" blurRad="254160" dist="38160" rotWithShape="0" sx="99000" sy="99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8800" contrast="40000" sat="0"/>
                    </a14:imgEffect>
                  </a14:imgLayer>
                </a14:imgProps>
              </a:ext>
            </a:extLst>
          </a:blip>
          <a:srcRect l="2771" t="0" r="7212" b="57712"/>
          <a:stretch/>
        </p:blipFill>
        <p:spPr>
          <a:xfrm>
            <a:off x="1619640" y="2603880"/>
            <a:ext cx="1763640" cy="889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-40000" colorTemp="4700" contrast="40000" sat="0"/>
                    </a14:imgEffect>
                  </a14:imgLayer>
                </a14:imgProps>
              </a:ext>
            </a:extLst>
          </a:blip>
          <a:srcRect l="2770" t="0" r="7215" b="57717"/>
          <a:stretch/>
        </p:blipFill>
        <p:spPr>
          <a:xfrm>
            <a:off x="5382360" y="815400"/>
            <a:ext cx="1565640" cy="73080"/>
          </a:xfrm>
          <a:prstGeom prst="rect">
            <a:avLst/>
          </a:prstGeom>
          <a:ln w="0">
            <a:noFill/>
          </a:ln>
        </p:spPr>
      </p:pic>
      <p:sp>
        <p:nvSpPr>
          <p:cNvPr id="323" name="椭圆 32"/>
          <p:cNvSpPr/>
          <p:nvPr/>
        </p:nvSpPr>
        <p:spPr>
          <a:xfrm flipH="1">
            <a:off x="6055920" y="622440"/>
            <a:ext cx="233640" cy="264960"/>
          </a:xfrm>
          <a:custGeom>
            <a:avLst/>
            <a:gdLst>
              <a:gd name="textAreaLeft" fmla="*/ -360 w 233640"/>
              <a:gd name="textAreaRight" fmla="*/ 233640 w 2336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34105" h="265305">
                <a:moveTo>
                  <a:pt x="135654" y="7872"/>
                </a:moveTo>
                <a:lnTo>
                  <a:pt x="136115" y="7959"/>
                </a:lnTo>
                <a:cubicBezTo>
                  <a:pt x="191516" y="68746"/>
                  <a:pt x="226826" y="144366"/>
                  <a:pt x="234105" y="224421"/>
                </a:cubicBezTo>
                <a:cubicBezTo>
                  <a:pt x="234082" y="224416"/>
                  <a:pt x="234059" y="224412"/>
                  <a:pt x="234036" y="224407"/>
                </a:cubicBezTo>
                <a:lnTo>
                  <a:pt x="233847" y="265305"/>
                </a:lnTo>
                <a:lnTo>
                  <a:pt x="488" y="265305"/>
                </a:lnTo>
                <a:cubicBezTo>
                  <a:pt x="7" y="263811"/>
                  <a:pt x="0" y="262308"/>
                  <a:pt x="0" y="260803"/>
                </a:cubicBezTo>
                <a:cubicBezTo>
                  <a:pt x="0" y="121113"/>
                  <a:pt x="51210" y="-37372"/>
                  <a:pt x="135654" y="7872"/>
                </a:cubicBezTo>
                <a:close/>
              </a:path>
            </a:pathLst>
          </a:custGeom>
          <a:solidFill>
            <a:srgbClr val="550a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4" name="等腰三角形 7"/>
          <p:cNvSpPr/>
          <p:nvPr/>
        </p:nvSpPr>
        <p:spPr>
          <a:xfrm rot="10800000">
            <a:off x="3261240" y="3650040"/>
            <a:ext cx="249840" cy="119880"/>
          </a:xfrm>
          <a:custGeom>
            <a:avLst/>
            <a:gdLst>
              <a:gd name="textAreaLeft" fmla="*/ 0 w 249840"/>
              <a:gd name="textAreaRight" fmla="*/ 250200 w 249840"/>
              <a:gd name="textAreaTop" fmla="*/ 0 h 119880"/>
              <a:gd name="textAreaBottom" fmla="*/ 120240 h 11988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08368" y="143702"/>
                  <a:pt x="250041" y="215553"/>
                </a:cubicBezTo>
                <a:cubicBezTo>
                  <a:pt x="7211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550a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5" name="等腰三角形 7"/>
          <p:cNvSpPr/>
          <p:nvPr/>
        </p:nvSpPr>
        <p:spPr>
          <a:xfrm rot="10800000">
            <a:off x="5119920" y="4155480"/>
            <a:ext cx="249840" cy="119880"/>
          </a:xfrm>
          <a:custGeom>
            <a:avLst/>
            <a:gdLst>
              <a:gd name="textAreaLeft" fmla="*/ 0 w 249840"/>
              <a:gd name="textAreaRight" fmla="*/ 250200 w 249840"/>
              <a:gd name="textAreaTop" fmla="*/ 0 h 119880"/>
              <a:gd name="textAreaBottom" fmla="*/ 120240 h 11988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08368" y="143702"/>
                  <a:pt x="250041" y="215553"/>
                </a:cubicBezTo>
                <a:cubicBezTo>
                  <a:pt x="7211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550a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6" name="等腰三角形 7"/>
          <p:cNvSpPr/>
          <p:nvPr/>
        </p:nvSpPr>
        <p:spPr>
          <a:xfrm flipV="1" rot="10800000">
            <a:off x="4192920" y="1394280"/>
            <a:ext cx="249840" cy="119880"/>
          </a:xfrm>
          <a:custGeom>
            <a:avLst/>
            <a:gdLst>
              <a:gd name="textAreaLeft" fmla="*/ 0 w 249840"/>
              <a:gd name="textAreaRight" fmla="*/ 250200 w 249840"/>
              <a:gd name="textAreaTop" fmla="*/ -360 h 119880"/>
              <a:gd name="textAreaBottom" fmla="*/ 119880 h 11988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20275" y="109596"/>
                  <a:pt x="250041" y="215553"/>
                </a:cubicBezTo>
                <a:cubicBezTo>
                  <a:pt x="7449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550a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7" name="椭圆 32"/>
          <p:cNvSpPr/>
          <p:nvPr/>
        </p:nvSpPr>
        <p:spPr>
          <a:xfrm>
            <a:off x="2335320" y="2422800"/>
            <a:ext cx="233640" cy="264960"/>
          </a:xfrm>
          <a:custGeom>
            <a:avLst/>
            <a:gdLst>
              <a:gd name="textAreaLeft" fmla="*/ 0 w 233640"/>
              <a:gd name="textAreaRight" fmla="*/ 234000 w 2336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34105" h="265305">
                <a:moveTo>
                  <a:pt x="135654" y="7872"/>
                </a:moveTo>
                <a:lnTo>
                  <a:pt x="136115" y="7959"/>
                </a:lnTo>
                <a:cubicBezTo>
                  <a:pt x="191516" y="68746"/>
                  <a:pt x="226826" y="144366"/>
                  <a:pt x="234105" y="224421"/>
                </a:cubicBezTo>
                <a:cubicBezTo>
                  <a:pt x="234082" y="224416"/>
                  <a:pt x="234059" y="224412"/>
                  <a:pt x="234036" y="224407"/>
                </a:cubicBezTo>
                <a:lnTo>
                  <a:pt x="233847" y="265305"/>
                </a:lnTo>
                <a:lnTo>
                  <a:pt x="488" y="265305"/>
                </a:lnTo>
                <a:cubicBezTo>
                  <a:pt x="7" y="263811"/>
                  <a:pt x="0" y="262308"/>
                  <a:pt x="0" y="260803"/>
                </a:cubicBezTo>
                <a:cubicBezTo>
                  <a:pt x="0" y="121113"/>
                  <a:pt x="51210" y="-37372"/>
                  <a:pt x="135654" y="7872"/>
                </a:cubicBezTo>
                <a:close/>
              </a:path>
            </a:pathLst>
          </a:custGeom>
          <a:solidFill>
            <a:srgbClr val="550a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8" name="矩形 9"/>
          <p:cNvSpPr/>
          <p:nvPr/>
        </p:nvSpPr>
        <p:spPr>
          <a:xfrm>
            <a:off x="3390480" y="1394280"/>
            <a:ext cx="919440" cy="2374920"/>
          </a:xfrm>
          <a:custGeom>
            <a:avLst/>
            <a:gdLst>
              <a:gd name="textAreaLeft" fmla="*/ 0 w 919440"/>
              <a:gd name="textAreaRight" fmla="*/ 919800 w 919440"/>
              <a:gd name="textAreaTop" fmla="*/ 0 h 2374920"/>
              <a:gd name="textAreaBottom" fmla="*/ 2375280 h 2374920"/>
            </a:gdLst>
            <a:ahLst/>
            <a:rect l="textAreaLeft" t="textAreaTop" r="textAreaRight" b="textAreaBottom"/>
            <a:pathLst>
              <a:path w="1679363" h="4031979">
                <a:moveTo>
                  <a:pt x="1679363" y="0"/>
                </a:moveTo>
                <a:cubicBezTo>
                  <a:pt x="1577760" y="103402"/>
                  <a:pt x="1512941" y="232120"/>
                  <a:pt x="1499611" y="368414"/>
                </a:cubicBezTo>
                <a:lnTo>
                  <a:pt x="1499737" y="368391"/>
                </a:lnTo>
                <a:lnTo>
                  <a:pt x="1504573" y="3435216"/>
                </a:lnTo>
                <a:lnTo>
                  <a:pt x="1500753" y="3435916"/>
                </a:lnTo>
                <a:cubicBezTo>
                  <a:pt x="1484513" y="3568386"/>
                  <a:pt x="1495902" y="3761538"/>
                  <a:pt x="1315212" y="3792435"/>
                </a:cubicBezTo>
                <a:lnTo>
                  <a:pt x="0" y="4031979"/>
                </a:lnTo>
                <a:cubicBezTo>
                  <a:pt x="100022" y="3930187"/>
                  <a:pt x="164395" y="3803859"/>
                  <a:pt x="178548" y="3669861"/>
                </a:cubicBezTo>
                <a:cubicBezTo>
                  <a:pt x="177758" y="2650295"/>
                  <a:pt x="176967" y="1630729"/>
                  <a:pt x="176177" y="611163"/>
                </a:cubicBezTo>
                <a:lnTo>
                  <a:pt x="175546" y="611278"/>
                </a:lnTo>
                <a:lnTo>
                  <a:pt x="176175" y="608158"/>
                </a:lnTo>
                <a:cubicBezTo>
                  <a:pt x="176174" y="607611"/>
                  <a:pt x="176174" y="607064"/>
                  <a:pt x="176173" y="606516"/>
                </a:cubicBezTo>
                <a:lnTo>
                  <a:pt x="176518" y="606454"/>
                </a:lnTo>
                <a:cubicBezTo>
                  <a:pt x="191341" y="470188"/>
                  <a:pt x="176408" y="281156"/>
                  <a:pt x="364151" y="239544"/>
                </a:cubicBezTo>
                <a:lnTo>
                  <a:pt x="1679363" y="0"/>
                </a:lnTo>
                <a:close/>
              </a:path>
            </a:pathLst>
          </a:custGeom>
          <a:gradFill rotWithShape="0">
            <a:gsLst>
              <a:gs pos="0">
                <a:srgbClr val="f08200"/>
              </a:gs>
              <a:gs pos="100000">
                <a:srgbClr val="ff9b21">
                  <a:alpha val="50196"/>
                </a:srgbClr>
              </a:gs>
            </a:gsLst>
            <a:lin ang="5400000"/>
          </a:gradFill>
          <a:ln>
            <a:noFill/>
          </a:ln>
          <a:effectLst>
            <a:outerShdw algn="l" blurRad="38160" dist="1260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9" name="矩形 9"/>
          <p:cNvSpPr/>
          <p:nvPr/>
        </p:nvSpPr>
        <p:spPr>
          <a:xfrm flipH="1" rot="10800000">
            <a:off x="2458440" y="2425680"/>
            <a:ext cx="919080" cy="1344240"/>
          </a:xfrm>
          <a:custGeom>
            <a:avLst/>
            <a:gdLst>
              <a:gd name="textAreaLeft" fmla="*/ -360 w 919080"/>
              <a:gd name="textAreaRight" fmla="*/ 919080 w 919080"/>
              <a:gd name="textAreaTop" fmla="*/ 0 h 1344240"/>
              <a:gd name="textAreaBottom" fmla="*/ 1344600 h 1344240"/>
            </a:gdLst>
            <a:ahLst/>
            <a:rect l="textAreaLeft" t="textAreaTop" r="textAreaRight" b="textAreaBottom"/>
            <a:pathLst>
              <a:path w="919353" h="1344426">
                <a:moveTo>
                  <a:pt x="0" y="1344426"/>
                </a:moveTo>
                <a:lnTo>
                  <a:pt x="720338" y="1203300"/>
                </a:lnTo>
                <a:cubicBezTo>
                  <a:pt x="823165" y="1178784"/>
                  <a:pt x="814986" y="1067417"/>
                  <a:pt x="823104" y="987136"/>
                </a:cubicBezTo>
                <a:lnTo>
                  <a:pt x="823293" y="987099"/>
                </a:lnTo>
                <a:cubicBezTo>
                  <a:pt x="823293" y="986777"/>
                  <a:pt x="823293" y="986454"/>
                  <a:pt x="823292" y="986132"/>
                </a:cubicBezTo>
                <a:lnTo>
                  <a:pt x="823637" y="984294"/>
                </a:lnTo>
                <a:lnTo>
                  <a:pt x="823291" y="984362"/>
                </a:lnTo>
                <a:cubicBezTo>
                  <a:pt x="823215" y="879121"/>
                  <a:pt x="823140" y="773881"/>
                  <a:pt x="823064" y="668641"/>
                </a:cubicBezTo>
                <a:cubicBezTo>
                  <a:pt x="822367" y="518106"/>
                  <a:pt x="821669" y="367571"/>
                  <a:pt x="820972" y="217036"/>
                </a:cubicBezTo>
                <a:cubicBezTo>
                  <a:pt x="820949" y="217041"/>
                  <a:pt x="820926" y="217045"/>
                  <a:pt x="820903" y="217050"/>
                </a:cubicBezTo>
                <a:cubicBezTo>
                  <a:pt x="828204" y="136753"/>
                  <a:pt x="863705" y="60919"/>
                  <a:pt x="919353" y="0"/>
                </a:cubicBezTo>
                <a:lnTo>
                  <a:pt x="199015" y="141126"/>
                </a:lnTo>
                <a:cubicBezTo>
                  <a:pt x="96188" y="165642"/>
                  <a:pt x="104367" y="277009"/>
                  <a:pt x="96249" y="357290"/>
                </a:cubicBezTo>
                <a:lnTo>
                  <a:pt x="96060" y="357327"/>
                </a:lnTo>
                <a:cubicBezTo>
                  <a:pt x="96060" y="357649"/>
                  <a:pt x="96060" y="357972"/>
                  <a:pt x="96061" y="358294"/>
                </a:cubicBezTo>
                <a:lnTo>
                  <a:pt x="95716" y="360132"/>
                </a:lnTo>
                <a:lnTo>
                  <a:pt x="96062" y="360064"/>
                </a:lnTo>
                <a:cubicBezTo>
                  <a:pt x="96138" y="465305"/>
                  <a:pt x="96213" y="570545"/>
                  <a:pt x="96289" y="675785"/>
                </a:cubicBezTo>
                <a:cubicBezTo>
                  <a:pt x="96986" y="826320"/>
                  <a:pt x="97684" y="976855"/>
                  <a:pt x="98381" y="1127390"/>
                </a:cubicBezTo>
                <a:cubicBezTo>
                  <a:pt x="98404" y="1127385"/>
                  <a:pt x="98427" y="1127381"/>
                  <a:pt x="98450" y="1127376"/>
                </a:cubicBezTo>
                <a:cubicBezTo>
                  <a:pt x="91149" y="1207673"/>
                  <a:pt x="55648" y="1283507"/>
                  <a:pt x="0" y="1344426"/>
                </a:cubicBezTo>
                <a:close/>
              </a:path>
            </a:pathLst>
          </a:custGeom>
          <a:gradFill rotWithShape="0">
            <a:gsLst>
              <a:gs pos="0">
                <a:srgbClr val="740e00"/>
              </a:gs>
              <a:gs pos="100000">
                <a:srgbClr val="e5bc93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5"/>
          <a:srcRect l="2784" t="0" r="7203" b="57667"/>
          <a:stretch/>
        </p:blipFill>
        <p:spPr>
          <a:xfrm flipH="1" rot="685200">
            <a:off x="2552040" y="2567880"/>
            <a:ext cx="733320" cy="45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6"/>
          <a:srcRect l="2784" t="0" r="7203" b="57667"/>
          <a:stretch/>
        </p:blipFill>
        <p:spPr>
          <a:xfrm flipH="1" rot="11485200">
            <a:off x="2561760" y="3568320"/>
            <a:ext cx="733320" cy="45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7"/>
          <a:srcRect l="2784" t="0" r="7203" b="57667"/>
          <a:stretch/>
        </p:blipFill>
        <p:spPr>
          <a:xfrm rot="20914800">
            <a:off x="3489120" y="1536840"/>
            <a:ext cx="733320" cy="45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8"/>
          <a:srcRect l="2784" t="0" r="7203" b="57667"/>
          <a:stretch/>
        </p:blipFill>
        <p:spPr>
          <a:xfrm rot="10114800">
            <a:off x="3486600" y="3566880"/>
            <a:ext cx="733320" cy="45360"/>
          </a:xfrm>
          <a:prstGeom prst="rect">
            <a:avLst/>
          </a:prstGeom>
          <a:ln w="0">
            <a:noFill/>
          </a:ln>
        </p:spPr>
      </p:pic>
      <p:sp>
        <p:nvSpPr>
          <p:cNvPr id="334" name="矩形 9"/>
          <p:cNvSpPr/>
          <p:nvPr/>
        </p:nvSpPr>
        <p:spPr>
          <a:xfrm flipH="1" rot="10800000">
            <a:off x="4322880" y="1395720"/>
            <a:ext cx="919440" cy="2879640"/>
          </a:xfrm>
          <a:custGeom>
            <a:avLst/>
            <a:gdLst>
              <a:gd name="textAreaLeft" fmla="*/ 360 w 919440"/>
              <a:gd name="textAreaRight" fmla="*/ 920160 w 919440"/>
              <a:gd name="textAreaTop" fmla="*/ 0 h 2879640"/>
              <a:gd name="textAreaBottom" fmla="*/ 2880000 h 2879640"/>
            </a:gdLst>
            <a:ahLst/>
            <a:rect l="textAreaLeft" t="textAreaTop" r="textAreaRight" b="textAreaBottom"/>
            <a:pathLst>
              <a:path w="919927" h="2880099">
                <a:moveTo>
                  <a:pt x="0" y="2880099"/>
                </a:moveTo>
                <a:lnTo>
                  <a:pt x="720338" y="2738973"/>
                </a:lnTo>
                <a:cubicBezTo>
                  <a:pt x="823165" y="2714457"/>
                  <a:pt x="814986" y="2603090"/>
                  <a:pt x="823104" y="2522809"/>
                </a:cubicBezTo>
                <a:lnTo>
                  <a:pt x="823293" y="2522772"/>
                </a:lnTo>
                <a:cubicBezTo>
                  <a:pt x="823293" y="2522450"/>
                  <a:pt x="823293" y="2522127"/>
                  <a:pt x="823292" y="2521805"/>
                </a:cubicBezTo>
                <a:lnTo>
                  <a:pt x="823637" y="2519967"/>
                </a:lnTo>
                <a:lnTo>
                  <a:pt x="823291" y="2520035"/>
                </a:lnTo>
                <a:cubicBezTo>
                  <a:pt x="823217" y="2417614"/>
                  <a:pt x="823144" y="2315194"/>
                  <a:pt x="823070" y="2212773"/>
                </a:cubicBezTo>
                <a:lnTo>
                  <a:pt x="824594" y="666358"/>
                </a:lnTo>
                <a:lnTo>
                  <a:pt x="823628" y="666358"/>
                </a:lnTo>
                <a:lnTo>
                  <a:pt x="821546" y="217036"/>
                </a:lnTo>
                <a:cubicBezTo>
                  <a:pt x="821523" y="217041"/>
                  <a:pt x="821500" y="217045"/>
                  <a:pt x="821477" y="217050"/>
                </a:cubicBezTo>
                <a:cubicBezTo>
                  <a:pt x="828778" y="136753"/>
                  <a:pt x="864279" y="60919"/>
                  <a:pt x="919927" y="0"/>
                </a:cubicBezTo>
                <a:lnTo>
                  <a:pt x="199589" y="141126"/>
                </a:lnTo>
                <a:cubicBezTo>
                  <a:pt x="96762" y="165642"/>
                  <a:pt x="104941" y="277009"/>
                  <a:pt x="96823" y="357290"/>
                </a:cubicBezTo>
                <a:lnTo>
                  <a:pt x="96634" y="357327"/>
                </a:lnTo>
                <a:cubicBezTo>
                  <a:pt x="96634" y="357649"/>
                  <a:pt x="96634" y="357972"/>
                  <a:pt x="96635" y="358294"/>
                </a:cubicBezTo>
                <a:lnTo>
                  <a:pt x="96290" y="360132"/>
                </a:lnTo>
                <a:lnTo>
                  <a:pt x="96636" y="360064"/>
                </a:lnTo>
                <a:cubicBezTo>
                  <a:pt x="96709" y="462162"/>
                  <a:pt x="96783" y="564260"/>
                  <a:pt x="96856" y="666358"/>
                </a:cubicBezTo>
                <a:lnTo>
                  <a:pt x="96290" y="666358"/>
                </a:lnTo>
                <a:lnTo>
                  <a:pt x="96290" y="2200074"/>
                </a:lnTo>
                <a:lnTo>
                  <a:pt x="98381" y="2663063"/>
                </a:lnTo>
                <a:cubicBezTo>
                  <a:pt x="98404" y="2663058"/>
                  <a:pt x="98427" y="2663054"/>
                  <a:pt x="98450" y="2663049"/>
                </a:cubicBezTo>
                <a:cubicBezTo>
                  <a:pt x="91149" y="2743346"/>
                  <a:pt x="55648" y="2819180"/>
                  <a:pt x="0" y="2880099"/>
                </a:cubicBezTo>
                <a:close/>
              </a:path>
            </a:pathLst>
          </a:custGeom>
          <a:gradFill rotWithShape="0">
            <a:gsLst>
              <a:gs pos="0">
                <a:srgbClr val="9e6226"/>
              </a:gs>
              <a:gs pos="100000">
                <a:srgbClr val="dca56e">
                  <a:alpha val="50196"/>
                </a:srgbClr>
              </a:gs>
            </a:gsLst>
            <a:lin ang="16200000"/>
          </a:gradFill>
          <a:ln>
            <a:noFill/>
          </a:ln>
          <a:effectLst>
            <a:outerShdw algn="tr" blurRad="50760" dir="8100000" dist="37674" rotWithShape="0" sx="96000" sy="96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9"/>
          <a:srcRect l="2784" t="0" r="7203" b="57667"/>
          <a:stretch/>
        </p:blipFill>
        <p:spPr>
          <a:xfrm flipH="1" rot="685200">
            <a:off x="4406400" y="1536840"/>
            <a:ext cx="733320" cy="45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10">
            <a:extLst>
              <a:ext uri="{BEBA8EAE-BF5A-486C-A8C5-ECC9F3942E4B}">
                <a14:imgProps xmlns:a14="http://schemas.microsoft.com/office/drawing/2010/main">
                  <a14:imgLayer r:embed="rId11">
                    <a14:imgEffect>
                      <a14:saturation sat="200000"/>
                    </a14:imgEffect>
                  </a14:imgLayer>
                </a14:imgProps>
              </a:ext>
            </a:extLst>
          </a:blip>
          <a:srcRect l="2754" t="0" r="7197" b="57667"/>
          <a:stretch/>
        </p:blipFill>
        <p:spPr>
          <a:xfrm flipH="1" rot="11485200">
            <a:off x="4410360" y="4072320"/>
            <a:ext cx="733320" cy="45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9"/>
          <p:cNvSpPr/>
          <p:nvPr/>
        </p:nvSpPr>
        <p:spPr>
          <a:xfrm>
            <a:off x="5254200" y="622440"/>
            <a:ext cx="919080" cy="3652560"/>
          </a:xfrm>
          <a:custGeom>
            <a:avLst/>
            <a:gdLst>
              <a:gd name="textAreaLeft" fmla="*/ 0 w 919080"/>
              <a:gd name="textAreaRight" fmla="*/ 919440 w 919080"/>
              <a:gd name="textAreaTop" fmla="*/ 0 h 3652560"/>
              <a:gd name="textAreaBottom" fmla="*/ 3652920 h 3652560"/>
            </a:gdLst>
            <a:ahLst/>
            <a:rect l="textAreaLeft" t="textAreaTop" r="textAreaRight" b="textAreaBottom"/>
            <a:pathLst>
              <a:path w="919391" h="3652965">
                <a:moveTo>
                  <a:pt x="919391" y="0"/>
                </a:moveTo>
                <a:cubicBezTo>
                  <a:pt x="864609" y="59970"/>
                  <a:pt x="829352" y="134396"/>
                  <a:pt x="821600" y="213340"/>
                </a:cubicBezTo>
                <a:lnTo>
                  <a:pt x="822220" y="1071993"/>
                </a:lnTo>
                <a:lnTo>
                  <a:pt x="823644" y="1071993"/>
                </a:lnTo>
                <a:lnTo>
                  <a:pt x="823644" y="2666512"/>
                </a:lnTo>
                <a:lnTo>
                  <a:pt x="823121" y="2666512"/>
                </a:lnTo>
                <a:lnTo>
                  <a:pt x="824051" y="3301385"/>
                </a:lnTo>
                <a:lnTo>
                  <a:pt x="821959" y="3301797"/>
                </a:lnTo>
                <a:cubicBezTo>
                  <a:pt x="813064" y="3379841"/>
                  <a:pt x="819302" y="3493636"/>
                  <a:pt x="720339" y="3511839"/>
                </a:cubicBezTo>
                <a:lnTo>
                  <a:pt x="0" y="3652965"/>
                </a:lnTo>
                <a:cubicBezTo>
                  <a:pt x="54782" y="3592995"/>
                  <a:pt x="90039" y="3518569"/>
                  <a:pt x="97791" y="3439625"/>
                </a:cubicBezTo>
                <a:lnTo>
                  <a:pt x="97233" y="2666512"/>
                </a:lnTo>
                <a:lnTo>
                  <a:pt x="95341" y="2666512"/>
                </a:lnTo>
                <a:lnTo>
                  <a:pt x="95341" y="1071993"/>
                </a:lnTo>
                <a:lnTo>
                  <a:pt x="96396" y="1071993"/>
                </a:lnTo>
                <a:lnTo>
                  <a:pt x="95340" y="351580"/>
                </a:lnTo>
                <a:lnTo>
                  <a:pt x="97432" y="351168"/>
                </a:lnTo>
                <a:cubicBezTo>
                  <a:pt x="106327" y="273124"/>
                  <a:pt x="100089" y="159329"/>
                  <a:pt x="199052" y="141126"/>
                </a:cubicBezTo>
                <a:close/>
              </a:path>
            </a:pathLst>
          </a:custGeom>
          <a:gradFill rotWithShape="0">
            <a:gsLst>
              <a:gs pos="0">
                <a:srgbClr val="14a0c8"/>
              </a:gs>
              <a:gs pos="100000">
                <a:srgbClr val="63bed2">
                  <a:alpha val="50196"/>
                </a:srgbClr>
              </a:gs>
            </a:gsLst>
            <a:lin ang="5400000"/>
          </a:gradFill>
          <a:ln>
            <a:noFill/>
          </a:ln>
          <a:effectLst>
            <a:outerShdw algn="r" blurRad="50760" dir="10800000" dist="1260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2"/>
          <a:srcRect l="2784" t="0" r="7203" b="57667"/>
          <a:stretch/>
        </p:blipFill>
        <p:spPr>
          <a:xfrm rot="10114800">
            <a:off x="5340240" y="4072320"/>
            <a:ext cx="733320" cy="453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13"/>
          <a:srcRect l="2784" t="0" r="7203" b="57667"/>
          <a:stretch/>
        </p:blipFill>
        <p:spPr>
          <a:xfrm rot="20914800">
            <a:off x="5339880" y="771840"/>
            <a:ext cx="733320" cy="45360"/>
          </a:xfrm>
          <a:prstGeom prst="rect">
            <a:avLst/>
          </a:prstGeom>
          <a:ln w="0">
            <a:noFill/>
          </a:ln>
        </p:spPr>
      </p:pic>
      <p:sp>
        <p:nvSpPr>
          <p:cNvPr id="340" name="TextBox 61"/>
          <p:cNvSpPr/>
          <p:nvPr/>
        </p:nvSpPr>
        <p:spPr>
          <a:xfrm>
            <a:off x="2514240" y="2685600"/>
            <a:ext cx="829080" cy="51624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62"/>
          <p:cNvSpPr/>
          <p:nvPr/>
        </p:nvSpPr>
        <p:spPr>
          <a:xfrm>
            <a:off x="3442680" y="2257920"/>
            <a:ext cx="829080" cy="51624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64"/>
          <p:cNvSpPr/>
          <p:nvPr/>
        </p:nvSpPr>
        <p:spPr>
          <a:xfrm>
            <a:off x="4371120" y="1829880"/>
            <a:ext cx="829080" cy="51624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5"/>
          <p:cNvSpPr/>
          <p:nvPr/>
        </p:nvSpPr>
        <p:spPr>
          <a:xfrm>
            <a:off x="5299200" y="1401840"/>
            <a:ext cx="829080" cy="516240"/>
          </a:xfrm>
          <a:prstGeom prst="rect">
            <a:avLst/>
          </a:prstGeom>
          <a:noFill/>
          <a:ln w="0">
            <a:noFill/>
          </a:ln>
          <a:scene3d>
            <a:camera prst="orthographicFront"/>
            <a:lightRig dir="t" rig="threePt"/>
          </a:scene3d>
          <a:sp3d prstMaterial="matte"/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66"/>
          <p:cNvSpPr/>
          <p:nvPr/>
        </p:nvSpPr>
        <p:spPr>
          <a:xfrm>
            <a:off x="2512080" y="3080520"/>
            <a:ext cx="833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71"/>
          <p:cNvSpPr/>
          <p:nvPr/>
        </p:nvSpPr>
        <p:spPr>
          <a:xfrm>
            <a:off x="3440520" y="2692440"/>
            <a:ext cx="833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72"/>
          <p:cNvSpPr/>
          <p:nvPr/>
        </p:nvSpPr>
        <p:spPr>
          <a:xfrm>
            <a:off x="4368960" y="2304360"/>
            <a:ext cx="833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73"/>
          <p:cNvSpPr/>
          <p:nvPr/>
        </p:nvSpPr>
        <p:spPr>
          <a:xfrm>
            <a:off x="5297400" y="1916280"/>
            <a:ext cx="833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 </a:t>
            </a:r>
            <a:r>
              <a:rPr b="1" lang="en-US" sz="1400" spc="-1" strike="noStrike">
                <a:solidFill>
                  <a:srgbClr val="404040"/>
                </a:solidFill>
                <a:latin typeface="바탕"/>
                <a:ea typeface="바탕"/>
              </a:rPr>
              <a:t>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74"/>
          <p:cNvGrpSpPr/>
          <p:nvPr/>
        </p:nvGrpSpPr>
        <p:grpSpPr>
          <a:xfrm>
            <a:off x="18720" y="4092480"/>
            <a:ext cx="2449080" cy="942840"/>
            <a:chOff x="18720" y="4092480"/>
            <a:chExt cx="2449080" cy="942840"/>
          </a:xfrm>
        </p:grpSpPr>
        <p:sp>
          <p:nvSpPr>
            <p:cNvPr id="349" name="TextBox 79"/>
            <p:cNvSpPr/>
            <p:nvPr/>
          </p:nvSpPr>
          <p:spPr>
            <a:xfrm>
              <a:off x="1872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81"/>
            <p:cNvSpPr/>
            <p:nvPr/>
          </p:nvSpPr>
          <p:spPr>
            <a:xfrm>
              <a:off x="782280" y="466308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740e00"/>
                </a:gs>
                <a:gs pos="100000">
                  <a:srgbClr val="e5bc93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1" name="矩形 82"/>
            <p:cNvSpPr/>
            <p:nvPr/>
          </p:nvSpPr>
          <p:spPr>
            <a:xfrm>
              <a:off x="1024200" y="466308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08200"/>
                </a:gs>
                <a:gs pos="100000">
                  <a:srgbClr val="ff9b21">
                    <a:alpha val="50196"/>
                  </a:srgbClr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2" name="矩形 83"/>
            <p:cNvSpPr/>
            <p:nvPr/>
          </p:nvSpPr>
          <p:spPr>
            <a:xfrm>
              <a:off x="1266120" y="466308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9e6226"/>
                </a:gs>
                <a:gs pos="100000">
                  <a:srgbClr val="dca56e">
                    <a:alpha val="50196"/>
                  </a:srgbClr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3" name="矩形 84"/>
            <p:cNvSpPr/>
            <p:nvPr/>
          </p:nvSpPr>
          <p:spPr>
            <a:xfrm>
              <a:off x="1507680" y="466308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14a0c8"/>
                </a:gs>
                <a:gs pos="100000">
                  <a:srgbClr val="63bed2">
                    <a:alpha val="50196"/>
                  </a:srgbClr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组合 4"/>
          <p:cNvGrpSpPr/>
          <p:nvPr/>
        </p:nvGrpSpPr>
        <p:grpSpPr>
          <a:xfrm>
            <a:off x="2446200" y="538200"/>
            <a:ext cx="4252680" cy="4224600"/>
            <a:chOff x="2446200" y="538200"/>
            <a:chExt cx="4252680" cy="4224600"/>
          </a:xfrm>
        </p:grpSpPr>
        <p:sp>
          <p:nvSpPr>
            <p:cNvPr id="355" name="平行四边形 2"/>
            <p:cNvSpPr/>
            <p:nvPr/>
          </p:nvSpPr>
          <p:spPr>
            <a:xfrm rot="2353800">
              <a:off x="3018600" y="2766240"/>
              <a:ext cx="902160" cy="649080"/>
            </a:xfrm>
            <a:custGeom>
              <a:avLst/>
              <a:gdLst>
                <a:gd name="textAreaLeft" fmla="*/ 0 w 902160"/>
                <a:gd name="textAreaRight" fmla="*/ 902520 w 90216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901770" h="612000">
                  <a:moveTo>
                    <a:pt x="0" y="612000"/>
                  </a:moveTo>
                  <a:lnTo>
                    <a:pt x="143655" y="0"/>
                  </a:lnTo>
                  <a:lnTo>
                    <a:pt x="894617" y="6980"/>
                  </a:lnTo>
                  <a:cubicBezTo>
                    <a:pt x="892431" y="197573"/>
                    <a:pt x="903673" y="398951"/>
                    <a:pt x="901487" y="589544"/>
                  </a:cubicBezTo>
                  <a:lnTo>
                    <a:pt x="0" y="612000"/>
                  </a:lnTo>
                  <a:close/>
                </a:path>
              </a:pathLst>
            </a:custGeom>
            <a:gradFill rotWithShape="0">
              <a:gsLst>
                <a:gs pos="0">
                  <a:srgbClr val="fb8d65"/>
                </a:gs>
                <a:gs pos="100000">
                  <a:srgbClr val="d36553"/>
                </a:gs>
              </a:gsLst>
              <a:lin ang="13152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6" name="平行四边形 2"/>
            <p:cNvSpPr/>
            <p:nvPr/>
          </p:nvSpPr>
          <p:spPr>
            <a:xfrm flipV="1" rot="8460000">
              <a:off x="5067720" y="2610000"/>
              <a:ext cx="1618920" cy="612360"/>
            </a:xfrm>
            <a:custGeom>
              <a:avLst/>
              <a:gdLst>
                <a:gd name="textAreaLeft" fmla="*/ 0 w 1618920"/>
                <a:gd name="textAreaRight" fmla="*/ 1619280 w 1618920"/>
                <a:gd name="textAreaTop" fmla="*/ -360 h 612360"/>
                <a:gd name="textAreaBottom" fmla="*/ 612360 h 612360"/>
              </a:gdLst>
              <a:ahLst/>
              <a:rect l="textAreaLeft" t="textAreaTop" r="textAreaRight" b="textAreaBottom"/>
              <a:pathLst>
                <a:path w="1620000" h="612081">
                  <a:moveTo>
                    <a:pt x="0" y="612000"/>
                  </a:moveTo>
                  <a:lnTo>
                    <a:pt x="143655" y="0"/>
                  </a:lnTo>
                  <a:lnTo>
                    <a:pt x="1620000" y="0"/>
                  </a:lnTo>
                  <a:lnTo>
                    <a:pt x="1525434" y="612081"/>
                  </a:lnTo>
                  <a:lnTo>
                    <a:pt x="0" y="612000"/>
                  </a:lnTo>
                  <a:close/>
                </a:path>
              </a:pathLst>
            </a:custGeom>
            <a:gradFill rotWithShape="0">
              <a:gsLst>
                <a:gs pos="0">
                  <a:srgbClr val="513e38"/>
                </a:gs>
                <a:gs pos="100000">
                  <a:srgbClr val="614b4d"/>
                </a:gs>
              </a:gsLst>
              <a:lin ang="1926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7" name="平行四边形 2"/>
            <p:cNvSpPr/>
            <p:nvPr/>
          </p:nvSpPr>
          <p:spPr>
            <a:xfrm rot="7740000">
              <a:off x="3669480" y="1263600"/>
              <a:ext cx="920520" cy="64728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921393" h="612000">
                  <a:moveTo>
                    <a:pt x="0" y="612000"/>
                  </a:moveTo>
                  <a:lnTo>
                    <a:pt x="143655" y="0"/>
                  </a:lnTo>
                  <a:lnTo>
                    <a:pt x="921393" y="9538"/>
                  </a:lnTo>
                  <a:cubicBezTo>
                    <a:pt x="919207" y="200131"/>
                    <a:pt x="891788" y="399411"/>
                    <a:pt x="889602" y="590004"/>
                  </a:cubicBezTo>
                  <a:lnTo>
                    <a:pt x="0" y="612000"/>
                  </a:lnTo>
                  <a:close/>
                </a:path>
              </a:pathLst>
            </a:custGeom>
            <a:gradFill rotWithShape="0">
              <a:gsLst>
                <a:gs pos="0">
                  <a:srgbClr val="34a6ad"/>
                </a:gs>
                <a:gs pos="100000">
                  <a:srgbClr val="1e8394"/>
                </a:gs>
              </a:gsLst>
              <a:lin ang="1854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8" name="平行四边形 2"/>
            <p:cNvSpPr/>
            <p:nvPr/>
          </p:nvSpPr>
          <p:spPr>
            <a:xfrm rot="13140000">
              <a:off x="5185080" y="1903680"/>
              <a:ext cx="920520" cy="64728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921393" h="612000">
                  <a:moveTo>
                    <a:pt x="0" y="612000"/>
                  </a:moveTo>
                  <a:lnTo>
                    <a:pt x="143655" y="0"/>
                  </a:lnTo>
                  <a:lnTo>
                    <a:pt x="921393" y="9538"/>
                  </a:lnTo>
                  <a:cubicBezTo>
                    <a:pt x="919207" y="200131"/>
                    <a:pt x="891788" y="399411"/>
                    <a:pt x="889602" y="590004"/>
                  </a:cubicBezTo>
                  <a:lnTo>
                    <a:pt x="0" y="612000"/>
                  </a:lnTo>
                  <a:close/>
                </a:path>
              </a:pathLst>
            </a:custGeom>
            <a:gradFill rotWithShape="0">
              <a:gsLst>
                <a:gs pos="0">
                  <a:srgbClr val="604544"/>
                </a:gs>
                <a:gs pos="100000">
                  <a:srgbClr val="412e3c"/>
                </a:gs>
              </a:gsLst>
              <a:lin ang="234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9" name="平行四边形 2"/>
            <p:cNvSpPr/>
            <p:nvPr/>
          </p:nvSpPr>
          <p:spPr>
            <a:xfrm rot="18540000">
              <a:off x="4547520" y="3420360"/>
              <a:ext cx="920520" cy="64908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921393" h="612000">
                  <a:moveTo>
                    <a:pt x="0" y="612000"/>
                  </a:moveTo>
                  <a:lnTo>
                    <a:pt x="143655" y="0"/>
                  </a:lnTo>
                  <a:lnTo>
                    <a:pt x="921393" y="9538"/>
                  </a:lnTo>
                  <a:cubicBezTo>
                    <a:pt x="919207" y="200131"/>
                    <a:pt x="891788" y="399411"/>
                    <a:pt x="889602" y="590004"/>
                  </a:cubicBezTo>
                  <a:lnTo>
                    <a:pt x="0" y="612000"/>
                  </a:lnTo>
                  <a:close/>
                </a:path>
              </a:pathLst>
            </a:custGeom>
            <a:gradFill rotWithShape="0">
              <a:gsLst>
                <a:gs pos="0">
                  <a:srgbClr val="95d09b"/>
                </a:gs>
                <a:gs pos="100000">
                  <a:srgbClr val="60c199"/>
                </a:gs>
              </a:gsLst>
              <a:lin ang="774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60" name="组合 15"/>
            <p:cNvGrpSpPr/>
            <p:nvPr/>
          </p:nvGrpSpPr>
          <p:grpSpPr>
            <a:xfrm>
              <a:off x="5155920" y="2269080"/>
              <a:ext cx="1420200" cy="1291680"/>
              <a:chOff x="5155920" y="2269080"/>
              <a:chExt cx="1420200" cy="1291680"/>
            </a:xfrm>
          </p:grpSpPr>
          <p:sp>
            <p:nvSpPr>
              <p:cNvPr id="361" name="TextBox 16"/>
              <p:cNvSpPr/>
              <p:nvPr/>
            </p:nvSpPr>
            <p:spPr>
              <a:xfrm flipH="1" rot="19231200">
                <a:off x="5671080" y="2447640"/>
                <a:ext cx="791640" cy="638280"/>
              </a:xfrm>
              <a:prstGeom prst="rect">
                <a:avLst/>
              </a:prstGeom>
              <a:noFill/>
              <a:ln w="0">
                <a:noFill/>
              </a:ln>
              <a:scene3d>
                <a:camera prst="orthographicFront"/>
                <a:lightRig dir="t" rig="threePt"/>
              </a:scene3d>
              <a:sp3d prstMaterial="matte"/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矩形 17"/>
              <p:cNvSpPr/>
              <p:nvPr/>
            </p:nvSpPr>
            <p:spPr>
              <a:xfrm flipH="1" rot="19231200">
                <a:off x="5216040" y="2922840"/>
                <a:ext cx="737280" cy="45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平行四边形 2"/>
            <p:cNvSpPr/>
            <p:nvPr/>
          </p:nvSpPr>
          <p:spPr>
            <a:xfrm flipV="1" rot="3060000">
              <a:off x="4008600" y="1053360"/>
              <a:ext cx="1618920" cy="612360"/>
            </a:xfrm>
            <a:custGeom>
              <a:avLst/>
              <a:gdLst>
                <a:gd name="textAreaLeft" fmla="*/ 0 w 1618920"/>
                <a:gd name="textAreaRight" fmla="*/ 1619280 w 1618920"/>
                <a:gd name="textAreaTop" fmla="*/ -360 h 612360"/>
                <a:gd name="textAreaBottom" fmla="*/ 612360 h 612360"/>
              </a:gdLst>
              <a:ahLst/>
              <a:rect l="textAreaLeft" t="textAreaTop" r="textAreaRight" b="textAreaBottom"/>
              <a:pathLst>
                <a:path w="1620000" h="612081">
                  <a:moveTo>
                    <a:pt x="0" y="612000"/>
                  </a:moveTo>
                  <a:lnTo>
                    <a:pt x="143655" y="0"/>
                  </a:lnTo>
                  <a:lnTo>
                    <a:pt x="1620000" y="0"/>
                  </a:lnTo>
                  <a:lnTo>
                    <a:pt x="1525434" y="612081"/>
                  </a:lnTo>
                  <a:lnTo>
                    <a:pt x="0" y="612000"/>
                  </a:lnTo>
                  <a:close/>
                </a:path>
              </a:pathLst>
            </a:custGeom>
            <a:gradFill rotWithShape="0">
              <a:gsLst>
                <a:gs pos="0">
                  <a:srgbClr val="43b8b9"/>
                </a:gs>
                <a:gs pos="100000">
                  <a:srgbClr val="84cdc6"/>
                </a:gs>
              </a:gsLst>
              <a:lin ang="1386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64" name="组合 18"/>
            <p:cNvGrpSpPr/>
            <p:nvPr/>
          </p:nvGrpSpPr>
          <p:grpSpPr>
            <a:xfrm>
              <a:off x="4162680" y="636840"/>
              <a:ext cx="1278000" cy="1435320"/>
              <a:chOff x="4162680" y="636840"/>
              <a:chExt cx="1278000" cy="1435320"/>
            </a:xfrm>
          </p:grpSpPr>
          <p:sp>
            <p:nvSpPr>
              <p:cNvPr id="365" name="TextBox 19"/>
              <p:cNvSpPr/>
              <p:nvPr/>
            </p:nvSpPr>
            <p:spPr>
              <a:xfrm flipH="1" rot="3122400">
                <a:off x="4261680" y="825480"/>
                <a:ext cx="790920" cy="638280"/>
              </a:xfrm>
              <a:prstGeom prst="rect">
                <a:avLst/>
              </a:prstGeom>
              <a:noFill/>
              <a:ln w="0">
                <a:noFill/>
              </a:ln>
              <a:scene3d>
                <a:camera prst="orthographicFront"/>
                <a:lightRig dir="t" rig="threePt"/>
              </a:scene3d>
              <a:sp3d prstMaterial="matte"/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comic"/>
                    <a:ea typeface="宋体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矩形 20"/>
              <p:cNvSpPr/>
              <p:nvPr/>
            </p:nvSpPr>
            <p:spPr>
              <a:xfrm flipH="1" rot="3064200">
                <a:off x="4663080" y="1415520"/>
                <a:ext cx="737280" cy="4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Samp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바탕"/>
                    <a:ea typeface="바탕"/>
                  </a:rPr>
                  <a:t>tit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组合 5"/>
            <p:cNvGrpSpPr/>
            <p:nvPr/>
          </p:nvGrpSpPr>
          <p:grpSpPr>
            <a:xfrm>
              <a:off x="3535200" y="3119400"/>
              <a:ext cx="1494360" cy="1643400"/>
              <a:chOff x="3535200" y="3119400"/>
              <a:chExt cx="1494360" cy="1643400"/>
            </a:xfrm>
          </p:grpSpPr>
          <p:sp>
            <p:nvSpPr>
              <p:cNvPr id="368" name="平行四边形 2"/>
              <p:cNvSpPr/>
              <p:nvPr/>
            </p:nvSpPr>
            <p:spPr>
              <a:xfrm flipV="1" rot="3060000">
                <a:off x="3471840" y="3635280"/>
                <a:ext cx="1620360" cy="610560"/>
              </a:xfrm>
              <a:custGeom>
                <a:avLst/>
                <a:gdLst>
                  <a:gd name="textAreaLeft" fmla="*/ 0 w 1620360"/>
                  <a:gd name="textAreaRight" fmla="*/ 1620720 w 1620360"/>
                  <a:gd name="textAreaTop" fmla="*/ 360 h 610560"/>
                  <a:gd name="textAreaBottom" fmla="*/ 611280 h 610560"/>
                </a:gdLst>
                <a:ahLst/>
                <a:rect l="textAreaLeft" t="textAreaTop" r="textAreaRight" b="textAreaBottom"/>
                <a:pathLst>
                  <a:path w="1620000" h="612081">
                    <a:moveTo>
                      <a:pt x="0" y="612000"/>
                    </a:moveTo>
                    <a:lnTo>
                      <a:pt x="143655" y="0"/>
                    </a:lnTo>
                    <a:lnTo>
                      <a:pt x="1620000" y="0"/>
                    </a:lnTo>
                    <a:lnTo>
                      <a:pt x="1525434" y="612081"/>
                    </a:lnTo>
                    <a:lnTo>
                      <a:pt x="0" y="6120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d09d"/>
                  </a:gs>
                  <a:gs pos="100000">
                    <a:srgbClr val="c2e6c6"/>
                  </a:gs>
                </a:gsLst>
                <a:lin ang="1386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369" name="组合 22"/>
              <p:cNvGrpSpPr/>
              <p:nvPr/>
            </p:nvGrpSpPr>
            <p:grpSpPr>
              <a:xfrm>
                <a:off x="3710520" y="3303000"/>
                <a:ext cx="1301400" cy="1412640"/>
                <a:chOff x="3710520" y="3303000"/>
                <a:chExt cx="1301400" cy="1412640"/>
              </a:xfrm>
            </p:grpSpPr>
            <p:sp>
              <p:nvSpPr>
                <p:cNvPr id="370" name="TextBox 23"/>
                <p:cNvSpPr/>
                <p:nvPr/>
              </p:nvSpPr>
              <p:spPr>
                <a:xfrm flipH="1" rot="2980800">
                  <a:off x="4115880" y="3888000"/>
                  <a:ext cx="791640" cy="638280"/>
                </a:xfrm>
                <a:prstGeom prst="rect">
                  <a:avLst/>
                </a:prstGeom>
                <a:noFill/>
                <a:ln w="0">
                  <a:noFill/>
                </a:ln>
                <a:scene3d>
                  <a:camera prst="orthographicFront"/>
                  <a:lightRig dir="t" rig="threePt"/>
                </a:scene3d>
                <a:sp3d prstMaterial="matte"/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3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矩形 24"/>
                <p:cNvSpPr/>
                <p:nvPr/>
              </p:nvSpPr>
              <p:spPr>
                <a:xfrm flipH="1" rot="2980800">
                  <a:off x="3753000" y="3503880"/>
                  <a:ext cx="737280" cy="45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2" name="组合 7"/>
            <p:cNvGrpSpPr/>
            <p:nvPr/>
          </p:nvGrpSpPr>
          <p:grpSpPr>
            <a:xfrm>
              <a:off x="2446200" y="1668600"/>
              <a:ext cx="1643400" cy="1494360"/>
              <a:chOff x="2446200" y="1668600"/>
              <a:chExt cx="1643400" cy="1494360"/>
            </a:xfrm>
          </p:grpSpPr>
          <p:sp>
            <p:nvSpPr>
              <p:cNvPr id="373" name="平行四边形 2"/>
              <p:cNvSpPr/>
              <p:nvPr/>
            </p:nvSpPr>
            <p:spPr>
              <a:xfrm flipH="1" rot="8460000">
                <a:off x="2457360" y="2110320"/>
                <a:ext cx="1620360" cy="610560"/>
              </a:xfrm>
              <a:custGeom>
                <a:avLst/>
                <a:gdLst>
                  <a:gd name="textAreaLeft" fmla="*/ -360 w 1620360"/>
                  <a:gd name="textAreaRight" fmla="*/ 1620360 w 1620360"/>
                  <a:gd name="textAreaTop" fmla="*/ 0 h 610560"/>
                  <a:gd name="textAreaBottom" fmla="*/ 610920 h 610560"/>
                </a:gdLst>
                <a:ahLst/>
                <a:rect l="textAreaLeft" t="textAreaTop" r="textAreaRight" b="textAreaBottom"/>
                <a:pathLst>
                  <a:path w="1620000" h="612081">
                    <a:moveTo>
                      <a:pt x="0" y="612000"/>
                    </a:moveTo>
                    <a:lnTo>
                      <a:pt x="143655" y="0"/>
                    </a:lnTo>
                    <a:lnTo>
                      <a:pt x="1620000" y="0"/>
                    </a:lnTo>
                    <a:lnTo>
                      <a:pt x="1525434" y="612081"/>
                    </a:lnTo>
                    <a:lnTo>
                      <a:pt x="0" y="6120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bc8b"/>
                  </a:gs>
                  <a:gs pos="100000">
                    <a:srgbClr val="f59a5f"/>
                  </a:gs>
                </a:gsLst>
                <a:lin ang="846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374" name="组合 25"/>
              <p:cNvGrpSpPr/>
              <p:nvPr/>
            </p:nvGrpSpPr>
            <p:grpSpPr>
              <a:xfrm>
                <a:off x="2508480" y="1829520"/>
                <a:ext cx="1433880" cy="1280160"/>
                <a:chOff x="2508480" y="1829520"/>
                <a:chExt cx="1433880" cy="1280160"/>
              </a:xfrm>
            </p:grpSpPr>
            <p:sp>
              <p:nvSpPr>
                <p:cNvPr id="375" name="TextBox 26"/>
                <p:cNvSpPr/>
                <p:nvPr/>
              </p:nvSpPr>
              <p:spPr>
                <a:xfrm flipH="1" rot="19228200">
                  <a:off x="2620800" y="2292480"/>
                  <a:ext cx="791640" cy="638280"/>
                </a:xfrm>
                <a:prstGeom prst="rect">
                  <a:avLst/>
                </a:prstGeom>
                <a:noFill/>
                <a:ln w="0">
                  <a:noFill/>
                </a:ln>
                <a:scene3d>
                  <a:camera prst="orthographicFront"/>
                  <a:lightRig dir="t" rig="threePt"/>
                </a:scene3d>
                <a:sp3d prstMaterial="matte"/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comic"/>
                      <a:ea typeface="宋体"/>
                    </a:rPr>
                    <a:t>04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矩形 27"/>
                <p:cNvSpPr/>
                <p:nvPr/>
              </p:nvSpPr>
              <p:spPr>
                <a:xfrm flipH="1" rot="19269600">
                  <a:off x="3143880" y="2010240"/>
                  <a:ext cx="73728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 </a:t>
                  </a:r>
                  <a:r>
                    <a:rPr b="1" lang="en-US" sz="1200" spc="-1" strike="noStrike">
                      <a:solidFill>
                        <a:srgbClr val="ffffff"/>
                      </a:solidFill>
                      <a:latin typeface="바탕"/>
                      <a:ea typeface="바탕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7" name="组合 3"/>
          <p:cNvGrpSpPr/>
          <p:nvPr/>
        </p:nvGrpSpPr>
        <p:grpSpPr>
          <a:xfrm>
            <a:off x="18720" y="4092480"/>
            <a:ext cx="2449080" cy="942840"/>
            <a:chOff x="18720" y="4092480"/>
            <a:chExt cx="2449080" cy="942840"/>
          </a:xfrm>
        </p:grpSpPr>
        <p:sp>
          <p:nvSpPr>
            <p:cNvPr id="378" name="TextBox 25"/>
            <p:cNvSpPr/>
            <p:nvPr/>
          </p:nvSpPr>
          <p:spPr>
            <a:xfrm>
              <a:off x="1872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组合 1"/>
            <p:cNvGrpSpPr/>
            <p:nvPr/>
          </p:nvGrpSpPr>
          <p:grpSpPr>
            <a:xfrm>
              <a:off x="772920" y="4663080"/>
              <a:ext cx="941040" cy="68040"/>
              <a:chOff x="772920" y="4663080"/>
              <a:chExt cx="941040" cy="68040"/>
            </a:xfrm>
          </p:grpSpPr>
          <p:sp>
            <p:nvSpPr>
              <p:cNvPr id="380" name="矩形 28"/>
              <p:cNvSpPr/>
              <p:nvPr/>
            </p:nvSpPr>
            <p:spPr>
              <a:xfrm>
                <a:off x="77292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604544"/>
                  </a:gs>
                  <a:gs pos="100000">
                    <a:srgbClr val="412e3c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81" name="矩形 29"/>
              <p:cNvSpPr/>
              <p:nvPr/>
            </p:nvSpPr>
            <p:spPr>
              <a:xfrm>
                <a:off x="102060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95d09b"/>
                  </a:gs>
                  <a:gs pos="100000">
                    <a:srgbClr val="60c199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82" name="矩形 30"/>
              <p:cNvSpPr/>
              <p:nvPr/>
            </p:nvSpPr>
            <p:spPr>
              <a:xfrm>
                <a:off x="126864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fb8d65"/>
                  </a:gs>
                  <a:gs pos="100000">
                    <a:srgbClr val="d36553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83" name="矩形 31"/>
              <p:cNvSpPr/>
              <p:nvPr/>
            </p:nvSpPr>
            <p:spPr>
              <a:xfrm>
                <a:off x="151632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34a6ad"/>
                  </a:gs>
                  <a:gs pos="100000">
                    <a:srgbClr val="1e8394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椭圆 5"/>
          <p:cNvSpPr/>
          <p:nvPr/>
        </p:nvSpPr>
        <p:spPr>
          <a:xfrm rot="14398800">
            <a:off x="2498760" y="2383560"/>
            <a:ext cx="2192400" cy="198036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980360"/>
              <a:gd name="textAreaBottom" fmla="*/ 1980720 h 1980360"/>
            </a:gdLst>
            <a:ahLst/>
            <a:rect l="textAreaLeft" t="textAreaTop" r="textAreaRight" b="textAreaBottom"/>
            <a:pathLst>
              <a:path w="2532508" h="2287660">
                <a:moveTo>
                  <a:pt x="1266254" y="0"/>
                </a:moveTo>
                <a:cubicBezTo>
                  <a:pt x="1965587" y="0"/>
                  <a:pt x="2532508" y="566921"/>
                  <a:pt x="2532508" y="1266254"/>
                </a:cubicBezTo>
                <a:cubicBezTo>
                  <a:pt x="2532508" y="1686211"/>
                  <a:pt x="2328070" y="2058418"/>
                  <a:pt x="2012465" y="2287660"/>
                </a:cubicBezTo>
                <a:lnTo>
                  <a:pt x="1774621" y="1877585"/>
                </a:lnTo>
                <a:cubicBezTo>
                  <a:pt x="1952954" y="1733884"/>
                  <a:pt x="2064978" y="1513151"/>
                  <a:pt x="2064978" y="1266254"/>
                </a:cubicBezTo>
                <a:cubicBezTo>
                  <a:pt x="2064978" y="825131"/>
                  <a:pt x="1707377" y="467530"/>
                  <a:pt x="1266254" y="467530"/>
                </a:cubicBezTo>
                <a:cubicBezTo>
                  <a:pt x="825131" y="467530"/>
                  <a:pt x="467530" y="825131"/>
                  <a:pt x="467530" y="1266254"/>
                </a:cubicBezTo>
                <a:cubicBezTo>
                  <a:pt x="467530" y="1513151"/>
                  <a:pt x="579554" y="1733884"/>
                  <a:pt x="757887" y="1877585"/>
                </a:cubicBezTo>
                <a:lnTo>
                  <a:pt x="520044" y="2287660"/>
                </a:lnTo>
                <a:cubicBezTo>
                  <a:pt x="204439" y="2058418"/>
                  <a:pt x="0" y="1686211"/>
                  <a:pt x="0" y="1266254"/>
                </a:cubicBezTo>
                <a:cubicBezTo>
                  <a:pt x="0" y="566921"/>
                  <a:pt x="566921" y="0"/>
                  <a:pt x="1266254" y="0"/>
                </a:cubicBezTo>
                <a:close/>
              </a:path>
            </a:pathLst>
          </a:custGeom>
          <a:gradFill rotWithShape="0">
            <a:gsLst>
              <a:gs pos="47000">
                <a:srgbClr val="63bed2"/>
              </a:gs>
              <a:gs pos="100000">
                <a:srgbClr val="14a0c8"/>
              </a:gs>
            </a:gsLst>
            <a:lin ang="1800000"/>
          </a:gradFill>
          <a:ln>
            <a:noFill/>
          </a:ln>
          <a:effectLst>
            <a:outerShdw algn="br" blurRad="50760" dir="135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椭圆 5"/>
          <p:cNvSpPr/>
          <p:nvPr/>
        </p:nvSpPr>
        <p:spPr>
          <a:xfrm flipH="1" rot="7201200">
            <a:off x="4453200" y="2379600"/>
            <a:ext cx="2192400" cy="1980360"/>
          </a:xfrm>
          <a:custGeom>
            <a:avLst/>
            <a:gdLst>
              <a:gd name="textAreaLeft" fmla="*/ 360 w 2192400"/>
              <a:gd name="textAreaRight" fmla="*/ 2193120 w 2192400"/>
              <a:gd name="textAreaTop" fmla="*/ 0 h 1980360"/>
              <a:gd name="textAreaBottom" fmla="*/ 1980720 h 1980360"/>
            </a:gdLst>
            <a:ahLst/>
            <a:rect l="textAreaLeft" t="textAreaTop" r="textAreaRight" b="textAreaBottom"/>
            <a:pathLst>
              <a:path w="2532508" h="2287660">
                <a:moveTo>
                  <a:pt x="1266254" y="0"/>
                </a:moveTo>
                <a:cubicBezTo>
                  <a:pt x="1965587" y="0"/>
                  <a:pt x="2532508" y="566921"/>
                  <a:pt x="2532508" y="1266254"/>
                </a:cubicBezTo>
                <a:cubicBezTo>
                  <a:pt x="2532508" y="1686211"/>
                  <a:pt x="2328070" y="2058418"/>
                  <a:pt x="2012465" y="2287660"/>
                </a:cubicBezTo>
                <a:lnTo>
                  <a:pt x="1774621" y="1877585"/>
                </a:lnTo>
                <a:cubicBezTo>
                  <a:pt x="1952954" y="1733884"/>
                  <a:pt x="2064978" y="1513151"/>
                  <a:pt x="2064978" y="1266254"/>
                </a:cubicBezTo>
                <a:cubicBezTo>
                  <a:pt x="2064978" y="825131"/>
                  <a:pt x="1707377" y="467530"/>
                  <a:pt x="1266254" y="467530"/>
                </a:cubicBezTo>
                <a:cubicBezTo>
                  <a:pt x="825131" y="467530"/>
                  <a:pt x="467530" y="825131"/>
                  <a:pt x="467530" y="1266254"/>
                </a:cubicBezTo>
                <a:cubicBezTo>
                  <a:pt x="467530" y="1513151"/>
                  <a:pt x="579554" y="1733884"/>
                  <a:pt x="757887" y="1877585"/>
                </a:cubicBezTo>
                <a:lnTo>
                  <a:pt x="520044" y="2287660"/>
                </a:lnTo>
                <a:cubicBezTo>
                  <a:pt x="204439" y="2058418"/>
                  <a:pt x="0" y="1686211"/>
                  <a:pt x="0" y="1266254"/>
                </a:cubicBezTo>
                <a:cubicBezTo>
                  <a:pt x="0" y="566921"/>
                  <a:pt x="566921" y="0"/>
                  <a:pt x="1266254" y="0"/>
                </a:cubicBezTo>
                <a:close/>
              </a:path>
            </a:pathLst>
          </a:custGeom>
          <a:gradFill rotWithShape="0">
            <a:gsLst>
              <a:gs pos="0">
                <a:srgbClr val="57646d"/>
              </a:gs>
              <a:gs pos="100000">
                <a:srgbClr val="81898b"/>
              </a:gs>
            </a:gsLst>
            <a:lin ang="12600000"/>
          </a:gradFill>
          <a:ln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6" name="椭圆 5"/>
          <p:cNvSpPr/>
          <p:nvPr/>
        </p:nvSpPr>
        <p:spPr>
          <a:xfrm>
            <a:off x="3474720" y="692280"/>
            <a:ext cx="2192400" cy="198036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980360"/>
              <a:gd name="textAreaBottom" fmla="*/ 1980720 h 1980360"/>
            </a:gdLst>
            <a:ahLst/>
            <a:rect l="textAreaLeft" t="textAreaTop" r="textAreaRight" b="textAreaBottom"/>
            <a:pathLst>
              <a:path w="2532508" h="2287660">
                <a:moveTo>
                  <a:pt x="1266254" y="0"/>
                </a:moveTo>
                <a:cubicBezTo>
                  <a:pt x="1965587" y="0"/>
                  <a:pt x="2532508" y="566921"/>
                  <a:pt x="2532508" y="1266254"/>
                </a:cubicBezTo>
                <a:cubicBezTo>
                  <a:pt x="2532508" y="1686211"/>
                  <a:pt x="2328070" y="2058418"/>
                  <a:pt x="2012465" y="2287660"/>
                </a:cubicBezTo>
                <a:lnTo>
                  <a:pt x="1774621" y="1877585"/>
                </a:lnTo>
                <a:cubicBezTo>
                  <a:pt x="1952954" y="1733884"/>
                  <a:pt x="2064978" y="1513151"/>
                  <a:pt x="2064978" y="1266254"/>
                </a:cubicBezTo>
                <a:cubicBezTo>
                  <a:pt x="2064978" y="825131"/>
                  <a:pt x="1707377" y="467530"/>
                  <a:pt x="1266254" y="467530"/>
                </a:cubicBezTo>
                <a:cubicBezTo>
                  <a:pt x="825131" y="467530"/>
                  <a:pt x="467530" y="825131"/>
                  <a:pt x="467530" y="1266254"/>
                </a:cubicBezTo>
                <a:cubicBezTo>
                  <a:pt x="467530" y="1513151"/>
                  <a:pt x="579554" y="1733884"/>
                  <a:pt x="757887" y="1877585"/>
                </a:cubicBezTo>
                <a:lnTo>
                  <a:pt x="520044" y="2287660"/>
                </a:lnTo>
                <a:cubicBezTo>
                  <a:pt x="204439" y="2058418"/>
                  <a:pt x="0" y="1686211"/>
                  <a:pt x="0" y="1266254"/>
                </a:cubicBezTo>
                <a:cubicBezTo>
                  <a:pt x="0" y="566921"/>
                  <a:pt x="566921" y="0"/>
                  <a:pt x="1266254" y="0"/>
                </a:cubicBezTo>
                <a:close/>
              </a:path>
            </a:pathLst>
          </a:custGeom>
          <a:gradFill rotWithShape="0">
            <a:gsLst>
              <a:gs pos="71000">
                <a:srgbClr val="ff9b21"/>
              </a:gs>
              <a:gs pos="100000">
                <a:srgbClr val="f08200"/>
              </a:gs>
            </a:gsLst>
            <a:lin ang="16200000"/>
          </a:gra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7" name="椭圆 5"/>
          <p:cNvSpPr/>
          <p:nvPr/>
        </p:nvSpPr>
        <p:spPr>
          <a:xfrm rot="14398800">
            <a:off x="3520080" y="2081880"/>
            <a:ext cx="569160" cy="665280"/>
          </a:xfrm>
          <a:custGeom>
            <a:avLst/>
            <a:gdLst>
              <a:gd name="textAreaLeft" fmla="*/ 0 w 569160"/>
              <a:gd name="textAreaRight" fmla="*/ 569520 w 56916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657873" h="768688">
                <a:moveTo>
                  <a:pt x="616217" y="329503"/>
                </a:moveTo>
                <a:cubicBezTo>
                  <a:pt x="525657" y="503705"/>
                  <a:pt x="395646" y="654067"/>
                  <a:pt x="237844" y="768688"/>
                </a:cubicBezTo>
                <a:lnTo>
                  <a:pt x="0" y="358613"/>
                </a:lnTo>
                <a:cubicBezTo>
                  <a:pt x="114455" y="266385"/>
                  <a:pt x="201597" y="142425"/>
                  <a:pt x="248795" y="0"/>
                </a:cubicBezTo>
                <a:lnTo>
                  <a:pt x="657873" y="236351"/>
                </a:lnTo>
                <a:cubicBezTo>
                  <a:pt x="646352" y="268555"/>
                  <a:pt x="631874" y="299385"/>
                  <a:pt x="616217" y="329503"/>
                </a:cubicBezTo>
                <a:close/>
              </a:path>
            </a:pathLst>
          </a:custGeom>
          <a:gradFill rotWithShape="0">
            <a:gsLst>
              <a:gs pos="0">
                <a:srgbClr val="63bed2"/>
              </a:gs>
              <a:gs pos="100000">
                <a:srgbClr val="76c5d8"/>
              </a:gs>
            </a:gsLst>
            <a:lin ang="19794000"/>
          </a:gradFill>
          <a:ln>
            <a:noFill/>
          </a:ln>
          <a:effectLst>
            <a:outerShdw blurRad="25560" dir="19809245" dist="25318" rotWithShape="0" sx="98000" sy="98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8" name="TextBox 4"/>
          <p:cNvSpPr/>
          <p:nvPr/>
        </p:nvSpPr>
        <p:spPr>
          <a:xfrm rot="18670800">
            <a:off x="4970520" y="2072880"/>
            <a:ext cx="66816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1"/>
          <p:cNvSpPr/>
          <p:nvPr/>
        </p:nvSpPr>
        <p:spPr>
          <a:xfrm>
            <a:off x="3371760" y="2212200"/>
            <a:ext cx="69012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2"/>
          <p:cNvSpPr/>
          <p:nvPr/>
        </p:nvSpPr>
        <p:spPr>
          <a:xfrm rot="4214400">
            <a:off x="4367880" y="3482640"/>
            <a:ext cx="63792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3339720" y="2915640"/>
            <a:ext cx="668520" cy="326880"/>
          </a:xfrm>
          <a:custGeom>
            <a:avLst/>
            <a:gdLst>
              <a:gd name="textAreaLeft" fmla="*/ 0 w 668520"/>
              <a:gd name="textAreaRight" fmla="*/ 668880 w 66852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677541" h="331433">
                <a:moveTo>
                  <a:pt x="677541" y="0"/>
                </a:moveTo>
                <a:lnTo>
                  <a:pt x="677541" y="331433"/>
                </a:lnTo>
                <a:lnTo>
                  <a:pt x="0" y="331433"/>
                </a:lnTo>
                <a:lnTo>
                  <a:pt x="260548" y="176506"/>
                </a:lnTo>
                <a:lnTo>
                  <a:pt x="301427" y="240450"/>
                </a:lnTo>
                <a:close/>
              </a:path>
            </a:pathLst>
          </a:custGeom>
          <a:pattFill prst="wdUpDiag">
            <a:fgClr>
              <a:srgbClr val="57646d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2" name="任意多边形 20"/>
          <p:cNvSpPr/>
          <p:nvPr/>
        </p:nvSpPr>
        <p:spPr>
          <a:xfrm>
            <a:off x="3336840" y="2891880"/>
            <a:ext cx="674280" cy="331200"/>
          </a:xfrm>
          <a:custGeom>
            <a:avLst/>
            <a:gdLst>
              <a:gd name="textAreaLeft" fmla="*/ 0 w 674280"/>
              <a:gd name="textAreaRight" fmla="*/ 674640 w 674280"/>
              <a:gd name="textAreaTop" fmla="*/ 0 h 331200"/>
              <a:gd name="textAreaBottom" fmla="*/ 331560 h 331200"/>
            </a:gdLst>
            <a:ahLst/>
            <a:rect l="textAreaLeft" t="textAreaTop" r="textAreaRight" b="textAreaBottom"/>
            <a:pathLst>
              <a:path w="683419" h="335756">
                <a:moveTo>
                  <a:pt x="0" y="335756"/>
                </a:moveTo>
                <a:lnTo>
                  <a:pt x="290512" y="159544"/>
                </a:lnTo>
                <a:lnTo>
                  <a:pt x="330994" y="219075"/>
                </a:lnTo>
                <a:lnTo>
                  <a:pt x="683419" y="0"/>
                </a:lnTo>
              </a:path>
            </a:pathLst>
          </a:custGeom>
          <a:noFill/>
          <a:ln w="22225">
            <a:solidFill>
              <a:srgbClr val="57646d"/>
            </a:solidFill>
            <a:round/>
            <a:tailEnd len="lg" type="stealth" w="sm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椭圆 22"/>
          <p:cNvSpPr/>
          <p:nvPr/>
        </p:nvSpPr>
        <p:spPr>
          <a:xfrm>
            <a:off x="4302000" y="1251000"/>
            <a:ext cx="538200" cy="538200"/>
          </a:xfrm>
          <a:custGeom>
            <a:avLst/>
            <a:gdLst>
              <a:gd name="textAreaLeft" fmla="*/ 0 w 538200"/>
              <a:gd name="textAreaRight" fmla="*/ 538560 w 53820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896114" h="896114">
                <a:moveTo>
                  <a:pt x="331065" y="214073"/>
                </a:moveTo>
                <a:lnTo>
                  <a:pt x="331065" y="331065"/>
                </a:lnTo>
                <a:lnTo>
                  <a:pt x="214073" y="331065"/>
                </a:lnTo>
                <a:lnTo>
                  <a:pt x="214073" y="565048"/>
                </a:lnTo>
                <a:lnTo>
                  <a:pt x="331065" y="565048"/>
                </a:lnTo>
                <a:lnTo>
                  <a:pt x="331065" y="682040"/>
                </a:lnTo>
                <a:lnTo>
                  <a:pt x="565048" y="682040"/>
                </a:lnTo>
                <a:lnTo>
                  <a:pt x="565048" y="565048"/>
                </a:lnTo>
                <a:lnTo>
                  <a:pt x="682040" y="565048"/>
                </a:lnTo>
                <a:lnTo>
                  <a:pt x="682040" y="331065"/>
                </a:lnTo>
                <a:lnTo>
                  <a:pt x="565048" y="331065"/>
                </a:lnTo>
                <a:lnTo>
                  <a:pt x="565048" y="214073"/>
                </a:lnTo>
                <a:close/>
                <a:moveTo>
                  <a:pt x="448057" y="0"/>
                </a:moveTo>
                <a:cubicBezTo>
                  <a:pt x="695512" y="0"/>
                  <a:pt x="896114" y="200602"/>
                  <a:pt x="896114" y="448057"/>
                </a:cubicBezTo>
                <a:cubicBezTo>
                  <a:pt x="896114" y="695512"/>
                  <a:pt x="695512" y="896114"/>
                  <a:pt x="448057" y="896114"/>
                </a:cubicBezTo>
                <a:cubicBezTo>
                  <a:pt x="200602" y="896114"/>
                  <a:pt x="0" y="695512"/>
                  <a:pt x="0" y="448057"/>
                </a:cubicBezTo>
                <a:cubicBezTo>
                  <a:pt x="0" y="200602"/>
                  <a:pt x="200602" y="0"/>
                  <a:pt x="448057" y="0"/>
                </a:cubicBezTo>
                <a:close/>
              </a:path>
            </a:pathLst>
          </a:custGeom>
          <a:pattFill prst="ltHorz">
            <a:fgClr>
              <a:srgbClr val="57646d"/>
            </a:fgClr>
            <a:bgClr>
              <a:srgbClr val="ffffff"/>
            </a:bgClr>
          </a:pattFill>
          <a:ln w="3175">
            <a:solidFill>
              <a:srgbClr val="57646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4" name="矩形 28"/>
          <p:cNvSpPr/>
          <p:nvPr/>
        </p:nvSpPr>
        <p:spPr>
          <a:xfrm>
            <a:off x="5211000" y="3108960"/>
            <a:ext cx="79560" cy="141840"/>
          </a:xfrm>
          <a:prstGeom prst="rect">
            <a:avLst/>
          </a:prstGeom>
          <a:pattFill prst="ltVert">
            <a:fgClr>
              <a:srgbClr val="57646d"/>
            </a:fgClr>
            <a:bgClr>
              <a:srgbClr val="ffffff"/>
            </a:bgClr>
          </a:pattFill>
          <a:ln w="3175">
            <a:solidFill>
              <a:srgbClr val="57646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5" name="矩形 29"/>
          <p:cNvSpPr/>
          <p:nvPr/>
        </p:nvSpPr>
        <p:spPr>
          <a:xfrm>
            <a:off x="5477040" y="2972880"/>
            <a:ext cx="79560" cy="277920"/>
          </a:xfrm>
          <a:prstGeom prst="rect">
            <a:avLst/>
          </a:prstGeom>
          <a:pattFill prst="ltVert">
            <a:fgClr>
              <a:srgbClr val="57646d"/>
            </a:fgClr>
            <a:bgClr>
              <a:srgbClr val="ffffff"/>
            </a:bgClr>
          </a:pattFill>
          <a:ln w="3175">
            <a:solidFill>
              <a:srgbClr val="57646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6" name="矩形 30"/>
          <p:cNvSpPr/>
          <p:nvPr/>
        </p:nvSpPr>
        <p:spPr>
          <a:xfrm>
            <a:off x="5610240" y="2882880"/>
            <a:ext cx="79560" cy="367560"/>
          </a:xfrm>
          <a:prstGeom prst="rect">
            <a:avLst/>
          </a:prstGeom>
          <a:pattFill prst="ltVert">
            <a:fgClr>
              <a:srgbClr val="57646d"/>
            </a:fgClr>
            <a:bgClr>
              <a:srgbClr val="ffffff"/>
            </a:bgClr>
          </a:pattFill>
          <a:ln w="3175">
            <a:solidFill>
              <a:srgbClr val="57646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7" name="矩形 33"/>
          <p:cNvSpPr/>
          <p:nvPr/>
        </p:nvSpPr>
        <p:spPr>
          <a:xfrm>
            <a:off x="5344200" y="3038040"/>
            <a:ext cx="79560" cy="209520"/>
          </a:xfrm>
          <a:prstGeom prst="rect">
            <a:avLst/>
          </a:prstGeom>
          <a:pattFill prst="ltVert">
            <a:fgClr>
              <a:srgbClr val="57646d"/>
            </a:fgClr>
            <a:bgClr>
              <a:srgbClr val="ffffff"/>
            </a:bgClr>
          </a:pattFill>
          <a:ln w="3175">
            <a:solidFill>
              <a:srgbClr val="57646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8" name="等腰三角形 36"/>
          <p:cNvSpPr/>
          <p:nvPr/>
        </p:nvSpPr>
        <p:spPr>
          <a:xfrm>
            <a:off x="3938040" y="2317680"/>
            <a:ext cx="1267920" cy="1095480"/>
          </a:xfrm>
          <a:custGeom>
            <a:avLst/>
            <a:gdLst>
              <a:gd name="textAreaLeft" fmla="*/ 0 w 1267920"/>
              <a:gd name="textAreaRight" fmla="*/ 1268280 w 126792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1095615" h="961048">
                <a:moveTo>
                  <a:pt x="178526" y="0"/>
                </a:moveTo>
                <a:cubicBezTo>
                  <a:pt x="278720" y="82542"/>
                  <a:pt x="407363" y="130592"/>
                  <a:pt x="547229" y="130592"/>
                </a:cubicBezTo>
                <a:cubicBezTo>
                  <a:pt x="686636" y="130592"/>
                  <a:pt x="814895" y="82857"/>
                  <a:pt x="914952" y="810"/>
                </a:cubicBezTo>
                <a:lnTo>
                  <a:pt x="1095615" y="312297"/>
                </a:lnTo>
                <a:cubicBezTo>
                  <a:pt x="871706" y="397439"/>
                  <a:pt x="713331" y="614376"/>
                  <a:pt x="713331" y="868304"/>
                </a:cubicBezTo>
                <a:cubicBezTo>
                  <a:pt x="713331" y="899966"/>
                  <a:pt x="715794" y="931053"/>
                  <a:pt x="722681" y="961048"/>
                </a:cubicBezTo>
                <a:lnTo>
                  <a:pt x="371495" y="961048"/>
                </a:lnTo>
                <a:lnTo>
                  <a:pt x="381327" y="863513"/>
                </a:lnTo>
                <a:cubicBezTo>
                  <a:pt x="381327" y="609939"/>
                  <a:pt x="223393" y="393252"/>
                  <a:pt x="0" y="307803"/>
                </a:cubicBezTo>
                <a:close/>
              </a:path>
            </a:pathLst>
          </a:custGeom>
          <a:solidFill>
            <a:schemeClr val="bg1"/>
          </a:solidFill>
          <a:ln w="3175">
            <a:solidFill>
              <a:srgbClr val="ffffff">
                <a:lumMod val="85000"/>
              </a:srgbClr>
            </a:solidFill>
            <a:round/>
          </a:ln>
          <a:effectLst>
            <a:innerShdw blurRad="1143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9" name="椭圆 5"/>
          <p:cNvSpPr/>
          <p:nvPr/>
        </p:nvSpPr>
        <p:spPr>
          <a:xfrm rot="7195200">
            <a:off x="4328640" y="3328920"/>
            <a:ext cx="569160" cy="665280"/>
          </a:xfrm>
          <a:custGeom>
            <a:avLst/>
            <a:gdLst>
              <a:gd name="textAreaLeft" fmla="*/ 0 w 569160"/>
              <a:gd name="textAreaRight" fmla="*/ 569520 w 569160"/>
              <a:gd name="textAreaTop" fmla="*/ 0 h 665280"/>
              <a:gd name="textAreaBottom" fmla="*/ 665640 h 665280"/>
            </a:gdLst>
            <a:ahLst/>
            <a:rect l="textAreaLeft" t="textAreaTop" r="textAreaRight" b="textAreaBottom"/>
            <a:pathLst>
              <a:path w="657873" h="768688">
                <a:moveTo>
                  <a:pt x="616217" y="329503"/>
                </a:moveTo>
                <a:cubicBezTo>
                  <a:pt x="525657" y="503705"/>
                  <a:pt x="395646" y="654067"/>
                  <a:pt x="237844" y="768688"/>
                </a:cubicBezTo>
                <a:lnTo>
                  <a:pt x="0" y="358613"/>
                </a:lnTo>
                <a:cubicBezTo>
                  <a:pt x="114455" y="266385"/>
                  <a:pt x="201597" y="142425"/>
                  <a:pt x="248795" y="0"/>
                </a:cubicBezTo>
                <a:lnTo>
                  <a:pt x="657873" y="236351"/>
                </a:lnTo>
                <a:cubicBezTo>
                  <a:pt x="646352" y="268555"/>
                  <a:pt x="631874" y="299385"/>
                  <a:pt x="616217" y="329503"/>
                </a:cubicBezTo>
                <a:close/>
              </a:path>
            </a:pathLst>
          </a:custGeom>
          <a:solidFill>
            <a:srgbClr val="81898b"/>
          </a:solidFill>
          <a:ln>
            <a:noFill/>
          </a:ln>
          <a:effectLst>
            <a:outerShdw algn="br" blurRad="25560" dir="13500000" dist="25455" rotWithShape="0" sx="98000" sy="98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0" name="TextBox 26"/>
          <p:cNvSpPr/>
          <p:nvPr/>
        </p:nvSpPr>
        <p:spPr>
          <a:xfrm rot="4054800">
            <a:off x="4306680" y="3473280"/>
            <a:ext cx="66816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comic"/>
              </a:rPr>
              <a:t>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"/>
          <p:cNvSpPr/>
          <p:nvPr/>
        </p:nvSpPr>
        <p:spPr>
          <a:xfrm>
            <a:off x="3871440" y="1803240"/>
            <a:ext cx="1398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27"/>
          <p:cNvSpPr/>
          <p:nvPr/>
        </p:nvSpPr>
        <p:spPr>
          <a:xfrm>
            <a:off x="2984400" y="3288600"/>
            <a:ext cx="1398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31"/>
          <p:cNvSpPr/>
          <p:nvPr/>
        </p:nvSpPr>
        <p:spPr>
          <a:xfrm>
            <a:off x="4764960" y="3288600"/>
            <a:ext cx="1398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595959"/>
                </a:solidFill>
                <a:latin typeface="바탕"/>
                <a:ea typeface="바탕"/>
              </a:rPr>
              <a:t>Sample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2"/>
          <p:cNvGrpSpPr/>
          <p:nvPr/>
        </p:nvGrpSpPr>
        <p:grpSpPr>
          <a:xfrm>
            <a:off x="18720" y="4092480"/>
            <a:ext cx="2449080" cy="942840"/>
            <a:chOff x="18720" y="4092480"/>
            <a:chExt cx="2449080" cy="942840"/>
          </a:xfrm>
        </p:grpSpPr>
        <p:grpSp>
          <p:nvGrpSpPr>
            <p:cNvPr id="405" name="组合 10"/>
            <p:cNvGrpSpPr/>
            <p:nvPr/>
          </p:nvGrpSpPr>
          <p:grpSpPr>
            <a:xfrm>
              <a:off x="902880" y="4663080"/>
              <a:ext cx="681120" cy="68040"/>
              <a:chOff x="902880" y="4663080"/>
              <a:chExt cx="681120" cy="68040"/>
            </a:xfrm>
          </p:grpSpPr>
          <p:sp>
            <p:nvSpPr>
              <p:cNvPr id="406" name="矩形 3"/>
              <p:cNvSpPr/>
              <p:nvPr/>
            </p:nvSpPr>
            <p:spPr>
              <a:xfrm>
                <a:off x="90288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71000">
                    <a:srgbClr val="ff9b21"/>
                  </a:gs>
                  <a:gs pos="100000">
                    <a:srgbClr val="f08200"/>
                  </a:gs>
                </a:gsLst>
                <a:lin ang="16200000"/>
              </a:gradFill>
              <a:ln>
                <a:noFill/>
              </a:ln>
              <a:effectLst>
                <a:outerShdw algn="l" blurRad="38160" dist="1260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7" name="矩形 32"/>
              <p:cNvSpPr/>
              <p:nvPr/>
            </p:nvSpPr>
            <p:spPr>
              <a:xfrm>
                <a:off x="114480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0">
                    <a:srgbClr val="57646d"/>
                  </a:gs>
                  <a:gs pos="100000">
                    <a:srgbClr val="81898b"/>
                  </a:gs>
                </a:gsLst>
                <a:lin ang="5400000"/>
              </a:gradFill>
              <a:ln>
                <a:noFill/>
              </a:ln>
              <a:effectLst>
                <a:outerShdw algn="r" blurRad="50760" dir="10800000" dist="1260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8" name="矩形 34"/>
              <p:cNvSpPr/>
              <p:nvPr/>
            </p:nvSpPr>
            <p:spPr>
              <a:xfrm>
                <a:off x="1386360" y="4663080"/>
                <a:ext cx="197640" cy="68040"/>
              </a:xfrm>
              <a:prstGeom prst="rect">
                <a:avLst/>
              </a:prstGeom>
              <a:gradFill rotWithShape="0">
                <a:gsLst>
                  <a:gs pos="47000">
                    <a:srgbClr val="63bed2"/>
                  </a:gs>
                  <a:gs pos="100000">
                    <a:srgbClr val="14a0c8"/>
                  </a:gs>
                </a:gsLst>
                <a:lin ang="16200000"/>
              </a:gradFill>
              <a:ln>
                <a:noFill/>
              </a:ln>
              <a:effectLst>
                <a:outerShdw algn="r" blurRad="50760" dir="10800000" dist="1260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09" name="TextBox 41"/>
            <p:cNvSpPr/>
            <p:nvPr/>
          </p:nvSpPr>
          <p:spPr>
            <a:xfrm>
              <a:off x="1872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4700" contrast="40000" sat="0"/>
                    </a14:imgEffect>
                  </a14:imgLayer>
                </a14:imgProps>
              </a:ext>
            </a:extLst>
          </a:blip>
          <a:srcRect l="2765" t="0" r="7198" b="57698"/>
          <a:stretch/>
        </p:blipFill>
        <p:spPr>
          <a:xfrm flipH="1" rot="16200000">
            <a:off x="4404240" y="2511000"/>
            <a:ext cx="5142960" cy="120600"/>
          </a:xfrm>
          <a:prstGeom prst="rect">
            <a:avLst/>
          </a:prstGeom>
          <a:ln w="0">
            <a:noFill/>
          </a:ln>
        </p:spPr>
      </p:pic>
      <p:sp>
        <p:nvSpPr>
          <p:cNvPr id="411" name="弧形 41"/>
          <p:cNvSpPr/>
          <p:nvPr/>
        </p:nvSpPr>
        <p:spPr>
          <a:xfrm flipH="1">
            <a:off x="6676560" y="2746440"/>
            <a:ext cx="694800" cy="694800"/>
          </a:xfrm>
          <a:prstGeom prst="arc">
            <a:avLst>
              <a:gd name="adj1" fmla="val 5258951"/>
              <a:gd name="adj2" fmla="val 16255764"/>
            </a:avLst>
          </a:prstGeom>
          <a:solidFill>
            <a:srgbClr val="7d1e0a"/>
          </a:solidFill>
          <a:ln>
            <a:noFill/>
          </a:ln>
          <a:effectLst>
            <a:innerShdw blurRad="63500" dir="108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2" name="弧形 56"/>
          <p:cNvSpPr/>
          <p:nvPr/>
        </p:nvSpPr>
        <p:spPr>
          <a:xfrm flipH="1">
            <a:off x="6685920" y="3915000"/>
            <a:ext cx="694800" cy="694800"/>
          </a:xfrm>
          <a:prstGeom prst="arc">
            <a:avLst>
              <a:gd name="adj1" fmla="val 5376329"/>
              <a:gd name="adj2" fmla="val 16208600"/>
            </a:avLst>
          </a:prstGeom>
          <a:solidFill>
            <a:srgbClr val="4dacc6"/>
          </a:solidFill>
          <a:ln>
            <a:noFill/>
          </a:ln>
          <a:effectLst>
            <a:innerShdw blurRad="63500" dir="162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3" name="弧形 95"/>
          <p:cNvSpPr/>
          <p:nvPr/>
        </p:nvSpPr>
        <p:spPr>
          <a:xfrm flipH="1">
            <a:off x="6676560" y="1582920"/>
            <a:ext cx="694800" cy="694800"/>
          </a:xfrm>
          <a:prstGeom prst="arc">
            <a:avLst>
              <a:gd name="adj1" fmla="val 5258951"/>
              <a:gd name="adj2" fmla="val 16255764"/>
            </a:avLst>
          </a:prstGeom>
          <a:gradFill rotWithShape="0">
            <a:gsLst>
              <a:gs pos="48000">
                <a:srgbClr val="b46300"/>
              </a:gs>
              <a:gs pos="100000">
                <a:srgbClr val="f08200"/>
              </a:gs>
            </a:gsLst>
            <a:lin ang="16200000"/>
          </a:gradFill>
          <a:ln>
            <a:noFill/>
          </a:ln>
          <a:effectLst>
            <a:innerShdw blurRad="63500" dir="5400000" dist="50800">
              <a:srgbClr val="000000">
                <a:alpha val="5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4" name="矩形 9"/>
          <p:cNvSpPr/>
          <p:nvPr/>
        </p:nvSpPr>
        <p:spPr>
          <a:xfrm flipH="1" flipV="1" rot="16200000">
            <a:off x="5216760" y="-150120"/>
            <a:ext cx="1410840" cy="2916360"/>
          </a:xfrm>
          <a:custGeom>
            <a:avLst/>
            <a:gdLst>
              <a:gd name="textAreaLeft" fmla="*/ -360 w 1410840"/>
              <a:gd name="textAreaRight" fmla="*/ 1410840 w 1410840"/>
              <a:gd name="textAreaTop" fmla="*/ -360 h 2916360"/>
              <a:gd name="textAreaBottom" fmla="*/ 2916360 h 2916360"/>
            </a:gdLst>
            <a:ahLst/>
            <a:rect l="textAreaLeft" t="textAreaTop" r="textAreaRight" b="textAreaBottom"/>
            <a:pathLst>
              <a:path w="1411266" h="2916614">
                <a:moveTo>
                  <a:pt x="1387505" y="9814"/>
                </a:moveTo>
                <a:lnTo>
                  <a:pt x="1396996" y="11194"/>
                </a:lnTo>
                <a:cubicBezTo>
                  <a:pt x="1401683" y="9973"/>
                  <a:pt x="1406445" y="9964"/>
                  <a:pt x="1411266" y="10018"/>
                </a:cubicBezTo>
                <a:close/>
                <a:moveTo>
                  <a:pt x="0" y="312207"/>
                </a:moveTo>
                <a:lnTo>
                  <a:pt x="501" y="1008112"/>
                </a:lnTo>
                <a:lnTo>
                  <a:pt x="1" y="1008112"/>
                </a:lnTo>
                <a:lnTo>
                  <a:pt x="1" y="2016224"/>
                </a:lnTo>
                <a:cubicBezTo>
                  <a:pt x="86" y="2134875"/>
                  <a:pt x="172" y="2253527"/>
                  <a:pt x="257" y="2372178"/>
                </a:cubicBezTo>
                <a:cubicBezTo>
                  <a:pt x="3098" y="2555513"/>
                  <a:pt x="75654" y="2726511"/>
                  <a:pt x="229348" y="2828880"/>
                </a:cubicBezTo>
                <a:cubicBezTo>
                  <a:pt x="400137" y="2942634"/>
                  <a:pt x="622453" y="2946031"/>
                  <a:pt x="796695" y="2837550"/>
                </a:cubicBezTo>
                <a:cubicBezTo>
                  <a:pt x="970401" y="2729403"/>
                  <a:pt x="1033707" y="2533768"/>
                  <a:pt x="1035082" y="2329608"/>
                </a:cubicBezTo>
                <a:cubicBezTo>
                  <a:pt x="1035730" y="2238127"/>
                  <a:pt x="1035859" y="2129995"/>
                  <a:pt x="1035579" y="2016224"/>
                </a:cubicBezTo>
                <a:lnTo>
                  <a:pt x="1035719" y="2016224"/>
                </a:lnTo>
                <a:lnTo>
                  <a:pt x="1035719" y="1108487"/>
                </a:lnTo>
                <a:lnTo>
                  <a:pt x="1036151" y="1108487"/>
                </a:lnTo>
                <a:cubicBezTo>
                  <a:pt x="1035627" y="835720"/>
                  <a:pt x="1032958" y="530544"/>
                  <a:pt x="1030299" y="344740"/>
                </a:cubicBezTo>
                <a:cubicBezTo>
                  <a:pt x="1033304" y="326873"/>
                  <a:pt x="1037285" y="308116"/>
                  <a:pt x="1042543" y="289000"/>
                </a:cubicBezTo>
                <a:cubicBezTo>
                  <a:pt x="1056353" y="210076"/>
                  <a:pt x="1098912" y="139111"/>
                  <a:pt x="1163037" y="90469"/>
                </a:cubicBezTo>
                <a:cubicBezTo>
                  <a:pt x="1170235" y="82470"/>
                  <a:pt x="1178850" y="75928"/>
                  <a:pt x="1188650" y="70791"/>
                </a:cubicBezTo>
                <a:lnTo>
                  <a:pt x="1208422" y="55602"/>
                </a:lnTo>
                <a:cubicBezTo>
                  <a:pt x="1215505" y="51540"/>
                  <a:pt x="1222695" y="47746"/>
                  <a:pt x="1231033" y="46403"/>
                </a:cubicBezTo>
                <a:cubicBezTo>
                  <a:pt x="1238208" y="41893"/>
                  <a:pt x="1246089" y="38537"/>
                  <a:pt x="1254754" y="36752"/>
                </a:cubicBezTo>
                <a:cubicBezTo>
                  <a:pt x="1295403" y="17323"/>
                  <a:pt x="1339619" y="9228"/>
                  <a:pt x="1383765" y="9782"/>
                </a:cubicBezTo>
                <a:lnTo>
                  <a:pt x="246732" y="0"/>
                </a:lnTo>
                <a:cubicBezTo>
                  <a:pt x="130077" y="1655"/>
                  <a:pt x="1853" y="207096"/>
                  <a:pt x="266" y="308250"/>
                </a:cubicBezTo>
                <a:cubicBezTo>
                  <a:pt x="178" y="309569"/>
                  <a:pt x="88" y="310888"/>
                  <a:pt x="0" y="312207"/>
                </a:cubicBezTo>
                <a:close/>
              </a:path>
            </a:pathLst>
          </a:custGeom>
          <a:gradFill rotWithShape="0">
            <a:gsLst>
              <a:gs pos="0">
                <a:srgbClr val="f08200"/>
              </a:gs>
              <a:gs pos="100000">
                <a:srgbClr val="ff9b21">
                  <a:alpha val="66274"/>
                </a:srgbClr>
              </a:gs>
            </a:gsLst>
            <a:lin ang="10800000"/>
          </a:gra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5" name="矩形 9"/>
          <p:cNvSpPr/>
          <p:nvPr/>
        </p:nvSpPr>
        <p:spPr>
          <a:xfrm flipH="1" flipV="1" rot="16200000">
            <a:off x="4541760" y="359280"/>
            <a:ext cx="1410840" cy="4266720"/>
          </a:xfrm>
          <a:custGeom>
            <a:avLst/>
            <a:gdLst>
              <a:gd name="textAreaLeft" fmla="*/ -360 w 1410840"/>
              <a:gd name="textAreaRight" fmla="*/ 1410840 w 1410840"/>
              <a:gd name="textAreaTop" fmla="*/ 360 h 4266720"/>
              <a:gd name="textAreaBottom" fmla="*/ 4267440 h 4266720"/>
            </a:gdLst>
            <a:ahLst/>
            <a:rect l="textAreaLeft" t="textAreaTop" r="textAreaRight" b="textAreaBottom"/>
            <a:pathLst>
              <a:path w="1411266" h="4267201">
                <a:moveTo>
                  <a:pt x="1387505" y="9814"/>
                </a:moveTo>
                <a:lnTo>
                  <a:pt x="1396996" y="11194"/>
                </a:lnTo>
                <a:cubicBezTo>
                  <a:pt x="1401683" y="9973"/>
                  <a:pt x="1406445" y="9964"/>
                  <a:pt x="1411266" y="10018"/>
                </a:cubicBezTo>
                <a:close/>
                <a:moveTo>
                  <a:pt x="1" y="3366811"/>
                </a:moveTo>
                <a:cubicBezTo>
                  <a:pt x="86" y="3485462"/>
                  <a:pt x="172" y="3604114"/>
                  <a:pt x="257" y="3722765"/>
                </a:cubicBezTo>
                <a:cubicBezTo>
                  <a:pt x="3098" y="3906100"/>
                  <a:pt x="75654" y="4077098"/>
                  <a:pt x="229348" y="4179467"/>
                </a:cubicBezTo>
                <a:cubicBezTo>
                  <a:pt x="400137" y="4293221"/>
                  <a:pt x="622453" y="4296618"/>
                  <a:pt x="796695" y="4188137"/>
                </a:cubicBezTo>
                <a:cubicBezTo>
                  <a:pt x="970401" y="4079990"/>
                  <a:pt x="1033707" y="3884355"/>
                  <a:pt x="1035082" y="3680195"/>
                </a:cubicBezTo>
                <a:cubicBezTo>
                  <a:pt x="1035730" y="3588714"/>
                  <a:pt x="1035859" y="3480582"/>
                  <a:pt x="1035579" y="3366811"/>
                </a:cubicBezTo>
                <a:close/>
                <a:moveTo>
                  <a:pt x="0" y="312207"/>
                </a:moveTo>
                <a:lnTo>
                  <a:pt x="501" y="1008112"/>
                </a:lnTo>
                <a:lnTo>
                  <a:pt x="1" y="1008112"/>
                </a:lnTo>
                <a:lnTo>
                  <a:pt x="1" y="1376354"/>
                </a:lnTo>
                <a:lnTo>
                  <a:pt x="0" y="1376354"/>
                </a:lnTo>
                <a:lnTo>
                  <a:pt x="0" y="3366810"/>
                </a:lnTo>
                <a:lnTo>
                  <a:pt x="1035718" y="3366810"/>
                </a:lnTo>
                <a:lnTo>
                  <a:pt x="1035718" y="2016224"/>
                </a:lnTo>
                <a:lnTo>
                  <a:pt x="1035719" y="2016224"/>
                </a:lnTo>
                <a:lnTo>
                  <a:pt x="1035719" y="1108487"/>
                </a:lnTo>
                <a:lnTo>
                  <a:pt x="1036151" y="1108487"/>
                </a:lnTo>
                <a:cubicBezTo>
                  <a:pt x="1035627" y="835720"/>
                  <a:pt x="1032958" y="530544"/>
                  <a:pt x="1030299" y="344740"/>
                </a:cubicBezTo>
                <a:cubicBezTo>
                  <a:pt x="1033304" y="326873"/>
                  <a:pt x="1037285" y="308116"/>
                  <a:pt x="1042543" y="289000"/>
                </a:cubicBezTo>
                <a:cubicBezTo>
                  <a:pt x="1056353" y="210076"/>
                  <a:pt x="1098912" y="139111"/>
                  <a:pt x="1163037" y="90469"/>
                </a:cubicBezTo>
                <a:cubicBezTo>
                  <a:pt x="1170235" y="82470"/>
                  <a:pt x="1178850" y="75928"/>
                  <a:pt x="1188650" y="70791"/>
                </a:cubicBezTo>
                <a:lnTo>
                  <a:pt x="1208422" y="55602"/>
                </a:lnTo>
                <a:cubicBezTo>
                  <a:pt x="1215505" y="51540"/>
                  <a:pt x="1222695" y="47746"/>
                  <a:pt x="1231033" y="46403"/>
                </a:cubicBezTo>
                <a:cubicBezTo>
                  <a:pt x="1238208" y="41893"/>
                  <a:pt x="1246089" y="38537"/>
                  <a:pt x="1254754" y="36752"/>
                </a:cubicBezTo>
                <a:cubicBezTo>
                  <a:pt x="1295403" y="17323"/>
                  <a:pt x="1339619" y="9228"/>
                  <a:pt x="1383765" y="9782"/>
                </a:cubicBezTo>
                <a:lnTo>
                  <a:pt x="246732" y="0"/>
                </a:lnTo>
                <a:cubicBezTo>
                  <a:pt x="130077" y="1655"/>
                  <a:pt x="1853" y="207096"/>
                  <a:pt x="266" y="308250"/>
                </a:cubicBezTo>
                <a:cubicBezTo>
                  <a:pt x="178" y="309569"/>
                  <a:pt x="88" y="310888"/>
                  <a:pt x="0" y="312207"/>
                </a:cubicBezTo>
                <a:close/>
              </a:path>
            </a:pathLst>
          </a:custGeom>
          <a:gradFill rotWithShape="0">
            <a:gsLst>
              <a:gs pos="0">
                <a:srgbClr val="dea974">
                  <a:alpha val="90196"/>
                </a:srgbClr>
              </a:gs>
              <a:gs pos="100000">
                <a:srgbClr val="9e5c44"/>
              </a:gs>
            </a:gsLst>
            <a:lin ang="10800000"/>
          </a:gra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6" name="矩形 9"/>
          <p:cNvSpPr/>
          <p:nvPr/>
        </p:nvSpPr>
        <p:spPr>
          <a:xfrm flipH="1" flipV="1" rot="16200000">
            <a:off x="3937680" y="941040"/>
            <a:ext cx="1411560" cy="5473080"/>
          </a:xfrm>
          <a:custGeom>
            <a:avLst/>
            <a:gdLst>
              <a:gd name="textAreaLeft" fmla="*/ -360 w 1411560"/>
              <a:gd name="textAreaRight" fmla="*/ 1411560 w 1411560"/>
              <a:gd name="textAreaTop" fmla="*/ -360 h 5473080"/>
              <a:gd name="textAreaBottom" fmla="*/ 5473080 h 5473080"/>
            </a:gdLst>
            <a:ahLst/>
            <a:rect l="textAreaLeft" t="textAreaTop" r="textAreaRight" b="textAreaBottom"/>
            <a:pathLst>
              <a:path w="1411747" h="5473562">
                <a:moveTo>
                  <a:pt x="1387986" y="9814"/>
                </a:moveTo>
                <a:lnTo>
                  <a:pt x="1397477" y="11194"/>
                </a:lnTo>
                <a:cubicBezTo>
                  <a:pt x="1402164" y="9973"/>
                  <a:pt x="1406926" y="9964"/>
                  <a:pt x="1411747" y="10018"/>
                </a:cubicBezTo>
                <a:close/>
                <a:moveTo>
                  <a:pt x="0" y="4573172"/>
                </a:moveTo>
                <a:cubicBezTo>
                  <a:pt x="85" y="4691823"/>
                  <a:pt x="171" y="4810475"/>
                  <a:pt x="256" y="4929126"/>
                </a:cubicBezTo>
                <a:cubicBezTo>
                  <a:pt x="3097" y="5112461"/>
                  <a:pt x="75653" y="5283459"/>
                  <a:pt x="229347" y="5385828"/>
                </a:cubicBezTo>
                <a:cubicBezTo>
                  <a:pt x="400136" y="5499582"/>
                  <a:pt x="622452" y="5502979"/>
                  <a:pt x="796694" y="5394498"/>
                </a:cubicBezTo>
                <a:cubicBezTo>
                  <a:pt x="970400" y="5286351"/>
                  <a:pt x="1033706" y="5090716"/>
                  <a:pt x="1035081" y="4886556"/>
                </a:cubicBezTo>
                <a:cubicBezTo>
                  <a:pt x="1035729" y="4795075"/>
                  <a:pt x="1035858" y="4686943"/>
                  <a:pt x="1035578" y="4573172"/>
                </a:cubicBezTo>
                <a:lnTo>
                  <a:pt x="1035719" y="4573172"/>
                </a:lnTo>
                <a:lnTo>
                  <a:pt x="1035719" y="3641524"/>
                </a:lnTo>
                <a:cubicBezTo>
                  <a:pt x="1036239" y="3558857"/>
                  <a:pt x="1036302" y="3464932"/>
                  <a:pt x="1036060" y="3366812"/>
                </a:cubicBezTo>
                <a:lnTo>
                  <a:pt x="1035719" y="3366812"/>
                </a:lnTo>
                <a:lnTo>
                  <a:pt x="1035719" y="3366811"/>
                </a:lnTo>
                <a:lnTo>
                  <a:pt x="1036199" y="3366811"/>
                </a:lnTo>
                <a:lnTo>
                  <a:pt x="1036199" y="2016225"/>
                </a:lnTo>
                <a:lnTo>
                  <a:pt x="1036200" y="2016225"/>
                </a:lnTo>
                <a:lnTo>
                  <a:pt x="1036200" y="1108487"/>
                </a:lnTo>
                <a:lnTo>
                  <a:pt x="1036632" y="1108487"/>
                </a:lnTo>
                <a:cubicBezTo>
                  <a:pt x="1036108" y="835720"/>
                  <a:pt x="1033439" y="530544"/>
                  <a:pt x="1030780" y="344740"/>
                </a:cubicBezTo>
                <a:cubicBezTo>
                  <a:pt x="1033785" y="326873"/>
                  <a:pt x="1037766" y="308116"/>
                  <a:pt x="1043024" y="289000"/>
                </a:cubicBezTo>
                <a:cubicBezTo>
                  <a:pt x="1056834" y="210076"/>
                  <a:pt x="1099393" y="139111"/>
                  <a:pt x="1163518" y="90469"/>
                </a:cubicBezTo>
                <a:cubicBezTo>
                  <a:pt x="1170716" y="82470"/>
                  <a:pt x="1179331" y="75928"/>
                  <a:pt x="1189131" y="70791"/>
                </a:cubicBezTo>
                <a:lnTo>
                  <a:pt x="1208903" y="55602"/>
                </a:lnTo>
                <a:cubicBezTo>
                  <a:pt x="1215986" y="51540"/>
                  <a:pt x="1223176" y="47746"/>
                  <a:pt x="1231514" y="46403"/>
                </a:cubicBezTo>
                <a:cubicBezTo>
                  <a:pt x="1238689" y="41893"/>
                  <a:pt x="1246570" y="38537"/>
                  <a:pt x="1255235" y="36752"/>
                </a:cubicBezTo>
                <a:cubicBezTo>
                  <a:pt x="1295884" y="17323"/>
                  <a:pt x="1340100" y="9228"/>
                  <a:pt x="1384246" y="9782"/>
                </a:cubicBezTo>
                <a:lnTo>
                  <a:pt x="247213" y="0"/>
                </a:lnTo>
                <a:cubicBezTo>
                  <a:pt x="130558" y="1655"/>
                  <a:pt x="2334" y="207096"/>
                  <a:pt x="747" y="308250"/>
                </a:cubicBezTo>
                <a:cubicBezTo>
                  <a:pt x="659" y="309569"/>
                  <a:pt x="569" y="310888"/>
                  <a:pt x="481" y="312207"/>
                </a:cubicBezTo>
                <a:lnTo>
                  <a:pt x="982" y="1008112"/>
                </a:lnTo>
                <a:lnTo>
                  <a:pt x="482" y="1008112"/>
                </a:lnTo>
                <a:lnTo>
                  <a:pt x="482" y="1376354"/>
                </a:lnTo>
                <a:lnTo>
                  <a:pt x="481" y="1376354"/>
                </a:lnTo>
                <a:lnTo>
                  <a:pt x="481" y="2582716"/>
                </a:lnTo>
                <a:lnTo>
                  <a:pt x="0" y="2582716"/>
                </a:lnTo>
                <a:lnTo>
                  <a:pt x="0" y="4573172"/>
                </a:lnTo>
                <a:close/>
              </a:path>
            </a:pathLst>
          </a:custGeom>
          <a:gradFill rotWithShape="0">
            <a:gsLst>
              <a:gs pos="0">
                <a:srgbClr val="63bed2">
                  <a:alpha val="90196"/>
                </a:srgbClr>
              </a:gs>
              <a:gs pos="100000">
                <a:srgbClr val="3cafcd"/>
              </a:gs>
            </a:gsLst>
            <a:lin ang="10800000"/>
          </a:gra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17" name="组合 4"/>
          <p:cNvGrpSpPr/>
          <p:nvPr/>
        </p:nvGrpSpPr>
        <p:grpSpPr>
          <a:xfrm>
            <a:off x="4503240" y="715680"/>
            <a:ext cx="2672280" cy="820800"/>
            <a:chOff x="4503240" y="715680"/>
            <a:chExt cx="2672280" cy="820800"/>
          </a:xfrm>
        </p:grpSpPr>
        <p:sp>
          <p:nvSpPr>
            <p:cNvPr id="418" name="TextBox 57"/>
            <p:cNvSpPr/>
            <p:nvPr/>
          </p:nvSpPr>
          <p:spPr>
            <a:xfrm>
              <a:off x="4503240" y="715680"/>
              <a:ext cx="919800" cy="8208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Box 3"/>
            <p:cNvSpPr/>
            <p:nvPr/>
          </p:nvSpPr>
          <p:spPr>
            <a:xfrm>
              <a:off x="5259960" y="900360"/>
              <a:ext cx="191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67"/>
          <p:cNvGrpSpPr/>
          <p:nvPr/>
        </p:nvGrpSpPr>
        <p:grpSpPr>
          <a:xfrm>
            <a:off x="3154680" y="1890720"/>
            <a:ext cx="2672280" cy="820800"/>
            <a:chOff x="3154680" y="1890720"/>
            <a:chExt cx="2672280" cy="820800"/>
          </a:xfrm>
        </p:grpSpPr>
        <p:sp>
          <p:nvSpPr>
            <p:cNvPr id="421" name="TextBox 68"/>
            <p:cNvSpPr/>
            <p:nvPr/>
          </p:nvSpPr>
          <p:spPr>
            <a:xfrm>
              <a:off x="3154680" y="1890720"/>
              <a:ext cx="919800" cy="8208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Box 75"/>
            <p:cNvSpPr/>
            <p:nvPr/>
          </p:nvSpPr>
          <p:spPr>
            <a:xfrm>
              <a:off x="3911400" y="2075400"/>
              <a:ext cx="191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76"/>
          <p:cNvGrpSpPr/>
          <p:nvPr/>
        </p:nvGrpSpPr>
        <p:grpSpPr>
          <a:xfrm>
            <a:off x="1948680" y="3083400"/>
            <a:ext cx="2672640" cy="820800"/>
            <a:chOff x="1948680" y="3083400"/>
            <a:chExt cx="2672640" cy="820800"/>
          </a:xfrm>
        </p:grpSpPr>
        <p:sp>
          <p:nvSpPr>
            <p:cNvPr id="424" name="TextBox 77"/>
            <p:cNvSpPr/>
            <p:nvPr/>
          </p:nvSpPr>
          <p:spPr>
            <a:xfrm>
              <a:off x="1948680" y="3083400"/>
              <a:ext cx="919800" cy="8208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 prstMaterial="matte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ffff"/>
                  </a:solidFill>
                  <a:latin typeface="comic"/>
                </a:rPr>
                <a:t>0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Box 78"/>
            <p:cNvSpPr/>
            <p:nvPr/>
          </p:nvSpPr>
          <p:spPr>
            <a:xfrm>
              <a:off x="2705760" y="3268080"/>
              <a:ext cx="19155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바탕"/>
                  <a:ea typeface="바탕"/>
                </a:rPr>
                <a:t>Simple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5"/>
          <p:cNvGrpSpPr/>
          <p:nvPr/>
        </p:nvGrpSpPr>
        <p:grpSpPr>
          <a:xfrm>
            <a:off x="18720" y="4092480"/>
            <a:ext cx="2449080" cy="942840"/>
            <a:chOff x="18720" y="4092480"/>
            <a:chExt cx="2449080" cy="942840"/>
          </a:xfrm>
        </p:grpSpPr>
        <p:sp>
          <p:nvSpPr>
            <p:cNvPr id="427" name="TextBox 85"/>
            <p:cNvSpPr/>
            <p:nvPr/>
          </p:nvSpPr>
          <p:spPr>
            <a:xfrm>
              <a:off x="18720" y="4092480"/>
              <a:ext cx="2449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595959"/>
                  </a:solidFill>
                  <a:latin typeface="Cambria Math"/>
                  <a:ea typeface="Cambria Math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87"/>
            <p:cNvSpPr/>
            <p:nvPr/>
          </p:nvSpPr>
          <p:spPr>
            <a:xfrm>
              <a:off x="902520" y="466308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f08200"/>
                </a:gs>
                <a:gs pos="100000">
                  <a:srgbClr val="ff9b21">
                    <a:alpha val="50196"/>
                  </a:srgbClr>
                </a:gs>
              </a:gsLst>
              <a:lin ang="5400000"/>
            </a:gradFill>
            <a:ln>
              <a:noFill/>
            </a:ln>
            <a:effectLst>
              <a:outerShdw algn="l" blurRad="38160" dist="1260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9" name="矩形 88"/>
            <p:cNvSpPr/>
            <p:nvPr/>
          </p:nvSpPr>
          <p:spPr>
            <a:xfrm>
              <a:off x="1144800" y="466308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740e00"/>
                </a:gs>
                <a:gs pos="100000">
                  <a:srgbClr val="e5bc93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0" name="矩形 89"/>
            <p:cNvSpPr/>
            <p:nvPr/>
          </p:nvSpPr>
          <p:spPr>
            <a:xfrm>
              <a:off x="1386720" y="4663080"/>
              <a:ext cx="197640" cy="68040"/>
            </a:xfrm>
            <a:prstGeom prst="rect">
              <a:avLst/>
            </a:prstGeom>
            <a:gradFill rotWithShape="0">
              <a:gsLst>
                <a:gs pos="0">
                  <a:srgbClr val="14a0c8"/>
                </a:gs>
                <a:gs pos="100000">
                  <a:srgbClr val="63bed2">
                    <a:alpha val="50196"/>
                  </a:srgbClr>
                </a:gs>
              </a:gsLst>
              <a:lin ang="5400000"/>
            </a:gradFill>
            <a:ln>
              <a:noFill/>
            </a:ln>
            <a:effectLst>
              <a:outerShdw algn="r" blurRad="50760" dir="10800000" dist="1260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  <Words>443</Words>
  <Paragraphs>2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4:50:09Z</dcterms:created>
  <dc:creator>站长PPT</dc:creator>
  <dc:description/>
  <cp:keywords>微信：seusky</cp:keywords>
  <dc:language>en-US</dc:language>
  <cp:lastModifiedBy>a</cp:lastModifiedBy>
  <dcterms:modified xsi:type="dcterms:W3CDTF">2015-07-24T06:51:44Z</dcterms:modified>
  <cp:revision>38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7</vt:r8>
  </property>
  <property fmtid="{D5CDD505-2E9C-101B-9397-08002B2CF9AE}" pid="3" name="PresentationFormat">
    <vt:lpwstr>全屏显示(16:9)</vt:lpwstr>
  </property>
  <property fmtid="{D5CDD505-2E9C-101B-9397-08002B2CF9AE}" pid="4" name="Slides">
    <vt:r8>17</vt:r8>
  </property>
</Properties>
</file>