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55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0" y="4256640"/>
            <a:ext cx="655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0" y="425664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643720" y="425664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1440" y="182880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6880" y="182880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0" y="425664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01440" y="425664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16880" y="425664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552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552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286000" y="425664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552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43720" y="425664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0" y="4256640"/>
            <a:ext cx="655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55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286000" y="4256640"/>
            <a:ext cx="655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0" y="425664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643720" y="425664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1440" y="182880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16880" y="182880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286000" y="425664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01440" y="425664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16880" y="4256640"/>
            <a:ext cx="210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552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0" y="425664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43720" y="425664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3720" y="1828800"/>
            <a:ext cx="31975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0" y="4256640"/>
            <a:ext cx="655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3148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286000" y="1828800"/>
            <a:ext cx="655272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3148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多彩对比色创意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518112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宋体"/>
              </a:rPr>
              <a:t>Your Title Goes He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55272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-topic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Z:\newtek\_backgrounds_1.02\Ryan\001-020\Molecular_madness\water_molecule_lg_clr.gif"/>
          <p:cNvPicPr/>
          <p:nvPr/>
        </p:nvPicPr>
        <p:blipFill>
          <a:blip r:embed="rId2"/>
          <a:stretch/>
        </p:blipFill>
        <p:spPr>
          <a:xfrm>
            <a:off x="990720" y="1828800"/>
            <a:ext cx="121896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宋体"/>
              </a:rPr>
              <a:t>Transition P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your Print P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543440" cy="510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Sub-topic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-108360" y="61671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lecular_madness">
  <a:themeElements>
    <a:clrScheme name="Office 主题​​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lecular_madness">
  <a:themeElements>
    <a:clrScheme name="Office 主题​​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olecular_madness</Template>
  <TotalTime>2</TotalTime>
  <Application>LibreOffice/7.4.7.2$Linux_X86_64 LibreOffice_project/40$Build-2</Application>
  <AppVersion>15.0000</AppVersion>
  <Words>49</Words>
  <Paragraphs>9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2:44:46Z</dcterms:created>
  <dc:creator>微软中国</dc:creator>
  <dc:description/>
  <dc:language>en-US</dc:language>
  <cp:lastModifiedBy>a</cp:lastModifiedBy>
  <dcterms:modified xsi:type="dcterms:W3CDTF">2015-07-24T07:10:59Z</dcterms:modified>
  <cp:revision>2</cp:revision>
  <dc:subject/>
  <dc:title>Molecular Mad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