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.jpeg" ContentType="image/jpeg"/>
  <Override PartName="/ppt/media/image36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58400" cy="7772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F6D-04DE-4C56-848C-CB3DCC5B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D55-8C26-4164-8CDC-E2280A39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6C5D-C7E8-4CA9-9512-1F681F06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76B-1A05-4947-8AD0-59BA79B1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837D-3794-413A-9011-DC71A516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553F-F67D-4ACE-85BC-C53EC554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02B-162A-49F9-B7B7-01654211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88F-9949-4336-BF75-69BC9718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F47E-7513-44D8-94E8-F77D90CF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11F4-90AB-4EA0-87A4-AC526F34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B1AD-0341-4510-8922-704883D1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7DC-6A38-4F25-B882-6E5270EA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BA616C-77F9-41CA-A329-DBF7ED415F3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hyperlink" Target="http://www.yanj.cn/" TargetMode="External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hyperlink" Target="http://www.yanj.cn/" TargetMode="External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hyperlink" Target="http://www.yanj.cn/" TargetMode="External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hyperlink" Target="http://www.yanj.cn/" TargetMode="External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hyperlink" Target="http://www.yanj.cn/" TargetMode="External"/><Relationship Id="rId1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image" Target="../media/image70.jpeg"/><Relationship Id="rId8" Type="http://schemas.openxmlformats.org/officeDocument/2006/relationships/hyperlink" Target="http://www.yanj.cn/" TargetMode="External"/><Relationship Id="rId9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hyperlink" Target="http://traackr.com/more/" TargetMode="External"/><Relationship Id="rId5" Type="http://schemas.openxmlformats.org/officeDocument/2006/relationships/image" Target="../media/image74.jpeg"/><Relationship Id="rId6" Type="http://schemas.openxmlformats.org/officeDocument/2006/relationships/image" Target="../media/image63.jpeg"/><Relationship Id="rId7" Type="http://schemas.openxmlformats.org/officeDocument/2006/relationships/hyperlink" Target="http://www.yanj.cn/" TargetMode="External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5.jpeg"/><Relationship Id="rId10" Type="http://schemas.openxmlformats.org/officeDocument/2006/relationships/image" Target="../media/image15.jpeg"/><Relationship Id="rId11" Type="http://schemas.openxmlformats.org/officeDocument/2006/relationships/hyperlink" Target="http://www.yanj.cn/" TargetMode="External"/><Relationship Id="rId1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jpeg"/><Relationship Id="rId3" Type="http://schemas.openxmlformats.org/officeDocument/2006/relationships/image" Target="../media/image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5.jpeg"/><Relationship Id="rId10" Type="http://schemas.openxmlformats.org/officeDocument/2006/relationships/image" Target="../media/image22.jpeg"/><Relationship Id="rId11" Type="http://schemas.openxmlformats.org/officeDocument/2006/relationships/hyperlink" Target="http://www.yanj.cn/" TargetMode="External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hyperlink" Target="http://www.yanj.cn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hyperlink" Target="http://www.yanj.cn/" TargetMode="External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hyperlink" Target="http://www.yanj.cn/" TargetMode="External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hyperlink" Target="http://www.yanj.cn/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0" y="0"/>
            <a:ext cx="10058040" cy="77720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7772040"/>
              <a:gd name="textAreaBottom" fmla="*/ 7772400 h 7772040"/>
            </a:gdLst>
            <a:ahLst/>
            <a:rect l="textAreaLeft" t="textAreaTop" r="textAreaRight" b="textAreaBottom"/>
            <a:pathLst>
              <a:path w="10058400" h="7772400">
                <a:moveTo>
                  <a:pt x="0" y="7772400"/>
                </a:moveTo>
                <a:lnTo>
                  <a:pt x="10058400" y="7772400"/>
                </a:lnTo>
                <a:lnTo>
                  <a:pt x="10058400" y="0"/>
                </a:lnTo>
                <a:lnTo>
                  <a:pt x="0" y="0"/>
                </a:lnTo>
                <a:lnTo>
                  <a:pt x="0" y="77724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0" y="7190280"/>
            <a:ext cx="10058040" cy="57132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0058400" h="571500">
                <a:moveTo>
                  <a:pt x="0" y="0"/>
                </a:moveTo>
                <a:lnTo>
                  <a:pt x="10058400" y="0"/>
                </a:lnTo>
                <a:lnTo>
                  <a:pt x="10058400" y="571500"/>
                </a:lnTo>
                <a:lnTo>
                  <a:pt x="0" y="57150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0" y="7315200"/>
            <a:ext cx="10058040" cy="4568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w="10058400" h="457200">
                <a:moveTo>
                  <a:pt x="0" y="457200"/>
                </a:moveTo>
                <a:lnTo>
                  <a:pt x="10058400" y="457200"/>
                </a:lnTo>
                <a:lnTo>
                  <a:pt x="10058400" y="0"/>
                </a:lnTo>
                <a:lnTo>
                  <a:pt x="0" y="0"/>
                </a:lnTo>
                <a:lnTo>
                  <a:pt x="0" y="4572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457200" y="6972480"/>
            <a:ext cx="685440" cy="685440"/>
          </a:xfrm>
          <a:custGeom>
            <a:avLst/>
            <a:gdLst>
              <a:gd name="textAreaLeft" fmla="*/ 0 w 685440"/>
              <a:gd name="textAreaRight" fmla="*/ 685800 w 6854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685800" h="685800">
                <a:moveTo>
                  <a:pt x="342900" y="685800"/>
                </a:moveTo>
                <a:cubicBezTo>
                  <a:pt x="532282" y="685800"/>
                  <a:pt x="685800" y="532307"/>
                  <a:pt x="685800" y="342900"/>
                </a:cubicBezTo>
                <a:cubicBezTo>
                  <a:pt x="685800" y="153543"/>
                  <a:pt x="532282" y="0"/>
                  <a:pt x="342900" y="0"/>
                </a:cubicBezTo>
                <a:cubicBezTo>
                  <a:pt x="153517" y="0"/>
                  <a:pt x="0" y="153543"/>
                  <a:pt x="0" y="342900"/>
                </a:cubicBezTo>
                <a:cubicBezTo>
                  <a:pt x="0" y="532307"/>
                  <a:pt x="153517" y="685800"/>
                  <a:pt x="342900" y="685800"/>
                </a:cubicBezTo>
              </a:path>
            </a:pathLst>
          </a:custGeom>
          <a:solidFill>
            <a:srgbClr val="f8490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Freeform 3"/>
          <p:cNvSpPr/>
          <p:nvPr/>
        </p:nvSpPr>
        <p:spPr>
          <a:xfrm>
            <a:off x="5257800" y="1657440"/>
            <a:ext cx="1371240" cy="1371240"/>
          </a:xfrm>
          <a:custGeom>
            <a:avLst/>
            <a:gdLst>
              <a:gd name="textAreaLeft" fmla="*/ 0 w 1371240"/>
              <a:gd name="textAreaRight" fmla="*/ 1371600 w 1371240"/>
              <a:gd name="textAreaTop" fmla="*/ 0 h 1371240"/>
              <a:gd name="textAreaBottom" fmla="*/ 1371600 h 1371240"/>
            </a:gdLst>
            <a:ahLst/>
            <a:rect l="textAreaLeft" t="textAreaTop" r="textAreaRight" b="textAreaBottom"/>
            <a:pathLst>
              <a:path w="1371600" h="1371600">
                <a:moveTo>
                  <a:pt x="685800" y="1371600"/>
                </a:moveTo>
                <a:cubicBezTo>
                  <a:pt x="1064552" y="1371600"/>
                  <a:pt x="1371600" y="1064552"/>
                  <a:pt x="1371600" y="685800"/>
                </a:cubicBezTo>
                <a:cubicBezTo>
                  <a:pt x="1371600" y="307047"/>
                  <a:pt x="1064552" y="0"/>
                  <a:pt x="685800" y="0"/>
                </a:cubicBezTo>
                <a:cubicBezTo>
                  <a:pt x="307047" y="0"/>
                  <a:pt x="0" y="307047"/>
                  <a:pt x="0" y="685800"/>
                </a:cubicBezTo>
                <a:cubicBezTo>
                  <a:pt x="0" y="1064552"/>
                  <a:pt x="307047" y="1371600"/>
                  <a:pt x="685800" y="137160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8344080" y="1143000"/>
            <a:ext cx="1371240" cy="1371240"/>
          </a:xfrm>
          <a:custGeom>
            <a:avLst/>
            <a:gdLst>
              <a:gd name="textAreaLeft" fmla="*/ 0 w 1371240"/>
              <a:gd name="textAreaRight" fmla="*/ 1371600 w 1371240"/>
              <a:gd name="textAreaTop" fmla="*/ 0 h 1371240"/>
              <a:gd name="textAreaBottom" fmla="*/ 1371600 h 1371240"/>
            </a:gdLst>
            <a:ahLst/>
            <a:rect l="textAreaLeft" t="textAreaTop" r="textAreaRight" b="textAreaBottom"/>
            <a:pathLst>
              <a:path w="1371600" h="1371600">
                <a:moveTo>
                  <a:pt x="685800" y="1371600"/>
                </a:moveTo>
                <a:cubicBezTo>
                  <a:pt x="1064552" y="1371600"/>
                  <a:pt x="1371600" y="1064552"/>
                  <a:pt x="1371600" y="685800"/>
                </a:cubicBezTo>
                <a:cubicBezTo>
                  <a:pt x="1371600" y="307047"/>
                  <a:pt x="1064552" y="0"/>
                  <a:pt x="685800" y="0"/>
                </a:cubicBezTo>
                <a:cubicBezTo>
                  <a:pt x="307047" y="0"/>
                  <a:pt x="0" y="307047"/>
                  <a:pt x="0" y="685800"/>
                </a:cubicBezTo>
                <a:cubicBezTo>
                  <a:pt x="0" y="1064552"/>
                  <a:pt x="307047" y="1371600"/>
                  <a:pt x="685800" y="137160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Freeform 3"/>
          <p:cNvSpPr/>
          <p:nvPr/>
        </p:nvSpPr>
        <p:spPr>
          <a:xfrm>
            <a:off x="7486560" y="3543480"/>
            <a:ext cx="1371240" cy="1371240"/>
          </a:xfrm>
          <a:custGeom>
            <a:avLst/>
            <a:gdLst>
              <a:gd name="textAreaLeft" fmla="*/ 0 w 1371240"/>
              <a:gd name="textAreaRight" fmla="*/ 1371600 w 1371240"/>
              <a:gd name="textAreaTop" fmla="*/ 0 h 1371240"/>
              <a:gd name="textAreaBottom" fmla="*/ 1371600 h 1371240"/>
            </a:gdLst>
            <a:ahLst/>
            <a:rect l="textAreaLeft" t="textAreaTop" r="textAreaRight" b="textAreaBottom"/>
            <a:pathLst>
              <a:path w="1371600" h="1371600">
                <a:moveTo>
                  <a:pt x="685800" y="1371600"/>
                </a:moveTo>
                <a:cubicBezTo>
                  <a:pt x="1064552" y="1371600"/>
                  <a:pt x="1371600" y="1064552"/>
                  <a:pt x="1371600" y="685800"/>
                </a:cubicBezTo>
                <a:cubicBezTo>
                  <a:pt x="1371600" y="307047"/>
                  <a:pt x="1064552" y="0"/>
                  <a:pt x="685800" y="0"/>
                </a:cubicBezTo>
                <a:cubicBezTo>
                  <a:pt x="307047" y="0"/>
                  <a:pt x="0" y="307047"/>
                  <a:pt x="0" y="685800"/>
                </a:cubicBezTo>
                <a:cubicBezTo>
                  <a:pt x="0" y="1064552"/>
                  <a:pt x="307047" y="1371600"/>
                  <a:pt x="685800" y="137160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3886200" y="114480"/>
            <a:ext cx="1371240" cy="1371240"/>
          </a:xfrm>
          <a:custGeom>
            <a:avLst/>
            <a:gdLst>
              <a:gd name="textAreaLeft" fmla="*/ 0 w 1371240"/>
              <a:gd name="textAreaRight" fmla="*/ 1371600 w 1371240"/>
              <a:gd name="textAreaTop" fmla="*/ 0 h 1371240"/>
              <a:gd name="textAreaBottom" fmla="*/ 1371600 h 1371240"/>
            </a:gdLst>
            <a:ahLst/>
            <a:rect l="textAreaLeft" t="textAreaTop" r="textAreaRight" b="textAreaBottom"/>
            <a:pathLst>
              <a:path w="1371600" h="1371600">
                <a:moveTo>
                  <a:pt x="685800" y="1371600"/>
                </a:moveTo>
                <a:cubicBezTo>
                  <a:pt x="1064552" y="1371600"/>
                  <a:pt x="1371600" y="1064552"/>
                  <a:pt x="1371600" y="685800"/>
                </a:cubicBezTo>
                <a:cubicBezTo>
                  <a:pt x="1371600" y="307047"/>
                  <a:pt x="1064552" y="0"/>
                  <a:pt x="685800" y="0"/>
                </a:cubicBezTo>
                <a:cubicBezTo>
                  <a:pt x="307047" y="0"/>
                  <a:pt x="0" y="307047"/>
                  <a:pt x="0" y="685800"/>
                </a:cubicBezTo>
                <a:cubicBezTo>
                  <a:pt x="0" y="1064552"/>
                  <a:pt x="307047" y="1371600"/>
                  <a:pt x="685800" y="137160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3543480" y="1828800"/>
            <a:ext cx="856800" cy="856800"/>
          </a:xfrm>
          <a:custGeom>
            <a:avLst/>
            <a:gdLst>
              <a:gd name="textAreaLeft" fmla="*/ 0 w 856800"/>
              <a:gd name="textAreaRight" fmla="*/ 857160 w 856800"/>
              <a:gd name="textAreaTop" fmla="*/ 0 h 856800"/>
              <a:gd name="textAreaBottom" fmla="*/ 857160 h 856800"/>
            </a:gdLst>
            <a:ahLst/>
            <a:rect l="textAreaLeft" t="textAreaTop" r="textAreaRight" b="textAreaBottom"/>
            <a:pathLst>
              <a:path w="857250" h="857250">
                <a:moveTo>
                  <a:pt x="428625" y="857250"/>
                </a:moveTo>
                <a:cubicBezTo>
                  <a:pt x="665353" y="857250"/>
                  <a:pt x="857250" y="665352"/>
                  <a:pt x="857250" y="428625"/>
                </a:cubicBezTo>
                <a:cubicBezTo>
                  <a:pt x="857250" y="191897"/>
                  <a:pt x="665353" y="0"/>
                  <a:pt x="428625" y="0"/>
                </a:cubicBezTo>
                <a:cubicBezTo>
                  <a:pt x="191896" y="0"/>
                  <a:pt x="0" y="191897"/>
                  <a:pt x="0" y="428625"/>
                </a:cubicBezTo>
                <a:cubicBezTo>
                  <a:pt x="0" y="665352"/>
                  <a:pt x="191896" y="857250"/>
                  <a:pt x="428625" y="85725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8344080" y="-657360"/>
            <a:ext cx="942480" cy="942480"/>
          </a:xfrm>
          <a:custGeom>
            <a:avLst/>
            <a:gdLst>
              <a:gd name="textAreaLeft" fmla="*/ 0 w 942480"/>
              <a:gd name="textAreaRight" fmla="*/ 942840 w 942480"/>
              <a:gd name="textAreaTop" fmla="*/ 0 h 942480"/>
              <a:gd name="textAreaBottom" fmla="*/ 942840 h 942480"/>
            </a:gdLst>
            <a:ahLst/>
            <a:rect l="textAreaLeft" t="textAreaTop" r="textAreaRight" b="textAreaBottom"/>
            <a:pathLst>
              <a:path w="942975" h="942975">
                <a:moveTo>
                  <a:pt x="471487" y="942975"/>
                </a:moveTo>
                <a:cubicBezTo>
                  <a:pt x="731888" y="942975"/>
                  <a:pt x="942975" y="731888"/>
                  <a:pt x="942975" y="471487"/>
                </a:cubicBezTo>
                <a:cubicBezTo>
                  <a:pt x="942975" y="211086"/>
                  <a:pt x="731888" y="0"/>
                  <a:pt x="471487" y="0"/>
                </a:cubicBezTo>
                <a:cubicBezTo>
                  <a:pt x="211086" y="0"/>
                  <a:pt x="0" y="211086"/>
                  <a:pt x="0" y="471487"/>
                </a:cubicBezTo>
                <a:cubicBezTo>
                  <a:pt x="0" y="731888"/>
                  <a:pt x="211086" y="942975"/>
                  <a:pt x="471487" y="942975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7143840" y="2514600"/>
            <a:ext cx="685440" cy="685440"/>
          </a:xfrm>
          <a:custGeom>
            <a:avLst/>
            <a:gdLst>
              <a:gd name="textAreaLeft" fmla="*/ 0 w 685440"/>
              <a:gd name="textAreaRight" fmla="*/ 685800 w 6854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685800" h="685800">
                <a:moveTo>
                  <a:pt x="342900" y="685800"/>
                </a:moveTo>
                <a:cubicBezTo>
                  <a:pt x="532282" y="685800"/>
                  <a:pt x="685800" y="532282"/>
                  <a:pt x="685800" y="342900"/>
                </a:cubicBezTo>
                <a:cubicBezTo>
                  <a:pt x="685800" y="153517"/>
                  <a:pt x="532282" y="0"/>
                  <a:pt x="342900" y="0"/>
                </a:cubicBezTo>
                <a:cubicBezTo>
                  <a:pt x="153517" y="0"/>
                  <a:pt x="0" y="153517"/>
                  <a:pt x="0" y="342900"/>
                </a:cubicBezTo>
                <a:cubicBezTo>
                  <a:pt x="0" y="532282"/>
                  <a:pt x="153517" y="685800"/>
                  <a:pt x="342900" y="68580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4743360" y="3371760"/>
            <a:ext cx="771120" cy="771120"/>
          </a:xfrm>
          <a:custGeom>
            <a:avLst/>
            <a:gdLst>
              <a:gd name="textAreaLeft" fmla="*/ 0 w 771120"/>
              <a:gd name="textAreaRight" fmla="*/ 771480 w 771120"/>
              <a:gd name="textAreaTop" fmla="*/ 0 h 771120"/>
              <a:gd name="textAreaBottom" fmla="*/ 771480 h 771120"/>
            </a:gdLst>
            <a:ahLst/>
            <a:rect l="textAreaLeft" t="textAreaTop" r="textAreaRight" b="textAreaBottom"/>
            <a:pathLst>
              <a:path w="771525" h="771525">
                <a:moveTo>
                  <a:pt x="385762" y="771525"/>
                </a:moveTo>
                <a:cubicBezTo>
                  <a:pt x="598817" y="771525"/>
                  <a:pt x="771525" y="598817"/>
                  <a:pt x="771525" y="385762"/>
                </a:cubicBezTo>
                <a:cubicBezTo>
                  <a:pt x="771525" y="172707"/>
                  <a:pt x="598817" y="0"/>
                  <a:pt x="385762" y="0"/>
                </a:cubicBezTo>
                <a:cubicBezTo>
                  <a:pt x="172707" y="0"/>
                  <a:pt x="0" y="172707"/>
                  <a:pt x="0" y="385762"/>
                </a:cubicBezTo>
                <a:cubicBezTo>
                  <a:pt x="0" y="598817"/>
                  <a:pt x="172707" y="771525"/>
                  <a:pt x="385762" y="771525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6458040" y="800280"/>
            <a:ext cx="514080" cy="514080"/>
          </a:xfrm>
          <a:custGeom>
            <a:avLst/>
            <a:gdLst>
              <a:gd name="textAreaLeft" fmla="*/ 0 w 514080"/>
              <a:gd name="textAreaRight" fmla="*/ 514440 w 51408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514350" h="514350">
                <a:moveTo>
                  <a:pt x="257175" y="514350"/>
                </a:moveTo>
                <a:cubicBezTo>
                  <a:pt x="399212" y="514350"/>
                  <a:pt x="514350" y="399211"/>
                  <a:pt x="514350" y="257175"/>
                </a:cubicBezTo>
                <a:cubicBezTo>
                  <a:pt x="514350" y="115138"/>
                  <a:pt x="399212" y="0"/>
                  <a:pt x="257175" y="0"/>
                </a:cubicBezTo>
                <a:cubicBezTo>
                  <a:pt x="115137" y="0"/>
                  <a:pt x="0" y="115138"/>
                  <a:pt x="0" y="257175"/>
                </a:cubicBezTo>
                <a:cubicBezTo>
                  <a:pt x="0" y="399211"/>
                  <a:pt x="115137" y="514350"/>
                  <a:pt x="257175" y="51435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7315200" y="285840"/>
            <a:ext cx="514080" cy="514080"/>
          </a:xfrm>
          <a:custGeom>
            <a:avLst/>
            <a:gdLst>
              <a:gd name="textAreaLeft" fmla="*/ 0 w 514080"/>
              <a:gd name="textAreaRight" fmla="*/ 514440 w 51408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514350" h="514350">
                <a:moveTo>
                  <a:pt x="257175" y="514350"/>
                </a:moveTo>
                <a:cubicBezTo>
                  <a:pt x="399212" y="514350"/>
                  <a:pt x="514350" y="399211"/>
                  <a:pt x="514350" y="257175"/>
                </a:cubicBezTo>
                <a:cubicBezTo>
                  <a:pt x="514350" y="115138"/>
                  <a:pt x="399212" y="0"/>
                  <a:pt x="257175" y="0"/>
                </a:cubicBezTo>
                <a:cubicBezTo>
                  <a:pt x="115137" y="0"/>
                  <a:pt x="0" y="115138"/>
                  <a:pt x="0" y="257175"/>
                </a:cubicBezTo>
                <a:cubicBezTo>
                  <a:pt x="0" y="399211"/>
                  <a:pt x="115137" y="514350"/>
                  <a:pt x="257175" y="51435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9372600" y="3371760"/>
            <a:ext cx="514080" cy="514080"/>
          </a:xfrm>
          <a:custGeom>
            <a:avLst/>
            <a:gdLst>
              <a:gd name="textAreaLeft" fmla="*/ 0 w 514080"/>
              <a:gd name="textAreaRight" fmla="*/ 514440 w 51408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514350" h="514350">
                <a:moveTo>
                  <a:pt x="257175" y="514350"/>
                </a:moveTo>
                <a:cubicBezTo>
                  <a:pt x="399212" y="514350"/>
                  <a:pt x="514350" y="399211"/>
                  <a:pt x="514350" y="257175"/>
                </a:cubicBezTo>
                <a:cubicBezTo>
                  <a:pt x="514350" y="115138"/>
                  <a:pt x="399212" y="0"/>
                  <a:pt x="257175" y="0"/>
                </a:cubicBezTo>
                <a:cubicBezTo>
                  <a:pt x="115137" y="0"/>
                  <a:pt x="0" y="115138"/>
                  <a:pt x="0" y="257175"/>
                </a:cubicBezTo>
                <a:cubicBezTo>
                  <a:pt x="0" y="399211"/>
                  <a:pt x="115137" y="514350"/>
                  <a:pt x="257175" y="51435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4057560" y="4057560"/>
            <a:ext cx="514080" cy="514080"/>
          </a:xfrm>
          <a:custGeom>
            <a:avLst/>
            <a:gdLst>
              <a:gd name="textAreaLeft" fmla="*/ 0 w 514080"/>
              <a:gd name="textAreaRight" fmla="*/ 514440 w 51408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514350" h="514350">
                <a:moveTo>
                  <a:pt x="257175" y="514350"/>
                </a:moveTo>
                <a:cubicBezTo>
                  <a:pt x="399211" y="514350"/>
                  <a:pt x="514350" y="399211"/>
                  <a:pt x="514350" y="257175"/>
                </a:cubicBezTo>
                <a:cubicBezTo>
                  <a:pt x="514350" y="115138"/>
                  <a:pt x="399211" y="0"/>
                  <a:pt x="257175" y="0"/>
                </a:cubicBezTo>
                <a:cubicBezTo>
                  <a:pt x="115138" y="0"/>
                  <a:pt x="0" y="115138"/>
                  <a:pt x="0" y="257175"/>
                </a:cubicBezTo>
                <a:cubicBezTo>
                  <a:pt x="0" y="399211"/>
                  <a:pt x="115138" y="514350"/>
                  <a:pt x="257175" y="51435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5943600" y="4057560"/>
            <a:ext cx="514080" cy="514080"/>
          </a:xfrm>
          <a:custGeom>
            <a:avLst/>
            <a:gdLst>
              <a:gd name="textAreaLeft" fmla="*/ 0 w 514080"/>
              <a:gd name="textAreaRight" fmla="*/ 514440 w 51408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514350" h="514350">
                <a:moveTo>
                  <a:pt x="257175" y="514350"/>
                </a:moveTo>
                <a:cubicBezTo>
                  <a:pt x="399211" y="514350"/>
                  <a:pt x="514350" y="399211"/>
                  <a:pt x="514350" y="257175"/>
                </a:cubicBezTo>
                <a:cubicBezTo>
                  <a:pt x="514350" y="115138"/>
                  <a:pt x="399211" y="0"/>
                  <a:pt x="257175" y="0"/>
                </a:cubicBezTo>
                <a:cubicBezTo>
                  <a:pt x="115138" y="0"/>
                  <a:pt x="0" y="115138"/>
                  <a:pt x="0" y="257175"/>
                </a:cubicBezTo>
                <a:cubicBezTo>
                  <a:pt x="0" y="399211"/>
                  <a:pt x="115138" y="514350"/>
                  <a:pt x="257175" y="51435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8400960" y="5715000"/>
            <a:ext cx="514080" cy="514080"/>
          </a:xfrm>
          <a:custGeom>
            <a:avLst/>
            <a:gdLst>
              <a:gd name="textAreaLeft" fmla="*/ 0 w 514080"/>
              <a:gd name="textAreaRight" fmla="*/ 514440 w 51408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514350" h="514350">
                <a:moveTo>
                  <a:pt x="257175" y="514350"/>
                </a:moveTo>
                <a:cubicBezTo>
                  <a:pt x="399212" y="514350"/>
                  <a:pt x="514350" y="399211"/>
                  <a:pt x="514350" y="257175"/>
                </a:cubicBezTo>
                <a:cubicBezTo>
                  <a:pt x="514350" y="115138"/>
                  <a:pt x="399212" y="0"/>
                  <a:pt x="257175" y="0"/>
                </a:cubicBezTo>
                <a:cubicBezTo>
                  <a:pt x="115137" y="0"/>
                  <a:pt x="0" y="115138"/>
                  <a:pt x="0" y="257175"/>
                </a:cubicBezTo>
                <a:cubicBezTo>
                  <a:pt x="0" y="399211"/>
                  <a:pt x="115137" y="514350"/>
                  <a:pt x="257175" y="51435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7486560" y="1486080"/>
            <a:ext cx="514080" cy="514080"/>
          </a:xfrm>
          <a:custGeom>
            <a:avLst/>
            <a:gdLst>
              <a:gd name="textAreaLeft" fmla="*/ 0 w 514080"/>
              <a:gd name="textAreaRight" fmla="*/ 514440 w 51408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514350" h="514350">
                <a:moveTo>
                  <a:pt x="257175" y="514350"/>
                </a:moveTo>
                <a:cubicBezTo>
                  <a:pt x="399212" y="514350"/>
                  <a:pt x="514350" y="399211"/>
                  <a:pt x="514350" y="257175"/>
                </a:cubicBezTo>
                <a:cubicBezTo>
                  <a:pt x="514350" y="115138"/>
                  <a:pt x="399212" y="0"/>
                  <a:pt x="257175" y="0"/>
                </a:cubicBezTo>
                <a:cubicBezTo>
                  <a:pt x="115137" y="0"/>
                  <a:pt x="0" y="115138"/>
                  <a:pt x="0" y="257175"/>
                </a:cubicBezTo>
                <a:cubicBezTo>
                  <a:pt x="0" y="399211"/>
                  <a:pt x="115137" y="514350"/>
                  <a:pt x="257175" y="51435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3643560" y="-135360"/>
            <a:ext cx="450720" cy="457560"/>
          </a:xfrm>
          <a:custGeom>
            <a:avLst/>
            <a:gdLst>
              <a:gd name="textAreaLeft" fmla="*/ 0 w 450720"/>
              <a:gd name="textAreaRight" fmla="*/ 451080 w 450720"/>
              <a:gd name="textAreaTop" fmla="*/ 0 h 457560"/>
              <a:gd name="textAreaBottom" fmla="*/ 457920 h 457560"/>
            </a:gdLst>
            <a:ahLst/>
            <a:rect l="textAreaLeft" t="textAreaTop" r="textAreaRight" b="textAreaBottom"/>
            <a:pathLst>
              <a:path w="451104" h="457962">
                <a:moveTo>
                  <a:pt x="9525" y="9525"/>
                </a:moveTo>
                <a:lnTo>
                  <a:pt x="441578" y="448436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reeform 3"/>
          <p:cNvSpPr/>
          <p:nvPr/>
        </p:nvSpPr>
        <p:spPr>
          <a:xfrm>
            <a:off x="5015160" y="-149040"/>
            <a:ext cx="498600" cy="443880"/>
          </a:xfrm>
          <a:custGeom>
            <a:avLst/>
            <a:gdLst>
              <a:gd name="textAreaLeft" fmla="*/ 0 w 498600"/>
              <a:gd name="textAreaRight" fmla="*/ 498960 w 498600"/>
              <a:gd name="textAreaTop" fmla="*/ 0 h 443880"/>
              <a:gd name="textAreaBottom" fmla="*/ 444240 h 443880"/>
            </a:gdLst>
            <a:ahLst/>
            <a:rect l="textAreaLeft" t="textAreaTop" r="textAreaRight" b="textAreaBottom"/>
            <a:pathLst>
              <a:path w="499109" h="444245">
                <a:moveTo>
                  <a:pt x="9525" y="434720"/>
                </a:moveTo>
                <a:lnTo>
                  <a:pt x="489584" y="95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reeform 3"/>
          <p:cNvSpPr/>
          <p:nvPr/>
        </p:nvSpPr>
        <p:spPr>
          <a:xfrm>
            <a:off x="7777080" y="2182680"/>
            <a:ext cx="685800" cy="51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685990" h="512826">
                <a:moveTo>
                  <a:pt x="9525" y="503301"/>
                </a:moveTo>
                <a:lnTo>
                  <a:pt x="676465" y="95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reeform 3"/>
          <p:cNvSpPr/>
          <p:nvPr/>
        </p:nvSpPr>
        <p:spPr>
          <a:xfrm>
            <a:off x="8395920" y="2484360"/>
            <a:ext cx="471240" cy="1102320"/>
          </a:xfrm>
          <a:custGeom>
            <a:avLst/>
            <a:gdLst>
              <a:gd name="textAreaLeft" fmla="*/ 0 w 471240"/>
              <a:gd name="textAreaRight" fmla="*/ 471600 w 471240"/>
              <a:gd name="textAreaTop" fmla="*/ 0 h 1102320"/>
              <a:gd name="textAreaBottom" fmla="*/ 1102680 h 1102320"/>
            </a:gdLst>
            <a:ahLst/>
            <a:rect l="textAreaLeft" t="textAreaTop" r="textAreaRight" b="textAreaBottom"/>
            <a:pathLst>
              <a:path w="471677" h="1102613">
                <a:moveTo>
                  <a:pt x="9525" y="1093089"/>
                </a:moveTo>
                <a:lnTo>
                  <a:pt x="462153" y="95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reeform 3"/>
          <p:cNvSpPr/>
          <p:nvPr/>
        </p:nvSpPr>
        <p:spPr>
          <a:xfrm>
            <a:off x="5330520" y="2964600"/>
            <a:ext cx="347760" cy="484920"/>
          </a:xfrm>
          <a:custGeom>
            <a:avLst/>
            <a:gdLst>
              <a:gd name="textAreaLeft" fmla="*/ 0 w 347760"/>
              <a:gd name="textAreaRight" fmla="*/ 348120 w 347760"/>
              <a:gd name="textAreaTop" fmla="*/ 0 h 484920"/>
              <a:gd name="textAreaBottom" fmla="*/ 485280 h 484920"/>
            </a:gdLst>
            <a:ahLst/>
            <a:rect l="textAreaLeft" t="textAreaTop" r="textAreaRight" b="textAreaBottom"/>
            <a:pathLst>
              <a:path w="348234" h="485394">
                <a:moveTo>
                  <a:pt x="9525" y="475869"/>
                </a:moveTo>
                <a:lnTo>
                  <a:pt x="338708" y="95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8334360" y="4905360"/>
            <a:ext cx="247320" cy="818640"/>
          </a:xfrm>
          <a:custGeom>
            <a:avLst/>
            <a:gdLst>
              <a:gd name="textAreaLeft" fmla="*/ 0 w 247320"/>
              <a:gd name="textAreaRight" fmla="*/ 247680 w 247320"/>
              <a:gd name="textAreaTop" fmla="*/ 0 h 818640"/>
              <a:gd name="textAreaBottom" fmla="*/ 819000 h 818640"/>
            </a:gdLst>
            <a:ahLst/>
            <a:rect l="textAreaLeft" t="textAreaTop" r="textAreaRight" b="textAreaBottom"/>
            <a:pathLst>
              <a:path w="247650" h="819150">
                <a:moveTo>
                  <a:pt x="238125" y="809625"/>
                </a:moveTo>
                <a:lnTo>
                  <a:pt x="9525" y="95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reeform 3"/>
          <p:cNvSpPr/>
          <p:nvPr/>
        </p:nvSpPr>
        <p:spPr>
          <a:xfrm>
            <a:off x="8828280" y="3767040"/>
            <a:ext cx="601560" cy="299880"/>
          </a:xfrm>
          <a:custGeom>
            <a:avLst/>
            <a:gdLst>
              <a:gd name="textAreaLeft" fmla="*/ 0 w 601560"/>
              <a:gd name="textAreaRight" fmla="*/ 601920 w 60156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601980" h="300227">
                <a:moveTo>
                  <a:pt x="9525" y="290703"/>
                </a:moveTo>
                <a:lnTo>
                  <a:pt x="592455" y="95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reeform 3"/>
          <p:cNvSpPr/>
          <p:nvPr/>
        </p:nvSpPr>
        <p:spPr>
          <a:xfrm>
            <a:off x="4960080" y="1352880"/>
            <a:ext cx="505440" cy="519480"/>
          </a:xfrm>
          <a:custGeom>
            <a:avLst/>
            <a:gdLst>
              <a:gd name="textAreaLeft" fmla="*/ 0 w 505440"/>
              <a:gd name="textAreaRight" fmla="*/ 505800 w 505440"/>
              <a:gd name="textAreaTop" fmla="*/ 0 h 519480"/>
              <a:gd name="textAreaBottom" fmla="*/ 519840 h 519480"/>
            </a:gdLst>
            <a:ahLst/>
            <a:rect l="textAreaLeft" t="textAreaTop" r="textAreaRight" b="textAreaBottom"/>
            <a:pathLst>
              <a:path w="505968" h="519683">
                <a:moveTo>
                  <a:pt x="496442" y="510158"/>
                </a:moveTo>
                <a:lnTo>
                  <a:pt x="9525" y="95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9191520" y="2484360"/>
            <a:ext cx="361440" cy="910080"/>
          </a:xfrm>
          <a:custGeom>
            <a:avLst/>
            <a:gdLst>
              <a:gd name="textAreaLeft" fmla="*/ 0 w 361440"/>
              <a:gd name="textAreaRight" fmla="*/ 361800 w 361440"/>
              <a:gd name="textAreaTop" fmla="*/ 0 h 910080"/>
              <a:gd name="textAreaBottom" fmla="*/ 910440 h 910080"/>
            </a:gdLst>
            <a:ahLst/>
            <a:rect l="textAreaLeft" t="textAreaTop" r="textAreaRight" b="textAreaBottom"/>
            <a:pathLst>
              <a:path w="361950" h="910589">
                <a:moveTo>
                  <a:pt x="352425" y="901064"/>
                </a:moveTo>
                <a:lnTo>
                  <a:pt x="9525" y="95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reeform 3"/>
          <p:cNvSpPr/>
          <p:nvPr/>
        </p:nvSpPr>
        <p:spPr>
          <a:xfrm>
            <a:off x="9675360" y="1450800"/>
            <a:ext cx="392040" cy="145800"/>
          </a:xfrm>
          <a:custGeom>
            <a:avLst/>
            <a:gdLst>
              <a:gd name="textAreaLeft" fmla="*/ 0 w 392040"/>
              <a:gd name="textAreaRight" fmla="*/ 392400 w 39204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392234" h="146050">
                <a:moveTo>
                  <a:pt x="9525" y="9525"/>
                </a:moveTo>
                <a:lnTo>
                  <a:pt x="382709" y="1365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reeform 3"/>
          <p:cNvSpPr/>
          <p:nvPr/>
        </p:nvSpPr>
        <p:spPr>
          <a:xfrm>
            <a:off x="7847280" y="232560"/>
            <a:ext cx="760680" cy="1283040"/>
          </a:xfrm>
          <a:custGeom>
            <a:avLst/>
            <a:gdLst>
              <a:gd name="textAreaLeft" fmla="*/ 0 w 760680"/>
              <a:gd name="textAreaRight" fmla="*/ 761040 w 760680"/>
              <a:gd name="textAreaTop" fmla="*/ 0 h 1283040"/>
              <a:gd name="textAreaBottom" fmla="*/ 1283400 h 1283040"/>
            </a:gdLst>
            <a:ahLst/>
            <a:rect l="textAreaLeft" t="textAreaTop" r="textAreaRight" b="textAreaBottom"/>
            <a:pathLst>
              <a:path w="761098" h="1283271">
                <a:moveTo>
                  <a:pt x="9525" y="1273746"/>
                </a:moveTo>
                <a:lnTo>
                  <a:pt x="751573" y="95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reeform 3"/>
          <p:cNvSpPr/>
          <p:nvPr/>
        </p:nvSpPr>
        <p:spPr>
          <a:xfrm>
            <a:off x="8848800" y="276120"/>
            <a:ext cx="121680" cy="875880"/>
          </a:xfrm>
          <a:custGeom>
            <a:avLst/>
            <a:gdLst>
              <a:gd name="textAreaLeft" fmla="*/ 0 w 121680"/>
              <a:gd name="textAreaRight" fmla="*/ 122040 w 121680"/>
              <a:gd name="textAreaTop" fmla="*/ 0 h 875880"/>
              <a:gd name="textAreaBottom" fmla="*/ 876240 h 875880"/>
            </a:gdLst>
            <a:ahLst/>
            <a:rect l="textAreaLeft" t="textAreaTop" r="textAreaRight" b="textAreaBottom"/>
            <a:pathLst>
              <a:path w="121920" h="876300">
                <a:moveTo>
                  <a:pt x="112394" y="866775"/>
                </a:moveTo>
                <a:lnTo>
                  <a:pt x="9525" y="95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reeform 3"/>
          <p:cNvSpPr/>
          <p:nvPr/>
        </p:nvSpPr>
        <p:spPr>
          <a:xfrm>
            <a:off x="8759520" y="4562640"/>
            <a:ext cx="1136520" cy="553680"/>
          </a:xfrm>
          <a:custGeom>
            <a:avLst/>
            <a:gdLst>
              <a:gd name="textAreaLeft" fmla="*/ 0 w 1136520"/>
              <a:gd name="textAreaRight" fmla="*/ 1136880 w 1136520"/>
              <a:gd name="textAreaTop" fmla="*/ 0 h 553680"/>
              <a:gd name="textAreaBottom" fmla="*/ 554040 h 553680"/>
            </a:gdLst>
            <a:ahLst/>
            <a:rect l="textAreaLeft" t="textAreaTop" r="textAreaRight" b="textAreaBottom"/>
            <a:pathLst>
              <a:path w="1136903" h="553973">
                <a:moveTo>
                  <a:pt x="9525" y="9525"/>
                </a:moveTo>
                <a:lnTo>
                  <a:pt x="1127379" y="544448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3"/>
          <p:cNvSpPr/>
          <p:nvPr/>
        </p:nvSpPr>
        <p:spPr>
          <a:xfrm>
            <a:off x="7648560" y="3142800"/>
            <a:ext cx="238320" cy="484920"/>
          </a:xfrm>
          <a:custGeom>
            <a:avLst/>
            <a:gdLst>
              <a:gd name="textAreaLeft" fmla="*/ 0 w 238320"/>
              <a:gd name="textAreaRight" fmla="*/ 238680 w 238320"/>
              <a:gd name="textAreaTop" fmla="*/ 0 h 484920"/>
              <a:gd name="textAreaBottom" fmla="*/ 485280 h 484920"/>
            </a:gdLst>
            <a:ahLst/>
            <a:rect l="textAreaLeft" t="textAreaTop" r="textAreaRight" b="textAreaBottom"/>
            <a:pathLst>
              <a:path w="238506" h="485394">
                <a:moveTo>
                  <a:pt x="9525" y="9525"/>
                </a:moveTo>
                <a:lnTo>
                  <a:pt x="228981" y="475869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3"/>
          <p:cNvSpPr/>
          <p:nvPr/>
        </p:nvSpPr>
        <p:spPr>
          <a:xfrm>
            <a:off x="4089240" y="1414800"/>
            <a:ext cx="217440" cy="443880"/>
          </a:xfrm>
          <a:custGeom>
            <a:avLst/>
            <a:gdLst>
              <a:gd name="textAreaLeft" fmla="*/ 0 w 217440"/>
              <a:gd name="textAreaRight" fmla="*/ 217800 w 217440"/>
              <a:gd name="textAreaTop" fmla="*/ 0 h 443880"/>
              <a:gd name="textAreaBottom" fmla="*/ 444240 h 443880"/>
            </a:gdLst>
            <a:ahLst/>
            <a:rect l="textAreaLeft" t="textAreaTop" r="textAreaRight" b="textAreaBottom"/>
            <a:pathLst>
              <a:path w="217931" h="444245">
                <a:moveTo>
                  <a:pt x="208407" y="9525"/>
                </a:moveTo>
                <a:lnTo>
                  <a:pt x="9525" y="43472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4541760" y="3993120"/>
            <a:ext cx="286200" cy="202320"/>
          </a:xfrm>
          <a:custGeom>
            <a:avLst/>
            <a:gdLst>
              <a:gd name="textAreaLeft" fmla="*/ 0 w 286200"/>
              <a:gd name="textAreaRight" fmla="*/ 286560 w 286200"/>
              <a:gd name="textAreaTop" fmla="*/ 0 h 202320"/>
              <a:gd name="textAreaBottom" fmla="*/ 202680 h 202320"/>
            </a:gdLst>
            <a:ahLst/>
            <a:rect l="textAreaLeft" t="textAreaTop" r="textAreaRight" b="textAreaBottom"/>
            <a:pathLst>
              <a:path w="286511" h="202501">
                <a:moveTo>
                  <a:pt x="9525" y="192976"/>
                </a:moveTo>
                <a:lnTo>
                  <a:pt x="276986" y="95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5481360" y="3876840"/>
            <a:ext cx="526320" cy="299880"/>
          </a:xfrm>
          <a:custGeom>
            <a:avLst/>
            <a:gdLst>
              <a:gd name="textAreaLeft" fmla="*/ 0 w 526320"/>
              <a:gd name="textAreaRight" fmla="*/ 526680 w 52632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526541" h="300227">
                <a:moveTo>
                  <a:pt x="9525" y="9525"/>
                </a:moveTo>
                <a:lnTo>
                  <a:pt x="517017" y="290703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6386760" y="3115440"/>
            <a:ext cx="882720" cy="1033560"/>
          </a:xfrm>
          <a:custGeom>
            <a:avLst/>
            <a:gdLst>
              <a:gd name="textAreaLeft" fmla="*/ 0 w 882720"/>
              <a:gd name="textAreaRight" fmla="*/ 883080 w 882720"/>
              <a:gd name="textAreaTop" fmla="*/ 0 h 1033560"/>
              <a:gd name="textAreaBottom" fmla="*/ 1033920 h 1033560"/>
            </a:gdLst>
            <a:ahLst/>
            <a:rect l="textAreaLeft" t="textAreaTop" r="textAreaRight" b="textAreaBottom"/>
            <a:pathLst>
              <a:path w="883158" h="1034033">
                <a:moveTo>
                  <a:pt x="873632" y="9525"/>
                </a:moveTo>
                <a:lnTo>
                  <a:pt x="9525" y="1024509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9534600" y="2265120"/>
            <a:ext cx="529920" cy="488520"/>
          </a:xfrm>
          <a:custGeom>
            <a:avLst/>
            <a:gdLst>
              <a:gd name="textAreaLeft" fmla="*/ 0 w 529920"/>
              <a:gd name="textAreaRight" fmla="*/ 530280 w 529920"/>
              <a:gd name="textAreaTop" fmla="*/ 0 h 488520"/>
              <a:gd name="textAreaBottom" fmla="*/ 488880 h 488520"/>
            </a:gdLst>
            <a:ahLst/>
            <a:rect l="textAreaLeft" t="textAreaTop" r="textAreaRight" b="textAreaBottom"/>
            <a:pathLst>
              <a:path w="530411" h="488950">
                <a:moveTo>
                  <a:pt x="9525" y="479425"/>
                </a:moveTo>
                <a:lnTo>
                  <a:pt x="520886" y="95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6928560" y="646560"/>
            <a:ext cx="423360" cy="286200"/>
          </a:xfrm>
          <a:custGeom>
            <a:avLst/>
            <a:gdLst>
              <a:gd name="textAreaLeft" fmla="*/ 0 w 423360"/>
              <a:gd name="textAreaRight" fmla="*/ 423720 w 423360"/>
              <a:gd name="textAreaTop" fmla="*/ 0 h 286200"/>
              <a:gd name="textAreaBottom" fmla="*/ 286560 h 286200"/>
            </a:gdLst>
            <a:ahLst/>
            <a:rect l="textAreaLeft" t="textAreaTop" r="textAreaRight" b="textAreaBottom"/>
            <a:pathLst>
              <a:path w="423672" h="286511">
                <a:moveTo>
                  <a:pt x="9525" y="276987"/>
                </a:moveTo>
                <a:lnTo>
                  <a:pt x="414146" y="95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7792560" y="646560"/>
            <a:ext cx="793800" cy="677160"/>
          </a:xfrm>
          <a:custGeom>
            <a:avLst/>
            <a:gdLst>
              <a:gd name="textAreaLeft" fmla="*/ 0 w 793800"/>
              <a:gd name="textAreaRight" fmla="*/ 794160 w 793800"/>
              <a:gd name="textAreaTop" fmla="*/ 0 h 677160"/>
              <a:gd name="textAreaBottom" fmla="*/ 677520 h 677160"/>
            </a:gdLst>
            <a:ahLst/>
            <a:rect l="textAreaLeft" t="textAreaTop" r="textAreaRight" b="textAreaBottom"/>
            <a:pathLst>
              <a:path w="794004" h="677418">
                <a:moveTo>
                  <a:pt x="9525" y="9525"/>
                </a:moveTo>
                <a:lnTo>
                  <a:pt x="784478" y="667893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6962760" y="1133640"/>
            <a:ext cx="594720" cy="450720"/>
          </a:xfrm>
          <a:custGeom>
            <a:avLst/>
            <a:gdLst>
              <a:gd name="textAreaLeft" fmla="*/ 0 w 594720"/>
              <a:gd name="textAreaRight" fmla="*/ 595080 w 59472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595122" h="451104">
                <a:moveTo>
                  <a:pt x="9525" y="9525"/>
                </a:moveTo>
                <a:lnTo>
                  <a:pt x="585596" y="441578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6599160" y="1819440"/>
            <a:ext cx="896400" cy="382320"/>
          </a:xfrm>
          <a:custGeom>
            <a:avLst/>
            <a:gdLst>
              <a:gd name="textAreaLeft" fmla="*/ 0 w 896400"/>
              <a:gd name="textAreaRight" fmla="*/ 896760 w 89640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896874" h="382524">
                <a:moveTo>
                  <a:pt x="887348" y="9525"/>
                </a:moveTo>
                <a:lnTo>
                  <a:pt x="9525" y="372998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6791400" y="1305000"/>
            <a:ext cx="533160" cy="1266840"/>
          </a:xfrm>
          <a:custGeom>
            <a:avLst/>
            <a:gdLst>
              <a:gd name="textAreaLeft" fmla="*/ 0 w 533160"/>
              <a:gd name="textAreaRight" fmla="*/ 533520 w 533160"/>
              <a:gd name="textAreaTop" fmla="*/ 0 h 1266840"/>
              <a:gd name="textAreaBottom" fmla="*/ 1267200 h 1266840"/>
            </a:gdLst>
            <a:ahLst/>
            <a:rect l="textAreaLeft" t="textAreaTop" r="textAreaRight" b="textAreaBottom"/>
            <a:pathLst>
              <a:path w="533400" h="1267205">
                <a:moveTo>
                  <a:pt x="9525" y="9525"/>
                </a:moveTo>
                <a:lnTo>
                  <a:pt x="523875" y="125768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2760" y="4559400"/>
            <a:ext cx="2120400" cy="571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520560" y="5168880"/>
            <a:ext cx="7353000" cy="850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9880560" y="4927680"/>
            <a:ext cx="177480" cy="49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4"/>
          <a:stretch/>
        </p:blipFill>
        <p:spPr>
          <a:xfrm>
            <a:off x="495360" y="6172200"/>
            <a:ext cx="4368600" cy="456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5"/>
          <a:stretch/>
        </p:blipFill>
        <p:spPr>
          <a:xfrm>
            <a:off x="0" y="6959520"/>
            <a:ext cx="10058040" cy="812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6"/>
          <a:stretch/>
        </p:blipFill>
        <p:spPr>
          <a:xfrm>
            <a:off x="0" y="0"/>
            <a:ext cx="9842040" cy="7327440"/>
          </a:xfrm>
          <a:prstGeom prst="rect">
            <a:avLst/>
          </a:prstGeom>
          <a:ln w="0">
            <a:noFill/>
          </a:ln>
        </p:spPr>
      </p:pic>
      <p:sp>
        <p:nvSpPr>
          <p:cNvPr id="90" name="矩形 50">
            <a:hlinkClick r:id="rId7"/>
          </p:cNvPr>
          <p:cNvSpPr/>
          <p:nvPr/>
        </p:nvSpPr>
        <p:spPr>
          <a:xfrm>
            <a:off x="0" y="380880"/>
            <a:ext cx="10057680" cy="72766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979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矩形 31"/>
          <p:cNvSpPr/>
          <p:nvPr/>
        </p:nvSpPr>
        <p:spPr>
          <a:xfrm>
            <a:off x="2871360" y="684360"/>
            <a:ext cx="515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多彩大气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reeform 3"/>
          <p:cNvSpPr/>
          <p:nvPr/>
        </p:nvSpPr>
        <p:spPr>
          <a:xfrm>
            <a:off x="0" y="7190280"/>
            <a:ext cx="10058040" cy="57132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0058400" h="571500">
                <a:moveTo>
                  <a:pt x="0" y="0"/>
                </a:moveTo>
                <a:lnTo>
                  <a:pt x="10058400" y="0"/>
                </a:lnTo>
                <a:lnTo>
                  <a:pt x="10058400" y="571500"/>
                </a:lnTo>
                <a:lnTo>
                  <a:pt x="0" y="57150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0" y="7315200"/>
            <a:ext cx="10058040" cy="4568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w="10058400" h="457200">
                <a:moveTo>
                  <a:pt x="0" y="457200"/>
                </a:moveTo>
                <a:lnTo>
                  <a:pt x="10058400" y="457200"/>
                </a:lnTo>
                <a:lnTo>
                  <a:pt x="10058400" y="0"/>
                </a:lnTo>
                <a:lnTo>
                  <a:pt x="0" y="0"/>
                </a:lnTo>
                <a:lnTo>
                  <a:pt x="0" y="4572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Freeform 3"/>
          <p:cNvSpPr/>
          <p:nvPr/>
        </p:nvSpPr>
        <p:spPr>
          <a:xfrm>
            <a:off x="457200" y="6972480"/>
            <a:ext cx="685440" cy="685440"/>
          </a:xfrm>
          <a:custGeom>
            <a:avLst/>
            <a:gdLst>
              <a:gd name="textAreaLeft" fmla="*/ 0 w 685440"/>
              <a:gd name="textAreaRight" fmla="*/ 685800 w 6854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685800" h="685800">
                <a:moveTo>
                  <a:pt x="342900" y="685800"/>
                </a:moveTo>
                <a:cubicBezTo>
                  <a:pt x="532282" y="685800"/>
                  <a:pt x="685800" y="532307"/>
                  <a:pt x="685800" y="342900"/>
                </a:cubicBezTo>
                <a:cubicBezTo>
                  <a:pt x="685800" y="153543"/>
                  <a:pt x="532282" y="0"/>
                  <a:pt x="342900" y="0"/>
                </a:cubicBezTo>
                <a:cubicBezTo>
                  <a:pt x="153517" y="0"/>
                  <a:pt x="0" y="153543"/>
                  <a:pt x="0" y="342900"/>
                </a:cubicBezTo>
                <a:cubicBezTo>
                  <a:pt x="0" y="532307"/>
                  <a:pt x="153517" y="685800"/>
                  <a:pt x="342900" y="685800"/>
                </a:cubicBezTo>
              </a:path>
            </a:pathLst>
          </a:custGeom>
          <a:solidFill>
            <a:srgbClr val="f8490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4699080" y="1359000"/>
            <a:ext cx="685440" cy="456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2743200" y="1968480"/>
            <a:ext cx="4597200" cy="850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2629080" y="2971800"/>
            <a:ext cx="4787640" cy="456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4"/>
          <a:stretch/>
        </p:blipFill>
        <p:spPr>
          <a:xfrm>
            <a:off x="0" y="5359320"/>
            <a:ext cx="10058040" cy="2412720"/>
          </a:xfrm>
          <a:prstGeom prst="rect">
            <a:avLst/>
          </a:prstGeom>
          <a:ln w="0">
            <a:noFill/>
          </a:ln>
        </p:spPr>
      </p:pic>
      <p:sp>
        <p:nvSpPr>
          <p:cNvPr id="220" name="矩形 8">
            <a:hlinkClick r:id="rId5"/>
          </p:cNvPr>
          <p:cNvSpPr/>
          <p:nvPr/>
        </p:nvSpPr>
        <p:spPr>
          <a:xfrm>
            <a:off x="0" y="380880"/>
            <a:ext cx="10057680" cy="72766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979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reeform 3"/>
          <p:cNvSpPr/>
          <p:nvPr/>
        </p:nvSpPr>
        <p:spPr>
          <a:xfrm>
            <a:off x="0" y="0"/>
            <a:ext cx="10058040" cy="77720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7772040"/>
              <a:gd name="textAreaBottom" fmla="*/ 7772400 h 7772040"/>
            </a:gdLst>
            <a:ahLst/>
            <a:rect l="textAreaLeft" t="textAreaTop" r="textAreaRight" b="textAreaBottom"/>
            <a:pathLst>
              <a:path w="10058400" h="7772400">
                <a:moveTo>
                  <a:pt x="0" y="7772400"/>
                </a:moveTo>
                <a:lnTo>
                  <a:pt x="10058400" y="7772400"/>
                </a:lnTo>
                <a:lnTo>
                  <a:pt x="10058400" y="0"/>
                </a:lnTo>
                <a:lnTo>
                  <a:pt x="0" y="0"/>
                </a:lnTo>
                <a:lnTo>
                  <a:pt x="0" y="777240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0" y="7190280"/>
            <a:ext cx="10058040" cy="57132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0058400" h="571500">
                <a:moveTo>
                  <a:pt x="0" y="0"/>
                </a:moveTo>
                <a:lnTo>
                  <a:pt x="10058400" y="0"/>
                </a:lnTo>
                <a:lnTo>
                  <a:pt x="10058400" y="571500"/>
                </a:lnTo>
                <a:lnTo>
                  <a:pt x="0" y="57150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0" y="7315200"/>
            <a:ext cx="10058040" cy="4568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w="10058400" h="457200">
                <a:moveTo>
                  <a:pt x="0" y="457200"/>
                </a:moveTo>
                <a:lnTo>
                  <a:pt x="10058400" y="457200"/>
                </a:lnTo>
                <a:lnTo>
                  <a:pt x="10058400" y="0"/>
                </a:lnTo>
                <a:lnTo>
                  <a:pt x="0" y="0"/>
                </a:lnTo>
                <a:lnTo>
                  <a:pt x="0" y="4572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457200" y="6972480"/>
            <a:ext cx="685440" cy="685440"/>
          </a:xfrm>
          <a:custGeom>
            <a:avLst/>
            <a:gdLst>
              <a:gd name="textAreaLeft" fmla="*/ 0 w 685440"/>
              <a:gd name="textAreaRight" fmla="*/ 685800 w 6854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685800" h="685800">
                <a:moveTo>
                  <a:pt x="342900" y="685800"/>
                </a:moveTo>
                <a:cubicBezTo>
                  <a:pt x="532282" y="685800"/>
                  <a:pt x="685800" y="532307"/>
                  <a:pt x="685800" y="342900"/>
                </a:cubicBezTo>
                <a:cubicBezTo>
                  <a:pt x="685800" y="153543"/>
                  <a:pt x="532282" y="0"/>
                  <a:pt x="342900" y="0"/>
                </a:cubicBezTo>
                <a:cubicBezTo>
                  <a:pt x="153517" y="0"/>
                  <a:pt x="0" y="153543"/>
                  <a:pt x="0" y="342900"/>
                </a:cubicBezTo>
                <a:cubicBezTo>
                  <a:pt x="0" y="532307"/>
                  <a:pt x="153517" y="685800"/>
                  <a:pt x="342900" y="685800"/>
                </a:cubicBezTo>
              </a:path>
            </a:pathLst>
          </a:custGeom>
          <a:solidFill>
            <a:srgbClr val="f8490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533520" y="1816200"/>
            <a:ext cx="9042120" cy="1244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4788000" y="3340080"/>
            <a:ext cx="482400" cy="482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3"/>
          <a:stretch/>
        </p:blipFill>
        <p:spPr>
          <a:xfrm>
            <a:off x="1308240" y="4178160"/>
            <a:ext cx="7416360" cy="329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4"/>
          <a:stretch/>
        </p:blipFill>
        <p:spPr>
          <a:xfrm>
            <a:off x="2997360" y="4559400"/>
            <a:ext cx="4038120" cy="329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5"/>
          <a:stretch/>
        </p:blipFill>
        <p:spPr>
          <a:xfrm>
            <a:off x="0" y="5168880"/>
            <a:ext cx="10058040" cy="2603160"/>
          </a:xfrm>
          <a:prstGeom prst="rect">
            <a:avLst/>
          </a:prstGeom>
          <a:ln w="0">
            <a:noFill/>
          </a:ln>
        </p:spPr>
      </p:pic>
      <p:sp>
        <p:nvSpPr>
          <p:cNvPr id="230" name="矩形 10">
            <a:hlinkClick r:id="rId6"/>
          </p:cNvPr>
          <p:cNvSpPr/>
          <p:nvPr/>
        </p:nvSpPr>
        <p:spPr>
          <a:xfrm>
            <a:off x="0" y="380880"/>
            <a:ext cx="10057680" cy="72766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979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reeform 3"/>
          <p:cNvSpPr/>
          <p:nvPr/>
        </p:nvSpPr>
        <p:spPr>
          <a:xfrm>
            <a:off x="0" y="7190280"/>
            <a:ext cx="10058040" cy="57132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0058400" h="571500">
                <a:moveTo>
                  <a:pt x="0" y="0"/>
                </a:moveTo>
                <a:lnTo>
                  <a:pt x="10058400" y="0"/>
                </a:lnTo>
                <a:lnTo>
                  <a:pt x="10058400" y="571500"/>
                </a:lnTo>
                <a:lnTo>
                  <a:pt x="0" y="57150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0" y="7315200"/>
            <a:ext cx="10058040" cy="4568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w="10058400" h="457200">
                <a:moveTo>
                  <a:pt x="0" y="457200"/>
                </a:moveTo>
                <a:lnTo>
                  <a:pt x="10058400" y="457200"/>
                </a:lnTo>
                <a:lnTo>
                  <a:pt x="10058400" y="0"/>
                </a:lnTo>
                <a:lnTo>
                  <a:pt x="0" y="0"/>
                </a:lnTo>
                <a:lnTo>
                  <a:pt x="0" y="4572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457200" y="6972480"/>
            <a:ext cx="685440" cy="685440"/>
          </a:xfrm>
          <a:custGeom>
            <a:avLst/>
            <a:gdLst>
              <a:gd name="textAreaLeft" fmla="*/ 0 w 685440"/>
              <a:gd name="textAreaRight" fmla="*/ 685800 w 6854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685800" h="685800">
                <a:moveTo>
                  <a:pt x="342900" y="685800"/>
                </a:moveTo>
                <a:cubicBezTo>
                  <a:pt x="532282" y="685800"/>
                  <a:pt x="685800" y="532307"/>
                  <a:pt x="685800" y="342900"/>
                </a:cubicBezTo>
                <a:cubicBezTo>
                  <a:pt x="685800" y="153543"/>
                  <a:pt x="532282" y="0"/>
                  <a:pt x="342900" y="0"/>
                </a:cubicBezTo>
                <a:cubicBezTo>
                  <a:pt x="153517" y="0"/>
                  <a:pt x="0" y="153543"/>
                  <a:pt x="0" y="342900"/>
                </a:cubicBezTo>
                <a:cubicBezTo>
                  <a:pt x="0" y="532307"/>
                  <a:pt x="153517" y="685800"/>
                  <a:pt x="342900" y="685800"/>
                </a:cubicBezTo>
              </a:path>
            </a:pathLst>
          </a:custGeom>
          <a:solidFill>
            <a:srgbClr val="f8490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4699080" y="1359000"/>
            <a:ext cx="711000" cy="456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2425680" y="1968480"/>
            <a:ext cx="5231880" cy="850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2933640" y="2971800"/>
            <a:ext cx="4228920" cy="456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4"/>
          <a:stretch/>
        </p:blipFill>
        <p:spPr>
          <a:xfrm>
            <a:off x="0" y="3645000"/>
            <a:ext cx="10058040" cy="4127040"/>
          </a:xfrm>
          <a:prstGeom prst="rect">
            <a:avLst/>
          </a:prstGeom>
          <a:ln w="0">
            <a:noFill/>
          </a:ln>
        </p:spPr>
      </p:pic>
      <p:sp>
        <p:nvSpPr>
          <p:cNvPr id="238" name="矩形 8">
            <a:hlinkClick r:id="rId5"/>
          </p:cNvPr>
          <p:cNvSpPr/>
          <p:nvPr/>
        </p:nvSpPr>
        <p:spPr>
          <a:xfrm>
            <a:off x="0" y="380880"/>
            <a:ext cx="10057680" cy="72766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979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reeform 3"/>
          <p:cNvSpPr/>
          <p:nvPr/>
        </p:nvSpPr>
        <p:spPr>
          <a:xfrm>
            <a:off x="0" y="0"/>
            <a:ext cx="10058040" cy="77720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7772040"/>
              <a:gd name="textAreaBottom" fmla="*/ 7772400 h 7772040"/>
            </a:gdLst>
            <a:ahLst/>
            <a:rect l="textAreaLeft" t="textAreaTop" r="textAreaRight" b="textAreaBottom"/>
            <a:pathLst>
              <a:path w="10058400" h="7772400">
                <a:moveTo>
                  <a:pt x="0" y="7772400"/>
                </a:moveTo>
                <a:lnTo>
                  <a:pt x="10058400" y="7772400"/>
                </a:lnTo>
                <a:lnTo>
                  <a:pt x="10058400" y="0"/>
                </a:lnTo>
                <a:lnTo>
                  <a:pt x="0" y="0"/>
                </a:lnTo>
                <a:lnTo>
                  <a:pt x="0" y="777240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0" y="7190280"/>
            <a:ext cx="10058040" cy="57132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0058400" h="571500">
                <a:moveTo>
                  <a:pt x="0" y="0"/>
                </a:moveTo>
                <a:lnTo>
                  <a:pt x="10058400" y="0"/>
                </a:lnTo>
                <a:lnTo>
                  <a:pt x="10058400" y="571500"/>
                </a:lnTo>
                <a:lnTo>
                  <a:pt x="0" y="57150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0" y="7315200"/>
            <a:ext cx="10058040" cy="4568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w="10058400" h="457200">
                <a:moveTo>
                  <a:pt x="0" y="457200"/>
                </a:moveTo>
                <a:lnTo>
                  <a:pt x="10058400" y="457200"/>
                </a:lnTo>
                <a:lnTo>
                  <a:pt x="10058400" y="0"/>
                </a:lnTo>
                <a:lnTo>
                  <a:pt x="0" y="0"/>
                </a:lnTo>
                <a:lnTo>
                  <a:pt x="0" y="4572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457200" y="6972480"/>
            <a:ext cx="685440" cy="685440"/>
          </a:xfrm>
          <a:custGeom>
            <a:avLst/>
            <a:gdLst>
              <a:gd name="textAreaLeft" fmla="*/ 0 w 685440"/>
              <a:gd name="textAreaRight" fmla="*/ 685800 w 6854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685800" h="685800">
                <a:moveTo>
                  <a:pt x="342900" y="685800"/>
                </a:moveTo>
                <a:cubicBezTo>
                  <a:pt x="532282" y="685800"/>
                  <a:pt x="685800" y="532307"/>
                  <a:pt x="685800" y="342900"/>
                </a:cubicBezTo>
                <a:cubicBezTo>
                  <a:pt x="685800" y="153543"/>
                  <a:pt x="532282" y="0"/>
                  <a:pt x="342900" y="0"/>
                </a:cubicBezTo>
                <a:cubicBezTo>
                  <a:pt x="153517" y="0"/>
                  <a:pt x="0" y="153543"/>
                  <a:pt x="0" y="342900"/>
                </a:cubicBezTo>
                <a:cubicBezTo>
                  <a:pt x="0" y="532307"/>
                  <a:pt x="153517" y="685800"/>
                  <a:pt x="342900" y="685800"/>
                </a:cubicBezTo>
              </a:path>
            </a:pathLst>
          </a:custGeom>
          <a:solidFill>
            <a:srgbClr val="f8490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977760" y="1841400"/>
            <a:ext cx="8089560" cy="609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2717640" y="2463840"/>
            <a:ext cx="2374560" cy="456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3"/>
          <a:stretch/>
        </p:blipFill>
        <p:spPr>
          <a:xfrm>
            <a:off x="5207040" y="2451240"/>
            <a:ext cx="2171520" cy="609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4"/>
          <a:stretch/>
        </p:blipFill>
        <p:spPr>
          <a:xfrm>
            <a:off x="4788000" y="3492360"/>
            <a:ext cx="482400" cy="482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5"/>
          <a:stretch/>
        </p:blipFill>
        <p:spPr>
          <a:xfrm>
            <a:off x="990720" y="4330800"/>
            <a:ext cx="8102160" cy="329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6"/>
          <a:stretch/>
        </p:blipFill>
        <p:spPr>
          <a:xfrm>
            <a:off x="2324160" y="4711680"/>
            <a:ext cx="5409720" cy="329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7"/>
          <a:stretch/>
        </p:blipFill>
        <p:spPr>
          <a:xfrm>
            <a:off x="1828800" y="5321160"/>
            <a:ext cx="6413040" cy="329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8"/>
          <a:stretch/>
        </p:blipFill>
        <p:spPr>
          <a:xfrm>
            <a:off x="825480" y="5702400"/>
            <a:ext cx="8407080" cy="329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9"/>
          <a:stretch/>
        </p:blipFill>
        <p:spPr>
          <a:xfrm>
            <a:off x="2222640" y="6083280"/>
            <a:ext cx="5613120" cy="329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10"/>
          <a:stretch/>
        </p:blipFill>
        <p:spPr>
          <a:xfrm>
            <a:off x="0" y="6959520"/>
            <a:ext cx="10058040" cy="812520"/>
          </a:xfrm>
          <a:prstGeom prst="rect">
            <a:avLst/>
          </a:prstGeom>
          <a:ln w="0">
            <a:noFill/>
          </a:ln>
        </p:spPr>
      </p:pic>
      <p:sp>
        <p:nvSpPr>
          <p:cNvPr id="253" name="矩形 15">
            <a:hlinkClick r:id="rId11"/>
          </p:cNvPr>
          <p:cNvSpPr/>
          <p:nvPr/>
        </p:nvSpPr>
        <p:spPr>
          <a:xfrm>
            <a:off x="0" y="380880"/>
            <a:ext cx="10057680" cy="72766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979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3"/>
          <p:cNvSpPr/>
          <p:nvPr/>
        </p:nvSpPr>
        <p:spPr>
          <a:xfrm>
            <a:off x="0" y="0"/>
            <a:ext cx="10058040" cy="77720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7772040"/>
              <a:gd name="textAreaBottom" fmla="*/ 7772400 h 7772040"/>
            </a:gdLst>
            <a:ahLst/>
            <a:rect l="textAreaLeft" t="textAreaTop" r="textAreaRight" b="textAreaBottom"/>
            <a:pathLst>
              <a:path w="10058400" h="7772400">
                <a:moveTo>
                  <a:pt x="0" y="7772400"/>
                </a:moveTo>
                <a:lnTo>
                  <a:pt x="10058400" y="7772400"/>
                </a:lnTo>
                <a:lnTo>
                  <a:pt x="10058400" y="0"/>
                </a:lnTo>
                <a:lnTo>
                  <a:pt x="0" y="0"/>
                </a:lnTo>
                <a:lnTo>
                  <a:pt x="0" y="777240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0" y="7190280"/>
            <a:ext cx="10058040" cy="57132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0058400" h="571500">
                <a:moveTo>
                  <a:pt x="0" y="0"/>
                </a:moveTo>
                <a:lnTo>
                  <a:pt x="10058400" y="0"/>
                </a:lnTo>
                <a:lnTo>
                  <a:pt x="10058400" y="571500"/>
                </a:lnTo>
                <a:lnTo>
                  <a:pt x="0" y="57150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0" y="7315200"/>
            <a:ext cx="10058040" cy="4568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w="10058400" h="457200">
                <a:moveTo>
                  <a:pt x="0" y="457200"/>
                </a:moveTo>
                <a:lnTo>
                  <a:pt x="10058400" y="457200"/>
                </a:lnTo>
                <a:lnTo>
                  <a:pt x="10058400" y="0"/>
                </a:lnTo>
                <a:lnTo>
                  <a:pt x="0" y="0"/>
                </a:lnTo>
                <a:lnTo>
                  <a:pt x="0" y="4572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457200" y="6972480"/>
            <a:ext cx="685440" cy="685440"/>
          </a:xfrm>
          <a:custGeom>
            <a:avLst/>
            <a:gdLst>
              <a:gd name="textAreaLeft" fmla="*/ 0 w 685440"/>
              <a:gd name="textAreaRight" fmla="*/ 685800 w 6854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685800" h="685800">
                <a:moveTo>
                  <a:pt x="342900" y="685800"/>
                </a:moveTo>
                <a:cubicBezTo>
                  <a:pt x="532282" y="685800"/>
                  <a:pt x="685800" y="532307"/>
                  <a:pt x="685800" y="342900"/>
                </a:cubicBezTo>
                <a:cubicBezTo>
                  <a:pt x="685800" y="153543"/>
                  <a:pt x="532282" y="0"/>
                  <a:pt x="342900" y="0"/>
                </a:cubicBezTo>
                <a:cubicBezTo>
                  <a:pt x="153517" y="0"/>
                  <a:pt x="0" y="153543"/>
                  <a:pt x="0" y="342900"/>
                </a:cubicBezTo>
                <a:cubicBezTo>
                  <a:pt x="0" y="532307"/>
                  <a:pt x="153517" y="685800"/>
                  <a:pt x="342900" y="685800"/>
                </a:cubicBezTo>
              </a:path>
            </a:pathLst>
          </a:custGeom>
          <a:solidFill>
            <a:srgbClr val="f8490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3936960" y="1816200"/>
            <a:ext cx="2171520" cy="266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1409760" y="2425680"/>
            <a:ext cx="7213320" cy="1854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3"/>
          <a:stretch/>
        </p:blipFill>
        <p:spPr>
          <a:xfrm>
            <a:off x="1701720" y="4483080"/>
            <a:ext cx="6641640" cy="3297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4"/>
          <a:stretch/>
        </p:blipFill>
        <p:spPr>
          <a:xfrm>
            <a:off x="1866960" y="4863960"/>
            <a:ext cx="6337080" cy="3297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5"/>
          <a:stretch/>
        </p:blipFill>
        <p:spPr>
          <a:xfrm>
            <a:off x="2019240" y="5245200"/>
            <a:ext cx="6006600" cy="3297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6"/>
          <a:stretch/>
        </p:blipFill>
        <p:spPr>
          <a:xfrm>
            <a:off x="0" y="6959520"/>
            <a:ext cx="10058040" cy="812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7"/>
          <a:stretch/>
        </p:blipFill>
        <p:spPr>
          <a:xfrm>
            <a:off x="0" y="1244520"/>
            <a:ext cx="10058040" cy="6527520"/>
          </a:xfrm>
          <a:prstGeom prst="rect">
            <a:avLst/>
          </a:prstGeom>
          <a:ln w="0">
            <a:noFill/>
          </a:ln>
        </p:spPr>
      </p:pic>
      <p:sp>
        <p:nvSpPr>
          <p:cNvPr id="265" name="矩形 12">
            <a:hlinkClick r:id="rId8"/>
          </p:cNvPr>
          <p:cNvSpPr/>
          <p:nvPr/>
        </p:nvSpPr>
        <p:spPr>
          <a:xfrm>
            <a:off x="0" y="380880"/>
            <a:ext cx="10057680" cy="72766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979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reeform 3"/>
          <p:cNvSpPr/>
          <p:nvPr/>
        </p:nvSpPr>
        <p:spPr>
          <a:xfrm>
            <a:off x="0" y="0"/>
            <a:ext cx="10058040" cy="77720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7772040"/>
              <a:gd name="textAreaBottom" fmla="*/ 7772400 h 7772040"/>
            </a:gdLst>
            <a:ahLst/>
            <a:rect l="textAreaLeft" t="textAreaTop" r="textAreaRight" b="textAreaBottom"/>
            <a:pathLst>
              <a:path w="10058400" h="7772400">
                <a:moveTo>
                  <a:pt x="0" y="7772400"/>
                </a:moveTo>
                <a:lnTo>
                  <a:pt x="10058400" y="7772400"/>
                </a:lnTo>
                <a:lnTo>
                  <a:pt x="10058400" y="0"/>
                </a:lnTo>
                <a:lnTo>
                  <a:pt x="0" y="0"/>
                </a:lnTo>
                <a:lnTo>
                  <a:pt x="0" y="777240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0" y="7190280"/>
            <a:ext cx="10058040" cy="57132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0058400" h="571500">
                <a:moveTo>
                  <a:pt x="0" y="0"/>
                </a:moveTo>
                <a:lnTo>
                  <a:pt x="10058400" y="0"/>
                </a:lnTo>
                <a:lnTo>
                  <a:pt x="10058400" y="571500"/>
                </a:lnTo>
                <a:lnTo>
                  <a:pt x="0" y="57150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0" y="7315200"/>
            <a:ext cx="10058040" cy="4568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w="10058400" h="457200">
                <a:moveTo>
                  <a:pt x="0" y="457200"/>
                </a:moveTo>
                <a:lnTo>
                  <a:pt x="10058400" y="457200"/>
                </a:lnTo>
                <a:lnTo>
                  <a:pt x="10058400" y="0"/>
                </a:lnTo>
                <a:lnTo>
                  <a:pt x="0" y="0"/>
                </a:lnTo>
                <a:lnTo>
                  <a:pt x="0" y="4572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3886200" y="5257800"/>
            <a:ext cx="2285640" cy="571320"/>
          </a:xfrm>
          <a:custGeom>
            <a:avLst/>
            <a:gdLst>
              <a:gd name="textAreaLeft" fmla="*/ 0 w 2285640"/>
              <a:gd name="textAreaRight" fmla="*/ 2286000 w 22856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286000" h="571500">
                <a:moveTo>
                  <a:pt x="0" y="571500"/>
                </a:moveTo>
                <a:lnTo>
                  <a:pt x="2286000" y="571500"/>
                </a:lnTo>
                <a:lnTo>
                  <a:pt x="2286000" y="0"/>
                </a:lnTo>
                <a:lnTo>
                  <a:pt x="0" y="0"/>
                </a:lnTo>
                <a:lnTo>
                  <a:pt x="0" y="571500"/>
                </a:lnTo>
              </a:path>
            </a:pathLst>
          </a:custGeom>
          <a:solidFill>
            <a:srgbClr val="f8490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457200" y="6972480"/>
            <a:ext cx="685440" cy="685440"/>
          </a:xfrm>
          <a:custGeom>
            <a:avLst/>
            <a:gdLst>
              <a:gd name="textAreaLeft" fmla="*/ 0 w 685440"/>
              <a:gd name="textAreaRight" fmla="*/ 685800 w 6854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685800" h="685800">
                <a:moveTo>
                  <a:pt x="342900" y="685800"/>
                </a:moveTo>
                <a:cubicBezTo>
                  <a:pt x="532282" y="685800"/>
                  <a:pt x="685800" y="532307"/>
                  <a:pt x="685800" y="342900"/>
                </a:cubicBezTo>
                <a:cubicBezTo>
                  <a:pt x="685800" y="153543"/>
                  <a:pt x="532282" y="0"/>
                  <a:pt x="342900" y="0"/>
                </a:cubicBezTo>
                <a:cubicBezTo>
                  <a:pt x="153517" y="0"/>
                  <a:pt x="0" y="153543"/>
                  <a:pt x="0" y="342900"/>
                </a:cubicBezTo>
                <a:cubicBezTo>
                  <a:pt x="0" y="532307"/>
                  <a:pt x="153517" y="685800"/>
                  <a:pt x="342900" y="685800"/>
                </a:cubicBezTo>
              </a:path>
            </a:pathLst>
          </a:custGeom>
          <a:solidFill>
            <a:srgbClr val="f8490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2184480" y="1803240"/>
            <a:ext cx="5676480" cy="342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3238560" y="2425680"/>
            <a:ext cx="3593880" cy="495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3"/>
          <a:stretch/>
        </p:blipFill>
        <p:spPr>
          <a:xfrm>
            <a:off x="685800" y="3022560"/>
            <a:ext cx="8712000" cy="1726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02200" y="5423040"/>
            <a:ext cx="1854000" cy="253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6"/>
          <a:stretch/>
        </p:blipFill>
        <p:spPr>
          <a:xfrm>
            <a:off x="0" y="6959520"/>
            <a:ext cx="10058040" cy="812520"/>
          </a:xfrm>
          <a:prstGeom prst="rect">
            <a:avLst/>
          </a:prstGeom>
          <a:ln w="0">
            <a:noFill/>
          </a:ln>
        </p:spPr>
      </p:pic>
      <p:sp>
        <p:nvSpPr>
          <p:cNvPr id="276" name="矩形 11">
            <a:hlinkClick r:id="rId7"/>
          </p:cNvPr>
          <p:cNvSpPr/>
          <p:nvPr/>
        </p:nvSpPr>
        <p:spPr>
          <a:xfrm>
            <a:off x="0" y="380880"/>
            <a:ext cx="10057680" cy="72766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979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reeform 3"/>
          <p:cNvSpPr/>
          <p:nvPr/>
        </p:nvSpPr>
        <p:spPr>
          <a:xfrm>
            <a:off x="0" y="0"/>
            <a:ext cx="10058040" cy="77720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7772040"/>
              <a:gd name="textAreaBottom" fmla="*/ 7772400 h 7772040"/>
            </a:gdLst>
            <a:ahLst/>
            <a:rect l="textAreaLeft" t="textAreaTop" r="textAreaRight" b="textAreaBottom"/>
            <a:pathLst>
              <a:path w="10058400" h="7772400">
                <a:moveTo>
                  <a:pt x="0" y="7772400"/>
                </a:moveTo>
                <a:lnTo>
                  <a:pt x="10058400" y="7772400"/>
                </a:lnTo>
                <a:lnTo>
                  <a:pt x="10058400" y="0"/>
                </a:lnTo>
                <a:lnTo>
                  <a:pt x="0" y="0"/>
                </a:lnTo>
                <a:lnTo>
                  <a:pt x="0" y="77724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0" y="7190280"/>
            <a:ext cx="10058040" cy="57132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0058400" h="571500">
                <a:moveTo>
                  <a:pt x="0" y="0"/>
                </a:moveTo>
                <a:lnTo>
                  <a:pt x="10058400" y="0"/>
                </a:lnTo>
                <a:lnTo>
                  <a:pt x="10058400" y="571500"/>
                </a:lnTo>
                <a:lnTo>
                  <a:pt x="0" y="57150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0" y="7315200"/>
            <a:ext cx="10058040" cy="4568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w="10058400" h="457200">
                <a:moveTo>
                  <a:pt x="0" y="457200"/>
                </a:moveTo>
                <a:lnTo>
                  <a:pt x="10058400" y="457200"/>
                </a:lnTo>
                <a:lnTo>
                  <a:pt x="10058400" y="0"/>
                </a:lnTo>
                <a:lnTo>
                  <a:pt x="0" y="0"/>
                </a:lnTo>
                <a:lnTo>
                  <a:pt x="0" y="4572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457200" y="6972480"/>
            <a:ext cx="685440" cy="685440"/>
          </a:xfrm>
          <a:custGeom>
            <a:avLst/>
            <a:gdLst>
              <a:gd name="textAreaLeft" fmla="*/ 0 w 685440"/>
              <a:gd name="textAreaRight" fmla="*/ 685800 w 6854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685800" h="685800">
                <a:moveTo>
                  <a:pt x="342900" y="685800"/>
                </a:moveTo>
                <a:cubicBezTo>
                  <a:pt x="532282" y="685800"/>
                  <a:pt x="685800" y="532307"/>
                  <a:pt x="685800" y="342900"/>
                </a:cubicBezTo>
                <a:cubicBezTo>
                  <a:pt x="685800" y="153543"/>
                  <a:pt x="532282" y="0"/>
                  <a:pt x="342900" y="0"/>
                </a:cubicBezTo>
                <a:cubicBezTo>
                  <a:pt x="153517" y="0"/>
                  <a:pt x="0" y="153543"/>
                  <a:pt x="0" y="342900"/>
                </a:cubicBezTo>
                <a:cubicBezTo>
                  <a:pt x="0" y="532307"/>
                  <a:pt x="153517" y="685800"/>
                  <a:pt x="342900" y="685800"/>
                </a:cubicBezTo>
              </a:path>
            </a:pathLst>
          </a:custGeom>
          <a:solidFill>
            <a:srgbClr val="f8490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1371600" y="457200"/>
            <a:ext cx="5486040" cy="5486040"/>
          </a:xfrm>
          <a:custGeom>
            <a:avLst/>
            <a:gdLst>
              <a:gd name="textAreaLeft" fmla="*/ 0 w 5486040"/>
              <a:gd name="textAreaRight" fmla="*/ 5486400 w 5486040"/>
              <a:gd name="textAreaTop" fmla="*/ 0 h 5486040"/>
              <a:gd name="textAreaBottom" fmla="*/ 5486400 h 5486040"/>
            </a:gdLst>
            <a:ahLst/>
            <a:rect l="textAreaLeft" t="textAreaTop" r="textAreaRight" b="textAreaBottom"/>
            <a:pathLst>
              <a:path w="5486400" h="5486400">
                <a:moveTo>
                  <a:pt x="2743200" y="5486400"/>
                </a:moveTo>
                <a:cubicBezTo>
                  <a:pt x="4258233" y="5486400"/>
                  <a:pt x="5486400" y="4258233"/>
                  <a:pt x="5486400" y="2743200"/>
                </a:cubicBezTo>
                <a:cubicBezTo>
                  <a:pt x="5486400" y="1228166"/>
                  <a:pt x="4258233" y="0"/>
                  <a:pt x="2743200" y="0"/>
                </a:cubicBezTo>
                <a:cubicBezTo>
                  <a:pt x="1228166" y="0"/>
                  <a:pt x="0" y="1228166"/>
                  <a:pt x="0" y="2743200"/>
                </a:cubicBezTo>
                <a:cubicBezTo>
                  <a:pt x="0" y="4258233"/>
                  <a:pt x="1228166" y="5486400"/>
                  <a:pt x="2743200" y="548640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4114800" y="457200"/>
            <a:ext cx="5486040" cy="5486040"/>
          </a:xfrm>
          <a:custGeom>
            <a:avLst/>
            <a:gdLst>
              <a:gd name="textAreaLeft" fmla="*/ 0 w 5486040"/>
              <a:gd name="textAreaRight" fmla="*/ 5486400 w 5486040"/>
              <a:gd name="textAreaTop" fmla="*/ 0 h 5486040"/>
              <a:gd name="textAreaBottom" fmla="*/ 5486400 h 5486040"/>
            </a:gdLst>
            <a:ahLst/>
            <a:rect l="textAreaLeft" t="textAreaTop" r="textAreaRight" b="textAreaBottom"/>
            <a:pathLst>
              <a:path w="5486400" h="5486400">
                <a:moveTo>
                  <a:pt x="2743200" y="5486400"/>
                </a:moveTo>
                <a:cubicBezTo>
                  <a:pt x="4258233" y="5486400"/>
                  <a:pt x="5486400" y="4258233"/>
                  <a:pt x="5486400" y="2743200"/>
                </a:cubicBezTo>
                <a:cubicBezTo>
                  <a:pt x="5486400" y="1228166"/>
                  <a:pt x="4258233" y="0"/>
                  <a:pt x="2743200" y="0"/>
                </a:cubicBezTo>
                <a:cubicBezTo>
                  <a:pt x="1228166" y="0"/>
                  <a:pt x="0" y="1228166"/>
                  <a:pt x="0" y="2743200"/>
                </a:cubicBezTo>
                <a:cubicBezTo>
                  <a:pt x="0" y="4258233"/>
                  <a:pt x="1228166" y="5486400"/>
                  <a:pt x="2743200" y="548640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057400" y="2502000"/>
            <a:ext cx="1549080" cy="495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6311880" y="2502000"/>
            <a:ext cx="2603160" cy="495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3"/>
          <a:stretch/>
        </p:blipFill>
        <p:spPr>
          <a:xfrm>
            <a:off x="2057400" y="3111480"/>
            <a:ext cx="1790280" cy="634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4"/>
          <a:stretch/>
        </p:blipFill>
        <p:spPr>
          <a:xfrm>
            <a:off x="6197760" y="3111480"/>
            <a:ext cx="2692080" cy="634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5"/>
          <a:stretch/>
        </p:blipFill>
        <p:spPr>
          <a:xfrm>
            <a:off x="2044800" y="3873600"/>
            <a:ext cx="3301560" cy="685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6"/>
          <a:stretch/>
        </p:blipFill>
        <p:spPr>
          <a:xfrm>
            <a:off x="2044800" y="4559400"/>
            <a:ext cx="2120400" cy="228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7"/>
          <a:stretch/>
        </p:blipFill>
        <p:spPr>
          <a:xfrm>
            <a:off x="5778360" y="3873600"/>
            <a:ext cx="3149280" cy="456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8"/>
          <a:stretch/>
        </p:blipFill>
        <p:spPr>
          <a:xfrm>
            <a:off x="6095880" y="4330800"/>
            <a:ext cx="2819160" cy="456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9"/>
          <a:stretch/>
        </p:blipFill>
        <p:spPr>
          <a:xfrm>
            <a:off x="0" y="6959520"/>
            <a:ext cx="10058040" cy="812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10"/>
          <a:stretch/>
        </p:blipFill>
        <p:spPr>
          <a:xfrm>
            <a:off x="0" y="0"/>
            <a:ext cx="9842040" cy="7327440"/>
          </a:xfrm>
          <a:prstGeom prst="rect">
            <a:avLst/>
          </a:prstGeom>
          <a:ln w="0">
            <a:noFill/>
          </a:ln>
        </p:spPr>
      </p:pic>
      <p:sp>
        <p:nvSpPr>
          <p:cNvPr id="109" name="矩形 17">
            <a:hlinkClick r:id="rId11"/>
          </p:cNvPr>
          <p:cNvSpPr/>
          <p:nvPr/>
        </p:nvSpPr>
        <p:spPr>
          <a:xfrm>
            <a:off x="0" y="380880"/>
            <a:ext cx="10057680" cy="72766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979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reeform 3"/>
          <p:cNvSpPr/>
          <p:nvPr/>
        </p:nvSpPr>
        <p:spPr>
          <a:xfrm>
            <a:off x="0" y="0"/>
            <a:ext cx="10058040" cy="77720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7772040"/>
              <a:gd name="textAreaBottom" fmla="*/ 7772400 h 7772040"/>
            </a:gdLst>
            <a:ahLst/>
            <a:rect l="textAreaLeft" t="textAreaTop" r="textAreaRight" b="textAreaBottom"/>
            <a:pathLst>
              <a:path w="10058400" h="7772400">
                <a:moveTo>
                  <a:pt x="0" y="7772400"/>
                </a:moveTo>
                <a:lnTo>
                  <a:pt x="10058400" y="7772400"/>
                </a:lnTo>
                <a:lnTo>
                  <a:pt x="10058400" y="0"/>
                </a:lnTo>
                <a:lnTo>
                  <a:pt x="0" y="0"/>
                </a:lnTo>
                <a:lnTo>
                  <a:pt x="0" y="77724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0" y="7190280"/>
            <a:ext cx="10058040" cy="57132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0058400" h="571500">
                <a:moveTo>
                  <a:pt x="0" y="0"/>
                </a:moveTo>
                <a:lnTo>
                  <a:pt x="10058400" y="0"/>
                </a:lnTo>
                <a:lnTo>
                  <a:pt x="10058400" y="571500"/>
                </a:lnTo>
                <a:lnTo>
                  <a:pt x="0" y="57150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0" y="7315200"/>
            <a:ext cx="10058040" cy="4568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w="10058400" h="457200">
                <a:moveTo>
                  <a:pt x="0" y="457200"/>
                </a:moveTo>
                <a:lnTo>
                  <a:pt x="10058400" y="457200"/>
                </a:lnTo>
                <a:lnTo>
                  <a:pt x="10058400" y="0"/>
                </a:lnTo>
                <a:lnTo>
                  <a:pt x="0" y="0"/>
                </a:lnTo>
                <a:lnTo>
                  <a:pt x="0" y="4572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457200" y="6972480"/>
            <a:ext cx="685440" cy="685440"/>
          </a:xfrm>
          <a:custGeom>
            <a:avLst/>
            <a:gdLst>
              <a:gd name="textAreaLeft" fmla="*/ 0 w 685440"/>
              <a:gd name="textAreaRight" fmla="*/ 685800 w 6854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685800" h="685800">
                <a:moveTo>
                  <a:pt x="342900" y="685800"/>
                </a:moveTo>
                <a:cubicBezTo>
                  <a:pt x="532282" y="685800"/>
                  <a:pt x="685800" y="532307"/>
                  <a:pt x="685800" y="342900"/>
                </a:cubicBezTo>
                <a:cubicBezTo>
                  <a:pt x="685800" y="153543"/>
                  <a:pt x="532282" y="0"/>
                  <a:pt x="342900" y="0"/>
                </a:cubicBezTo>
                <a:cubicBezTo>
                  <a:pt x="153517" y="0"/>
                  <a:pt x="0" y="153543"/>
                  <a:pt x="0" y="342900"/>
                </a:cubicBezTo>
                <a:cubicBezTo>
                  <a:pt x="0" y="532307"/>
                  <a:pt x="153517" y="685800"/>
                  <a:pt x="342900" y="685800"/>
                </a:cubicBezTo>
              </a:path>
            </a:pathLst>
          </a:custGeom>
          <a:solidFill>
            <a:srgbClr val="f8490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1371600" y="457200"/>
            <a:ext cx="5486040" cy="5486040"/>
          </a:xfrm>
          <a:custGeom>
            <a:avLst/>
            <a:gdLst>
              <a:gd name="textAreaLeft" fmla="*/ 0 w 5486040"/>
              <a:gd name="textAreaRight" fmla="*/ 5486400 w 5486040"/>
              <a:gd name="textAreaTop" fmla="*/ 0 h 5486040"/>
              <a:gd name="textAreaBottom" fmla="*/ 5486400 h 5486040"/>
            </a:gdLst>
            <a:ahLst/>
            <a:rect l="textAreaLeft" t="textAreaTop" r="textAreaRight" b="textAreaBottom"/>
            <a:pathLst>
              <a:path w="5486400" h="5486400">
                <a:moveTo>
                  <a:pt x="2743200" y="5486400"/>
                </a:moveTo>
                <a:cubicBezTo>
                  <a:pt x="4258233" y="5486400"/>
                  <a:pt x="5486400" y="4258233"/>
                  <a:pt x="5486400" y="2743200"/>
                </a:cubicBezTo>
                <a:cubicBezTo>
                  <a:pt x="5486400" y="1228166"/>
                  <a:pt x="4258233" y="0"/>
                  <a:pt x="2743200" y="0"/>
                </a:cubicBezTo>
                <a:cubicBezTo>
                  <a:pt x="1228166" y="0"/>
                  <a:pt x="0" y="1228166"/>
                  <a:pt x="0" y="2743200"/>
                </a:cubicBezTo>
                <a:cubicBezTo>
                  <a:pt x="0" y="4258233"/>
                  <a:pt x="1228166" y="5486400"/>
                  <a:pt x="2743200" y="548640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4114800" y="457200"/>
            <a:ext cx="5486040" cy="5486040"/>
          </a:xfrm>
          <a:custGeom>
            <a:avLst/>
            <a:gdLst>
              <a:gd name="textAreaLeft" fmla="*/ 0 w 5486040"/>
              <a:gd name="textAreaRight" fmla="*/ 5486400 w 5486040"/>
              <a:gd name="textAreaTop" fmla="*/ 0 h 5486040"/>
              <a:gd name="textAreaBottom" fmla="*/ 5486400 h 5486040"/>
            </a:gdLst>
            <a:ahLst/>
            <a:rect l="textAreaLeft" t="textAreaTop" r="textAreaRight" b="textAreaBottom"/>
            <a:pathLst>
              <a:path w="5486400" h="5486400">
                <a:moveTo>
                  <a:pt x="2743200" y="5486400"/>
                </a:moveTo>
                <a:cubicBezTo>
                  <a:pt x="4258233" y="5486400"/>
                  <a:pt x="5486400" y="4258233"/>
                  <a:pt x="5486400" y="2743200"/>
                </a:cubicBezTo>
                <a:cubicBezTo>
                  <a:pt x="5486400" y="1228166"/>
                  <a:pt x="4258233" y="0"/>
                  <a:pt x="2743200" y="0"/>
                </a:cubicBezTo>
                <a:cubicBezTo>
                  <a:pt x="1228166" y="0"/>
                  <a:pt x="0" y="1228166"/>
                  <a:pt x="0" y="2743200"/>
                </a:cubicBezTo>
                <a:cubicBezTo>
                  <a:pt x="0" y="4258233"/>
                  <a:pt x="1228166" y="5486400"/>
                  <a:pt x="2743200" y="548640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5315040" y="3029040"/>
            <a:ext cx="342720" cy="342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342900" h="342900">
                <a:moveTo>
                  <a:pt x="171450" y="311150"/>
                </a:moveTo>
                <a:cubicBezTo>
                  <a:pt x="248475" y="311150"/>
                  <a:pt x="311150" y="248475"/>
                  <a:pt x="311150" y="171450"/>
                </a:cubicBezTo>
                <a:cubicBezTo>
                  <a:pt x="311150" y="94424"/>
                  <a:pt x="248475" y="31750"/>
                  <a:pt x="171450" y="31750"/>
                </a:cubicBezTo>
                <a:cubicBezTo>
                  <a:pt x="94424" y="31750"/>
                  <a:pt x="31750" y="94424"/>
                  <a:pt x="31750" y="171450"/>
                </a:cubicBezTo>
                <a:cubicBezTo>
                  <a:pt x="31750" y="248475"/>
                  <a:pt x="94424" y="311150"/>
                  <a:pt x="171450" y="311150"/>
                </a:cubicBezTo>
              </a:path>
            </a:pathLst>
          </a:custGeom>
          <a:noFill/>
          <a:ln w="635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5473800" y="3393360"/>
            <a:ext cx="50400" cy="694440"/>
          </a:xfrm>
          <a:custGeom>
            <a:avLst/>
            <a:gdLst>
              <a:gd name="textAreaLeft" fmla="*/ 0 w 50400"/>
              <a:gd name="textAreaRight" fmla="*/ 50760 w 50400"/>
              <a:gd name="textAreaTop" fmla="*/ 0 h 694440"/>
              <a:gd name="textAreaBottom" fmla="*/ 694800 h 694440"/>
            </a:gdLst>
            <a:ahLst/>
            <a:rect l="textAreaLeft" t="textAreaTop" r="textAreaRight" b="textAreaBottom"/>
            <a:pathLst>
              <a:path w="50800" h="694690">
                <a:moveTo>
                  <a:pt x="12700" y="12700"/>
                </a:moveTo>
                <a:lnTo>
                  <a:pt x="12700" y="681989"/>
                </a:lnTo>
              </a:path>
            </a:pathLst>
          </a:custGeom>
          <a:noFill/>
          <a:ln w="25400">
            <a:solidFill>
              <a:srgbClr val="ffffff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2057400" y="2502000"/>
            <a:ext cx="1549080" cy="495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6311880" y="2502000"/>
            <a:ext cx="2603160" cy="49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2057400" y="3111480"/>
            <a:ext cx="1790280" cy="634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4"/>
          <a:stretch/>
        </p:blipFill>
        <p:spPr>
          <a:xfrm>
            <a:off x="6197760" y="3111480"/>
            <a:ext cx="2692080" cy="634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5"/>
          <a:stretch/>
        </p:blipFill>
        <p:spPr>
          <a:xfrm>
            <a:off x="3022560" y="4216320"/>
            <a:ext cx="4939920" cy="253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6"/>
          <a:stretch/>
        </p:blipFill>
        <p:spPr>
          <a:xfrm>
            <a:off x="3327480" y="4521240"/>
            <a:ext cx="4330440" cy="253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7"/>
          <a:stretch/>
        </p:blipFill>
        <p:spPr>
          <a:xfrm>
            <a:off x="3441600" y="4826160"/>
            <a:ext cx="4088880" cy="253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8"/>
          <a:stretch/>
        </p:blipFill>
        <p:spPr>
          <a:xfrm>
            <a:off x="3594240" y="5130720"/>
            <a:ext cx="3771720" cy="253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9"/>
          <a:stretch/>
        </p:blipFill>
        <p:spPr>
          <a:xfrm>
            <a:off x="0" y="6959520"/>
            <a:ext cx="10058040" cy="812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10"/>
          <a:stretch/>
        </p:blipFill>
        <p:spPr>
          <a:xfrm>
            <a:off x="0" y="0"/>
            <a:ext cx="9842040" cy="73274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9">
            <a:hlinkClick r:id="rId11"/>
          </p:cNvPr>
          <p:cNvSpPr/>
          <p:nvPr/>
        </p:nvSpPr>
        <p:spPr>
          <a:xfrm>
            <a:off x="0" y="380880"/>
            <a:ext cx="10057680" cy="72766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979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3"/>
          <p:cNvSpPr/>
          <p:nvPr/>
        </p:nvSpPr>
        <p:spPr>
          <a:xfrm>
            <a:off x="7658280" y="6058080"/>
            <a:ext cx="1942920" cy="102852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1943100" h="1028700">
                <a:moveTo>
                  <a:pt x="152400" y="0"/>
                </a:moveTo>
                <a:cubicBezTo>
                  <a:pt x="152400" y="0"/>
                  <a:pt x="0" y="0"/>
                  <a:pt x="0" y="152400"/>
                </a:cubicBezTo>
                <a:lnTo>
                  <a:pt x="0" y="876300"/>
                </a:lnTo>
                <a:cubicBezTo>
                  <a:pt x="0" y="876300"/>
                  <a:pt x="0" y="1028700"/>
                  <a:pt x="152400" y="1028700"/>
                </a:cubicBezTo>
                <a:lnTo>
                  <a:pt x="1790700" y="1028700"/>
                </a:lnTo>
                <a:cubicBezTo>
                  <a:pt x="1790700" y="1028700"/>
                  <a:pt x="1943100" y="1028700"/>
                  <a:pt x="1943100" y="876300"/>
                </a:cubicBezTo>
                <a:lnTo>
                  <a:pt x="1943100" y="152400"/>
                </a:lnTo>
                <a:cubicBezTo>
                  <a:pt x="1943100" y="152400"/>
                  <a:pt x="1943100" y="0"/>
                  <a:pt x="1790700" y="0"/>
                </a:cubicBezTo>
                <a:lnTo>
                  <a:pt x="15240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9601200" y="6286680"/>
            <a:ext cx="228240" cy="342720"/>
          </a:xfrm>
          <a:custGeom>
            <a:avLst/>
            <a:gdLst>
              <a:gd name="textAreaLeft" fmla="*/ 0 w 228240"/>
              <a:gd name="textAreaRight" fmla="*/ 228600 w 2282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28600" h="342900">
                <a:moveTo>
                  <a:pt x="0" y="342900"/>
                </a:moveTo>
                <a:lnTo>
                  <a:pt x="228600" y="171450"/>
                </a:lnTo>
                <a:lnTo>
                  <a:pt x="0" y="0"/>
                </a:lnTo>
                <a:lnTo>
                  <a:pt x="0" y="34290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3275280" y="2005200"/>
            <a:ext cx="501840" cy="803160"/>
          </a:xfrm>
          <a:custGeom>
            <a:avLst/>
            <a:gdLst>
              <a:gd name="textAreaLeft" fmla="*/ 0 w 501840"/>
              <a:gd name="textAreaRight" fmla="*/ 502200 w 50184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502297" h="803668">
                <a:moveTo>
                  <a:pt x="0" y="803668"/>
                </a:moveTo>
                <a:lnTo>
                  <a:pt x="502297" y="803668"/>
                </a:lnTo>
                <a:lnTo>
                  <a:pt x="502297" y="642937"/>
                </a:lnTo>
                <a:lnTo>
                  <a:pt x="178599" y="642937"/>
                </a:lnTo>
                <a:lnTo>
                  <a:pt x="178599" y="0"/>
                </a:lnTo>
                <a:lnTo>
                  <a:pt x="0" y="0"/>
                </a:lnTo>
                <a:lnTo>
                  <a:pt x="0" y="803668"/>
                </a:lnTo>
              </a:path>
            </a:pathLst>
          </a:custGeom>
          <a:solidFill>
            <a:srgbClr val="2fa3a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3818880" y="2005200"/>
            <a:ext cx="178200" cy="803160"/>
          </a:xfrm>
          <a:custGeom>
            <a:avLst/>
            <a:gdLst>
              <a:gd name="textAreaLeft" fmla="*/ 0 w 178200"/>
              <a:gd name="textAreaRight" fmla="*/ 178560 w 17820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178600" h="803668">
                <a:moveTo>
                  <a:pt x="0" y="803668"/>
                </a:moveTo>
                <a:lnTo>
                  <a:pt x="178600" y="803668"/>
                </a:lnTo>
                <a:lnTo>
                  <a:pt x="178600" y="0"/>
                </a:lnTo>
                <a:lnTo>
                  <a:pt x="0" y="0"/>
                </a:lnTo>
                <a:lnTo>
                  <a:pt x="0" y="803668"/>
                </a:lnTo>
              </a:path>
            </a:pathLst>
          </a:custGeom>
          <a:solidFill>
            <a:srgbClr val="2fa3a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4068360" y="1987200"/>
            <a:ext cx="561240" cy="821160"/>
          </a:xfrm>
          <a:custGeom>
            <a:avLst/>
            <a:gdLst>
              <a:gd name="textAreaLeft" fmla="*/ 0 w 561240"/>
              <a:gd name="textAreaRight" fmla="*/ 561600 w 561240"/>
              <a:gd name="textAreaTop" fmla="*/ 0 h 821160"/>
              <a:gd name="textAreaBottom" fmla="*/ 821520 h 821160"/>
            </a:gdLst>
            <a:ahLst/>
            <a:rect l="textAreaLeft" t="textAreaTop" r="textAreaRight" b="textAreaBottom"/>
            <a:pathLst>
              <a:path w="561454" h="821524">
                <a:moveTo>
                  <a:pt x="561454" y="82587"/>
                </a:moveTo>
                <a:cubicBezTo>
                  <a:pt x="495325" y="23431"/>
                  <a:pt x="410768" y="0"/>
                  <a:pt x="322592" y="0"/>
                </a:cubicBezTo>
                <a:cubicBezTo>
                  <a:pt x="169671" y="0"/>
                  <a:pt x="25679" y="86499"/>
                  <a:pt x="25679" y="251980"/>
                </a:cubicBezTo>
                <a:cubicBezTo>
                  <a:pt x="25679" y="510666"/>
                  <a:pt x="382866" y="433920"/>
                  <a:pt x="382866" y="576237"/>
                </a:cubicBezTo>
                <a:cubicBezTo>
                  <a:pt x="382866" y="631215"/>
                  <a:pt x="322033" y="657440"/>
                  <a:pt x="267614" y="657440"/>
                </a:cubicBezTo>
                <a:cubicBezTo>
                  <a:pt x="212356" y="657440"/>
                  <a:pt x="156832" y="630097"/>
                  <a:pt x="122783" y="584326"/>
                </a:cubicBezTo>
                <a:lnTo>
                  <a:pt x="0" y="720229"/>
                </a:lnTo>
                <a:cubicBezTo>
                  <a:pt x="73672" y="790828"/>
                  <a:pt x="161569" y="821524"/>
                  <a:pt x="261480" y="821524"/>
                </a:cubicBezTo>
                <a:cubicBezTo>
                  <a:pt x="421931" y="821524"/>
                  <a:pt x="561454" y="738924"/>
                  <a:pt x="561454" y="564794"/>
                </a:cubicBezTo>
                <a:cubicBezTo>
                  <a:pt x="561454" y="291884"/>
                  <a:pt x="204266" y="383133"/>
                  <a:pt x="204266" y="241096"/>
                </a:cubicBezTo>
                <a:cubicBezTo>
                  <a:pt x="204266" y="182778"/>
                  <a:pt x="269569" y="160731"/>
                  <a:pt x="317004" y="160731"/>
                </a:cubicBezTo>
                <a:cubicBezTo>
                  <a:pt x="357746" y="160731"/>
                  <a:pt x="411327" y="176910"/>
                  <a:pt x="438112" y="211797"/>
                </a:cubicBezTo>
                <a:lnTo>
                  <a:pt x="561454" y="82587"/>
                </a:lnTo>
              </a:path>
            </a:pathLst>
          </a:custGeom>
          <a:solidFill>
            <a:srgbClr val="2fa3a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4669920" y="2005200"/>
            <a:ext cx="630720" cy="803160"/>
          </a:xfrm>
          <a:custGeom>
            <a:avLst/>
            <a:gdLst>
              <a:gd name="textAreaLeft" fmla="*/ 0 w 630720"/>
              <a:gd name="textAreaRight" fmla="*/ 631080 w 63072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631228" h="803668">
                <a:moveTo>
                  <a:pt x="226313" y="803668"/>
                </a:moveTo>
                <a:lnTo>
                  <a:pt x="404914" y="803668"/>
                </a:lnTo>
                <a:lnTo>
                  <a:pt x="404914" y="157099"/>
                </a:lnTo>
                <a:lnTo>
                  <a:pt x="631228" y="157099"/>
                </a:lnTo>
                <a:lnTo>
                  <a:pt x="631228" y="0"/>
                </a:lnTo>
                <a:lnTo>
                  <a:pt x="0" y="0"/>
                </a:lnTo>
                <a:lnTo>
                  <a:pt x="0" y="157099"/>
                </a:lnTo>
                <a:lnTo>
                  <a:pt x="226313" y="157099"/>
                </a:lnTo>
                <a:lnTo>
                  <a:pt x="226313" y="803668"/>
                </a:lnTo>
              </a:path>
            </a:pathLst>
          </a:custGeom>
          <a:solidFill>
            <a:srgbClr val="2fa3a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5356800" y="2005200"/>
            <a:ext cx="562320" cy="803160"/>
          </a:xfrm>
          <a:custGeom>
            <a:avLst/>
            <a:gdLst>
              <a:gd name="textAreaLeft" fmla="*/ 0 w 562320"/>
              <a:gd name="textAreaRight" fmla="*/ 562680 w 56232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562851" h="803668">
                <a:moveTo>
                  <a:pt x="0" y="803668"/>
                </a:moveTo>
                <a:lnTo>
                  <a:pt x="562851" y="803668"/>
                </a:lnTo>
                <a:lnTo>
                  <a:pt x="562851" y="642937"/>
                </a:lnTo>
                <a:lnTo>
                  <a:pt x="178599" y="642937"/>
                </a:lnTo>
                <a:lnTo>
                  <a:pt x="178599" y="482206"/>
                </a:lnTo>
                <a:lnTo>
                  <a:pt x="522389" y="482206"/>
                </a:lnTo>
                <a:lnTo>
                  <a:pt x="522389" y="318122"/>
                </a:lnTo>
                <a:lnTo>
                  <a:pt x="178599" y="318122"/>
                </a:lnTo>
                <a:lnTo>
                  <a:pt x="178599" y="164083"/>
                </a:lnTo>
                <a:lnTo>
                  <a:pt x="542759" y="164083"/>
                </a:lnTo>
                <a:lnTo>
                  <a:pt x="542759" y="0"/>
                </a:lnTo>
                <a:lnTo>
                  <a:pt x="0" y="0"/>
                </a:lnTo>
                <a:lnTo>
                  <a:pt x="0" y="803668"/>
                </a:lnTo>
              </a:path>
            </a:pathLst>
          </a:custGeom>
          <a:solidFill>
            <a:srgbClr val="2fa3a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6030360" y="2005200"/>
            <a:ext cx="749880" cy="803160"/>
          </a:xfrm>
          <a:custGeom>
            <a:avLst/>
            <a:gdLst>
              <a:gd name="textAreaLeft" fmla="*/ 0 w 749880"/>
              <a:gd name="textAreaRight" fmla="*/ 750240 w 74988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750100" h="803668">
                <a:moveTo>
                  <a:pt x="0" y="803668"/>
                </a:moveTo>
                <a:lnTo>
                  <a:pt x="178599" y="803668"/>
                </a:lnTo>
                <a:lnTo>
                  <a:pt x="178599" y="231609"/>
                </a:lnTo>
                <a:lnTo>
                  <a:pt x="180835" y="231609"/>
                </a:lnTo>
                <a:lnTo>
                  <a:pt x="519036" y="803668"/>
                </a:lnTo>
                <a:lnTo>
                  <a:pt x="750100" y="803668"/>
                </a:lnTo>
                <a:lnTo>
                  <a:pt x="750100" y="0"/>
                </a:lnTo>
                <a:lnTo>
                  <a:pt x="571499" y="0"/>
                </a:lnTo>
                <a:lnTo>
                  <a:pt x="571499" y="558381"/>
                </a:lnTo>
                <a:lnTo>
                  <a:pt x="569264" y="558381"/>
                </a:lnTo>
                <a:lnTo>
                  <a:pt x="239991" y="0"/>
                </a:lnTo>
                <a:lnTo>
                  <a:pt x="0" y="0"/>
                </a:lnTo>
                <a:lnTo>
                  <a:pt x="0" y="803668"/>
                </a:lnTo>
              </a:path>
            </a:pathLst>
          </a:custGeom>
          <a:solidFill>
            <a:srgbClr val="2fa3a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0" y="7190280"/>
            <a:ext cx="10058040" cy="57132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0058400" h="571500">
                <a:moveTo>
                  <a:pt x="0" y="0"/>
                </a:moveTo>
                <a:lnTo>
                  <a:pt x="10058400" y="0"/>
                </a:lnTo>
                <a:lnTo>
                  <a:pt x="10058400" y="571500"/>
                </a:lnTo>
                <a:lnTo>
                  <a:pt x="0" y="57150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0" y="7315200"/>
            <a:ext cx="10058040" cy="4568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w="10058400" h="457200">
                <a:moveTo>
                  <a:pt x="0" y="457200"/>
                </a:moveTo>
                <a:lnTo>
                  <a:pt x="10058400" y="457200"/>
                </a:lnTo>
                <a:lnTo>
                  <a:pt x="10058400" y="0"/>
                </a:lnTo>
                <a:lnTo>
                  <a:pt x="0" y="0"/>
                </a:lnTo>
                <a:lnTo>
                  <a:pt x="0" y="4572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457200" y="6972480"/>
            <a:ext cx="685440" cy="685440"/>
          </a:xfrm>
          <a:custGeom>
            <a:avLst/>
            <a:gdLst>
              <a:gd name="textAreaLeft" fmla="*/ 0 w 685440"/>
              <a:gd name="textAreaRight" fmla="*/ 685800 w 6854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685800" h="685800">
                <a:moveTo>
                  <a:pt x="342900" y="685800"/>
                </a:moveTo>
                <a:cubicBezTo>
                  <a:pt x="532282" y="685800"/>
                  <a:pt x="685800" y="532307"/>
                  <a:pt x="685800" y="342900"/>
                </a:cubicBezTo>
                <a:cubicBezTo>
                  <a:pt x="685800" y="153543"/>
                  <a:pt x="532282" y="0"/>
                  <a:pt x="342900" y="0"/>
                </a:cubicBezTo>
                <a:cubicBezTo>
                  <a:pt x="153517" y="0"/>
                  <a:pt x="0" y="153543"/>
                  <a:pt x="0" y="342900"/>
                </a:cubicBezTo>
                <a:cubicBezTo>
                  <a:pt x="0" y="532307"/>
                  <a:pt x="153517" y="685800"/>
                  <a:pt x="342900" y="685800"/>
                </a:cubicBezTo>
              </a:path>
            </a:pathLst>
          </a:custGeom>
          <a:solidFill>
            <a:srgbClr val="f8490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6972480" y="4229280"/>
            <a:ext cx="1828440" cy="1142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1142640"/>
              <a:gd name="textAreaBottom" fmla="*/ 1143000 h 1142640"/>
            </a:gdLst>
            <a:ahLst/>
            <a:rect l="textAreaLeft" t="textAreaTop" r="textAreaRight" b="textAreaBottom"/>
            <a:pathLst>
              <a:path w="1828800" h="1143000">
                <a:moveTo>
                  <a:pt x="152400" y="0"/>
                </a:moveTo>
                <a:cubicBezTo>
                  <a:pt x="152400" y="0"/>
                  <a:pt x="0" y="0"/>
                  <a:pt x="0" y="152400"/>
                </a:cubicBezTo>
                <a:lnTo>
                  <a:pt x="0" y="990600"/>
                </a:lnTo>
                <a:cubicBezTo>
                  <a:pt x="0" y="990600"/>
                  <a:pt x="0" y="1143000"/>
                  <a:pt x="152400" y="1143000"/>
                </a:cubicBezTo>
                <a:lnTo>
                  <a:pt x="1676400" y="1143000"/>
                </a:lnTo>
                <a:cubicBezTo>
                  <a:pt x="1676400" y="1143000"/>
                  <a:pt x="1828800" y="1143000"/>
                  <a:pt x="1828800" y="990600"/>
                </a:cubicBezTo>
                <a:lnTo>
                  <a:pt x="1828800" y="152400"/>
                </a:lnTo>
                <a:cubicBezTo>
                  <a:pt x="1828800" y="152400"/>
                  <a:pt x="1828800" y="0"/>
                  <a:pt x="1676400" y="0"/>
                </a:cubicBezTo>
                <a:lnTo>
                  <a:pt x="15240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Freeform 3"/>
          <p:cNvSpPr/>
          <p:nvPr/>
        </p:nvSpPr>
        <p:spPr>
          <a:xfrm>
            <a:off x="5372280" y="5257800"/>
            <a:ext cx="2742840" cy="1485720"/>
          </a:xfrm>
          <a:custGeom>
            <a:avLst/>
            <a:gdLst>
              <a:gd name="textAreaLeft" fmla="*/ 0 w 2742840"/>
              <a:gd name="textAreaRight" fmla="*/ 2743200 w 2742840"/>
              <a:gd name="textAreaTop" fmla="*/ 0 h 1485720"/>
              <a:gd name="textAreaBottom" fmla="*/ 1486080 h 1485720"/>
            </a:gdLst>
            <a:ahLst/>
            <a:rect l="textAreaLeft" t="textAreaTop" r="textAreaRight" b="textAreaBottom"/>
            <a:pathLst>
              <a:path w="2743200" h="1485900">
                <a:moveTo>
                  <a:pt x="152400" y="0"/>
                </a:moveTo>
                <a:cubicBezTo>
                  <a:pt x="152400" y="0"/>
                  <a:pt x="0" y="0"/>
                  <a:pt x="0" y="152400"/>
                </a:cubicBezTo>
                <a:lnTo>
                  <a:pt x="0" y="1333500"/>
                </a:lnTo>
                <a:cubicBezTo>
                  <a:pt x="0" y="1333500"/>
                  <a:pt x="0" y="1485900"/>
                  <a:pt x="152400" y="1485900"/>
                </a:cubicBezTo>
                <a:lnTo>
                  <a:pt x="2590800" y="1485900"/>
                </a:lnTo>
                <a:cubicBezTo>
                  <a:pt x="2590800" y="1485900"/>
                  <a:pt x="2743200" y="1485900"/>
                  <a:pt x="2743200" y="1333500"/>
                </a:cubicBezTo>
                <a:lnTo>
                  <a:pt x="2743200" y="152400"/>
                </a:lnTo>
                <a:cubicBezTo>
                  <a:pt x="2743200" y="152400"/>
                  <a:pt x="2743200" y="0"/>
                  <a:pt x="2590800" y="0"/>
                </a:cubicBezTo>
                <a:lnTo>
                  <a:pt x="15240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8801280" y="4457880"/>
            <a:ext cx="228240" cy="342720"/>
          </a:xfrm>
          <a:custGeom>
            <a:avLst/>
            <a:gdLst>
              <a:gd name="textAreaLeft" fmla="*/ 0 w 228240"/>
              <a:gd name="textAreaRight" fmla="*/ 228600 w 2282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28600" h="342900">
                <a:moveTo>
                  <a:pt x="0" y="342900"/>
                </a:moveTo>
                <a:lnTo>
                  <a:pt x="228600" y="171450"/>
                </a:lnTo>
                <a:lnTo>
                  <a:pt x="0" y="0"/>
                </a:lnTo>
                <a:lnTo>
                  <a:pt x="0" y="34290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8115480" y="5486400"/>
            <a:ext cx="228240" cy="342720"/>
          </a:xfrm>
          <a:custGeom>
            <a:avLst/>
            <a:gdLst>
              <a:gd name="textAreaLeft" fmla="*/ 0 w 228240"/>
              <a:gd name="textAreaRight" fmla="*/ 228600 w 2282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28600" h="342900">
                <a:moveTo>
                  <a:pt x="0" y="342900"/>
                </a:moveTo>
                <a:lnTo>
                  <a:pt x="228600" y="171450"/>
                </a:lnTo>
                <a:lnTo>
                  <a:pt x="0" y="0"/>
                </a:lnTo>
                <a:lnTo>
                  <a:pt x="0" y="34290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58040" cy="7772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17">
            <a:hlinkClick r:id="rId2"/>
          </p:cNvPr>
          <p:cNvSpPr/>
          <p:nvPr/>
        </p:nvSpPr>
        <p:spPr>
          <a:xfrm>
            <a:off x="0" y="380880"/>
            <a:ext cx="10057680" cy="72766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979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reeform 3"/>
          <p:cNvSpPr/>
          <p:nvPr/>
        </p:nvSpPr>
        <p:spPr>
          <a:xfrm>
            <a:off x="6972480" y="4229280"/>
            <a:ext cx="1828440" cy="1142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1142640"/>
              <a:gd name="textAreaBottom" fmla="*/ 1143000 h 1142640"/>
            </a:gdLst>
            <a:ahLst/>
            <a:rect l="textAreaLeft" t="textAreaTop" r="textAreaRight" b="textAreaBottom"/>
            <a:pathLst>
              <a:path w="1828800" h="1143000">
                <a:moveTo>
                  <a:pt x="152400" y="0"/>
                </a:moveTo>
                <a:cubicBezTo>
                  <a:pt x="152400" y="0"/>
                  <a:pt x="0" y="0"/>
                  <a:pt x="0" y="152400"/>
                </a:cubicBezTo>
                <a:lnTo>
                  <a:pt x="0" y="990600"/>
                </a:lnTo>
                <a:cubicBezTo>
                  <a:pt x="0" y="990600"/>
                  <a:pt x="0" y="1143000"/>
                  <a:pt x="152400" y="1143000"/>
                </a:cubicBezTo>
                <a:lnTo>
                  <a:pt x="1676400" y="1143000"/>
                </a:lnTo>
                <a:cubicBezTo>
                  <a:pt x="1676400" y="1143000"/>
                  <a:pt x="1828800" y="1143000"/>
                  <a:pt x="1828800" y="990600"/>
                </a:cubicBezTo>
                <a:lnTo>
                  <a:pt x="1828800" y="152400"/>
                </a:lnTo>
                <a:cubicBezTo>
                  <a:pt x="1828800" y="152400"/>
                  <a:pt x="1828800" y="0"/>
                  <a:pt x="1676400" y="0"/>
                </a:cubicBezTo>
                <a:lnTo>
                  <a:pt x="15240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5372280" y="5257800"/>
            <a:ext cx="2742840" cy="1485720"/>
          </a:xfrm>
          <a:custGeom>
            <a:avLst/>
            <a:gdLst>
              <a:gd name="textAreaLeft" fmla="*/ 0 w 2742840"/>
              <a:gd name="textAreaRight" fmla="*/ 2743200 w 2742840"/>
              <a:gd name="textAreaTop" fmla="*/ 0 h 1485720"/>
              <a:gd name="textAreaBottom" fmla="*/ 1486080 h 1485720"/>
            </a:gdLst>
            <a:ahLst/>
            <a:rect l="textAreaLeft" t="textAreaTop" r="textAreaRight" b="textAreaBottom"/>
            <a:pathLst>
              <a:path w="2743200" h="1485900">
                <a:moveTo>
                  <a:pt x="152400" y="0"/>
                </a:moveTo>
                <a:cubicBezTo>
                  <a:pt x="152400" y="0"/>
                  <a:pt x="0" y="0"/>
                  <a:pt x="0" y="152400"/>
                </a:cubicBezTo>
                <a:lnTo>
                  <a:pt x="0" y="1333500"/>
                </a:lnTo>
                <a:cubicBezTo>
                  <a:pt x="0" y="1333500"/>
                  <a:pt x="0" y="1485900"/>
                  <a:pt x="152400" y="1485900"/>
                </a:cubicBezTo>
                <a:lnTo>
                  <a:pt x="2590800" y="1485900"/>
                </a:lnTo>
                <a:cubicBezTo>
                  <a:pt x="2590800" y="1485900"/>
                  <a:pt x="2743200" y="1485900"/>
                  <a:pt x="2743200" y="1333500"/>
                </a:cubicBezTo>
                <a:lnTo>
                  <a:pt x="2743200" y="152400"/>
                </a:lnTo>
                <a:cubicBezTo>
                  <a:pt x="2743200" y="152400"/>
                  <a:pt x="2743200" y="0"/>
                  <a:pt x="2590800" y="0"/>
                </a:cubicBezTo>
                <a:lnTo>
                  <a:pt x="15240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7658280" y="6058080"/>
            <a:ext cx="1942920" cy="102852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1943100" h="1028700">
                <a:moveTo>
                  <a:pt x="152400" y="0"/>
                </a:moveTo>
                <a:cubicBezTo>
                  <a:pt x="152400" y="0"/>
                  <a:pt x="0" y="0"/>
                  <a:pt x="0" y="152400"/>
                </a:cubicBezTo>
                <a:lnTo>
                  <a:pt x="0" y="876300"/>
                </a:lnTo>
                <a:cubicBezTo>
                  <a:pt x="0" y="876300"/>
                  <a:pt x="0" y="1028700"/>
                  <a:pt x="152400" y="1028700"/>
                </a:cubicBezTo>
                <a:lnTo>
                  <a:pt x="1790700" y="1028700"/>
                </a:lnTo>
                <a:cubicBezTo>
                  <a:pt x="1790700" y="1028700"/>
                  <a:pt x="1943100" y="1028700"/>
                  <a:pt x="1943100" y="876300"/>
                </a:cubicBezTo>
                <a:lnTo>
                  <a:pt x="1943100" y="152400"/>
                </a:lnTo>
                <a:cubicBezTo>
                  <a:pt x="1943100" y="152400"/>
                  <a:pt x="1943100" y="0"/>
                  <a:pt x="1790700" y="0"/>
                </a:cubicBezTo>
                <a:lnTo>
                  <a:pt x="15240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8801280" y="4457880"/>
            <a:ext cx="228240" cy="342720"/>
          </a:xfrm>
          <a:custGeom>
            <a:avLst/>
            <a:gdLst>
              <a:gd name="textAreaLeft" fmla="*/ 0 w 228240"/>
              <a:gd name="textAreaRight" fmla="*/ 228600 w 2282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28600" h="342900">
                <a:moveTo>
                  <a:pt x="0" y="342900"/>
                </a:moveTo>
                <a:lnTo>
                  <a:pt x="228600" y="171450"/>
                </a:lnTo>
                <a:lnTo>
                  <a:pt x="0" y="0"/>
                </a:lnTo>
                <a:lnTo>
                  <a:pt x="0" y="34290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8115480" y="5486400"/>
            <a:ext cx="228240" cy="342720"/>
          </a:xfrm>
          <a:custGeom>
            <a:avLst/>
            <a:gdLst>
              <a:gd name="textAreaLeft" fmla="*/ 0 w 228240"/>
              <a:gd name="textAreaRight" fmla="*/ 228600 w 2282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28600" h="342900">
                <a:moveTo>
                  <a:pt x="0" y="342900"/>
                </a:moveTo>
                <a:lnTo>
                  <a:pt x="228600" y="171450"/>
                </a:lnTo>
                <a:lnTo>
                  <a:pt x="0" y="0"/>
                </a:lnTo>
                <a:lnTo>
                  <a:pt x="0" y="34290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9601200" y="6286680"/>
            <a:ext cx="228240" cy="342720"/>
          </a:xfrm>
          <a:custGeom>
            <a:avLst/>
            <a:gdLst>
              <a:gd name="textAreaLeft" fmla="*/ 0 w 228240"/>
              <a:gd name="textAreaRight" fmla="*/ 228600 w 2282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28600" h="342900">
                <a:moveTo>
                  <a:pt x="0" y="342900"/>
                </a:moveTo>
                <a:lnTo>
                  <a:pt x="228600" y="171450"/>
                </a:lnTo>
                <a:lnTo>
                  <a:pt x="0" y="0"/>
                </a:lnTo>
                <a:lnTo>
                  <a:pt x="0" y="34290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0" y="0"/>
            <a:ext cx="10058040" cy="77720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7772040"/>
              <a:gd name="textAreaBottom" fmla="*/ 7772400 h 7772040"/>
            </a:gdLst>
            <a:ahLst/>
            <a:rect l="textAreaLeft" t="textAreaTop" r="textAreaRight" b="textAreaBottom"/>
            <a:pathLst>
              <a:path w="10058400" h="7772400">
                <a:moveTo>
                  <a:pt x="0" y="7772400"/>
                </a:moveTo>
                <a:lnTo>
                  <a:pt x="10058400" y="7772400"/>
                </a:lnTo>
                <a:lnTo>
                  <a:pt x="10058400" y="0"/>
                </a:lnTo>
                <a:lnTo>
                  <a:pt x="0" y="0"/>
                </a:lnTo>
                <a:lnTo>
                  <a:pt x="0" y="777240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0" y="7190280"/>
            <a:ext cx="10058040" cy="57132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0058400" h="571500">
                <a:moveTo>
                  <a:pt x="0" y="0"/>
                </a:moveTo>
                <a:lnTo>
                  <a:pt x="10058400" y="0"/>
                </a:lnTo>
                <a:lnTo>
                  <a:pt x="10058400" y="571500"/>
                </a:lnTo>
                <a:lnTo>
                  <a:pt x="0" y="57150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0" y="7315200"/>
            <a:ext cx="10058040" cy="4568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w="10058400" h="457200">
                <a:moveTo>
                  <a:pt x="0" y="457200"/>
                </a:moveTo>
                <a:lnTo>
                  <a:pt x="10058400" y="457200"/>
                </a:lnTo>
                <a:lnTo>
                  <a:pt x="10058400" y="0"/>
                </a:lnTo>
                <a:lnTo>
                  <a:pt x="0" y="0"/>
                </a:lnTo>
                <a:lnTo>
                  <a:pt x="0" y="4572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457200" y="6972480"/>
            <a:ext cx="685440" cy="685440"/>
          </a:xfrm>
          <a:custGeom>
            <a:avLst/>
            <a:gdLst>
              <a:gd name="textAreaLeft" fmla="*/ 0 w 685440"/>
              <a:gd name="textAreaRight" fmla="*/ 685800 w 6854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685800" h="685800">
                <a:moveTo>
                  <a:pt x="342900" y="685800"/>
                </a:moveTo>
                <a:cubicBezTo>
                  <a:pt x="532282" y="685800"/>
                  <a:pt x="685800" y="532307"/>
                  <a:pt x="685800" y="342900"/>
                </a:cubicBezTo>
                <a:cubicBezTo>
                  <a:pt x="685800" y="153543"/>
                  <a:pt x="532282" y="0"/>
                  <a:pt x="342900" y="0"/>
                </a:cubicBezTo>
                <a:cubicBezTo>
                  <a:pt x="153517" y="0"/>
                  <a:pt x="0" y="153543"/>
                  <a:pt x="0" y="342900"/>
                </a:cubicBezTo>
                <a:cubicBezTo>
                  <a:pt x="0" y="532307"/>
                  <a:pt x="153517" y="685800"/>
                  <a:pt x="342900" y="685800"/>
                </a:cubicBezTo>
              </a:path>
            </a:pathLst>
          </a:custGeom>
          <a:solidFill>
            <a:srgbClr val="f8490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58040" cy="7772040"/>
          </a:xfrm>
          <a:prstGeom prst="rect">
            <a:avLst/>
          </a:prstGeom>
          <a:ln w="0">
            <a:noFill/>
          </a:ln>
        </p:spPr>
      </p:pic>
      <p:sp>
        <p:nvSpPr>
          <p:cNvPr id="157" name="矩形 12">
            <a:hlinkClick r:id="rId2"/>
          </p:cNvPr>
          <p:cNvSpPr/>
          <p:nvPr/>
        </p:nvSpPr>
        <p:spPr>
          <a:xfrm>
            <a:off x="0" y="380880"/>
            <a:ext cx="10057680" cy="72766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979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reeform 3"/>
          <p:cNvSpPr/>
          <p:nvPr/>
        </p:nvSpPr>
        <p:spPr>
          <a:xfrm>
            <a:off x="4457880" y="4800600"/>
            <a:ext cx="1028520" cy="1028520"/>
          </a:xfrm>
          <a:custGeom>
            <a:avLst/>
            <a:gdLst>
              <a:gd name="textAreaLeft" fmla="*/ 0 w 1028520"/>
              <a:gd name="textAreaRight" fmla="*/ 1028880 w 10285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1028700" h="1028700">
                <a:moveTo>
                  <a:pt x="514350" y="1028700"/>
                </a:moveTo>
                <a:cubicBezTo>
                  <a:pt x="798423" y="1028700"/>
                  <a:pt x="1028700" y="798410"/>
                  <a:pt x="1028700" y="514350"/>
                </a:cubicBezTo>
                <a:cubicBezTo>
                  <a:pt x="1028700" y="230289"/>
                  <a:pt x="798423" y="0"/>
                  <a:pt x="514350" y="0"/>
                </a:cubicBezTo>
                <a:cubicBezTo>
                  <a:pt x="230276" y="0"/>
                  <a:pt x="0" y="230289"/>
                  <a:pt x="0" y="514350"/>
                </a:cubicBezTo>
                <a:cubicBezTo>
                  <a:pt x="0" y="798410"/>
                  <a:pt x="230276" y="1028700"/>
                  <a:pt x="514350" y="102870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4457880" y="3200400"/>
            <a:ext cx="2057040" cy="2057040"/>
          </a:xfrm>
          <a:custGeom>
            <a:avLst/>
            <a:gdLst>
              <a:gd name="textAreaLeft" fmla="*/ 0 w 2057040"/>
              <a:gd name="textAreaRight" fmla="*/ 2057400 w 2057040"/>
              <a:gd name="textAreaTop" fmla="*/ 0 h 2057040"/>
              <a:gd name="textAreaBottom" fmla="*/ 2057400 h 2057040"/>
            </a:gdLst>
            <a:ahLst/>
            <a:rect l="textAreaLeft" t="textAreaTop" r="textAreaRight" b="textAreaBottom"/>
            <a:pathLst>
              <a:path w="2057400" h="2057400">
                <a:moveTo>
                  <a:pt x="1028700" y="2057400"/>
                </a:moveTo>
                <a:cubicBezTo>
                  <a:pt x="1596834" y="2057400"/>
                  <a:pt x="2057400" y="1596834"/>
                  <a:pt x="2057400" y="1028700"/>
                </a:cubicBezTo>
                <a:cubicBezTo>
                  <a:pt x="2057400" y="460565"/>
                  <a:pt x="1596834" y="0"/>
                  <a:pt x="1028700" y="0"/>
                </a:cubicBezTo>
                <a:cubicBezTo>
                  <a:pt x="460565" y="0"/>
                  <a:pt x="0" y="460565"/>
                  <a:pt x="0" y="1028700"/>
                </a:cubicBezTo>
                <a:cubicBezTo>
                  <a:pt x="0" y="1596834"/>
                  <a:pt x="460565" y="2057400"/>
                  <a:pt x="1028700" y="205740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3543480" y="3543480"/>
            <a:ext cx="1371240" cy="1371240"/>
          </a:xfrm>
          <a:custGeom>
            <a:avLst/>
            <a:gdLst>
              <a:gd name="textAreaLeft" fmla="*/ 0 w 1371240"/>
              <a:gd name="textAreaRight" fmla="*/ 1371600 w 1371240"/>
              <a:gd name="textAreaTop" fmla="*/ 0 h 1371240"/>
              <a:gd name="textAreaBottom" fmla="*/ 1371600 h 1371240"/>
            </a:gdLst>
            <a:ahLst/>
            <a:rect l="textAreaLeft" t="textAreaTop" r="textAreaRight" b="textAreaBottom"/>
            <a:pathLst>
              <a:path w="1371600" h="1371600">
                <a:moveTo>
                  <a:pt x="685800" y="1371600"/>
                </a:moveTo>
                <a:cubicBezTo>
                  <a:pt x="1064552" y="1371600"/>
                  <a:pt x="1371600" y="1064552"/>
                  <a:pt x="1371600" y="685800"/>
                </a:cubicBezTo>
                <a:cubicBezTo>
                  <a:pt x="1371600" y="307047"/>
                  <a:pt x="1064552" y="0"/>
                  <a:pt x="685800" y="0"/>
                </a:cubicBezTo>
                <a:cubicBezTo>
                  <a:pt x="307047" y="0"/>
                  <a:pt x="0" y="307047"/>
                  <a:pt x="0" y="685800"/>
                </a:cubicBezTo>
                <a:cubicBezTo>
                  <a:pt x="0" y="1064552"/>
                  <a:pt x="307047" y="1371600"/>
                  <a:pt x="685800" y="137160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0" y="7190280"/>
            <a:ext cx="10058040" cy="57132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0058400" h="571500">
                <a:moveTo>
                  <a:pt x="0" y="0"/>
                </a:moveTo>
                <a:lnTo>
                  <a:pt x="10058400" y="0"/>
                </a:lnTo>
                <a:lnTo>
                  <a:pt x="10058400" y="571500"/>
                </a:lnTo>
                <a:lnTo>
                  <a:pt x="0" y="57150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0" y="7315200"/>
            <a:ext cx="10058040" cy="4568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w="10058400" h="457200">
                <a:moveTo>
                  <a:pt x="0" y="457200"/>
                </a:moveTo>
                <a:lnTo>
                  <a:pt x="10058400" y="457200"/>
                </a:lnTo>
                <a:lnTo>
                  <a:pt x="10058400" y="0"/>
                </a:lnTo>
                <a:lnTo>
                  <a:pt x="0" y="0"/>
                </a:lnTo>
                <a:lnTo>
                  <a:pt x="0" y="4572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457200" y="6972480"/>
            <a:ext cx="685440" cy="685440"/>
          </a:xfrm>
          <a:custGeom>
            <a:avLst/>
            <a:gdLst>
              <a:gd name="textAreaLeft" fmla="*/ 0 w 685440"/>
              <a:gd name="textAreaRight" fmla="*/ 685800 w 6854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685800" h="685800">
                <a:moveTo>
                  <a:pt x="342900" y="685800"/>
                </a:moveTo>
                <a:cubicBezTo>
                  <a:pt x="532282" y="685800"/>
                  <a:pt x="685800" y="532307"/>
                  <a:pt x="685800" y="342900"/>
                </a:cubicBezTo>
                <a:cubicBezTo>
                  <a:pt x="685800" y="153543"/>
                  <a:pt x="532282" y="0"/>
                  <a:pt x="342900" y="0"/>
                </a:cubicBezTo>
                <a:cubicBezTo>
                  <a:pt x="153517" y="0"/>
                  <a:pt x="0" y="153543"/>
                  <a:pt x="0" y="342900"/>
                </a:cubicBezTo>
                <a:cubicBezTo>
                  <a:pt x="0" y="532307"/>
                  <a:pt x="153517" y="685800"/>
                  <a:pt x="342900" y="685800"/>
                </a:cubicBezTo>
              </a:path>
            </a:pathLst>
          </a:custGeom>
          <a:solidFill>
            <a:srgbClr val="f8490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4699080" y="1359000"/>
            <a:ext cx="685440" cy="456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2908440" y="1968480"/>
            <a:ext cx="4215960" cy="850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3"/>
          <a:stretch/>
        </p:blipFill>
        <p:spPr>
          <a:xfrm>
            <a:off x="1701720" y="2971800"/>
            <a:ext cx="6679800" cy="456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4"/>
          <a:stretch/>
        </p:blipFill>
        <p:spPr>
          <a:xfrm>
            <a:off x="0" y="4686480"/>
            <a:ext cx="10058040" cy="3085920"/>
          </a:xfrm>
          <a:prstGeom prst="rect">
            <a:avLst/>
          </a:prstGeom>
          <a:ln w="0">
            <a:noFill/>
          </a:ln>
        </p:spPr>
      </p:pic>
      <p:sp>
        <p:nvSpPr>
          <p:cNvPr id="168" name="矩形 11">
            <a:hlinkClick r:id="rId5"/>
          </p:cNvPr>
          <p:cNvSpPr/>
          <p:nvPr/>
        </p:nvSpPr>
        <p:spPr>
          <a:xfrm>
            <a:off x="0" y="380880"/>
            <a:ext cx="10057680" cy="72766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979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701720" y="73285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3"/>
          <p:cNvSpPr/>
          <p:nvPr/>
        </p:nvSpPr>
        <p:spPr>
          <a:xfrm>
            <a:off x="4457880" y="4800600"/>
            <a:ext cx="1028520" cy="1028520"/>
          </a:xfrm>
          <a:custGeom>
            <a:avLst/>
            <a:gdLst>
              <a:gd name="textAreaLeft" fmla="*/ 0 w 1028520"/>
              <a:gd name="textAreaRight" fmla="*/ 1028880 w 10285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1028700" h="1028700">
                <a:moveTo>
                  <a:pt x="514350" y="1028700"/>
                </a:moveTo>
                <a:cubicBezTo>
                  <a:pt x="798423" y="1028700"/>
                  <a:pt x="1028700" y="798410"/>
                  <a:pt x="1028700" y="514350"/>
                </a:cubicBezTo>
                <a:cubicBezTo>
                  <a:pt x="1028700" y="230289"/>
                  <a:pt x="798423" y="0"/>
                  <a:pt x="514350" y="0"/>
                </a:cubicBezTo>
                <a:cubicBezTo>
                  <a:pt x="230276" y="0"/>
                  <a:pt x="0" y="230289"/>
                  <a:pt x="0" y="514350"/>
                </a:cubicBezTo>
                <a:cubicBezTo>
                  <a:pt x="0" y="798410"/>
                  <a:pt x="230276" y="1028700"/>
                  <a:pt x="514350" y="102870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4457880" y="3200400"/>
            <a:ext cx="2057040" cy="2057040"/>
          </a:xfrm>
          <a:custGeom>
            <a:avLst/>
            <a:gdLst>
              <a:gd name="textAreaLeft" fmla="*/ 0 w 2057040"/>
              <a:gd name="textAreaRight" fmla="*/ 2057400 w 2057040"/>
              <a:gd name="textAreaTop" fmla="*/ 0 h 2057040"/>
              <a:gd name="textAreaBottom" fmla="*/ 2057400 h 2057040"/>
            </a:gdLst>
            <a:ahLst/>
            <a:rect l="textAreaLeft" t="textAreaTop" r="textAreaRight" b="textAreaBottom"/>
            <a:pathLst>
              <a:path w="2057400" h="2057400">
                <a:moveTo>
                  <a:pt x="1028700" y="2057400"/>
                </a:moveTo>
                <a:cubicBezTo>
                  <a:pt x="1596834" y="2057400"/>
                  <a:pt x="2057400" y="1596834"/>
                  <a:pt x="2057400" y="1028700"/>
                </a:cubicBezTo>
                <a:cubicBezTo>
                  <a:pt x="2057400" y="460565"/>
                  <a:pt x="1596834" y="0"/>
                  <a:pt x="1028700" y="0"/>
                </a:cubicBezTo>
                <a:cubicBezTo>
                  <a:pt x="460565" y="0"/>
                  <a:pt x="0" y="460565"/>
                  <a:pt x="0" y="1028700"/>
                </a:cubicBezTo>
                <a:cubicBezTo>
                  <a:pt x="0" y="1596834"/>
                  <a:pt x="460565" y="2057400"/>
                  <a:pt x="1028700" y="205740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3543480" y="3543480"/>
            <a:ext cx="1371240" cy="1371240"/>
          </a:xfrm>
          <a:custGeom>
            <a:avLst/>
            <a:gdLst>
              <a:gd name="textAreaLeft" fmla="*/ 0 w 1371240"/>
              <a:gd name="textAreaRight" fmla="*/ 1371600 w 1371240"/>
              <a:gd name="textAreaTop" fmla="*/ 0 h 1371240"/>
              <a:gd name="textAreaBottom" fmla="*/ 1371600 h 1371240"/>
            </a:gdLst>
            <a:ahLst/>
            <a:rect l="textAreaLeft" t="textAreaTop" r="textAreaRight" b="textAreaBottom"/>
            <a:pathLst>
              <a:path w="1371600" h="1371600">
                <a:moveTo>
                  <a:pt x="685800" y="1371600"/>
                </a:moveTo>
                <a:cubicBezTo>
                  <a:pt x="1064552" y="1371600"/>
                  <a:pt x="1371600" y="1064552"/>
                  <a:pt x="1371600" y="685800"/>
                </a:cubicBezTo>
                <a:cubicBezTo>
                  <a:pt x="1371600" y="307047"/>
                  <a:pt x="1064552" y="0"/>
                  <a:pt x="685800" y="0"/>
                </a:cubicBezTo>
                <a:cubicBezTo>
                  <a:pt x="307047" y="0"/>
                  <a:pt x="0" y="307047"/>
                  <a:pt x="0" y="685800"/>
                </a:cubicBezTo>
                <a:cubicBezTo>
                  <a:pt x="0" y="1064552"/>
                  <a:pt x="307047" y="1371600"/>
                  <a:pt x="685800" y="1371600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0" y="0"/>
            <a:ext cx="10058040" cy="77594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7759440"/>
              <a:gd name="textAreaBottom" fmla="*/ 7759800 h 7759440"/>
            </a:gdLst>
            <a:ahLst/>
            <a:rect l="textAreaLeft" t="textAreaTop" r="textAreaRight" b="textAreaBottom"/>
            <a:pathLst>
              <a:path w="10058400" h="7759700">
                <a:moveTo>
                  <a:pt x="0" y="0"/>
                </a:moveTo>
                <a:lnTo>
                  <a:pt x="10058400" y="0"/>
                </a:lnTo>
                <a:lnTo>
                  <a:pt x="10058400" y="7759699"/>
                </a:lnTo>
                <a:lnTo>
                  <a:pt x="0" y="775969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0" y="7190280"/>
            <a:ext cx="10058040" cy="57132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0058400" h="571500">
                <a:moveTo>
                  <a:pt x="0" y="0"/>
                </a:moveTo>
                <a:lnTo>
                  <a:pt x="10058400" y="0"/>
                </a:lnTo>
                <a:lnTo>
                  <a:pt x="10058400" y="571500"/>
                </a:lnTo>
                <a:lnTo>
                  <a:pt x="0" y="57150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0" y="7315200"/>
            <a:ext cx="10058040" cy="4568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w="10058400" h="457200">
                <a:moveTo>
                  <a:pt x="0" y="457200"/>
                </a:moveTo>
                <a:lnTo>
                  <a:pt x="10058400" y="457200"/>
                </a:lnTo>
                <a:lnTo>
                  <a:pt x="10058400" y="0"/>
                </a:lnTo>
                <a:lnTo>
                  <a:pt x="0" y="0"/>
                </a:lnTo>
                <a:lnTo>
                  <a:pt x="0" y="4572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457200" y="6972480"/>
            <a:ext cx="685440" cy="685440"/>
          </a:xfrm>
          <a:custGeom>
            <a:avLst/>
            <a:gdLst>
              <a:gd name="textAreaLeft" fmla="*/ 0 w 685440"/>
              <a:gd name="textAreaRight" fmla="*/ 685800 w 6854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685800" h="685800">
                <a:moveTo>
                  <a:pt x="342900" y="685800"/>
                </a:moveTo>
                <a:cubicBezTo>
                  <a:pt x="532282" y="685800"/>
                  <a:pt x="685800" y="532307"/>
                  <a:pt x="685800" y="342900"/>
                </a:cubicBezTo>
                <a:cubicBezTo>
                  <a:pt x="685800" y="153543"/>
                  <a:pt x="532282" y="0"/>
                  <a:pt x="342900" y="0"/>
                </a:cubicBezTo>
                <a:cubicBezTo>
                  <a:pt x="153517" y="0"/>
                  <a:pt x="0" y="153543"/>
                  <a:pt x="0" y="342900"/>
                </a:cubicBezTo>
                <a:cubicBezTo>
                  <a:pt x="0" y="532307"/>
                  <a:pt x="153517" y="685800"/>
                  <a:pt x="342900" y="685800"/>
                </a:cubicBezTo>
              </a:path>
            </a:pathLst>
          </a:custGeom>
          <a:solidFill>
            <a:srgbClr val="f8490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612800" y="1816200"/>
            <a:ext cx="6819480" cy="495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1117440" y="2425680"/>
            <a:ext cx="7860960" cy="634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3"/>
          <a:stretch/>
        </p:blipFill>
        <p:spPr>
          <a:xfrm>
            <a:off x="4788000" y="3340080"/>
            <a:ext cx="482400" cy="482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4"/>
          <a:stretch/>
        </p:blipFill>
        <p:spPr>
          <a:xfrm>
            <a:off x="1892160" y="4178160"/>
            <a:ext cx="6273360" cy="329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5"/>
          <a:stretch/>
        </p:blipFill>
        <p:spPr>
          <a:xfrm>
            <a:off x="0" y="4559400"/>
            <a:ext cx="10058040" cy="3212640"/>
          </a:xfrm>
          <a:prstGeom prst="rect">
            <a:avLst/>
          </a:prstGeom>
          <a:ln w="0">
            <a:noFill/>
          </a:ln>
        </p:spPr>
      </p:pic>
      <p:sp>
        <p:nvSpPr>
          <p:cNvPr id="182" name="矩形 13">
            <a:hlinkClick r:id="rId6"/>
          </p:cNvPr>
          <p:cNvSpPr/>
          <p:nvPr/>
        </p:nvSpPr>
        <p:spPr>
          <a:xfrm>
            <a:off x="0" y="380880"/>
            <a:ext cx="10057680" cy="72766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979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reeform 3"/>
          <p:cNvSpPr/>
          <p:nvPr/>
        </p:nvSpPr>
        <p:spPr>
          <a:xfrm>
            <a:off x="2286000" y="4457880"/>
            <a:ext cx="1828440" cy="1142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1142640"/>
              <a:gd name="textAreaBottom" fmla="*/ 1143000 h 1142640"/>
            </a:gdLst>
            <a:ahLst/>
            <a:rect l="textAreaLeft" t="textAreaTop" r="textAreaRight" b="textAreaBottom"/>
            <a:pathLst>
              <a:path w="1828800" h="1143000">
                <a:moveTo>
                  <a:pt x="152400" y="0"/>
                </a:moveTo>
                <a:cubicBezTo>
                  <a:pt x="152400" y="0"/>
                  <a:pt x="0" y="0"/>
                  <a:pt x="0" y="152400"/>
                </a:cubicBezTo>
                <a:lnTo>
                  <a:pt x="0" y="990600"/>
                </a:lnTo>
                <a:cubicBezTo>
                  <a:pt x="0" y="990600"/>
                  <a:pt x="0" y="1143000"/>
                  <a:pt x="152400" y="1143000"/>
                </a:cubicBezTo>
                <a:lnTo>
                  <a:pt x="1676400" y="1143000"/>
                </a:lnTo>
                <a:cubicBezTo>
                  <a:pt x="1676400" y="1143000"/>
                  <a:pt x="1828800" y="1143000"/>
                  <a:pt x="1828800" y="990600"/>
                </a:cubicBezTo>
                <a:lnTo>
                  <a:pt x="1828800" y="152400"/>
                </a:lnTo>
                <a:cubicBezTo>
                  <a:pt x="1828800" y="152400"/>
                  <a:pt x="1828800" y="0"/>
                  <a:pt x="1676400" y="0"/>
                </a:cubicBezTo>
                <a:lnTo>
                  <a:pt x="15240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3543480" y="3657600"/>
            <a:ext cx="2742840" cy="1485720"/>
          </a:xfrm>
          <a:custGeom>
            <a:avLst/>
            <a:gdLst>
              <a:gd name="textAreaLeft" fmla="*/ 0 w 2742840"/>
              <a:gd name="textAreaRight" fmla="*/ 2743200 w 2742840"/>
              <a:gd name="textAreaTop" fmla="*/ 0 h 1485720"/>
              <a:gd name="textAreaBottom" fmla="*/ 1486080 h 1485720"/>
            </a:gdLst>
            <a:ahLst/>
            <a:rect l="textAreaLeft" t="textAreaTop" r="textAreaRight" b="textAreaBottom"/>
            <a:pathLst>
              <a:path w="2743200" h="1485900">
                <a:moveTo>
                  <a:pt x="152400" y="0"/>
                </a:moveTo>
                <a:cubicBezTo>
                  <a:pt x="152400" y="0"/>
                  <a:pt x="0" y="0"/>
                  <a:pt x="0" y="152400"/>
                </a:cubicBezTo>
                <a:lnTo>
                  <a:pt x="0" y="1333500"/>
                </a:lnTo>
                <a:cubicBezTo>
                  <a:pt x="0" y="1333500"/>
                  <a:pt x="0" y="1485900"/>
                  <a:pt x="152400" y="1485900"/>
                </a:cubicBezTo>
                <a:lnTo>
                  <a:pt x="2590800" y="1485900"/>
                </a:lnTo>
                <a:cubicBezTo>
                  <a:pt x="2590800" y="1485900"/>
                  <a:pt x="2743200" y="1485900"/>
                  <a:pt x="2743200" y="1333500"/>
                </a:cubicBezTo>
                <a:lnTo>
                  <a:pt x="2743200" y="152400"/>
                </a:lnTo>
                <a:cubicBezTo>
                  <a:pt x="2743200" y="152400"/>
                  <a:pt x="2743200" y="0"/>
                  <a:pt x="2590800" y="0"/>
                </a:cubicBezTo>
                <a:lnTo>
                  <a:pt x="15240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6058080" y="4800600"/>
            <a:ext cx="1942920" cy="102852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1943100" h="1028700">
                <a:moveTo>
                  <a:pt x="152400" y="0"/>
                </a:moveTo>
                <a:cubicBezTo>
                  <a:pt x="152400" y="0"/>
                  <a:pt x="0" y="0"/>
                  <a:pt x="0" y="152400"/>
                </a:cubicBezTo>
                <a:lnTo>
                  <a:pt x="0" y="876300"/>
                </a:lnTo>
                <a:cubicBezTo>
                  <a:pt x="0" y="876300"/>
                  <a:pt x="0" y="1028700"/>
                  <a:pt x="152400" y="1028700"/>
                </a:cubicBezTo>
                <a:lnTo>
                  <a:pt x="1790700" y="1028700"/>
                </a:lnTo>
                <a:cubicBezTo>
                  <a:pt x="1790700" y="1028700"/>
                  <a:pt x="1943100" y="1028700"/>
                  <a:pt x="1943100" y="876300"/>
                </a:cubicBezTo>
                <a:lnTo>
                  <a:pt x="1943100" y="152400"/>
                </a:lnTo>
                <a:cubicBezTo>
                  <a:pt x="1943100" y="152400"/>
                  <a:pt x="1943100" y="0"/>
                  <a:pt x="1790700" y="0"/>
                </a:cubicBezTo>
                <a:lnTo>
                  <a:pt x="15240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3429000" y="5600880"/>
            <a:ext cx="342720" cy="228240"/>
          </a:xfrm>
          <a:custGeom>
            <a:avLst/>
            <a:gdLst>
              <a:gd name="textAreaLeft" fmla="*/ 0 w 342720"/>
              <a:gd name="textAreaRight" fmla="*/ 343080 w 342720"/>
              <a:gd name="textAreaTop" fmla="*/ 0 h 228240"/>
              <a:gd name="textAreaBottom" fmla="*/ 228600 h 228240"/>
            </a:gdLst>
            <a:ahLst/>
            <a:rect l="textAreaLeft" t="textAreaTop" r="textAreaRight" b="textAreaBottom"/>
            <a:pathLst>
              <a:path w="342900" h="228600">
                <a:moveTo>
                  <a:pt x="0" y="0"/>
                </a:moveTo>
                <a:lnTo>
                  <a:pt x="171450" y="228600"/>
                </a:lnTo>
                <a:lnTo>
                  <a:pt x="3429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5600880" y="5143680"/>
            <a:ext cx="342720" cy="228240"/>
          </a:xfrm>
          <a:custGeom>
            <a:avLst/>
            <a:gdLst>
              <a:gd name="textAreaLeft" fmla="*/ 0 w 342720"/>
              <a:gd name="textAreaRight" fmla="*/ 343080 w 342720"/>
              <a:gd name="textAreaTop" fmla="*/ 0 h 228240"/>
              <a:gd name="textAreaBottom" fmla="*/ 228600 h 228240"/>
            </a:gdLst>
            <a:ahLst/>
            <a:rect l="textAreaLeft" t="textAreaTop" r="textAreaRight" b="textAreaBottom"/>
            <a:pathLst>
              <a:path w="342900" h="228600">
                <a:moveTo>
                  <a:pt x="0" y="0"/>
                </a:moveTo>
                <a:lnTo>
                  <a:pt x="171450" y="228600"/>
                </a:lnTo>
                <a:lnTo>
                  <a:pt x="3429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6400800" y="5829480"/>
            <a:ext cx="342720" cy="228240"/>
          </a:xfrm>
          <a:custGeom>
            <a:avLst/>
            <a:gdLst>
              <a:gd name="textAreaLeft" fmla="*/ 0 w 342720"/>
              <a:gd name="textAreaRight" fmla="*/ 343080 w 342720"/>
              <a:gd name="textAreaTop" fmla="*/ 0 h 228240"/>
              <a:gd name="textAreaBottom" fmla="*/ 228600 h 228240"/>
            </a:gdLst>
            <a:ahLst/>
            <a:rect l="textAreaLeft" t="textAreaTop" r="textAreaRight" b="textAreaBottom"/>
            <a:pathLst>
              <a:path w="342900" h="228600">
                <a:moveTo>
                  <a:pt x="0" y="0"/>
                </a:moveTo>
                <a:lnTo>
                  <a:pt x="171450" y="228600"/>
                </a:lnTo>
                <a:lnTo>
                  <a:pt x="3429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0" y="7190280"/>
            <a:ext cx="10058040" cy="57132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0058400" h="571500">
                <a:moveTo>
                  <a:pt x="0" y="0"/>
                </a:moveTo>
                <a:lnTo>
                  <a:pt x="10058400" y="0"/>
                </a:lnTo>
                <a:lnTo>
                  <a:pt x="10058400" y="571500"/>
                </a:lnTo>
                <a:lnTo>
                  <a:pt x="0" y="57150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0" y="7315200"/>
            <a:ext cx="10058040" cy="4568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w="10058400" h="457200">
                <a:moveTo>
                  <a:pt x="0" y="457200"/>
                </a:moveTo>
                <a:lnTo>
                  <a:pt x="10058400" y="457200"/>
                </a:lnTo>
                <a:lnTo>
                  <a:pt x="10058400" y="0"/>
                </a:lnTo>
                <a:lnTo>
                  <a:pt x="0" y="0"/>
                </a:lnTo>
                <a:lnTo>
                  <a:pt x="0" y="4572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457200" y="6972480"/>
            <a:ext cx="685440" cy="685440"/>
          </a:xfrm>
          <a:custGeom>
            <a:avLst/>
            <a:gdLst>
              <a:gd name="textAreaLeft" fmla="*/ 0 w 685440"/>
              <a:gd name="textAreaRight" fmla="*/ 685800 w 6854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685800" h="685800">
                <a:moveTo>
                  <a:pt x="342900" y="685800"/>
                </a:moveTo>
                <a:cubicBezTo>
                  <a:pt x="532282" y="685800"/>
                  <a:pt x="685800" y="532307"/>
                  <a:pt x="685800" y="342900"/>
                </a:cubicBezTo>
                <a:cubicBezTo>
                  <a:pt x="685800" y="153543"/>
                  <a:pt x="532282" y="0"/>
                  <a:pt x="342900" y="0"/>
                </a:cubicBezTo>
                <a:cubicBezTo>
                  <a:pt x="153517" y="0"/>
                  <a:pt x="0" y="153543"/>
                  <a:pt x="0" y="342900"/>
                </a:cubicBezTo>
                <a:cubicBezTo>
                  <a:pt x="0" y="532307"/>
                  <a:pt x="153517" y="685800"/>
                  <a:pt x="342900" y="685800"/>
                </a:cubicBezTo>
              </a:path>
            </a:pathLst>
          </a:custGeom>
          <a:solidFill>
            <a:srgbClr val="f8490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4699080" y="1359000"/>
            <a:ext cx="698040" cy="456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3683160" y="1968480"/>
            <a:ext cx="2603160" cy="850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3"/>
          <a:stretch/>
        </p:blipFill>
        <p:spPr>
          <a:xfrm>
            <a:off x="2031840" y="2971800"/>
            <a:ext cx="5955840" cy="456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4"/>
          <a:stretch/>
        </p:blipFill>
        <p:spPr>
          <a:xfrm>
            <a:off x="0" y="3645000"/>
            <a:ext cx="10058040" cy="4127040"/>
          </a:xfrm>
          <a:prstGeom prst="rect">
            <a:avLst/>
          </a:prstGeom>
          <a:ln w="0">
            <a:noFill/>
          </a:ln>
        </p:spPr>
      </p:pic>
      <p:sp>
        <p:nvSpPr>
          <p:cNvPr id="196" name="矩形 14">
            <a:hlinkClick r:id="rId5"/>
          </p:cNvPr>
          <p:cNvSpPr/>
          <p:nvPr/>
        </p:nvSpPr>
        <p:spPr>
          <a:xfrm>
            <a:off x="0" y="380880"/>
            <a:ext cx="10057680" cy="72766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979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reeform 3"/>
          <p:cNvSpPr/>
          <p:nvPr/>
        </p:nvSpPr>
        <p:spPr>
          <a:xfrm>
            <a:off x="2286000" y="4457880"/>
            <a:ext cx="1828440" cy="1142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1142640"/>
              <a:gd name="textAreaBottom" fmla="*/ 1143000 h 1142640"/>
            </a:gdLst>
            <a:ahLst/>
            <a:rect l="textAreaLeft" t="textAreaTop" r="textAreaRight" b="textAreaBottom"/>
            <a:pathLst>
              <a:path w="1828800" h="1143000">
                <a:moveTo>
                  <a:pt x="152400" y="0"/>
                </a:moveTo>
                <a:cubicBezTo>
                  <a:pt x="152400" y="0"/>
                  <a:pt x="0" y="0"/>
                  <a:pt x="0" y="152400"/>
                </a:cubicBezTo>
                <a:lnTo>
                  <a:pt x="0" y="990600"/>
                </a:lnTo>
                <a:cubicBezTo>
                  <a:pt x="0" y="990600"/>
                  <a:pt x="0" y="1143000"/>
                  <a:pt x="152400" y="1143000"/>
                </a:cubicBezTo>
                <a:lnTo>
                  <a:pt x="1676400" y="1143000"/>
                </a:lnTo>
                <a:cubicBezTo>
                  <a:pt x="1676400" y="1143000"/>
                  <a:pt x="1828800" y="1143000"/>
                  <a:pt x="1828800" y="990600"/>
                </a:cubicBezTo>
                <a:lnTo>
                  <a:pt x="1828800" y="152400"/>
                </a:lnTo>
                <a:cubicBezTo>
                  <a:pt x="1828800" y="152400"/>
                  <a:pt x="1828800" y="0"/>
                  <a:pt x="1676400" y="0"/>
                </a:cubicBezTo>
                <a:lnTo>
                  <a:pt x="15240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3543480" y="3657600"/>
            <a:ext cx="2742840" cy="1485720"/>
          </a:xfrm>
          <a:custGeom>
            <a:avLst/>
            <a:gdLst>
              <a:gd name="textAreaLeft" fmla="*/ 0 w 2742840"/>
              <a:gd name="textAreaRight" fmla="*/ 2743200 w 2742840"/>
              <a:gd name="textAreaTop" fmla="*/ 0 h 1485720"/>
              <a:gd name="textAreaBottom" fmla="*/ 1486080 h 1485720"/>
            </a:gdLst>
            <a:ahLst/>
            <a:rect l="textAreaLeft" t="textAreaTop" r="textAreaRight" b="textAreaBottom"/>
            <a:pathLst>
              <a:path w="2743200" h="1485900">
                <a:moveTo>
                  <a:pt x="152400" y="0"/>
                </a:moveTo>
                <a:cubicBezTo>
                  <a:pt x="152400" y="0"/>
                  <a:pt x="0" y="0"/>
                  <a:pt x="0" y="152400"/>
                </a:cubicBezTo>
                <a:lnTo>
                  <a:pt x="0" y="1333500"/>
                </a:lnTo>
                <a:cubicBezTo>
                  <a:pt x="0" y="1333500"/>
                  <a:pt x="0" y="1485900"/>
                  <a:pt x="152400" y="1485900"/>
                </a:cubicBezTo>
                <a:lnTo>
                  <a:pt x="2590800" y="1485900"/>
                </a:lnTo>
                <a:cubicBezTo>
                  <a:pt x="2590800" y="1485900"/>
                  <a:pt x="2743200" y="1485900"/>
                  <a:pt x="2743200" y="1333500"/>
                </a:cubicBezTo>
                <a:lnTo>
                  <a:pt x="2743200" y="152400"/>
                </a:lnTo>
                <a:cubicBezTo>
                  <a:pt x="2743200" y="152400"/>
                  <a:pt x="2743200" y="0"/>
                  <a:pt x="2590800" y="0"/>
                </a:cubicBezTo>
                <a:lnTo>
                  <a:pt x="15240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6058080" y="4800600"/>
            <a:ext cx="1942920" cy="102852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1943100" h="1028700">
                <a:moveTo>
                  <a:pt x="152400" y="0"/>
                </a:moveTo>
                <a:cubicBezTo>
                  <a:pt x="152400" y="0"/>
                  <a:pt x="0" y="0"/>
                  <a:pt x="0" y="152400"/>
                </a:cubicBezTo>
                <a:lnTo>
                  <a:pt x="0" y="876300"/>
                </a:lnTo>
                <a:cubicBezTo>
                  <a:pt x="0" y="876300"/>
                  <a:pt x="0" y="1028700"/>
                  <a:pt x="152400" y="1028700"/>
                </a:cubicBezTo>
                <a:lnTo>
                  <a:pt x="1790700" y="1028700"/>
                </a:lnTo>
                <a:cubicBezTo>
                  <a:pt x="1790700" y="1028700"/>
                  <a:pt x="1943100" y="1028700"/>
                  <a:pt x="1943100" y="876300"/>
                </a:cubicBezTo>
                <a:lnTo>
                  <a:pt x="1943100" y="152400"/>
                </a:lnTo>
                <a:cubicBezTo>
                  <a:pt x="1943100" y="152400"/>
                  <a:pt x="1943100" y="0"/>
                  <a:pt x="1790700" y="0"/>
                </a:cubicBezTo>
                <a:lnTo>
                  <a:pt x="15240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Freeform 3"/>
          <p:cNvSpPr/>
          <p:nvPr/>
        </p:nvSpPr>
        <p:spPr>
          <a:xfrm>
            <a:off x="3429000" y="5600880"/>
            <a:ext cx="342720" cy="228240"/>
          </a:xfrm>
          <a:custGeom>
            <a:avLst/>
            <a:gdLst>
              <a:gd name="textAreaLeft" fmla="*/ 0 w 342720"/>
              <a:gd name="textAreaRight" fmla="*/ 343080 w 342720"/>
              <a:gd name="textAreaTop" fmla="*/ 0 h 228240"/>
              <a:gd name="textAreaBottom" fmla="*/ 228600 h 228240"/>
            </a:gdLst>
            <a:ahLst/>
            <a:rect l="textAreaLeft" t="textAreaTop" r="textAreaRight" b="textAreaBottom"/>
            <a:pathLst>
              <a:path w="342900" h="228600">
                <a:moveTo>
                  <a:pt x="0" y="0"/>
                </a:moveTo>
                <a:lnTo>
                  <a:pt x="171450" y="228600"/>
                </a:lnTo>
                <a:lnTo>
                  <a:pt x="3429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5600880" y="5143680"/>
            <a:ext cx="342720" cy="228240"/>
          </a:xfrm>
          <a:custGeom>
            <a:avLst/>
            <a:gdLst>
              <a:gd name="textAreaLeft" fmla="*/ 0 w 342720"/>
              <a:gd name="textAreaRight" fmla="*/ 343080 w 342720"/>
              <a:gd name="textAreaTop" fmla="*/ 0 h 228240"/>
              <a:gd name="textAreaBottom" fmla="*/ 228600 h 228240"/>
            </a:gdLst>
            <a:ahLst/>
            <a:rect l="textAreaLeft" t="textAreaTop" r="textAreaRight" b="textAreaBottom"/>
            <a:pathLst>
              <a:path w="342900" h="228600">
                <a:moveTo>
                  <a:pt x="0" y="0"/>
                </a:moveTo>
                <a:lnTo>
                  <a:pt x="171450" y="228600"/>
                </a:lnTo>
                <a:lnTo>
                  <a:pt x="3429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Freeform 3"/>
          <p:cNvSpPr/>
          <p:nvPr/>
        </p:nvSpPr>
        <p:spPr>
          <a:xfrm>
            <a:off x="6400800" y="5829480"/>
            <a:ext cx="342720" cy="228240"/>
          </a:xfrm>
          <a:custGeom>
            <a:avLst/>
            <a:gdLst>
              <a:gd name="textAreaLeft" fmla="*/ 0 w 342720"/>
              <a:gd name="textAreaRight" fmla="*/ 343080 w 342720"/>
              <a:gd name="textAreaTop" fmla="*/ 0 h 228240"/>
              <a:gd name="textAreaBottom" fmla="*/ 228600 h 228240"/>
            </a:gdLst>
            <a:ahLst/>
            <a:rect l="textAreaLeft" t="textAreaTop" r="textAreaRight" b="textAreaBottom"/>
            <a:pathLst>
              <a:path w="342900" h="228600">
                <a:moveTo>
                  <a:pt x="0" y="0"/>
                </a:moveTo>
                <a:lnTo>
                  <a:pt x="171450" y="228600"/>
                </a:lnTo>
                <a:lnTo>
                  <a:pt x="3429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Freeform 3"/>
          <p:cNvSpPr/>
          <p:nvPr/>
        </p:nvSpPr>
        <p:spPr>
          <a:xfrm>
            <a:off x="0" y="7190280"/>
            <a:ext cx="10058040" cy="57132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0058400" h="571500">
                <a:moveTo>
                  <a:pt x="0" y="0"/>
                </a:moveTo>
                <a:lnTo>
                  <a:pt x="10058400" y="0"/>
                </a:lnTo>
                <a:lnTo>
                  <a:pt x="10058400" y="571500"/>
                </a:lnTo>
                <a:lnTo>
                  <a:pt x="0" y="57150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Freeform 3"/>
          <p:cNvSpPr/>
          <p:nvPr/>
        </p:nvSpPr>
        <p:spPr>
          <a:xfrm>
            <a:off x="0" y="7315200"/>
            <a:ext cx="10058040" cy="4568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w="10058400" h="457200">
                <a:moveTo>
                  <a:pt x="0" y="457200"/>
                </a:moveTo>
                <a:lnTo>
                  <a:pt x="10058400" y="457200"/>
                </a:lnTo>
                <a:lnTo>
                  <a:pt x="10058400" y="0"/>
                </a:lnTo>
                <a:lnTo>
                  <a:pt x="0" y="0"/>
                </a:lnTo>
                <a:lnTo>
                  <a:pt x="0" y="4572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457200" y="6972480"/>
            <a:ext cx="685440" cy="685440"/>
          </a:xfrm>
          <a:custGeom>
            <a:avLst/>
            <a:gdLst>
              <a:gd name="textAreaLeft" fmla="*/ 0 w 685440"/>
              <a:gd name="textAreaRight" fmla="*/ 685800 w 6854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685800" h="685800">
                <a:moveTo>
                  <a:pt x="342900" y="685800"/>
                </a:moveTo>
                <a:cubicBezTo>
                  <a:pt x="532282" y="685800"/>
                  <a:pt x="685800" y="532307"/>
                  <a:pt x="685800" y="342900"/>
                </a:cubicBezTo>
                <a:cubicBezTo>
                  <a:pt x="685800" y="153543"/>
                  <a:pt x="532282" y="0"/>
                  <a:pt x="342900" y="0"/>
                </a:cubicBezTo>
                <a:cubicBezTo>
                  <a:pt x="153517" y="0"/>
                  <a:pt x="0" y="153543"/>
                  <a:pt x="0" y="342900"/>
                </a:cubicBezTo>
                <a:cubicBezTo>
                  <a:pt x="0" y="532307"/>
                  <a:pt x="153517" y="685800"/>
                  <a:pt x="342900" y="685800"/>
                </a:cubicBezTo>
              </a:path>
            </a:pathLst>
          </a:custGeom>
          <a:solidFill>
            <a:srgbClr val="f8490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Freeform 3"/>
          <p:cNvSpPr/>
          <p:nvPr/>
        </p:nvSpPr>
        <p:spPr>
          <a:xfrm>
            <a:off x="0" y="0"/>
            <a:ext cx="10058040" cy="77720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7772040"/>
              <a:gd name="textAreaBottom" fmla="*/ 7772400 h 7772040"/>
            </a:gdLst>
            <a:ahLst/>
            <a:rect l="textAreaLeft" t="textAreaTop" r="textAreaRight" b="textAreaBottom"/>
            <a:pathLst>
              <a:path w="10058400" h="7772400">
                <a:moveTo>
                  <a:pt x="0" y="7772400"/>
                </a:moveTo>
                <a:lnTo>
                  <a:pt x="10058400" y="7772400"/>
                </a:lnTo>
                <a:lnTo>
                  <a:pt x="10058400" y="0"/>
                </a:lnTo>
                <a:lnTo>
                  <a:pt x="0" y="0"/>
                </a:lnTo>
                <a:lnTo>
                  <a:pt x="0" y="7772400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Freeform 3"/>
          <p:cNvSpPr/>
          <p:nvPr/>
        </p:nvSpPr>
        <p:spPr>
          <a:xfrm>
            <a:off x="0" y="7315200"/>
            <a:ext cx="10058040" cy="45684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w="10058400" h="457200">
                <a:moveTo>
                  <a:pt x="0" y="457200"/>
                </a:moveTo>
                <a:lnTo>
                  <a:pt x="10058400" y="457200"/>
                </a:lnTo>
                <a:lnTo>
                  <a:pt x="10058400" y="0"/>
                </a:lnTo>
                <a:lnTo>
                  <a:pt x="0" y="0"/>
                </a:lnTo>
                <a:lnTo>
                  <a:pt x="0" y="4572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457200" y="6972480"/>
            <a:ext cx="685440" cy="685440"/>
          </a:xfrm>
          <a:custGeom>
            <a:avLst/>
            <a:gdLst>
              <a:gd name="textAreaLeft" fmla="*/ 0 w 685440"/>
              <a:gd name="textAreaRight" fmla="*/ 685800 w 6854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685800" h="685800">
                <a:moveTo>
                  <a:pt x="342900" y="685800"/>
                </a:moveTo>
                <a:cubicBezTo>
                  <a:pt x="532282" y="685800"/>
                  <a:pt x="685800" y="532307"/>
                  <a:pt x="685800" y="342900"/>
                </a:cubicBezTo>
                <a:cubicBezTo>
                  <a:pt x="685800" y="153543"/>
                  <a:pt x="532282" y="0"/>
                  <a:pt x="342900" y="0"/>
                </a:cubicBezTo>
                <a:cubicBezTo>
                  <a:pt x="153517" y="0"/>
                  <a:pt x="0" y="153543"/>
                  <a:pt x="0" y="342900"/>
                </a:cubicBezTo>
                <a:cubicBezTo>
                  <a:pt x="0" y="532307"/>
                  <a:pt x="153517" y="685800"/>
                  <a:pt x="342900" y="685800"/>
                </a:cubicBezTo>
              </a:path>
            </a:pathLst>
          </a:custGeom>
          <a:solidFill>
            <a:srgbClr val="f8490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1104840" y="1816200"/>
            <a:ext cx="7873560" cy="634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635040" y="2451240"/>
            <a:ext cx="8762760" cy="609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3"/>
          <a:stretch/>
        </p:blipFill>
        <p:spPr>
          <a:xfrm>
            <a:off x="0" y="3340080"/>
            <a:ext cx="10058040" cy="4431960"/>
          </a:xfrm>
          <a:prstGeom prst="rect">
            <a:avLst/>
          </a:prstGeom>
          <a:ln w="0">
            <a:noFill/>
          </a:ln>
        </p:spPr>
      </p:pic>
      <p:sp>
        <p:nvSpPr>
          <p:cNvPr id="212" name="矩形 16">
            <a:hlinkClick r:id="rId4"/>
          </p:cNvPr>
          <p:cNvSpPr/>
          <p:nvPr/>
        </p:nvSpPr>
        <p:spPr>
          <a:xfrm>
            <a:off x="0" y="380880"/>
            <a:ext cx="10057680" cy="72766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979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  <Words>29</Words>
  <Paragraphs>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a</cp:lastModifiedBy>
  <dcterms:modified xsi:type="dcterms:W3CDTF">2015-07-25T10:08:32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自定义</vt:lpwstr>
  </property>
  <property fmtid="{D5CDD505-2E9C-101B-9397-08002B2CF9AE}" pid="3" name="Slides">
    <vt:r8>15</vt:r8>
  </property>
</Properties>
</file>