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88825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9F2-008B-49AD-9D4F-997D2D8E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82080"/>
            <a:ext cx="109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135-A046-434B-8FEB-4485C6E6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0160" y="160452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0160" y="368208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E76-9686-45D9-95EA-B7BB0D44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1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200" y="1604520"/>
            <a:ext cx="3531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6920" y="1604520"/>
            <a:ext cx="3531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82080"/>
            <a:ext cx="3531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200" y="3682080"/>
            <a:ext cx="3531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6920" y="3682080"/>
            <a:ext cx="3531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BAA-2A54-4838-85A5-9B8E8338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3BF-C90A-4753-A9CE-77540AEB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84D-A3F2-400D-9AB8-8045BBD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2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0160" y="1604520"/>
            <a:ext cx="5352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C1A-0137-4F67-A501-EB2D385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0F4-2466-4174-A57F-9D1915EA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87E-B29A-41E8-99E3-F83C8BBE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160" y="1604520"/>
            <a:ext cx="5352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BB4-2AA7-4C65-8EC5-0369022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2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160" y="160452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0160" y="368208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EBB-4D59-4445-8A8E-B6FFB62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0160" y="1604520"/>
            <a:ext cx="535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109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1A0-F18E-4A4A-9BD1-DC50DED4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A3BFE5-AFB0-4586-B038-2204CCCDEF6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120" y="1604520"/>
            <a:ext cx="1096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hyperlink" Target="http://www.yanj.cn/" TargetMode="External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0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2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3.jpeg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12188520" cy="68576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88952" h="6858000">
                <a:moveTo>
                  <a:pt x="0" y="6857999"/>
                </a:moveTo>
                <a:lnTo>
                  <a:pt x="12188952" y="6857999"/>
                </a:lnTo>
                <a:lnTo>
                  <a:pt x="12188952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841040" y="500040"/>
            <a:ext cx="223560" cy="365400"/>
          </a:xfrm>
          <a:custGeom>
            <a:avLst/>
            <a:gdLst>
              <a:gd name="textAreaLeft" fmla="*/ 0 w 223560"/>
              <a:gd name="textAreaRight" fmla="*/ 223920 w 22356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24027" h="365760">
                <a:moveTo>
                  <a:pt x="0" y="260984"/>
                </a:moveTo>
                <a:cubicBezTo>
                  <a:pt x="0" y="104775"/>
                  <a:pt x="0" y="104775"/>
                  <a:pt x="0" y="104775"/>
                </a:cubicBezTo>
                <a:cubicBezTo>
                  <a:pt x="0" y="30226"/>
                  <a:pt x="35051" y="0"/>
                  <a:pt x="118998" y="0"/>
                </a:cubicBezTo>
                <a:cubicBezTo>
                  <a:pt x="149351" y="0"/>
                  <a:pt x="191388" y="2286"/>
                  <a:pt x="217042" y="9270"/>
                </a:cubicBezTo>
                <a:cubicBezTo>
                  <a:pt x="217042" y="9270"/>
                  <a:pt x="217042" y="9270"/>
                  <a:pt x="219328" y="9270"/>
                </a:cubicBezTo>
                <a:cubicBezTo>
                  <a:pt x="217042" y="13969"/>
                  <a:pt x="214629" y="34925"/>
                  <a:pt x="214629" y="41909"/>
                </a:cubicBezTo>
                <a:cubicBezTo>
                  <a:pt x="212343" y="39623"/>
                  <a:pt x="212343" y="39623"/>
                  <a:pt x="212343" y="39623"/>
                </a:cubicBezTo>
                <a:cubicBezTo>
                  <a:pt x="188975" y="37337"/>
                  <a:pt x="151637" y="32638"/>
                  <a:pt x="118998" y="32638"/>
                </a:cubicBezTo>
                <a:cubicBezTo>
                  <a:pt x="56006" y="32638"/>
                  <a:pt x="35051" y="51308"/>
                  <a:pt x="35051" y="104775"/>
                </a:cubicBezTo>
                <a:cubicBezTo>
                  <a:pt x="35051" y="260984"/>
                  <a:pt x="35051" y="260984"/>
                  <a:pt x="35051" y="260984"/>
                </a:cubicBezTo>
                <a:cubicBezTo>
                  <a:pt x="35051" y="307466"/>
                  <a:pt x="49022" y="333120"/>
                  <a:pt x="116712" y="333120"/>
                </a:cubicBezTo>
                <a:cubicBezTo>
                  <a:pt x="132968" y="333120"/>
                  <a:pt x="161035" y="330835"/>
                  <a:pt x="184403" y="326136"/>
                </a:cubicBezTo>
                <a:cubicBezTo>
                  <a:pt x="188975" y="326136"/>
                  <a:pt x="188975" y="326136"/>
                  <a:pt x="188975" y="326136"/>
                </a:cubicBezTo>
                <a:cubicBezTo>
                  <a:pt x="188975" y="326136"/>
                  <a:pt x="188975" y="207390"/>
                  <a:pt x="188975" y="200405"/>
                </a:cubicBezTo>
                <a:cubicBezTo>
                  <a:pt x="193675" y="200405"/>
                  <a:pt x="219328" y="200405"/>
                  <a:pt x="224027" y="200405"/>
                </a:cubicBezTo>
                <a:cubicBezTo>
                  <a:pt x="224027" y="207390"/>
                  <a:pt x="224027" y="344805"/>
                  <a:pt x="224027" y="351789"/>
                </a:cubicBezTo>
                <a:cubicBezTo>
                  <a:pt x="224027" y="351789"/>
                  <a:pt x="221741" y="351789"/>
                  <a:pt x="221741" y="351789"/>
                </a:cubicBezTo>
                <a:cubicBezTo>
                  <a:pt x="191388" y="361061"/>
                  <a:pt x="149351" y="365760"/>
                  <a:pt x="114300" y="365760"/>
                </a:cubicBezTo>
                <a:cubicBezTo>
                  <a:pt x="32638" y="365760"/>
                  <a:pt x="0" y="335533"/>
                  <a:pt x="0" y="260984"/>
                </a:cubicBez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2442960" y="498240"/>
            <a:ext cx="219240" cy="366840"/>
          </a:xfrm>
          <a:custGeom>
            <a:avLst/>
            <a:gdLst>
              <a:gd name="textAreaLeft" fmla="*/ 0 w 219240"/>
              <a:gd name="textAreaRight" fmla="*/ 219600 w 2192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9455" h="367284">
                <a:moveTo>
                  <a:pt x="0" y="262635"/>
                </a:moveTo>
                <a:cubicBezTo>
                  <a:pt x="0" y="262635"/>
                  <a:pt x="0" y="9270"/>
                  <a:pt x="0" y="0"/>
                </a:cubicBezTo>
                <a:cubicBezTo>
                  <a:pt x="6985" y="0"/>
                  <a:pt x="29972" y="2285"/>
                  <a:pt x="36957" y="2285"/>
                </a:cubicBezTo>
                <a:cubicBezTo>
                  <a:pt x="36957" y="9270"/>
                  <a:pt x="36957" y="262635"/>
                  <a:pt x="36957" y="262635"/>
                </a:cubicBezTo>
                <a:cubicBezTo>
                  <a:pt x="36957" y="309118"/>
                  <a:pt x="50800" y="334771"/>
                  <a:pt x="117855" y="334771"/>
                </a:cubicBezTo>
                <a:cubicBezTo>
                  <a:pt x="117855" y="334771"/>
                  <a:pt x="212470" y="334771"/>
                  <a:pt x="219455" y="334771"/>
                </a:cubicBezTo>
                <a:cubicBezTo>
                  <a:pt x="219455" y="341756"/>
                  <a:pt x="219455" y="360298"/>
                  <a:pt x="219455" y="367284"/>
                </a:cubicBezTo>
                <a:cubicBezTo>
                  <a:pt x="212470" y="367284"/>
                  <a:pt x="115442" y="367284"/>
                  <a:pt x="115442" y="367284"/>
                </a:cubicBezTo>
                <a:cubicBezTo>
                  <a:pt x="34670" y="367284"/>
                  <a:pt x="0" y="337057"/>
                  <a:pt x="0" y="262635"/>
                </a:cubicBez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3035880" y="504360"/>
            <a:ext cx="280080" cy="356400"/>
          </a:xfrm>
          <a:custGeom>
            <a:avLst/>
            <a:gdLst>
              <a:gd name="textAreaLeft" fmla="*/ 0 w 280080"/>
              <a:gd name="textAreaRight" fmla="*/ 280440 w 280080"/>
              <a:gd name="textAreaTop" fmla="*/ 0 h 356400"/>
              <a:gd name="textAreaBottom" fmla="*/ 356760 h 356400"/>
            </a:gdLst>
            <a:ahLst/>
            <a:rect l="textAreaLeft" t="textAreaTop" r="textAreaRight" b="textAreaBottom"/>
            <a:pathLst>
              <a:path w="280416" h="356616">
                <a:moveTo>
                  <a:pt x="273431" y="0"/>
                </a:moveTo>
                <a:cubicBezTo>
                  <a:pt x="273431" y="0"/>
                  <a:pt x="275717" y="0"/>
                  <a:pt x="278130" y="0"/>
                </a:cubicBezTo>
                <a:cubicBezTo>
                  <a:pt x="268732" y="11683"/>
                  <a:pt x="161290" y="174751"/>
                  <a:pt x="161290" y="174751"/>
                </a:cubicBezTo>
                <a:cubicBezTo>
                  <a:pt x="161290" y="174751"/>
                  <a:pt x="273431" y="344931"/>
                  <a:pt x="280416" y="356616"/>
                </a:cubicBezTo>
                <a:cubicBezTo>
                  <a:pt x="271018" y="356616"/>
                  <a:pt x="245363" y="356616"/>
                  <a:pt x="240664" y="356616"/>
                </a:cubicBezTo>
                <a:cubicBezTo>
                  <a:pt x="238379" y="351916"/>
                  <a:pt x="140208" y="205104"/>
                  <a:pt x="140208" y="205104"/>
                </a:cubicBezTo>
                <a:cubicBezTo>
                  <a:pt x="140208" y="205104"/>
                  <a:pt x="44450" y="351916"/>
                  <a:pt x="42037" y="356616"/>
                </a:cubicBezTo>
                <a:cubicBezTo>
                  <a:pt x="37338" y="356616"/>
                  <a:pt x="11684" y="356616"/>
                  <a:pt x="0" y="356616"/>
                </a:cubicBezTo>
                <a:cubicBezTo>
                  <a:pt x="9398" y="344931"/>
                  <a:pt x="121539" y="174751"/>
                  <a:pt x="121539" y="174751"/>
                </a:cubicBezTo>
                <a:cubicBezTo>
                  <a:pt x="121539" y="174751"/>
                  <a:pt x="13970" y="11683"/>
                  <a:pt x="4699" y="0"/>
                </a:cubicBezTo>
                <a:cubicBezTo>
                  <a:pt x="16383" y="0"/>
                  <a:pt x="42037" y="0"/>
                  <a:pt x="44450" y="0"/>
                </a:cubicBezTo>
                <a:cubicBezTo>
                  <a:pt x="46736" y="2286"/>
                  <a:pt x="140208" y="146811"/>
                  <a:pt x="140208" y="146811"/>
                </a:cubicBezTo>
                <a:cubicBezTo>
                  <a:pt x="140208" y="146811"/>
                  <a:pt x="233680" y="2286"/>
                  <a:pt x="238379" y="0"/>
                </a:cubicBezTo>
                <a:cubicBezTo>
                  <a:pt x="240664" y="0"/>
                  <a:pt x="273431" y="0"/>
                  <a:pt x="273431" y="0"/>
                </a:cubicBez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3342240" y="504360"/>
            <a:ext cx="280080" cy="356400"/>
          </a:xfrm>
          <a:custGeom>
            <a:avLst/>
            <a:gdLst>
              <a:gd name="textAreaLeft" fmla="*/ 0 w 280080"/>
              <a:gd name="textAreaRight" fmla="*/ 280440 w 280080"/>
              <a:gd name="textAreaTop" fmla="*/ 0 h 356400"/>
              <a:gd name="textAreaBottom" fmla="*/ 356760 h 356400"/>
            </a:gdLst>
            <a:ahLst/>
            <a:rect l="textAreaLeft" t="textAreaTop" r="textAreaRight" b="textAreaBottom"/>
            <a:pathLst>
              <a:path w="280416" h="356616">
                <a:moveTo>
                  <a:pt x="275716" y="0"/>
                </a:moveTo>
                <a:cubicBezTo>
                  <a:pt x="275716" y="0"/>
                  <a:pt x="278129" y="0"/>
                  <a:pt x="280415" y="0"/>
                </a:cubicBezTo>
                <a:cubicBezTo>
                  <a:pt x="273430" y="11683"/>
                  <a:pt x="158877" y="247014"/>
                  <a:pt x="158877" y="247014"/>
                </a:cubicBezTo>
                <a:cubicBezTo>
                  <a:pt x="158877" y="247014"/>
                  <a:pt x="158877" y="349630"/>
                  <a:pt x="158877" y="356616"/>
                </a:cubicBezTo>
                <a:cubicBezTo>
                  <a:pt x="151891" y="356616"/>
                  <a:pt x="128523" y="356616"/>
                  <a:pt x="121539" y="356616"/>
                </a:cubicBezTo>
                <a:cubicBezTo>
                  <a:pt x="121539" y="349630"/>
                  <a:pt x="121539" y="247014"/>
                  <a:pt x="121539" y="247014"/>
                </a:cubicBezTo>
                <a:cubicBezTo>
                  <a:pt x="121539" y="247014"/>
                  <a:pt x="4698" y="11683"/>
                  <a:pt x="0" y="0"/>
                </a:cubicBezTo>
                <a:cubicBezTo>
                  <a:pt x="9397" y="0"/>
                  <a:pt x="35052" y="0"/>
                  <a:pt x="37338" y="0"/>
                </a:cubicBezTo>
                <a:cubicBezTo>
                  <a:pt x="39751" y="4698"/>
                  <a:pt x="140208" y="207390"/>
                  <a:pt x="140208" y="207390"/>
                </a:cubicBezTo>
                <a:cubicBezTo>
                  <a:pt x="140208" y="207390"/>
                  <a:pt x="238378" y="4698"/>
                  <a:pt x="240664" y="0"/>
                </a:cubicBezTo>
                <a:cubicBezTo>
                  <a:pt x="245364" y="0"/>
                  <a:pt x="275716" y="0"/>
                  <a:pt x="275716" y="0"/>
                </a:cubicBez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420480" y="605160"/>
            <a:ext cx="144360" cy="257040"/>
          </a:xfrm>
          <a:custGeom>
            <a:avLst/>
            <a:gdLst>
              <a:gd name="textAreaLeft" fmla="*/ 0 w 144360"/>
              <a:gd name="textAreaRight" fmla="*/ 144720 w 1443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44780" h="257556">
                <a:moveTo>
                  <a:pt x="39065" y="122936"/>
                </a:moveTo>
                <a:cubicBezTo>
                  <a:pt x="32169" y="120650"/>
                  <a:pt x="25273" y="118363"/>
                  <a:pt x="20688" y="113665"/>
                </a:cubicBezTo>
                <a:cubicBezTo>
                  <a:pt x="16090" y="109093"/>
                  <a:pt x="11493" y="104394"/>
                  <a:pt x="9194" y="99822"/>
                </a:cubicBezTo>
                <a:cubicBezTo>
                  <a:pt x="6896" y="92837"/>
                  <a:pt x="4597" y="88138"/>
                  <a:pt x="4597" y="81152"/>
                </a:cubicBezTo>
                <a:cubicBezTo>
                  <a:pt x="2298" y="76580"/>
                  <a:pt x="2298" y="69595"/>
                  <a:pt x="2298" y="65023"/>
                </a:cubicBezTo>
                <a:cubicBezTo>
                  <a:pt x="2298" y="60325"/>
                  <a:pt x="2298" y="60325"/>
                  <a:pt x="2298" y="60325"/>
                </a:cubicBezTo>
                <a:cubicBezTo>
                  <a:pt x="2298" y="39497"/>
                  <a:pt x="6896" y="25527"/>
                  <a:pt x="18389" y="13970"/>
                </a:cubicBezTo>
                <a:cubicBezTo>
                  <a:pt x="29870" y="4698"/>
                  <a:pt x="45961" y="0"/>
                  <a:pt x="66649" y="0"/>
                </a:cubicBezTo>
                <a:cubicBezTo>
                  <a:pt x="80429" y="0"/>
                  <a:pt x="80429" y="0"/>
                  <a:pt x="80429" y="0"/>
                </a:cubicBezTo>
                <a:cubicBezTo>
                  <a:pt x="96520" y="0"/>
                  <a:pt x="110312" y="2286"/>
                  <a:pt x="119506" y="11556"/>
                </a:cubicBezTo>
                <a:cubicBezTo>
                  <a:pt x="130987" y="18541"/>
                  <a:pt x="135585" y="30226"/>
                  <a:pt x="135585" y="48768"/>
                </a:cubicBezTo>
                <a:cubicBezTo>
                  <a:pt x="135585" y="53340"/>
                  <a:pt x="135585" y="55626"/>
                  <a:pt x="133286" y="58038"/>
                </a:cubicBezTo>
                <a:cubicBezTo>
                  <a:pt x="130987" y="60325"/>
                  <a:pt x="126390" y="62611"/>
                  <a:pt x="121793" y="62611"/>
                </a:cubicBezTo>
                <a:cubicBezTo>
                  <a:pt x="117208" y="62611"/>
                  <a:pt x="114909" y="60325"/>
                  <a:pt x="112610" y="58038"/>
                </a:cubicBezTo>
                <a:cubicBezTo>
                  <a:pt x="110312" y="55626"/>
                  <a:pt x="110312" y="53340"/>
                  <a:pt x="110312" y="48768"/>
                </a:cubicBezTo>
                <a:cubicBezTo>
                  <a:pt x="110312" y="39497"/>
                  <a:pt x="108013" y="32512"/>
                  <a:pt x="101117" y="30226"/>
                </a:cubicBezTo>
                <a:cubicBezTo>
                  <a:pt x="96520" y="25527"/>
                  <a:pt x="89623" y="23241"/>
                  <a:pt x="80429" y="23241"/>
                </a:cubicBezTo>
                <a:cubicBezTo>
                  <a:pt x="66649" y="23241"/>
                  <a:pt x="66649" y="23241"/>
                  <a:pt x="66649" y="23241"/>
                </a:cubicBezTo>
                <a:cubicBezTo>
                  <a:pt x="52857" y="23241"/>
                  <a:pt x="43662" y="25527"/>
                  <a:pt x="36766" y="32512"/>
                </a:cubicBezTo>
                <a:cubicBezTo>
                  <a:pt x="29870" y="37084"/>
                  <a:pt x="27571" y="46355"/>
                  <a:pt x="27571" y="60325"/>
                </a:cubicBezTo>
                <a:cubicBezTo>
                  <a:pt x="27571" y="65023"/>
                  <a:pt x="27571" y="65023"/>
                  <a:pt x="27571" y="65023"/>
                </a:cubicBezTo>
                <a:cubicBezTo>
                  <a:pt x="27571" y="74295"/>
                  <a:pt x="29870" y="81152"/>
                  <a:pt x="32169" y="88138"/>
                </a:cubicBezTo>
                <a:cubicBezTo>
                  <a:pt x="36766" y="92837"/>
                  <a:pt x="41363" y="97409"/>
                  <a:pt x="50558" y="99822"/>
                </a:cubicBezTo>
                <a:cubicBezTo>
                  <a:pt x="105714" y="120650"/>
                  <a:pt x="105714" y="120650"/>
                  <a:pt x="105714" y="120650"/>
                </a:cubicBezTo>
                <a:cubicBezTo>
                  <a:pt x="117208" y="125348"/>
                  <a:pt x="128689" y="132206"/>
                  <a:pt x="133286" y="143891"/>
                </a:cubicBezTo>
                <a:cubicBezTo>
                  <a:pt x="140182" y="153162"/>
                  <a:pt x="144780" y="167005"/>
                  <a:pt x="144780" y="180975"/>
                </a:cubicBezTo>
                <a:cubicBezTo>
                  <a:pt x="144780" y="192531"/>
                  <a:pt x="144780" y="192531"/>
                  <a:pt x="144780" y="192531"/>
                </a:cubicBezTo>
                <a:cubicBezTo>
                  <a:pt x="144780" y="213486"/>
                  <a:pt x="137883" y="227330"/>
                  <a:pt x="128689" y="239013"/>
                </a:cubicBezTo>
                <a:cubicBezTo>
                  <a:pt x="117208" y="250571"/>
                  <a:pt x="101117" y="257555"/>
                  <a:pt x="78130" y="257555"/>
                </a:cubicBezTo>
                <a:cubicBezTo>
                  <a:pt x="55156" y="257555"/>
                  <a:pt x="55156" y="257555"/>
                  <a:pt x="55156" y="257555"/>
                </a:cubicBezTo>
                <a:cubicBezTo>
                  <a:pt x="36766" y="257555"/>
                  <a:pt x="25273" y="252857"/>
                  <a:pt x="13792" y="245999"/>
                </a:cubicBezTo>
                <a:cubicBezTo>
                  <a:pt x="4597" y="239013"/>
                  <a:pt x="0" y="225044"/>
                  <a:pt x="0" y="206502"/>
                </a:cubicBezTo>
                <a:cubicBezTo>
                  <a:pt x="0" y="204216"/>
                  <a:pt x="0" y="201930"/>
                  <a:pt x="2298" y="197230"/>
                </a:cubicBezTo>
                <a:cubicBezTo>
                  <a:pt x="4597" y="194945"/>
                  <a:pt x="6896" y="194945"/>
                  <a:pt x="11493" y="194945"/>
                </a:cubicBezTo>
                <a:cubicBezTo>
                  <a:pt x="16090" y="194945"/>
                  <a:pt x="20688" y="194945"/>
                  <a:pt x="22987" y="197230"/>
                </a:cubicBezTo>
                <a:cubicBezTo>
                  <a:pt x="22987" y="201930"/>
                  <a:pt x="25273" y="204216"/>
                  <a:pt x="25273" y="206502"/>
                </a:cubicBezTo>
                <a:cubicBezTo>
                  <a:pt x="25273" y="215772"/>
                  <a:pt x="27571" y="222758"/>
                  <a:pt x="32169" y="227330"/>
                </a:cubicBezTo>
                <a:cubicBezTo>
                  <a:pt x="39065" y="232029"/>
                  <a:pt x="45961" y="232029"/>
                  <a:pt x="55156" y="232029"/>
                </a:cubicBezTo>
                <a:cubicBezTo>
                  <a:pt x="78130" y="232029"/>
                  <a:pt x="78130" y="232029"/>
                  <a:pt x="78130" y="232029"/>
                </a:cubicBezTo>
                <a:cubicBezTo>
                  <a:pt x="94221" y="232029"/>
                  <a:pt x="103416" y="229743"/>
                  <a:pt x="110312" y="222758"/>
                </a:cubicBezTo>
                <a:cubicBezTo>
                  <a:pt x="114909" y="215772"/>
                  <a:pt x="119506" y="206502"/>
                  <a:pt x="119506" y="192531"/>
                </a:cubicBezTo>
                <a:cubicBezTo>
                  <a:pt x="119506" y="180975"/>
                  <a:pt x="119506" y="180975"/>
                  <a:pt x="119506" y="180975"/>
                </a:cubicBezTo>
                <a:cubicBezTo>
                  <a:pt x="119506" y="171704"/>
                  <a:pt x="117208" y="164719"/>
                  <a:pt x="112610" y="157734"/>
                </a:cubicBezTo>
                <a:cubicBezTo>
                  <a:pt x="110312" y="153162"/>
                  <a:pt x="105714" y="148463"/>
                  <a:pt x="98818" y="146177"/>
                </a:cubicBezTo>
                <a:lnTo>
                  <a:pt x="39065" y="122936"/>
                </a:ln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781920" y="672120"/>
            <a:ext cx="196200" cy="190080"/>
          </a:xfrm>
          <a:custGeom>
            <a:avLst/>
            <a:gdLst>
              <a:gd name="textAreaLeft" fmla="*/ 0 w 196200"/>
              <a:gd name="textAreaRight" fmla="*/ 196560 w 19620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196595" h="190500">
                <a:moveTo>
                  <a:pt x="171157" y="62738"/>
                </a:moveTo>
                <a:cubicBezTo>
                  <a:pt x="171157" y="51054"/>
                  <a:pt x="166522" y="41783"/>
                  <a:pt x="161899" y="34798"/>
                </a:cubicBezTo>
                <a:cubicBezTo>
                  <a:pt x="154965" y="27940"/>
                  <a:pt x="145707" y="23241"/>
                  <a:pt x="131838" y="23241"/>
                </a:cubicBezTo>
                <a:cubicBezTo>
                  <a:pt x="111023" y="23241"/>
                  <a:pt x="111023" y="23241"/>
                  <a:pt x="111023" y="23241"/>
                </a:cubicBezTo>
                <a:cubicBezTo>
                  <a:pt x="111023" y="176530"/>
                  <a:pt x="111023" y="176530"/>
                  <a:pt x="111023" y="176530"/>
                </a:cubicBezTo>
                <a:cubicBezTo>
                  <a:pt x="111023" y="181229"/>
                  <a:pt x="108712" y="183515"/>
                  <a:pt x="108712" y="185801"/>
                </a:cubicBezTo>
                <a:cubicBezTo>
                  <a:pt x="106387" y="188213"/>
                  <a:pt x="104076" y="190500"/>
                  <a:pt x="97142" y="190500"/>
                </a:cubicBezTo>
                <a:cubicBezTo>
                  <a:pt x="92519" y="190500"/>
                  <a:pt x="90208" y="188213"/>
                  <a:pt x="87884" y="185801"/>
                </a:cubicBezTo>
                <a:cubicBezTo>
                  <a:pt x="85572" y="183515"/>
                  <a:pt x="85572" y="181229"/>
                  <a:pt x="85572" y="176530"/>
                </a:cubicBezTo>
                <a:cubicBezTo>
                  <a:pt x="85572" y="23241"/>
                  <a:pt x="85572" y="23241"/>
                  <a:pt x="85572" y="23241"/>
                </a:cubicBezTo>
                <a:cubicBezTo>
                  <a:pt x="25438" y="23241"/>
                  <a:pt x="25438" y="23241"/>
                  <a:pt x="25438" y="23241"/>
                </a:cubicBezTo>
                <a:cubicBezTo>
                  <a:pt x="25438" y="176530"/>
                  <a:pt x="25438" y="176530"/>
                  <a:pt x="25438" y="176530"/>
                </a:cubicBezTo>
                <a:cubicBezTo>
                  <a:pt x="25438" y="181229"/>
                  <a:pt x="25438" y="183515"/>
                  <a:pt x="23126" y="185801"/>
                </a:cubicBezTo>
                <a:cubicBezTo>
                  <a:pt x="20815" y="188213"/>
                  <a:pt x="18503" y="190500"/>
                  <a:pt x="13881" y="190500"/>
                </a:cubicBezTo>
                <a:cubicBezTo>
                  <a:pt x="9245" y="190500"/>
                  <a:pt x="4622" y="188213"/>
                  <a:pt x="2311" y="185801"/>
                </a:cubicBezTo>
                <a:cubicBezTo>
                  <a:pt x="2311" y="183515"/>
                  <a:pt x="0" y="181229"/>
                  <a:pt x="0" y="176530"/>
                </a:cubicBezTo>
                <a:cubicBezTo>
                  <a:pt x="0" y="13970"/>
                  <a:pt x="0" y="13970"/>
                  <a:pt x="0" y="13970"/>
                </a:cubicBezTo>
                <a:cubicBezTo>
                  <a:pt x="0" y="9271"/>
                  <a:pt x="2311" y="6985"/>
                  <a:pt x="2311" y="4699"/>
                </a:cubicBezTo>
                <a:cubicBezTo>
                  <a:pt x="4622" y="0"/>
                  <a:pt x="9245" y="0"/>
                  <a:pt x="13881" y="0"/>
                </a:cubicBezTo>
                <a:cubicBezTo>
                  <a:pt x="131838" y="0"/>
                  <a:pt x="131838" y="0"/>
                  <a:pt x="131838" y="0"/>
                </a:cubicBezTo>
                <a:cubicBezTo>
                  <a:pt x="152654" y="0"/>
                  <a:pt x="168846" y="4699"/>
                  <a:pt x="180403" y="16256"/>
                </a:cubicBezTo>
                <a:cubicBezTo>
                  <a:pt x="189661" y="27940"/>
                  <a:pt x="196595" y="44196"/>
                  <a:pt x="196595" y="62738"/>
                </a:cubicBezTo>
                <a:cubicBezTo>
                  <a:pt x="196595" y="176530"/>
                  <a:pt x="196595" y="176530"/>
                  <a:pt x="196595" y="176530"/>
                </a:cubicBezTo>
                <a:cubicBezTo>
                  <a:pt x="196595" y="181229"/>
                  <a:pt x="194284" y="183515"/>
                  <a:pt x="194284" y="185801"/>
                </a:cubicBezTo>
                <a:cubicBezTo>
                  <a:pt x="191973" y="188213"/>
                  <a:pt x="187350" y="190500"/>
                  <a:pt x="182714" y="190500"/>
                </a:cubicBezTo>
                <a:cubicBezTo>
                  <a:pt x="178092" y="190500"/>
                  <a:pt x="175780" y="188213"/>
                  <a:pt x="173469" y="185801"/>
                </a:cubicBezTo>
                <a:cubicBezTo>
                  <a:pt x="171157" y="183515"/>
                  <a:pt x="171157" y="181229"/>
                  <a:pt x="171157" y="176530"/>
                </a:cubicBezTo>
                <a:lnTo>
                  <a:pt x="171157" y="62738"/>
                </a:ln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022760" y="667440"/>
            <a:ext cx="124560" cy="194760"/>
          </a:xfrm>
          <a:custGeom>
            <a:avLst/>
            <a:gdLst>
              <a:gd name="textAreaLeft" fmla="*/ 0 w 124560"/>
              <a:gd name="textAreaRight" fmla="*/ 124920 w 12456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24968" h="195072">
                <a:moveTo>
                  <a:pt x="50914" y="195071"/>
                </a:moveTo>
                <a:cubicBezTo>
                  <a:pt x="34709" y="195071"/>
                  <a:pt x="23139" y="192785"/>
                  <a:pt x="13881" y="185801"/>
                </a:cubicBezTo>
                <a:cubicBezTo>
                  <a:pt x="4622" y="178815"/>
                  <a:pt x="0" y="167259"/>
                  <a:pt x="0" y="153288"/>
                </a:cubicBezTo>
                <a:cubicBezTo>
                  <a:pt x="0" y="151002"/>
                  <a:pt x="0" y="146304"/>
                  <a:pt x="2311" y="144018"/>
                </a:cubicBezTo>
                <a:cubicBezTo>
                  <a:pt x="4622" y="141604"/>
                  <a:pt x="6946" y="141604"/>
                  <a:pt x="11569" y="141604"/>
                </a:cubicBezTo>
                <a:cubicBezTo>
                  <a:pt x="16205" y="141604"/>
                  <a:pt x="20828" y="141604"/>
                  <a:pt x="20828" y="144018"/>
                </a:cubicBezTo>
                <a:cubicBezTo>
                  <a:pt x="23139" y="146304"/>
                  <a:pt x="25450" y="151002"/>
                  <a:pt x="25450" y="153288"/>
                </a:cubicBezTo>
                <a:cubicBezTo>
                  <a:pt x="25450" y="164845"/>
                  <a:pt x="34709" y="171830"/>
                  <a:pt x="50914" y="171830"/>
                </a:cubicBezTo>
                <a:cubicBezTo>
                  <a:pt x="69430" y="171830"/>
                  <a:pt x="69430" y="171830"/>
                  <a:pt x="69430" y="171830"/>
                </a:cubicBezTo>
                <a:cubicBezTo>
                  <a:pt x="78689" y="171830"/>
                  <a:pt x="85623" y="169545"/>
                  <a:pt x="90258" y="164845"/>
                </a:cubicBezTo>
                <a:cubicBezTo>
                  <a:pt x="97193" y="162559"/>
                  <a:pt x="99517" y="155574"/>
                  <a:pt x="99517" y="148590"/>
                </a:cubicBezTo>
                <a:cubicBezTo>
                  <a:pt x="99517" y="132333"/>
                  <a:pt x="99517" y="132333"/>
                  <a:pt x="99517" y="132333"/>
                </a:cubicBezTo>
                <a:cubicBezTo>
                  <a:pt x="99517" y="127761"/>
                  <a:pt x="97193" y="123062"/>
                  <a:pt x="94881" y="120776"/>
                </a:cubicBezTo>
                <a:cubicBezTo>
                  <a:pt x="92570" y="116077"/>
                  <a:pt x="87934" y="113791"/>
                  <a:pt x="81000" y="113791"/>
                </a:cubicBezTo>
                <a:cubicBezTo>
                  <a:pt x="32397" y="99821"/>
                  <a:pt x="32397" y="99821"/>
                  <a:pt x="32397" y="99821"/>
                </a:cubicBezTo>
                <a:cubicBezTo>
                  <a:pt x="23139" y="97536"/>
                  <a:pt x="16205" y="92836"/>
                  <a:pt x="9258" y="85979"/>
                </a:cubicBezTo>
                <a:cubicBezTo>
                  <a:pt x="4622" y="78993"/>
                  <a:pt x="2311" y="69722"/>
                  <a:pt x="2311" y="58038"/>
                </a:cubicBezTo>
                <a:cubicBezTo>
                  <a:pt x="2311" y="46481"/>
                  <a:pt x="2311" y="46481"/>
                  <a:pt x="2311" y="46481"/>
                </a:cubicBezTo>
                <a:cubicBezTo>
                  <a:pt x="2311" y="32511"/>
                  <a:pt x="6946" y="20954"/>
                  <a:pt x="16205" y="11556"/>
                </a:cubicBezTo>
                <a:cubicBezTo>
                  <a:pt x="27774" y="4698"/>
                  <a:pt x="39344" y="0"/>
                  <a:pt x="57861" y="0"/>
                </a:cubicBezTo>
                <a:cubicBezTo>
                  <a:pt x="67106" y="0"/>
                  <a:pt x="67106" y="0"/>
                  <a:pt x="67106" y="0"/>
                </a:cubicBezTo>
                <a:cubicBezTo>
                  <a:pt x="83312" y="0"/>
                  <a:pt x="94881" y="4698"/>
                  <a:pt x="104140" y="11556"/>
                </a:cubicBezTo>
                <a:cubicBezTo>
                  <a:pt x="113398" y="18541"/>
                  <a:pt x="118021" y="27812"/>
                  <a:pt x="118021" y="41782"/>
                </a:cubicBezTo>
                <a:cubicBezTo>
                  <a:pt x="118021" y="46481"/>
                  <a:pt x="118021" y="48768"/>
                  <a:pt x="115709" y="51054"/>
                </a:cubicBezTo>
                <a:cubicBezTo>
                  <a:pt x="113398" y="53466"/>
                  <a:pt x="111086" y="55752"/>
                  <a:pt x="106451" y="55752"/>
                </a:cubicBezTo>
                <a:cubicBezTo>
                  <a:pt x="101828" y="55752"/>
                  <a:pt x="97193" y="53466"/>
                  <a:pt x="94881" y="51054"/>
                </a:cubicBezTo>
                <a:cubicBezTo>
                  <a:pt x="94881" y="48768"/>
                  <a:pt x="92570" y="46481"/>
                  <a:pt x="92570" y="41782"/>
                </a:cubicBezTo>
                <a:cubicBezTo>
                  <a:pt x="92570" y="30225"/>
                  <a:pt x="83312" y="23240"/>
                  <a:pt x="67106" y="23240"/>
                </a:cubicBezTo>
                <a:cubicBezTo>
                  <a:pt x="57861" y="23240"/>
                  <a:pt x="57861" y="23240"/>
                  <a:pt x="57861" y="23240"/>
                </a:cubicBezTo>
                <a:cubicBezTo>
                  <a:pt x="48602" y="23240"/>
                  <a:pt x="41656" y="25526"/>
                  <a:pt x="34709" y="30225"/>
                </a:cubicBezTo>
                <a:cubicBezTo>
                  <a:pt x="30086" y="34797"/>
                  <a:pt x="27774" y="39496"/>
                  <a:pt x="27774" y="46481"/>
                </a:cubicBezTo>
                <a:cubicBezTo>
                  <a:pt x="27774" y="58038"/>
                  <a:pt x="27774" y="58038"/>
                  <a:pt x="27774" y="58038"/>
                </a:cubicBezTo>
                <a:cubicBezTo>
                  <a:pt x="27774" y="62737"/>
                  <a:pt x="27774" y="67309"/>
                  <a:pt x="32397" y="72008"/>
                </a:cubicBezTo>
                <a:cubicBezTo>
                  <a:pt x="34709" y="74294"/>
                  <a:pt x="39344" y="76580"/>
                  <a:pt x="43967" y="78993"/>
                </a:cubicBezTo>
                <a:cubicBezTo>
                  <a:pt x="94881" y="90550"/>
                  <a:pt x="94881" y="90550"/>
                  <a:pt x="94881" y="90550"/>
                </a:cubicBezTo>
                <a:cubicBezTo>
                  <a:pt x="104140" y="95250"/>
                  <a:pt x="111086" y="99821"/>
                  <a:pt x="115709" y="106806"/>
                </a:cubicBezTo>
                <a:cubicBezTo>
                  <a:pt x="122656" y="113791"/>
                  <a:pt x="124968" y="123062"/>
                  <a:pt x="124968" y="132333"/>
                </a:cubicBezTo>
                <a:cubicBezTo>
                  <a:pt x="124968" y="148590"/>
                  <a:pt x="124968" y="148590"/>
                  <a:pt x="124968" y="148590"/>
                </a:cubicBezTo>
                <a:cubicBezTo>
                  <a:pt x="124968" y="164845"/>
                  <a:pt x="120345" y="176529"/>
                  <a:pt x="108762" y="183515"/>
                </a:cubicBezTo>
                <a:cubicBezTo>
                  <a:pt x="99517" y="190373"/>
                  <a:pt x="85623" y="195071"/>
                  <a:pt x="69430" y="195071"/>
                </a:cubicBezTo>
                <a:lnTo>
                  <a:pt x="50914" y="195071"/>
                </a:ln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191600" y="667440"/>
            <a:ext cx="132120" cy="190080"/>
          </a:xfrm>
          <a:custGeom>
            <a:avLst/>
            <a:gdLst>
              <a:gd name="textAreaLeft" fmla="*/ 0 w 132120"/>
              <a:gd name="textAreaRight" fmla="*/ 132480 w 13212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132588" h="190499">
                <a:moveTo>
                  <a:pt x="25590" y="127761"/>
                </a:moveTo>
                <a:cubicBezTo>
                  <a:pt x="25590" y="139445"/>
                  <a:pt x="27914" y="151002"/>
                  <a:pt x="34886" y="157987"/>
                </a:cubicBezTo>
                <a:cubicBezTo>
                  <a:pt x="41871" y="164973"/>
                  <a:pt x="51168" y="167259"/>
                  <a:pt x="65125" y="167259"/>
                </a:cubicBezTo>
                <a:cubicBezTo>
                  <a:pt x="107061" y="167259"/>
                  <a:pt x="107061" y="167259"/>
                  <a:pt x="107061" y="167259"/>
                </a:cubicBezTo>
                <a:cubicBezTo>
                  <a:pt x="107061" y="13969"/>
                  <a:pt x="107061" y="13969"/>
                  <a:pt x="107061" y="13969"/>
                </a:cubicBezTo>
                <a:cubicBezTo>
                  <a:pt x="107061" y="9270"/>
                  <a:pt x="107061" y="6984"/>
                  <a:pt x="109347" y="4698"/>
                </a:cubicBezTo>
                <a:cubicBezTo>
                  <a:pt x="111633" y="2286"/>
                  <a:pt x="113919" y="0"/>
                  <a:pt x="118618" y="0"/>
                </a:cubicBezTo>
                <a:cubicBezTo>
                  <a:pt x="123317" y="0"/>
                  <a:pt x="127889" y="2286"/>
                  <a:pt x="127889" y="4698"/>
                </a:cubicBezTo>
                <a:cubicBezTo>
                  <a:pt x="130302" y="6984"/>
                  <a:pt x="132588" y="9270"/>
                  <a:pt x="132588" y="13969"/>
                </a:cubicBezTo>
                <a:cubicBezTo>
                  <a:pt x="132588" y="178943"/>
                  <a:pt x="132588" y="178943"/>
                  <a:pt x="132588" y="178943"/>
                </a:cubicBezTo>
                <a:cubicBezTo>
                  <a:pt x="132588" y="181229"/>
                  <a:pt x="130302" y="185801"/>
                  <a:pt x="127889" y="188213"/>
                </a:cubicBezTo>
                <a:cubicBezTo>
                  <a:pt x="127889" y="190499"/>
                  <a:pt x="123317" y="190499"/>
                  <a:pt x="118618" y="190499"/>
                </a:cubicBezTo>
                <a:cubicBezTo>
                  <a:pt x="65125" y="190499"/>
                  <a:pt x="65125" y="190499"/>
                  <a:pt x="65125" y="190499"/>
                </a:cubicBezTo>
                <a:cubicBezTo>
                  <a:pt x="44196" y="190499"/>
                  <a:pt x="25590" y="185801"/>
                  <a:pt x="16281" y="174243"/>
                </a:cubicBezTo>
                <a:cubicBezTo>
                  <a:pt x="4648" y="162559"/>
                  <a:pt x="0" y="146304"/>
                  <a:pt x="0" y="127761"/>
                </a:cubicBezTo>
                <a:cubicBezTo>
                  <a:pt x="0" y="13969"/>
                  <a:pt x="0" y="13969"/>
                  <a:pt x="0" y="13969"/>
                </a:cubicBezTo>
                <a:cubicBezTo>
                  <a:pt x="0" y="11556"/>
                  <a:pt x="0" y="6984"/>
                  <a:pt x="2324" y="4698"/>
                </a:cubicBezTo>
                <a:cubicBezTo>
                  <a:pt x="4648" y="2286"/>
                  <a:pt x="6972" y="2286"/>
                  <a:pt x="11633" y="2286"/>
                </a:cubicBezTo>
                <a:cubicBezTo>
                  <a:pt x="16281" y="2286"/>
                  <a:pt x="20929" y="2286"/>
                  <a:pt x="23266" y="4698"/>
                </a:cubicBezTo>
                <a:cubicBezTo>
                  <a:pt x="23266" y="6984"/>
                  <a:pt x="25590" y="11556"/>
                  <a:pt x="25590" y="13969"/>
                </a:cubicBezTo>
                <a:lnTo>
                  <a:pt x="25590" y="127761"/>
                </a:ln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377720" y="672120"/>
            <a:ext cx="130680" cy="190080"/>
          </a:xfrm>
          <a:custGeom>
            <a:avLst/>
            <a:gdLst>
              <a:gd name="textAreaLeft" fmla="*/ 0 w 130680"/>
              <a:gd name="textAreaRight" fmla="*/ 131040 w 13068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131063" h="190500">
                <a:moveTo>
                  <a:pt x="105790" y="62738"/>
                </a:moveTo>
                <a:cubicBezTo>
                  <a:pt x="105790" y="51054"/>
                  <a:pt x="103504" y="41783"/>
                  <a:pt x="96519" y="34798"/>
                </a:cubicBezTo>
                <a:cubicBezTo>
                  <a:pt x="89661" y="27940"/>
                  <a:pt x="80517" y="23241"/>
                  <a:pt x="66675" y="23241"/>
                </a:cubicBezTo>
                <a:cubicBezTo>
                  <a:pt x="25272" y="23241"/>
                  <a:pt x="25272" y="23241"/>
                  <a:pt x="25272" y="23241"/>
                </a:cubicBezTo>
                <a:cubicBezTo>
                  <a:pt x="25272" y="176530"/>
                  <a:pt x="25272" y="176530"/>
                  <a:pt x="25272" y="176530"/>
                </a:cubicBezTo>
                <a:cubicBezTo>
                  <a:pt x="25272" y="181229"/>
                  <a:pt x="25272" y="183515"/>
                  <a:pt x="22986" y="185801"/>
                </a:cubicBezTo>
                <a:cubicBezTo>
                  <a:pt x="20700" y="188213"/>
                  <a:pt x="18414" y="190500"/>
                  <a:pt x="13842" y="190500"/>
                </a:cubicBezTo>
                <a:cubicBezTo>
                  <a:pt x="6857" y="190500"/>
                  <a:pt x="4571" y="188213"/>
                  <a:pt x="2286" y="185801"/>
                </a:cubicBezTo>
                <a:cubicBezTo>
                  <a:pt x="2286" y="183515"/>
                  <a:pt x="0" y="181229"/>
                  <a:pt x="0" y="176530"/>
                </a:cubicBezTo>
                <a:cubicBezTo>
                  <a:pt x="0" y="13970"/>
                  <a:pt x="0" y="13970"/>
                  <a:pt x="0" y="13970"/>
                </a:cubicBezTo>
                <a:cubicBezTo>
                  <a:pt x="0" y="9271"/>
                  <a:pt x="2286" y="6985"/>
                  <a:pt x="2286" y="4699"/>
                </a:cubicBezTo>
                <a:cubicBezTo>
                  <a:pt x="4571" y="0"/>
                  <a:pt x="6857" y="0"/>
                  <a:pt x="13842" y="0"/>
                </a:cubicBezTo>
                <a:cubicBezTo>
                  <a:pt x="66675" y="0"/>
                  <a:pt x="66675" y="0"/>
                  <a:pt x="66675" y="0"/>
                </a:cubicBezTo>
                <a:cubicBezTo>
                  <a:pt x="87375" y="0"/>
                  <a:pt x="103504" y="4699"/>
                  <a:pt x="114934" y="16256"/>
                </a:cubicBezTo>
                <a:cubicBezTo>
                  <a:pt x="124205" y="27940"/>
                  <a:pt x="131063" y="44196"/>
                  <a:pt x="131063" y="62738"/>
                </a:cubicBezTo>
                <a:cubicBezTo>
                  <a:pt x="131063" y="176530"/>
                  <a:pt x="131063" y="176530"/>
                  <a:pt x="131063" y="176530"/>
                </a:cubicBezTo>
                <a:cubicBezTo>
                  <a:pt x="131063" y="181229"/>
                  <a:pt x="128777" y="183515"/>
                  <a:pt x="128777" y="185801"/>
                </a:cubicBezTo>
                <a:cubicBezTo>
                  <a:pt x="126491" y="188213"/>
                  <a:pt x="121919" y="190500"/>
                  <a:pt x="117220" y="190500"/>
                </a:cubicBezTo>
                <a:cubicBezTo>
                  <a:pt x="112648" y="190500"/>
                  <a:pt x="110362" y="188213"/>
                  <a:pt x="108076" y="185801"/>
                </a:cubicBezTo>
                <a:cubicBezTo>
                  <a:pt x="105790" y="183515"/>
                  <a:pt x="105790" y="181229"/>
                  <a:pt x="105790" y="176530"/>
                </a:cubicBezTo>
                <a:lnTo>
                  <a:pt x="105790" y="62738"/>
                </a:lnTo>
              </a:path>
            </a:pathLst>
          </a:custGeom>
          <a:solidFill>
            <a:srgbClr val="f6f6f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96880" y="660240"/>
            <a:ext cx="139320" cy="21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49440" y="660240"/>
            <a:ext cx="15192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095560" y="495360"/>
            <a:ext cx="329760" cy="38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2692440" y="495360"/>
            <a:ext cx="329760" cy="38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5"/>
          <a:stretch/>
        </p:blipFill>
        <p:spPr>
          <a:xfrm>
            <a:off x="3695760" y="304920"/>
            <a:ext cx="1472760" cy="68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6"/>
          <a:stretch/>
        </p:blipFill>
        <p:spPr>
          <a:xfrm>
            <a:off x="787320" y="3543480"/>
            <a:ext cx="10616760" cy="20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7"/>
          <a:stretch/>
        </p:blipFill>
        <p:spPr>
          <a:xfrm>
            <a:off x="787320" y="5626080"/>
            <a:ext cx="10616760" cy="20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8"/>
          <a:stretch/>
        </p:blipFill>
        <p:spPr>
          <a:xfrm>
            <a:off x="495360" y="6045120"/>
            <a:ext cx="11328120" cy="21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9"/>
          <a:stretch/>
        </p:blipFill>
        <p:spPr>
          <a:xfrm>
            <a:off x="533520" y="6350040"/>
            <a:ext cx="1130040" cy="393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0"/>
          <a:stretch/>
        </p:blipFill>
        <p:spPr>
          <a:xfrm>
            <a:off x="1231920" y="0"/>
            <a:ext cx="10956600" cy="685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11"/>
          <a:stretch/>
        </p:blipFill>
        <p:spPr>
          <a:xfrm>
            <a:off x="0" y="0"/>
            <a:ext cx="12188520" cy="685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12"/>
          <a:stretch/>
        </p:blipFill>
        <p:spPr>
          <a:xfrm>
            <a:off x="1231920" y="0"/>
            <a:ext cx="10956600" cy="565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13"/>
          <a:stretch/>
        </p:blipFill>
        <p:spPr>
          <a:xfrm>
            <a:off x="558720" y="304920"/>
            <a:ext cx="11629800" cy="6552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729440" y="2120760"/>
            <a:ext cx="38822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999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Microsoft YaHei UI"/>
              </a:rPr>
              <a:t>大气科技感商务</a:t>
            </a:r>
            <a:r>
              <a:rPr b="0" lang="en-US" sz="4000" spc="-1" strike="noStrike">
                <a:solidFill>
                  <a:srgbClr val="ffffff"/>
                </a:solidFill>
                <a:latin typeface="Microsoft YaHei U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YaHei U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804240" y="3060720"/>
            <a:ext cx="1528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501"/>
              </a:lnSpc>
            </a:pPr>
            <a:r>
              <a:rPr b="0" lang="en-US" sz="2700" spc="-1" strike="noStrike">
                <a:solidFill>
                  <a:srgbClr val="ffffff"/>
                </a:solidFill>
                <a:latin typeface="Microsoft YaHei UI"/>
              </a:rPr>
              <a:t>SUBTIT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7560" y="4025880"/>
            <a:ext cx="30283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AUDI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Present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Prese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783720" y="4902120"/>
            <a:ext cx="2014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[Mon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Dat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Ye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8">
            <a:hlinkClick r:id="rId14"/>
          </p:cNvPr>
          <p:cNvSpPr/>
          <p:nvPr/>
        </p:nvSpPr>
        <p:spPr>
          <a:xfrm>
            <a:off x="129960" y="-309240"/>
            <a:ext cx="10982160" cy="6855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520" cy="685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188520" cy="68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53520" y="3975120"/>
            <a:ext cx="60238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501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Microsoft YaHei UI"/>
              </a:rPr>
              <a:t>DIVIDERSLIDE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>
            <a:hlinkClick r:id="rId3"/>
          </p:cNvPr>
          <p:cNvSpPr/>
          <p:nvPr/>
        </p:nvSpPr>
        <p:spPr>
          <a:xfrm>
            <a:off x="603360" y="720"/>
            <a:ext cx="10982160" cy="6855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3"/>
          <p:cNvSpPr/>
          <p:nvPr/>
        </p:nvSpPr>
        <p:spPr>
          <a:xfrm>
            <a:off x="0" y="0"/>
            <a:ext cx="12188520" cy="68576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88952" h="6858000">
                <a:moveTo>
                  <a:pt x="0" y="6857999"/>
                </a:moveTo>
                <a:lnTo>
                  <a:pt x="12188952" y="6857999"/>
                </a:lnTo>
                <a:lnTo>
                  <a:pt x="12188952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560880" y="1396080"/>
            <a:ext cx="6013440" cy="4454280"/>
          </a:xfrm>
          <a:custGeom>
            <a:avLst/>
            <a:gdLst>
              <a:gd name="textAreaLeft" fmla="*/ 0 w 6013440"/>
              <a:gd name="textAreaRight" fmla="*/ 6013800 w 6013440"/>
              <a:gd name="textAreaTop" fmla="*/ 0 h 4454280"/>
              <a:gd name="textAreaBottom" fmla="*/ 4454640 h 4454280"/>
            </a:gdLst>
            <a:ahLst/>
            <a:rect l="textAreaLeft" t="textAreaTop" r="textAreaRight" b="textAreaBottom"/>
            <a:pathLst>
              <a:path w="6013703" h="4454652">
                <a:moveTo>
                  <a:pt x="0" y="4454651"/>
                </a:moveTo>
                <a:lnTo>
                  <a:pt x="6013703" y="4454651"/>
                </a:lnTo>
                <a:lnTo>
                  <a:pt x="6013703" y="0"/>
                </a:lnTo>
                <a:lnTo>
                  <a:pt x="0" y="0"/>
                </a:lnTo>
                <a:lnTo>
                  <a:pt x="0" y="4454651"/>
                </a:lnTo>
              </a:path>
            </a:pathLst>
          </a:custGeom>
          <a:solidFill>
            <a:srgbClr val="f8f8f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554400" y="1389600"/>
            <a:ext cx="6026040" cy="4466880"/>
          </a:xfrm>
          <a:custGeom>
            <a:avLst/>
            <a:gdLst>
              <a:gd name="textAreaLeft" fmla="*/ 0 w 6026040"/>
              <a:gd name="textAreaRight" fmla="*/ 6026400 w 6026040"/>
              <a:gd name="textAreaTop" fmla="*/ 0 h 4466880"/>
              <a:gd name="textAreaBottom" fmla="*/ 4467240 h 4466880"/>
            </a:gdLst>
            <a:ahLst/>
            <a:rect l="textAreaLeft" t="textAreaTop" r="textAreaRight" b="textAreaBottom"/>
            <a:pathLst>
              <a:path w="6026403" h="4467352">
                <a:moveTo>
                  <a:pt x="6350" y="4461001"/>
                </a:moveTo>
                <a:lnTo>
                  <a:pt x="6020053" y="4461001"/>
                </a:lnTo>
                <a:lnTo>
                  <a:pt x="6020053" y="6350"/>
                </a:lnTo>
                <a:lnTo>
                  <a:pt x="6350" y="6350"/>
                </a:lnTo>
                <a:lnTo>
                  <a:pt x="6350" y="4461001"/>
                </a:lnTo>
              </a:path>
            </a:pathLst>
          </a:custGeom>
          <a:noFill/>
          <a:ln w="12700">
            <a:solidFill>
              <a:srgbClr val="c7c8c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6714720" y="1396080"/>
            <a:ext cx="2394000" cy="239544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2394204" h="2395727">
                <a:moveTo>
                  <a:pt x="0" y="2395727"/>
                </a:moveTo>
                <a:lnTo>
                  <a:pt x="2394204" y="2395727"/>
                </a:lnTo>
                <a:lnTo>
                  <a:pt x="2394204" y="0"/>
                </a:lnTo>
                <a:lnTo>
                  <a:pt x="0" y="0"/>
                </a:lnTo>
                <a:lnTo>
                  <a:pt x="0" y="2395727"/>
                </a:lnTo>
              </a:path>
            </a:pathLst>
          </a:custGeom>
          <a:solidFill>
            <a:srgbClr val="0045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9253800" y="1396080"/>
            <a:ext cx="2394000" cy="239544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2394204" h="2395727">
                <a:moveTo>
                  <a:pt x="0" y="2395727"/>
                </a:moveTo>
                <a:lnTo>
                  <a:pt x="2394203" y="2395727"/>
                </a:lnTo>
                <a:lnTo>
                  <a:pt x="2394203" y="0"/>
                </a:lnTo>
                <a:lnTo>
                  <a:pt x="0" y="0"/>
                </a:lnTo>
                <a:lnTo>
                  <a:pt x="0" y="2395727"/>
                </a:lnTo>
              </a:path>
            </a:pathLst>
          </a:custGeom>
          <a:solidFill>
            <a:srgbClr val="0045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178840" y="2933640"/>
            <a:ext cx="72360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0693440" y="2933640"/>
            <a:ext cx="723600" cy="62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95360" y="6045120"/>
            <a:ext cx="11328120" cy="215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4"/>
          <a:stretch/>
        </p:blipFill>
        <p:spPr>
          <a:xfrm>
            <a:off x="533520" y="6350040"/>
            <a:ext cx="1130040" cy="39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5"/>
          <a:stretch/>
        </p:blipFill>
        <p:spPr>
          <a:xfrm>
            <a:off x="1231920" y="0"/>
            <a:ext cx="1095660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103320" y="216000"/>
            <a:ext cx="11032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TH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S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TIT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IM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4593"/>
                </a:solidFill>
                <a:latin typeface="Microsoft YaHei UI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484560" y="1511280"/>
            <a:ext cx="135432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333333"/>
                </a:solidFill>
                <a:latin typeface="Microsoft YaHei UI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333333"/>
                </a:solidFill>
                <a:latin typeface="Microsoft YaHei UI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1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3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1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4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1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5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216000"/>
              </a:tabLst>
            </a:pP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Source: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Sample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6829200" y="1486080"/>
            <a:ext cx="193644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Microsoft YaHei UI"/>
              </a:rPr>
              <a:t>6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</a:pP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Hav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a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HHI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$50k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9343800" y="1486080"/>
            <a:ext cx="193644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Microsoft YaHei UI"/>
              </a:rPr>
              <a:t>4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</a:pP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Hav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a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HHI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Microsoft YaHei UI"/>
              </a:rPr>
              <a:t>$75k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>
            <a:hlinkClick r:id="rId6"/>
          </p:cNvPr>
          <p:cNvSpPr/>
          <p:nvPr/>
        </p:nvSpPr>
        <p:spPr>
          <a:xfrm>
            <a:off x="603360" y="720"/>
            <a:ext cx="10982160" cy="6855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3"/>
          <p:cNvSpPr/>
          <p:nvPr/>
        </p:nvSpPr>
        <p:spPr>
          <a:xfrm>
            <a:off x="0" y="0"/>
            <a:ext cx="12188520" cy="68576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88952" h="6858000">
                <a:moveTo>
                  <a:pt x="0" y="6857999"/>
                </a:moveTo>
                <a:lnTo>
                  <a:pt x="12188952" y="6857999"/>
                </a:lnTo>
                <a:lnTo>
                  <a:pt x="12188952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560880" y="1396080"/>
            <a:ext cx="4545720" cy="4442040"/>
          </a:xfrm>
          <a:custGeom>
            <a:avLst/>
            <a:gdLst>
              <a:gd name="textAreaLeft" fmla="*/ 0 w 4545720"/>
              <a:gd name="textAreaRight" fmla="*/ 4546080 w 4545720"/>
              <a:gd name="textAreaTop" fmla="*/ 0 h 4442040"/>
              <a:gd name="textAreaBottom" fmla="*/ 4442400 h 4442040"/>
            </a:gdLst>
            <a:ahLst/>
            <a:rect l="textAreaLeft" t="textAreaTop" r="textAreaRight" b="textAreaBottom"/>
            <a:pathLst>
              <a:path w="4546091" h="4442459">
                <a:moveTo>
                  <a:pt x="0" y="4442460"/>
                </a:moveTo>
                <a:lnTo>
                  <a:pt x="4546091" y="4442460"/>
                </a:lnTo>
                <a:lnTo>
                  <a:pt x="4546091" y="0"/>
                </a:lnTo>
                <a:lnTo>
                  <a:pt x="0" y="0"/>
                </a:lnTo>
                <a:lnTo>
                  <a:pt x="0" y="4442460"/>
                </a:lnTo>
              </a:path>
            </a:pathLst>
          </a:custGeom>
          <a:solidFill>
            <a:srgbClr val="f8f8f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554400" y="1389600"/>
            <a:ext cx="4558320" cy="4454640"/>
          </a:xfrm>
          <a:custGeom>
            <a:avLst/>
            <a:gdLst>
              <a:gd name="textAreaLeft" fmla="*/ 0 w 4558320"/>
              <a:gd name="textAreaRight" fmla="*/ 4558680 w 4558320"/>
              <a:gd name="textAreaTop" fmla="*/ 0 h 4454640"/>
              <a:gd name="textAreaBottom" fmla="*/ 4455000 h 4454640"/>
            </a:gdLst>
            <a:ahLst/>
            <a:rect l="textAreaLeft" t="textAreaTop" r="textAreaRight" b="textAreaBottom"/>
            <a:pathLst>
              <a:path w="4558791" h="4455159">
                <a:moveTo>
                  <a:pt x="6350" y="4448810"/>
                </a:moveTo>
                <a:lnTo>
                  <a:pt x="4552441" y="4448810"/>
                </a:lnTo>
                <a:lnTo>
                  <a:pt x="4552441" y="6350"/>
                </a:lnTo>
                <a:lnTo>
                  <a:pt x="6350" y="6350"/>
                </a:lnTo>
                <a:lnTo>
                  <a:pt x="6350" y="4448810"/>
                </a:lnTo>
              </a:path>
            </a:pathLst>
          </a:custGeom>
          <a:noFill/>
          <a:ln w="12700">
            <a:solidFill>
              <a:srgbClr val="c7c8c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207040" y="1371600"/>
            <a:ext cx="6476760" cy="448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95360" y="6045120"/>
            <a:ext cx="11328120" cy="21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533520" y="6350040"/>
            <a:ext cx="1130040" cy="39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1231920" y="0"/>
            <a:ext cx="10956600" cy="6857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717120" y="1511280"/>
            <a:ext cx="8514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90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333333"/>
                </a:solidFill>
                <a:latin typeface="Microsoft YaHei UI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</a:pPr>
            <a:r>
              <a:rPr b="0" lang="en-US" sz="190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333333"/>
                </a:solidFill>
                <a:latin typeface="Microsoft YaHei UI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734400" y="2197080"/>
            <a:ext cx="7790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en-US" sz="141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3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0" lang="en-US" sz="141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4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0" lang="en-US" sz="141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Bullet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1" strike="noStrike">
                <a:solidFill>
                  <a:srgbClr val="333333"/>
                </a:solidFill>
                <a:latin typeface="Microsoft YaHei UI"/>
              </a:rPr>
              <a:t>5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60560" y="216000"/>
            <a:ext cx="10981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TH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S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TIT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IM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493560" y="876240"/>
            <a:ext cx="1019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004593"/>
                </a:solidFill>
                <a:latin typeface="Microsoft YaHei UI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514120" y="5372280"/>
            <a:ext cx="1442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484560" y="5880240"/>
            <a:ext cx="13543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Source: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Sample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>
            <a:hlinkClick r:id="rId5"/>
          </p:cNvPr>
          <p:cNvSpPr/>
          <p:nvPr/>
        </p:nvSpPr>
        <p:spPr>
          <a:xfrm>
            <a:off x="603360" y="720"/>
            <a:ext cx="10982160" cy="6855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3"/>
          <p:cNvSpPr/>
          <p:nvPr/>
        </p:nvSpPr>
        <p:spPr>
          <a:xfrm>
            <a:off x="0" y="0"/>
            <a:ext cx="12188520" cy="68576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88952" h="6858000">
                <a:moveTo>
                  <a:pt x="0" y="6857999"/>
                </a:moveTo>
                <a:lnTo>
                  <a:pt x="12188952" y="6857999"/>
                </a:lnTo>
                <a:lnTo>
                  <a:pt x="12188952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560880" y="2401920"/>
            <a:ext cx="3655800" cy="3322080"/>
          </a:xfrm>
          <a:custGeom>
            <a:avLst/>
            <a:gdLst>
              <a:gd name="textAreaLeft" fmla="*/ 0 w 3655800"/>
              <a:gd name="textAreaRight" fmla="*/ 3656160 w 3655800"/>
              <a:gd name="textAreaTop" fmla="*/ 0 h 3322080"/>
              <a:gd name="textAreaBottom" fmla="*/ 3322440 h 3322080"/>
            </a:gdLst>
            <a:ahLst/>
            <a:rect l="textAreaLeft" t="textAreaTop" r="textAreaRight" b="textAreaBottom"/>
            <a:pathLst>
              <a:path w="3656076" h="3322320">
                <a:moveTo>
                  <a:pt x="0" y="3322320"/>
                </a:moveTo>
                <a:lnTo>
                  <a:pt x="3656076" y="3322320"/>
                </a:lnTo>
                <a:lnTo>
                  <a:pt x="3656076" y="0"/>
                </a:lnTo>
                <a:lnTo>
                  <a:pt x="0" y="0"/>
                </a:lnTo>
                <a:lnTo>
                  <a:pt x="0" y="3322320"/>
                </a:lnTo>
              </a:path>
            </a:pathLst>
          </a:custGeom>
          <a:solidFill>
            <a:srgbClr val="0045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554400" y="2395440"/>
            <a:ext cx="3668400" cy="3334680"/>
          </a:xfrm>
          <a:custGeom>
            <a:avLst/>
            <a:gdLst>
              <a:gd name="textAreaLeft" fmla="*/ 0 w 3668400"/>
              <a:gd name="textAreaRight" fmla="*/ 3668760 w 3668400"/>
              <a:gd name="textAreaTop" fmla="*/ 0 h 3334680"/>
              <a:gd name="textAreaBottom" fmla="*/ 3335040 h 3334680"/>
            </a:gdLst>
            <a:ahLst/>
            <a:rect l="textAreaLeft" t="textAreaTop" r="textAreaRight" b="textAreaBottom"/>
            <a:pathLst>
              <a:path w="3668776" h="3335020">
                <a:moveTo>
                  <a:pt x="6350" y="3328670"/>
                </a:moveTo>
                <a:lnTo>
                  <a:pt x="3662426" y="3328670"/>
                </a:lnTo>
                <a:lnTo>
                  <a:pt x="3662426" y="6350"/>
                </a:lnTo>
                <a:lnTo>
                  <a:pt x="6350" y="6350"/>
                </a:lnTo>
                <a:lnTo>
                  <a:pt x="6350" y="3328670"/>
                </a:lnTo>
              </a:path>
            </a:pathLst>
          </a:custGeom>
          <a:noFill/>
          <a:ln w="12700">
            <a:solidFill>
              <a:srgbClr val="c7c8c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4299120" y="2401920"/>
            <a:ext cx="3654360" cy="3322080"/>
          </a:xfrm>
          <a:custGeom>
            <a:avLst/>
            <a:gdLst>
              <a:gd name="textAreaLeft" fmla="*/ 0 w 3654360"/>
              <a:gd name="textAreaRight" fmla="*/ 3654720 w 3654360"/>
              <a:gd name="textAreaTop" fmla="*/ 0 h 3322080"/>
              <a:gd name="textAreaBottom" fmla="*/ 3322440 h 3322080"/>
            </a:gdLst>
            <a:ahLst/>
            <a:rect l="textAreaLeft" t="textAreaTop" r="textAreaRight" b="textAreaBottom"/>
            <a:pathLst>
              <a:path w="3654552" h="3322320">
                <a:moveTo>
                  <a:pt x="0" y="3322320"/>
                </a:moveTo>
                <a:lnTo>
                  <a:pt x="3654552" y="3322320"/>
                </a:lnTo>
                <a:lnTo>
                  <a:pt x="3654552" y="0"/>
                </a:lnTo>
                <a:lnTo>
                  <a:pt x="0" y="0"/>
                </a:lnTo>
                <a:lnTo>
                  <a:pt x="0" y="3322320"/>
                </a:lnTo>
              </a:path>
            </a:pathLst>
          </a:custGeom>
          <a:solidFill>
            <a:srgbClr val="f8f8f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4293000" y="2395440"/>
            <a:ext cx="3666960" cy="3334680"/>
          </a:xfrm>
          <a:custGeom>
            <a:avLst/>
            <a:gdLst>
              <a:gd name="textAreaLeft" fmla="*/ 0 w 3666960"/>
              <a:gd name="textAreaRight" fmla="*/ 3667320 w 3666960"/>
              <a:gd name="textAreaTop" fmla="*/ 0 h 3334680"/>
              <a:gd name="textAreaBottom" fmla="*/ 3335040 h 3334680"/>
            </a:gdLst>
            <a:ahLst/>
            <a:rect l="textAreaLeft" t="textAreaTop" r="textAreaRight" b="textAreaBottom"/>
            <a:pathLst>
              <a:path w="3667252" h="3335020">
                <a:moveTo>
                  <a:pt x="6350" y="3328670"/>
                </a:moveTo>
                <a:lnTo>
                  <a:pt x="3660902" y="3328670"/>
                </a:lnTo>
                <a:lnTo>
                  <a:pt x="3660902" y="6350"/>
                </a:lnTo>
                <a:lnTo>
                  <a:pt x="6350" y="6350"/>
                </a:lnTo>
                <a:lnTo>
                  <a:pt x="6350" y="3328670"/>
                </a:lnTo>
              </a:path>
            </a:pathLst>
          </a:custGeom>
          <a:noFill/>
          <a:ln w="12700">
            <a:solidFill>
              <a:srgbClr val="c7c8c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8035920" y="2401920"/>
            <a:ext cx="3655800" cy="3322080"/>
          </a:xfrm>
          <a:custGeom>
            <a:avLst/>
            <a:gdLst>
              <a:gd name="textAreaLeft" fmla="*/ 0 w 3655800"/>
              <a:gd name="textAreaRight" fmla="*/ 3656160 w 3655800"/>
              <a:gd name="textAreaTop" fmla="*/ 0 h 3322080"/>
              <a:gd name="textAreaBottom" fmla="*/ 3322440 h 3322080"/>
            </a:gdLst>
            <a:ahLst/>
            <a:rect l="textAreaLeft" t="textAreaTop" r="textAreaRight" b="textAreaBottom"/>
            <a:pathLst>
              <a:path w="3656076" h="3322320">
                <a:moveTo>
                  <a:pt x="0" y="3322320"/>
                </a:moveTo>
                <a:lnTo>
                  <a:pt x="3656076" y="3322320"/>
                </a:lnTo>
                <a:lnTo>
                  <a:pt x="3656076" y="0"/>
                </a:lnTo>
                <a:lnTo>
                  <a:pt x="0" y="0"/>
                </a:lnTo>
                <a:lnTo>
                  <a:pt x="0" y="3322320"/>
                </a:lnTo>
              </a:path>
            </a:pathLst>
          </a:custGeom>
          <a:solidFill>
            <a:srgbClr val="85858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8029800" y="2395440"/>
            <a:ext cx="3668400" cy="3334680"/>
          </a:xfrm>
          <a:custGeom>
            <a:avLst/>
            <a:gdLst>
              <a:gd name="textAreaLeft" fmla="*/ 0 w 3668400"/>
              <a:gd name="textAreaRight" fmla="*/ 3668760 w 3668400"/>
              <a:gd name="textAreaTop" fmla="*/ 0 h 3334680"/>
              <a:gd name="textAreaBottom" fmla="*/ 3335040 h 3334680"/>
            </a:gdLst>
            <a:ahLst/>
            <a:rect l="textAreaLeft" t="textAreaTop" r="textAreaRight" b="textAreaBottom"/>
            <a:pathLst>
              <a:path w="3668776" h="3335020">
                <a:moveTo>
                  <a:pt x="6350" y="3328670"/>
                </a:moveTo>
                <a:lnTo>
                  <a:pt x="3662426" y="3328670"/>
                </a:lnTo>
                <a:lnTo>
                  <a:pt x="3662426" y="6350"/>
                </a:lnTo>
                <a:lnTo>
                  <a:pt x="6350" y="6350"/>
                </a:lnTo>
                <a:lnTo>
                  <a:pt x="6350" y="3328670"/>
                </a:lnTo>
              </a:path>
            </a:pathLst>
          </a:custGeom>
          <a:noFill/>
          <a:ln w="12700">
            <a:solidFill>
              <a:srgbClr val="c7c8c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292640" y="2387520"/>
            <a:ext cx="3669840" cy="333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95360" y="6045120"/>
            <a:ext cx="11328120" cy="21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533520" y="6350040"/>
            <a:ext cx="1130040" cy="39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1231920" y="0"/>
            <a:ext cx="10956600" cy="6857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345240" y="216000"/>
            <a:ext cx="562104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S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3-COLUM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4593"/>
                </a:solidFill>
                <a:latin typeface="Microsoft YaHei UI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464840" y="1866960"/>
            <a:ext cx="18331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600" spc="-1" strike="noStrike">
                <a:solidFill>
                  <a:srgbClr val="004593"/>
                </a:solidFill>
                <a:latin typeface="Microsoft YaHei UI"/>
              </a:rPr>
              <a:t>COLUM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4593"/>
                </a:solidFill>
                <a:latin typeface="Microsoft YaHei UI"/>
              </a:rPr>
              <a:t>H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5198400" y="1866960"/>
            <a:ext cx="18331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600" spc="-1" strike="noStrike">
                <a:solidFill>
                  <a:srgbClr val="004593"/>
                </a:solidFill>
                <a:latin typeface="Microsoft YaHei UI"/>
              </a:rPr>
              <a:t>COLUM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4593"/>
                </a:solidFill>
                <a:latin typeface="Microsoft YaHei UI"/>
              </a:rPr>
              <a:t>H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8944920" y="1866960"/>
            <a:ext cx="18331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600" spc="-1" strike="noStrike">
                <a:solidFill>
                  <a:srgbClr val="004593"/>
                </a:solidFill>
                <a:latin typeface="Microsoft YaHei UI"/>
              </a:rPr>
              <a:t>COLUM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4593"/>
                </a:solidFill>
                <a:latin typeface="Microsoft YaHei UI"/>
              </a:rPr>
              <a:t>H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8262000" y="2540160"/>
            <a:ext cx="72180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0" lang="en-US" sz="141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1" strike="noStrike">
                <a:solidFill>
                  <a:srgbClr val="ffffff"/>
                </a:solidFill>
                <a:latin typeface="Microsoft YaHei UI"/>
              </a:rPr>
              <a:t>2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Microsoft YaHei UI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Microsoft YaHei U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Microsoft YaHei U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56360" y="2540160"/>
            <a:ext cx="72180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0" lang="en-US" sz="141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1" strike="noStrike">
                <a:solidFill>
                  <a:srgbClr val="ffffff"/>
                </a:solidFill>
                <a:latin typeface="Microsoft YaHei UI"/>
              </a:rPr>
              <a:t>2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Microsoft YaHei UI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Microsoft YaHei U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Microsoft YaHei UI"/>
              </a:rPr>
              <a:t>Bull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Microsoft YaHei U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498600" y="5346720"/>
            <a:ext cx="519984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  <a:tabLst>
                <a:tab algn="l" pos="392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Ad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t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24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24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3924360"/>
              </a:tabLst>
            </a:pP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Source: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Sample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9">
            <a:hlinkClick r:id="rId5"/>
          </p:cNvPr>
          <p:cNvSpPr/>
          <p:nvPr/>
        </p:nvSpPr>
        <p:spPr>
          <a:xfrm>
            <a:off x="603360" y="720"/>
            <a:ext cx="10982160" cy="6855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3"/>
          <p:cNvSpPr/>
          <p:nvPr/>
        </p:nvSpPr>
        <p:spPr>
          <a:xfrm>
            <a:off x="0" y="0"/>
            <a:ext cx="12188520" cy="68576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88952" h="6858000">
                <a:moveTo>
                  <a:pt x="0" y="6857999"/>
                </a:moveTo>
                <a:lnTo>
                  <a:pt x="12188952" y="6857999"/>
                </a:lnTo>
                <a:lnTo>
                  <a:pt x="12188952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560880" y="2157840"/>
            <a:ext cx="5425200" cy="3565800"/>
          </a:xfrm>
          <a:custGeom>
            <a:avLst/>
            <a:gdLst>
              <a:gd name="textAreaLeft" fmla="*/ 0 w 5425200"/>
              <a:gd name="textAreaRight" fmla="*/ 5425560 w 5425200"/>
              <a:gd name="textAreaTop" fmla="*/ 0 h 3565800"/>
              <a:gd name="textAreaBottom" fmla="*/ 3566160 h 3565800"/>
            </a:gdLst>
            <a:ahLst/>
            <a:rect l="textAreaLeft" t="textAreaTop" r="textAreaRight" b="textAreaBottom"/>
            <a:pathLst>
              <a:path w="5425440" h="3566159">
                <a:moveTo>
                  <a:pt x="0" y="3566160"/>
                </a:moveTo>
                <a:lnTo>
                  <a:pt x="5425439" y="3566160"/>
                </a:lnTo>
                <a:lnTo>
                  <a:pt x="5425439" y="0"/>
                </a:lnTo>
                <a:lnTo>
                  <a:pt x="0" y="0"/>
                </a:lnTo>
                <a:lnTo>
                  <a:pt x="0" y="3566160"/>
                </a:lnTo>
              </a:path>
            </a:pathLst>
          </a:custGeom>
          <a:solidFill>
            <a:srgbClr val="f8f8f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554400" y="2151720"/>
            <a:ext cx="5437800" cy="3578400"/>
          </a:xfrm>
          <a:custGeom>
            <a:avLst/>
            <a:gdLst>
              <a:gd name="textAreaLeft" fmla="*/ 0 w 5437800"/>
              <a:gd name="textAreaRight" fmla="*/ 5438160 w 5437800"/>
              <a:gd name="textAreaTop" fmla="*/ 0 h 3578400"/>
              <a:gd name="textAreaBottom" fmla="*/ 3578760 h 3578400"/>
            </a:gdLst>
            <a:ahLst/>
            <a:rect l="textAreaLeft" t="textAreaTop" r="textAreaRight" b="textAreaBottom"/>
            <a:pathLst>
              <a:path w="5438140" h="3578859">
                <a:moveTo>
                  <a:pt x="6350" y="3572510"/>
                </a:moveTo>
                <a:lnTo>
                  <a:pt x="5431789" y="3572510"/>
                </a:lnTo>
                <a:lnTo>
                  <a:pt x="5431789" y="6350"/>
                </a:lnTo>
                <a:lnTo>
                  <a:pt x="6350" y="6350"/>
                </a:lnTo>
                <a:lnTo>
                  <a:pt x="6350" y="3572510"/>
                </a:lnTo>
              </a:path>
            </a:pathLst>
          </a:custGeom>
          <a:noFill/>
          <a:ln w="12700">
            <a:solidFill>
              <a:srgbClr val="c7c8c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560880" y="1415880"/>
            <a:ext cx="5425200" cy="741960"/>
          </a:xfrm>
          <a:custGeom>
            <a:avLst/>
            <a:gdLst>
              <a:gd name="textAreaLeft" fmla="*/ 0 w 5425200"/>
              <a:gd name="textAreaRight" fmla="*/ 5425560 w 5425200"/>
              <a:gd name="textAreaTop" fmla="*/ 0 h 741960"/>
              <a:gd name="textAreaBottom" fmla="*/ 742320 h 741960"/>
            </a:gdLst>
            <a:ahLst/>
            <a:rect l="textAreaLeft" t="textAreaTop" r="textAreaRight" b="textAreaBottom"/>
            <a:pathLst>
              <a:path w="5425440" h="742187">
                <a:moveTo>
                  <a:pt x="0" y="742187"/>
                </a:moveTo>
                <a:lnTo>
                  <a:pt x="5425439" y="742187"/>
                </a:lnTo>
                <a:lnTo>
                  <a:pt x="5425439" y="0"/>
                </a:lnTo>
                <a:lnTo>
                  <a:pt x="0" y="0"/>
                </a:lnTo>
                <a:lnTo>
                  <a:pt x="0" y="742187"/>
                </a:lnTo>
              </a:path>
            </a:pathLst>
          </a:custGeom>
          <a:solidFill>
            <a:srgbClr val="0045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6248520" y="2157840"/>
            <a:ext cx="5423400" cy="3565800"/>
          </a:xfrm>
          <a:custGeom>
            <a:avLst/>
            <a:gdLst>
              <a:gd name="textAreaLeft" fmla="*/ 0 w 5423400"/>
              <a:gd name="textAreaRight" fmla="*/ 5423760 w 5423400"/>
              <a:gd name="textAreaTop" fmla="*/ 0 h 3565800"/>
              <a:gd name="textAreaBottom" fmla="*/ 3566160 h 3565800"/>
            </a:gdLst>
            <a:ahLst/>
            <a:rect l="textAreaLeft" t="textAreaTop" r="textAreaRight" b="textAreaBottom"/>
            <a:pathLst>
              <a:path w="5423916" h="3566159">
                <a:moveTo>
                  <a:pt x="0" y="3566160"/>
                </a:moveTo>
                <a:lnTo>
                  <a:pt x="5423916" y="3566160"/>
                </a:lnTo>
                <a:lnTo>
                  <a:pt x="5423916" y="0"/>
                </a:lnTo>
                <a:lnTo>
                  <a:pt x="0" y="0"/>
                </a:lnTo>
                <a:lnTo>
                  <a:pt x="0" y="3566160"/>
                </a:lnTo>
              </a:path>
            </a:pathLst>
          </a:custGeom>
          <a:solidFill>
            <a:srgbClr val="f8f8f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6242040" y="2151720"/>
            <a:ext cx="5436360" cy="3578400"/>
          </a:xfrm>
          <a:custGeom>
            <a:avLst/>
            <a:gdLst>
              <a:gd name="textAreaLeft" fmla="*/ 0 w 5436360"/>
              <a:gd name="textAreaRight" fmla="*/ 5436720 w 5436360"/>
              <a:gd name="textAreaTop" fmla="*/ 0 h 3578400"/>
              <a:gd name="textAreaBottom" fmla="*/ 3578760 h 3578400"/>
            </a:gdLst>
            <a:ahLst/>
            <a:rect l="textAreaLeft" t="textAreaTop" r="textAreaRight" b="textAreaBottom"/>
            <a:pathLst>
              <a:path w="5436616" h="3578859">
                <a:moveTo>
                  <a:pt x="6350" y="3572510"/>
                </a:moveTo>
                <a:lnTo>
                  <a:pt x="5430266" y="3572510"/>
                </a:lnTo>
                <a:lnTo>
                  <a:pt x="5430266" y="6350"/>
                </a:lnTo>
                <a:lnTo>
                  <a:pt x="6350" y="6350"/>
                </a:lnTo>
                <a:lnTo>
                  <a:pt x="6350" y="3572510"/>
                </a:lnTo>
              </a:path>
            </a:pathLst>
          </a:custGeom>
          <a:noFill/>
          <a:ln w="12700">
            <a:solidFill>
              <a:srgbClr val="c7c8c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6248520" y="1415880"/>
            <a:ext cx="5423400" cy="741960"/>
          </a:xfrm>
          <a:custGeom>
            <a:avLst/>
            <a:gdLst>
              <a:gd name="textAreaLeft" fmla="*/ 0 w 5423400"/>
              <a:gd name="textAreaRight" fmla="*/ 5423760 w 5423400"/>
              <a:gd name="textAreaTop" fmla="*/ 0 h 741960"/>
              <a:gd name="textAreaBottom" fmla="*/ 742320 h 741960"/>
            </a:gdLst>
            <a:ahLst/>
            <a:rect l="textAreaLeft" t="textAreaTop" r="textAreaRight" b="textAreaBottom"/>
            <a:pathLst>
              <a:path w="5423916" h="742187">
                <a:moveTo>
                  <a:pt x="0" y="742187"/>
                </a:moveTo>
                <a:lnTo>
                  <a:pt x="5423916" y="742187"/>
                </a:lnTo>
                <a:lnTo>
                  <a:pt x="5423916" y="0"/>
                </a:lnTo>
                <a:lnTo>
                  <a:pt x="0" y="0"/>
                </a:lnTo>
                <a:lnTo>
                  <a:pt x="0" y="742187"/>
                </a:lnTo>
              </a:path>
            </a:pathLst>
          </a:custGeom>
          <a:solidFill>
            <a:srgbClr val="0045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95360" y="6045120"/>
            <a:ext cx="11328120" cy="21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533520" y="6350040"/>
            <a:ext cx="1130040" cy="393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3"/>
          <a:stretch/>
        </p:blipFill>
        <p:spPr>
          <a:xfrm>
            <a:off x="1231920" y="0"/>
            <a:ext cx="10956600" cy="6857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2341080" y="1638360"/>
            <a:ext cx="18331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COLUM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H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8030520" y="1638360"/>
            <a:ext cx="18331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COLUM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icrosoft YaHei UI"/>
              </a:rPr>
              <a:t>H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6429600" y="2286000"/>
            <a:ext cx="57708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45240" y="216000"/>
            <a:ext cx="562104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S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2-COLUM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icrosoft YaHei UI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4593"/>
                </a:solidFill>
                <a:latin typeface="Microsoft YaHei UI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484560" y="2286000"/>
            <a:ext cx="1354320" cy="37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4593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9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190440"/>
              </a:tabLst>
            </a:pP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Source: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Sample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10" spc="-1" strike="noStrike">
                <a:solidFill>
                  <a:srgbClr val="333333"/>
                </a:solidFill>
                <a:latin typeface="Microsoft YaHei UI"/>
              </a:rPr>
              <a:t>Text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6">
            <a:hlinkClick r:id="rId4"/>
          </p:cNvPr>
          <p:cNvSpPr/>
          <p:nvPr/>
        </p:nvSpPr>
        <p:spPr>
          <a:xfrm>
            <a:off x="603360" y="720"/>
            <a:ext cx="10982160" cy="6855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88920" y="63727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88520" cy="68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188520" cy="68576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392400" y="584280"/>
            <a:ext cx="6580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401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Microsoft YaHei UI"/>
              </a:rPr>
              <a:t>THANK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Microsoft YaHei UI"/>
              </a:rPr>
              <a:t>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>
            <a:hlinkClick r:id="rId3"/>
          </p:cNvPr>
          <p:cNvSpPr/>
          <p:nvPr/>
        </p:nvSpPr>
        <p:spPr>
          <a:xfrm>
            <a:off x="603360" y="720"/>
            <a:ext cx="10982160" cy="6855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138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a</cp:lastModifiedBy>
  <dcterms:modified xsi:type="dcterms:W3CDTF">2015-07-25T10:05:4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7</vt:r8>
  </property>
</Properties>
</file>