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17991-BE5A-46E7-A98B-27CDF6707C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72996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CECBD-AB75-4597-8CCB-DC08F9B2B7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ABAF7-D50A-4BEB-8914-E5B1971F00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68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688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68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688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01D10-EACC-462F-A15B-988172CE88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19D12-DCD8-488E-A49A-423B469B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E10C8-1136-4D8E-9DEC-08B9A1D5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E6544-78A8-496D-8FF2-4F7857F6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C9312-EEFB-403C-936E-DF314ABB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80FF7-A243-4FC1-A6F0-7EE463FD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120" y="304560"/>
            <a:ext cx="8001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85436-46F1-441C-88F4-3E02FD43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FBA8D-E3DC-4536-BEA6-6EDCC926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E9DDF-9DD4-457F-BAA9-574EAF9273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1CEAE-0840-4B5D-BFC8-163F8589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72996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79C6C-2F63-4DC0-8241-FA836735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72996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8346CB-6E67-4488-A4F2-E957A23C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86173-CF66-47F3-A49C-7DE3FD13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668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7688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668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7688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3BAF4-4D98-4A1C-8DEB-BC0B4C80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0F61E-E50C-4414-B671-5B26938449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3B1AB-3B2C-44D7-A50E-15884CFFD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F4CC7-EA7F-4E5F-8AAC-8BA223CA8C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304560"/>
            <a:ext cx="8001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BE9DD-C324-47B5-9A07-D17D5FF859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4F588-60C9-4A9C-B6D9-5CD4CF71F2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73462-62D6-4C99-9873-24B87507CD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72996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6092B-40EC-4433-9766-ED7D52D48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457200" y="228600"/>
            <a:ext cx="822960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5b94e1"/>
              </a:gs>
              <a:gs pos="100000">
                <a:srgbClr val="000066"/>
              </a:gs>
            </a:gsLst>
            <a:lin ang="10800000"/>
          </a:gra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684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5b94e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808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000066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C104-9E9F-40C2-BC47-E2052C9AFCFD}" type="slidenum">
              <a:rPr b="1" lang="ko-KR" sz="1200" spc="-1" strike="noStrike">
                <a:solidFill>
                  <a:srgbClr val="000066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403200" y="6434280"/>
            <a:ext cx="8458200" cy="0"/>
          </a:xfrm>
          <a:prstGeom prst="line">
            <a:avLst/>
          </a:prstGeom>
          <a:ln w="25560">
            <a:solidFill>
              <a:srgbClr val="5b94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6781680" y="6494400"/>
            <a:ext cx="216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Lucida Sans Unicode"/>
                <a:ea typeface="Gulim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2"/>
          <p:cNvSpPr/>
          <p:nvPr/>
        </p:nvSpPr>
        <p:spPr>
          <a:xfrm>
            <a:off x="838080" y="2590920"/>
            <a:ext cx="75438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5b94e1"/>
              </a:gs>
              <a:gs pos="100000">
                <a:srgbClr val="000066"/>
              </a:gs>
            </a:gsLst>
            <a:lin ang="108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541680" y="6324480"/>
            <a:ext cx="2057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684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5b94e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200040" y="6553080"/>
            <a:ext cx="28954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60996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2590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Gulim"/>
              </a:rPr>
              <a:t>电子信息类雅致的毕业答辩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Gulim"/>
              </a:rPr>
              <a:t>PP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000066"/>
              </a:solidFill>
              <a:latin typeface="Verdana"/>
              <a:ea typeface="Gulim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3"/>
          <p:cNvSpPr/>
          <p:nvPr/>
        </p:nvSpPr>
        <p:spPr>
          <a:xfrm>
            <a:off x="3808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5552-1B60-450D-AA50-E125215B2FFC}" type="slidenum">
              <a:rPr b="1" lang="ko-KR" sz="1200" spc="-1" strike="noStrike">
                <a:solidFill>
                  <a:srgbClr val="000066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h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Object 3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8458200" cy="4952880"/>
          </a:xfrm>
          <a:prstGeom prst="rect">
            <a:avLst/>
          </a:prstGeom>
          <a:ln w="0">
            <a:noFill/>
          </a:ln>
        </p:spPr>
      </p:pic>
      <p:sp>
        <p:nvSpPr>
          <p:cNvPr id="17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3"/>
          <p:cNvSpPr/>
          <p:nvPr/>
        </p:nvSpPr>
        <p:spPr>
          <a:xfrm>
            <a:off x="3808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E39A-D6CF-4DB2-8A5E-9C5686850DB1}" type="slidenum">
              <a:rPr b="1" lang="ko-KR" sz="1200" spc="-1" strike="noStrike">
                <a:solidFill>
                  <a:srgbClr val="000066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h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Object 3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8580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A2992-7D49-4A11-9CBE-213E26F693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040" y="2590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  <a:ea typeface="Gulim"/>
              </a:rPr>
              <a:t>Thank you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2266920" y="4336920"/>
            <a:ext cx="45324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5b94e1"/>
              </a:solidFill>
              <a:latin typeface="Verdana"/>
              <a:ea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灯片编号占位符 3"/>
          <p:cNvSpPr/>
          <p:nvPr/>
        </p:nvSpPr>
        <p:spPr>
          <a:xfrm>
            <a:off x="3808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02F3-83FC-4762-9CCF-27FDB4D761B1}" type="slidenum">
              <a:rPr b="1" lang="ko-KR" sz="1200" spc="-1" strike="noStrike">
                <a:solidFill>
                  <a:srgbClr val="000066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2362320" y="18795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Click to edit Master title sty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1500120" y="1758960"/>
            <a:ext cx="762120" cy="762120"/>
            <a:chOff x="1500120" y="1758960"/>
            <a:chExt cx="762120" cy="762120"/>
          </a:xfrm>
        </p:grpSpPr>
        <p:sp>
          <p:nvSpPr>
            <p:cNvPr id="92" name="Oval 5"/>
            <p:cNvSpPr/>
            <p:nvPr/>
          </p:nvSpPr>
          <p:spPr>
            <a:xfrm>
              <a:off x="1500120" y="1758960"/>
              <a:ext cx="762120" cy="762120"/>
            </a:xfrm>
            <a:prstGeom prst="ellipse">
              <a:avLst/>
            </a:prstGeom>
            <a:gradFill rotWithShape="0">
              <a:gsLst>
                <a:gs pos="0">
                  <a:srgbClr val="5b94e1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Oval 6"/>
            <p:cNvSpPr/>
            <p:nvPr/>
          </p:nvSpPr>
          <p:spPr>
            <a:xfrm>
              <a:off x="1598400" y="1836720"/>
              <a:ext cx="563760" cy="5637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b94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7"/>
          <p:cNvSpPr/>
          <p:nvPr/>
        </p:nvSpPr>
        <p:spPr>
          <a:xfrm>
            <a:off x="2362320" y="2835360"/>
            <a:ext cx="5410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Click to edit Master title sty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8"/>
          <p:cNvGrpSpPr/>
          <p:nvPr/>
        </p:nvGrpSpPr>
        <p:grpSpPr>
          <a:xfrm>
            <a:off x="1500120" y="2714760"/>
            <a:ext cx="762120" cy="761760"/>
            <a:chOff x="1500120" y="2714760"/>
            <a:chExt cx="762120" cy="761760"/>
          </a:xfrm>
        </p:grpSpPr>
        <p:sp>
          <p:nvSpPr>
            <p:cNvPr id="96" name="Oval 9"/>
            <p:cNvSpPr/>
            <p:nvPr/>
          </p:nvSpPr>
          <p:spPr>
            <a:xfrm>
              <a:off x="1500120" y="2714760"/>
              <a:ext cx="762120" cy="761760"/>
            </a:xfrm>
            <a:prstGeom prst="ellipse">
              <a:avLst/>
            </a:prstGeom>
            <a:gradFill rotWithShape="0">
              <a:gsLst>
                <a:gs pos="0">
                  <a:srgbClr val="5b94e1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10"/>
            <p:cNvSpPr/>
            <p:nvPr/>
          </p:nvSpPr>
          <p:spPr>
            <a:xfrm>
              <a:off x="1598400" y="2792160"/>
              <a:ext cx="563760" cy="5634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b94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Rectangle 11"/>
          <p:cNvSpPr/>
          <p:nvPr/>
        </p:nvSpPr>
        <p:spPr>
          <a:xfrm>
            <a:off x="2362320" y="381312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Click to edit Master title sty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12"/>
          <p:cNvGrpSpPr/>
          <p:nvPr/>
        </p:nvGrpSpPr>
        <p:grpSpPr>
          <a:xfrm>
            <a:off x="1500120" y="3692520"/>
            <a:ext cx="762120" cy="762120"/>
            <a:chOff x="1500120" y="3692520"/>
            <a:chExt cx="762120" cy="762120"/>
          </a:xfrm>
        </p:grpSpPr>
        <p:sp>
          <p:nvSpPr>
            <p:cNvPr id="100" name="Oval 13"/>
            <p:cNvSpPr/>
            <p:nvPr/>
          </p:nvSpPr>
          <p:spPr>
            <a:xfrm>
              <a:off x="1500120" y="3692520"/>
              <a:ext cx="762120" cy="762120"/>
            </a:xfrm>
            <a:prstGeom prst="ellipse">
              <a:avLst/>
            </a:prstGeom>
            <a:gradFill rotWithShape="0">
              <a:gsLst>
                <a:gs pos="0">
                  <a:srgbClr val="5b94e1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14"/>
            <p:cNvSpPr/>
            <p:nvPr/>
          </p:nvSpPr>
          <p:spPr>
            <a:xfrm>
              <a:off x="1598400" y="3770280"/>
              <a:ext cx="563760" cy="5637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b94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Rectangle 15"/>
          <p:cNvSpPr/>
          <p:nvPr/>
        </p:nvSpPr>
        <p:spPr>
          <a:xfrm>
            <a:off x="2362320" y="484488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Click to edit Master title sty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1500120" y="4724280"/>
            <a:ext cx="762120" cy="762120"/>
            <a:chOff x="1500120" y="4724280"/>
            <a:chExt cx="762120" cy="762120"/>
          </a:xfrm>
        </p:grpSpPr>
        <p:sp>
          <p:nvSpPr>
            <p:cNvPr id="104" name="Oval 17"/>
            <p:cNvSpPr/>
            <p:nvPr/>
          </p:nvSpPr>
          <p:spPr>
            <a:xfrm>
              <a:off x="1500120" y="4724280"/>
              <a:ext cx="762120" cy="762120"/>
            </a:xfrm>
            <a:prstGeom prst="ellipse">
              <a:avLst/>
            </a:prstGeom>
            <a:gradFill rotWithShape="0">
              <a:gsLst>
                <a:gs pos="0">
                  <a:srgbClr val="5b94e1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Oval 18"/>
            <p:cNvSpPr/>
            <p:nvPr/>
          </p:nvSpPr>
          <p:spPr>
            <a:xfrm>
              <a:off x="1598400" y="4802040"/>
              <a:ext cx="563760" cy="5637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b94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灯片编号占位符 3"/>
          <p:cNvSpPr/>
          <p:nvPr/>
        </p:nvSpPr>
        <p:spPr>
          <a:xfrm>
            <a:off x="3808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315B-11DE-45F3-828F-1F33983E2F05}" type="slidenum">
              <a:rPr b="1" lang="ko-KR" sz="1200" spc="-1" strike="noStrike">
                <a:solidFill>
                  <a:srgbClr val="000066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Master title sty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Gulim"/>
              </a:rPr>
              <a:t>Competitors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Gulim"/>
              </a:rPr>
              <a:t>Strengths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Gulim"/>
              </a:rPr>
              <a:t>Weaknesses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3"/>
          <p:cNvSpPr/>
          <p:nvPr/>
        </p:nvSpPr>
        <p:spPr>
          <a:xfrm>
            <a:off x="3808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1743-9022-4FD3-BB28-CB13EDD865D0}" type="slidenum">
              <a:rPr b="1" lang="ko-KR" sz="1200" spc="-1" strike="noStrike">
                <a:solidFill>
                  <a:srgbClr val="000066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3200400" y="2666880"/>
            <a:ext cx="2362320" cy="2362320"/>
          </a:xfrm>
          <a:prstGeom prst="ellipse">
            <a:avLst/>
          </a:prstGeom>
          <a:noFill/>
          <a:ln w="633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4581360" y="1812960"/>
            <a:ext cx="2895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57200" y="480060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6172200" y="472428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7"/>
          <p:cNvGrpSpPr/>
          <p:nvPr/>
        </p:nvGrpSpPr>
        <p:grpSpPr>
          <a:xfrm>
            <a:off x="2903400" y="1965240"/>
            <a:ext cx="1677960" cy="1677960"/>
            <a:chOff x="2903400" y="1965240"/>
            <a:chExt cx="1677960" cy="1677960"/>
          </a:xfrm>
        </p:grpSpPr>
        <p:sp>
          <p:nvSpPr>
            <p:cNvPr id="116" name="Oval 8"/>
            <p:cNvSpPr/>
            <p:nvPr/>
          </p:nvSpPr>
          <p:spPr>
            <a:xfrm>
              <a:off x="2903400" y="1965240"/>
              <a:ext cx="1677960" cy="167796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5b94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Oval 9"/>
            <p:cNvSpPr/>
            <p:nvPr/>
          </p:nvSpPr>
          <p:spPr>
            <a:xfrm>
              <a:off x="2981160" y="2035080"/>
              <a:ext cx="1504800" cy="1506600"/>
            </a:xfrm>
            <a:prstGeom prst="ellipse">
              <a:avLst/>
            </a:prstGeom>
            <a:gradFill rotWithShape="0">
              <a:gsLst>
                <a:gs pos="0">
                  <a:srgbClr val="5b94e1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Diagr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10"/>
          <p:cNvGrpSpPr/>
          <p:nvPr/>
        </p:nvGrpSpPr>
        <p:grpSpPr>
          <a:xfrm>
            <a:off x="2981160" y="4037040"/>
            <a:ext cx="1677960" cy="1677960"/>
            <a:chOff x="2981160" y="4037040"/>
            <a:chExt cx="1677960" cy="1677960"/>
          </a:xfrm>
        </p:grpSpPr>
        <p:sp>
          <p:nvSpPr>
            <p:cNvPr id="119" name="Oval 11"/>
            <p:cNvSpPr/>
            <p:nvPr/>
          </p:nvSpPr>
          <p:spPr>
            <a:xfrm>
              <a:off x="2981160" y="4037040"/>
              <a:ext cx="1677960" cy="167796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5b94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Oval 12"/>
            <p:cNvSpPr/>
            <p:nvPr/>
          </p:nvSpPr>
          <p:spPr>
            <a:xfrm>
              <a:off x="3058920" y="4106880"/>
              <a:ext cx="1504800" cy="1506600"/>
            </a:xfrm>
            <a:prstGeom prst="ellipse">
              <a:avLst/>
            </a:prstGeom>
            <a:gradFill rotWithShape="0">
              <a:gsLst>
                <a:gs pos="0">
                  <a:srgbClr val="5b94e1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Diagr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13"/>
          <p:cNvGrpSpPr/>
          <p:nvPr/>
        </p:nvGrpSpPr>
        <p:grpSpPr>
          <a:xfrm>
            <a:off x="4952880" y="2955960"/>
            <a:ext cx="1677960" cy="1677960"/>
            <a:chOff x="4952880" y="2955960"/>
            <a:chExt cx="1677960" cy="1677960"/>
          </a:xfrm>
        </p:grpSpPr>
        <p:sp>
          <p:nvSpPr>
            <p:cNvPr id="122" name="Oval 14"/>
            <p:cNvSpPr/>
            <p:nvPr/>
          </p:nvSpPr>
          <p:spPr>
            <a:xfrm>
              <a:off x="4952880" y="2955960"/>
              <a:ext cx="1677960" cy="167796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5b94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5030640" y="3025800"/>
              <a:ext cx="1504800" cy="1506600"/>
            </a:xfrm>
            <a:prstGeom prst="ellipse">
              <a:avLst/>
            </a:prstGeom>
            <a:gradFill rotWithShape="0">
              <a:gsLst>
                <a:gs pos="0">
                  <a:srgbClr val="5b94e1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Diagr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4"/>
          <p:cNvSpPr/>
          <p:nvPr/>
        </p:nvSpPr>
        <p:spPr>
          <a:xfrm>
            <a:off x="3808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E9C3-19B9-4E3B-A6E4-508B7B958AFE}" type="slidenum">
              <a:rPr b="1" lang="ko-KR" sz="1200" spc="-1" strike="noStrike">
                <a:solidFill>
                  <a:srgbClr val="000066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2"/>
          <p:cNvSpPr/>
          <p:nvPr/>
        </p:nvSpPr>
        <p:spPr>
          <a:xfrm>
            <a:off x="2576520" y="2433600"/>
            <a:ext cx="4114800" cy="26431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1303200" y="1714680"/>
            <a:ext cx="3040200" cy="1861920"/>
            <a:chOff x="1303200" y="1714680"/>
            <a:chExt cx="3040200" cy="1861920"/>
          </a:xfrm>
        </p:grpSpPr>
        <p:sp>
          <p:nvSpPr>
            <p:cNvPr id="128" name="AutoShape 5"/>
            <p:cNvSpPr/>
            <p:nvPr/>
          </p:nvSpPr>
          <p:spPr>
            <a:xfrm>
              <a:off x="1303200" y="1714680"/>
              <a:ext cx="3040200" cy="1861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5b94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AutoShape 6"/>
            <p:cNvSpPr/>
            <p:nvPr/>
          </p:nvSpPr>
          <p:spPr>
            <a:xfrm>
              <a:off x="1422360" y="1765080"/>
              <a:ext cx="2787480" cy="1755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b94e1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Text Box 7"/>
          <p:cNvSpPr/>
          <p:nvPr/>
        </p:nvSpPr>
        <p:spPr>
          <a:xfrm>
            <a:off x="1828800" y="23623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Group 8"/>
          <p:cNvGrpSpPr/>
          <p:nvPr/>
        </p:nvGrpSpPr>
        <p:grpSpPr>
          <a:xfrm>
            <a:off x="4970520" y="1714680"/>
            <a:ext cx="3039840" cy="1861920"/>
            <a:chOff x="4970520" y="1714680"/>
            <a:chExt cx="3039840" cy="1861920"/>
          </a:xfrm>
        </p:grpSpPr>
        <p:sp>
          <p:nvSpPr>
            <p:cNvPr id="132" name="AutoShape 9"/>
            <p:cNvSpPr/>
            <p:nvPr/>
          </p:nvSpPr>
          <p:spPr>
            <a:xfrm>
              <a:off x="4970520" y="1714680"/>
              <a:ext cx="3039840" cy="1861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5b94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AutoShape 10"/>
            <p:cNvSpPr/>
            <p:nvPr/>
          </p:nvSpPr>
          <p:spPr>
            <a:xfrm>
              <a:off x="5089320" y="1765080"/>
              <a:ext cx="2787120" cy="1755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b94e1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Text Box 11"/>
          <p:cNvSpPr/>
          <p:nvPr/>
        </p:nvSpPr>
        <p:spPr>
          <a:xfrm>
            <a:off x="5495760" y="23623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12"/>
          <p:cNvGrpSpPr/>
          <p:nvPr/>
        </p:nvGrpSpPr>
        <p:grpSpPr>
          <a:xfrm>
            <a:off x="1303200" y="3990960"/>
            <a:ext cx="3040200" cy="1862280"/>
            <a:chOff x="1303200" y="3990960"/>
            <a:chExt cx="3040200" cy="1862280"/>
          </a:xfrm>
        </p:grpSpPr>
        <p:sp>
          <p:nvSpPr>
            <p:cNvPr id="136" name="AutoShape 13"/>
            <p:cNvSpPr/>
            <p:nvPr/>
          </p:nvSpPr>
          <p:spPr>
            <a:xfrm>
              <a:off x="1303200" y="3990960"/>
              <a:ext cx="3040200" cy="1862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5b94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AutoShape 14"/>
            <p:cNvSpPr/>
            <p:nvPr/>
          </p:nvSpPr>
          <p:spPr>
            <a:xfrm>
              <a:off x="1422360" y="4041720"/>
              <a:ext cx="2787480" cy="175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b94e1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Text Box 15"/>
          <p:cNvSpPr/>
          <p:nvPr/>
        </p:nvSpPr>
        <p:spPr>
          <a:xfrm>
            <a:off x="1828800" y="4638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16"/>
          <p:cNvGrpSpPr/>
          <p:nvPr/>
        </p:nvGrpSpPr>
        <p:grpSpPr>
          <a:xfrm>
            <a:off x="4970520" y="3990960"/>
            <a:ext cx="3039840" cy="1862280"/>
            <a:chOff x="4970520" y="3990960"/>
            <a:chExt cx="3039840" cy="1862280"/>
          </a:xfrm>
        </p:grpSpPr>
        <p:sp>
          <p:nvSpPr>
            <p:cNvPr id="140" name="AutoShape 17"/>
            <p:cNvSpPr/>
            <p:nvPr/>
          </p:nvSpPr>
          <p:spPr>
            <a:xfrm>
              <a:off x="4970520" y="3990960"/>
              <a:ext cx="3039840" cy="1862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5b94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AutoShape 18"/>
            <p:cNvSpPr/>
            <p:nvPr/>
          </p:nvSpPr>
          <p:spPr>
            <a:xfrm>
              <a:off x="5089320" y="4041720"/>
              <a:ext cx="2787120" cy="175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b94e1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Text Box 19"/>
          <p:cNvSpPr/>
          <p:nvPr/>
        </p:nvSpPr>
        <p:spPr>
          <a:xfrm>
            <a:off x="5495760" y="46386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4"/>
          <p:cNvSpPr/>
          <p:nvPr/>
        </p:nvSpPr>
        <p:spPr>
          <a:xfrm>
            <a:off x="3808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8C99-3D8A-4756-8A4D-440AF3E47F8F}" type="slidenum">
              <a:rPr b="1" lang="ko-KR" sz="1200" spc="-1" strike="noStrike">
                <a:solidFill>
                  <a:srgbClr val="000066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2"/>
          <p:cNvGrpSpPr/>
          <p:nvPr/>
        </p:nvGrpSpPr>
        <p:grpSpPr>
          <a:xfrm>
            <a:off x="5272200" y="1370160"/>
            <a:ext cx="3006720" cy="4606920"/>
            <a:chOff x="5272200" y="1370160"/>
            <a:chExt cx="3006720" cy="4606920"/>
          </a:xfrm>
        </p:grpSpPr>
        <p:sp>
          <p:nvSpPr>
            <p:cNvPr id="145" name="AutoShape 3"/>
            <p:cNvSpPr/>
            <p:nvPr/>
          </p:nvSpPr>
          <p:spPr>
            <a:xfrm>
              <a:off x="5272200" y="1370160"/>
              <a:ext cx="3006720" cy="4606920"/>
            </a:xfrm>
            <a:custGeom>
              <a:avLst/>
              <a:gdLst>
                <a:gd name="textAreaLeft" fmla="*/ 146520 w 3006720"/>
                <a:gd name="textAreaRight" fmla="*/ 2860200 w 3006720"/>
                <a:gd name="textAreaTop" fmla="*/ 146520 h 4606920"/>
                <a:gd name="textAreaBottom" fmla="*/ 4460400 h 4606920"/>
              </a:gdLst>
              <a:ahLst/>
              <a:rect l="textAreaLeft" t="textAreaTop" r="textAreaRight" b="textAreaBottom"/>
              <a:pathLst>
                <a:path w="21600" h="33094">
                  <a:moveTo>
                    <a:pt x="3600" y="0"/>
                  </a:moveTo>
                  <a:arcTo wR="3600" hR="3600" stAng="16200000" swAng="-5400000"/>
                  <a:lnTo>
                    <a:pt x="0" y="29494"/>
                  </a:lnTo>
                  <a:arcTo wR="3600" hR="3600" stAng="10800000" swAng="-5400000"/>
                  <a:lnTo>
                    <a:pt x="18000" y="330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5b94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AutoShape 4"/>
            <p:cNvSpPr/>
            <p:nvPr/>
          </p:nvSpPr>
          <p:spPr>
            <a:xfrm>
              <a:off x="5389560" y="1497240"/>
              <a:ext cx="2757600" cy="4343400"/>
            </a:xfrm>
            <a:custGeom>
              <a:avLst/>
              <a:gdLst>
                <a:gd name="textAreaLeft" fmla="*/ 134280 w 2757600"/>
                <a:gd name="textAreaRight" fmla="*/ 2623320 w 2757600"/>
                <a:gd name="textAreaTop" fmla="*/ 134280 h 4343400"/>
                <a:gd name="textAreaBottom" fmla="*/ 4209120 h 4343400"/>
              </a:gdLst>
              <a:ahLst/>
              <a:rect l="textAreaLeft" t="textAreaTop" r="textAreaRight" b="textAreaBottom"/>
              <a:pathLst>
                <a:path w="21600" h="34020">
                  <a:moveTo>
                    <a:pt x="3600" y="0"/>
                  </a:moveTo>
                  <a:arcTo wR="3600" hR="3600" stAng="16200000" swAng="-5400000"/>
                  <a:lnTo>
                    <a:pt x="0" y="30420"/>
                  </a:lnTo>
                  <a:arcTo wR="3600" hR="3600" stAng="10800000" swAng="-5400000"/>
                  <a:lnTo>
                    <a:pt x="18000" y="3402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5b94e1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990720" y="1370160"/>
            <a:ext cx="3006720" cy="4606920"/>
            <a:chOff x="990720" y="1370160"/>
            <a:chExt cx="3006720" cy="4606920"/>
          </a:xfrm>
        </p:grpSpPr>
        <p:sp>
          <p:nvSpPr>
            <p:cNvPr id="149" name="AutoShape 7"/>
            <p:cNvSpPr/>
            <p:nvPr/>
          </p:nvSpPr>
          <p:spPr>
            <a:xfrm>
              <a:off x="990720" y="1370160"/>
              <a:ext cx="3006720" cy="4606920"/>
            </a:xfrm>
            <a:custGeom>
              <a:avLst/>
              <a:gdLst>
                <a:gd name="textAreaLeft" fmla="*/ 146520 w 3006720"/>
                <a:gd name="textAreaRight" fmla="*/ 2860200 w 3006720"/>
                <a:gd name="textAreaTop" fmla="*/ 146520 h 4606920"/>
                <a:gd name="textAreaBottom" fmla="*/ 4460400 h 4606920"/>
              </a:gdLst>
              <a:ahLst/>
              <a:rect l="textAreaLeft" t="textAreaTop" r="textAreaRight" b="textAreaBottom"/>
              <a:pathLst>
                <a:path w="21600" h="33094">
                  <a:moveTo>
                    <a:pt x="3600" y="0"/>
                  </a:moveTo>
                  <a:arcTo wR="3600" hR="3600" stAng="16200000" swAng="-5400000"/>
                  <a:lnTo>
                    <a:pt x="0" y="29494"/>
                  </a:lnTo>
                  <a:arcTo wR="3600" hR="3600" stAng="10800000" swAng="-5400000"/>
                  <a:lnTo>
                    <a:pt x="18000" y="330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5b94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AutoShape 8"/>
            <p:cNvSpPr/>
            <p:nvPr/>
          </p:nvSpPr>
          <p:spPr>
            <a:xfrm>
              <a:off x="1108080" y="1497240"/>
              <a:ext cx="2757600" cy="4343400"/>
            </a:xfrm>
            <a:custGeom>
              <a:avLst/>
              <a:gdLst>
                <a:gd name="textAreaLeft" fmla="*/ 134280 w 2757600"/>
                <a:gd name="textAreaRight" fmla="*/ 2623320 w 2757600"/>
                <a:gd name="textAreaTop" fmla="*/ 134280 h 4343400"/>
                <a:gd name="textAreaBottom" fmla="*/ 4209120 h 4343400"/>
              </a:gdLst>
              <a:ahLst/>
              <a:rect l="textAreaLeft" t="textAreaTop" r="textAreaRight" b="textAreaBottom"/>
              <a:pathLst>
                <a:path w="21600" h="34020">
                  <a:moveTo>
                    <a:pt x="3600" y="0"/>
                  </a:moveTo>
                  <a:arcTo wR="3600" hR="3600" stAng="16200000" swAng="-5400000"/>
                  <a:lnTo>
                    <a:pt x="0" y="30420"/>
                  </a:lnTo>
                  <a:arcTo wR="3600" hR="3600" stAng="10800000" swAng="-5400000"/>
                  <a:lnTo>
                    <a:pt x="18000" y="3402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5b94e1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AutoShape 9"/>
          <p:cNvSpPr/>
          <p:nvPr/>
        </p:nvSpPr>
        <p:spPr>
          <a:xfrm rot="16200000">
            <a:off x="4167000" y="2977920"/>
            <a:ext cx="936720" cy="552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1254240" y="1719360"/>
            <a:ext cx="243828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5562720" y="1643040"/>
            <a:ext cx="243828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灯片编号占位符 3"/>
          <p:cNvSpPr/>
          <p:nvPr/>
        </p:nvSpPr>
        <p:spPr>
          <a:xfrm>
            <a:off x="3808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20B5-18DC-43B6-B362-29C3887AF481}" type="slidenum">
              <a:rPr b="1" lang="ko-KR" sz="1200" spc="-1" strike="noStrike">
                <a:solidFill>
                  <a:srgbClr val="000066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3429000" y="1537920"/>
            <a:ext cx="198108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e3f5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914400" y="1537920"/>
            <a:ext cx="213372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cccc"/>
              </a:gs>
              <a:gs pos="100000">
                <a:srgbClr val="c7f1f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  <a:ea typeface="Gulim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5715000" y="1537920"/>
            <a:ext cx="228600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94e1"/>
              </a:gs>
              <a:gs pos="100000">
                <a:srgbClr val="bfd5f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  <a:ea typeface="Gulim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5638680" y="2286000"/>
            <a:ext cx="2819520" cy="358128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5b94e1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3276720" y="2286000"/>
            <a:ext cx="2971800" cy="35812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cc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914400" y="2286000"/>
            <a:ext cx="2971800" cy="35812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33cc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3"/>
          <p:cNvSpPr/>
          <p:nvPr/>
        </p:nvSpPr>
        <p:spPr>
          <a:xfrm>
            <a:off x="3808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4B5E-C9CE-4AF3-A1FA-94AE5167D9C7}" type="slidenum">
              <a:rPr b="1" lang="ko-KR" sz="1200" spc="-1" strike="noStrike">
                <a:solidFill>
                  <a:srgbClr val="000066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070520" y="2394000"/>
            <a:ext cx="634680" cy="298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457200" y="1676160"/>
            <a:ext cx="554688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cccc"/>
              </a:gs>
              <a:gs pos="100000">
                <a:srgbClr val="c7f1f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3200400" y="2763360"/>
            <a:ext cx="554688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cccc"/>
              </a:gs>
              <a:gs pos="100000">
                <a:srgbClr val="c7f1f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  <a:ea typeface="Gulim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6"/>
          <p:cNvSpPr/>
          <p:nvPr/>
        </p:nvSpPr>
        <p:spPr>
          <a:xfrm>
            <a:off x="457200" y="3911400"/>
            <a:ext cx="554688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cccc"/>
              </a:gs>
              <a:gs pos="100000">
                <a:srgbClr val="c7f1f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  <a:ea typeface="Gulim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4070520" y="3467160"/>
            <a:ext cx="634680" cy="298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4070520" y="4643280"/>
            <a:ext cx="634680" cy="298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3200400" y="5013000"/>
            <a:ext cx="554688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cccc"/>
              </a:gs>
              <a:gs pos="100000">
                <a:srgbClr val="c7f1f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  <a:ea typeface="Gulim"/>
              </a:rPr>
              <a:t>Text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3"/>
          <p:cNvSpPr/>
          <p:nvPr/>
        </p:nvSpPr>
        <p:spPr>
          <a:xfrm>
            <a:off x="3808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F4CF-8C75-414F-8D9C-2E3BBD8FCA93}" type="slidenum">
              <a:rPr b="1" lang="ko-KR" sz="1200" spc="-1" strike="noStrike">
                <a:solidFill>
                  <a:srgbClr val="000066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h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457200" y="1066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cc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Gulim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Gulim"/>
              </a:rPr>
              <a:t>Ch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838080" y="1828800"/>
          <a:ext cx="7696080" cy="3886200"/>
        </p:xfrm>
        <a:graphic>
          <a:graphicData uri="http://schemas.openxmlformats.org/drawingml/2006/table">
            <a:tbl>
              <a:tblPr/>
              <a:tblGrid>
                <a:gridCol w="1282680"/>
                <a:gridCol w="1282680"/>
                <a:gridCol w="1282680"/>
                <a:gridCol w="1282680"/>
                <a:gridCol w="1282680"/>
                <a:gridCol w="1282680"/>
              </a:tblGrid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a7a7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Verdana"/>
                          <a:ea typeface="Gulim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a7a7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Verdana"/>
                          <a:ea typeface="Gulim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a7a7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Verdana"/>
                          <a:ea typeface="Gulim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a7a7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Verdana"/>
                          <a:ea typeface="Gulim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a7a7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Verdana"/>
                          <a:ea typeface="Gulim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a7a7d1"/>
                        </a:gs>
                      </a:gsLst>
                      <a:lin ang="5400000"/>
                    </a:gradFill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66"/>
                          </a:solidFill>
                          <a:latin typeface="Verdana"/>
                          <a:ea typeface="Gulim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66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9ab3c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66"/>
                          </a:solidFill>
                          <a:latin typeface="Verdana"/>
                          <a:ea typeface="Gulim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9ab3c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66"/>
                          </a:solidFill>
                          <a:latin typeface="Verdana"/>
                          <a:ea typeface="Gulim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9ab3c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66"/>
                          </a:solidFill>
                          <a:latin typeface="Verdana"/>
                          <a:ea typeface="Gulim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9ab3c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66"/>
                          </a:solidFill>
                          <a:latin typeface="Verdana"/>
                          <a:ea typeface="Gulim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9ab3c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 Box 73"/>
          <p:cNvSpPr/>
          <p:nvPr/>
        </p:nvSpPr>
        <p:spPr>
          <a:xfrm>
            <a:off x="2727360" y="1866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00:58:10Z</dcterms:created>
  <dc:creator>幻灯片 http://www.eeppt.com</dc:creator>
  <dc:description/>
  <cp:keywords>幻灯片 http:/www.eeppt.com</cp:keywords>
  <dc:language>en-US</dc:language>
  <cp:lastModifiedBy/>
  <dcterms:modified xsi:type="dcterms:W3CDTF">2015-08-12T03:47:3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