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6DE-5B41-4127-BB34-BC1FF74C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950-1C82-420B-9ADB-E7CC69C7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428-DC49-4885-BEE5-69358FB2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25C-D9D4-4EDA-ACD8-5465EA03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5790-FF76-497E-8FC8-E22BFC94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4FF1-280C-4525-BF6B-9ED0919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47F3-A85B-40D5-AE9B-36A582AD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510D-48FA-4F84-A3A8-4D78672B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30FA-2196-4ECB-8562-855352DD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8080" y="374400"/>
            <a:ext cx="7010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7C94-F770-4179-9F71-05569338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32E5-E1F2-41CE-87DB-FA4596C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8B8-6C52-408F-92E9-4B7307FA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93E0-4A54-4872-939E-59F5C9F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B246-A102-4A40-A232-F45B2F25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5C1D-0411-4A2B-9AD5-A602B188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1A06-A78A-4FF8-890A-1AA93A2A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F174-C15A-4750-80A2-DAF7FB1F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849-BDFC-4E35-A59D-73DC9181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41C-242B-4D9A-8DA4-673E9A9F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38A-3801-4063-9450-21A3F43D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8080" y="374400"/>
            <a:ext cx="7010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92E-E9A1-4B85-948C-C31C3C0E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3C7-AA7B-4348-97FF-0F34B4C7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3F5-57D0-4FC6-A17B-26BCC619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B1A-79E0-401A-AF9B-8C9BC52F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41520"/>
            <a:ext cx="9144000" cy="9180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440" y="766800"/>
            <a:ext cx="9142560" cy="136692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aphicFrame>
        <p:nvGraphicFramePr>
          <p:cNvPr id="2" name="Object 15"/>
          <p:cNvGraphicFramePr/>
          <p:nvPr/>
        </p:nvGraphicFramePr>
        <p:xfrm>
          <a:off x="-11160" y="0"/>
          <a:ext cx="91551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160" y="0"/>
                    <a:ext cx="9155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AutoShape 9"/>
          <p:cNvSpPr/>
          <p:nvPr/>
        </p:nvSpPr>
        <p:spPr>
          <a:xfrm>
            <a:off x="609480" y="344520"/>
            <a:ext cx="7365960" cy="644400"/>
          </a:xfrm>
          <a:prstGeom prst="roundRect">
            <a:avLst>
              <a:gd name="adj" fmla="val 41870"/>
            </a:avLst>
          </a:prstGeom>
          <a:gradFill rotWithShape="0">
            <a:gsLst>
              <a:gs pos="0">
                <a:srgbClr val="0e4aa2"/>
              </a:gs>
              <a:gs pos="100000">
                <a:srgbClr val="0622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91E-F456-4644-B7AD-635B00389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1259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" name="AutoShape 14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d1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1440" y="3803760"/>
            <a:ext cx="9142560" cy="130176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aphicFrame>
        <p:nvGraphicFramePr>
          <p:cNvPr id="49" name="Object 18"/>
          <p:cNvGraphicFramePr/>
          <p:nvPr/>
        </p:nvGraphicFramePr>
        <p:xfrm>
          <a:off x="0" y="0"/>
          <a:ext cx="9144000" cy="26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0" y="2678040"/>
            <a:ext cx="9144000" cy="107172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3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1259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1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55" name="AutoShape 11"/>
          <p:cNvSpPr/>
          <p:nvPr/>
        </p:nvSpPr>
        <p:spPr>
          <a:xfrm>
            <a:off x="685800" y="3429000"/>
            <a:ext cx="7620120" cy="685800"/>
          </a:xfrm>
          <a:prstGeom prst="roundRect">
            <a:avLst>
              <a:gd name="adj" fmla="val 3844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d125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d1259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8F6C-C814-40C7-8563-AF6CEB788827}" type="slidenum">
              <a:rPr b="0" lang="en-US" sz="1200" spc="-1" strike="noStrike">
                <a:solidFill>
                  <a:srgbClr val="0d125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5.png"/><Relationship Id="rId6" Type="http://schemas.openxmlformats.org/officeDocument/2006/relationships/image" Target="../media/image3.wmf"/><Relationship Id="rId7" Type="http://schemas.openxmlformats.org/officeDocument/2006/relationships/image" Target="../media/image6.png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43224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1259"/>
                </a:solidFill>
                <a:latin typeface="Arial"/>
                <a:ea typeface="宋体"/>
              </a:rPr>
              <a:t>国外炫幻商务</a:t>
            </a:r>
            <a:r>
              <a:rPr b="1" lang="en-US" sz="4000" spc="-1" strike="noStrike">
                <a:solidFill>
                  <a:srgbClr val="0d1259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d1259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040" y="284184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125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19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6fb7b7"/>
              </a:gs>
              <a:gs pos="50000">
                <a:srgbClr val="ffffff"/>
              </a:gs>
              <a:gs pos="100000">
                <a:srgbClr val="6fb7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fb7b7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fb7b7"/>
              </a:gs>
              <a:gs pos="50000">
                <a:srgbClr val="3c6363"/>
              </a:gs>
              <a:gs pos="100000">
                <a:srgbClr val="6fb7b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fb7b7">
                  <a:alpha val="0"/>
                </a:srgbClr>
              </a:gs>
              <a:gs pos="100000">
                <a:srgbClr val="47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cca42"/>
              </a:gs>
              <a:gs pos="50000">
                <a:srgbClr val="ffffff"/>
              </a:gs>
              <a:gs pos="100000">
                <a:srgbClr val="dcca4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7" name="Oval 11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cca42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cca42"/>
              </a:gs>
              <a:gs pos="50000">
                <a:srgbClr val="776d24"/>
              </a:gs>
              <a:gs pos="100000">
                <a:srgbClr val="dcca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59" name="Oval 13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dcca42">
                  <a:alpha val="0"/>
                </a:srgbClr>
              </a:gs>
              <a:gs pos="100000">
                <a:srgbClr val="8c802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0" name="Oval 14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2" name="Oval 16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3" name="Oval 17"/>
            <p:cNvSpPr/>
            <p:nvPr/>
          </p:nvSpPr>
          <p:spPr>
            <a:xfrm>
              <a:off x="103860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4" name="Oval 18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266" name="Oval 20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3191d3"/>
              </a:gs>
              <a:gs pos="50000">
                <a:srgbClr val="ffffff"/>
              </a:gs>
              <a:gs pos="100000">
                <a:srgbClr val="3191d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174362"/>
              </a:gs>
              <a:gs pos="100000">
                <a:srgbClr val="3191d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91d3"/>
              </a:gs>
              <a:gs pos="50000">
                <a:srgbClr val="1b4e72"/>
              </a:gs>
              <a:gs pos="100000">
                <a:srgbClr val="3191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91d3">
                  <a:alpha val="0"/>
                </a:srgbClr>
              </a:gs>
              <a:gs pos="100000">
                <a:srgbClr val="1f5c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2" name="Oval 26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3" name="Oval 27"/>
            <p:cNvSpPr/>
            <p:nvPr/>
          </p:nvSpPr>
          <p:spPr>
            <a:xfrm>
              <a:off x="377532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4" name="Oval 28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5" name="Oval 29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276" name="Group 30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7" name="Oval 31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8" name="Oval 32"/>
            <p:cNvSpPr/>
            <p:nvPr/>
          </p:nvSpPr>
          <p:spPr>
            <a:xfrm>
              <a:off x="6521760" y="21679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80" name="Oval 34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281" name="AutoShape 35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2" name="AutoShape 36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3" name="AutoShape 37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5" name="Text Box 39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6" name="Text Box 40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99960" y="64008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fb7b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fb7b7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d1259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204920" y="183816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1cfeb"/>
              </a:gs>
              <a:gs pos="100000">
                <a:srgbClr val="6fb7b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5700600" y="3438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1" name="Oval 35"/>
          <p:cNvSpPr/>
          <p:nvPr/>
        </p:nvSpPr>
        <p:spPr>
          <a:xfrm rot="20876400">
            <a:off x="3368520" y="4861080"/>
            <a:ext cx="143856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2" name="Oval 36"/>
          <p:cNvSpPr/>
          <p:nvPr/>
        </p:nvSpPr>
        <p:spPr>
          <a:xfrm>
            <a:off x="3300480" y="3641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3" name="Oval 37"/>
          <p:cNvSpPr/>
          <p:nvPr/>
        </p:nvSpPr>
        <p:spPr>
          <a:xfrm>
            <a:off x="3321000" y="36511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4" name="Oval 38"/>
          <p:cNvSpPr/>
          <p:nvPr/>
        </p:nvSpPr>
        <p:spPr>
          <a:xfrm>
            <a:off x="3338640" y="3666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5" name="Oval 39"/>
          <p:cNvSpPr/>
          <p:nvPr/>
        </p:nvSpPr>
        <p:spPr>
          <a:xfrm>
            <a:off x="3430440" y="37116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3718080" y="4268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97" name="Oval 41"/>
          <p:cNvSpPr/>
          <p:nvPr/>
        </p:nvSpPr>
        <p:spPr>
          <a:xfrm rot="20826600">
            <a:off x="1525680" y="425088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298" name="Group 42"/>
          <p:cNvGrpSpPr/>
          <p:nvPr/>
        </p:nvGrpSpPr>
        <p:grpSpPr>
          <a:xfrm>
            <a:off x="1449360" y="3260880"/>
            <a:ext cx="1371240" cy="1441080"/>
            <a:chOff x="1449360" y="3260880"/>
            <a:chExt cx="1371240" cy="1441080"/>
          </a:xfrm>
        </p:grpSpPr>
        <p:sp>
          <p:nvSpPr>
            <p:cNvPr id="299" name="Oval 43"/>
            <p:cNvSpPr/>
            <p:nvPr/>
          </p:nvSpPr>
          <p:spPr>
            <a:xfrm>
              <a:off x="1449360" y="32608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1467360" y="32691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1" name="Oval 45"/>
            <p:cNvSpPr/>
            <p:nvPr/>
          </p:nvSpPr>
          <p:spPr>
            <a:xfrm>
              <a:off x="1480320" y="32824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2" name="Oval 46"/>
            <p:cNvSpPr/>
            <p:nvPr/>
          </p:nvSpPr>
          <p:spPr>
            <a:xfrm>
              <a:off x="1551960" y="33192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03" name="Text Box 47"/>
            <p:cNvSpPr/>
            <p:nvPr/>
          </p:nvSpPr>
          <p:spPr>
            <a:xfrm>
              <a:off x="1729800" y="3767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04" name="Oval 48"/>
          <p:cNvSpPr/>
          <p:nvPr/>
        </p:nvSpPr>
        <p:spPr>
          <a:xfrm>
            <a:off x="1347840" y="24955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5" name="Oval 49"/>
          <p:cNvSpPr/>
          <p:nvPr/>
        </p:nvSpPr>
        <p:spPr>
          <a:xfrm>
            <a:off x="1424160" y="18892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6" name="Oval 50"/>
          <p:cNvSpPr/>
          <p:nvPr/>
        </p:nvSpPr>
        <p:spPr>
          <a:xfrm>
            <a:off x="1436760" y="1893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7" name="Oval 51"/>
          <p:cNvSpPr/>
          <p:nvPr/>
        </p:nvSpPr>
        <p:spPr>
          <a:xfrm>
            <a:off x="1447920" y="19051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8" name="Oval 52"/>
          <p:cNvSpPr/>
          <p:nvPr/>
        </p:nvSpPr>
        <p:spPr>
          <a:xfrm>
            <a:off x="1501920" y="193032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21080" y="22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0" name="Oval 54"/>
          <p:cNvSpPr/>
          <p:nvPr/>
        </p:nvSpPr>
        <p:spPr>
          <a:xfrm>
            <a:off x="2614680" y="1965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1" name="Oval 55"/>
          <p:cNvSpPr/>
          <p:nvPr/>
        </p:nvSpPr>
        <p:spPr>
          <a:xfrm>
            <a:off x="2736720" y="1432080"/>
            <a:ext cx="68292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2746440" y="1434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3" name="Oval 57"/>
          <p:cNvSpPr/>
          <p:nvPr/>
        </p:nvSpPr>
        <p:spPr>
          <a:xfrm>
            <a:off x="2752560" y="14414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4" name="Oval 58"/>
          <p:cNvSpPr/>
          <p:nvPr/>
        </p:nvSpPr>
        <p:spPr>
          <a:xfrm>
            <a:off x="2789280" y="1460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5" name="Text Box 59"/>
          <p:cNvSpPr/>
          <p:nvPr/>
        </p:nvSpPr>
        <p:spPr>
          <a:xfrm>
            <a:off x="2807280" y="1655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e4aa2"/>
              </a:gs>
              <a:gs pos="100000">
                <a:srgbClr val="0c429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e4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324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5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27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8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29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0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31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2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4" name="Oval 20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5" name="Oval 21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6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7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38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39" name="Group 25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40" name="Oval 26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1" name="Oval 27"/>
            <p:cNvSpPr/>
            <p:nvPr/>
          </p:nvSpPr>
          <p:spPr>
            <a:xfrm>
              <a:off x="5349960" y="50356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ee7e7"/>
                </a:gs>
                <a:gs pos="100000">
                  <a:srgbClr val="6fb7b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fb7b7"/>
              </a:gs>
              <a:gs pos="50000">
                <a:srgbClr val="ffffff"/>
              </a:gs>
              <a:gs pos="100000">
                <a:srgbClr val="6fb7b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5555"/>
              </a:gs>
              <a:gs pos="100000">
                <a:srgbClr val="6fb7b7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fb7b7"/>
              </a:gs>
              <a:gs pos="50000">
                <a:srgbClr val="3c6363"/>
              </a:gs>
              <a:gs pos="100000">
                <a:srgbClr val="6fb7b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45" name="Oval 31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fb7b7">
                  <a:alpha val="0"/>
                </a:srgbClr>
              </a:gs>
              <a:gs pos="100000">
                <a:srgbClr val="477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346" name="Group 44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7" name="Oval 32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8" name="Oval 33"/>
            <p:cNvSpPr/>
            <p:nvPr/>
          </p:nvSpPr>
          <p:spPr>
            <a:xfrm>
              <a:off x="3857760" y="287352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49" name="Oval 34"/>
            <p:cNvSpPr/>
            <p:nvPr/>
          </p:nvSpPr>
          <p:spPr>
            <a:xfrm>
              <a:off x="3875040" y="288288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51" name="Oval 36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352" name="Text Box 37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3" name="Text Box 38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4" name="Text Box 39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5" name="Text Box 40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7" name="Text Box 42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358" name="Text Box 43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066680" y="1679400"/>
            <a:ext cx="2170080" cy="4035600"/>
            <a:chOff x="1066680" y="1679400"/>
            <a:chExt cx="2170080" cy="4035600"/>
          </a:xfrm>
        </p:grpSpPr>
        <p:sp>
          <p:nvSpPr>
            <p:cNvPr id="361" name="AutoShape 4"/>
            <p:cNvSpPr/>
            <p:nvPr/>
          </p:nvSpPr>
          <p:spPr>
            <a:xfrm>
              <a:off x="106668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110016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111744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111744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1073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111744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367" name="Group 10"/>
            <p:cNvGrpSpPr/>
            <p:nvPr/>
          </p:nvGrpSpPr>
          <p:grpSpPr>
            <a:xfrm>
              <a:off x="1811160" y="1679400"/>
              <a:ext cx="642960" cy="642960"/>
              <a:chOff x="1811160" y="1679400"/>
              <a:chExt cx="642960" cy="642960"/>
            </a:xfrm>
          </p:grpSpPr>
          <p:sp>
            <p:nvSpPr>
              <p:cNvPr id="368" name="Oval 11"/>
              <p:cNvSpPr/>
              <p:nvPr/>
            </p:nvSpPr>
            <p:spPr>
              <a:xfrm>
                <a:off x="181116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69" name="Oval 12"/>
              <p:cNvSpPr/>
              <p:nvPr/>
            </p:nvSpPr>
            <p:spPr>
              <a:xfrm>
                <a:off x="181764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70" name="Oval 13"/>
              <p:cNvSpPr/>
              <p:nvPr/>
            </p:nvSpPr>
            <p:spPr>
              <a:xfrm>
                <a:off x="182556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71" name="Oval 14"/>
              <p:cNvSpPr/>
              <p:nvPr/>
            </p:nvSpPr>
            <p:spPr>
              <a:xfrm>
                <a:off x="183204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72" name="Oval 15"/>
              <p:cNvSpPr/>
              <p:nvPr/>
            </p:nvSpPr>
            <p:spPr>
              <a:xfrm>
                <a:off x="186588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373" name="Text Box 16"/>
            <p:cNvSpPr/>
            <p:nvPr/>
          </p:nvSpPr>
          <p:spPr>
            <a:xfrm>
              <a:off x="195120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11430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75" name="Group 18"/>
          <p:cNvGrpSpPr/>
          <p:nvPr/>
        </p:nvGrpSpPr>
        <p:grpSpPr>
          <a:xfrm>
            <a:off x="3429000" y="1679400"/>
            <a:ext cx="2166840" cy="4035600"/>
            <a:chOff x="3429000" y="1679400"/>
            <a:chExt cx="2166840" cy="4035600"/>
          </a:xfrm>
        </p:grpSpPr>
        <p:sp>
          <p:nvSpPr>
            <p:cNvPr id="376" name="AutoShape 19"/>
            <p:cNvSpPr/>
            <p:nvPr/>
          </p:nvSpPr>
          <p:spPr>
            <a:xfrm>
              <a:off x="3429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7" name="AutoShape 20"/>
            <p:cNvSpPr/>
            <p:nvPr/>
          </p:nvSpPr>
          <p:spPr>
            <a:xfrm>
              <a:off x="3462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8" name="AutoShape 21"/>
            <p:cNvSpPr/>
            <p:nvPr/>
          </p:nvSpPr>
          <p:spPr>
            <a:xfrm>
              <a:off x="3479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79" name="AutoShape 22"/>
            <p:cNvSpPr/>
            <p:nvPr/>
          </p:nvSpPr>
          <p:spPr>
            <a:xfrm>
              <a:off x="3479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0" name="Oval 23"/>
            <p:cNvSpPr/>
            <p:nvPr/>
          </p:nvSpPr>
          <p:spPr>
            <a:xfrm>
              <a:off x="417348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1" name="Oval 24"/>
            <p:cNvSpPr/>
            <p:nvPr/>
          </p:nvSpPr>
          <p:spPr>
            <a:xfrm>
              <a:off x="4179960" y="16840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2" name="Oval 25"/>
            <p:cNvSpPr/>
            <p:nvPr/>
          </p:nvSpPr>
          <p:spPr>
            <a:xfrm>
              <a:off x="4187880" y="16873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4194000" y="16938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4" name="Oval 27"/>
            <p:cNvSpPr/>
            <p:nvPr/>
          </p:nvSpPr>
          <p:spPr>
            <a:xfrm>
              <a:off x="4229280" y="17096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5" name="Text Box 28"/>
            <p:cNvSpPr/>
            <p:nvPr/>
          </p:nvSpPr>
          <p:spPr>
            <a:xfrm>
              <a:off x="4313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3505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7" name="AutoShape 30"/>
            <p:cNvSpPr/>
            <p:nvPr/>
          </p:nvSpPr>
          <p:spPr>
            <a:xfrm>
              <a:off x="343224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88" name="AutoShape 31"/>
            <p:cNvSpPr/>
            <p:nvPr/>
          </p:nvSpPr>
          <p:spPr>
            <a:xfrm>
              <a:off x="347652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389" name="Group 32"/>
          <p:cNvGrpSpPr/>
          <p:nvPr/>
        </p:nvGrpSpPr>
        <p:grpSpPr>
          <a:xfrm>
            <a:off x="5784840" y="1679400"/>
            <a:ext cx="2170080" cy="4035600"/>
            <a:chOff x="5784840" y="1679400"/>
            <a:chExt cx="2170080" cy="4035600"/>
          </a:xfrm>
        </p:grpSpPr>
        <p:sp>
          <p:nvSpPr>
            <p:cNvPr id="390" name="AutoShape 33"/>
            <p:cNvSpPr/>
            <p:nvPr/>
          </p:nvSpPr>
          <p:spPr>
            <a:xfrm>
              <a:off x="5791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1" name="AutoShape 34"/>
            <p:cNvSpPr/>
            <p:nvPr/>
          </p:nvSpPr>
          <p:spPr>
            <a:xfrm>
              <a:off x="582444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2" name="AutoShape 35"/>
            <p:cNvSpPr/>
            <p:nvPr/>
          </p:nvSpPr>
          <p:spPr>
            <a:xfrm>
              <a:off x="5842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5842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394" name="Group 37"/>
            <p:cNvGrpSpPr/>
            <p:nvPr/>
          </p:nvGrpSpPr>
          <p:grpSpPr>
            <a:xfrm>
              <a:off x="6535800" y="1679400"/>
              <a:ext cx="642960" cy="642960"/>
              <a:chOff x="6535800" y="1679400"/>
              <a:chExt cx="642960" cy="642960"/>
            </a:xfrm>
          </p:grpSpPr>
          <p:sp>
            <p:nvSpPr>
              <p:cNvPr id="395" name="Oval 38"/>
              <p:cNvSpPr/>
              <p:nvPr/>
            </p:nvSpPr>
            <p:spPr>
              <a:xfrm>
                <a:off x="653580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6" name="Oval 39"/>
              <p:cNvSpPr/>
              <p:nvPr/>
            </p:nvSpPr>
            <p:spPr>
              <a:xfrm>
                <a:off x="654228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7" name="Oval 40"/>
              <p:cNvSpPr/>
              <p:nvPr/>
            </p:nvSpPr>
            <p:spPr>
              <a:xfrm>
                <a:off x="655020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8" name="Oval 41"/>
              <p:cNvSpPr/>
              <p:nvPr/>
            </p:nvSpPr>
            <p:spPr>
              <a:xfrm>
                <a:off x="655668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399" name="Oval 42"/>
              <p:cNvSpPr/>
              <p:nvPr/>
            </p:nvSpPr>
            <p:spPr>
              <a:xfrm>
                <a:off x="659052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400" name="Text Box 43"/>
            <p:cNvSpPr/>
            <p:nvPr/>
          </p:nvSpPr>
          <p:spPr>
            <a:xfrm>
              <a:off x="6675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01" name="Text Box 44"/>
            <p:cNvSpPr/>
            <p:nvPr/>
          </p:nvSpPr>
          <p:spPr>
            <a:xfrm>
              <a:off x="586728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02" name="AutoShape 45"/>
            <p:cNvSpPr/>
            <p:nvPr/>
          </p:nvSpPr>
          <p:spPr>
            <a:xfrm>
              <a:off x="578484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03" name="AutoShape 46"/>
            <p:cNvSpPr/>
            <p:nvPr/>
          </p:nvSpPr>
          <p:spPr>
            <a:xfrm>
              <a:off x="582912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407" name="Group 5"/>
          <p:cNvGrpSpPr/>
          <p:nvPr/>
        </p:nvGrpSpPr>
        <p:grpSpPr>
          <a:xfrm>
            <a:off x="4906080" y="2985480"/>
            <a:ext cx="1703880" cy="2679120"/>
            <a:chOff x="4906080" y="2985480"/>
            <a:chExt cx="1703880" cy="2679120"/>
          </a:xfrm>
        </p:grpSpPr>
        <p:grpSp>
          <p:nvGrpSpPr>
            <p:cNvPr id="408" name="Group 6"/>
            <p:cNvGrpSpPr/>
            <p:nvPr/>
          </p:nvGrpSpPr>
          <p:grpSpPr>
            <a:xfrm>
              <a:off x="4906080" y="3164040"/>
              <a:ext cx="1577160" cy="2500560"/>
              <a:chOff x="4906080" y="3164040"/>
              <a:chExt cx="1577160" cy="2500560"/>
            </a:xfrm>
          </p:grpSpPr>
          <p:sp>
            <p:nvSpPr>
              <p:cNvPr id="409" name="Freeform 7"/>
              <p:cNvSpPr/>
              <p:nvPr/>
            </p:nvSpPr>
            <p:spPr>
              <a:xfrm rot="3876600">
                <a:off x="444276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10" name="Freeform 8"/>
              <p:cNvSpPr/>
              <p:nvPr/>
            </p:nvSpPr>
            <p:spPr>
              <a:xfrm rot="3876600">
                <a:off x="5947560" y="5103720"/>
                <a:ext cx="393480" cy="4564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9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12" name="Freeform 10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12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15" name="Oval 13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7" name="Oval 15"/>
            <p:cNvSpPr/>
            <p:nvPr/>
          </p:nvSpPr>
          <p:spPr>
            <a:xfrm>
              <a:off x="4522680" y="21571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4522680" y="21603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19" name="Oval 17"/>
            <p:cNvSpPr/>
            <p:nvPr/>
          </p:nvSpPr>
          <p:spPr>
            <a:xfrm>
              <a:off x="4584600" y="22208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20" name="Group 18"/>
            <p:cNvGrpSpPr/>
            <p:nvPr/>
          </p:nvGrpSpPr>
          <p:grpSpPr>
            <a:xfrm>
              <a:off x="4601880" y="2238120"/>
              <a:ext cx="1090440" cy="1091880"/>
              <a:chOff x="4601880" y="2238120"/>
              <a:chExt cx="1090440" cy="1091880"/>
            </a:xfrm>
          </p:grpSpPr>
          <p:sp>
            <p:nvSpPr>
              <p:cNvPr id="421" name="Oval 19"/>
              <p:cNvSpPr/>
              <p:nvPr/>
            </p:nvSpPr>
            <p:spPr>
              <a:xfrm>
                <a:off x="4601880" y="22381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2" name="Oval 20"/>
              <p:cNvSpPr/>
              <p:nvPr/>
            </p:nvSpPr>
            <p:spPr>
              <a:xfrm>
                <a:off x="4615560" y="22442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3" name="Oval 21"/>
              <p:cNvSpPr/>
              <p:nvPr/>
            </p:nvSpPr>
            <p:spPr>
              <a:xfrm>
                <a:off x="4627080" y="22546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4" name="Oval 22"/>
              <p:cNvSpPr/>
              <p:nvPr/>
            </p:nvSpPr>
            <p:spPr>
              <a:xfrm>
                <a:off x="4686120" y="22824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23"/>
          <p:cNvGrpSpPr/>
          <p:nvPr/>
        </p:nvGrpSpPr>
        <p:grpSpPr>
          <a:xfrm>
            <a:off x="7138080" y="3058560"/>
            <a:ext cx="1703880" cy="2679120"/>
            <a:chOff x="7138080" y="3058560"/>
            <a:chExt cx="1703880" cy="2679120"/>
          </a:xfrm>
        </p:grpSpPr>
        <p:grpSp>
          <p:nvGrpSpPr>
            <p:cNvPr id="426" name="Group 24"/>
            <p:cNvGrpSpPr/>
            <p:nvPr/>
          </p:nvGrpSpPr>
          <p:grpSpPr>
            <a:xfrm>
              <a:off x="7138080" y="3237120"/>
              <a:ext cx="1577160" cy="2500560"/>
              <a:chOff x="7138080" y="3237120"/>
              <a:chExt cx="1577160" cy="2500560"/>
            </a:xfrm>
          </p:grpSpPr>
          <p:sp>
            <p:nvSpPr>
              <p:cNvPr id="427" name="Freeform 25"/>
              <p:cNvSpPr/>
              <p:nvPr/>
            </p:nvSpPr>
            <p:spPr>
              <a:xfrm rot="3876600">
                <a:off x="6674760" y="4208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28" name="Freeform 26"/>
              <p:cNvSpPr/>
              <p:nvPr/>
            </p:nvSpPr>
            <p:spPr>
              <a:xfrm rot="3876600">
                <a:off x="8179560" y="5176800"/>
                <a:ext cx="393480" cy="4564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27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30" name="Freeform 28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31" name="Freeform 29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Oval 30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3" name="Oval 31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4" name="Oval 32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5" name="Oval 33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437" name="Group 35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38" name="Oval 36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39" name="Oval 37"/>
            <p:cNvSpPr/>
            <p:nvPr/>
          </p:nvSpPr>
          <p:spPr>
            <a:xfrm>
              <a:off x="6669720" y="21218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40" name="Oval 38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41" name="Oval 39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442" name="Group 40"/>
          <p:cNvGrpSpPr/>
          <p:nvPr/>
        </p:nvGrpSpPr>
        <p:grpSpPr>
          <a:xfrm>
            <a:off x="2858760" y="2985120"/>
            <a:ext cx="1703880" cy="2679480"/>
            <a:chOff x="2858760" y="2985120"/>
            <a:chExt cx="1703880" cy="2679480"/>
          </a:xfrm>
        </p:grpSpPr>
        <p:grpSp>
          <p:nvGrpSpPr>
            <p:cNvPr id="443" name="Group 41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44" name="Freeform 42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45" name="Freeform 43"/>
              <p:cNvSpPr/>
              <p:nvPr/>
            </p:nvSpPr>
            <p:spPr>
              <a:xfrm rot="3876600">
                <a:off x="3900240" y="5103720"/>
                <a:ext cx="393480" cy="4564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44"/>
            <p:cNvGrpSpPr/>
            <p:nvPr/>
          </p:nvGrpSpPr>
          <p:grpSpPr>
            <a:xfrm>
              <a:off x="3352680" y="2985120"/>
              <a:ext cx="1209960" cy="1918800"/>
              <a:chOff x="3352680" y="2985120"/>
              <a:chExt cx="1209960" cy="1918800"/>
            </a:xfrm>
          </p:grpSpPr>
          <p:sp>
            <p:nvSpPr>
              <p:cNvPr id="447" name="Freeform 45"/>
              <p:cNvSpPr/>
              <p:nvPr/>
            </p:nvSpPr>
            <p:spPr>
              <a:xfrm flipV="1" rot="3876600">
                <a:off x="2997000" y="373068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48" name="Freeform 46"/>
              <p:cNvSpPr/>
              <p:nvPr/>
            </p:nvSpPr>
            <p:spPr>
              <a:xfrm flipV="1" rot="3876600">
                <a:off x="4134240" y="448164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47"/>
          <p:cNvGrpSpPr/>
          <p:nvPr/>
        </p:nvGrpSpPr>
        <p:grpSpPr>
          <a:xfrm>
            <a:off x="2379600" y="2063880"/>
            <a:ext cx="1440000" cy="1439640"/>
            <a:chOff x="2379600" y="2063880"/>
            <a:chExt cx="1440000" cy="1439640"/>
          </a:xfrm>
        </p:grpSpPr>
        <p:sp>
          <p:nvSpPr>
            <p:cNvPr id="450" name="Oval 48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1" name="Oval 49"/>
            <p:cNvSpPr/>
            <p:nvPr/>
          </p:nvSpPr>
          <p:spPr>
            <a:xfrm>
              <a:off x="237960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2" name="Oval 50"/>
            <p:cNvSpPr/>
            <p:nvPr/>
          </p:nvSpPr>
          <p:spPr>
            <a:xfrm>
              <a:off x="247500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3" name="Oval 51"/>
            <p:cNvSpPr/>
            <p:nvPr/>
          </p:nvSpPr>
          <p:spPr>
            <a:xfrm>
              <a:off x="247500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54" name="Oval 52"/>
            <p:cNvSpPr/>
            <p:nvPr/>
          </p:nvSpPr>
          <p:spPr>
            <a:xfrm>
              <a:off x="253692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55" name="Group 53"/>
            <p:cNvGrpSpPr/>
            <p:nvPr/>
          </p:nvGrpSpPr>
          <p:grpSpPr>
            <a:xfrm>
              <a:off x="2554200" y="2238120"/>
              <a:ext cx="1090800" cy="1091880"/>
              <a:chOff x="2554200" y="2238120"/>
              <a:chExt cx="1090800" cy="1091880"/>
            </a:xfrm>
          </p:grpSpPr>
          <p:sp>
            <p:nvSpPr>
              <p:cNvPr id="456" name="Oval 54"/>
              <p:cNvSpPr/>
              <p:nvPr/>
            </p:nvSpPr>
            <p:spPr>
              <a:xfrm>
                <a:off x="255420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7" name="Oval 55"/>
              <p:cNvSpPr/>
              <p:nvPr/>
            </p:nvSpPr>
            <p:spPr>
              <a:xfrm>
                <a:off x="256788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8" name="Oval 56"/>
              <p:cNvSpPr/>
              <p:nvPr/>
            </p:nvSpPr>
            <p:spPr>
              <a:xfrm>
                <a:off x="257940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59" name="Oval 57"/>
              <p:cNvSpPr/>
              <p:nvPr/>
            </p:nvSpPr>
            <p:spPr>
              <a:xfrm>
                <a:off x="263844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58"/>
          <p:cNvGrpSpPr/>
          <p:nvPr/>
        </p:nvGrpSpPr>
        <p:grpSpPr>
          <a:xfrm>
            <a:off x="875880" y="2985120"/>
            <a:ext cx="1703880" cy="2679480"/>
            <a:chOff x="875880" y="2985120"/>
            <a:chExt cx="1703880" cy="2679480"/>
          </a:xfrm>
        </p:grpSpPr>
        <p:grpSp>
          <p:nvGrpSpPr>
            <p:cNvPr id="461" name="Group 59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62" name="Freeform 60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63" name="Freeform 61"/>
              <p:cNvSpPr/>
              <p:nvPr/>
            </p:nvSpPr>
            <p:spPr>
              <a:xfrm rot="3876600">
                <a:off x="1917360" y="5103720"/>
                <a:ext cx="393480" cy="4564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62"/>
            <p:cNvGrpSpPr/>
            <p:nvPr/>
          </p:nvGrpSpPr>
          <p:grpSpPr>
            <a:xfrm>
              <a:off x="1369800" y="2985120"/>
              <a:ext cx="1209960" cy="1918800"/>
              <a:chOff x="1369800" y="2985120"/>
              <a:chExt cx="1209960" cy="1918800"/>
            </a:xfrm>
          </p:grpSpPr>
          <p:sp>
            <p:nvSpPr>
              <p:cNvPr id="465" name="Freeform 63"/>
              <p:cNvSpPr/>
              <p:nvPr/>
            </p:nvSpPr>
            <p:spPr>
              <a:xfrm flipV="1" rot="3876600">
                <a:off x="1014120" y="373068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66" name="Freeform 64"/>
              <p:cNvSpPr/>
              <p:nvPr/>
            </p:nvSpPr>
            <p:spPr>
              <a:xfrm flipV="1" rot="3876600">
                <a:off x="2151360" y="448164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65"/>
          <p:cNvGrpSpPr/>
          <p:nvPr/>
        </p:nvGrpSpPr>
        <p:grpSpPr>
          <a:xfrm>
            <a:off x="396720" y="2063880"/>
            <a:ext cx="1440000" cy="1439640"/>
            <a:chOff x="396720" y="2063880"/>
            <a:chExt cx="1440000" cy="1439640"/>
          </a:xfrm>
        </p:grpSpPr>
        <p:sp>
          <p:nvSpPr>
            <p:cNvPr id="468" name="Oval 66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69" name="Oval 67"/>
            <p:cNvSpPr/>
            <p:nvPr/>
          </p:nvSpPr>
          <p:spPr>
            <a:xfrm>
              <a:off x="396720" y="20638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70" name="Oval 68"/>
            <p:cNvSpPr/>
            <p:nvPr/>
          </p:nvSpPr>
          <p:spPr>
            <a:xfrm>
              <a:off x="492120" y="21571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71" name="Oval 69"/>
            <p:cNvSpPr/>
            <p:nvPr/>
          </p:nvSpPr>
          <p:spPr>
            <a:xfrm>
              <a:off x="492120" y="21603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472" name="Oval 70"/>
            <p:cNvSpPr/>
            <p:nvPr/>
          </p:nvSpPr>
          <p:spPr>
            <a:xfrm>
              <a:off x="554040" y="22208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473" name="Group 71"/>
            <p:cNvGrpSpPr/>
            <p:nvPr/>
          </p:nvGrpSpPr>
          <p:grpSpPr>
            <a:xfrm>
              <a:off x="571320" y="2238120"/>
              <a:ext cx="1090800" cy="1091880"/>
              <a:chOff x="571320" y="2238120"/>
              <a:chExt cx="1090800" cy="1091880"/>
            </a:xfrm>
          </p:grpSpPr>
          <p:sp>
            <p:nvSpPr>
              <p:cNvPr id="474" name="Oval 72"/>
              <p:cNvSpPr/>
              <p:nvPr/>
            </p:nvSpPr>
            <p:spPr>
              <a:xfrm>
                <a:off x="571320" y="22381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5" name="Oval 73"/>
              <p:cNvSpPr/>
              <p:nvPr/>
            </p:nvSpPr>
            <p:spPr>
              <a:xfrm>
                <a:off x="585000" y="22442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6" name="Oval 74"/>
              <p:cNvSpPr/>
              <p:nvPr/>
            </p:nvSpPr>
            <p:spPr>
              <a:xfrm>
                <a:off x="596520" y="22546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477" name="Oval 75"/>
              <p:cNvSpPr/>
              <p:nvPr/>
            </p:nvSpPr>
            <p:spPr>
              <a:xfrm>
                <a:off x="655560" y="22824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Text Box 76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79" name="Text Box 77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0" name="Text Box 78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1" name="Text Box 79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2" name="Text Box 80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3" name="Text Box 81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4" name="Text Box 82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5" name="Text Box 83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1259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6" name="Text Box 84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7" name="Text Box 85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8" name="Text Box 86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89" name="Text Box 87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cxnSp>
        <p:nvCxnSpPr>
          <p:cNvPr id="490" name="AutoShape 88"/>
          <p:cNvCxnSpPr>
            <a:stCxn id="486" idx="3"/>
            <a:endCxn id="487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  <p:cxnSp>
        <p:nvCxnSpPr>
          <p:cNvPr id="491" name="AutoShape 89"/>
          <p:cNvCxnSpPr>
            <a:stCxn id="487" idx="3"/>
            <a:endCxn id="488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  <p:cxnSp>
        <p:nvCxnSpPr>
          <p:cNvPr id="492" name="AutoShape 90"/>
          <p:cNvCxnSpPr>
            <a:stCxn id="488" idx="3"/>
            <a:endCxn id="489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0d12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3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c606d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5" name="AutoShape 4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555"/>
              </a:gs>
              <a:gs pos="100000">
                <a:srgbClr val="6fb7b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6" name="AutoShape 5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74362"/>
              </a:gs>
              <a:gs pos="100000">
                <a:srgbClr val="3191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7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4362"/>
              </a:gs>
              <a:gs pos="100000">
                <a:srgbClr val="3191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8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555"/>
              </a:gs>
              <a:gs pos="100000">
                <a:srgbClr val="6fb7b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606d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03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04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1111680" y="1553400"/>
            <a:ext cx="6436800" cy="1388160"/>
            <a:chOff x="1111680" y="1553400"/>
            <a:chExt cx="6436800" cy="1388160"/>
          </a:xfrm>
        </p:grpSpPr>
        <p:sp>
          <p:nvSpPr>
            <p:cNvPr id="506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3355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508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09" name="Rectangle 11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0" name="Oval 12"/>
              <p:cNvSpPr/>
              <p:nvPr/>
            </p:nvSpPr>
            <p:spPr>
              <a:xfrm>
                <a:off x="307728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1" name="Oval 13"/>
              <p:cNvSpPr/>
              <p:nvPr/>
            </p:nvSpPr>
            <p:spPr>
              <a:xfrm>
                <a:off x="315468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12" name="Rectangle 14"/>
            <p:cNvSpPr/>
            <p:nvPr/>
          </p:nvSpPr>
          <p:spPr>
            <a:xfrm rot="3418800">
              <a:off x="3040560" y="1712160"/>
              <a:ext cx="924480" cy="10054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13" name="Group 15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514" name="Oval 16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5" name="Rectangle 17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6" name="Oval 18"/>
              <p:cNvSpPr/>
              <p:nvPr/>
            </p:nvSpPr>
            <p:spPr>
              <a:xfrm>
                <a:off x="4798440" y="195264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17" name="Oval 19"/>
              <p:cNvSpPr/>
              <p:nvPr/>
            </p:nvSpPr>
            <p:spPr>
              <a:xfrm>
                <a:off x="4873680" y="199368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18" name="Rectangle 20"/>
            <p:cNvSpPr/>
            <p:nvPr/>
          </p:nvSpPr>
          <p:spPr>
            <a:xfrm rot="3418800">
              <a:off x="4690440" y="1712160"/>
              <a:ext cx="924480" cy="1005120"/>
            </a:xfrm>
            <a:prstGeom prst="rect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3355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grpSp>
          <p:nvGrpSpPr>
            <p:cNvPr id="519" name="Group 21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520" name="Oval 22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21" name="Rectangle 23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22" name="Oval 24"/>
              <p:cNvSpPr/>
              <p:nvPr/>
            </p:nvSpPr>
            <p:spPr>
              <a:xfrm>
                <a:off x="6762600" y="195264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523" name="Oval 25"/>
              <p:cNvSpPr/>
              <p:nvPr/>
            </p:nvSpPr>
            <p:spPr>
              <a:xfrm>
                <a:off x="6861240" y="199368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524" name="Rectangle 26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c606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525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7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8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29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30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31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32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654120" y="60958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fb7b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fb7b7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0d1259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85800" y="162396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d1259"/>
                      </a:solidFill>
                    </a:lnR>
                    <a:lnT>
                      <a:noFill/>
                    </a:lnT>
                    <a:lnB w="5760">
                      <a:solidFill>
                        <a:srgbClr val="0d12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d1259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ee6f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d12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d1259"/>
                      </a:solidFill>
                    </a:lnL>
                    <a:lnR w="5760">
                      <a:solidFill>
                        <a:srgbClr val="0d1259"/>
                      </a:solidFill>
                    </a:lnR>
                    <a:lnT w="5760">
                      <a:solidFill>
                        <a:srgbClr val="0d1259"/>
                      </a:solidFill>
                    </a:lnT>
                    <a:lnB w="5760">
                      <a:solidFill>
                        <a:srgbClr val="0d125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22"/>
          <p:cNvGrpSpPr/>
          <p:nvPr/>
        </p:nvGrpSpPr>
        <p:grpSpPr>
          <a:xfrm>
            <a:off x="1020960" y="1302840"/>
            <a:ext cx="6729120" cy="4675320"/>
            <a:chOff x="1020960" y="1302840"/>
            <a:chExt cx="6729120" cy="4675320"/>
          </a:xfrm>
        </p:grpSpPr>
        <p:sp>
          <p:nvSpPr>
            <p:cNvPr id="538" name="Oval 3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39" name="Oval 4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1" name="Arc 6"/>
            <p:cNvSpPr/>
            <p:nvPr/>
          </p:nvSpPr>
          <p:spPr>
            <a:xfrm rot="20601600">
              <a:off x="4036680" y="211572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2" name="Arc 7"/>
            <p:cNvSpPr/>
            <p:nvPr/>
          </p:nvSpPr>
          <p:spPr>
            <a:xfrm flipH="1" rot="20602200">
              <a:off x="1442880" y="3428640"/>
              <a:ext cx="2876400" cy="1630080"/>
            </a:xfrm>
            <a:custGeom>
              <a:avLst/>
              <a:gdLst>
                <a:gd name="textAreaLeft" fmla="*/ 360 w 2876400"/>
                <a:gd name="textAreaRight" fmla="*/ 2877120 w 287640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3" name="Arc 8"/>
            <p:cNvSpPr/>
            <p:nvPr/>
          </p:nvSpPr>
          <p:spPr>
            <a:xfrm rot="20601600">
              <a:off x="3281400" y="184428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4" name="Arc 9"/>
            <p:cNvSpPr/>
            <p:nvPr/>
          </p:nvSpPr>
          <p:spPr>
            <a:xfrm flipH="1" rot="20602200">
              <a:off x="1242720" y="249660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 rot="20601600">
              <a:off x="284976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6" name="Text Box 11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7" name="Text Box 12"/>
            <p:cNvSpPr/>
            <p:nvPr/>
          </p:nvSpPr>
          <p:spPr>
            <a:xfrm>
              <a:off x="407016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8" name="Text Box 13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49" name="Freeform 14"/>
            <p:cNvSpPr/>
            <p:nvPr/>
          </p:nvSpPr>
          <p:spPr>
            <a:xfrm>
              <a:off x="6172200" y="3051000"/>
              <a:ext cx="1295640" cy="1711440"/>
            </a:xfrm>
            <a:custGeom>
              <a:avLst/>
              <a:gdLst>
                <a:gd name="textAreaLeft" fmla="*/ 0 w 1295640"/>
                <a:gd name="textAreaRight" fmla="*/ 1296000 w 129564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0" name="Arc 15"/>
            <p:cNvSpPr/>
            <p:nvPr/>
          </p:nvSpPr>
          <p:spPr>
            <a:xfrm rot="20539200">
              <a:off x="4570200" y="3057120"/>
              <a:ext cx="2984400" cy="1346040"/>
            </a:xfrm>
            <a:custGeom>
              <a:avLst/>
              <a:gdLst>
                <a:gd name="textAreaLeft" fmla="*/ 0 w 2984400"/>
                <a:gd name="textAreaRight" fmla="*/ 2984760 w 2984400"/>
                <a:gd name="textAreaTop" fmla="*/ 0 h 1346040"/>
                <a:gd name="textAreaBottom" fmla="*/ 1346400 h 134604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1" name="Freeform 16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2" name="Text Box 17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4" name="Text Box 19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5" name="Oval 20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56" name="Freeform 21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4aa2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561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62" name="Oval 7"/>
            <p:cNvSpPr/>
            <p:nvPr/>
          </p:nvSpPr>
          <p:spPr>
            <a:xfrm>
              <a:off x="69339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6781680" y="448164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c802a"/>
                </a:gs>
                <a:gs pos="100000">
                  <a:srgbClr val="dcca42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68720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09330"/>
                </a:gs>
                <a:gs pos="100000">
                  <a:srgbClr val="dcca4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66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12"/>
            <p:cNvSpPr/>
            <p:nvPr/>
          </p:nvSpPr>
          <p:spPr>
            <a:xfrm>
              <a:off x="713124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68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9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0" name="Oval 15"/>
            <p:cNvSpPr/>
            <p:nvPr/>
          </p:nvSpPr>
          <p:spPr>
            <a:xfrm>
              <a:off x="4800600" y="4481640"/>
              <a:ext cx="154476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1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f5c86"/>
                </a:gs>
                <a:gs pos="100000">
                  <a:srgbClr val="3191d3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2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46999"/>
                </a:gs>
                <a:gs pos="100000">
                  <a:srgbClr val="3191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73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19"/>
            <p:cNvSpPr/>
            <p:nvPr/>
          </p:nvSpPr>
          <p:spPr>
            <a:xfrm>
              <a:off x="515016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75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6" name="Oval 21"/>
            <p:cNvSpPr/>
            <p:nvPr/>
          </p:nvSpPr>
          <p:spPr>
            <a:xfrm>
              <a:off x="297144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7" name="Oval 22"/>
            <p:cNvSpPr/>
            <p:nvPr/>
          </p:nvSpPr>
          <p:spPr>
            <a:xfrm>
              <a:off x="2819520" y="448164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8" name="Oval 23"/>
            <p:cNvSpPr/>
            <p:nvPr/>
          </p:nvSpPr>
          <p:spPr>
            <a:xfrm>
              <a:off x="2852640" y="451800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477474"/>
                </a:gs>
                <a:gs pos="100000">
                  <a:srgbClr val="6fb7b7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79" name="Oval 24"/>
            <p:cNvSpPr/>
            <p:nvPr/>
          </p:nvSpPr>
          <p:spPr>
            <a:xfrm>
              <a:off x="290952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518585"/>
                </a:gs>
                <a:gs pos="100000">
                  <a:srgbClr val="6fb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80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26"/>
            <p:cNvSpPr/>
            <p:nvPr/>
          </p:nvSpPr>
          <p:spPr>
            <a:xfrm>
              <a:off x="316872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582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83" name="Oval 28"/>
            <p:cNvSpPr/>
            <p:nvPr/>
          </p:nvSpPr>
          <p:spPr>
            <a:xfrm>
              <a:off x="9903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4" name="Oval 29"/>
            <p:cNvSpPr/>
            <p:nvPr/>
          </p:nvSpPr>
          <p:spPr>
            <a:xfrm>
              <a:off x="880920" y="448164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5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80b39"/>
                </a:gs>
                <a:gs pos="100000">
                  <a:srgbClr val="0d1259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9712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90d41"/>
                </a:gs>
                <a:gs pos="100000">
                  <a:srgbClr val="0d125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pic>
          <p:nvPicPr>
            <p:cNvPr id="587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33"/>
            <p:cNvSpPr/>
            <p:nvPr/>
          </p:nvSpPr>
          <p:spPr>
            <a:xfrm>
              <a:off x="123048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1828800" y="1752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1873080" y="179208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b7b7"/>
                </a:gs>
                <a:gs pos="100000">
                  <a:srgbClr val="335555"/>
                </a:gs>
              </a:gsLst>
              <a:lin ang="81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1828800" y="2666880"/>
            <a:ext cx="762120" cy="665280"/>
            <a:chOff x="1828800" y="2666880"/>
            <a:chExt cx="762120" cy="665280"/>
          </a:xfrm>
        </p:grpSpPr>
        <p:sp>
          <p:nvSpPr>
            <p:cNvPr id="106" name="AutoShape 8"/>
            <p:cNvSpPr/>
            <p:nvPr/>
          </p:nvSpPr>
          <p:spPr>
            <a:xfrm>
              <a:off x="1834920" y="2678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>
              <a:off x="1828800" y="2666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873080" y="270648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91d3"/>
                </a:gs>
                <a:gs pos="100000">
                  <a:srgbClr val="174362"/>
                </a:gs>
              </a:gsLst>
              <a:lin ang="81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09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67012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67012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>
              <a:off x="1828800" y="3559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18" name="AutoShape 20"/>
            <p:cNvSpPr/>
            <p:nvPr/>
          </p:nvSpPr>
          <p:spPr>
            <a:xfrm>
              <a:off x="1873080" y="359892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6fb7b7"/>
                </a:gs>
                <a:gs pos="100000">
                  <a:srgbClr val="335555"/>
                </a:gs>
              </a:gsLst>
              <a:lin ang="81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1828800" y="4473720"/>
            <a:ext cx="762120" cy="664920"/>
            <a:chOff x="1828800" y="4473720"/>
            <a:chExt cx="762120" cy="664920"/>
          </a:xfrm>
        </p:grpSpPr>
        <p:sp>
          <p:nvSpPr>
            <p:cNvPr id="120" name="AutoShape 22"/>
            <p:cNvSpPr/>
            <p:nvPr/>
          </p:nvSpPr>
          <p:spPr>
            <a:xfrm>
              <a:off x="1834920" y="44848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21" name="AutoShape 23"/>
            <p:cNvSpPr/>
            <p:nvPr/>
          </p:nvSpPr>
          <p:spPr>
            <a:xfrm>
              <a:off x="1828800" y="44737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22" name="AutoShape 24"/>
            <p:cNvSpPr/>
            <p:nvPr/>
          </p:nvSpPr>
          <p:spPr>
            <a:xfrm>
              <a:off x="1873080" y="451332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3191d3"/>
                </a:gs>
                <a:gs pos="100000">
                  <a:srgbClr val="174362"/>
                </a:gs>
              </a:gsLst>
              <a:lin ang="8100000"/>
            </a:gradFill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23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267012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267012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fb7b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125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4A7-387D-4C7B-9106-2C3AE8BFE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3"/>
          <p:cNvSpPr txBox="1"/>
          <p:nvPr/>
        </p:nvSpPr>
        <p:spPr>
          <a:xfrm>
            <a:off x="2176560" y="3483000"/>
            <a:ext cx="472428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d1259"/>
                    </a:gs>
                    <a:gs pos="100000">
                      <a:srgbClr val="3191d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d1259"/>
                  </a:gs>
                  <a:gs pos="100000">
                    <a:srgbClr val="3191d3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523880" y="51814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www.themegallery.com</a:t>
            </a:r>
            <a:endParaRPr b="0" lang="en-US" sz="20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914040" y="2841840"/>
            <a:ext cx="7304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1259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3191d3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0e4aa2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e4aa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dcf1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dcf1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9" name="Group 12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40" name="Oval 13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65959"/>
                  </a:gs>
                  <a:gs pos="100000">
                    <a:srgbClr val="6fb7b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fb7b7"/>
                  </a:gs>
                  <a:gs pos="100000">
                    <a:srgbClr val="bfdf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d1259"/>
                  </a:solidFill>
                  <a:latin typeface="Arial"/>
                </a:endParaRPr>
              </a:p>
            </p:txBody>
          </p:sp>
        </p:grpSp>
        <p:sp>
          <p:nvSpPr>
            <p:cNvPr id="142" name="Oval 15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91d3"/>
                </a:gs>
                <a:gs pos="100000">
                  <a:srgbClr val="1743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7d9f0"/>
                </a:gs>
                <a:gs pos="100000">
                  <a:srgbClr val="3191d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4" name="Oval 17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191d3">
                    <a:alpha val="48235"/>
                  </a:srgbClr>
                </a:gs>
                <a:gs pos="100000">
                  <a:srgbClr val="2773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45" name="Oval 18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191d3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146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7150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0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cecec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2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fb7b7"/>
                </a:gs>
                <a:gs pos="100000">
                  <a:srgbClr val="26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191d3"/>
                </a:gs>
                <a:gs pos="100000">
                  <a:srgbClr val="0f2d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e4a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c461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2" name="Text Box 16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d1259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cxnSp>
          <p:nvCxnSpPr>
            <p:cNvPr id="168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d1259"/>
              </a:solidFill>
              <a:miter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657600" y="38098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3657600" y="32767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657600" y="27432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198680" y="2973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98680" y="3506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98680" y="4040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2971800" y="25146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99072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1066680" y="22096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172200" y="19810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6248520" y="22096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5489640" y="25146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2895480" y="13716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6fb7b7"/>
              </a:gs>
              <a:gs pos="50000">
                <a:srgbClr val="335555"/>
              </a:gs>
              <a:gs pos="100000">
                <a:srgbClr val="6fb7b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3624120" y="21337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4174920" y="1604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2971800" y="51055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4bd41"/>
              </a:gs>
              <a:gs pos="50000">
                <a:srgbClr val="1f571e"/>
              </a:gs>
              <a:gs pos="100000">
                <a:srgbClr val="44bd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4174920" y="5338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188" name="AutoShape 20"/>
          <p:cNvSpPr/>
          <p:nvPr/>
        </p:nvSpPr>
        <p:spPr>
          <a:xfrm>
            <a:off x="3602160" y="44956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2894760" y="1752480"/>
            <a:ext cx="3197880" cy="2890800"/>
            <a:chOff x="2894760" y="1752480"/>
            <a:chExt cx="3197880" cy="2890800"/>
          </a:xfrm>
        </p:grpSpPr>
        <p:sp>
          <p:nvSpPr>
            <p:cNvPr id="191" name="AutoShape 4"/>
            <p:cNvSpPr/>
            <p:nvPr/>
          </p:nvSpPr>
          <p:spPr>
            <a:xfrm flipH="1" rot="16200000">
              <a:off x="2812680" y="28659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0b8db"/>
                </a:gs>
                <a:gs pos="100000">
                  <a:srgbClr val="0e4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 flipH="1" rot="5400000">
              <a:off x="5683680" y="28116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0b8db"/>
                </a:gs>
                <a:gs pos="100000">
                  <a:srgbClr val="0e4aa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 flipH="1" rot="10800000">
              <a:off x="424764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0b8db"/>
                </a:gs>
                <a:gs pos="100000">
                  <a:srgbClr val="0e4a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3220920" y="1752480"/>
              <a:ext cx="25653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3367080" y="1896840"/>
              <a:ext cx="227124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3500640" y="203184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6fb7b7"/>
                </a:gs>
                <a:gs pos="50000">
                  <a:srgbClr val="ffffff"/>
                </a:gs>
                <a:gs pos="100000">
                  <a:srgbClr val="6fb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3500640" y="203184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3632760" y="21636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6fb7b7"/>
                </a:gs>
                <a:gs pos="50000">
                  <a:srgbClr val="3c6363"/>
                </a:gs>
                <a:gs pos="100000">
                  <a:srgbClr val="6fb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199" name="Oval 12"/>
            <p:cNvSpPr/>
            <p:nvPr/>
          </p:nvSpPr>
          <p:spPr>
            <a:xfrm>
              <a:off x="3632760" y="21636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  <p:sp>
        <p:nvSpPr>
          <p:cNvPr id="200" name="AutoShape 13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ca42"/>
              </a:gs>
              <a:gs pos="50000">
                <a:srgbClr val="665d1f"/>
              </a:gs>
              <a:gs pos="100000">
                <a:srgbClr val="dcca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ca42"/>
              </a:gs>
              <a:gs pos="50000">
                <a:srgbClr val="665d1f"/>
              </a:gs>
              <a:gs pos="100000">
                <a:srgbClr val="dcca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ca42"/>
              </a:gs>
              <a:gs pos="50000">
                <a:srgbClr val="665d1f"/>
              </a:gs>
              <a:gs pos="100000">
                <a:srgbClr val="dcca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191d3"/>
              </a:gs>
              <a:gs pos="50000">
                <a:srgbClr val="174362"/>
              </a:gs>
              <a:gs pos="100000">
                <a:srgbClr val="3191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67676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0d1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1259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6" name="Freeform 4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>
                <a:gd name="textAreaLeft" fmla="*/ 0 w 3560040"/>
                <a:gd name="textAreaRight" fmla="*/ 3560400 w 356004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975600"/>
                <a:gd name="textAreaBottom" fmla="*/ 975960 h 97560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>
                <a:gd name="textAreaLeft" fmla="*/ 0 w 3827520"/>
                <a:gd name="textAreaRight" fmla="*/ 3827880 w 38275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>
                <a:gd name="textAreaLeft" fmla="*/ 0 w 614880"/>
                <a:gd name="textAreaRight" fmla="*/ 615240 w 6148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>
                <a:gd name="textAreaLeft" fmla="*/ 0 w 4346640"/>
                <a:gd name="textAreaRight" fmla="*/ 4347000 w 43466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d12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29" name="Line 17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d12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>
                <a:gd name="textAreaLeft" fmla="*/ 0 w 1957320"/>
                <a:gd name="textAreaRight" fmla="*/ 1957680 w 1957320"/>
                <a:gd name="textAreaTop" fmla="*/ 0 h 3156480"/>
                <a:gd name="textAreaBottom" fmla="*/ 3156840 h 31564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>
                <a:gd name="textAreaLeft" fmla="*/ 0 w 4083480"/>
                <a:gd name="textAreaRight" fmla="*/ 4083840 w 40834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7" name="Rectangle 25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40" name="Text Box 28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  <p:sp>
          <p:nvSpPr>
            <p:cNvPr id="241" name="Text Box 29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d1259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d12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7440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0" y="1600200"/>
            <a:ext cx="6095880" cy="4495680"/>
          </a:xfrm>
          <a:prstGeom prst="rightArrow">
            <a:avLst>
              <a:gd name="adj1" fmla="val 79306"/>
              <a:gd name="adj2" fmla="val 3358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c606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d1259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586728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1259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d12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 http://www.eeppt.com</dc:creator>
  <dc:description/>
  <cp:keywords>幻灯片 http:/www.eeppt.com</cp:keywords>
  <dc:language>en-US</dc:language>
  <cp:lastModifiedBy/>
  <dcterms:modified xsi:type="dcterms:W3CDTF">2015-08-12T03:47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