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1F58-B282-4DDE-9710-8DBFC81A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CAC9-BDCA-4E4D-ADCD-2BF17939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2917-D6B3-4367-9C75-A90B9FCD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2158-FBB7-435B-83B3-56E570FBF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1068-BB9A-43EF-9044-82B17D44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508C-28D7-4783-90DB-B485562D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3B5C-C226-48AF-8096-DBF8E82F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3133-EF08-4BE8-BAB7-F76DFEAE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7A25-09A2-4ED9-ACA6-BC3F375E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1C1C-07C1-4F8F-8B66-C7FC22DA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D78F-536B-439E-9BAE-88A64C74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EA29-740B-4B6B-9B3A-CBFADBF3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E62012-017D-435A-8734-9102C4EAFB7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幻灯片10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幻灯片11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幻灯片12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幻灯片2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幻灯片3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幻灯片4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幻灯片5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幻灯片6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幻灯片7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228600" y="590364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免费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幻灯片8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幻灯片9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  <Words>21</Words>
  <Paragraphs>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13:16:29Z</dcterms:created>
  <dc:creator>admin</dc:creator>
  <dc:description/>
  <dc:language>en-US</dc:language>
  <cp:lastModifiedBy>a</cp:lastModifiedBy>
  <dcterms:modified xsi:type="dcterms:W3CDTF">2015-07-25T08:18:10Z</dcterms:modified>
  <cp:revision>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2</vt:r8>
  </property>
</Properties>
</file>