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E696-9A96-4D45-942C-E2EB81CF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25A-509A-45C4-9F9D-8859244E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49B-981D-4E79-9392-04B5DEF2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D569-BBC1-4AB8-9406-D60EF6F7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BA3C-51F0-49BF-8E79-D6D84346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6AD-3F06-47F7-B8F0-A101154D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DE6-3491-4521-A4AD-2CF7E5E7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3474-4802-4FFF-A9A8-45C728FE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6EC-2599-4B9A-8C45-53564B08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557-3AB9-46B2-9ABD-3AD7B097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97B-E464-40C3-AE3A-C2278990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FBFE-6D9B-4B33-B432-D213367F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4AA7-E2BA-4B5F-A71C-69A05BB68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7456271944bfda7a34fa41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2086200" y="11430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荷花与舟古典中国风</a:t>
            </a: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33"/>
                </a:solidFill>
                <a:latin typeface="Arial"/>
              </a:rPr>
              <a:t>单击此添加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29700"/>
                </a:solidFill>
                <a:latin typeface="Arial"/>
              </a:rPr>
              <a:t>单击此添加副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838080" y="64008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1E8-298F-4CB2-AB5B-91EF8700FD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3:48:06Z</dcterms:created>
  <dc:creator>幻灯片 http://www.eeppt.com</dc:creator>
  <dc:description/>
  <cp:keywords>幻灯片 http:/www.eeppt.com</cp:keywords>
  <dc:language>en-US</dc:language>
  <cp:lastModifiedBy/>
  <dcterms:modified xsi:type="dcterms:W3CDTF">2015-08-12T03:48:0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