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hdphoto1.wdp" ContentType="image/vnd.ms-photo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gradFill>
              <a:gsLst>
                <a:gs pos="0">
                  <a:srgbClr val="9c2f2c"/>
                </a:gs>
                <a:gs pos="100000">
                  <a:srgbClr val="cb3d3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7a2622"/>
                  </a:gs>
                  <a:gs pos="100000">
                    <a:srgbClr val="9f312d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912c29"/>
                  </a:gs>
                  <a:gs pos="100000">
                    <a:srgbClr val="bd3835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2"/>
            <c:spPr>
              <a:gradFill>
                <a:gsLst>
                  <a:gs pos="0">
                    <a:srgbClr val="9f5654"/>
                  </a:gs>
                  <a:gs pos="100000">
                    <a:srgbClr val="ce6f6e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3"/>
            <c:spPr>
              <a:gradFill>
                <a:gsLst>
                  <a:gs pos="0">
                    <a:srgbClr val="a88383"/>
                  </a:gs>
                  <a:gs pos="100000">
                    <a:srgbClr val="dca9a9"/>
                  </a:gs>
                </a:gsLst>
                <a:lin ang="16200000"/>
              </a:gra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gradFill>
              <a:gsLst>
                <a:gs pos="0">
                  <a:srgbClr val="812724"/>
                </a:gs>
                <a:gs pos="100000">
                  <a:srgbClr val="a8322f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gradFill>
              <a:gsLst>
                <a:gs pos="0">
                  <a:srgbClr val="9c2f2c"/>
                </a:gs>
                <a:gs pos="100000">
                  <a:srgbClr val="cb3d39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gradFill>
              <a:gsLst>
                <a:gs pos="0">
                  <a:srgbClr val="a67979"/>
                </a:gs>
                <a:gs pos="100000">
                  <a:srgbClr val="d89d9c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100"/>
        <c:axId val="5510378"/>
        <c:axId val="10033776"/>
      </c:barChart>
      <c:catAx>
        <c:axId val="55103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10033776"/>
        <c:crosses val="autoZero"/>
        <c:auto val="1"/>
        <c:lblAlgn val="ctr"/>
        <c:lblOffset val="100"/>
        <c:noMultiLvlLbl val="0"/>
      </c:catAx>
      <c:valAx>
        <c:axId val="1003377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alibri"/>
              </a:defRPr>
            </a:pPr>
          </a:p>
        </c:txPr>
        <c:crossAx val="5510378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ffffff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C76-11B3-48B2-A91B-57041A69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F71-97E5-4395-994C-B368CD99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3C1-A2EC-4D35-8F8B-C7F0C861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083-7312-4EF2-BF7B-78AAC1A1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7BBC-6421-4896-904E-BDCFE3DF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CD80-4C01-41A6-AD5C-C61E4F42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B9EE-1475-459E-80E4-4A3C284D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7B9E-2514-45EA-B9BB-780330D2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E65C-6091-4DC9-A817-894E3512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BA88-4B41-4925-8C74-C17666F6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B2E0-3BE3-442E-9EC1-CCC0402E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DEA-5463-4858-9232-161FBB38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CC0B-0A4D-4E79-8468-57F394D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A615-4C6E-4B49-A1ED-217CA57E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A400-0959-4BF4-9704-7272D268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C6B8-E5D5-497D-A80E-AEDC9CFA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4776-2275-4B5F-9D1C-304300F8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4EC-E539-43D9-823B-E940AC4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0BC-64E8-49ED-BB1F-DBF408AE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DC1-F718-477C-A124-971CE686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8F6-0D5F-4C1C-87A8-05D7C7D7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76B-6198-4315-963E-1734E2A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1CA-1E1A-4DE6-B8A9-E4812133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513-CA8B-4517-B4DA-1A98B79B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6B05A4-6689-4E0E-921B-70F4F2912E6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E22B34-927C-4752-A8D1-45F289F999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chart" Target="../charts/chart2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图片 7"/>
          <p:cNvSpPr/>
          <p:nvPr/>
        </p:nvSpPr>
        <p:spPr>
          <a:xfrm>
            <a:off x="2140200" y="2548440"/>
            <a:ext cx="4757760" cy="17236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3276000" y="2705760"/>
            <a:ext cx="3240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主题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6762600" y="5733360"/>
            <a:ext cx="194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By Din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图片 6" descr=""/>
          <p:cNvPicPr/>
          <p:nvPr/>
        </p:nvPicPr>
        <p:blipFill>
          <a:blip r:embed="rId2"/>
          <a:stretch/>
        </p:blipFill>
        <p:spPr>
          <a:xfrm>
            <a:off x="-2962440" y="493920"/>
            <a:ext cx="6912360" cy="4819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"/>
          <p:cNvPicPr/>
          <p:nvPr/>
        </p:nvPicPr>
        <p:blipFill>
          <a:blip r:embed="rId3"/>
          <a:stretch/>
        </p:blipFill>
        <p:spPr>
          <a:xfrm flipH="1">
            <a:off x="5141160" y="801720"/>
            <a:ext cx="6030000" cy="42044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" descr=""/>
          <p:cNvPicPr/>
          <p:nvPr/>
        </p:nvPicPr>
        <p:blipFill>
          <a:blip r:embed="rId4"/>
          <a:stretch/>
        </p:blipFill>
        <p:spPr>
          <a:xfrm>
            <a:off x="218520" y="1597320"/>
            <a:ext cx="4353120" cy="30351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0" descr="未命名-3.jpg"/>
          <p:cNvPicPr/>
          <p:nvPr/>
        </p:nvPicPr>
        <p:blipFill>
          <a:blip r:embed="rId5"/>
          <a:srcRect l="20645" t="17839" r="68549" b="67320"/>
          <a:stretch/>
        </p:blipFill>
        <p:spPr>
          <a:xfrm rot="10800000">
            <a:off x="8156160" y="585684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" descr="未命名-3.jpg"/>
          <p:cNvPicPr/>
          <p:nvPr/>
        </p:nvPicPr>
        <p:blipFill>
          <a:blip r:embed="rId6"/>
          <a:srcRect l="20645" t="17839" r="68549" b="67320"/>
          <a:stretch/>
        </p:blipFill>
        <p:spPr>
          <a:xfrm rot="5400000">
            <a:off x="8170920" y="-1476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2" descr="未命名-3.jpg"/>
          <p:cNvPicPr/>
          <p:nvPr/>
        </p:nvPicPr>
        <p:blipFill>
          <a:blip r:embed="rId7"/>
          <a:srcRect l="20645" t="17839" r="68549" b="67320"/>
          <a:stretch/>
        </p:blipFill>
        <p:spPr>
          <a:xfrm>
            <a:off x="0" y="-1476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3" descr="未命名-3.jpg"/>
          <p:cNvPicPr/>
          <p:nvPr/>
        </p:nvPicPr>
        <p:blipFill>
          <a:blip r:embed="rId8"/>
          <a:srcRect l="20645" t="17839" r="68549" b="67320"/>
          <a:stretch/>
        </p:blipFill>
        <p:spPr>
          <a:xfrm rot="16200000">
            <a:off x="-14400" y="5871600"/>
            <a:ext cx="987840" cy="101736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2171160" y="183024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黑红中国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图片 1"/>
          <p:cNvSpPr/>
          <p:nvPr/>
        </p:nvSpPr>
        <p:spPr>
          <a:xfrm>
            <a:off x="3285720" y="0"/>
            <a:ext cx="257220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3996000" y="1196640"/>
            <a:ext cx="115164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谢谢观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图片 3"/>
          <p:cNvSpPr/>
          <p:nvPr/>
        </p:nvSpPr>
        <p:spPr>
          <a:xfrm>
            <a:off x="1403640" y="740880"/>
            <a:ext cx="6499080" cy="54788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160360" y="2229120"/>
            <a:ext cx="387756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组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图片 7" descr="未命名-3.jpg"/>
          <p:cNvPicPr/>
          <p:nvPr/>
        </p:nvPicPr>
        <p:blipFill>
          <a:blip r:embed="rId2"/>
          <a:srcRect l="20645" t="17839" r="68549" b="67320"/>
          <a:stretch/>
        </p:blipFill>
        <p:spPr>
          <a:xfrm rot="10800000">
            <a:off x="8156160" y="585684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未命名-3.jpg"/>
          <p:cNvPicPr/>
          <p:nvPr/>
        </p:nvPicPr>
        <p:blipFill>
          <a:blip r:embed="rId3"/>
          <a:srcRect l="20645" t="17839" r="68549" b="67320"/>
          <a:stretch/>
        </p:blipFill>
        <p:spPr>
          <a:xfrm rot="5400000">
            <a:off x="8170920" y="-1476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" descr="未命名-3.jpg"/>
          <p:cNvPicPr/>
          <p:nvPr/>
        </p:nvPicPr>
        <p:blipFill>
          <a:blip r:embed="rId4"/>
          <a:srcRect l="20645" t="17839" r="68549" b="67320"/>
          <a:stretch/>
        </p:blipFill>
        <p:spPr>
          <a:xfrm>
            <a:off x="0" y="-1476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0" descr="未命名-3.jpg"/>
          <p:cNvPicPr/>
          <p:nvPr/>
        </p:nvPicPr>
        <p:blipFill>
          <a:blip r:embed="rId5"/>
          <a:srcRect l="20645" t="17839" r="68549" b="67320"/>
          <a:stretch/>
        </p:blipFill>
        <p:spPr>
          <a:xfrm rot="16200000">
            <a:off x="-14400" y="5871600"/>
            <a:ext cx="9878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4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图片 1"/>
          <p:cNvSpPr/>
          <p:nvPr/>
        </p:nvSpPr>
        <p:spPr>
          <a:xfrm>
            <a:off x="6989040" y="1196640"/>
            <a:ext cx="3126960" cy="4471920"/>
          </a:xfrm>
          <a:prstGeom prst="roundRect">
            <a:avLst>
              <a:gd name="adj" fmla="val 8594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GlowDiffused trans="65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235640" y="1196640"/>
            <a:ext cx="190800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目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录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00160" y="-68760"/>
            <a:ext cx="151164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壹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547640" y="728280"/>
            <a:ext cx="11516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贰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988000" y="1580040"/>
            <a:ext cx="11516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叁</a:t>
            </a: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60000" y="116640"/>
            <a:ext cx="1151640" cy="67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肆</a:t>
            </a: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##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直接连接符 2"/>
          <p:cNvCxnSpPr/>
          <p:nvPr/>
        </p:nvCxnSpPr>
        <p:spPr>
          <a:xfrm>
            <a:off x="1599480" y="1536120"/>
            <a:ext cx="360" cy="39610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7" name="直接连接符 11"/>
          <p:cNvCxnSpPr/>
          <p:nvPr/>
        </p:nvCxnSpPr>
        <p:spPr>
          <a:xfrm>
            <a:off x="2987640" y="2300400"/>
            <a:ext cx="360" cy="39610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8" name="直接连接符 12"/>
          <p:cNvCxnSpPr/>
          <p:nvPr/>
        </p:nvCxnSpPr>
        <p:spPr>
          <a:xfrm>
            <a:off x="4607640" y="911880"/>
            <a:ext cx="360" cy="52804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p:transition spd="slow">
    <p:pull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图片 6"/>
          <p:cNvSpPr/>
          <p:nvPr/>
        </p:nvSpPr>
        <p:spPr>
          <a:xfrm>
            <a:off x="6989040" y="1196640"/>
            <a:ext cx="3126960" cy="4471920"/>
          </a:xfrm>
          <a:prstGeom prst="roundRect">
            <a:avLst>
              <a:gd name="adj" fmla="val 8594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GlowDiffused trans="65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221600" y="1196640"/>
            <a:ext cx="190800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目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录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3640" y="-3240"/>
            <a:ext cx="1511640" cy="81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c00000"/>
                </a:solidFill>
                <a:latin typeface="方正字迹-童体毛笔字体"/>
                <a:ea typeface="方正字迹-童体毛笔字体"/>
              </a:rPr>
              <a:t>伍</a:t>
            </a: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圆角矩形 1"/>
          <p:cNvSpPr/>
          <p:nvPr/>
        </p:nvSpPr>
        <p:spPr>
          <a:xfrm>
            <a:off x="2195640" y="768600"/>
            <a:ext cx="4608000" cy="532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8a8a8">
                  <a:alpha val="2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931 2.22222E-006 L -4.44444E-006 2.22222E-006 E">
                                      <p:cBhvr>
                                        <p:cTn id="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图片 4"/>
          <p:cNvSpPr/>
          <p:nvPr/>
        </p:nvSpPr>
        <p:spPr>
          <a:xfrm>
            <a:off x="-1024200" y="1192680"/>
            <a:ext cx="3126960" cy="4471920"/>
          </a:xfrm>
          <a:prstGeom prst="roundRect">
            <a:avLst>
              <a:gd name="adj" fmla="val 8594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GlowDiffused trans="65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323640" y="1340640"/>
            <a:ext cx="115164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图片 6" descr="未命名-3.jpg"/>
          <p:cNvPicPr/>
          <p:nvPr/>
        </p:nvPicPr>
        <p:blipFill>
          <a:blip r:embed="rId2"/>
          <a:srcRect l="20645" t="17839" r="68549" b="67320"/>
          <a:stretch/>
        </p:blipFill>
        <p:spPr>
          <a:xfrm rot="10800000">
            <a:off x="7889760" y="528444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7" descr="未命名-3.jpg"/>
          <p:cNvPicPr/>
          <p:nvPr/>
        </p:nvPicPr>
        <p:blipFill>
          <a:blip r:embed="rId3"/>
          <a:srcRect l="20645" t="17839" r="68549" b="67320"/>
          <a:stretch/>
        </p:blipFill>
        <p:spPr>
          <a:xfrm rot="5400000">
            <a:off x="7889760" y="52776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8" descr="未命名-3.jpg"/>
          <p:cNvPicPr/>
          <p:nvPr/>
        </p:nvPicPr>
        <p:blipFill>
          <a:blip r:embed="rId4"/>
          <a:srcRect l="20645" t="17839" r="68549" b="67320"/>
          <a:stretch/>
        </p:blipFill>
        <p:spPr>
          <a:xfrm>
            <a:off x="2411640" y="50076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9" descr="未命名-3.jpg"/>
          <p:cNvPicPr/>
          <p:nvPr/>
        </p:nvPicPr>
        <p:blipFill>
          <a:blip r:embed="rId5"/>
          <a:srcRect l="20645" t="17839" r="68549" b="67320"/>
          <a:stretch/>
        </p:blipFill>
        <p:spPr>
          <a:xfrm rot="16200000">
            <a:off x="2426400" y="5299200"/>
            <a:ext cx="987840" cy="1017360"/>
          </a:xfrm>
          <a:prstGeom prst="rect">
            <a:avLst/>
          </a:prstGeom>
          <a:ln w="0">
            <a:noFill/>
          </a:ln>
        </p:spPr>
      </p:pic>
      <p:sp>
        <p:nvSpPr>
          <p:cNvPr id="119" name="矩形 10"/>
          <p:cNvSpPr/>
          <p:nvPr/>
        </p:nvSpPr>
        <p:spPr>
          <a:xfrm>
            <a:off x="2411640" y="531720"/>
            <a:ext cx="6480360" cy="5760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8a8a8">
                  <a:alpha val="2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0.35301 L 1.66667E-006 -7.40741E-007 E">
                                      <p:cBhvr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4 0.34884 L -2.77778E-007 2.59259E-006 E">
                                      <p:cBhvr>
                                        <p:cTn id="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4 -0.34468 L -2.77778E-007 4.07407E-006 E">
                                      <p:cBhvr>
                                        <p:cTn id="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-0.34676 L -4.44444E-006 7.40741E-007 E">
                                      <p:cBhvr>
                                        <p:cTn id="9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图表 1"/>
          <p:cNvGraphicFramePr/>
          <p:nvPr/>
        </p:nvGraphicFramePr>
        <p:xfrm>
          <a:off x="4068000" y="0"/>
          <a:ext cx="609552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1" name="矩形 6"/>
          <p:cNvSpPr/>
          <p:nvPr/>
        </p:nvSpPr>
        <p:spPr>
          <a:xfrm>
            <a:off x="2411640" y="4077000"/>
            <a:ext cx="6480360" cy="22150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8a8a8">
                  <a:alpha val="2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2" name="图片 7" descr="未命名-3.jpg"/>
          <p:cNvPicPr/>
          <p:nvPr/>
        </p:nvPicPr>
        <p:blipFill>
          <a:blip r:embed="rId2"/>
          <a:srcRect l="20645" t="17839" r="68549" b="67320"/>
          <a:stretch/>
        </p:blipFill>
        <p:spPr>
          <a:xfrm rot="10800000">
            <a:off x="7889760" y="528444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8" descr="未命名-3.jpg"/>
          <p:cNvPicPr/>
          <p:nvPr/>
        </p:nvPicPr>
        <p:blipFill>
          <a:blip r:embed="rId3"/>
          <a:srcRect l="20645" t="17839" r="68549" b="67320"/>
          <a:stretch/>
        </p:blipFill>
        <p:spPr>
          <a:xfrm rot="5400000">
            <a:off x="7904520" y="406224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" descr="未命名-3.jpg"/>
          <p:cNvPicPr/>
          <p:nvPr/>
        </p:nvPicPr>
        <p:blipFill>
          <a:blip r:embed="rId4"/>
          <a:srcRect l="20645" t="17839" r="68549" b="67320"/>
          <a:stretch/>
        </p:blipFill>
        <p:spPr>
          <a:xfrm>
            <a:off x="2411640" y="407700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0" descr="未命名-3.jpg"/>
          <p:cNvPicPr/>
          <p:nvPr/>
        </p:nvPicPr>
        <p:blipFill>
          <a:blip r:embed="rId5"/>
          <a:srcRect l="20645" t="17839" r="68549" b="67320"/>
          <a:stretch/>
        </p:blipFill>
        <p:spPr>
          <a:xfrm rot="16200000">
            <a:off x="2426400" y="5299200"/>
            <a:ext cx="987840" cy="1017360"/>
          </a:xfrm>
          <a:prstGeom prst="rect">
            <a:avLst/>
          </a:prstGeom>
          <a:ln w="0">
            <a:noFill/>
          </a:ln>
        </p:spPr>
      </p:pic>
      <p:sp>
        <p:nvSpPr>
          <p:cNvPr id="126" name="图片 5"/>
          <p:cNvSpPr/>
          <p:nvPr/>
        </p:nvSpPr>
        <p:spPr>
          <a:xfrm>
            <a:off x="-1024200" y="1192680"/>
            <a:ext cx="3126960" cy="4471920"/>
          </a:xfrm>
          <a:prstGeom prst="roundRect">
            <a:avLst>
              <a:gd name="adj" fmla="val 8594"/>
            </a:avLst>
          </a:prstGeom>
          <a:blipFill rotWithShape="0">
            <a:blip r:embed="rId6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GlowDiffused trans="65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395640" y="1052640"/>
            <a:ext cx="115164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3399840" y="48614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111 0.07285 L 1.66667E-006 -9.25069E-008 E">
                                      <p:cBhvr>
                                        <p:cTn id="1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177 0.07493 L -2.77778E-006 1.3136E-006 E">
                                      <p:cBhvr>
                                        <p:cTn id="12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21 -0.10314 L -2.77778E-007 -4.54209E-006 E">
                                      <p:cBhvr>
                                        <p:cTn id="1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10523 L -4.44444E-006 4.0518E-006 E">
                                      <p:cBhvr>
                                        <p:cTn id="1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图片 5"/>
          <p:cNvSpPr/>
          <p:nvPr/>
        </p:nvSpPr>
        <p:spPr>
          <a:xfrm>
            <a:off x="-1024200" y="1192680"/>
            <a:ext cx="3126960" cy="4471920"/>
          </a:xfrm>
          <a:prstGeom prst="roundRect">
            <a:avLst>
              <a:gd name="adj" fmla="val 8594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GlowDiffused trans="65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51640" y="1167480"/>
            <a:ext cx="115164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5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#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图表 1"/>
          <p:cNvGraphicFramePr/>
          <p:nvPr/>
        </p:nvGraphicFramePr>
        <p:xfrm>
          <a:off x="2771640" y="14040"/>
          <a:ext cx="609552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32" name="矩形 12"/>
          <p:cNvSpPr/>
          <p:nvPr/>
        </p:nvSpPr>
        <p:spPr>
          <a:xfrm>
            <a:off x="2411640" y="4077000"/>
            <a:ext cx="6480360" cy="22150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8a8a8">
                  <a:alpha val="2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3" name="图片 13" descr="未命名-3.jpg"/>
          <p:cNvPicPr/>
          <p:nvPr/>
        </p:nvPicPr>
        <p:blipFill>
          <a:blip r:embed="rId3"/>
          <a:srcRect l="20645" t="17839" r="68549" b="67320"/>
          <a:stretch/>
        </p:blipFill>
        <p:spPr>
          <a:xfrm rot="10800000">
            <a:off x="7889760" y="528444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4" descr="未命名-3.jpg"/>
          <p:cNvPicPr/>
          <p:nvPr/>
        </p:nvPicPr>
        <p:blipFill>
          <a:blip r:embed="rId4"/>
          <a:srcRect l="20645" t="17839" r="68549" b="67320"/>
          <a:stretch/>
        </p:blipFill>
        <p:spPr>
          <a:xfrm rot="5400000">
            <a:off x="7904520" y="406224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5" descr="未命名-3.jpg"/>
          <p:cNvPicPr/>
          <p:nvPr/>
        </p:nvPicPr>
        <p:blipFill>
          <a:blip r:embed="rId5"/>
          <a:srcRect l="20645" t="17839" r="68549" b="67320"/>
          <a:stretch/>
        </p:blipFill>
        <p:spPr>
          <a:xfrm>
            <a:off x="2411640" y="4077000"/>
            <a:ext cx="987840" cy="101736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6" descr="未命名-3.jpg"/>
          <p:cNvPicPr/>
          <p:nvPr/>
        </p:nvPicPr>
        <p:blipFill>
          <a:blip r:embed="rId6"/>
          <a:srcRect l="20645" t="17839" r="68549" b="67320"/>
          <a:stretch/>
        </p:blipFill>
        <p:spPr>
          <a:xfrm rot="16200000">
            <a:off x="2426400" y="5299200"/>
            <a:ext cx="987840" cy="101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7"/>
          <p:cNvSpPr/>
          <p:nvPr/>
        </p:nvSpPr>
        <p:spPr>
          <a:xfrm>
            <a:off x="3399840" y="48614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9040" y="6577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111 0.07285 L 1.66667E-006 -9.25069E-008 E">
                                      <p:cBhvr>
                                        <p:cTn id="15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177 0.07493 L -2.77778E-006 1.3136E-006 E">
                                      <p:cBhvr>
                                        <p:cTn id="1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21 -0.10314 L -2.77778E-007 -4.54209E-006 E">
                                      <p:cBhvr>
                                        <p:cTn id="1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10523 L -4.44444E-006 4.0518E-006 E">
                                      <p:cBhvr>
                                        <p:cTn id="15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"/>
          <p:cNvSpPr/>
          <p:nvPr/>
        </p:nvSpPr>
        <p:spPr>
          <a:xfrm>
            <a:off x="2381760" y="1412640"/>
            <a:ext cx="6488280" cy="4034880"/>
          </a:xfrm>
          <a:prstGeom prst="rect">
            <a:avLst/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图片 5"/>
          <p:cNvSpPr/>
          <p:nvPr/>
        </p:nvSpPr>
        <p:spPr>
          <a:xfrm>
            <a:off x="-1024200" y="1192680"/>
            <a:ext cx="3126960" cy="4471920"/>
          </a:xfrm>
          <a:prstGeom prst="roundRect">
            <a:avLst>
              <a:gd name="adj" fmla="val 8594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GlowDiffused trans="65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95640" y="1140840"/>
            <a:ext cx="1151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图片 6" descr="未命名-5.jpg"/>
          <p:cNvPicPr/>
          <p:nvPr/>
        </p:nvPicPr>
        <p:blipFill>
          <a:blip r:embed="rId2"/>
          <a:srcRect l="-42" t="0" r="0" b="86439"/>
          <a:stretch/>
        </p:blipFill>
        <p:spPr>
          <a:xfrm>
            <a:off x="2332080" y="1298160"/>
            <a:ext cx="6588000" cy="9298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未命名-5.jpg"/>
          <p:cNvPicPr/>
          <p:nvPr/>
        </p:nvPicPr>
        <p:blipFill>
          <a:blip r:embed="rId3"/>
          <a:srcRect l="1691" t="98616" r="26287" b="720"/>
          <a:stretch/>
        </p:blipFill>
        <p:spPr>
          <a:xfrm>
            <a:off x="2332080" y="5231880"/>
            <a:ext cx="6585120" cy="431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4932000" y="3245760"/>
            <a:ext cx="115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视频文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28149 L 4.44444E-006 -4.81481E-006 E">
                                      <p:cBhvr>
                                        <p:cTn id="17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20995 L 4.44444E-006 0 E">
                                      <p:cBhvr>
                                        <p:cTn id="17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图片 5"/>
          <p:cNvSpPr/>
          <p:nvPr/>
        </p:nvSpPr>
        <p:spPr>
          <a:xfrm>
            <a:off x="-1024200" y="1192680"/>
            <a:ext cx="3126960" cy="4471920"/>
          </a:xfrm>
          <a:prstGeom prst="roundRect">
            <a:avLst>
              <a:gd name="adj" fmla="val 8594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GlowDiffused trans="65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611640" y="1166760"/>
            <a:ext cx="1151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200" spc="-1" strike="noStrike">
                <a:solidFill>
                  <a:srgbClr val="000000"/>
                </a:solidFill>
                <a:latin typeface="方正字迹-童体毛笔字体"/>
                <a:ea typeface="方正字迹-童体毛笔字体"/>
              </a:rPr>
              <a:t>#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图片 1" descr=""/>
          <p:cNvPicPr/>
          <p:nvPr/>
        </p:nvPicPr>
        <p:blipFill>
          <a:blip r:embed="rId2"/>
          <a:stretch/>
        </p:blipFill>
        <p:spPr>
          <a:xfrm rot="503400">
            <a:off x="3210120" y="685800"/>
            <a:ext cx="3038040" cy="228564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48" name="图片 2" descr=""/>
          <p:cNvPicPr/>
          <p:nvPr/>
        </p:nvPicPr>
        <p:blipFill>
          <a:blip r:embed="rId3"/>
          <a:stretch/>
        </p:blipFill>
        <p:spPr>
          <a:xfrm rot="20819400">
            <a:off x="3650040" y="1562040"/>
            <a:ext cx="4857480" cy="323820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149" name="图片 3" descr=""/>
          <p:cNvPicPr/>
          <p:nvPr/>
        </p:nvPicPr>
        <p:blipFill>
          <a:blip r:embed="rId4"/>
          <a:stretch/>
        </p:blipFill>
        <p:spPr>
          <a:xfrm rot="334800">
            <a:off x="3292560" y="2869560"/>
            <a:ext cx="3474720" cy="348876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mc:AlternateContent>
    <mc:Choice Requires="p14">
      <p:transition spd="slow" p14:dur="13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  <Words>70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2:59:52Z</dcterms:created>
  <dc:creator>Dotpien</dc:creator>
  <dc:description/>
  <dc:language>en-US</dc:language>
  <cp:lastModifiedBy>a</cp:lastModifiedBy>
  <dcterms:modified xsi:type="dcterms:W3CDTF">2015-07-25T11:52:50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