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hyperlink" Target="http://www.eeppt.com/moban/shangwu/" TargetMode="External"/><Relationship Id="rId4" Type="http://schemas.openxmlformats.org/officeDocument/2006/relationships/hyperlink" Target="http://www.eeppt.com/moban/shangwu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828440" y="2742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Denmark"/>
                <a:ea typeface="宋体"/>
              </a:rPr>
              <a:t>  </a:t>
            </a:r>
            <a:r>
              <a:rPr b="1" lang="en-US" sz="2400" spc="-1" strike="noStrike">
                <a:solidFill>
                  <a:srgbClr val="808080"/>
                </a:solidFill>
                <a:latin typeface="Denmark"/>
                <a:ea typeface="宋体"/>
              </a:rPr>
              <a:t>YOUR</a:t>
            </a:r>
            <a:r>
              <a:rPr b="1" lang="en-US" sz="3200" spc="-1" strike="noStrike">
                <a:solidFill>
                  <a:srgbClr val="808080"/>
                </a:solidFill>
                <a:latin typeface="Denmark"/>
                <a:ea typeface="宋体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Denmark"/>
                <a:ea typeface="宋体"/>
              </a:rPr>
              <a:t>SUBTITLE</a:t>
            </a:r>
            <a:br>
              <a:rPr sz="3200"/>
            </a:br>
            <a:r>
              <a:rPr b="1" lang="en-US" sz="2400" spc="-1" strike="noStrike">
                <a:solidFill>
                  <a:srgbClr val="808080"/>
                </a:solidFill>
                <a:latin typeface="Denmark"/>
                <a:ea typeface="宋体"/>
              </a:rPr>
              <a:t>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762120" y="2057400"/>
            <a:ext cx="7010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Denmark"/>
                <a:ea typeface="宋体"/>
              </a:rPr>
              <a:t>灰色立体设计</a:t>
            </a:r>
            <a:r>
              <a:rPr b="1" lang="en-US" sz="4000" spc="-1" strike="noStrike">
                <a:solidFill>
                  <a:srgbClr val="808080"/>
                </a:solidFill>
                <a:latin typeface="Denmark"/>
                <a:ea typeface="宋体"/>
              </a:rPr>
              <a:t>PPT</a:t>
            </a:r>
            <a:r>
              <a:rPr b="1" lang="zh-CN" sz="4000" spc="-1" strike="noStrike">
                <a:solidFill>
                  <a:srgbClr val="808080"/>
                </a:solidFill>
                <a:latin typeface="Denmark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Denmark"/>
                <a:ea typeface="宋体"/>
              </a:rPr>
              <a:t>YOUR 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81080" y="1066320"/>
            <a:ext cx="5105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Denmark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7596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Denmark"/>
                <a:ea typeface="宋体"/>
              </a:rPr>
              <a:t>TRANS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1160" y="6492960"/>
            <a:ext cx="6251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商务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Denmark"/>
                <a:ea typeface="宋体"/>
              </a:rPr>
              <a:t>YOUR 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1080" y="1066320"/>
            <a:ext cx="5181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Denmark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5:03:39Z</dcterms:created>
  <dc:creator>幻灯片 http://www.eeppt.com</dc:creator>
  <dc:description/>
  <cp:keywords>幻灯片 http:/www.eeppt.com</cp:keywords>
  <dc:language>en-US</dc:language>
  <cp:lastModifiedBy/>
  <dcterms:modified xsi:type="dcterms:W3CDTF">2015-08-12T03:48:2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