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381-644F-4D05-8FD2-9ABA7404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D0B-EEFB-43FF-9D46-38F0A19D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34C-839E-40A8-8815-24C18078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B14-82F7-4FB6-86C1-BCB8008C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A2E-F5D6-4E87-B758-EF1C30D9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708-C6B4-4968-AA0E-0924A360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53F-0969-46A6-BDE0-337D1E42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9AD-286F-441D-B2E1-5163738B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6698-1A4E-4BEF-9E03-1483401A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7F2-0BF7-4ED1-84E2-CB321F72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6CE-A50E-4B0F-A13C-C61AA789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167-42E7-4775-9BE7-BC1475E3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484D99-00FA-4A8A-961B-99C45C6F394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未命名-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2" name="矩形 1"/>
          <p:cNvSpPr/>
          <p:nvPr/>
        </p:nvSpPr>
        <p:spPr>
          <a:xfrm>
            <a:off x="2137320" y="155664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红色商务中国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未命名-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3" descr="未命名-5副本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14</Words>
  <Paragraphs>2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5:01:16Z</dcterms:created>
  <dc:creator>雨林木风</dc:creator>
  <dc:description/>
  <dc:language>en-US</dc:language>
  <cp:lastModifiedBy>a</cp:lastModifiedBy>
  <dcterms:modified xsi:type="dcterms:W3CDTF">2015-07-26T02:58:19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