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046E-3636-4BA8-81AB-E32CC4007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8E19-E8D6-48D8-A6CE-F1A318B3B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7AD0-3730-4864-A90B-2139FE9F2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3BD9-B6C8-46ED-BE08-0CA84C49D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F9AE-8B82-4C92-94A8-A8B4EEA28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EE75-58E1-4007-8D27-9AA8D4C7C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9AC5-F6B1-4B01-9B5D-CDA813B20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FBA9-61A2-426F-8D5F-918549C11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73EF-DCA3-4F48-92DC-09E7E9302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1BC2-C868-45F5-9AC6-9F9F22372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AA97-CA0B-4C57-8786-8E67F0944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8DF1-3A63-4173-8CA9-D5973A46A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6F8FFB-E6CB-4E04-8AEF-655E8DB9B9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0" descr="未标题-5.png"/>
          <p:cNvPicPr/>
          <p:nvPr/>
        </p:nvPicPr>
        <p:blipFill>
          <a:blip r:embed="rId1"/>
          <a:stretch/>
        </p:blipFill>
        <p:spPr>
          <a:xfrm>
            <a:off x="4680" y="-19080"/>
            <a:ext cx="5705640" cy="2500200"/>
          </a:xfrm>
          <a:prstGeom prst="rect">
            <a:avLst/>
          </a:prstGeom>
          <a:ln w="0">
            <a:noFill/>
          </a:ln>
        </p:spPr>
      </p:pic>
      <p:pic>
        <p:nvPicPr>
          <p:cNvPr id="42" name="图片 11" descr="未标题-4.png"/>
          <p:cNvPicPr/>
          <p:nvPr/>
        </p:nvPicPr>
        <p:blipFill>
          <a:blip r:embed="rId2"/>
          <a:stretch/>
        </p:blipFill>
        <p:spPr>
          <a:xfrm>
            <a:off x="2828880" y="2376360"/>
            <a:ext cx="6305760" cy="2767320"/>
          </a:xfrm>
          <a:prstGeom prst="rect">
            <a:avLst/>
          </a:prstGeom>
          <a:ln w="0">
            <a:noFill/>
          </a:ln>
        </p:spPr>
      </p:pic>
      <p:pic>
        <p:nvPicPr>
          <p:cNvPr id="43" name="图片 12" descr="未标题-7.png"/>
          <p:cNvPicPr/>
          <p:nvPr/>
        </p:nvPicPr>
        <p:blipFill>
          <a:blip r:embed="rId3"/>
          <a:stretch/>
        </p:blipFill>
        <p:spPr>
          <a:xfrm>
            <a:off x="4680" y="1154160"/>
            <a:ext cx="3502080" cy="2654280"/>
          </a:xfrm>
          <a:prstGeom prst="rect">
            <a:avLst/>
          </a:prstGeom>
          <a:ln w="0">
            <a:noFill/>
          </a:ln>
        </p:spPr>
      </p:pic>
      <p:pic>
        <p:nvPicPr>
          <p:cNvPr id="44" name="图片 13" descr="未标题-6.png"/>
          <p:cNvPicPr/>
          <p:nvPr/>
        </p:nvPicPr>
        <p:blipFill>
          <a:blip r:embed="rId4"/>
          <a:stretch/>
        </p:blipFill>
        <p:spPr>
          <a:xfrm>
            <a:off x="6934320" y="595440"/>
            <a:ext cx="2035080" cy="3562200"/>
          </a:xfrm>
          <a:prstGeom prst="rect">
            <a:avLst/>
          </a:prstGeom>
          <a:ln w="0">
            <a:noFill/>
          </a:ln>
        </p:spPr>
      </p:pic>
      <p:pic>
        <p:nvPicPr>
          <p:cNvPr id="45" name="图片 14" descr="未标题-1.png"/>
          <p:cNvPicPr/>
          <p:nvPr/>
        </p:nvPicPr>
        <p:blipFill>
          <a:blip r:embed="rId5"/>
          <a:stretch/>
        </p:blipFill>
        <p:spPr>
          <a:xfrm>
            <a:off x="9448920" y="-190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图片 15" descr="未标题-2.png"/>
          <p:cNvPicPr/>
          <p:nvPr/>
        </p:nvPicPr>
        <p:blipFill>
          <a:blip r:embed="rId6"/>
          <a:stretch/>
        </p:blipFill>
        <p:spPr>
          <a:xfrm>
            <a:off x="9144000" y="2800440"/>
            <a:ext cx="2343240" cy="2343240"/>
          </a:xfrm>
          <a:prstGeom prst="rect">
            <a:avLst/>
          </a:prstGeom>
          <a:ln w="0">
            <a:noFill/>
          </a:ln>
        </p:spPr>
      </p:pic>
      <p:pic>
        <p:nvPicPr>
          <p:cNvPr id="47" name="图片 16" descr="未标题-3.png"/>
          <p:cNvPicPr/>
          <p:nvPr/>
        </p:nvPicPr>
        <p:blipFill>
          <a:blip r:embed="rId7"/>
          <a:stretch/>
        </p:blipFill>
        <p:spPr>
          <a:xfrm>
            <a:off x="9296280" y="1123920"/>
            <a:ext cx="1650960" cy="1657440"/>
          </a:xfrm>
          <a:prstGeom prst="rect">
            <a:avLst/>
          </a:prstGeom>
          <a:ln w="0">
            <a:noFill/>
          </a:ln>
        </p:spPr>
      </p:pic>
      <p:sp>
        <p:nvSpPr>
          <p:cNvPr id="48" name="矩形 17"/>
          <p:cNvSpPr/>
          <p:nvPr/>
        </p:nvSpPr>
        <p:spPr>
          <a:xfrm>
            <a:off x="520560" y="1962000"/>
            <a:ext cx="2527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方正行楷繁体"/>
                <a:ea typeface="方正行楷繁体"/>
              </a:rPr>
              <a:t>今秋明月几度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方正行楷繁体"/>
                <a:ea typeface="方正行楷繁体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方正行楷繁体"/>
                <a:ea typeface="方正行楷繁体"/>
              </a:rPr>
              <a:t>— </a:t>
            </a:r>
            <a:r>
              <a:rPr b="0" lang="en-US" sz="3600" spc="-1" strike="noStrike">
                <a:solidFill>
                  <a:srgbClr val="ffffff"/>
                </a:solidFill>
                <a:latin typeface="方正行楷繁体"/>
                <a:ea typeface="方正行楷繁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12"/>
          <p:cNvSpPr/>
          <p:nvPr/>
        </p:nvSpPr>
        <p:spPr>
          <a:xfrm>
            <a:off x="259560" y="480528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3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0"/>
                            </p:stCondLst>
                            <p:childTnLst>
                              <p:par>
                                <p:cTn id="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500"/>
                            </p:stCondLst>
                            <p:childTnLst>
                              <p:par>
                                <p:cTn id="2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27778E-006 -3.89009E-006 C -0.01042 -0.01698 -0.02084 -0.03365 -0.04167 -0.03488 C -0.06251 -0.03612 -0.08855 -0.05094 -0.12466 -0.0071 C -0.16077 0.03674 -0.23213 0.1519 -0.25851 0.22847 C -0.2849 0.30442 -0.2948 0.38901 -0.28317 0.44983 C -0.27154 0.51127 -0.22449 0.58599 -0.18838 0.59587 C -0.15226 0.60575 -0.08456 0.55419 -0.06633 0.51035 C -0.0481 0.46651 -0.06164 0.37574 -0.07917 0.33251 C -0.09671 0.28929 -0.14011 0.26058 -0.17154 0.25163 C -0.20296 0.24267 -0.24115 0.27138 -0.26754 0.27941 C -0.29393 0.28744 -0.30261 0.30041 -0.32987 0.29979 C -0.35713 0.29948 -0.40504 0.30071 -0.43126 0.27478 C -0.45747 0.24854 -0.48595 0.1908 -0.48699 0.14295 C -0.48803 0.0951 -0.4639 0.0176 -0.43768 -0.01173 C -0.41147 -0.04106 -0.35921 -0.03519 -0.32987 -0.03241 C -0.30053 -0.02963 -0.2731 -0.00154 -0.26112 0.00464 E">
                                      <p:cBhvr>
                                        <p:cTn id="24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3.16456E-006 C -0.02326 0.02068 -0.04652 0.04137 -0.08854 0.03643 C -0.13038 0.03149 -0.21493 0.0142 -0.25121 -0.03026 C -0.28767 -0.07503 -0.31128 -0.17722 -0.30659 -0.23125 C -0.30208 -0.28466 -0.25746 -0.35011 -0.22378 -0.35351 C -0.19027 -0.3569 -0.12309 -0.29516 -0.10486 -0.25193 C -0.0868 -0.20871 -0.08472 -0.13986 -0.11475 -0.09479 C -0.14461 -0.04971 -0.23524 -0.00618 -0.28454 0.01852 C -0.33385 0.04322 -0.36371 0.06298 -0.41024 0.0531 C -0.45677 0.04322 -0.5401 0.01574 -0.56336 -0.04168 C -0.58663 -0.09911 -0.57378 -0.24205 -0.54965 -0.29114 C -0.52534 -0.34023 -0.45399 -0.35443 -0.41857 -0.33714 C -0.38333 -0.31985 -0.34427 -0.23835 -0.33836 -0.1871 C -0.33246 -0.13585 -0.35954 -0.07935 -0.38246 -0.03026 C -0.40555 0.01883 -0.43437 0.06977 -0.47656 0.10836 C -0.51875 0.14665 -0.59236 0.16208 -0.63645 0.20098 C -0.68055 0.23989 -0.69218 0.30596 -0.74149 0.34177 C -0.79079 0.37758 -0.90034 0.40321 -0.93194 0.41556 E">
                                      <p:cBhvr>
                                        <p:cTn id="26" dur="2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6.35999E-007 C -0.03976 0.01389 -0.07935 0.02779 -0.12136 0.04631 C -0.16337 0.06484 -0.21077 0.10806 -0.25261 0.11084 C -0.29445 0.11362 -0.34323 0.08398 -0.37223 0.06237 C -0.40139 0.04075 -0.41077 0.01482 -0.42691 -0.01852 C -0.44323 -0.05187 -0.47084 -0.0741 -0.4698 -0.13862 C -0.46875 -0.20346 -0.44862 -0.34115 -0.42101 -0.40661 C -0.39341 -0.47206 -0.34705 -0.5017 -0.30435 -0.53103 C -0.26164 -0.56036 -0.20087 -0.59123 -0.16563 -0.58197 C -0.13021 -0.57271 -0.09306 -0.52794 -0.09167 -0.47576 C -0.09028 -0.42359 -0.12466 -0.31152 -0.1566 -0.26798 C -0.18872 -0.22445 -0.24098 -0.20871 -0.28369 -0.21488 C -0.32622 -0.22106 -0.38716 -0.25965 -0.41216 -0.30472 C -0.43733 -0.3498 -0.4125 -0.43841 -0.43421 -0.48503 C -0.45608 -0.53164 -0.50712 -0.57765 -0.54202 -0.58444 C -0.57709 -0.59123 -0.61737 -0.55789 -0.6441 -0.52671 C -0.67101 -0.49552 -0.68716 -0.44643 -0.70313 -0.39734 E">
                                      <p:cBhvr>
                                        <p:cTn id="28" dur="2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7500"/>
                            </p:stCondLst>
                            <p:childTnLst>
                              <p:par>
                                <p:cTn id="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8000" y="952560"/>
            <a:ext cx="892800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7286760" y="250920"/>
            <a:ext cx="1388880" cy="260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B683-CCE2-4C28-A93B-39D2ED9F24E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图片 10" descr="未标题-5.png"/>
          <p:cNvPicPr/>
          <p:nvPr/>
        </p:nvPicPr>
        <p:blipFill>
          <a:blip r:embed="rId1"/>
          <a:stretch/>
        </p:blipFill>
        <p:spPr>
          <a:xfrm>
            <a:off x="4680" y="-19080"/>
            <a:ext cx="5705640" cy="2500200"/>
          </a:xfrm>
          <a:prstGeom prst="rect">
            <a:avLst/>
          </a:prstGeom>
          <a:ln w="0">
            <a:noFill/>
          </a:ln>
        </p:spPr>
      </p:pic>
      <p:pic>
        <p:nvPicPr>
          <p:cNvPr id="54" name="图片 11" descr="未标题-4.png"/>
          <p:cNvPicPr/>
          <p:nvPr/>
        </p:nvPicPr>
        <p:blipFill>
          <a:blip r:embed="rId2"/>
          <a:stretch/>
        </p:blipFill>
        <p:spPr>
          <a:xfrm>
            <a:off x="304920" y="2706840"/>
            <a:ext cx="5553000" cy="2436840"/>
          </a:xfrm>
          <a:prstGeom prst="rect">
            <a:avLst/>
          </a:prstGeom>
          <a:ln w="0">
            <a:noFill/>
          </a:ln>
        </p:spPr>
      </p:pic>
      <p:pic>
        <p:nvPicPr>
          <p:cNvPr id="55" name="图片 12" descr="未标题-7.png"/>
          <p:cNvPicPr/>
          <p:nvPr/>
        </p:nvPicPr>
        <p:blipFill>
          <a:blip r:embed="rId3"/>
          <a:stretch/>
        </p:blipFill>
        <p:spPr>
          <a:xfrm>
            <a:off x="6318360" y="3029040"/>
            <a:ext cx="2825640" cy="2539800"/>
          </a:xfrm>
          <a:prstGeom prst="rect">
            <a:avLst/>
          </a:prstGeom>
          <a:ln w="0">
            <a:noFill/>
          </a:ln>
        </p:spPr>
      </p:pic>
      <p:pic>
        <p:nvPicPr>
          <p:cNvPr id="56" name="图片 13" descr="未标题-6.png"/>
          <p:cNvPicPr/>
          <p:nvPr/>
        </p:nvPicPr>
        <p:blipFill>
          <a:blip r:embed="rId4"/>
          <a:stretch/>
        </p:blipFill>
        <p:spPr>
          <a:xfrm>
            <a:off x="6934320" y="239760"/>
            <a:ext cx="2035080" cy="3562200"/>
          </a:xfrm>
          <a:prstGeom prst="rect">
            <a:avLst/>
          </a:prstGeom>
          <a:ln w="0">
            <a:noFill/>
          </a:ln>
        </p:spPr>
      </p:pic>
      <p:pic>
        <p:nvPicPr>
          <p:cNvPr id="57" name="图片 14" descr="未标题-1.png"/>
          <p:cNvPicPr/>
          <p:nvPr/>
        </p:nvPicPr>
        <p:blipFill>
          <a:blip r:embed="rId5"/>
          <a:stretch/>
        </p:blipFill>
        <p:spPr>
          <a:xfrm rot="9528000">
            <a:off x="1395000" y="2425320"/>
            <a:ext cx="1200240" cy="1198440"/>
          </a:xfrm>
          <a:prstGeom prst="rect">
            <a:avLst/>
          </a:prstGeom>
          <a:ln w="0">
            <a:noFill/>
          </a:ln>
        </p:spPr>
      </p:pic>
      <p:pic>
        <p:nvPicPr>
          <p:cNvPr id="58" name="图片 15" descr="未标题-2.png"/>
          <p:cNvPicPr/>
          <p:nvPr/>
        </p:nvPicPr>
        <p:blipFill>
          <a:blip r:embed="rId6"/>
          <a:stretch/>
        </p:blipFill>
        <p:spPr>
          <a:xfrm>
            <a:off x="5857920" y="2706840"/>
            <a:ext cx="1361880" cy="1361880"/>
          </a:xfrm>
          <a:prstGeom prst="rect">
            <a:avLst/>
          </a:prstGeom>
          <a:ln w="0">
            <a:noFill/>
          </a:ln>
        </p:spPr>
      </p:pic>
      <p:pic>
        <p:nvPicPr>
          <p:cNvPr id="59" name="图片 16" descr="未标题-3.png"/>
          <p:cNvPicPr/>
          <p:nvPr/>
        </p:nvPicPr>
        <p:blipFill>
          <a:blip r:embed="rId7"/>
          <a:stretch/>
        </p:blipFill>
        <p:spPr>
          <a:xfrm>
            <a:off x="1447920" y="379440"/>
            <a:ext cx="1633320" cy="1641600"/>
          </a:xfrm>
          <a:prstGeom prst="rect">
            <a:avLst/>
          </a:prstGeom>
          <a:ln w="0">
            <a:noFill/>
          </a:ln>
        </p:spPr>
      </p:pic>
      <p:sp>
        <p:nvSpPr>
          <p:cNvPr id="60" name="矩形 9"/>
          <p:cNvSpPr/>
          <p:nvPr/>
        </p:nvSpPr>
        <p:spPr>
          <a:xfrm>
            <a:off x="5375160" y="528480"/>
            <a:ext cx="4827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行楷繁体"/>
                <a:ea typeface="方正行楷繁体"/>
              </a:rPr>
              <a:t>今时明月今时秋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17"/>
          <p:cNvSpPr/>
          <p:nvPr/>
        </p:nvSpPr>
        <p:spPr>
          <a:xfrm>
            <a:off x="4699080" y="515880"/>
            <a:ext cx="482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行楷繁体"/>
                <a:ea typeface="方正行楷繁体"/>
              </a:rPr>
              <a:t>几度聚散几度欢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18"/>
          <p:cNvSpPr/>
          <p:nvPr/>
        </p:nvSpPr>
        <p:spPr>
          <a:xfrm>
            <a:off x="4038480" y="515880"/>
            <a:ext cx="541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行楷繁体"/>
                <a:ea typeface="方正行楷繁体"/>
              </a:rPr>
              <a:t>犹思今朝阖府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行楷繁体"/>
                <a:ea typeface="方正行楷繁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19"/>
          <p:cNvSpPr/>
          <p:nvPr/>
        </p:nvSpPr>
        <p:spPr>
          <a:xfrm>
            <a:off x="3352680" y="514440"/>
            <a:ext cx="45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行楷繁体"/>
                <a:ea typeface="方正行楷繁体"/>
              </a:rPr>
              <a:t>无复人间几月天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1"/>
          <p:cNvSpPr/>
          <p:nvPr/>
        </p:nvSpPr>
        <p:spPr>
          <a:xfrm>
            <a:off x="3352680" y="4068720"/>
            <a:ext cx="213372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www.1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3000"/>
                            </p:stCondLst>
                            <p:childTnLst>
                              <p:par>
                                <p:cTn id="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4000"/>
                            </p:stCondLst>
                            <p:childTnLst>
                              <p:par>
                                <p:cTn id="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4500"/>
                            </p:stCondLst>
                            <p:childTnLst>
                              <p:par>
                                <p:cTn id="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0"/>
                            </p:stCondLst>
                            <p:childTnLst>
                              <p:par>
                                <p:cTn id="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500"/>
                            </p:stCondLst>
                            <p:childTnLst>
                              <p:par>
                                <p:cTn id="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600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8000"/>
                            </p:stCondLst>
                            <p:childTnLst>
                              <p:par>
                                <p:cTn id="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0"/>
                            </p:stCondLst>
                            <p:childTnLst>
                              <p:par>
                                <p:cTn id="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2000"/>
                            </p:stCondLst>
                            <p:childTnLst>
                              <p:par>
                                <p:cTn id="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8T02:42:06Z</dcterms:created>
  <dc:creator>幻灯片 http://www.eeppt.com</dc:creator>
  <dc:description/>
  <cp:keywords>幻灯片 http:/www.eeppt.com</cp:keywords>
  <dc:language>en-US</dc:language>
  <cp:lastModifiedBy/>
  <dcterms:modified xsi:type="dcterms:W3CDTF">2015-08-12T03:48:31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