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ECE-06D8-4207-BF4C-D5B14F9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ACD-09AD-4715-9BAC-6D786657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50B-DB88-4CD9-854C-5D5B3098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D89-F696-4905-8E07-477555BE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BFF-8EAE-4A06-8504-2CA183A0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DA8-264E-46B1-BC62-94250B7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74F-430C-48BD-9FC6-860DDA9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1C3-59D0-4758-9B3A-3C394E5A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37F-416C-4541-8E33-3C068F53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0E4-A1DC-45BF-9572-E8A543F4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1410-130A-4607-ACBD-57060F2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20D-50EB-4340-B8FD-C95390A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D5D-F7D2-4F77-A08C-D8EE2C5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2A0E-68A6-4B65-99CF-0700AF6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DBC0-652C-45C3-9F5B-EC0743C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6A2-2F24-4B91-8845-184B096A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1D85-9E67-479C-B84F-18168A76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23C-F427-4B31-9EBB-856122F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7AA-3203-4DF3-974C-BA647B7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DD4-D0C8-4A6E-B631-5EB4F82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B57-1E90-432C-956F-A1E3D38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823-2261-4112-8449-1FF5489B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0AE-DAA3-43B8-8BE6-2086B5A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DF9-CE1D-4D2A-9913-8CC6078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F8D-85F2-40AA-9C39-F15DC9E70B79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7EA-A6C5-41DF-B5C5-DC6E8E249F68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-363600"/>
            <a:ext cx="7659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经典黄绿色简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66400"/>
            <a:ext cx="38098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A8B-D6C5-4A0E-8EDA-DDDDDB19E5D0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9:25:20Z</dcterms:created>
  <dc:creator>幻灯片 http://www.eeppt.com</dc:creator>
  <dc:description/>
  <cp:keywords>幻灯片 http:/www.eeppt.com</cp:keywords>
  <dc:language>en-US</dc:language>
  <cp:lastModifiedBy/>
  <dcterms:modified xsi:type="dcterms:W3CDTF">2015-08-12T03:4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