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C23-4F08-4BDE-B6D3-DCD7CA08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1584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8371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B17-805A-4570-B00D-FACF5FD3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1584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1584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83716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83716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F8F-7B15-46AC-BE49-68C64072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15840"/>
            <a:ext cx="264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15840"/>
            <a:ext cx="264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15840"/>
            <a:ext cx="264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837160"/>
            <a:ext cx="264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837160"/>
            <a:ext cx="264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837160"/>
            <a:ext cx="264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D2E-ECD6-4979-B1BB-6B5A021E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1584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094-E836-47DD-9302-DAB58126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584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30A-A1B6-44E4-85DC-3D2112ED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15840"/>
            <a:ext cx="4015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15840"/>
            <a:ext cx="4015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089-AA65-4796-A5CC-AAF70A3C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7B32-31B5-4F5A-818D-32BB2713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6240"/>
            <a:ext cx="822960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DBE-43F5-4F3D-BCA4-EDFCEDCE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1584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15840"/>
            <a:ext cx="4015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83716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D69-F3F6-46F8-99A5-E012A80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15840"/>
            <a:ext cx="4015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1584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83716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FDC-46AE-4871-95F9-8626ACEB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1584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15840"/>
            <a:ext cx="40158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8371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FCE-60B9-458E-89B1-D526CACC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7"/>
          <p:cNvSpPr/>
          <p:nvPr/>
        </p:nvSpPr>
        <p:spPr>
          <a:xfrm flipH="1">
            <a:off x="-720" y="0"/>
            <a:ext cx="1539720" cy="7714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91584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ea02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ea02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ea02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ea022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455C-58F3-4EEA-9DDD-4ACE5F77BEF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3201-9074-4F8E-93B9-BD2273D926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6"/>
          <p:cNvSpPr/>
          <p:nvPr/>
        </p:nvSpPr>
        <p:spPr>
          <a:xfrm flipH="1">
            <a:off x="-5040" y="0"/>
            <a:ext cx="1546200" cy="771480"/>
          </a:xfrm>
          <a:prstGeom prst="line">
            <a:avLst/>
          </a:prstGeom>
          <a:ln w="19080">
            <a:solidFill>
              <a:srgbClr val="fea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00" spc="-1" strike="noStrike" u="sng">
                <a:solidFill>
                  <a:srgbClr val="e68200"/>
                </a:solidFill>
                <a:uFillTx/>
                <a:latin typeface="Times New Roman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6"/>
          <a:srcRect l="0" t="0" r="0" b="15796"/>
          <a:stretch/>
        </p:blipFill>
        <p:spPr>
          <a:xfrm>
            <a:off x="115920" y="93600"/>
            <a:ext cx="4727520" cy="27370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0" y="0"/>
            <a:ext cx="9144000" cy="4660200"/>
            <a:chOff x="0" y="0"/>
            <a:chExt cx="9144000" cy="4660200"/>
          </a:xfrm>
        </p:grpSpPr>
        <p:sp>
          <p:nvSpPr>
            <p:cNvPr id="46" name="直接连接符 10"/>
            <p:cNvSpPr/>
            <p:nvPr/>
          </p:nvSpPr>
          <p:spPr>
            <a:xfrm flipH="1">
              <a:off x="0" y="0"/>
              <a:ext cx="9144000" cy="4660200"/>
            </a:xfrm>
            <a:prstGeom prst="line">
              <a:avLst/>
            </a:prstGeom>
            <a:ln w="19080">
              <a:solidFill>
                <a:srgbClr val="fea0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38240" y="367524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简洁规划图纸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376200" y="4722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15840"/>
            <a:ext cx="82296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品的规划黄线模板，以简单的橙色线条和阴影划割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面，适合规划设计、建筑及房地产、土木工程等众多领域的演示使用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-17640" y="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efe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21247" t="0" r="48365" b="0"/>
          <a:stretch/>
        </p:blipFill>
        <p:spPr>
          <a:xfrm>
            <a:off x="0" y="0"/>
            <a:ext cx="107460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直接连接符 9"/>
          <p:cNvSpPr/>
          <p:nvPr/>
        </p:nvSpPr>
        <p:spPr>
          <a:xfrm>
            <a:off x="1062000" y="0"/>
            <a:ext cx="0" cy="5143680"/>
          </a:xfrm>
          <a:prstGeom prst="line">
            <a:avLst/>
          </a:prstGeom>
          <a:ln w="28440">
            <a:solidFill>
              <a:srgbClr val="fea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角三角形 27"/>
          <p:cNvSpPr/>
          <p:nvPr/>
        </p:nvSpPr>
        <p:spPr>
          <a:xfrm flipH="1">
            <a:off x="7603560" y="4371840"/>
            <a:ext cx="1539720" cy="7718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rcRect l="0" t="0" r="0" b="10468"/>
          <a:stretch/>
        </p:blipFill>
        <p:spPr>
          <a:xfrm>
            <a:off x="7437600" y="4351320"/>
            <a:ext cx="1706400" cy="792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66240"/>
            <a:ext cx="74995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87280" y="915480"/>
            <a:ext cx="7499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4587840" y="555480"/>
            <a:ext cx="3652920" cy="2511720"/>
          </a:xfrm>
          <a:prstGeom prst="rect">
            <a:avLst/>
          </a:prstGeom>
          <a:ln cap="sq" w="101520">
            <a:solidFill>
              <a:srgbClr val="fdfdfd"/>
            </a:solidFill>
            <a:miter/>
          </a:ln>
        </p:spPr>
      </p:pic>
      <p:sp>
        <p:nvSpPr>
          <p:cNvPr id="59" name="矩形 6"/>
          <p:cNvSpPr/>
          <p:nvPr/>
        </p:nvSpPr>
        <p:spPr>
          <a:xfrm>
            <a:off x="8600040" y="45068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efe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28516" t="47792" r="21261" b="15789"/>
          <a:stretch/>
        </p:blipFill>
        <p:spPr>
          <a:xfrm>
            <a:off x="0" y="0"/>
            <a:ext cx="1539720" cy="771480"/>
          </a:xfrm>
          <a:prstGeom prst="rect">
            <a:avLst/>
          </a:prstGeom>
          <a:ln w="0">
            <a:noFill/>
          </a:ln>
        </p:spPr>
      </p:pic>
      <p:sp>
        <p:nvSpPr>
          <p:cNvPr id="61" name="直角三角形 6"/>
          <p:cNvSpPr/>
          <p:nvPr/>
        </p:nvSpPr>
        <p:spPr>
          <a:xfrm flipH="1">
            <a:off x="-720" y="0"/>
            <a:ext cx="1539720" cy="7714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7"/>
          <p:cNvSpPr/>
          <p:nvPr/>
        </p:nvSpPr>
        <p:spPr>
          <a:xfrm flipH="1">
            <a:off x="-5040" y="0"/>
            <a:ext cx="1546200" cy="771480"/>
          </a:xfrm>
          <a:prstGeom prst="line">
            <a:avLst/>
          </a:prstGeom>
          <a:ln w="19080">
            <a:solidFill>
              <a:srgbClr val="fea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060200"/>
            <a:ext cx="76327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建筑工程领域中，安全责任重于泰山。每一位工作人员，不论从事的是直接的建造工作，还是设计、监理等工作，只要进入工地，都应该佩戴安全帽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8600040" y="45068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efe"/>
                </a:solidFill>
                <a:latin typeface="Impact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直角三角形 8"/>
          <p:cNvSpPr/>
          <p:nvPr/>
        </p:nvSpPr>
        <p:spPr>
          <a:xfrm flipH="1">
            <a:off x="7603560" y="4371840"/>
            <a:ext cx="1539720" cy="7718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10468"/>
          <a:stretch/>
        </p:blipFill>
        <p:spPr>
          <a:xfrm>
            <a:off x="7437600" y="4351320"/>
            <a:ext cx="1706400" cy="7923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2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60560"/>
            <a:ext cx="82072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ea02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8600040" y="45068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efe"/>
                </a:solidFill>
                <a:latin typeface="Impact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97000" y="4727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e682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306-6B9A-49FB-A622-37C7692EB2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15796"/>
          <a:stretch/>
        </p:blipFill>
        <p:spPr>
          <a:xfrm>
            <a:off x="297000" y="339840"/>
            <a:ext cx="47275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3"/>
          <p:cNvGrpSpPr/>
          <p:nvPr/>
        </p:nvGrpSpPr>
        <p:grpSpPr>
          <a:xfrm>
            <a:off x="0" y="0"/>
            <a:ext cx="9144000" cy="4660200"/>
            <a:chOff x="0" y="0"/>
            <a:chExt cx="9144000" cy="4660200"/>
          </a:xfrm>
        </p:grpSpPr>
        <p:sp>
          <p:nvSpPr>
            <p:cNvPr id="77" name="直接连接符 10"/>
            <p:cNvSpPr/>
            <p:nvPr/>
          </p:nvSpPr>
          <p:spPr>
            <a:xfrm flipH="1">
              <a:off x="0" y="0"/>
              <a:ext cx="9144000" cy="4660200"/>
            </a:xfrm>
            <a:prstGeom prst="line">
              <a:avLst/>
            </a:prstGeom>
            <a:ln w="19080">
              <a:solidFill>
                <a:srgbClr val="fea0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6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sp>
          <p:nvSpPr>
            <p:cNvPr id="79" name="Rectangle 3"/>
            <p:cNvSpPr/>
            <p:nvPr/>
          </p:nvSpPr>
          <p:spPr>
            <a:xfrm>
              <a:off x="0" y="3166200"/>
              <a:ext cx="9144000" cy="19774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190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0" y="0"/>
              <a:ext cx="9144000" cy="316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0" y="3165840"/>
              <a:ext cx="9144000" cy="217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WordArt 7"/>
          <p:cNvSpPr txBox="1"/>
          <p:nvPr/>
        </p:nvSpPr>
        <p:spPr>
          <a:xfrm>
            <a:off x="482760" y="857160"/>
            <a:ext cx="54943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754600"/>
                    </a:gs>
                    <a:gs pos="100000">
                      <a:srgbClr val="ff9900"/>
                    </a:gs>
                  </a:gsLst>
                  <a:lin ang="8100000"/>
                </a:gradFill>
                <a:latin typeface="微软雅黑"/>
              </a:rPr>
              <a:t>谢谢观赏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754600"/>
                  </a:gs>
                  <a:gs pos="100000">
                    <a:srgbClr val="ff9900"/>
                  </a:gs>
                </a:gsLst>
                <a:lin ang="8100000"/>
              </a:gradFill>
              <a:latin typeface="微软雅黑"/>
              <a:ea typeface="微软雅黑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482760" y="1841400"/>
            <a:ext cx="3527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Thanks for your attention</a:t>
            </a:r>
            <a:endParaRPr b="0" lang="en-US" sz="2000" spc="-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12:23:00Z</dcterms:created>
  <dc:creator>幻灯片 http://www.eeppt.com</dc:creator>
  <dc:description/>
  <cp:keywords>幻灯片 http:/www.eeppt.com</cp:keywords>
  <dc:language>en-US</dc:language>
  <cp:lastModifiedBy/>
  <dcterms:modified xsi:type="dcterms:W3CDTF">2015-08-12T03:48:5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