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82050619"/>
        <c:axId val="23623195"/>
      </c:barChart>
      <c:catAx>
        <c:axId val="8205061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3623195"/>
        <c:crosses val="autoZero"/>
        <c:auto val="1"/>
        <c:lblAlgn val="ctr"/>
        <c:lblOffset val="100"/>
        <c:noMultiLvlLbl val="0"/>
      </c:catAx>
      <c:valAx>
        <c:axId val="23623195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205061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43537111"/>
        <c:axId val="33930190"/>
      </c:barChart>
      <c:catAx>
        <c:axId val="4353711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3930190"/>
        <c:crosses val="autoZero"/>
        <c:auto val="1"/>
        <c:lblAlgn val="ctr"/>
        <c:lblOffset val="100"/>
        <c:noMultiLvlLbl val="0"/>
      </c:catAx>
      <c:valAx>
        <c:axId val="33930190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3537111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94174735"/>
        <c:axId val="5499252"/>
      </c:lineChart>
      <c:catAx>
        <c:axId val="9417473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499252"/>
        <c:crosses val="autoZero"/>
        <c:auto val="1"/>
        <c:lblAlgn val="ctr"/>
        <c:lblOffset val="100"/>
        <c:noMultiLvlLbl val="0"/>
      </c:catAx>
      <c:valAx>
        <c:axId val="5499252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4174735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80914878"/>
        <c:axId val="2919834"/>
      </c:barChart>
      <c:catAx>
        <c:axId val="809148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919834"/>
        <c:crosses val="autoZero"/>
        <c:auto val="1"/>
        <c:lblAlgn val="ctr"/>
        <c:lblOffset val="100"/>
        <c:noMultiLvlLbl val="0"/>
      </c:catAx>
      <c:valAx>
        <c:axId val="2919834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0914878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963873-89A1-42F6-8A01-4FB048DE5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6BD6EF6A-D216-499B-989D-04AFB2DC119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74D-5277-4FED-BA75-1FFBAFCD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B63-0ECB-4EDB-AB1D-2CC162EE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976-4D4E-4648-AF8E-0D1871BB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55F-1821-47E6-9726-1B2E5FBB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192D-9814-481F-9F71-FA4CCF1F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965C-6121-406A-ACD6-F21A24F4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E78C-3B3C-43C0-B69C-9F76224E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B0C7-EB25-4263-B9FF-E2329B17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9E40-3DA1-4EA2-80D3-30E4F8F8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E670-710C-49CD-B28D-F7456E48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A246-00B1-46D1-8C50-DC2365DF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8B3-4008-4CEB-8E30-D7EB2435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44F4-996C-479F-BBB7-85C69E2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2650-2218-4179-A705-DD0D8AA5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7BBA-888A-4B54-B9F8-1D0F1A9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BDCE-7C7C-433D-B6FA-495CFC28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AC3E-048D-4EFF-87E8-5CA8F9F1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BB57-E4BB-478F-9151-6FAC3964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A6C2-0889-4F93-ADC7-E17C9E3B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5FA3-EE56-41E7-B48A-ABC9334C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E843-C324-4A74-B1D4-B238C3F4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A06A-9FAA-4C90-9998-9ADCC6B3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8B4-0231-4EC8-9A77-C91FC148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65F0-F385-4B79-B688-196A7D98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274A-527D-488A-837A-E94F8B5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1201-C76A-40A0-8FA0-812AF12F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1D77-AD72-41E0-AE16-C480B63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5E36-855C-4685-B972-931BFE3C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CF69-1E6B-46BA-8D04-C8CC85B9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1C439-7CC7-44A0-890B-79EEF7B3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78F5-E99F-4CF6-87F5-98F37BFE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4BB9-C6F0-4C38-B717-95BD7EF5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4648-B1F8-4F24-9724-E6B25085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74A-203E-4213-AF23-C6AD80DE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018B-D883-4736-A16A-CE3C73B6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338C3-2D01-4638-9B24-2FF217B9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D6CF-DE3A-437A-BF2F-1BE1ACF6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22FC0-B4A6-4EDF-94BB-D005F5F8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6D230-0955-49C1-84BA-BA3210B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94D1F-7D0B-4F9D-B6AF-2F96877E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8C94-692D-4C6D-AAC0-22B78A6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D6015-751C-4B0D-A0BD-78C4D78F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511BE-C2C9-4D42-A4A1-8B86EAD7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634DE-94E9-4F98-A74A-93469EE8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AA6-781D-41CC-AA8C-0B874C15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EC88-7CFD-496C-95F7-1AE7FF44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D441-806D-40B4-BC8A-F2422C7F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1942E-FDC8-4966-AC0E-13EEE52E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DF6AB-B697-4857-B394-58B5FC35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98F6D-B881-487B-B9CA-81DD0835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FB3DE-26A4-4452-94AC-95F143EC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321BF-28BB-4C52-B963-94ECAF85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CCE6E-F25A-43CE-B87B-9333F249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28B68-BB35-42D8-98B7-C2807939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79F5A-453D-4C0C-9FD8-8BBF3999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F3C-5C0C-4FEB-8E9B-EE1D2C1A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4DE48-A47A-4D2B-B4A0-AA9010FC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D987E-5256-4B62-ADEB-20EF75A7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483F4-A9BA-441E-807B-40C1860B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AF0C-B074-4EE3-9B13-F19E0B5E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0D5CF-FF94-4D9E-8A31-641CCBEA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FACE-7BC5-4AFE-B02C-63C760F5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83EBF-D426-42B3-84D8-1A88454E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380CC-80B4-4908-A1DD-E8AF5493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2A916-F864-47B2-999C-07CCDD71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D63D3-0CED-42B6-83C4-75AC4D6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971-CC0D-4354-9AF2-B5CAE2D2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C9565-882B-4635-A372-DE7E0F36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2077D-3519-4C56-BF4F-2F0CA1D5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D8565-E382-42CD-A4A7-2FD007E3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BD8F5-F39E-4361-A3D5-AC3B615E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E7EDC-D813-4CB0-9825-4BDEB39A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F182A-9276-423F-8B6D-DF095010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71248-E044-40A2-98E2-1AF3608D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9149-C734-4691-A70A-550812A8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C361E-D77E-4E5E-9F0F-A3C9BC83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41C40-1E5D-4423-8733-0D423212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DA9-CE47-402B-A1D5-8EBEB14E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4995B-6139-4BEA-971E-1374321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94AFA-4608-4F0E-8522-707C0F17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82BA1-D7CF-4158-A1ED-E5377F93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8AE25-C24B-4939-8D91-424C92B8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F19FD-9B23-4B82-B381-2F3F0927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6580D-724A-421C-AE2C-B9E9BC6A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8AD1D-E732-4BBC-9597-AB43757C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7C444-4E50-4EB1-8CDC-A9B8F508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B560D-1C3D-4C70-AFD9-3B89304E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39D8A-8DA2-433E-9873-A8F8A506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FC2-FF99-44D5-91A2-613F2C4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B5080-6969-4263-A845-FEEE39F6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BB63A-6052-4A0C-B737-5435897C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03042-8E5C-447C-B39C-5463D7C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2C1AA-BE9D-481B-B6D7-C564E40E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6C7B1-189F-4188-907E-EAC8F7E3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A6827-7904-43B3-BD1F-32916132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3DBAD-5E42-4645-A121-E1BE1535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SLIDEtoME\TP模板\新建文件夹 (2)\bg\bg1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7503F44-1F57-47AA-8756-0B00DE5CB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FA17E2-2DD1-4569-A3C4-86FDD8866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2)\bg\bg17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C0ACB57-03B4-44F3-9F96-4E0ED4999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FB1AEF-183E-4778-8A35-7CCE87FF1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84DDFB3-24D8-4F55-85F4-EF9CC7FF6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2E30D80-D36D-470B-A7CC-53399476F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F95002-B292-4ADB-B866-097A5A72C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D:\SLIDEtoME\TP模板\新建文件夹 (2)\bg\bg1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6943044-6559-4A61-9538-AEB62D271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简洁工作总结报告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D4A-0E2A-4717-845A-1C07920DC4B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2AD08-C0A8-47EA-9AAE-EE4E7F1D547B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2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2B31EBA-B4E0-4379-943A-94A1B6067680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9E738E-2538-4789-9731-A842EEACF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8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39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4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262F-A26D-43BB-BF8F-8AC1728DE17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546E045-8109-4B48-98BB-C5619762A5E4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3855A-324E-4A80-A6E7-D2615A44F5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1DA7FD23-0A1C-4F86-907C-957734754410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C3270A2-E419-4CD7-A2BA-D1921921ED32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3EC709-FF3F-429C-B91B-F30BCA845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70c0"/>
          </a:solidFill>
          <a:ln w="9525">
            <a:solidFill>
              <a:srgbClr val="0070c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-180360" y="5949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3D82-DB32-461C-ADEC-54ACBD64CA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E73DE1A0-650C-46D1-B557-DF5AEF56ACD0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5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D7961-8C99-4179-97E8-F609BFCA20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50147CAF-62D6-4B1A-958C-3CCB01639A9D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273892005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A6E1A-6DA9-42D1-BCBA-EDA1D34BCC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070B5DB0-CAF4-4784-AC13-E97F673FA6E7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148776569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0771-1CC8-416C-9A97-B82A03BB20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470D1C87-7C6B-4C11-8FEE-7BF1930A07CF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1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19BB5-2E53-41B8-A5E3-06BBF8D8D4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97872479-290F-4C3E-8D98-B1DBD2940FD4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23BBD-E387-4BD4-87B4-C7D3B77AEF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8FD731C5-9A88-4FF5-8063-A93A9E67175B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2E8B9-C689-47E3-9DDF-6181EFC344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62B1F2F4-200C-4249-90E2-A440ED91333C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宝藏_www.pptbz.com_简洁工作报告模板</Template>
  <TotalTime>2</TotalTime>
  <Application>LibreOffice/7.4.7.2$Linux_X86_64 LibreOffice_project/40$Build-2</Application>
  <AppVersion>15.0000</AppVersion>
  <Words>515</Words>
  <Paragraphs>174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4-12-15T10:55:47Z</dcterms:created>
  <dc:creator>微软用户</dc:creator>
  <dc:description>我爱PPT中文网</dc:description>
  <cp:keywords>XS-普屏 4：3 SC-淡蓝色 BG-浅色 DH-静态 XJ-二级</cp:keywords>
  <dc:language>en-US</dc:language>
  <cp:lastModifiedBy>a</cp:lastModifiedBy>
  <dcterms:modified xsi:type="dcterms:W3CDTF">2015-07-24T08:45:20Z</dcterms:modified>
  <cp:revision>2</cp:revision>
  <dc:subject>TP-通用纹理</dc:subject>
  <dc:title>Ppt宝藏_www.pptbz.com_提供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