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968-28FB-4E8F-92A5-DB1C2713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D54-F874-4F43-AB55-8F7BDB18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B2A-F1CB-492F-8B19-1D7A9456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A9B-E46D-443F-9FD7-F565B507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AFE-F6CD-44E4-9ADD-2E2B13A0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8FF-E2A4-4C12-A3ED-31B4C1E0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9D3-12A5-40B5-A748-DF26815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8D4-3168-4817-A2B0-CA0F187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6DC-A37E-4708-9D4D-4BC5334E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25C-926E-4EAF-83C8-15FE546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577-BC7C-43B0-9FA6-8E8BA99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157-3C63-4E14-ADBE-E4E2A0F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11CF-85AE-469A-A4BE-BDA247F1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501480" y="2924280"/>
            <a:ext cx="8642520" cy="860400"/>
            <a:chOff x="501480" y="2924280"/>
            <a:chExt cx="8642520" cy="860400"/>
          </a:xfrm>
        </p:grpSpPr>
        <p:sp>
          <p:nvSpPr>
            <p:cNvPr id="42" name="Rectangle 11"/>
            <p:cNvSpPr/>
            <p:nvPr/>
          </p:nvSpPr>
          <p:spPr>
            <a:xfrm>
              <a:off x="2878200" y="3208320"/>
              <a:ext cx="6265800" cy="287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2"/>
            <p:cNvSpPr/>
            <p:nvPr/>
          </p:nvSpPr>
          <p:spPr>
            <a:xfrm>
              <a:off x="501480" y="3497400"/>
              <a:ext cx="8642520" cy="287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3"/>
            <p:cNvSpPr/>
            <p:nvPr/>
          </p:nvSpPr>
          <p:spPr>
            <a:xfrm>
              <a:off x="4500720" y="2924280"/>
              <a:ext cx="4643280" cy="287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14"/>
          <p:cNvSpPr/>
          <p:nvPr/>
        </p:nvSpPr>
        <p:spPr>
          <a:xfrm>
            <a:off x="0" y="3782880"/>
            <a:ext cx="9144000" cy="144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250920" y="2637000"/>
            <a:ext cx="217440" cy="136368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539640" y="288288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简洁清新完整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878200" y="6281640"/>
            <a:ext cx="6265800" cy="287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501480" y="6570720"/>
            <a:ext cx="8642520" cy="287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00720" y="5997600"/>
            <a:ext cx="4643280" cy="287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836640"/>
            <a:ext cx="9144000" cy="144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50920" y="333360"/>
            <a:ext cx="720720" cy="72072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258920" y="404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标  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7"/>
          <p:cNvGrpSpPr/>
          <p:nvPr/>
        </p:nvGrpSpPr>
        <p:grpSpPr>
          <a:xfrm>
            <a:off x="501480" y="720"/>
            <a:ext cx="8642520" cy="1007280"/>
            <a:chOff x="501480" y="720"/>
            <a:chExt cx="8642520" cy="1007280"/>
          </a:xfrm>
        </p:grpSpPr>
        <p:sp>
          <p:nvSpPr>
            <p:cNvPr id="56" name="Rectangle 2"/>
            <p:cNvSpPr/>
            <p:nvPr/>
          </p:nvSpPr>
          <p:spPr>
            <a:xfrm flipV="1">
              <a:off x="2878200" y="338760"/>
              <a:ext cx="6265800" cy="336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3"/>
            <p:cNvSpPr/>
            <p:nvPr/>
          </p:nvSpPr>
          <p:spPr>
            <a:xfrm flipV="1">
              <a:off x="501480" y="360"/>
              <a:ext cx="8642520" cy="336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 flipV="1">
              <a:off x="4500720" y="671400"/>
              <a:ext cx="4643280" cy="336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5"/>
          <p:cNvSpPr/>
          <p:nvPr/>
        </p:nvSpPr>
        <p:spPr>
          <a:xfrm>
            <a:off x="0" y="6524640"/>
            <a:ext cx="9144000" cy="144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50920" y="6381720"/>
            <a:ext cx="360360" cy="36036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7956720" y="558972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3780000" y="30654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多谢倾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 flipH="1">
            <a:off x="4284000" y="3209760"/>
            <a:ext cx="142920" cy="358920"/>
          </a:xfrm>
          <a:prstGeom prst="rect">
            <a:avLst/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 flipH="1">
            <a:off x="6516000" y="3209760"/>
            <a:ext cx="142920" cy="358920"/>
          </a:xfrm>
          <a:prstGeom prst="rect">
            <a:avLst/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1:37:28Z</dcterms:created>
  <dc:creator>幻灯片 http://www.eeppt.com</dc:creator>
  <dc:description/>
  <cp:keywords>幻灯片 http:/www.eeppt.com</cp:keywords>
  <dc:language>en-US</dc:language>
  <cp:lastModifiedBy/>
  <dcterms:modified xsi:type="dcterms:W3CDTF">2015-07-24T08:42:02Z</dcterms:modified>
  <cp:revision>0</cp:revision>
  <dc:subject/>
  <dc:title/>
</cp:coreProperties>
</file>