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D3BA-5271-4FBC-B07E-485753C8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860C-6F1F-488B-BA59-1981199B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3F88-BBE0-4633-B588-30F9E813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ACF1-0413-40D4-9A8D-D2C1FF8AF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EEBE-91DF-45CB-85D3-DECF9E9B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D64E-9A75-481C-80A2-1274CC06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6CCB-2AE6-4B27-A939-F0078E3F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78F4-BD9E-406E-A744-13F77590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7115-F809-4C8B-846B-0916E026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7166-A1F3-4988-9FE1-62CF12B0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E37D-2623-43ED-83CE-B4320B84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3E30-22B9-456B-93EF-E0AE0E53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7A9A-44F3-472E-AFC0-54E51B37CAE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06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c4839"/>
                </a:solidFill>
                <a:latin typeface="Calibri"/>
                <a:ea typeface="宋体"/>
              </a:rPr>
              <a:t>简洁书本笔</a:t>
            </a:r>
            <a:r>
              <a:rPr b="0" lang="en-US" sz="4000" spc="-1" strike="noStrike">
                <a:solidFill>
                  <a:srgbClr val="9c4839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9c4839"/>
                </a:solidFill>
                <a:latin typeface="Calibri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14720" y="274320"/>
            <a:ext cx="647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c4839"/>
                </a:solidFill>
                <a:latin typeface="Calibri"/>
                <a:ea typeface="宋体"/>
              </a:rPr>
              <a:t>ppt</a:t>
            </a:r>
            <a:r>
              <a:rPr b="0" lang="zh-CN" sz="4400" spc="-1" strike="noStrike">
                <a:solidFill>
                  <a:srgbClr val="9c4839"/>
                </a:solidFill>
                <a:latin typeface="Calibri"/>
                <a:ea typeface="宋体"/>
              </a:rPr>
              <a:t>宝藏</a:t>
            </a:r>
            <a:r>
              <a:rPr b="0" lang="zh-CN" sz="4400" spc="-1" strike="noStrike">
                <a:solidFill>
                  <a:srgbClr val="9c4839"/>
                </a:solidFill>
                <a:latin typeface="Calibri"/>
                <a:ea typeface="宋体"/>
              </a:rPr>
              <a:t>_www.pptbz.c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14720" y="16002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c48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c483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c48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c483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c4839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00016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c48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c483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c48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c483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271440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c48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c483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c48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c483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c4839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c4839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00016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c48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c483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c48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c483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6:56:11Z</dcterms:created>
  <dc:creator>幻灯片 http://www.eeppt.com</dc:creator>
  <dc:description/>
  <cp:keywords>幻灯片 http:/www.eeppt.com</cp:keywords>
  <dc:language>en-US</dc:language>
  <cp:lastModifiedBy/>
  <cp:lastPrinted>1899-12-30T00:00:00Z</cp:lastPrinted>
  <dcterms:modified xsi:type="dcterms:W3CDTF">2015-07-24T08:5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