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004-9577-4301-B6FC-3719CAE8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690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657-1251-4919-A0B0-2294FCE5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32A-022D-4823-BE61-AE6D9909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10E-B831-42F5-A0CF-D35ED6E6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0C2E-1020-4C2E-924D-E81F9832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BB81-8FAF-483D-990C-28B1961A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525C-8E28-41C7-92ED-78011A01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1F68-ADAD-4FEC-937D-AFB1E5CB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252-0112-473E-A972-F080E50E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398-90CC-4B7B-87A2-A5E0EEB3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8030-781A-4842-8882-AEE2244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EFB-60EA-4F2A-A8BC-735E95A3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28BE-3DF9-4E88-97D3-C7476C1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F948-86AA-4D79-821B-C4B2C1B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690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F25B-E424-4B8F-844D-EB701912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D737-6EAA-4C54-8FFA-86196C3B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24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69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5497-EC5B-4B63-97FD-E6187108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603-2DD5-4350-A9EE-6AE5779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B2C-C0D0-4C34-9EA6-FC1837E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E4E-8AA2-410B-9F2D-FB51988E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DD4-3F20-4872-868D-907D9E30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C07-C969-46BF-A6AA-5F9C4EBB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69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7D4-5198-432B-88E5-00DAAE47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4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90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2FC-21E2-4647-97E6-DF23D91B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93cddd"/>
              </a:gs>
              <a:gs pos="100000">
                <a:srgbClr val="31859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黑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6DF354-E41A-4E6F-AA90-6FEF37C1CCE8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9" descr=""/>
          <p:cNvPicPr/>
          <p:nvPr/>
        </p:nvPicPr>
        <p:blipFill>
          <a:blip r:embed="rId2"/>
          <a:stretch/>
        </p:blipFill>
        <p:spPr>
          <a:xfrm>
            <a:off x="0" y="425160"/>
            <a:ext cx="9143640" cy="6007680"/>
          </a:xfrm>
          <a:prstGeom prst="rect">
            <a:avLst/>
          </a:prstGeom>
          <a:ln w="0">
            <a:noFill/>
          </a:ln>
        </p:spPr>
      </p:pic>
      <p:sp>
        <p:nvSpPr>
          <p:cNvPr id="6" name="矩形 10"/>
          <p:cNvSpPr/>
          <p:nvPr/>
        </p:nvSpPr>
        <p:spPr>
          <a:xfrm>
            <a:off x="0" y="3717000"/>
            <a:ext cx="9143640" cy="71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3789000"/>
            <a:ext cx="9143640" cy="1656000"/>
          </a:xfrm>
          <a:prstGeom prst="rect">
            <a:avLst/>
          </a:prstGeom>
          <a:gradFill rotWithShape="0">
            <a:gsLst>
              <a:gs pos="0">
                <a:srgbClr val="31859c"/>
              </a:gs>
              <a:gs pos="100000">
                <a:srgbClr val="93cdd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" name="矩形 12"/>
          <p:cNvSpPr/>
          <p:nvPr/>
        </p:nvSpPr>
        <p:spPr>
          <a:xfrm>
            <a:off x="0" y="5409360"/>
            <a:ext cx="9143640" cy="71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93cddd"/>
              </a:gs>
              <a:gs pos="100000">
                <a:srgbClr val="31859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124640"/>
            <a:ext cx="82292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56547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656547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656547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656547"/>
                </a:solidFill>
                <a:latin typeface="Arial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656547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656547"/>
                </a:solidFill>
                <a:latin typeface="Arial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656547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656547"/>
                </a:solidFill>
                <a:latin typeface="Arial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656547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656547"/>
                </a:solidFill>
                <a:latin typeface="Arial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9F7E5B-FD5A-419E-9CDB-E771D680DCC6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-16200" y="6165360"/>
            <a:ext cx="9159840" cy="692280"/>
          </a:xfrm>
          <a:prstGeom prst="rect">
            <a:avLst/>
          </a:prstGeom>
          <a:gradFill rotWithShape="0">
            <a:gsLst>
              <a:gs pos="0">
                <a:srgbClr val="31859c"/>
              </a:gs>
              <a:gs pos="100000">
                <a:srgbClr val="93cdd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0" y="-7920"/>
            <a:ext cx="9159840" cy="764280"/>
          </a:xfrm>
          <a:prstGeom prst="rect">
            <a:avLst/>
          </a:prstGeom>
          <a:gradFill rotWithShape="0">
            <a:gsLst>
              <a:gs pos="0">
                <a:srgbClr val="93cddd"/>
              </a:gs>
              <a:gs pos="100000">
                <a:srgbClr val="31859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-16200" y="756720"/>
            <a:ext cx="9143640" cy="71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黑体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0" y="6159600"/>
            <a:ext cx="9143640" cy="71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>
            <a:noFill/>
          </a:ln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3861000"/>
            <a:ext cx="7560360" cy="7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简洁商务应用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6"/>
          <p:cNvGrpSpPr/>
          <p:nvPr/>
        </p:nvGrpSpPr>
        <p:grpSpPr>
          <a:xfrm>
            <a:off x="783360" y="507600"/>
            <a:ext cx="373320" cy="215640"/>
            <a:chOff x="783360" y="507600"/>
            <a:chExt cx="373320" cy="215640"/>
          </a:xfrm>
        </p:grpSpPr>
        <p:sp>
          <p:nvSpPr>
            <p:cNvPr id="94" name="燕尾形 3"/>
            <p:cNvSpPr/>
            <p:nvPr/>
          </p:nvSpPr>
          <p:spPr>
            <a:xfrm>
              <a:off x="783360" y="507600"/>
              <a:ext cx="215640" cy="215640"/>
            </a:xfrm>
            <a:prstGeom prst="chevron">
              <a:avLst>
                <a:gd name="adj" fmla="val 50000"/>
              </a:avLst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5" name="燕尾形 4"/>
            <p:cNvSpPr/>
            <p:nvPr/>
          </p:nvSpPr>
          <p:spPr>
            <a:xfrm>
              <a:off x="941040" y="507600"/>
              <a:ext cx="215640" cy="215640"/>
            </a:xfrm>
            <a:prstGeom prst="chevron">
              <a:avLst>
                <a:gd name="adj" fmla="val 50000"/>
              </a:avLst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6" name="TextBox 5"/>
          <p:cNvSpPr/>
          <p:nvPr/>
        </p:nvSpPr>
        <p:spPr>
          <a:xfrm>
            <a:off x="1157040" y="442080"/>
            <a:ext cx="1038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656547"/>
                </a:solidFill>
                <a:latin typeface="Impact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Arial"/>
              <a:ea typeface="微软雅黑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6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7"/>
          <p:cNvGrpSpPr/>
          <p:nvPr/>
        </p:nvGrpSpPr>
        <p:grpSpPr>
          <a:xfrm>
            <a:off x="2411640" y="2056320"/>
            <a:ext cx="4536000" cy="369000"/>
            <a:chOff x="2411640" y="2056320"/>
            <a:chExt cx="4536000" cy="369000"/>
          </a:xfrm>
        </p:grpSpPr>
        <p:sp>
          <p:nvSpPr>
            <p:cNvPr id="101" name="TextBox 6"/>
            <p:cNvSpPr/>
            <p:nvPr/>
          </p:nvSpPr>
          <p:spPr>
            <a:xfrm>
              <a:off x="2411640" y="2056320"/>
              <a:ext cx="4536000" cy="369000"/>
            </a:xfrm>
            <a:prstGeom prst="rect">
              <a:avLst/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在此添加标题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3"/>
            <p:cNvGrpSpPr/>
            <p:nvPr/>
          </p:nvGrpSpPr>
          <p:grpSpPr>
            <a:xfrm>
              <a:off x="3224520" y="2133000"/>
              <a:ext cx="373680" cy="215640"/>
              <a:chOff x="3224520" y="2133000"/>
              <a:chExt cx="373680" cy="215640"/>
            </a:xfrm>
          </p:grpSpPr>
          <p:sp>
            <p:nvSpPr>
              <p:cNvPr id="103" name="燕尾形 4"/>
              <p:cNvSpPr/>
              <p:nvPr/>
            </p:nvSpPr>
            <p:spPr>
              <a:xfrm>
                <a:off x="3224520" y="213300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4" name="燕尾形 5"/>
              <p:cNvSpPr/>
              <p:nvPr/>
            </p:nvSpPr>
            <p:spPr>
              <a:xfrm>
                <a:off x="3382560" y="213300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05" name="组合 8"/>
          <p:cNvGrpSpPr/>
          <p:nvPr/>
        </p:nvGrpSpPr>
        <p:grpSpPr>
          <a:xfrm>
            <a:off x="2411640" y="2826000"/>
            <a:ext cx="4536000" cy="369000"/>
            <a:chOff x="2411640" y="2826000"/>
            <a:chExt cx="4536000" cy="369000"/>
          </a:xfrm>
        </p:grpSpPr>
        <p:sp>
          <p:nvSpPr>
            <p:cNvPr id="106" name="TextBox 9"/>
            <p:cNvSpPr/>
            <p:nvPr/>
          </p:nvSpPr>
          <p:spPr>
            <a:xfrm>
              <a:off x="2411640" y="2826000"/>
              <a:ext cx="4536000" cy="369000"/>
            </a:xfrm>
            <a:prstGeom prst="rect">
              <a:avLst/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在此添加标题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组合 10"/>
            <p:cNvGrpSpPr/>
            <p:nvPr/>
          </p:nvGrpSpPr>
          <p:grpSpPr>
            <a:xfrm>
              <a:off x="3224520" y="2902320"/>
              <a:ext cx="373680" cy="215640"/>
              <a:chOff x="3224520" y="2902320"/>
              <a:chExt cx="373680" cy="215640"/>
            </a:xfrm>
          </p:grpSpPr>
          <p:sp>
            <p:nvSpPr>
              <p:cNvPr id="108" name="燕尾形 11"/>
              <p:cNvSpPr/>
              <p:nvPr/>
            </p:nvSpPr>
            <p:spPr>
              <a:xfrm>
                <a:off x="3224520" y="290232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9" name="燕尾形 12"/>
              <p:cNvSpPr/>
              <p:nvPr/>
            </p:nvSpPr>
            <p:spPr>
              <a:xfrm>
                <a:off x="3382560" y="290232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0" name="组合 13"/>
          <p:cNvGrpSpPr/>
          <p:nvPr/>
        </p:nvGrpSpPr>
        <p:grpSpPr>
          <a:xfrm>
            <a:off x="2411640" y="3595320"/>
            <a:ext cx="4536000" cy="369000"/>
            <a:chOff x="2411640" y="3595320"/>
            <a:chExt cx="4536000" cy="369000"/>
          </a:xfrm>
        </p:grpSpPr>
        <p:sp>
          <p:nvSpPr>
            <p:cNvPr id="111" name="TextBox 14"/>
            <p:cNvSpPr/>
            <p:nvPr/>
          </p:nvSpPr>
          <p:spPr>
            <a:xfrm>
              <a:off x="2411640" y="3595320"/>
              <a:ext cx="4536000" cy="369000"/>
            </a:xfrm>
            <a:prstGeom prst="rect">
              <a:avLst/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在此添加标题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15"/>
            <p:cNvGrpSpPr/>
            <p:nvPr/>
          </p:nvGrpSpPr>
          <p:grpSpPr>
            <a:xfrm>
              <a:off x="3224520" y="3672000"/>
              <a:ext cx="373680" cy="215640"/>
              <a:chOff x="3224520" y="3672000"/>
              <a:chExt cx="373680" cy="215640"/>
            </a:xfrm>
          </p:grpSpPr>
          <p:sp>
            <p:nvSpPr>
              <p:cNvPr id="113" name="燕尾形 16"/>
              <p:cNvSpPr/>
              <p:nvPr/>
            </p:nvSpPr>
            <p:spPr>
              <a:xfrm>
                <a:off x="3224520" y="367200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4" name="燕尾形 17"/>
              <p:cNvSpPr/>
              <p:nvPr/>
            </p:nvSpPr>
            <p:spPr>
              <a:xfrm>
                <a:off x="3382560" y="367200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5" name="组合 18"/>
          <p:cNvGrpSpPr/>
          <p:nvPr/>
        </p:nvGrpSpPr>
        <p:grpSpPr>
          <a:xfrm>
            <a:off x="2411640" y="4365000"/>
            <a:ext cx="4536000" cy="369000"/>
            <a:chOff x="2411640" y="4365000"/>
            <a:chExt cx="4536000" cy="369000"/>
          </a:xfrm>
        </p:grpSpPr>
        <p:sp>
          <p:nvSpPr>
            <p:cNvPr id="116" name="TextBox 19"/>
            <p:cNvSpPr/>
            <p:nvPr/>
          </p:nvSpPr>
          <p:spPr>
            <a:xfrm>
              <a:off x="2411640" y="4365000"/>
              <a:ext cx="4536000" cy="369000"/>
            </a:xfrm>
            <a:prstGeom prst="rect">
              <a:avLst/>
            </a:prstGeom>
            <a:solidFill>
              <a:srgbClr val="656547"/>
            </a:solidFill>
            <a:ln w="952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chemeClr val="lt1"/>
                  </a:solidFill>
                  <a:latin typeface="Arial"/>
                  <a:ea typeface="微软雅黑"/>
                </a:rPr>
                <a:t>在此添加标题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组合 20"/>
            <p:cNvGrpSpPr/>
            <p:nvPr/>
          </p:nvGrpSpPr>
          <p:grpSpPr>
            <a:xfrm>
              <a:off x="3224520" y="4441680"/>
              <a:ext cx="373680" cy="215640"/>
              <a:chOff x="3224520" y="4441680"/>
              <a:chExt cx="373680" cy="215640"/>
            </a:xfrm>
          </p:grpSpPr>
          <p:sp>
            <p:nvSpPr>
              <p:cNvPr id="118" name="燕尾形 21"/>
              <p:cNvSpPr/>
              <p:nvPr/>
            </p:nvSpPr>
            <p:spPr>
              <a:xfrm>
                <a:off x="3224520" y="444168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9" name="燕尾形 22"/>
              <p:cNvSpPr/>
              <p:nvPr/>
            </p:nvSpPr>
            <p:spPr>
              <a:xfrm>
                <a:off x="3382560" y="4441680"/>
                <a:ext cx="215640" cy="215640"/>
              </a:xfrm>
              <a:prstGeom prst="chevron">
                <a:avLst>
                  <a:gd name="adj" fmla="val 50000"/>
                </a:avLst>
              </a:prstGeom>
              <a:solidFill>
                <a:srgbClr val="656547"/>
              </a:solidFill>
              <a:ln w="9525"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20" name="TextBox 23"/>
          <p:cNvSpPr/>
          <p:nvPr/>
        </p:nvSpPr>
        <p:spPr>
          <a:xfrm>
            <a:off x="323640" y="6361560"/>
            <a:ext cx="208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2f2f2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2f2f2"/>
                </a:solidFill>
                <a:latin typeface="Arial"/>
                <a:ea typeface="微软雅黑"/>
              </a:rPr>
              <a:t>王琳作品—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  <Words>41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3:23:33Z</dcterms:created>
  <dc:creator>ppt宝藏</dc:creator>
  <dc:description/>
  <dc:language>en-US</dc:language>
  <cp:lastModifiedBy>a</cp:lastModifiedBy>
  <dcterms:modified xsi:type="dcterms:W3CDTF">2015-07-24T08:48:17Z</dcterms:modified>
  <cp:revision>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