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DF3-9872-4ED0-B4CA-6044E72B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230-D6CF-45DD-ADE3-8577FB8C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635-B0F1-4B19-A02C-8813EA29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44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09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44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09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AFD-49B4-4044-B33E-7DB7D4D4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2B01-BD6B-4285-A574-CA6EB112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0385-7857-404F-9DFE-7583761A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2F4D-363C-4EBB-94BF-5B43C92A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9E28-B4B7-4721-97F7-786340D9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58E1-6F27-49E5-87DE-DA63588A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AC40-A5BB-4F7D-AD1D-B298379A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0E37-B0EB-4F8C-BDD8-B419C97C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29D-372B-4811-9D75-81F570DA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2066-8E63-481F-9726-6AE55E87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D901-FDDB-46CC-A667-B653E807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FF55-3860-426F-B0A3-19632EA1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016C-744D-4375-8062-74EB05F7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44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009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44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009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D00F-0629-4FB6-9748-F37594BC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651-B172-46D4-9B19-CD21976F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6F8-A046-4234-A58D-6B146331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B88-D8DB-4D3E-AAB5-0336951A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737-25E8-4ED7-B628-DC405C3C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72D-E90F-4988-B310-FE7E018E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A8F-89A7-4951-B4A5-30A8CD72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F80-002C-43BD-AB71-C5ADBDCC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6C68-91E0-44A0-8A0A-6773D7F4F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CF17-F74E-4C83-8826-A77DBE4CB16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方隶简"/>
                <a:ea typeface="汉仪方隶简"/>
              </a:rPr>
              <a:t>金龙中国风</a:t>
            </a:r>
            <a:r>
              <a:rPr b="0" lang="en-US" sz="4000" spc="-1" strike="noStrike">
                <a:solidFill>
                  <a:srgbClr val="ffffff"/>
                </a:solidFill>
                <a:latin typeface="汉仪方隶简"/>
                <a:ea typeface="汉仪方隶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方隶简"/>
                <a:ea typeface="汉仪方隶简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About Agenth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n island off the coast of Lokil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 Tropical Paradise in the Indian Oc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On The Verge of An Economic Overha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nvestment Opportunities Gal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Proposed Growth 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1447920" y="1600200"/>
          <a:ext cx="76197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7619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pyright, Concept &amp; Creation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Geetesh Baja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幻灯片 http://www.eeppt.com</dc:creator>
  <dc:description/>
  <cp:keywords>幻灯片 http:/www.eeppt.com</cp:keywords>
  <dc:language>en-US</dc:language>
  <cp:lastModifiedBy/>
  <dcterms:modified xsi:type="dcterms:W3CDTF">2015-07-25T11:35:54Z</dcterms:modified>
  <cp:revision>0</cp:revision>
  <dc:subject/>
  <dc:title/>
</cp:coreProperties>
</file>