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11B-5FA3-4F46-A900-7EE1DD07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B93-FE2E-49B2-9C50-73D9A5B5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947-2D80-4C5D-B0D4-6F5C774E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712F-1C53-470C-A968-84E1D5E6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448-8CE7-4CE3-B331-72575BEB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7E7-C5EF-40E5-8D8B-36590502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93C-0078-44B1-9FCE-048BA378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996F-C08A-4C3F-9877-819F8711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8D8-3010-430F-89B3-04DD36C4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839-53B0-470F-9773-9A3FBB71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0CB-F4E9-4370-8687-02752EDE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29C-0FB7-4561-B60F-6DF77947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726F-6B91-4B98-87BB-85D67DCD52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6804000" y="3841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4"/>
          <p:cNvSpPr/>
          <p:nvPr/>
        </p:nvSpPr>
        <p:spPr>
          <a:xfrm>
            <a:off x="1575000" y="-853200"/>
            <a:ext cx="850680" cy="81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3300"/>
                </a:solidFill>
                <a:latin typeface="华文行楷"/>
                <a:ea typeface="华文行楷"/>
              </a:rPr>
              <a:t>精美瓷器中国风</a:t>
            </a:r>
            <a:r>
              <a:rPr b="0" lang="en-US" sz="4000" spc="-1" strike="noStrike">
                <a:solidFill>
                  <a:srgbClr val="663300"/>
                </a:solidFill>
                <a:latin typeface="华文行楷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663300"/>
                </a:solidFill>
                <a:latin typeface="华文行楷"/>
                <a:ea typeface="华文行楷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993960" y="163800"/>
            <a:ext cx="58248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华文行楷"/>
                <a:ea typeface="华文行楷"/>
              </a:rPr>
              <a:t>静物幻灯片艺术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 http://www.eeppt.com</dc:creator>
  <dc:description/>
  <cp:keywords>幻灯片 http:/www.eeppt.com</cp:keywords>
  <dc:language>en-US</dc:language>
  <cp:lastModifiedBy/>
  <cp:lastPrinted>1899-12-30T00:00:00Z</cp:lastPrinted>
  <dcterms:modified xsi:type="dcterms:W3CDTF">2015-07-26T02:27:3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