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专业演出场所</c:v>
                </c:pt>
                <c:pt idx="1">
                  <c:v>实景旅游演出</c:v>
                </c:pt>
                <c:pt idx="2">
                  <c:v>民营团体</c:v>
                </c:pt>
                <c:pt idx="3">
                  <c:v>大型场馆演唱会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列1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专业演出场所</c:v>
                </c:pt>
                <c:pt idx="1">
                  <c:v>实景旅游演出</c:v>
                </c:pt>
                <c:pt idx="2">
                  <c:v>民营团体</c:v>
                </c:pt>
                <c:pt idx="3">
                  <c:v>大型场馆演唱会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54</c:v>
                </c:pt>
                <c:pt idx="1">
                  <c:v>11</c:v>
                </c:pt>
                <c:pt idx="2">
                  <c:v>24</c:v>
                </c:pt>
                <c:pt idx="3">
                  <c:v>11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列2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专业演出场所</c:v>
                </c:pt>
                <c:pt idx="1">
                  <c:v>实景旅游演出</c:v>
                </c:pt>
                <c:pt idx="2">
                  <c:v>民营团体</c:v>
                </c:pt>
                <c:pt idx="3">
                  <c:v>大型场馆演唱会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</c:numCache>
            </c:numRef>
          </c:val>
        </c:ser>
        <c:gapWidth val="150"/>
        <c:overlap val="0"/>
        <c:axId val="78354325"/>
        <c:axId val="40196192"/>
      </c:barChart>
      <c:catAx>
        <c:axId val="7835432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幼圆"/>
                <a:ea typeface="幼圆"/>
              </a:defRPr>
            </a:pPr>
          </a:p>
        </c:txPr>
        <c:crossAx val="40196192"/>
        <c:crosses val="autoZero"/>
        <c:auto val="1"/>
        <c:lblAlgn val="ctr"/>
        <c:lblOffset val="100"/>
        <c:noMultiLvlLbl val="0"/>
      </c:catAx>
      <c:valAx>
        <c:axId val="4019619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35432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FC29E3-D5BD-4D61-ADA9-7AC831D53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2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23552E-DD62-46B3-A1E9-BB9442325813}" type="datetime1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AFC594-7D0C-41A5-8E12-207A8C7B0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0"/>
          </p:nvPr>
        </p:nvSpPr>
        <p:spPr>
          <a:xfrm>
            <a:off x="388476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9437C6-4175-41FF-AF81-D736E465ABCE}" type="datetime1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71B851-89C9-4905-AB1F-3E742DC60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880-5320-4D9A-83EA-C3FD3076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45E-ED42-44E6-AF92-65B73F97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80C5-57AA-48EE-B8AD-F8CBD2E2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5272-6D8E-4715-8900-57BB4297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8F85-9EB7-47D1-BAA6-BF6E8430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19879-0676-404C-9A79-BB196249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F9EF-80A7-4AD8-95D3-4BA3D995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1F25-7E19-43AF-8F73-D6C266FC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904F-4791-4487-ADE7-F6B69D80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1365-5916-495B-90B4-A65B3BEF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D8BC-1DD3-490F-92DB-CA36565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6DE-CB14-4A19-8D91-FF8961C0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F286-26B3-403A-8574-05758C3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4BE4-D81F-425C-9424-0ACB5E1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8DC2-3E2D-490C-9554-2A0D4958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D025-BE3B-4A1E-B839-C4A01E58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29FE-A6BB-4D3F-ADF2-3C8E574C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F131-53E8-441E-8E31-11D9023A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DA4-6E28-4239-9D58-77A09E76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6A0-ACFF-4256-945C-F1CF0BEA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A1F-3D1B-4BD2-9846-1686DE6F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A50-A783-49A8-8B42-DA247CF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A82-C98A-4ADC-BB8A-04595897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818-4844-4216-932D-EC7A16D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6F644D-B683-4874-A0BC-549D1EC65A8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C3B58C-5332-4152-B336-DE6AD12BC3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"/>
          <p:cNvSpPr/>
          <p:nvPr/>
        </p:nvSpPr>
        <p:spPr>
          <a:xfrm>
            <a:off x="177480" y="4010760"/>
            <a:ext cx="323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>
                <a:solidFill>
                  <a:srgbClr val="000040"/>
                </a:solidFill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2" descr=""/>
          <p:cNvPicPr/>
          <p:nvPr/>
        </p:nvPicPr>
        <p:blipFill>
          <a:blip r:embed="rId2"/>
          <a:srcRect l="49263" t="44761" r="0" b="42163"/>
          <a:stretch/>
        </p:blipFill>
        <p:spPr>
          <a:xfrm>
            <a:off x="6404760" y="3598560"/>
            <a:ext cx="2755080" cy="896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花瓣5"/>
          <p:cNvPicPr/>
          <p:nvPr/>
        </p:nvPicPr>
        <p:blipFill>
          <a:blip r:embed="rId3"/>
          <a:srcRect l="33300" t="38005" r="45335" b="44004"/>
          <a:stretch/>
        </p:blipFill>
        <p:spPr>
          <a:xfrm>
            <a:off x="683640" y="2335320"/>
            <a:ext cx="931680" cy="1113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墨山水"/>
          <p:cNvPicPr/>
          <p:nvPr/>
        </p:nvPicPr>
        <p:blipFill>
          <a:blip r:embed="rId4"/>
          <a:srcRect l="0" t="0" r="43914" b="45135"/>
          <a:stretch/>
        </p:blipFill>
        <p:spPr>
          <a:xfrm>
            <a:off x="-20880" y="2681280"/>
            <a:ext cx="4844160" cy="2369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花瓣4"/>
          <p:cNvPicPr/>
          <p:nvPr/>
        </p:nvPicPr>
        <p:blipFill>
          <a:blip r:embed="rId5"/>
          <a:srcRect l="25567" t="89260" r="34865" b="0"/>
          <a:stretch/>
        </p:blipFill>
        <p:spPr>
          <a:xfrm>
            <a:off x="2751840" y="6409440"/>
            <a:ext cx="1162800" cy="44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花瓣"/>
          <p:cNvPicPr/>
          <p:nvPr/>
        </p:nvPicPr>
        <p:blipFill>
          <a:blip r:embed="rId6"/>
          <a:srcRect l="29998" t="30975" r="35884" b="41477"/>
          <a:stretch/>
        </p:blipFill>
        <p:spPr>
          <a:xfrm>
            <a:off x="5508000" y="2784960"/>
            <a:ext cx="813240" cy="931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花瓣2"/>
          <p:cNvPicPr/>
          <p:nvPr/>
        </p:nvPicPr>
        <p:blipFill>
          <a:blip r:embed="rId7"/>
          <a:srcRect l="28501" t="56065" r="23593" b="0"/>
          <a:stretch/>
        </p:blipFill>
        <p:spPr>
          <a:xfrm>
            <a:off x="8034120" y="4897440"/>
            <a:ext cx="1505880" cy="196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花瓣3"/>
          <p:cNvPicPr/>
          <p:nvPr/>
        </p:nvPicPr>
        <p:blipFill>
          <a:blip r:embed="rId8"/>
          <a:srcRect l="0" t="52299" r="50010" b="0"/>
          <a:stretch/>
        </p:blipFill>
        <p:spPr>
          <a:xfrm>
            <a:off x="0" y="5345640"/>
            <a:ext cx="917280" cy="151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C:\Users\owen\Desktop\肖雅婷\未标题-21.png"/>
          <p:cNvPicPr/>
          <p:nvPr/>
        </p:nvPicPr>
        <p:blipFill>
          <a:blip r:embed="rId9"/>
          <a:stretch/>
        </p:blipFill>
        <p:spPr>
          <a:xfrm>
            <a:off x="3395520" y="-45936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97" name="矩形 22"/>
          <p:cNvSpPr/>
          <p:nvPr/>
        </p:nvSpPr>
        <p:spPr>
          <a:xfrm>
            <a:off x="1043640" y="2370960"/>
            <a:ext cx="7272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30708"/>
                </a:solidFill>
                <a:latin typeface="华文隶书"/>
                <a:ea typeface="华文隶书"/>
              </a:rPr>
              <a:t>精美水墨画中国风</a:t>
            </a:r>
            <a:r>
              <a:rPr b="0" lang="en-US" sz="4000" spc="-1" strike="noStrike">
                <a:solidFill>
                  <a:srgbClr val="030708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30708"/>
                </a:solidFill>
                <a:latin typeface="华文隶书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2349000"/>
            <a:ext cx="5724360" cy="23695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1253880" y="3008160"/>
            <a:ext cx="28857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存在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3996000" y="1203840"/>
            <a:ext cx="2280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需求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081320" y="1845720"/>
            <a:ext cx="4882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保险费率居高不下，常规演出望而却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保险公司宣传不够，相关险种鲜为人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政府依赖根深蒂固，自主防范意识短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996000" y="4198680"/>
            <a:ext cx="2282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供给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4081320" y="4870080"/>
            <a:ext cx="48826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保险消费需求不足，大数法则恶性循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演出风险评估困难，新入险种开发受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运作缺乏行业规范，政策实施力度不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26960" y="231840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5"/>
          <p:cNvSpPr/>
          <p:nvPr/>
        </p:nvSpPr>
        <p:spPr>
          <a:xfrm>
            <a:off x="3852000" y="908640"/>
            <a:ext cx="12236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2" descr="C:\Users\owen\Desktop\肖雅婷\未标题-21.png"/>
          <p:cNvPicPr/>
          <p:nvPr/>
        </p:nvPicPr>
        <p:blipFill>
          <a:blip r:embed="rId1"/>
          <a:stretch/>
        </p:blipFill>
        <p:spPr>
          <a:xfrm>
            <a:off x="3394080" y="-46116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0800000">
            <a:off x="3317400" y="505476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3826080" y="2421000"/>
            <a:ext cx="92304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存在的问题与解决之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3852000" y="2449800"/>
            <a:ext cx="492120" cy="24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problems and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owen\Desktop\肖雅婷\3.png"/>
          <p:cNvPicPr/>
          <p:nvPr/>
        </p:nvPicPr>
        <p:blipFill>
          <a:blip r:embed="rId1"/>
          <a:srcRect l="0" t="22410" r="0" b="24295"/>
          <a:stretch/>
        </p:blipFill>
        <p:spPr>
          <a:xfrm>
            <a:off x="18360" y="624240"/>
            <a:ext cx="9175320" cy="3261600"/>
          </a:xfrm>
          <a:prstGeom prst="rect">
            <a:avLst/>
          </a:prstGeom>
          <a:ln w="0">
            <a:noFill/>
          </a:ln>
        </p:spPr>
      </p:pic>
      <p:grpSp>
        <p:nvGrpSpPr>
          <p:cNvPr id="198" name="组合 7"/>
          <p:cNvGrpSpPr/>
          <p:nvPr/>
        </p:nvGrpSpPr>
        <p:grpSpPr>
          <a:xfrm>
            <a:off x="827640" y="764640"/>
            <a:ext cx="4626360" cy="2257200"/>
            <a:chOff x="827640" y="764640"/>
            <a:chExt cx="4626360" cy="2257200"/>
          </a:xfrm>
        </p:grpSpPr>
        <p:sp>
          <p:nvSpPr>
            <p:cNvPr id="199" name="Text Box 17"/>
            <p:cNvSpPr/>
            <p:nvPr/>
          </p:nvSpPr>
          <p:spPr>
            <a:xfrm>
              <a:off x="846000" y="1692360"/>
              <a:ext cx="389376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政策落实，立法护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5"/>
            <p:cNvSpPr/>
            <p:nvPr/>
          </p:nvSpPr>
          <p:spPr>
            <a:xfrm>
              <a:off x="827640" y="76464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6"/>
            <p:cNvSpPr/>
            <p:nvPr/>
          </p:nvSpPr>
          <p:spPr>
            <a:xfrm>
              <a:off x="882360" y="2133000"/>
              <a:ext cx="457164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降低行业门槛，扩大供给市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提供政策优惠，吸引资金激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完善文化立法，借助强制手段</a:t>
              </a: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、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9"/>
          <p:cNvGrpSpPr/>
          <p:nvPr/>
        </p:nvGrpSpPr>
        <p:grpSpPr>
          <a:xfrm>
            <a:off x="5129640" y="2133000"/>
            <a:ext cx="4626720" cy="2523240"/>
            <a:chOff x="5129640" y="2133000"/>
            <a:chExt cx="4626720" cy="2523240"/>
          </a:xfrm>
        </p:grpSpPr>
        <p:sp>
          <p:nvSpPr>
            <p:cNvPr id="203" name="Text Box 17"/>
            <p:cNvSpPr/>
            <p:nvPr/>
          </p:nvSpPr>
          <p:spPr>
            <a:xfrm>
              <a:off x="5148000" y="3060360"/>
              <a:ext cx="389376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完善险种，提高服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1"/>
            <p:cNvSpPr/>
            <p:nvPr/>
          </p:nvSpPr>
          <p:spPr>
            <a:xfrm>
              <a:off x="5129640" y="213300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2"/>
            <p:cNvSpPr/>
            <p:nvPr/>
          </p:nvSpPr>
          <p:spPr>
            <a:xfrm>
              <a:off x="5184720" y="3501000"/>
              <a:ext cx="4571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推出“保险套餐”，节约交易时间成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利用广告效应，促进产品普及和销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完善“再保险”体系，合理调整费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ffffff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、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3"/>
          <p:cNvGrpSpPr/>
          <p:nvPr/>
        </p:nvGrpSpPr>
        <p:grpSpPr>
          <a:xfrm>
            <a:off x="1595520" y="4263120"/>
            <a:ext cx="3912120" cy="1392840"/>
            <a:chOff x="1595520" y="4263120"/>
            <a:chExt cx="3912120" cy="1392840"/>
          </a:xfrm>
        </p:grpSpPr>
        <p:sp>
          <p:nvSpPr>
            <p:cNvPr id="207" name="Text Box 17"/>
            <p:cNvSpPr/>
            <p:nvPr/>
          </p:nvSpPr>
          <p:spPr>
            <a:xfrm>
              <a:off x="1613880" y="5190480"/>
              <a:ext cx="389376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spAutoFit/>
            </a:bodyPr>
            <a:p>
              <a:pPr>
                <a:lnSpc>
                  <a:spcPct val="9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增强意识，促进开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5"/>
            <p:cNvSpPr/>
            <p:nvPr/>
          </p:nvSpPr>
          <p:spPr>
            <a:xfrm>
              <a:off x="1595520" y="426312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9"/>
          <p:cNvSpPr/>
          <p:nvPr/>
        </p:nvSpPr>
        <p:spPr>
          <a:xfrm>
            <a:off x="82764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2697840"/>
            <a:ext cx="5724360" cy="2369520"/>
          </a:xfrm>
          <a:prstGeom prst="rect">
            <a:avLst/>
          </a:prstGeom>
          <a:ln w="0">
            <a:noFill/>
          </a:ln>
        </p:spPr>
      </p:pic>
      <p:grpSp>
        <p:nvGrpSpPr>
          <p:cNvPr id="211" name="组合 3"/>
          <p:cNvGrpSpPr/>
          <p:nvPr/>
        </p:nvGrpSpPr>
        <p:grpSpPr>
          <a:xfrm>
            <a:off x="899640" y="476640"/>
            <a:ext cx="4574880" cy="1638000"/>
            <a:chOff x="899640" y="476640"/>
            <a:chExt cx="4574880" cy="1638000"/>
          </a:xfrm>
        </p:grpSpPr>
        <p:sp>
          <p:nvSpPr>
            <p:cNvPr id="212" name="Text Box 8"/>
            <p:cNvSpPr/>
            <p:nvPr/>
          </p:nvSpPr>
          <p:spPr>
            <a:xfrm>
              <a:off x="899640" y="476640"/>
              <a:ext cx="45748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一、文化演出保险印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9"/>
            <p:cNvSpPr/>
            <p:nvPr/>
          </p:nvSpPr>
          <p:spPr>
            <a:xfrm>
              <a:off x="1159920" y="959400"/>
              <a:ext cx="413208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（一）演出保险历史溯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人身意外伤害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责任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险种开发现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2"/>
          <p:cNvGrpSpPr/>
          <p:nvPr/>
        </p:nvGrpSpPr>
        <p:grpSpPr>
          <a:xfrm>
            <a:off x="899640" y="2315520"/>
            <a:ext cx="6203520" cy="2032200"/>
            <a:chOff x="899640" y="2315520"/>
            <a:chExt cx="6203520" cy="2032200"/>
          </a:xfrm>
        </p:grpSpPr>
        <p:sp>
          <p:nvSpPr>
            <p:cNvPr id="215" name="Text Box 10"/>
            <p:cNvSpPr/>
            <p:nvPr/>
          </p:nvSpPr>
          <p:spPr>
            <a:xfrm>
              <a:off x="899640" y="2315520"/>
              <a:ext cx="62035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二、文化演出保险市场现状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1125000" y="2926080"/>
              <a:ext cx="596700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（一）演出保险供求分析     （二）演出产业链风险分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需求分析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资金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供给分析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信用、票务服务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演出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4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产品或服务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"/>
          <p:cNvGrpSpPr/>
          <p:nvPr/>
        </p:nvGrpSpPr>
        <p:grpSpPr>
          <a:xfrm>
            <a:off x="971640" y="4440600"/>
            <a:ext cx="6160680" cy="1782360"/>
            <a:chOff x="971640" y="4440600"/>
            <a:chExt cx="6160680" cy="1782360"/>
          </a:xfrm>
        </p:grpSpPr>
        <p:sp>
          <p:nvSpPr>
            <p:cNvPr id="218" name="Text Box 12"/>
            <p:cNvSpPr/>
            <p:nvPr/>
          </p:nvSpPr>
          <p:spPr>
            <a:xfrm>
              <a:off x="971640" y="4440600"/>
              <a:ext cx="4701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三、存在的问题与解决之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3"/>
            <p:cNvSpPr/>
            <p:nvPr/>
          </p:nvSpPr>
          <p:spPr>
            <a:xfrm>
              <a:off x="1123920" y="5067720"/>
              <a:ext cx="60084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5000"/>
                </a:lnSpc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（一）存在问题              （二）解决之道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需求问题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政策落实，立法护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供给问题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完善险种，提高服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                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、增强意识，促进开发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0"/>
          <p:cNvSpPr/>
          <p:nvPr/>
        </p:nvSpPr>
        <p:spPr>
          <a:xfrm>
            <a:off x="3636000" y="2349000"/>
            <a:ext cx="1728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996000" y="3638520"/>
            <a:ext cx="1728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5228280" y="3625920"/>
            <a:ext cx="4887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您的聆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5292000" y="4046760"/>
            <a:ext cx="32144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Calibri"/>
              </a:rPr>
              <a:t>Thanks for liste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花瓣5"/>
          <p:cNvPicPr/>
          <p:nvPr/>
        </p:nvPicPr>
        <p:blipFill>
          <a:blip r:embed="rId1"/>
          <a:srcRect l="33300" t="38005" r="45335" b="44004"/>
          <a:stretch/>
        </p:blipFill>
        <p:spPr>
          <a:xfrm>
            <a:off x="683640" y="2335320"/>
            <a:ext cx="931680" cy="11134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花瓣4"/>
          <p:cNvPicPr/>
          <p:nvPr/>
        </p:nvPicPr>
        <p:blipFill>
          <a:blip r:embed="rId2"/>
          <a:srcRect l="25567" t="89260" r="34865" b="0"/>
          <a:stretch/>
        </p:blipFill>
        <p:spPr>
          <a:xfrm>
            <a:off x="2751840" y="6409440"/>
            <a:ext cx="1162800" cy="448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花瓣"/>
          <p:cNvPicPr/>
          <p:nvPr/>
        </p:nvPicPr>
        <p:blipFill>
          <a:blip r:embed="rId3"/>
          <a:srcRect l="29998" t="30975" r="35884" b="41477"/>
          <a:stretch/>
        </p:blipFill>
        <p:spPr>
          <a:xfrm>
            <a:off x="5508000" y="2784960"/>
            <a:ext cx="813240" cy="931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3" descr="花瓣2"/>
          <p:cNvPicPr/>
          <p:nvPr/>
        </p:nvPicPr>
        <p:blipFill>
          <a:blip r:embed="rId4"/>
          <a:srcRect l="28501" t="56065" r="23593" b="0"/>
          <a:stretch/>
        </p:blipFill>
        <p:spPr>
          <a:xfrm>
            <a:off x="8034120" y="4897440"/>
            <a:ext cx="1505880" cy="196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4" descr="花瓣3"/>
          <p:cNvPicPr/>
          <p:nvPr/>
        </p:nvPicPr>
        <p:blipFill>
          <a:blip r:embed="rId5"/>
          <a:srcRect l="0" t="52299" r="50010" b="0"/>
          <a:stretch/>
        </p:blipFill>
        <p:spPr>
          <a:xfrm>
            <a:off x="0" y="5345640"/>
            <a:ext cx="917280" cy="15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3664800"/>
            <a:ext cx="5724360" cy="23695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" descr=""/>
          <p:cNvPicPr/>
          <p:nvPr/>
        </p:nvPicPr>
        <p:blipFill>
          <a:blip r:embed="rId2"/>
          <a:stretch/>
        </p:blipFill>
        <p:spPr>
          <a:xfrm>
            <a:off x="857160" y="1216080"/>
            <a:ext cx="514080" cy="8776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2" descr=""/>
          <p:cNvPicPr/>
          <p:nvPr/>
        </p:nvPicPr>
        <p:blipFill>
          <a:blip r:embed="rId3"/>
          <a:stretch/>
        </p:blipFill>
        <p:spPr>
          <a:xfrm>
            <a:off x="2000160" y="1212840"/>
            <a:ext cx="871200" cy="8712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755640" y="3429000"/>
            <a:ext cx="5143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二、文化演出保险市场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5640" y="4529880"/>
            <a:ext cx="40003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三、存在的问题与解决之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4"/>
          <p:cNvSpPr/>
          <p:nvPr/>
        </p:nvSpPr>
        <p:spPr>
          <a:xfrm>
            <a:off x="785520" y="2141280"/>
            <a:ext cx="3929040" cy="1800"/>
          </a:xfrm>
          <a:prstGeom prst="line">
            <a:avLst/>
          </a:prstGeom>
          <a:ln w="12700">
            <a:solidFill>
              <a:srgbClr val="8585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1429200" y="2709000"/>
            <a:ext cx="321444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int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1403640" y="3789000"/>
            <a:ext cx="3499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market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1403640" y="4931280"/>
            <a:ext cx="27856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problems and sol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770400" y="2337120"/>
            <a:ext cx="6068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一、文化演出保险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C:\Users\owen\Desktop\肖雅婷\未标题-21.png"/>
          <p:cNvPicPr/>
          <p:nvPr/>
        </p:nvPicPr>
        <p:blipFill>
          <a:blip r:embed="rId4"/>
          <a:stretch/>
        </p:blipFill>
        <p:spPr>
          <a:xfrm rot="5400000">
            <a:off x="7308720" y="51120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1"/>
          <p:cNvGrpSpPr/>
          <p:nvPr/>
        </p:nvGrpSpPr>
        <p:grpSpPr>
          <a:xfrm>
            <a:off x="1331640" y="1785960"/>
            <a:ext cx="8058600" cy="3261960"/>
            <a:chOff x="1331640" y="1785960"/>
            <a:chExt cx="8058600" cy="3261960"/>
          </a:xfrm>
        </p:grpSpPr>
        <p:pic>
          <p:nvPicPr>
            <p:cNvPr id="111" name="图片 2" descr=""/>
            <p:cNvPicPr/>
            <p:nvPr/>
          </p:nvPicPr>
          <p:blipFill>
            <a:blip r:embed="rId1"/>
            <a:stretch/>
          </p:blipFill>
          <p:spPr>
            <a:xfrm>
              <a:off x="1752840" y="1785960"/>
              <a:ext cx="2300040" cy="32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Box 15"/>
            <p:cNvSpPr/>
            <p:nvPr/>
          </p:nvSpPr>
          <p:spPr>
            <a:xfrm>
              <a:off x="1331640" y="2421000"/>
              <a:ext cx="3214440" cy="14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1"/>
            <p:cNvSpPr/>
            <p:nvPr/>
          </p:nvSpPr>
          <p:spPr>
            <a:xfrm>
              <a:off x="3322080" y="3213000"/>
              <a:ext cx="60681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文化演出保险印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10"/>
            <p:cNvSpPr/>
            <p:nvPr/>
          </p:nvSpPr>
          <p:spPr>
            <a:xfrm>
              <a:off x="3394080" y="3645000"/>
              <a:ext cx="32144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444444"/>
                  </a:solidFill>
                  <a:latin typeface="Meiryo"/>
                  <a:ea typeface="Meiryo"/>
                </a:rPr>
                <a:t>int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1315800" y="52916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2" descr=""/>
          <p:cNvPicPr/>
          <p:nvPr/>
        </p:nvPicPr>
        <p:blipFill>
          <a:blip r:embed="rId1"/>
          <a:srcRect l="49263" t="44761" r="0" b="42163"/>
          <a:stretch/>
        </p:blipFill>
        <p:spPr>
          <a:xfrm flipH="1">
            <a:off x="360" y="3493440"/>
            <a:ext cx="3070800" cy="896400"/>
          </a:xfrm>
          <a:prstGeom prst="rect">
            <a:avLst/>
          </a:prstGeom>
          <a:ln w="0">
            <a:noFill/>
          </a:ln>
        </p:spPr>
      </p:pic>
      <p:grpSp>
        <p:nvGrpSpPr>
          <p:cNvPr id="118" name="组合 6"/>
          <p:cNvGrpSpPr/>
          <p:nvPr/>
        </p:nvGrpSpPr>
        <p:grpSpPr>
          <a:xfrm>
            <a:off x="683640" y="33480"/>
            <a:ext cx="2880000" cy="2802240"/>
            <a:chOff x="683640" y="33480"/>
            <a:chExt cx="2880000" cy="2802240"/>
          </a:xfrm>
        </p:grpSpPr>
        <p:sp>
          <p:nvSpPr>
            <p:cNvPr id="119" name="矩形 1"/>
            <p:cNvSpPr/>
            <p:nvPr/>
          </p:nvSpPr>
          <p:spPr>
            <a:xfrm>
              <a:off x="1375200" y="825480"/>
              <a:ext cx="18878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人身意外伤害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4"/>
            <p:cNvSpPr/>
            <p:nvPr/>
          </p:nvSpPr>
          <p:spPr>
            <a:xfrm>
              <a:off x="755640" y="1414080"/>
              <a:ext cx="2808000" cy="14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929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梅兰芳访美演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F4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2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张学友重庆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8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纪念张国荣</a:t>
              </a: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-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蓝光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里蓝山继续宠爱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5"/>
            <p:cNvSpPr/>
            <p:nvPr/>
          </p:nvSpPr>
          <p:spPr>
            <a:xfrm>
              <a:off x="683640" y="3348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7"/>
          <p:cNvGrpSpPr/>
          <p:nvPr/>
        </p:nvGrpSpPr>
        <p:grpSpPr>
          <a:xfrm>
            <a:off x="4716000" y="1484640"/>
            <a:ext cx="2880000" cy="2292840"/>
            <a:chOff x="4716000" y="1484640"/>
            <a:chExt cx="2880000" cy="2292840"/>
          </a:xfrm>
        </p:grpSpPr>
        <p:sp>
          <p:nvSpPr>
            <p:cNvPr id="123" name="矩形 2"/>
            <p:cNvSpPr/>
            <p:nvPr/>
          </p:nvSpPr>
          <p:spPr>
            <a:xfrm>
              <a:off x="5081040" y="2349000"/>
              <a:ext cx="1034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责任保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0"/>
            <p:cNvSpPr/>
            <p:nvPr/>
          </p:nvSpPr>
          <p:spPr>
            <a:xfrm>
              <a:off x="4788000" y="2888640"/>
              <a:ext cx="280800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1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三大男高音紫禁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广场音乐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en-US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003</a:t>
              </a: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年，滚石工体演唱会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21"/>
            <p:cNvSpPr/>
            <p:nvPr/>
          </p:nvSpPr>
          <p:spPr>
            <a:xfrm>
              <a:off x="4716000" y="148464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8"/>
          <p:cNvGrpSpPr/>
          <p:nvPr/>
        </p:nvGrpSpPr>
        <p:grpSpPr>
          <a:xfrm>
            <a:off x="1691640" y="2709000"/>
            <a:ext cx="4680000" cy="3128040"/>
            <a:chOff x="1691640" y="2709000"/>
            <a:chExt cx="4680000" cy="3128040"/>
          </a:xfrm>
        </p:grpSpPr>
        <p:sp>
          <p:nvSpPr>
            <p:cNvPr id="127" name="矩形 3"/>
            <p:cNvSpPr/>
            <p:nvPr/>
          </p:nvSpPr>
          <p:spPr>
            <a:xfrm>
              <a:off x="2235960" y="3582000"/>
              <a:ext cx="1461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经典繁毛楷"/>
                  <a:ea typeface="经典繁毛楷"/>
                </a:rPr>
                <a:t>险种开发现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24"/>
            <p:cNvSpPr/>
            <p:nvPr/>
          </p:nvSpPr>
          <p:spPr>
            <a:xfrm>
              <a:off x="1763640" y="4149000"/>
              <a:ext cx="4608000" cy="16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活动财产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活动公众责任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活动取消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演艺及文化传播人员意外和健康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文化企业贷款保证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5000"/>
                </a:lnSpc>
                <a:buClr>
                  <a:srgbClr val="000000"/>
                </a:buClr>
                <a:buFont typeface="Wingdings" charset="2"/>
                <a:buChar char=""/>
              </a:pPr>
              <a:r>
                <a:rPr b="0" lang="zh-CN" sz="14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文化活动公共安全综合保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25"/>
            <p:cNvSpPr/>
            <p:nvPr/>
          </p:nvSpPr>
          <p:spPr>
            <a:xfrm>
              <a:off x="1691640" y="2709000"/>
              <a:ext cx="9540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矩形 9"/>
          <p:cNvSpPr/>
          <p:nvPr/>
        </p:nvSpPr>
        <p:spPr>
          <a:xfrm>
            <a:off x="3780000" y="5877360"/>
            <a:ext cx="666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《关于保险业支持文化产业发展有关工作的通知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3" descr=""/>
          <p:cNvPicPr/>
          <p:nvPr/>
        </p:nvPicPr>
        <p:blipFill>
          <a:blip r:embed="rId1"/>
          <a:srcRect l="0" t="28940" r="0" b="0"/>
          <a:stretch/>
        </p:blipFill>
        <p:spPr>
          <a:xfrm>
            <a:off x="0" y="3611880"/>
            <a:ext cx="7596000" cy="6412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5"/>
          <p:cNvSpPr/>
          <p:nvPr/>
        </p:nvSpPr>
        <p:spPr>
          <a:xfrm>
            <a:off x="3056040" y="2205000"/>
            <a:ext cx="321444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4254480" y="2925000"/>
            <a:ext cx="6068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文化演出保险市场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4282200" y="3395880"/>
            <a:ext cx="3499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444444"/>
                </a:solidFill>
                <a:latin typeface="Meiryo"/>
                <a:ea typeface="Meiryo"/>
              </a:rPr>
              <a:t>market analy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68360" y="191736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400">
        <p14:ripple/>
      </p:transition>
    </mc:Choice>
    <mc:Fallback>
      <p:transition spd="slow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"/>
          <p:cNvSpPr/>
          <p:nvPr/>
        </p:nvSpPr>
        <p:spPr>
          <a:xfrm>
            <a:off x="447840" y="3049920"/>
            <a:ext cx="60681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需求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91840" y="3842640"/>
            <a:ext cx="4896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投保行为集中于涉外演出，国内鲜有重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投保行为集中于大型商演，常态剧院少有参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12" descr=""/>
          <p:cNvPicPr/>
          <p:nvPr/>
        </p:nvPicPr>
        <p:blipFill>
          <a:blip r:embed="rId1"/>
          <a:srcRect l="49263" t="44761" r="0" b="42163"/>
          <a:stretch/>
        </p:blipFill>
        <p:spPr>
          <a:xfrm>
            <a:off x="6131160" y="4509000"/>
            <a:ext cx="3012480" cy="89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图表 7"/>
          <p:cNvGraphicFramePr/>
          <p:nvPr/>
        </p:nvGraphicFramePr>
        <p:xfrm>
          <a:off x="467640" y="1382040"/>
          <a:ext cx="5904360" cy="360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1" name="Text Box 8"/>
          <p:cNvSpPr/>
          <p:nvPr/>
        </p:nvSpPr>
        <p:spPr>
          <a:xfrm>
            <a:off x="2699640" y="5400000"/>
            <a:ext cx="2338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专业演出场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009400" y="5005800"/>
            <a:ext cx="345060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幼圆"/>
                <a:ea typeface="幼圆"/>
              </a:rPr>
              <a:t>54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467640" y="923760"/>
            <a:ext cx="396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中国演出市场收入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593640" y="3904200"/>
            <a:ext cx="37555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2011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7055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个艺术团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演出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54.72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万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增加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7.57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万场增长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2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艺术团体总收入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155.46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亿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增长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31.53</a:t>
            </a: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亿元增长</a:t>
            </a:r>
            <a:r>
              <a:rPr b="0" lang="en-US" sz="1400" spc="-1" strike="noStrike">
                <a:solidFill>
                  <a:srgbClr val="000000"/>
                </a:solidFill>
                <a:latin typeface="幼圆"/>
                <a:ea typeface="幼圆"/>
              </a:rPr>
              <a:t>25.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2" descr="C:\Users\owen\Desktop\肖雅婷\未标题-21.png"/>
          <p:cNvPicPr/>
          <p:nvPr/>
        </p:nvPicPr>
        <p:blipFill>
          <a:blip r:embed="rId1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26960" y="2390400"/>
            <a:ext cx="2262600" cy="2262600"/>
          </a:xfrm>
          <a:prstGeom prst="rect">
            <a:avLst/>
          </a:prstGeom>
          <a:ln w="0">
            <a:noFill/>
          </a:ln>
        </p:spPr>
      </p:pic>
      <p:sp>
        <p:nvSpPr>
          <p:cNvPr id="147" name="矩形 22"/>
          <p:cNvSpPr/>
          <p:nvPr/>
        </p:nvSpPr>
        <p:spPr>
          <a:xfrm>
            <a:off x="5344200" y="3112200"/>
            <a:ext cx="60681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供求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0"/>
          <p:cNvSpPr/>
          <p:nvPr/>
        </p:nvSpPr>
        <p:spPr>
          <a:xfrm>
            <a:off x="4228560" y="3842640"/>
            <a:ext cx="36356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政策颁布时日已久，鲜有公司试水落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  <a:ea typeface="幼圆"/>
              </a:rPr>
              <a:t>险种条例尚未成熟，新入险种市场空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3"/>
          <a:stretch/>
        </p:blipFill>
        <p:spPr>
          <a:xfrm>
            <a:off x="1187640" y="1917000"/>
            <a:ext cx="6863760" cy="4203000"/>
          </a:xfrm>
          <a:prstGeom prst="rect">
            <a:avLst/>
          </a:prstGeom>
          <a:ln w="0">
            <a:noFill/>
          </a:ln>
        </p:spPr>
      </p:pic>
      <p:sp>
        <p:nvSpPr>
          <p:cNvPr id="150" name="矩形 11"/>
          <p:cNvSpPr/>
          <p:nvPr/>
        </p:nvSpPr>
        <p:spPr>
          <a:xfrm>
            <a:off x="5709240" y="1269720"/>
            <a:ext cx="1827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意外险保费收入和增幅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4365360" y="548640"/>
            <a:ext cx="3983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2000-2011</a:t>
            </a:r>
            <a:r>
              <a:rPr b="0" lang="zh-CN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5"/>
          <p:cNvGrpSpPr/>
          <p:nvPr/>
        </p:nvGrpSpPr>
        <p:grpSpPr>
          <a:xfrm>
            <a:off x="2376360" y="3107160"/>
            <a:ext cx="4571640" cy="1104120"/>
            <a:chOff x="2376360" y="3107160"/>
            <a:chExt cx="4571640" cy="1104120"/>
          </a:xfrm>
        </p:grpSpPr>
        <p:sp>
          <p:nvSpPr>
            <p:cNvPr id="153" name="矩形 13"/>
            <p:cNvSpPr/>
            <p:nvPr/>
          </p:nvSpPr>
          <p:spPr>
            <a:xfrm>
              <a:off x="2376360" y="3420720"/>
              <a:ext cx="45716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334.12 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亿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4"/>
            <p:cNvSpPr/>
            <p:nvPr/>
          </p:nvSpPr>
          <p:spPr>
            <a:xfrm>
              <a:off x="3961440" y="3107160"/>
              <a:ext cx="29228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1.5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2" descr="C:\Users\owen\Desktop\肖雅婷\未标题-21.png"/>
          <p:cNvPicPr/>
          <p:nvPr/>
        </p:nvPicPr>
        <p:blipFill>
          <a:blip r:embed="rId1"/>
          <a:stretch/>
        </p:blipFill>
        <p:spPr>
          <a:xfrm rot="5400000">
            <a:off x="7308720" y="238644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16200000">
            <a:off x="-426960" y="2390400"/>
            <a:ext cx="2262600" cy="2262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3"/>
          <a:stretch/>
        </p:blipFill>
        <p:spPr>
          <a:xfrm>
            <a:off x="1331640" y="1628640"/>
            <a:ext cx="6473520" cy="3866760"/>
          </a:xfrm>
          <a:prstGeom prst="rect">
            <a:avLst/>
          </a:prstGeom>
          <a:ln w="0">
            <a:noFill/>
          </a:ln>
        </p:spPr>
      </p:pic>
      <p:sp>
        <p:nvSpPr>
          <p:cNvPr id="158" name="矩形 7"/>
          <p:cNvSpPr/>
          <p:nvPr/>
        </p:nvSpPr>
        <p:spPr>
          <a:xfrm>
            <a:off x="5565240" y="1197720"/>
            <a:ext cx="1827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财产险保费收入和增幅对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/>
          <p:cNvSpPr/>
          <p:nvPr/>
        </p:nvSpPr>
        <p:spPr>
          <a:xfrm>
            <a:off x="4221360" y="476640"/>
            <a:ext cx="3983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2000-2011</a:t>
            </a:r>
            <a:r>
              <a:rPr b="0" lang="zh-CN" sz="48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组合 9"/>
          <p:cNvGrpSpPr/>
          <p:nvPr/>
        </p:nvGrpSpPr>
        <p:grpSpPr>
          <a:xfrm>
            <a:off x="2376360" y="3107160"/>
            <a:ext cx="4697280" cy="1004040"/>
            <a:chOff x="2376360" y="3107160"/>
            <a:chExt cx="4697280" cy="1004040"/>
          </a:xfrm>
        </p:grpSpPr>
        <p:sp>
          <p:nvSpPr>
            <p:cNvPr id="161" name="矩形 10"/>
            <p:cNvSpPr/>
            <p:nvPr/>
          </p:nvSpPr>
          <p:spPr>
            <a:xfrm>
              <a:off x="2376360" y="3420720"/>
              <a:ext cx="4571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4617.82</a:t>
              </a:r>
              <a:r>
                <a:rPr b="0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亿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11"/>
            <p:cNvSpPr/>
            <p:nvPr/>
          </p:nvSpPr>
          <p:spPr>
            <a:xfrm>
              <a:off x="4150800" y="3107160"/>
              <a:ext cx="29228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60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18.54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墨山水"/>
          <p:cNvPicPr/>
          <p:nvPr/>
        </p:nvPicPr>
        <p:blipFill>
          <a:blip r:embed="rId1"/>
          <a:srcRect l="0" t="0" r="43914" b="45135"/>
          <a:stretch/>
        </p:blipFill>
        <p:spPr>
          <a:xfrm flipH="1">
            <a:off x="3419640" y="3573000"/>
            <a:ext cx="5724360" cy="2369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67640" y="1795320"/>
            <a:ext cx="53283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000000"/>
                </a:solidFill>
                <a:latin typeface="经典繁毛楷"/>
                <a:ea typeface="经典繁毛楷"/>
              </a:rPr>
              <a:t>演出产业链风险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4100"/>
          <p:cNvGrpSpPr/>
          <p:nvPr/>
        </p:nvGrpSpPr>
        <p:grpSpPr>
          <a:xfrm>
            <a:off x="611640" y="2997000"/>
            <a:ext cx="4680720" cy="2808000"/>
            <a:chOff x="611640" y="2997000"/>
            <a:chExt cx="4680720" cy="2808000"/>
          </a:xfrm>
        </p:grpSpPr>
        <p:grpSp>
          <p:nvGrpSpPr>
            <p:cNvPr id="166" name="组合 4096"/>
            <p:cNvGrpSpPr/>
            <p:nvPr/>
          </p:nvGrpSpPr>
          <p:grpSpPr>
            <a:xfrm>
              <a:off x="611640" y="2997000"/>
              <a:ext cx="4680720" cy="2592000"/>
              <a:chOff x="611640" y="2997000"/>
              <a:chExt cx="4680720" cy="2592000"/>
            </a:xfrm>
          </p:grpSpPr>
          <p:sp>
            <p:nvSpPr>
              <p:cNvPr id="167" name="矩形 7"/>
              <p:cNvSpPr/>
              <p:nvPr/>
            </p:nvSpPr>
            <p:spPr>
              <a:xfrm>
                <a:off x="611640" y="4005000"/>
                <a:ext cx="2160000" cy="719640"/>
              </a:xfrm>
              <a:prstGeom prst="rect">
                <a:avLst/>
              </a:prstGeom>
              <a:solidFill>
                <a:schemeClr val="tx1">
                  <a:lumMod val="65000"/>
                  <a:lumOff val="3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演出保险行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矩形 9"/>
              <p:cNvSpPr/>
              <p:nvPr/>
            </p:nvSpPr>
            <p:spPr>
              <a:xfrm>
                <a:off x="3419280" y="299700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资金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矩形 10"/>
              <p:cNvSpPr/>
              <p:nvPr/>
            </p:nvSpPr>
            <p:spPr>
              <a:xfrm>
                <a:off x="3420000" y="357300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演出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矩形 11"/>
              <p:cNvSpPr/>
              <p:nvPr/>
            </p:nvSpPr>
            <p:spPr>
              <a:xfrm>
                <a:off x="3419280" y="414900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产品或服务链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矩形 12"/>
              <p:cNvSpPr/>
              <p:nvPr/>
            </p:nvSpPr>
            <p:spPr>
              <a:xfrm>
                <a:off x="3420000" y="4725360"/>
                <a:ext cx="1872360" cy="467640"/>
              </a:xfrm>
              <a:prstGeom prst="rect">
                <a:avLst/>
              </a:prstGeom>
              <a:solidFill>
                <a:schemeClr val="tx1">
                  <a:lumMod val="95000"/>
                  <a:lumOff val="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信用或票务服务链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cxnSp>
            <p:nvCxnSpPr>
              <p:cNvPr id="172" name="直接连接符 13"/>
              <p:cNvCxnSpPr/>
              <p:nvPr/>
            </p:nvCxnSpPr>
            <p:spPr>
              <a:xfrm>
                <a:off x="4355280" y="3465000"/>
                <a:ext cx="1080" cy="108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3" name="直接连接符 15"/>
              <p:cNvCxnSpPr/>
              <p:nvPr/>
            </p:nvCxnSpPr>
            <p:spPr>
              <a:xfrm flipH="1">
                <a:off x="4355280" y="4041000"/>
                <a:ext cx="720" cy="108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4" name="直接连接符 16"/>
              <p:cNvCxnSpPr/>
              <p:nvPr/>
            </p:nvCxnSpPr>
            <p:spPr>
              <a:xfrm>
                <a:off x="4355640" y="4617000"/>
                <a:ext cx="720" cy="108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5" name="直接连接符 20"/>
              <p:cNvCxnSpPr/>
              <p:nvPr/>
            </p:nvCxnSpPr>
            <p:spPr>
              <a:xfrm flipH="1">
                <a:off x="3130920" y="3230640"/>
                <a:ext cx="1080" cy="235872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6" name="直接连接符 24"/>
              <p:cNvCxnSpPr/>
              <p:nvPr/>
            </p:nvCxnSpPr>
            <p:spPr>
              <a:xfrm>
                <a:off x="3131640" y="323064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7" name="直接连接符 27"/>
              <p:cNvCxnSpPr/>
              <p:nvPr/>
            </p:nvCxnSpPr>
            <p:spPr>
              <a:xfrm>
                <a:off x="3132360" y="382500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8" name="直接连接符 28"/>
              <p:cNvCxnSpPr/>
              <p:nvPr/>
            </p:nvCxnSpPr>
            <p:spPr>
              <a:xfrm>
                <a:off x="3131640" y="440100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79" name="直接连接符 29"/>
              <p:cNvCxnSpPr/>
              <p:nvPr/>
            </p:nvCxnSpPr>
            <p:spPr>
              <a:xfrm>
                <a:off x="3131640" y="4977000"/>
                <a:ext cx="287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  <p:cxnSp>
            <p:nvCxnSpPr>
              <p:cNvPr id="180" name="直接连接符 30"/>
              <p:cNvCxnSpPr/>
              <p:nvPr/>
            </p:nvCxnSpPr>
            <p:spPr>
              <a:xfrm>
                <a:off x="2771640" y="4383720"/>
                <a:ext cx="359640" cy="360"/>
              </a:xfrm>
              <a:prstGeom prst="straightConnector1">
                <a:avLst/>
              </a:prstGeom>
              <a:ln>
                <a:solidFill>
                  <a:srgbClr val="000000"/>
                </a:solidFill>
                <a:round/>
              </a:ln>
            </p:spPr>
          </p:cxnSp>
        </p:grpSp>
        <p:sp>
          <p:nvSpPr>
            <p:cNvPr id="181" name="矩形 34"/>
            <p:cNvSpPr/>
            <p:nvPr/>
          </p:nvSpPr>
          <p:spPr>
            <a:xfrm>
              <a:off x="3420000" y="5337360"/>
              <a:ext cx="1872360" cy="467640"/>
            </a:xfrm>
            <a:prstGeom prst="rect">
              <a:avLst/>
            </a:prstGeom>
            <a:solidFill>
              <a:schemeClr val="tx1">
                <a:lumMod val="95000"/>
                <a:lumOff val="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宏观环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直接连接符 35"/>
            <p:cNvCxnSpPr>
              <a:endCxn id="181" idx="0"/>
            </p:cNvCxnSpPr>
            <p:nvPr/>
          </p:nvCxnSpPr>
          <p:spPr>
            <a:xfrm>
              <a:off x="4356000" y="5193000"/>
              <a:ext cx="360" cy="144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  <p:cxnSp>
          <p:nvCxnSpPr>
            <p:cNvPr id="183" name="直接连接符 36"/>
            <p:cNvCxnSpPr/>
            <p:nvPr/>
          </p:nvCxnSpPr>
          <p:spPr>
            <a:xfrm>
              <a:off x="3131640" y="5589000"/>
              <a:ext cx="287640" cy="360"/>
            </a:xfrm>
            <a:prstGeom prst="straightConnector1">
              <a:avLst/>
            </a:prstGeom>
            <a:ln>
              <a:solidFill>
                <a:srgbClr val="000000"/>
              </a:solidFill>
              <a:round/>
            </a:ln>
          </p:spPr>
        </p:cxnSp>
      </p:grpSp>
      <p:pic>
        <p:nvPicPr>
          <p:cNvPr id="184" name="Picture 12" descr="C:\Users\owen\Desktop\肖雅婷\未标题-21.png"/>
          <p:cNvPicPr/>
          <p:nvPr/>
        </p:nvPicPr>
        <p:blipFill>
          <a:blip r:embed="rId2"/>
          <a:stretch/>
        </p:blipFill>
        <p:spPr>
          <a:xfrm rot="5400000">
            <a:off x="7308720" y="1048320"/>
            <a:ext cx="2262600" cy="22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  <Words>617</Words>
  <Paragraphs>1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09:35:37Z</dcterms:created>
  <dc:creator>owen</dc:creator>
  <dc:description/>
  <dc:language>en-US</dc:language>
  <cp:lastModifiedBy>a</cp:lastModifiedBy>
  <dcterms:modified xsi:type="dcterms:W3CDTF">2015-07-25T11:53:26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4</vt:r8>
  </property>
</Properties>
</file>