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31A7-831C-469E-B7B5-9960DBB3A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07D9-9D4A-4E90-A471-8AFB6E13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737C-8C62-41F1-89C0-BF92816ED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007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1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623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007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1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5D6B-E0ED-4B85-B533-183428B53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7C1E-F79D-468F-B91B-1FBDB64E7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C16D-7486-4DAB-BDD2-EA9E5B46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BDD6-0315-4EB0-9F97-E0396427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84CE-69E6-435F-B349-B35C96D8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0D12-DFD2-434C-A298-E2DF3C0A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848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9021-8B36-4E9D-A225-550DB01A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BB4B-5EB4-4411-AC4F-EC711286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A105-99EA-4E5A-9083-CEE2BDDD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8A55-97C9-40C9-AF62-C615D8B1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02AC-5A66-4FF7-B721-B72951BD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564B-C4FC-49A5-AA9B-5C1F3825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8024-425F-49DC-8683-D98A88941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007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91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3623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007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91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EC72-B6C8-4F9C-9DA0-3A8260D13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8EE7-CCE9-4DE3-809C-A84CCEEE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0A4D-BF59-4B86-9939-1B72084C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EB13-DFEC-47B4-B908-73CFBFB5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848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AB1C-9AAE-4D8D-BD4C-A0A96974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E4ED-2D3B-4FBE-BF8D-D979AE09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DD64-5C30-4DC2-A677-FD90420A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6377-2A8F-419B-9162-8A06E59E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AD1C-A920-43F0-8AD1-0DCFD2AB358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FA75-5BE9-4BC9-933A-5032C45FC85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"/>
          <p:cNvSpPr/>
          <p:nvPr/>
        </p:nvSpPr>
        <p:spPr>
          <a:xfrm>
            <a:off x="2574720" y="205740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江南春晓中国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19:17Z</dcterms:created>
  <dc:creator>幻灯片 http://www.eeppt.com</dc:creator>
  <dc:description/>
  <cp:keywords>幻灯片 http:/www.eeppt.com</cp:keywords>
  <dc:language>en-US</dc:language>
  <cp:lastModifiedBy/>
  <dcterms:modified xsi:type="dcterms:W3CDTF">2015-07-25T11:39:22Z</dcterms:modified>
  <cp:revision>0</cp:revision>
  <dc:subject/>
  <dc:title/>
</cp:coreProperties>
</file>