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A36-CDDF-4755-93B3-BA07A71C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DAA-0D4D-4227-8531-B5B871F0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561-2664-46CF-A98B-AEE1F767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539-FAF1-495F-A252-572968C8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9BF-2C6E-47CA-8DAF-AE379E0B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0EF-EE32-4435-8EEB-EFB28D0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2EF1-7E89-4B2D-A2E0-BF3B9D0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4787-5B93-48AB-8A7B-A8CE081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DCA-C397-4950-988A-6CABEC53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7772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5257-08B8-4A0A-8E49-CCA294EE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B7D3-462F-4807-931B-4E4C7A9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92A-905B-479D-B1B3-93B480C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0971-A1EB-4BB6-B138-D367913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7624-4D7E-4AFF-B934-67073F1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C4B-2D70-4BF5-93CE-0F6B0F6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282-0AA3-4F95-A0FD-B3B0F548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ADD5-6E4E-4841-AA6B-DDFBA9A2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BA1-1A1E-4A68-B5AE-65F3E17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AA0-19C3-4E33-901E-1A58CF4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0B6-D0C3-428E-A361-A8B8B3F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77720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177-7160-49F6-A7DE-1F7CA48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6D3-5B03-4BB2-BA18-74D2C93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008-9DF8-43AF-A2C9-9F954F1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735-8812-4426-B739-6EF78F3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3600" spc="-1" strike="noStrike">
                <a:solidFill>
                  <a:srgbClr val="ffffff"/>
                </a:solidFill>
                <a:latin typeface="Arial Black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9A3868-0992-4BE5-9438-0E67FCAD82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a1401d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a1401d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a1401d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a1401d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a1401d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a1401d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3600" spc="-1" strike="noStrike">
                <a:solidFill>
                  <a:srgbClr val="ffffff"/>
                </a:solidFill>
                <a:latin typeface="Arial Black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a1401d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1401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a1401d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a1401d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a1401d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a1401d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a1401d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a1401d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a1401d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a1401d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18CAF-C034-460E-A356-07788B9CAB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简约创意设计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181480"/>
            <a:ext cx="77720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1401d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a1401d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3972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s Go Here</a:t>
            </a:r>
            <a:endParaRPr b="0" lang="en-US" sz="2400" spc="-1" strike="noStrike">
              <a:solidFill>
                <a:srgbClr val="a1401d"/>
              </a:solidFill>
              <a:latin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63396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7772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_the_classroom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_the_classroom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_the_classroom</Template>
  <TotalTime>3</TotalTime>
  <Application>LibreOffice/7.4.7.2$Linux_X86_64 LibreOffice_project/40$Build-2</Application>
  <AppVersion>15.0000</AppVersion>
  <Words>49</Words>
  <Paragraphs>9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06:12:11Z</dcterms:created>
  <dc:creator>微软中国</dc:creator>
  <dc:description/>
  <dc:language>en-US</dc:language>
  <cp:lastModifiedBy>a</cp:lastModifiedBy>
  <dcterms:modified xsi:type="dcterms:W3CDTF">2015-07-24T07:14:46Z</dcterms:modified>
  <cp:revision>2</cp:revision>
  <dc:subject/>
  <dc:title>IN TH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