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FCA-95F7-4F97-BAC3-4F419CC5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810072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19640" y="2042280"/>
            <a:ext cx="810072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E2A-5CD9-4146-B2E7-A0C98570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96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704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A75-017C-405F-BBEC-F7102BA4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58520" y="162864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97760" y="162864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19640" y="204228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58520" y="204228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97760" y="204228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1A9-1EC1-484D-9206-0D25C88F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2889-45FE-4220-B754-5724FF4D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19640" y="1628640"/>
            <a:ext cx="810072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0BF3-9EBA-4EB8-8512-E19C33C1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810072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5B35-CF00-4A5A-AFE2-41D69E2D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8BA8-A16E-4E67-AC03-90FC40D9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9778-A2AF-4A8F-AF53-9426B25E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59B8-6718-4E3D-8BE0-40D437E8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196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61CE-3B49-48F6-AC3D-2F651BA5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19640" y="1628640"/>
            <a:ext cx="810072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AC6-3FEB-4EC7-8E51-64106C5C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704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CD3E-F1F5-417D-8F50-3B31173E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9640" y="2042280"/>
            <a:ext cx="810072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6A1E-F6C1-45C2-A91F-F20AC0F6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810072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19640" y="2042280"/>
            <a:ext cx="810072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DB08-521F-4ECF-BF37-A716E63A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96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704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7851-C132-40C9-9FD5-C0B121A5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58520" y="162864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7760" y="162864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19640" y="204228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58520" y="204228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7760" y="204228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563C-EAC5-4530-B660-C35D0317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810072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EA6-BE52-4BB7-B867-CD11AB8A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C9B-E4FD-438A-8572-985A0D14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77B-6489-4E4A-B9C5-C8D31C67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50C-AD71-47B5-BD07-C625BBCB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96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2CF-429E-4352-8775-F4A5F74A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704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834-DFA8-472F-A8AC-8FF1D413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19640" y="2042280"/>
            <a:ext cx="810072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4EF-34A5-4644-82FA-8DD31E9E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Blue-Crush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1052640"/>
            <a:ext cx="9143640" cy="54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907920"/>
            <a:ext cx="9143640" cy="144000"/>
          </a:xfrm>
          <a:prstGeom prst="rect">
            <a:avLst/>
          </a:prstGeom>
          <a:gradFill rotWithShape="0">
            <a:gsLst>
              <a:gs pos="0">
                <a:srgbClr val="4bacc6"/>
              </a:gs>
              <a:gs pos="100000">
                <a:srgbClr val="7030a0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3" name="图片 6" descr="Blue-Crush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" name="矩形 7"/>
          <p:cNvSpPr/>
          <p:nvPr/>
        </p:nvSpPr>
        <p:spPr>
          <a:xfrm>
            <a:off x="0" y="4797360"/>
            <a:ext cx="9143640" cy="1726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" name="矩形 8"/>
          <p:cNvSpPr/>
          <p:nvPr/>
        </p:nvSpPr>
        <p:spPr>
          <a:xfrm>
            <a:off x="0" y="4653000"/>
            <a:ext cx="9143640" cy="144000"/>
          </a:xfrm>
          <a:prstGeom prst="rect">
            <a:avLst/>
          </a:prstGeom>
          <a:gradFill rotWithShape="0">
            <a:gsLst>
              <a:gs pos="0">
                <a:srgbClr val="4bacc6"/>
              </a:gs>
              <a:gs pos="100000">
                <a:srgbClr val="7030a0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6" name="直接连接符 12"/>
          <p:cNvCxnSpPr/>
          <p:nvPr/>
        </p:nvCxnSpPr>
        <p:spPr>
          <a:xfrm>
            <a:off x="0" y="4832280"/>
            <a:ext cx="9144360" cy="360"/>
          </a:xfrm>
          <a:prstGeom prst="straightConnector1">
            <a:avLst/>
          </a:prstGeom>
          <a:ln w="3175">
            <a:solidFill>
              <a:srgbClr val="4a7ebb"/>
            </a:solidFill>
            <a:prstDash val="lgDash"/>
            <a:round/>
          </a:ln>
        </p:spPr>
      </p:cxnSp>
      <p:cxnSp>
        <p:nvCxnSpPr>
          <p:cNvPr id="7" name="直接连接符 14"/>
          <p:cNvCxnSpPr/>
          <p:nvPr/>
        </p:nvCxnSpPr>
        <p:spPr>
          <a:xfrm>
            <a:off x="0" y="6484680"/>
            <a:ext cx="9144360" cy="360"/>
          </a:xfrm>
          <a:prstGeom prst="straightConnector1">
            <a:avLst/>
          </a:prstGeom>
          <a:ln w="3175">
            <a:solidFill>
              <a:srgbClr val="4a7ebb"/>
            </a:solidFill>
            <a:prstDash val="lgDash"/>
            <a:round/>
          </a:ln>
        </p:spPr>
      </p:cxn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719640" y="1628640"/>
            <a:ext cx="810072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275280" y="2709000"/>
            <a:ext cx="583308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706FCA-CF39-48FD-8AA1-91018C646AD7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6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6" descr="Blue-Crush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51" name="矩形 7"/>
          <p:cNvSpPr/>
          <p:nvPr/>
        </p:nvSpPr>
        <p:spPr>
          <a:xfrm>
            <a:off x="0" y="1052640"/>
            <a:ext cx="9143640" cy="54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0" y="907920"/>
            <a:ext cx="9143640" cy="144000"/>
          </a:xfrm>
          <a:prstGeom prst="rect">
            <a:avLst/>
          </a:prstGeom>
          <a:gradFill rotWithShape="0">
            <a:gsLst>
              <a:gs pos="0">
                <a:srgbClr val="4bacc6"/>
              </a:gs>
              <a:gs pos="100000">
                <a:srgbClr val="7030a0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760" y="115920"/>
            <a:ext cx="5060520" cy="71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EEA86F-C72E-4C4E-AF69-2E9A53A3EE61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Num" idx="7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6B611C-B334-429A-B5FF-6624F17AF8C4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9280" y="1628640"/>
            <a:ext cx="810072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简约蓝色底纹</a:t>
            </a: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74920" y="2708280"/>
            <a:ext cx="583380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母版附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2268360" y="5084640"/>
            <a:ext cx="431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『</a:t>
            </a: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演讲人』</a:t>
            </a:r>
            <a:r>
              <a:rPr b="0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休得放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340000" y="5732640"/>
            <a:ext cx="431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『</a:t>
            </a: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时   间』</a:t>
            </a:r>
            <a:r>
              <a:rPr b="0" lang="en-US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2011.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7561440" y="6156360"/>
            <a:ext cx="169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ID:ashui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8760" y="115920"/>
            <a:ext cx="5060520" cy="71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  录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Num" idx="8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5CC4BC-9E16-4663-AF2C-647B33D1BEB6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组合 12"/>
          <p:cNvGrpSpPr/>
          <p:nvPr/>
        </p:nvGrpSpPr>
        <p:grpSpPr>
          <a:xfrm>
            <a:off x="1347840" y="1989000"/>
            <a:ext cx="6279480" cy="502920"/>
            <a:chOff x="1347840" y="1989000"/>
            <a:chExt cx="6279480" cy="502920"/>
          </a:xfrm>
        </p:grpSpPr>
        <p:cxnSp>
          <p:nvCxnSpPr>
            <p:cNvPr id="104" name="直接连接符 7"/>
            <p:cNvCxnSpPr/>
            <p:nvPr/>
          </p:nvCxnSpPr>
          <p:spPr>
            <a:xfrm>
              <a:off x="1419120" y="2477880"/>
              <a:ext cx="5689800" cy="360"/>
            </a:xfrm>
            <a:prstGeom prst="straightConnector1">
              <a:avLst/>
            </a:prstGeom>
            <a:ln w="6350"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105" name="圆角矩形 5"/>
            <p:cNvSpPr/>
            <p:nvPr/>
          </p:nvSpPr>
          <p:spPr>
            <a:xfrm>
              <a:off x="1347840" y="1989000"/>
              <a:ext cx="502920" cy="502920"/>
            </a:xfrm>
            <a:prstGeom prst="roundRect">
              <a:avLst>
                <a:gd name="adj" fmla="val 8243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直接连接符 8"/>
            <p:cNvCxnSpPr/>
            <p:nvPr/>
          </p:nvCxnSpPr>
          <p:spPr>
            <a:xfrm>
              <a:off x="7108560" y="2450880"/>
              <a:ext cx="503640" cy="360"/>
            </a:xfrm>
            <a:prstGeom prst="straightConnector1">
              <a:avLst/>
            </a:prstGeom>
            <a:ln w="76200">
              <a:solidFill>
                <a:srgbClr val="4f81bd">
                  <a:lumMod val="75000"/>
                </a:srgbClr>
              </a:solidFill>
              <a:round/>
            </a:ln>
          </p:spPr>
        </p:cxnSp>
        <p:sp>
          <p:nvSpPr>
            <p:cNvPr id="107" name="TextBox 10"/>
            <p:cNvSpPr/>
            <p:nvPr/>
          </p:nvSpPr>
          <p:spPr>
            <a:xfrm>
              <a:off x="1995840" y="1989000"/>
              <a:ext cx="51840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11"/>
            <p:cNvSpPr/>
            <p:nvPr/>
          </p:nvSpPr>
          <p:spPr>
            <a:xfrm>
              <a:off x="7196040" y="1989000"/>
              <a:ext cx="431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1"/>
                  </a:solidFill>
                  <a:latin typeface="DFPYeaSong-B5"/>
                  <a:ea typeface="DFPYeaSong-B5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3"/>
          <p:cNvGrpSpPr/>
          <p:nvPr/>
        </p:nvGrpSpPr>
        <p:grpSpPr>
          <a:xfrm>
            <a:off x="1347840" y="2949480"/>
            <a:ext cx="6279480" cy="502920"/>
            <a:chOff x="1347840" y="2949480"/>
            <a:chExt cx="6279480" cy="502920"/>
          </a:xfrm>
        </p:grpSpPr>
        <p:cxnSp>
          <p:nvCxnSpPr>
            <p:cNvPr id="110" name="直接连接符 14"/>
            <p:cNvCxnSpPr/>
            <p:nvPr/>
          </p:nvCxnSpPr>
          <p:spPr>
            <a:xfrm>
              <a:off x="1419120" y="3438360"/>
              <a:ext cx="5689800" cy="360"/>
            </a:xfrm>
            <a:prstGeom prst="straightConnector1">
              <a:avLst/>
            </a:prstGeom>
            <a:ln w="6350"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111" name="圆角矩形 15"/>
            <p:cNvSpPr/>
            <p:nvPr/>
          </p:nvSpPr>
          <p:spPr>
            <a:xfrm>
              <a:off x="1347840" y="2949480"/>
              <a:ext cx="502920" cy="502920"/>
            </a:xfrm>
            <a:prstGeom prst="roundRect">
              <a:avLst>
                <a:gd name="adj" fmla="val 8243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直接连接符 16"/>
            <p:cNvCxnSpPr/>
            <p:nvPr/>
          </p:nvCxnSpPr>
          <p:spPr>
            <a:xfrm>
              <a:off x="7108560" y="3411360"/>
              <a:ext cx="503640" cy="360"/>
            </a:xfrm>
            <a:prstGeom prst="straightConnector1">
              <a:avLst/>
            </a:prstGeom>
            <a:ln w="76200">
              <a:solidFill>
                <a:srgbClr val="4f81bd">
                  <a:lumMod val="75000"/>
                </a:srgbClr>
              </a:solidFill>
              <a:round/>
            </a:ln>
          </p:spPr>
        </p:cxnSp>
        <p:sp>
          <p:nvSpPr>
            <p:cNvPr id="113" name="TextBox 17"/>
            <p:cNvSpPr/>
            <p:nvPr/>
          </p:nvSpPr>
          <p:spPr>
            <a:xfrm>
              <a:off x="1995840" y="2949480"/>
              <a:ext cx="51840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8"/>
            <p:cNvSpPr/>
            <p:nvPr/>
          </p:nvSpPr>
          <p:spPr>
            <a:xfrm>
              <a:off x="7196040" y="2949480"/>
              <a:ext cx="431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1"/>
                  </a:solidFill>
                  <a:latin typeface="DFPYeaSong-B5"/>
                  <a:ea typeface="DFPYeaSong-B5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19"/>
          <p:cNvGrpSpPr/>
          <p:nvPr/>
        </p:nvGrpSpPr>
        <p:grpSpPr>
          <a:xfrm>
            <a:off x="1347840" y="3908520"/>
            <a:ext cx="6319440" cy="504360"/>
            <a:chOff x="1347840" y="3908520"/>
            <a:chExt cx="6319440" cy="504360"/>
          </a:xfrm>
        </p:grpSpPr>
        <p:cxnSp>
          <p:nvCxnSpPr>
            <p:cNvPr id="116" name="直接连接符 20"/>
            <p:cNvCxnSpPr/>
            <p:nvPr/>
          </p:nvCxnSpPr>
          <p:spPr>
            <a:xfrm>
              <a:off x="1419120" y="4398840"/>
              <a:ext cx="5688360" cy="360"/>
            </a:xfrm>
            <a:prstGeom prst="straightConnector1">
              <a:avLst/>
            </a:prstGeom>
            <a:ln w="6350"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117" name="圆角矩形 21"/>
            <p:cNvSpPr/>
            <p:nvPr/>
          </p:nvSpPr>
          <p:spPr>
            <a:xfrm>
              <a:off x="1347840" y="3908520"/>
              <a:ext cx="502920" cy="504360"/>
            </a:xfrm>
            <a:prstGeom prst="roundRect">
              <a:avLst>
                <a:gd name="adj" fmla="val 8243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" name="直接连接符 22"/>
            <p:cNvCxnSpPr/>
            <p:nvPr/>
          </p:nvCxnSpPr>
          <p:spPr>
            <a:xfrm>
              <a:off x="7107120" y="4371840"/>
              <a:ext cx="505080" cy="360"/>
            </a:xfrm>
            <a:prstGeom prst="straightConnector1">
              <a:avLst/>
            </a:prstGeom>
            <a:ln w="76200">
              <a:solidFill>
                <a:srgbClr val="4f81bd">
                  <a:lumMod val="75000"/>
                </a:srgbClr>
              </a:solidFill>
              <a:round/>
            </a:ln>
          </p:spPr>
        </p:cxnSp>
        <p:sp>
          <p:nvSpPr>
            <p:cNvPr id="119" name="TextBox 23"/>
            <p:cNvSpPr/>
            <p:nvPr/>
          </p:nvSpPr>
          <p:spPr>
            <a:xfrm>
              <a:off x="1995840" y="3908520"/>
              <a:ext cx="5183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24"/>
            <p:cNvSpPr/>
            <p:nvPr/>
          </p:nvSpPr>
          <p:spPr>
            <a:xfrm>
              <a:off x="7107120" y="3908520"/>
              <a:ext cx="560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1"/>
                  </a:solidFill>
                  <a:latin typeface="DFPYeaSong-B5"/>
                  <a:ea typeface="DFPYeaSong-B5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25"/>
          <p:cNvGrpSpPr/>
          <p:nvPr/>
        </p:nvGrpSpPr>
        <p:grpSpPr>
          <a:xfrm>
            <a:off x="1347840" y="4869000"/>
            <a:ext cx="6319440" cy="504360"/>
            <a:chOff x="1347840" y="4869000"/>
            <a:chExt cx="6319440" cy="504360"/>
          </a:xfrm>
        </p:grpSpPr>
        <p:cxnSp>
          <p:nvCxnSpPr>
            <p:cNvPr id="122" name="直接连接符 26"/>
            <p:cNvCxnSpPr/>
            <p:nvPr/>
          </p:nvCxnSpPr>
          <p:spPr>
            <a:xfrm>
              <a:off x="1419120" y="5359320"/>
              <a:ext cx="5688360" cy="360"/>
            </a:xfrm>
            <a:prstGeom prst="straightConnector1">
              <a:avLst/>
            </a:prstGeom>
            <a:ln w="6350"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123" name="圆角矩形 27"/>
            <p:cNvSpPr/>
            <p:nvPr/>
          </p:nvSpPr>
          <p:spPr>
            <a:xfrm>
              <a:off x="1347840" y="4869000"/>
              <a:ext cx="502920" cy="504360"/>
            </a:xfrm>
            <a:prstGeom prst="roundRect">
              <a:avLst>
                <a:gd name="adj" fmla="val 8243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直接连接符 28"/>
            <p:cNvCxnSpPr/>
            <p:nvPr/>
          </p:nvCxnSpPr>
          <p:spPr>
            <a:xfrm>
              <a:off x="7107120" y="5332320"/>
              <a:ext cx="505080" cy="360"/>
            </a:xfrm>
            <a:prstGeom prst="straightConnector1">
              <a:avLst/>
            </a:prstGeom>
            <a:ln w="76200">
              <a:solidFill>
                <a:srgbClr val="4f81bd">
                  <a:lumMod val="75000"/>
                </a:srgbClr>
              </a:solidFill>
              <a:round/>
            </a:ln>
          </p:spPr>
        </p:cxnSp>
        <p:sp>
          <p:nvSpPr>
            <p:cNvPr id="125" name="TextBox 29"/>
            <p:cNvSpPr/>
            <p:nvPr/>
          </p:nvSpPr>
          <p:spPr>
            <a:xfrm>
              <a:off x="1995840" y="4869000"/>
              <a:ext cx="5183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30"/>
            <p:cNvSpPr/>
            <p:nvPr/>
          </p:nvSpPr>
          <p:spPr>
            <a:xfrm>
              <a:off x="7107120" y="4869000"/>
              <a:ext cx="560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1"/>
                  </a:solidFill>
                  <a:latin typeface="DFPYeaSong-B5"/>
                  <a:ea typeface="DFPYeaSong-B5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8760" y="115920"/>
            <a:ext cx="6716520" cy="71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那年头没高考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 GK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Num" idx="9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13BDB8-9521-4FE7-896E-CE1072CD80C4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7164360" y="1052640"/>
            <a:ext cx="431280" cy="431280"/>
          </a:xfrm>
          <a:prstGeom prst="rect">
            <a:avLst/>
          </a:prstGeom>
          <a:solidFill>
            <a:schemeClr val="accent4"/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7596360" y="1052640"/>
            <a:ext cx="4312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8028000" y="1052640"/>
            <a:ext cx="4312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8459640" y="1052640"/>
            <a:ext cx="4330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71280" y="620640"/>
            <a:ext cx="1404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“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Users\XINYANGMIAN\AppData\Local\Microsoft\Windows\Temporary Internet Files\Content.IE5\1S5MGU5L\8eab9e8ac3d0694c3b4b8048d4_560[1].jpg"/>
          <p:cNvPicPr/>
          <p:nvPr/>
        </p:nvPicPr>
        <p:blipFill>
          <a:blip r:embed="rId1"/>
          <a:stretch/>
        </p:blipFill>
        <p:spPr>
          <a:xfrm>
            <a:off x="108000" y="2097000"/>
            <a:ext cx="3024000" cy="3779640"/>
          </a:xfrm>
          <a:prstGeom prst="rect">
            <a:avLst/>
          </a:prstGeom>
          <a:ln w="9525">
            <a:noFill/>
          </a:ln>
        </p:spPr>
      </p:pic>
      <p:sp>
        <p:nvSpPr>
          <p:cNvPr id="135" name="TextBox 11"/>
          <p:cNvSpPr/>
          <p:nvPr/>
        </p:nvSpPr>
        <p:spPr>
          <a:xfrm>
            <a:off x="971640" y="1197000"/>
            <a:ext cx="4752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高考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3132000" y="2511360"/>
            <a:ext cx="5471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小孩会问：高考好吃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小孩会说：高考打得过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outman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15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学生会说：还有几年才考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17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高中学说：不是人干的事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24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我说：高考比过日子简单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8760" y="115920"/>
            <a:ext cx="6716520" cy="71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那年头没高考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 GK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10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1D925B-EFA8-446A-8E95-4E42A8C43F6B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7164360" y="1052640"/>
            <a:ext cx="4312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7596360" y="1052640"/>
            <a:ext cx="431280" cy="431280"/>
          </a:xfrm>
          <a:prstGeom prst="rect">
            <a:avLst/>
          </a:prstGeom>
          <a:solidFill>
            <a:schemeClr val="accent4"/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8028000" y="1052640"/>
            <a:ext cx="4312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8459640" y="1052640"/>
            <a:ext cx="4330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71280" y="620640"/>
            <a:ext cx="1404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“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971640" y="1197000"/>
            <a:ext cx="4752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你的高考蛋疼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900000" y="1989000"/>
            <a:ext cx="3671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一鸣惊人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还是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默默无闻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皆大欢喜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还是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郁郁而终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一次搞定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还是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卷土复读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无人问津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还是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路人皆知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www.ufo-1.cn/uploadfile/201010/12/93733401.JPG"/>
          <p:cNvPicPr/>
          <p:nvPr/>
        </p:nvPicPr>
        <p:blipFill>
          <a:blip r:embed="rId1"/>
          <a:stretch/>
        </p:blipFill>
        <p:spPr>
          <a:xfrm>
            <a:off x="5457960" y="3573360"/>
            <a:ext cx="3685680" cy="2933280"/>
          </a:xfrm>
          <a:prstGeom prst="rect">
            <a:avLst/>
          </a:prstGeom>
          <a:ln w="9525">
            <a:noFill/>
          </a:ln>
        </p:spPr>
      </p:pic>
      <p:sp>
        <p:nvSpPr>
          <p:cNvPr id="147" name="TextBox 13"/>
          <p:cNvSpPr/>
          <p:nvPr/>
        </p:nvSpPr>
        <p:spPr>
          <a:xfrm>
            <a:off x="932040" y="4583160"/>
            <a:ext cx="3958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无论结果如何，都蛋疼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4"/>
          <p:cNvSpPr/>
          <p:nvPr/>
        </p:nvSpPr>
        <p:spPr>
          <a:xfrm rot="397200">
            <a:off x="4554720" y="245088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JUST  EGG PA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8760" y="115920"/>
            <a:ext cx="6716520" cy="71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那年头没高考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 GK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Num" idx="11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2E6868-90A9-4C21-BA03-2E69021C2196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7164360" y="1052640"/>
            <a:ext cx="4312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5"/>
          <p:cNvSpPr/>
          <p:nvPr/>
        </p:nvSpPr>
        <p:spPr>
          <a:xfrm>
            <a:off x="7596360" y="1052640"/>
            <a:ext cx="4312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8028000" y="1052640"/>
            <a:ext cx="431280" cy="431280"/>
          </a:xfrm>
          <a:prstGeom prst="rect">
            <a:avLst/>
          </a:prstGeom>
          <a:solidFill>
            <a:schemeClr val="accent4"/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8459640" y="1052640"/>
            <a:ext cx="4330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71280" y="620640"/>
            <a:ext cx="1404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“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971640" y="1197000"/>
            <a:ext cx="4752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高考在你梦中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"/>
          <p:cNvSpPr/>
          <p:nvPr/>
        </p:nvSpPr>
        <p:spPr>
          <a:xfrm rot="397200">
            <a:off x="4947120" y="196200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NIGHTMARE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a4.att.hudong.com/74/02/300000868259129367026963028_950.jpg"/>
          <p:cNvPicPr/>
          <p:nvPr/>
        </p:nvPicPr>
        <p:blipFill>
          <a:blip r:embed="rId1"/>
          <a:srcRect l="0" t="0" r="0" b="6841"/>
          <a:stretch/>
        </p:blipFill>
        <p:spPr>
          <a:xfrm>
            <a:off x="5003640" y="2924280"/>
            <a:ext cx="3809520" cy="3549240"/>
          </a:xfrm>
          <a:prstGeom prst="rect">
            <a:avLst/>
          </a:prstGeom>
          <a:ln w="9525">
            <a:noFill/>
          </a:ln>
        </p:spPr>
      </p:pic>
      <p:grpSp>
        <p:nvGrpSpPr>
          <p:cNvPr id="159" name="组合 17"/>
          <p:cNvGrpSpPr/>
          <p:nvPr/>
        </p:nvGrpSpPr>
        <p:grpSpPr>
          <a:xfrm>
            <a:off x="684360" y="2133720"/>
            <a:ext cx="3887280" cy="533880"/>
            <a:chOff x="684360" y="2133720"/>
            <a:chExt cx="3887280" cy="533880"/>
          </a:xfrm>
        </p:grpSpPr>
        <p:sp>
          <p:nvSpPr>
            <p:cNvPr id="160" name="矩形 16"/>
            <p:cNvSpPr/>
            <p:nvPr/>
          </p:nvSpPr>
          <p:spPr>
            <a:xfrm rot="21411000">
              <a:off x="788760" y="2414520"/>
              <a:ext cx="2700000" cy="17892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1" name="矩形 15"/>
            <p:cNvSpPr/>
            <p:nvPr/>
          </p:nvSpPr>
          <p:spPr>
            <a:xfrm>
              <a:off x="684360" y="2133720"/>
              <a:ext cx="3887280" cy="430560"/>
            </a:xfrm>
            <a:prstGeom prst="rect">
              <a:avLst/>
            </a:prstGeom>
            <a:gradFill rotWithShape="0">
              <a:gsLst>
                <a:gs pos="0">
                  <a:srgbClr val="467fc4"/>
                </a:gs>
                <a:gs pos="100000">
                  <a:srgbClr val="294c74"/>
                </a:gs>
              </a:gsLst>
              <a:lin ang="2700000"/>
            </a:gradFill>
            <a:ln w="3175">
              <a:solidFill>
                <a:srgbClr val="4f81bd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老师还在喋喋不休讲解真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18"/>
          <p:cNvGrpSpPr/>
          <p:nvPr/>
        </p:nvGrpSpPr>
        <p:grpSpPr>
          <a:xfrm>
            <a:off x="684360" y="3068640"/>
            <a:ext cx="3887280" cy="535680"/>
            <a:chOff x="684360" y="3068640"/>
            <a:chExt cx="3887280" cy="535680"/>
          </a:xfrm>
        </p:grpSpPr>
        <p:sp>
          <p:nvSpPr>
            <p:cNvPr id="163" name="矩形 19"/>
            <p:cNvSpPr/>
            <p:nvPr/>
          </p:nvSpPr>
          <p:spPr>
            <a:xfrm rot="21411000">
              <a:off x="788760" y="3349440"/>
              <a:ext cx="2700000" cy="18072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4" name="矩形 20"/>
            <p:cNvSpPr/>
            <p:nvPr/>
          </p:nvSpPr>
          <p:spPr>
            <a:xfrm>
              <a:off x="684360" y="3068640"/>
              <a:ext cx="3887280" cy="432360"/>
            </a:xfrm>
            <a:prstGeom prst="rect">
              <a:avLst/>
            </a:prstGeom>
            <a:gradFill rotWithShape="0">
              <a:gsLst>
                <a:gs pos="0">
                  <a:srgbClr val="467fc4"/>
                </a:gs>
                <a:gs pos="100000">
                  <a:srgbClr val="294c74"/>
                </a:gs>
              </a:gsLst>
              <a:lin ang="2700000"/>
            </a:gradFill>
            <a:ln w="3175">
              <a:solidFill>
                <a:srgbClr val="4f81bd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考场上有道数学题做不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1"/>
          <p:cNvGrpSpPr/>
          <p:nvPr/>
        </p:nvGrpSpPr>
        <p:grpSpPr>
          <a:xfrm>
            <a:off x="684360" y="4005360"/>
            <a:ext cx="3887280" cy="535680"/>
            <a:chOff x="684360" y="4005360"/>
            <a:chExt cx="3887280" cy="535680"/>
          </a:xfrm>
        </p:grpSpPr>
        <p:sp>
          <p:nvSpPr>
            <p:cNvPr id="166" name="矩形 22"/>
            <p:cNvSpPr/>
            <p:nvPr/>
          </p:nvSpPr>
          <p:spPr>
            <a:xfrm rot="21411000">
              <a:off x="788760" y="4286160"/>
              <a:ext cx="2700000" cy="18072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7" name="矩形 23"/>
            <p:cNvSpPr/>
            <p:nvPr/>
          </p:nvSpPr>
          <p:spPr>
            <a:xfrm>
              <a:off x="684360" y="4005360"/>
              <a:ext cx="3887280" cy="432360"/>
            </a:xfrm>
            <a:prstGeom prst="rect">
              <a:avLst/>
            </a:prstGeom>
            <a:gradFill rotWithShape="0">
              <a:gsLst>
                <a:gs pos="0">
                  <a:srgbClr val="467fc4"/>
                </a:gs>
                <a:gs pos="100000">
                  <a:srgbClr val="294c74"/>
                </a:gs>
              </a:gsLst>
              <a:lin ang="2700000"/>
            </a:gradFill>
            <a:ln w="3175">
              <a:solidFill>
                <a:srgbClr val="4f81bd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你没有考上你心仪的大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5"/>
          <p:cNvGrpSpPr/>
          <p:nvPr/>
        </p:nvGrpSpPr>
        <p:grpSpPr>
          <a:xfrm>
            <a:off x="684360" y="5013360"/>
            <a:ext cx="3887280" cy="759240"/>
            <a:chOff x="684360" y="5013360"/>
            <a:chExt cx="3887280" cy="759240"/>
          </a:xfrm>
        </p:grpSpPr>
        <p:sp>
          <p:nvSpPr>
            <p:cNvPr id="169" name="矩形 26"/>
            <p:cNvSpPr/>
            <p:nvPr/>
          </p:nvSpPr>
          <p:spPr>
            <a:xfrm rot="21411000">
              <a:off x="788760" y="5519520"/>
              <a:ext cx="2700000" cy="17892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矩形 27"/>
            <p:cNvSpPr/>
            <p:nvPr/>
          </p:nvSpPr>
          <p:spPr>
            <a:xfrm>
              <a:off x="684360" y="5013360"/>
              <a:ext cx="3887280" cy="64728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977100"/>
                </a:gs>
              </a:gsLst>
              <a:lin ang="2700000"/>
            </a:gra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高考的梦一遍又一遍的重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6"/>
          <p:cNvSpPr/>
          <p:nvPr/>
        </p:nvSpPr>
        <p:spPr>
          <a:xfrm>
            <a:off x="71280" y="60379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Num" idx="12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B8C185-C2B3-40D2-B613-707C75F42510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7640" y="1628640"/>
            <a:ext cx="810072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THANKS FOR YOUR LINSTEN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867280" y="2708280"/>
            <a:ext cx="28094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您的聆听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2303640" y="5084640"/>
            <a:ext cx="432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休得放肆无聊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303640" y="5732640"/>
            <a:ext cx="432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喜欢且下不喜顶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7561440" y="6156360"/>
            <a:ext cx="169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ID:ashui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占位符 16"/>
          <p:cNvSpPr/>
          <p:nvPr/>
        </p:nvSpPr>
        <p:spPr>
          <a:xfrm>
            <a:off x="611280" y="404640"/>
            <a:ext cx="810072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endParaRPr b="1" lang="en-US" sz="3600" spc="-1" strike="noStrike">
              <a:solidFill>
                <a:srgbClr val="ffff00"/>
              </a:solidFill>
              <a:latin typeface="微软雅黑"/>
              <a:ea typeface="微软雅黑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  <Words>294</Words>
  <Paragraphs>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1T13:19:03Z</dcterms:created>
  <dc:creator>ppt宝藏</dc:creator>
  <dc:description/>
  <dc:language>en-US</dc:language>
  <cp:lastModifiedBy>a</cp:lastModifiedBy>
  <dcterms:modified xsi:type="dcterms:W3CDTF">2015-07-24T08:51:31Z</dcterms:modified>
  <cp:revision>10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