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C59-6B5F-4692-BFD9-FDA9D5DF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1844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000" y="3909240"/>
            <a:ext cx="821844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37B-D7CB-4E28-96CD-B58181C9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000" y="390924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90924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1381-A5F5-4E8F-A4F4-3F74DC73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2646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6840" y="1267920"/>
            <a:ext cx="2646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5320" y="1267920"/>
            <a:ext cx="2646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" y="3909240"/>
            <a:ext cx="2646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6840" y="3909240"/>
            <a:ext cx="2646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5320" y="3909240"/>
            <a:ext cx="2646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753-0105-4BF8-BB29-31772F24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BDFB-2E79-493A-BD38-95C5BC3D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68000" y="1267920"/>
            <a:ext cx="821844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0436-36D7-4679-844E-BD817925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1844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5CBE-75C9-42AC-BE03-FE209A54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104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0104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B619-69E9-4821-BE95-5D29D4C3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A11D-7E0D-4EFE-87EF-4E3A8AFE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8000" y="115920"/>
            <a:ext cx="783756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E34F-089E-4C35-8EE7-8DDD923D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0104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000" y="390924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BE1E-BD83-4E19-B470-7BF43169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68000" y="1267920"/>
            <a:ext cx="821844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683-21B6-451E-AF3F-E1FDF968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104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9280" y="390924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623B-BFE3-43B0-9A26-9F4581F3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8000" y="3909240"/>
            <a:ext cx="821844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F6D1-BE50-4790-8821-4233E145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1844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000" y="3909240"/>
            <a:ext cx="821844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2943-ED0D-484F-8899-EB4B2221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8000" y="390924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9280" y="390924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CB31-DD1B-46CE-BBC3-B4A5EB90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2646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6840" y="1267920"/>
            <a:ext cx="2646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5320" y="1267920"/>
            <a:ext cx="2646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8000" y="3909240"/>
            <a:ext cx="2646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6840" y="3909240"/>
            <a:ext cx="2646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5320" y="3909240"/>
            <a:ext cx="26460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7BFA-ACA5-460B-B3CA-6D6ACB34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1844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B2B-BEDB-4F71-8DA6-3AF87E13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104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0104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131A-3F69-44DB-A734-3C7FBDAC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7730-EC30-4EDA-8F60-80F58736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68000" y="115920"/>
            <a:ext cx="783756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27CE-88ED-4829-9E01-B9E99236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0104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" y="390924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6B5D-4D97-4499-9FED-B293B399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104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90924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B3BE-0D9A-49F2-935B-387D32E8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267920"/>
            <a:ext cx="401040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000" y="3909240"/>
            <a:ext cx="821844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6914-2B80-48A4-B531-284ABCAE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72363"/>
              </a:gs>
              <a:gs pos="100000">
                <a:srgbClr val="0f4c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4"/>
          <p:cNvSpPr/>
          <p:nvPr/>
        </p:nvSpPr>
        <p:spPr>
          <a:xfrm>
            <a:off x="0" y="838080"/>
            <a:ext cx="9144000" cy="152640"/>
          </a:xfrm>
          <a:prstGeom prst="rect">
            <a:avLst/>
          </a:prstGeom>
          <a:gradFill rotWithShape="0">
            <a:gsLst>
              <a:gs pos="0">
                <a:srgbClr val="0f4cd5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Oval 35"/>
          <p:cNvSpPr/>
          <p:nvPr/>
        </p:nvSpPr>
        <p:spPr>
          <a:xfrm>
            <a:off x="8001000" y="457200"/>
            <a:ext cx="83808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f4c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36" descr="g1"/>
          <p:cNvPicPr/>
          <p:nvPr/>
        </p:nvPicPr>
        <p:blipFill>
          <a:blip r:embed="rId2"/>
          <a:stretch/>
        </p:blipFill>
        <p:spPr>
          <a:xfrm>
            <a:off x="8129520" y="584280"/>
            <a:ext cx="619200" cy="633240"/>
          </a:xfrm>
          <a:prstGeom prst="rect">
            <a:avLst/>
          </a:prstGeom>
          <a:ln w="0">
            <a:noFill/>
          </a:ln>
        </p:spPr>
      </p:pic>
      <p:grpSp>
        <p:nvGrpSpPr>
          <p:cNvPr id="4" name="Group 37"/>
          <p:cNvGrpSpPr/>
          <p:nvPr/>
        </p:nvGrpSpPr>
        <p:grpSpPr>
          <a:xfrm>
            <a:off x="7162920" y="-380880"/>
            <a:ext cx="2514600" cy="2514600"/>
            <a:chOff x="7162920" y="-380880"/>
            <a:chExt cx="2514600" cy="2514600"/>
          </a:xfrm>
        </p:grpSpPr>
        <p:sp>
          <p:nvSpPr>
            <p:cNvPr id="5" name="Oval 38"/>
            <p:cNvSpPr/>
            <p:nvPr/>
          </p:nvSpPr>
          <p:spPr>
            <a:xfrm>
              <a:off x="7827840" y="297000"/>
              <a:ext cx="1184400" cy="1133280"/>
            </a:xfrm>
            <a:prstGeom prst="ellipse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Oval 39"/>
            <p:cNvSpPr/>
            <p:nvPr/>
          </p:nvSpPr>
          <p:spPr>
            <a:xfrm>
              <a:off x="7569360" y="-4680"/>
              <a:ext cx="1701720" cy="1739880"/>
            </a:xfrm>
            <a:prstGeom prst="ellipse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Oval 40"/>
            <p:cNvSpPr/>
            <p:nvPr/>
          </p:nvSpPr>
          <p:spPr>
            <a:xfrm>
              <a:off x="7162920" y="-380880"/>
              <a:ext cx="2514600" cy="2514600"/>
            </a:xfrm>
            <a:prstGeom prst="ellipse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68000" y="1267920"/>
            <a:ext cx="821844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32652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Gulim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59432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Gulim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9594-99B1-47FF-84BF-DEEE8E45C681}" type="slidenum">
              <a:rPr b="1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1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gradFill rotWithShape="0">
            <a:gsLst>
              <a:gs pos="0">
                <a:srgbClr val="072363"/>
              </a:gs>
              <a:gs pos="100000">
                <a:srgbClr val="0f4c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0" y="3276720"/>
            <a:ext cx="9144000" cy="152280"/>
          </a:xfrm>
          <a:prstGeom prst="rect">
            <a:avLst/>
          </a:prstGeom>
          <a:gradFill rotWithShape="0">
            <a:gsLst>
              <a:gs pos="0">
                <a:srgbClr val="0f4cd5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33"/>
          <p:cNvSpPr/>
          <p:nvPr/>
        </p:nvSpPr>
        <p:spPr>
          <a:xfrm>
            <a:off x="4114800" y="2965320"/>
            <a:ext cx="914400" cy="863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f4c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4" descr="g1"/>
          <p:cNvPicPr/>
          <p:nvPr/>
        </p:nvPicPr>
        <p:blipFill>
          <a:blip r:embed="rId2"/>
          <a:stretch/>
        </p:blipFill>
        <p:spPr>
          <a:xfrm>
            <a:off x="4233960" y="3086280"/>
            <a:ext cx="674640" cy="6505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35"/>
          <p:cNvGrpSpPr/>
          <p:nvPr/>
        </p:nvGrpSpPr>
        <p:grpSpPr>
          <a:xfrm>
            <a:off x="1981080" y="914400"/>
            <a:ext cx="5181840" cy="5025960"/>
            <a:chOff x="1981080" y="914400"/>
            <a:chExt cx="5181840" cy="5025960"/>
          </a:xfrm>
        </p:grpSpPr>
        <p:sp>
          <p:nvSpPr>
            <p:cNvPr id="54" name="Oval 36"/>
            <p:cNvSpPr/>
            <p:nvPr/>
          </p:nvSpPr>
          <p:spPr>
            <a:xfrm>
              <a:off x="3733920" y="2629080"/>
              <a:ext cx="1676160" cy="160020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37"/>
            <p:cNvSpPr/>
            <p:nvPr/>
          </p:nvSpPr>
          <p:spPr>
            <a:xfrm>
              <a:off x="3352680" y="2270160"/>
              <a:ext cx="2438640" cy="226368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38"/>
            <p:cNvSpPr/>
            <p:nvPr/>
          </p:nvSpPr>
          <p:spPr>
            <a:xfrm>
              <a:off x="2819520" y="1666800"/>
              <a:ext cx="3504960" cy="347688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39"/>
            <p:cNvSpPr/>
            <p:nvPr/>
          </p:nvSpPr>
          <p:spPr>
            <a:xfrm>
              <a:off x="1981080" y="914400"/>
              <a:ext cx="5181840" cy="502596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Rectangle 40"/>
          <p:cNvSpPr/>
          <p:nvPr/>
        </p:nvSpPr>
        <p:spPr>
          <a:xfrm>
            <a:off x="3886200" y="518148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  <a:ea typeface="Gulim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68000" y="1267920"/>
            <a:ext cx="821844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1F4F-3618-4467-9CC0-8CB63FB0A49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413000"/>
            <a:ext cx="81532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Gulim"/>
              </a:rPr>
              <a:t>简约蓝色风格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Gulim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Gulim"/>
              </a:rPr>
              <a:t>模板在线下载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458136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594360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Gulim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8375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Gulim"/>
              </a:rPr>
              <a:t>Click to add titl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1844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ompetito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Strength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Weakn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5:25:44Z</dcterms:created>
  <dc:creator>幻灯片 http://www.eeppt.com</dc:creator>
  <dc:description/>
  <cp:keywords>幻灯片 http:/www.eeppt.com</cp:keywords>
  <dc:language>en-US</dc:language>
  <cp:lastModifiedBy/>
  <dcterms:modified xsi:type="dcterms:W3CDTF">2015-07-24T08:16:32Z</dcterms:modified>
  <cp:revision>0</cp:revision>
  <dc:subject/>
  <dc:title/>
</cp:coreProperties>
</file>