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13.jpeg" ContentType="image/jpe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D9C85-72AA-46A0-B64A-C64AC7E7C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13E46-9FEB-48A5-B368-6C59092C3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0BDCD-86F4-47E3-9DFF-CC015BB9C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592B4-A11B-4D9B-A707-5D4237918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58FED-4897-41EC-9876-513ED207C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3A6EE-D78D-4851-A4EC-473453B81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E768A-C613-41FE-870A-27CB1602F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CDBEC-E173-4CEC-BACD-50410DE31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65F04-8BF0-40D3-ADF0-D577F2957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FFD5D-D632-438B-BADB-65A0FCE8D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FFB01-77C9-4F7B-A353-7A1104AB5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79238-A37E-4F1E-9F71-4074FFE92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9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22BBA-D52D-4123-96F1-0B7A0FDF1A1C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hyperlink" Target="http://www.eeppt.com/moban/" TargetMode="Externa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9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组合 663"/>
          <p:cNvGrpSpPr/>
          <p:nvPr/>
        </p:nvGrpSpPr>
        <p:grpSpPr>
          <a:xfrm>
            <a:off x="797040" y="613800"/>
            <a:ext cx="7549920" cy="5607720"/>
            <a:chOff x="797040" y="613800"/>
            <a:chExt cx="7549920" cy="5607720"/>
          </a:xfrm>
        </p:grpSpPr>
        <p:grpSp>
          <p:nvGrpSpPr>
            <p:cNvPr id="42" name="组合 359"/>
            <p:cNvGrpSpPr/>
            <p:nvPr/>
          </p:nvGrpSpPr>
          <p:grpSpPr>
            <a:xfrm>
              <a:off x="797040" y="613800"/>
              <a:ext cx="7549920" cy="5607720"/>
              <a:chOff x="797040" y="613800"/>
              <a:chExt cx="7549920" cy="5607720"/>
            </a:xfrm>
          </p:grpSpPr>
          <p:sp>
            <p:nvSpPr>
              <p:cNvPr id="43" name="任意多边形 670"/>
              <p:cNvSpPr/>
              <p:nvPr/>
            </p:nvSpPr>
            <p:spPr>
              <a:xfrm>
                <a:off x="871560" y="5627880"/>
                <a:ext cx="104760" cy="366480"/>
              </a:xfrm>
              <a:custGeom>
                <a:avLst/>
                <a:gdLst/>
                <a:ahLst/>
                <a:rect l="l" t="t" r="r" b="b"/>
                <a:pathLst>
                  <a:path w="117566" h="431074">
                    <a:moveTo>
                      <a:pt x="39189" y="431074"/>
                    </a:moveTo>
                    <a:lnTo>
                      <a:pt x="65315" y="156754"/>
                    </a:lnTo>
                    <a:lnTo>
                      <a:pt x="26126" y="156754"/>
                    </a:lnTo>
                    <a:lnTo>
                      <a:pt x="26126" y="117565"/>
                    </a:lnTo>
                    <a:lnTo>
                      <a:pt x="0" y="104503"/>
                    </a:lnTo>
                    <a:lnTo>
                      <a:pt x="0" y="0"/>
                    </a:lnTo>
                    <a:lnTo>
                      <a:pt x="117566" y="13063"/>
                    </a:lnTo>
                  </a:path>
                </a:pathLst>
              </a:custGeom>
              <a:noFill/>
              <a:ln cap="rnd" w="25560">
                <a:solidFill>
                  <a:srgbClr val="ffffff">
                    <a:alpha val="3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直接连接符 671"/>
              <p:cNvSpPr/>
              <p:nvPr/>
            </p:nvSpPr>
            <p:spPr>
              <a:xfrm flipV="1">
                <a:off x="976320" y="2462040"/>
                <a:ext cx="439560" cy="3176640"/>
              </a:xfrm>
              <a:prstGeom prst="line">
                <a:avLst/>
              </a:prstGeom>
              <a:ln cap="rnd" w="25560">
                <a:solidFill>
                  <a:srgbClr val="ffffff">
                    <a:alpha val="3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直接连接符 672"/>
              <p:cNvSpPr/>
              <p:nvPr/>
            </p:nvSpPr>
            <p:spPr>
              <a:xfrm flipV="1">
                <a:off x="1450080" y="2452680"/>
                <a:ext cx="384120" cy="3208320"/>
              </a:xfrm>
              <a:prstGeom prst="line">
                <a:avLst/>
              </a:prstGeom>
              <a:ln cap="rnd" w="25560">
                <a:solidFill>
                  <a:srgbClr val="ffffff">
                    <a:alpha val="3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直接连接符 673"/>
              <p:cNvSpPr/>
              <p:nvPr/>
            </p:nvSpPr>
            <p:spPr>
              <a:xfrm flipV="1">
                <a:off x="2483640" y="1730160"/>
                <a:ext cx="347400" cy="3835440"/>
              </a:xfrm>
              <a:prstGeom prst="line">
                <a:avLst/>
              </a:prstGeom>
              <a:ln cap="rnd" w="25560">
                <a:solidFill>
                  <a:srgbClr val="ffffff">
                    <a:alpha val="3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直接连接符 674"/>
              <p:cNvSpPr/>
              <p:nvPr/>
            </p:nvSpPr>
            <p:spPr>
              <a:xfrm flipV="1">
                <a:off x="2952720" y="1729800"/>
                <a:ext cx="296640" cy="3853080"/>
              </a:xfrm>
              <a:prstGeom prst="line">
                <a:avLst/>
              </a:prstGeom>
              <a:ln cap="rnd" w="25560">
                <a:solidFill>
                  <a:srgbClr val="ffffff">
                    <a:alpha val="3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直接连接符 675"/>
              <p:cNvSpPr/>
              <p:nvPr/>
            </p:nvSpPr>
            <p:spPr>
              <a:xfrm flipH="1" flipV="1">
                <a:off x="5940000" y="1774800"/>
                <a:ext cx="174600" cy="3834000"/>
              </a:xfrm>
              <a:prstGeom prst="line">
                <a:avLst/>
              </a:prstGeom>
              <a:ln cap="rnd" w="25560">
                <a:solidFill>
                  <a:srgbClr val="ffffff">
                    <a:alpha val="3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直接连接符 676"/>
              <p:cNvSpPr/>
              <p:nvPr/>
            </p:nvSpPr>
            <p:spPr>
              <a:xfrm flipH="1" flipV="1">
                <a:off x="6357600" y="1763280"/>
                <a:ext cx="236520" cy="3838680"/>
              </a:xfrm>
              <a:prstGeom prst="line">
                <a:avLst/>
              </a:prstGeom>
              <a:ln cap="rnd" w="25560">
                <a:solidFill>
                  <a:srgbClr val="ffffff">
                    <a:alpha val="3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直接连接符 677"/>
              <p:cNvSpPr/>
              <p:nvPr/>
            </p:nvSpPr>
            <p:spPr>
              <a:xfrm flipH="1" flipV="1">
                <a:off x="7284600" y="2517840"/>
                <a:ext cx="123480" cy="1265040"/>
              </a:xfrm>
              <a:prstGeom prst="line">
                <a:avLst/>
              </a:prstGeom>
              <a:ln cap="rnd" w="25560">
                <a:solidFill>
                  <a:srgbClr val="ffffff">
                    <a:alpha val="3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直接连接符 678"/>
              <p:cNvSpPr/>
              <p:nvPr/>
            </p:nvSpPr>
            <p:spPr>
              <a:xfrm flipH="1" flipV="1">
                <a:off x="7741800" y="2507760"/>
                <a:ext cx="361800" cy="3170520"/>
              </a:xfrm>
              <a:prstGeom prst="line">
                <a:avLst/>
              </a:prstGeom>
              <a:ln cap="rnd" w="25560">
                <a:solidFill>
                  <a:srgbClr val="ffffff">
                    <a:alpha val="3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直接连接符 679"/>
              <p:cNvSpPr/>
              <p:nvPr/>
            </p:nvSpPr>
            <p:spPr>
              <a:xfrm flipV="1">
                <a:off x="3072600" y="3760920"/>
                <a:ext cx="112680" cy="1811520"/>
              </a:xfrm>
              <a:prstGeom prst="line">
                <a:avLst/>
              </a:prstGeom>
              <a:ln cap="rnd" w="25560">
                <a:solidFill>
                  <a:srgbClr val="ffffff">
                    <a:alpha val="3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直接连接符 680"/>
              <p:cNvSpPr/>
              <p:nvPr/>
            </p:nvSpPr>
            <p:spPr>
              <a:xfrm flipH="1" flipV="1">
                <a:off x="5940360" y="3795480"/>
                <a:ext cx="80640" cy="1817640"/>
              </a:xfrm>
              <a:prstGeom prst="line">
                <a:avLst/>
              </a:prstGeom>
              <a:ln cap="rnd" w="25560">
                <a:solidFill>
                  <a:srgbClr val="ffffff">
                    <a:alpha val="3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直接连接符 681"/>
              <p:cNvSpPr/>
              <p:nvPr/>
            </p:nvSpPr>
            <p:spPr>
              <a:xfrm flipH="1" flipV="1">
                <a:off x="7296120" y="4062240"/>
                <a:ext cx="134640" cy="1617480"/>
              </a:xfrm>
              <a:prstGeom prst="line">
                <a:avLst/>
              </a:prstGeom>
              <a:ln cap="rnd" w="25560">
                <a:solidFill>
                  <a:srgbClr val="ffffff">
                    <a:alpha val="3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直接连接符 682"/>
              <p:cNvSpPr/>
              <p:nvPr/>
            </p:nvSpPr>
            <p:spPr>
              <a:xfrm flipV="1">
                <a:off x="1664640" y="4010040"/>
                <a:ext cx="168120" cy="1628640"/>
              </a:xfrm>
              <a:prstGeom prst="line">
                <a:avLst/>
              </a:prstGeom>
              <a:ln cap="rnd" w="25560">
                <a:solidFill>
                  <a:srgbClr val="ffffff">
                    <a:alpha val="3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直接连接符 683"/>
              <p:cNvSpPr/>
              <p:nvPr/>
            </p:nvSpPr>
            <p:spPr>
              <a:xfrm>
                <a:off x="1833480" y="4014720"/>
                <a:ext cx="771480" cy="9360"/>
              </a:xfrm>
              <a:prstGeom prst="line">
                <a:avLst/>
              </a:prstGeom>
              <a:ln cap="rnd" w="25560">
                <a:solidFill>
                  <a:srgbClr val="ffffff">
                    <a:alpha val="3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直接连接符 684"/>
              <p:cNvSpPr/>
              <p:nvPr/>
            </p:nvSpPr>
            <p:spPr>
              <a:xfrm flipH="1" flipV="1">
                <a:off x="1660320" y="3921120"/>
                <a:ext cx="172800" cy="95040"/>
              </a:xfrm>
              <a:prstGeom prst="line">
                <a:avLst/>
              </a:prstGeom>
              <a:ln cap="rnd" w="25560">
                <a:solidFill>
                  <a:srgbClr val="ffffff">
                    <a:alpha val="3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直接连接符 685"/>
              <p:cNvSpPr/>
              <p:nvPr/>
            </p:nvSpPr>
            <p:spPr>
              <a:xfrm>
                <a:off x="1663560" y="3916440"/>
                <a:ext cx="954000" cy="10800"/>
              </a:xfrm>
              <a:prstGeom prst="line">
                <a:avLst/>
              </a:prstGeom>
              <a:ln cap="rnd" w="25560">
                <a:solidFill>
                  <a:srgbClr val="ffffff">
                    <a:alpha val="3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直接连接符 686"/>
              <p:cNvSpPr/>
              <p:nvPr/>
            </p:nvSpPr>
            <p:spPr>
              <a:xfrm>
                <a:off x="1682640" y="3757680"/>
                <a:ext cx="954000" cy="9360"/>
              </a:xfrm>
              <a:prstGeom prst="line">
                <a:avLst/>
              </a:prstGeom>
              <a:ln cap="rnd" w="25560">
                <a:solidFill>
                  <a:srgbClr val="ffffff">
                    <a:alpha val="3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直接连接符 687"/>
              <p:cNvSpPr/>
              <p:nvPr/>
            </p:nvSpPr>
            <p:spPr>
              <a:xfrm>
                <a:off x="979560" y="5640480"/>
                <a:ext cx="519120" cy="28440"/>
              </a:xfrm>
              <a:prstGeom prst="line">
                <a:avLst/>
              </a:prstGeom>
              <a:ln cap="rnd" w="25560">
                <a:solidFill>
                  <a:srgbClr val="ffffff">
                    <a:alpha val="3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直接连接符 688"/>
              <p:cNvSpPr/>
              <p:nvPr/>
            </p:nvSpPr>
            <p:spPr>
              <a:xfrm flipV="1">
                <a:off x="1492200" y="5626080"/>
                <a:ext cx="215640" cy="42840"/>
              </a:xfrm>
              <a:prstGeom prst="line">
                <a:avLst/>
              </a:prstGeom>
              <a:ln cap="rnd" w="25560">
                <a:solidFill>
                  <a:srgbClr val="ffffff">
                    <a:alpha val="3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直接连接符 689"/>
              <p:cNvSpPr/>
              <p:nvPr/>
            </p:nvSpPr>
            <p:spPr>
              <a:xfrm flipV="1">
                <a:off x="1419120" y="2458440"/>
                <a:ext cx="415800" cy="4680"/>
              </a:xfrm>
              <a:prstGeom prst="line">
                <a:avLst/>
              </a:prstGeom>
              <a:ln cap="rnd" w="25560">
                <a:solidFill>
                  <a:srgbClr val="ffffff">
                    <a:alpha val="3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直接连接符 690"/>
              <p:cNvSpPr/>
              <p:nvPr/>
            </p:nvSpPr>
            <p:spPr>
              <a:xfrm>
                <a:off x="1833480" y="2458800"/>
                <a:ext cx="45720" cy="34920"/>
              </a:xfrm>
              <a:prstGeom prst="line">
                <a:avLst/>
              </a:prstGeom>
              <a:ln cap="rnd" w="25560">
                <a:solidFill>
                  <a:srgbClr val="ffffff">
                    <a:alpha val="3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直接连接符 691"/>
              <p:cNvSpPr/>
              <p:nvPr/>
            </p:nvSpPr>
            <p:spPr>
              <a:xfrm>
                <a:off x="1878120" y="2493720"/>
                <a:ext cx="879480" cy="1440"/>
              </a:xfrm>
              <a:prstGeom prst="line">
                <a:avLst/>
              </a:prstGeom>
              <a:ln cap="rnd" w="25560">
                <a:solidFill>
                  <a:srgbClr val="ffffff">
                    <a:alpha val="3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直接连接符 692"/>
              <p:cNvSpPr/>
              <p:nvPr/>
            </p:nvSpPr>
            <p:spPr>
              <a:xfrm flipH="1" flipV="1">
                <a:off x="1380600" y="2377800"/>
                <a:ext cx="34920" cy="85680"/>
              </a:xfrm>
              <a:prstGeom prst="line">
                <a:avLst/>
              </a:prstGeom>
              <a:ln cap="rnd" w="25560">
                <a:solidFill>
                  <a:srgbClr val="ffffff">
                    <a:alpha val="3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直接连接符 693"/>
              <p:cNvSpPr/>
              <p:nvPr/>
            </p:nvSpPr>
            <p:spPr>
              <a:xfrm>
                <a:off x="1376280" y="2376360"/>
                <a:ext cx="488880" cy="2880"/>
              </a:xfrm>
              <a:prstGeom prst="line">
                <a:avLst/>
              </a:prstGeom>
              <a:ln cap="rnd" w="25560">
                <a:solidFill>
                  <a:srgbClr val="ffffff">
                    <a:alpha val="3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直接连接符 694"/>
              <p:cNvSpPr/>
              <p:nvPr/>
            </p:nvSpPr>
            <p:spPr>
              <a:xfrm>
                <a:off x="1865160" y="2379600"/>
                <a:ext cx="39600" cy="33120"/>
              </a:xfrm>
              <a:prstGeom prst="line">
                <a:avLst/>
              </a:prstGeom>
              <a:ln cap="rnd" w="25560">
                <a:solidFill>
                  <a:srgbClr val="ffffff">
                    <a:alpha val="3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直接连接符 695"/>
              <p:cNvSpPr/>
              <p:nvPr/>
            </p:nvSpPr>
            <p:spPr>
              <a:xfrm>
                <a:off x="1898640" y="2411280"/>
                <a:ext cx="868320" cy="0"/>
              </a:xfrm>
              <a:prstGeom prst="line">
                <a:avLst/>
              </a:prstGeom>
              <a:ln cap="rnd" w="25560">
                <a:solidFill>
                  <a:srgbClr val="ffffff">
                    <a:alpha val="3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直接连接符 696"/>
              <p:cNvSpPr/>
              <p:nvPr/>
            </p:nvSpPr>
            <p:spPr>
              <a:xfrm flipH="1" flipV="1">
                <a:off x="2650680" y="2128320"/>
                <a:ext cx="115560" cy="284040"/>
              </a:xfrm>
              <a:prstGeom prst="line">
                <a:avLst/>
              </a:prstGeom>
              <a:ln cap="rnd" w="25560">
                <a:solidFill>
                  <a:srgbClr val="ffffff">
                    <a:alpha val="3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任意多边形 697"/>
              <p:cNvSpPr/>
              <p:nvPr/>
            </p:nvSpPr>
            <p:spPr>
              <a:xfrm>
                <a:off x="797040" y="1974600"/>
                <a:ext cx="590400" cy="679320"/>
              </a:xfrm>
              <a:custGeom>
                <a:avLst/>
                <a:gdLst/>
                <a:ahLst/>
                <a:rect l="l" t="t" r="r" b="b"/>
                <a:pathLst>
                  <a:path w="664368" h="797718">
                    <a:moveTo>
                      <a:pt x="664368" y="797718"/>
                    </a:moveTo>
                    <a:lnTo>
                      <a:pt x="216693" y="400050"/>
                    </a:lnTo>
                    <a:lnTo>
                      <a:pt x="64293" y="195262"/>
                    </a:lnTo>
                    <a:lnTo>
                      <a:pt x="0" y="0"/>
                    </a:lnTo>
                  </a:path>
                </a:pathLst>
              </a:custGeom>
              <a:noFill/>
              <a:ln cap="rnd" w="25560">
                <a:solidFill>
                  <a:srgbClr val="ffffff">
                    <a:alpha val="3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直接连接符 698"/>
              <p:cNvSpPr/>
              <p:nvPr/>
            </p:nvSpPr>
            <p:spPr>
              <a:xfrm flipH="1" flipV="1">
                <a:off x="1044000" y="2317320"/>
                <a:ext cx="1687320" cy="14040"/>
              </a:xfrm>
              <a:prstGeom prst="line">
                <a:avLst/>
              </a:prstGeom>
              <a:ln cap="rnd" w="25560">
                <a:solidFill>
                  <a:srgbClr val="ffffff">
                    <a:alpha val="3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任意多边形 699"/>
              <p:cNvSpPr/>
              <p:nvPr/>
            </p:nvSpPr>
            <p:spPr>
              <a:xfrm>
                <a:off x="830160" y="2082600"/>
                <a:ext cx="1820880" cy="47520"/>
              </a:xfrm>
              <a:custGeom>
                <a:avLst/>
                <a:gdLst/>
                <a:ahLst/>
                <a:rect l="l" t="t" r="r" b="b"/>
                <a:pathLst>
                  <a:path w="2050256" h="57150">
                    <a:moveTo>
                      <a:pt x="2050256" y="57150"/>
                    </a:moveTo>
                    <a:lnTo>
                      <a:pt x="514350" y="57150"/>
                    </a:lnTo>
                    <a:lnTo>
                      <a:pt x="159543" y="19050"/>
                    </a:lnTo>
                    <a:lnTo>
                      <a:pt x="0" y="0"/>
                    </a:lnTo>
                    <a:lnTo>
                      <a:pt x="7143" y="0"/>
                    </a:lnTo>
                  </a:path>
                </a:pathLst>
              </a:custGeom>
              <a:noFill/>
              <a:ln cap="rnd" w="25560">
                <a:solidFill>
                  <a:srgbClr val="ffffff">
                    <a:alpha val="3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任意多边形 700"/>
              <p:cNvSpPr/>
              <p:nvPr/>
            </p:nvSpPr>
            <p:spPr>
              <a:xfrm>
                <a:off x="797040" y="1952640"/>
                <a:ext cx="801360" cy="131760"/>
              </a:xfrm>
              <a:custGeom>
                <a:avLst/>
                <a:gdLst/>
                <a:ahLst/>
                <a:rect l="l" t="t" r="r" b="b"/>
                <a:pathLst>
                  <a:path w="902493" h="154781">
                    <a:moveTo>
                      <a:pt x="0" y="23812"/>
                    </a:moveTo>
                    <a:lnTo>
                      <a:pt x="142875" y="83344"/>
                    </a:lnTo>
                    <a:cubicBezTo>
                      <a:pt x="209479" y="104208"/>
                      <a:pt x="273104" y="145256"/>
                      <a:pt x="342900" y="145256"/>
                    </a:cubicBezTo>
                    <a:lnTo>
                      <a:pt x="481012" y="154781"/>
                    </a:lnTo>
                    <a:lnTo>
                      <a:pt x="595312" y="147637"/>
                    </a:lnTo>
                    <a:lnTo>
                      <a:pt x="704850" y="119062"/>
                    </a:lnTo>
                    <a:lnTo>
                      <a:pt x="792956" y="73819"/>
                    </a:lnTo>
                    <a:lnTo>
                      <a:pt x="852487" y="33337"/>
                    </a:lnTo>
                    <a:lnTo>
                      <a:pt x="902493" y="0"/>
                    </a:lnTo>
                  </a:path>
                </a:pathLst>
              </a:custGeom>
              <a:noFill/>
              <a:ln cap="rnd" w="25560">
                <a:solidFill>
                  <a:srgbClr val="ffffff">
                    <a:alpha val="3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直接连接符 701"/>
              <p:cNvSpPr/>
              <p:nvPr/>
            </p:nvSpPr>
            <p:spPr>
              <a:xfrm>
                <a:off x="1600200" y="1955520"/>
                <a:ext cx="1209600" cy="0"/>
              </a:xfrm>
              <a:prstGeom prst="line">
                <a:avLst/>
              </a:prstGeom>
              <a:ln cap="rnd" w="25560">
                <a:solidFill>
                  <a:srgbClr val="ffffff">
                    <a:alpha val="3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任意多边形 702"/>
              <p:cNvSpPr/>
              <p:nvPr/>
            </p:nvSpPr>
            <p:spPr>
              <a:xfrm>
                <a:off x="2033640" y="1106280"/>
                <a:ext cx="428400" cy="850680"/>
              </a:xfrm>
              <a:custGeom>
                <a:avLst/>
                <a:gdLst/>
                <a:ahLst/>
                <a:rect l="l" t="t" r="r" b="b"/>
                <a:pathLst>
                  <a:path w="483394" h="1000125">
                    <a:moveTo>
                      <a:pt x="483394" y="1000125"/>
                    </a:moveTo>
                    <a:lnTo>
                      <a:pt x="264319" y="633413"/>
                    </a:lnTo>
                    <a:lnTo>
                      <a:pt x="140494" y="421482"/>
                    </a:lnTo>
                    <a:lnTo>
                      <a:pt x="80962" y="288132"/>
                    </a:lnTo>
                    <a:lnTo>
                      <a:pt x="42862" y="178594"/>
                    </a:lnTo>
                    <a:lnTo>
                      <a:pt x="33337" y="88107"/>
                    </a:lnTo>
                    <a:lnTo>
                      <a:pt x="0" y="0"/>
                    </a:lnTo>
                  </a:path>
                </a:pathLst>
              </a:custGeom>
              <a:noFill/>
              <a:ln cap="rnd" w="25560">
                <a:solidFill>
                  <a:srgbClr val="ffffff">
                    <a:alpha val="3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任意多边形 703"/>
              <p:cNvSpPr/>
              <p:nvPr/>
            </p:nvSpPr>
            <p:spPr>
              <a:xfrm>
                <a:off x="2031840" y="1104480"/>
                <a:ext cx="4773600" cy="206280"/>
              </a:xfrm>
              <a:custGeom>
                <a:avLst/>
                <a:gdLst/>
                <a:ahLst/>
                <a:rect l="l" t="t" r="r" b="b"/>
                <a:pathLst>
                  <a:path w="2797968" h="219075">
                    <a:moveTo>
                      <a:pt x="0" y="0"/>
                    </a:moveTo>
                    <a:lnTo>
                      <a:pt x="164306" y="126206"/>
                    </a:lnTo>
                    <a:lnTo>
                      <a:pt x="411956" y="178594"/>
                    </a:lnTo>
                    <a:lnTo>
                      <a:pt x="607218" y="197644"/>
                    </a:lnTo>
                    <a:lnTo>
                      <a:pt x="2786062" y="219075"/>
                    </a:lnTo>
                    <a:lnTo>
                      <a:pt x="2797968" y="216694"/>
                    </a:lnTo>
                  </a:path>
                </a:pathLst>
              </a:custGeom>
              <a:noFill/>
              <a:ln cap="rnd" w="25560">
                <a:solidFill>
                  <a:srgbClr val="ffffff">
                    <a:alpha val="3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任意多边形 704"/>
              <p:cNvSpPr/>
              <p:nvPr/>
            </p:nvSpPr>
            <p:spPr>
              <a:xfrm>
                <a:off x="1460520" y="1758600"/>
                <a:ext cx="392040" cy="207720"/>
              </a:xfrm>
              <a:custGeom>
                <a:avLst/>
                <a:gdLst/>
                <a:ahLst/>
                <a:rect l="l" t="t" r="r" b="b"/>
                <a:pathLst>
                  <a:path w="440531" h="245269">
                    <a:moveTo>
                      <a:pt x="119063" y="245269"/>
                    </a:moveTo>
                    <a:lnTo>
                      <a:pt x="59531" y="221456"/>
                    </a:lnTo>
                    <a:lnTo>
                      <a:pt x="38100" y="207169"/>
                    </a:lnTo>
                    <a:lnTo>
                      <a:pt x="21431" y="183356"/>
                    </a:lnTo>
                    <a:lnTo>
                      <a:pt x="16669" y="178594"/>
                    </a:lnTo>
                    <a:lnTo>
                      <a:pt x="7144" y="164306"/>
                    </a:lnTo>
                    <a:lnTo>
                      <a:pt x="0" y="133350"/>
                    </a:lnTo>
                    <a:lnTo>
                      <a:pt x="0" y="114300"/>
                    </a:lnTo>
                    <a:lnTo>
                      <a:pt x="7144" y="90487"/>
                    </a:lnTo>
                    <a:lnTo>
                      <a:pt x="19050" y="64294"/>
                    </a:lnTo>
                    <a:lnTo>
                      <a:pt x="35719" y="45244"/>
                    </a:lnTo>
                    <a:lnTo>
                      <a:pt x="52388" y="30956"/>
                    </a:lnTo>
                    <a:lnTo>
                      <a:pt x="66675" y="21431"/>
                    </a:lnTo>
                    <a:lnTo>
                      <a:pt x="88106" y="9525"/>
                    </a:lnTo>
                    <a:lnTo>
                      <a:pt x="104775" y="2381"/>
                    </a:lnTo>
                    <a:lnTo>
                      <a:pt x="121444" y="0"/>
                    </a:lnTo>
                    <a:lnTo>
                      <a:pt x="138113" y="0"/>
                    </a:lnTo>
                    <a:lnTo>
                      <a:pt x="154781" y="0"/>
                    </a:lnTo>
                    <a:lnTo>
                      <a:pt x="169069" y="2381"/>
                    </a:lnTo>
                    <a:lnTo>
                      <a:pt x="180975" y="9525"/>
                    </a:lnTo>
                    <a:lnTo>
                      <a:pt x="192881" y="14287"/>
                    </a:lnTo>
                    <a:lnTo>
                      <a:pt x="204788" y="28575"/>
                    </a:lnTo>
                    <a:lnTo>
                      <a:pt x="219075" y="47625"/>
                    </a:lnTo>
                    <a:lnTo>
                      <a:pt x="228600" y="69056"/>
                    </a:lnTo>
                    <a:lnTo>
                      <a:pt x="230981" y="95250"/>
                    </a:lnTo>
                    <a:lnTo>
                      <a:pt x="226219" y="109537"/>
                    </a:lnTo>
                    <a:lnTo>
                      <a:pt x="216694" y="123825"/>
                    </a:lnTo>
                    <a:cubicBezTo>
                      <a:pt x="194636" y="140981"/>
                      <a:pt x="204313" y="140494"/>
                      <a:pt x="192881" y="140494"/>
                    </a:cubicBezTo>
                    <a:lnTo>
                      <a:pt x="173831" y="140494"/>
                    </a:lnTo>
                    <a:lnTo>
                      <a:pt x="157163" y="140494"/>
                    </a:lnTo>
                    <a:lnTo>
                      <a:pt x="140494" y="128587"/>
                    </a:lnTo>
                    <a:lnTo>
                      <a:pt x="135731" y="123825"/>
                    </a:lnTo>
                    <a:lnTo>
                      <a:pt x="135731" y="116681"/>
                    </a:lnTo>
                    <a:lnTo>
                      <a:pt x="138113" y="100012"/>
                    </a:lnTo>
                    <a:lnTo>
                      <a:pt x="154781" y="85725"/>
                    </a:lnTo>
                    <a:lnTo>
                      <a:pt x="169069" y="78581"/>
                    </a:lnTo>
                    <a:lnTo>
                      <a:pt x="178594" y="76200"/>
                    </a:lnTo>
                    <a:lnTo>
                      <a:pt x="183356" y="71437"/>
                    </a:lnTo>
                    <a:lnTo>
                      <a:pt x="173831" y="59531"/>
                    </a:lnTo>
                    <a:lnTo>
                      <a:pt x="166688" y="52387"/>
                    </a:lnTo>
                    <a:lnTo>
                      <a:pt x="152400" y="50006"/>
                    </a:lnTo>
                    <a:lnTo>
                      <a:pt x="128588" y="50006"/>
                    </a:lnTo>
                    <a:lnTo>
                      <a:pt x="102394" y="59531"/>
                    </a:lnTo>
                    <a:lnTo>
                      <a:pt x="90488" y="78581"/>
                    </a:lnTo>
                    <a:lnTo>
                      <a:pt x="76200" y="90487"/>
                    </a:lnTo>
                    <a:lnTo>
                      <a:pt x="76200" y="114300"/>
                    </a:lnTo>
                    <a:lnTo>
                      <a:pt x="78581" y="133350"/>
                    </a:lnTo>
                    <a:lnTo>
                      <a:pt x="90488" y="150019"/>
                    </a:lnTo>
                    <a:lnTo>
                      <a:pt x="104775" y="159544"/>
                    </a:lnTo>
                    <a:lnTo>
                      <a:pt x="121444" y="166687"/>
                    </a:lnTo>
                    <a:lnTo>
                      <a:pt x="157163" y="183356"/>
                    </a:lnTo>
                    <a:lnTo>
                      <a:pt x="178594" y="188119"/>
                    </a:lnTo>
                    <a:lnTo>
                      <a:pt x="202406" y="197644"/>
                    </a:lnTo>
                    <a:lnTo>
                      <a:pt x="233363" y="207169"/>
                    </a:lnTo>
                    <a:lnTo>
                      <a:pt x="257175" y="214312"/>
                    </a:lnTo>
                    <a:lnTo>
                      <a:pt x="288131" y="221456"/>
                    </a:lnTo>
                    <a:lnTo>
                      <a:pt x="304800" y="226219"/>
                    </a:lnTo>
                    <a:lnTo>
                      <a:pt x="276225" y="202406"/>
                    </a:lnTo>
                    <a:lnTo>
                      <a:pt x="269081" y="188119"/>
                    </a:lnTo>
                    <a:lnTo>
                      <a:pt x="261938" y="166687"/>
                    </a:lnTo>
                    <a:lnTo>
                      <a:pt x="264319" y="142875"/>
                    </a:lnTo>
                    <a:lnTo>
                      <a:pt x="271463" y="123825"/>
                    </a:lnTo>
                    <a:lnTo>
                      <a:pt x="285750" y="102394"/>
                    </a:lnTo>
                    <a:lnTo>
                      <a:pt x="300038" y="88106"/>
                    </a:lnTo>
                    <a:lnTo>
                      <a:pt x="321469" y="78581"/>
                    </a:lnTo>
                    <a:lnTo>
                      <a:pt x="350044" y="73819"/>
                    </a:lnTo>
                    <a:lnTo>
                      <a:pt x="376238" y="76200"/>
                    </a:lnTo>
                    <a:lnTo>
                      <a:pt x="390525" y="80962"/>
                    </a:lnTo>
                    <a:lnTo>
                      <a:pt x="409575" y="95250"/>
                    </a:lnTo>
                    <a:lnTo>
                      <a:pt x="421481" y="111919"/>
                    </a:lnTo>
                    <a:lnTo>
                      <a:pt x="423863" y="133350"/>
                    </a:lnTo>
                    <a:lnTo>
                      <a:pt x="416719" y="152400"/>
                    </a:lnTo>
                    <a:lnTo>
                      <a:pt x="402431" y="166687"/>
                    </a:lnTo>
                    <a:lnTo>
                      <a:pt x="390525" y="173831"/>
                    </a:lnTo>
                    <a:lnTo>
                      <a:pt x="378619" y="173831"/>
                    </a:lnTo>
                    <a:lnTo>
                      <a:pt x="369094" y="161925"/>
                    </a:lnTo>
                    <a:lnTo>
                      <a:pt x="371475" y="140494"/>
                    </a:lnTo>
                    <a:lnTo>
                      <a:pt x="385763" y="126206"/>
                    </a:lnTo>
                    <a:lnTo>
                      <a:pt x="385763" y="119062"/>
                    </a:lnTo>
                    <a:lnTo>
                      <a:pt x="383381" y="114300"/>
                    </a:lnTo>
                    <a:lnTo>
                      <a:pt x="376238" y="107156"/>
                    </a:lnTo>
                    <a:lnTo>
                      <a:pt x="359569" y="107156"/>
                    </a:lnTo>
                    <a:lnTo>
                      <a:pt x="333375" y="116681"/>
                    </a:lnTo>
                    <a:lnTo>
                      <a:pt x="323850" y="135731"/>
                    </a:lnTo>
                    <a:lnTo>
                      <a:pt x="323850" y="152400"/>
                    </a:lnTo>
                    <a:lnTo>
                      <a:pt x="326231" y="169069"/>
                    </a:lnTo>
                    <a:lnTo>
                      <a:pt x="338138" y="183356"/>
                    </a:lnTo>
                    <a:lnTo>
                      <a:pt x="369094" y="197644"/>
                    </a:lnTo>
                    <a:lnTo>
                      <a:pt x="388144" y="204787"/>
                    </a:lnTo>
                    <a:lnTo>
                      <a:pt x="407194" y="214312"/>
                    </a:lnTo>
                    <a:lnTo>
                      <a:pt x="419100" y="221456"/>
                    </a:lnTo>
                    <a:lnTo>
                      <a:pt x="431006" y="223837"/>
                    </a:lnTo>
                    <a:lnTo>
                      <a:pt x="440531" y="226219"/>
                    </a:lnTo>
                  </a:path>
                </a:pathLst>
              </a:custGeom>
              <a:noFill/>
              <a:ln cap="rnd" w="25560">
                <a:solidFill>
                  <a:srgbClr val="ffffff">
                    <a:alpha val="3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直接连接符 705"/>
              <p:cNvSpPr/>
              <p:nvPr/>
            </p:nvSpPr>
            <p:spPr>
              <a:xfrm flipH="1" flipV="1">
                <a:off x="2282400" y="1499760"/>
                <a:ext cx="291960" cy="455400"/>
              </a:xfrm>
              <a:prstGeom prst="line">
                <a:avLst/>
              </a:prstGeom>
              <a:ln cap="rnd" w="25560">
                <a:solidFill>
                  <a:srgbClr val="ffffff">
                    <a:alpha val="3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直接连接符 706"/>
              <p:cNvSpPr/>
              <p:nvPr/>
            </p:nvSpPr>
            <p:spPr>
              <a:xfrm flipV="1">
                <a:off x="2282040" y="1401480"/>
                <a:ext cx="21960" cy="95040"/>
              </a:xfrm>
              <a:prstGeom prst="line">
                <a:avLst/>
              </a:prstGeom>
              <a:ln cap="rnd" w="25560">
                <a:solidFill>
                  <a:srgbClr val="ffffff">
                    <a:alpha val="3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任意多边形 707"/>
              <p:cNvSpPr/>
              <p:nvPr/>
            </p:nvSpPr>
            <p:spPr>
              <a:xfrm>
                <a:off x="2301840" y="1401480"/>
                <a:ext cx="4645080" cy="48960"/>
              </a:xfrm>
              <a:custGeom>
                <a:avLst/>
                <a:gdLst/>
                <a:ahLst/>
                <a:rect l="l" t="t" r="r" b="b"/>
                <a:pathLst>
                  <a:path w="1935956" h="26194">
                    <a:moveTo>
                      <a:pt x="0" y="0"/>
                    </a:moveTo>
                    <a:lnTo>
                      <a:pt x="138112" y="9525"/>
                    </a:lnTo>
                    <a:lnTo>
                      <a:pt x="521493" y="16669"/>
                    </a:lnTo>
                    <a:lnTo>
                      <a:pt x="1935956" y="26194"/>
                    </a:lnTo>
                  </a:path>
                </a:pathLst>
              </a:custGeom>
              <a:noFill/>
              <a:ln cap="rnd" w="25560">
                <a:solidFill>
                  <a:srgbClr val="ffffff">
                    <a:alpha val="3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直接连接符 708"/>
              <p:cNvSpPr/>
              <p:nvPr/>
            </p:nvSpPr>
            <p:spPr>
              <a:xfrm>
                <a:off x="2830320" y="1728720"/>
                <a:ext cx="420480" cy="1440"/>
              </a:xfrm>
              <a:prstGeom prst="line">
                <a:avLst/>
              </a:prstGeom>
              <a:ln cap="rnd" w="25560">
                <a:solidFill>
                  <a:srgbClr val="ffffff">
                    <a:alpha val="3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直接连接符 709"/>
              <p:cNvSpPr/>
              <p:nvPr/>
            </p:nvSpPr>
            <p:spPr>
              <a:xfrm>
                <a:off x="2286000" y="1500120"/>
                <a:ext cx="4667040" cy="63360"/>
              </a:xfrm>
              <a:prstGeom prst="line">
                <a:avLst/>
              </a:prstGeom>
              <a:ln cap="rnd" w="25560">
                <a:solidFill>
                  <a:srgbClr val="ffffff">
                    <a:alpha val="3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任意多边形 710"/>
              <p:cNvSpPr/>
              <p:nvPr/>
            </p:nvSpPr>
            <p:spPr>
              <a:xfrm>
                <a:off x="2346120" y="657000"/>
                <a:ext cx="222120" cy="595080"/>
              </a:xfrm>
              <a:custGeom>
                <a:avLst/>
                <a:gdLst/>
                <a:ahLst/>
                <a:rect l="l" t="t" r="r" b="b"/>
                <a:pathLst>
                  <a:path w="250031" h="700087">
                    <a:moveTo>
                      <a:pt x="250031" y="700087"/>
                    </a:moveTo>
                    <a:lnTo>
                      <a:pt x="97631" y="342900"/>
                    </a:lnTo>
                    <a:lnTo>
                      <a:pt x="66675" y="235744"/>
                    </a:lnTo>
                    <a:lnTo>
                      <a:pt x="66675" y="145256"/>
                    </a:lnTo>
                    <a:lnTo>
                      <a:pt x="38100" y="100012"/>
                    </a:lnTo>
                    <a:lnTo>
                      <a:pt x="0" y="64294"/>
                    </a:lnTo>
                    <a:lnTo>
                      <a:pt x="4762" y="11906"/>
                    </a:lnTo>
                    <a:lnTo>
                      <a:pt x="16669" y="0"/>
                    </a:lnTo>
                    <a:lnTo>
                      <a:pt x="16669" y="0"/>
                    </a:lnTo>
                  </a:path>
                </a:pathLst>
              </a:custGeom>
              <a:noFill/>
              <a:ln cap="rnd" w="25560">
                <a:solidFill>
                  <a:srgbClr val="ffffff">
                    <a:alpha val="3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直接连接符 711"/>
              <p:cNvSpPr/>
              <p:nvPr/>
            </p:nvSpPr>
            <p:spPr>
              <a:xfrm flipH="1" flipV="1">
                <a:off x="2568600" y="1055520"/>
                <a:ext cx="109440" cy="212400"/>
              </a:xfrm>
              <a:prstGeom prst="line">
                <a:avLst/>
              </a:prstGeom>
              <a:ln cap="rnd" w="25560">
                <a:solidFill>
                  <a:srgbClr val="ffffff">
                    <a:alpha val="3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直接连接符 712"/>
              <p:cNvSpPr/>
              <p:nvPr/>
            </p:nvSpPr>
            <p:spPr>
              <a:xfrm flipH="1">
                <a:off x="2566800" y="972720"/>
                <a:ext cx="9360" cy="80640"/>
              </a:xfrm>
              <a:prstGeom prst="line">
                <a:avLst/>
              </a:prstGeom>
              <a:ln cap="rnd" w="25560">
                <a:solidFill>
                  <a:srgbClr val="ffffff">
                    <a:alpha val="3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直接连接符 713"/>
              <p:cNvSpPr/>
              <p:nvPr/>
            </p:nvSpPr>
            <p:spPr>
              <a:xfrm flipH="1">
                <a:off x="2827440" y="1125360"/>
                <a:ext cx="26640" cy="147600"/>
              </a:xfrm>
              <a:prstGeom prst="line">
                <a:avLst/>
              </a:prstGeom>
              <a:ln cap="rnd" w="25560">
                <a:solidFill>
                  <a:srgbClr val="ffffff">
                    <a:alpha val="3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任意多边形 714"/>
              <p:cNvSpPr/>
              <p:nvPr/>
            </p:nvSpPr>
            <p:spPr>
              <a:xfrm rot="396000">
                <a:off x="2809800" y="636120"/>
                <a:ext cx="404640" cy="195120"/>
              </a:xfrm>
              <a:custGeom>
                <a:avLst/>
                <a:gdLst/>
                <a:ahLst/>
                <a:rect l="l" t="t" r="r" b="b"/>
                <a:pathLst>
                  <a:path w="440531" h="245269">
                    <a:moveTo>
                      <a:pt x="119063" y="245269"/>
                    </a:moveTo>
                    <a:lnTo>
                      <a:pt x="59531" y="221456"/>
                    </a:lnTo>
                    <a:lnTo>
                      <a:pt x="38100" y="207169"/>
                    </a:lnTo>
                    <a:lnTo>
                      <a:pt x="21431" y="183356"/>
                    </a:lnTo>
                    <a:lnTo>
                      <a:pt x="16669" y="178594"/>
                    </a:lnTo>
                    <a:lnTo>
                      <a:pt x="7144" y="164306"/>
                    </a:lnTo>
                    <a:lnTo>
                      <a:pt x="0" y="133350"/>
                    </a:lnTo>
                    <a:lnTo>
                      <a:pt x="0" y="114300"/>
                    </a:lnTo>
                    <a:lnTo>
                      <a:pt x="7144" y="90487"/>
                    </a:lnTo>
                    <a:lnTo>
                      <a:pt x="19050" y="64294"/>
                    </a:lnTo>
                    <a:lnTo>
                      <a:pt x="35719" y="45244"/>
                    </a:lnTo>
                    <a:lnTo>
                      <a:pt x="52388" y="30956"/>
                    </a:lnTo>
                    <a:lnTo>
                      <a:pt x="66675" y="21431"/>
                    </a:lnTo>
                    <a:lnTo>
                      <a:pt x="88106" y="9525"/>
                    </a:lnTo>
                    <a:lnTo>
                      <a:pt x="104775" y="2381"/>
                    </a:lnTo>
                    <a:lnTo>
                      <a:pt x="121444" y="0"/>
                    </a:lnTo>
                    <a:lnTo>
                      <a:pt x="138113" y="0"/>
                    </a:lnTo>
                    <a:lnTo>
                      <a:pt x="154781" y="0"/>
                    </a:lnTo>
                    <a:lnTo>
                      <a:pt x="169069" y="2381"/>
                    </a:lnTo>
                    <a:lnTo>
                      <a:pt x="180975" y="9525"/>
                    </a:lnTo>
                    <a:lnTo>
                      <a:pt x="192881" y="14287"/>
                    </a:lnTo>
                    <a:lnTo>
                      <a:pt x="204788" y="28575"/>
                    </a:lnTo>
                    <a:lnTo>
                      <a:pt x="219075" y="47625"/>
                    </a:lnTo>
                    <a:lnTo>
                      <a:pt x="228600" y="69056"/>
                    </a:lnTo>
                    <a:lnTo>
                      <a:pt x="230981" y="95250"/>
                    </a:lnTo>
                    <a:lnTo>
                      <a:pt x="226219" y="109537"/>
                    </a:lnTo>
                    <a:lnTo>
                      <a:pt x="216694" y="123825"/>
                    </a:lnTo>
                    <a:cubicBezTo>
                      <a:pt x="194636" y="140981"/>
                      <a:pt x="204313" y="140494"/>
                      <a:pt x="192881" y="140494"/>
                    </a:cubicBezTo>
                    <a:lnTo>
                      <a:pt x="173831" y="140494"/>
                    </a:lnTo>
                    <a:lnTo>
                      <a:pt x="157163" y="140494"/>
                    </a:lnTo>
                    <a:lnTo>
                      <a:pt x="140494" y="128587"/>
                    </a:lnTo>
                    <a:lnTo>
                      <a:pt x="135731" y="123825"/>
                    </a:lnTo>
                    <a:lnTo>
                      <a:pt x="135731" y="116681"/>
                    </a:lnTo>
                    <a:lnTo>
                      <a:pt x="138113" y="100012"/>
                    </a:lnTo>
                    <a:lnTo>
                      <a:pt x="154781" y="85725"/>
                    </a:lnTo>
                    <a:lnTo>
                      <a:pt x="169069" y="78581"/>
                    </a:lnTo>
                    <a:lnTo>
                      <a:pt x="178594" y="76200"/>
                    </a:lnTo>
                    <a:lnTo>
                      <a:pt x="183356" y="71437"/>
                    </a:lnTo>
                    <a:lnTo>
                      <a:pt x="173831" y="59531"/>
                    </a:lnTo>
                    <a:lnTo>
                      <a:pt x="166688" y="52387"/>
                    </a:lnTo>
                    <a:lnTo>
                      <a:pt x="152400" y="50006"/>
                    </a:lnTo>
                    <a:lnTo>
                      <a:pt x="128588" y="50006"/>
                    </a:lnTo>
                    <a:lnTo>
                      <a:pt x="102394" y="59531"/>
                    </a:lnTo>
                    <a:lnTo>
                      <a:pt x="90488" y="78581"/>
                    </a:lnTo>
                    <a:lnTo>
                      <a:pt x="76200" y="90487"/>
                    </a:lnTo>
                    <a:lnTo>
                      <a:pt x="76200" y="114300"/>
                    </a:lnTo>
                    <a:lnTo>
                      <a:pt x="78581" y="133350"/>
                    </a:lnTo>
                    <a:lnTo>
                      <a:pt x="90488" y="150019"/>
                    </a:lnTo>
                    <a:lnTo>
                      <a:pt x="104775" y="159544"/>
                    </a:lnTo>
                    <a:lnTo>
                      <a:pt x="121444" y="166687"/>
                    </a:lnTo>
                    <a:lnTo>
                      <a:pt x="157163" y="183356"/>
                    </a:lnTo>
                    <a:lnTo>
                      <a:pt x="178594" y="188119"/>
                    </a:lnTo>
                    <a:lnTo>
                      <a:pt x="202406" y="197644"/>
                    </a:lnTo>
                    <a:lnTo>
                      <a:pt x="233363" y="207169"/>
                    </a:lnTo>
                    <a:lnTo>
                      <a:pt x="257175" y="214312"/>
                    </a:lnTo>
                    <a:lnTo>
                      <a:pt x="288131" y="221456"/>
                    </a:lnTo>
                    <a:lnTo>
                      <a:pt x="304800" y="226219"/>
                    </a:lnTo>
                    <a:lnTo>
                      <a:pt x="276225" y="202406"/>
                    </a:lnTo>
                    <a:lnTo>
                      <a:pt x="269081" y="188119"/>
                    </a:lnTo>
                    <a:lnTo>
                      <a:pt x="261938" y="166687"/>
                    </a:lnTo>
                    <a:lnTo>
                      <a:pt x="264319" y="142875"/>
                    </a:lnTo>
                    <a:lnTo>
                      <a:pt x="271463" y="123825"/>
                    </a:lnTo>
                    <a:lnTo>
                      <a:pt x="285750" y="102394"/>
                    </a:lnTo>
                    <a:lnTo>
                      <a:pt x="300038" y="88106"/>
                    </a:lnTo>
                    <a:lnTo>
                      <a:pt x="321469" y="78581"/>
                    </a:lnTo>
                    <a:lnTo>
                      <a:pt x="350044" y="73819"/>
                    </a:lnTo>
                    <a:lnTo>
                      <a:pt x="376238" y="76200"/>
                    </a:lnTo>
                    <a:lnTo>
                      <a:pt x="390525" y="80962"/>
                    </a:lnTo>
                    <a:lnTo>
                      <a:pt x="409575" y="95250"/>
                    </a:lnTo>
                    <a:lnTo>
                      <a:pt x="421481" y="111919"/>
                    </a:lnTo>
                    <a:lnTo>
                      <a:pt x="423863" y="133350"/>
                    </a:lnTo>
                    <a:lnTo>
                      <a:pt x="416719" y="152400"/>
                    </a:lnTo>
                    <a:lnTo>
                      <a:pt x="402431" y="166687"/>
                    </a:lnTo>
                    <a:lnTo>
                      <a:pt x="390525" y="173831"/>
                    </a:lnTo>
                    <a:lnTo>
                      <a:pt x="378619" y="173831"/>
                    </a:lnTo>
                    <a:lnTo>
                      <a:pt x="369094" y="161925"/>
                    </a:lnTo>
                    <a:lnTo>
                      <a:pt x="371475" y="140494"/>
                    </a:lnTo>
                    <a:lnTo>
                      <a:pt x="385763" y="126206"/>
                    </a:lnTo>
                    <a:lnTo>
                      <a:pt x="385763" y="119062"/>
                    </a:lnTo>
                    <a:lnTo>
                      <a:pt x="383381" y="114300"/>
                    </a:lnTo>
                    <a:lnTo>
                      <a:pt x="376238" y="107156"/>
                    </a:lnTo>
                    <a:lnTo>
                      <a:pt x="359569" y="107156"/>
                    </a:lnTo>
                    <a:lnTo>
                      <a:pt x="333375" y="116681"/>
                    </a:lnTo>
                    <a:lnTo>
                      <a:pt x="323850" y="135731"/>
                    </a:lnTo>
                    <a:lnTo>
                      <a:pt x="323850" y="152400"/>
                    </a:lnTo>
                    <a:lnTo>
                      <a:pt x="326231" y="169069"/>
                    </a:lnTo>
                    <a:lnTo>
                      <a:pt x="338138" y="183356"/>
                    </a:lnTo>
                    <a:lnTo>
                      <a:pt x="369094" y="197644"/>
                    </a:lnTo>
                    <a:lnTo>
                      <a:pt x="388144" y="204787"/>
                    </a:lnTo>
                    <a:lnTo>
                      <a:pt x="407194" y="214312"/>
                    </a:lnTo>
                    <a:lnTo>
                      <a:pt x="419100" y="221456"/>
                    </a:lnTo>
                    <a:lnTo>
                      <a:pt x="431006" y="223837"/>
                    </a:lnTo>
                    <a:lnTo>
                      <a:pt x="440531" y="226219"/>
                    </a:lnTo>
                  </a:path>
                </a:pathLst>
              </a:custGeom>
              <a:noFill/>
              <a:ln cap="rnd" w="25560">
                <a:solidFill>
                  <a:srgbClr val="ffffff">
                    <a:alpha val="3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任意多边形 715"/>
              <p:cNvSpPr/>
              <p:nvPr/>
            </p:nvSpPr>
            <p:spPr>
              <a:xfrm>
                <a:off x="2362320" y="657000"/>
                <a:ext cx="4182840" cy="215640"/>
              </a:xfrm>
              <a:custGeom>
                <a:avLst/>
                <a:gdLst/>
                <a:ahLst/>
                <a:rect l="l" t="t" r="r" b="b"/>
                <a:pathLst>
                  <a:path w="2338387" h="230981">
                    <a:moveTo>
                      <a:pt x="0" y="0"/>
                    </a:moveTo>
                    <a:lnTo>
                      <a:pt x="178593" y="126206"/>
                    </a:lnTo>
                    <a:lnTo>
                      <a:pt x="321468" y="176212"/>
                    </a:lnTo>
                    <a:lnTo>
                      <a:pt x="573881" y="216694"/>
                    </a:lnTo>
                    <a:lnTo>
                      <a:pt x="2328862" y="230981"/>
                    </a:lnTo>
                    <a:lnTo>
                      <a:pt x="2338387" y="230981"/>
                    </a:lnTo>
                  </a:path>
                </a:pathLst>
              </a:custGeom>
              <a:noFill/>
              <a:ln cap="rnd" w="25560">
                <a:solidFill>
                  <a:srgbClr val="ffffff">
                    <a:alpha val="3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直接连接符 716"/>
              <p:cNvSpPr/>
              <p:nvPr/>
            </p:nvSpPr>
            <p:spPr>
              <a:xfrm>
                <a:off x="2574720" y="975960"/>
                <a:ext cx="4095720" cy="41040"/>
              </a:xfrm>
              <a:prstGeom prst="line">
                <a:avLst/>
              </a:prstGeom>
              <a:ln cap="rnd" w="25560">
                <a:solidFill>
                  <a:srgbClr val="ffffff">
                    <a:alpha val="3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直接连接符 717"/>
              <p:cNvSpPr/>
              <p:nvPr/>
            </p:nvSpPr>
            <p:spPr>
              <a:xfrm>
                <a:off x="2566800" y="1049040"/>
                <a:ext cx="4109760" cy="36360"/>
              </a:xfrm>
              <a:prstGeom prst="line">
                <a:avLst/>
              </a:prstGeom>
              <a:ln cap="rnd" w="25560">
                <a:solidFill>
                  <a:srgbClr val="ffffff">
                    <a:alpha val="3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直接连接符 718"/>
              <p:cNvSpPr/>
              <p:nvPr/>
            </p:nvSpPr>
            <p:spPr>
              <a:xfrm flipH="1">
                <a:off x="6669000" y="1015920"/>
                <a:ext cx="1440" cy="68040"/>
              </a:xfrm>
              <a:prstGeom prst="line">
                <a:avLst/>
              </a:prstGeom>
              <a:ln cap="rnd" w="25560">
                <a:solidFill>
                  <a:srgbClr val="ffffff">
                    <a:alpha val="3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直接连接符 719"/>
              <p:cNvSpPr/>
              <p:nvPr/>
            </p:nvSpPr>
            <p:spPr>
              <a:xfrm>
                <a:off x="6946920" y="1450800"/>
                <a:ext cx="4680" cy="112680"/>
              </a:xfrm>
              <a:prstGeom prst="line">
                <a:avLst/>
              </a:prstGeom>
              <a:ln cap="rnd" w="25560">
                <a:solidFill>
                  <a:srgbClr val="ffffff">
                    <a:alpha val="3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任意多边形 720"/>
              <p:cNvSpPr/>
              <p:nvPr/>
            </p:nvSpPr>
            <p:spPr>
              <a:xfrm>
                <a:off x="6807240" y="1142640"/>
                <a:ext cx="379080" cy="166680"/>
              </a:xfrm>
              <a:custGeom>
                <a:avLst/>
                <a:gdLst/>
                <a:ahLst/>
                <a:rect l="l" t="t" r="r" b="b"/>
                <a:pathLst>
                  <a:path w="426244" h="195262">
                    <a:moveTo>
                      <a:pt x="0" y="195262"/>
                    </a:moveTo>
                    <a:lnTo>
                      <a:pt x="197644" y="159544"/>
                    </a:lnTo>
                    <a:lnTo>
                      <a:pt x="269082" y="107156"/>
                    </a:lnTo>
                    <a:lnTo>
                      <a:pt x="388144" y="0"/>
                    </a:lnTo>
                    <a:lnTo>
                      <a:pt x="411957" y="16669"/>
                    </a:lnTo>
                    <a:lnTo>
                      <a:pt x="426244" y="38100"/>
                    </a:lnTo>
                  </a:path>
                </a:pathLst>
              </a:custGeom>
              <a:noFill/>
              <a:ln cap="rnd" w="25560">
                <a:solidFill>
                  <a:srgbClr val="ffffff">
                    <a:alpha val="3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直接连接符 721"/>
              <p:cNvSpPr/>
              <p:nvPr/>
            </p:nvSpPr>
            <p:spPr>
              <a:xfrm>
                <a:off x="3251160" y="1731960"/>
                <a:ext cx="23760" cy="7920"/>
              </a:xfrm>
              <a:prstGeom prst="line">
                <a:avLst/>
              </a:prstGeom>
              <a:ln cap="rnd" w="25560">
                <a:solidFill>
                  <a:srgbClr val="ffffff">
                    <a:alpha val="3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直接连接符 722"/>
              <p:cNvSpPr/>
              <p:nvPr/>
            </p:nvSpPr>
            <p:spPr>
              <a:xfrm>
                <a:off x="3276720" y="1739880"/>
                <a:ext cx="2663640" cy="36360"/>
              </a:xfrm>
              <a:prstGeom prst="line">
                <a:avLst/>
              </a:prstGeom>
              <a:ln cap="rnd" w="25560">
                <a:solidFill>
                  <a:srgbClr val="ffffff">
                    <a:alpha val="3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直接连接符 723"/>
              <p:cNvSpPr/>
              <p:nvPr/>
            </p:nvSpPr>
            <p:spPr>
              <a:xfrm flipV="1">
                <a:off x="5937120" y="1750680"/>
                <a:ext cx="18720" cy="23760"/>
              </a:xfrm>
              <a:prstGeom prst="line">
                <a:avLst/>
              </a:prstGeom>
              <a:ln cap="rnd" w="25560">
                <a:solidFill>
                  <a:srgbClr val="ffffff">
                    <a:alpha val="3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直接连接符 724"/>
              <p:cNvSpPr/>
              <p:nvPr/>
            </p:nvSpPr>
            <p:spPr>
              <a:xfrm>
                <a:off x="5951520" y="1752480"/>
                <a:ext cx="409320" cy="7920"/>
              </a:xfrm>
              <a:prstGeom prst="line">
                <a:avLst/>
              </a:prstGeom>
              <a:ln cap="rnd" w="25560">
                <a:solidFill>
                  <a:srgbClr val="ffffff">
                    <a:alpha val="3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直接连接符 725"/>
              <p:cNvSpPr/>
              <p:nvPr/>
            </p:nvSpPr>
            <p:spPr>
              <a:xfrm flipH="1">
                <a:off x="6664320" y="1563480"/>
                <a:ext cx="225360" cy="430200"/>
              </a:xfrm>
              <a:prstGeom prst="line">
                <a:avLst/>
              </a:prstGeom>
              <a:ln cap="rnd" w="25560">
                <a:solidFill>
                  <a:srgbClr val="ffffff">
                    <a:alpha val="3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任意多边形 726"/>
              <p:cNvSpPr/>
              <p:nvPr/>
            </p:nvSpPr>
            <p:spPr>
              <a:xfrm>
                <a:off x="6762960" y="1174680"/>
                <a:ext cx="423720" cy="819000"/>
              </a:xfrm>
              <a:custGeom>
                <a:avLst/>
                <a:gdLst/>
                <a:ahLst/>
                <a:rect l="l" t="t" r="r" b="b"/>
                <a:pathLst>
                  <a:path w="476250" h="962025">
                    <a:moveTo>
                      <a:pt x="476250" y="0"/>
                    </a:moveTo>
                    <a:lnTo>
                      <a:pt x="438150" y="73819"/>
                    </a:lnTo>
                    <a:lnTo>
                      <a:pt x="421481" y="100012"/>
                    </a:lnTo>
                    <a:lnTo>
                      <a:pt x="333375" y="381000"/>
                    </a:lnTo>
                    <a:lnTo>
                      <a:pt x="0" y="962025"/>
                    </a:lnTo>
                  </a:path>
                </a:pathLst>
              </a:custGeom>
              <a:noFill/>
              <a:ln cap="rnd" w="25560">
                <a:solidFill>
                  <a:srgbClr val="ffffff">
                    <a:alpha val="3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任意多边形 727"/>
              <p:cNvSpPr/>
              <p:nvPr/>
            </p:nvSpPr>
            <p:spPr>
              <a:xfrm>
                <a:off x="6372360" y="1989000"/>
                <a:ext cx="1974600" cy="160200"/>
              </a:xfrm>
              <a:custGeom>
                <a:avLst/>
                <a:gdLst/>
                <a:ahLst/>
                <a:rect l="l" t="t" r="r" b="b"/>
                <a:pathLst>
                  <a:path w="2224087" h="188119">
                    <a:moveTo>
                      <a:pt x="0" y="0"/>
                    </a:moveTo>
                    <a:lnTo>
                      <a:pt x="1400175" y="35719"/>
                    </a:lnTo>
                    <a:lnTo>
                      <a:pt x="1497806" y="100013"/>
                    </a:lnTo>
                    <a:lnTo>
                      <a:pt x="1524000" y="114300"/>
                    </a:lnTo>
                    <a:lnTo>
                      <a:pt x="1543050" y="126207"/>
                    </a:lnTo>
                    <a:lnTo>
                      <a:pt x="1569244" y="138113"/>
                    </a:lnTo>
                    <a:lnTo>
                      <a:pt x="1612106" y="154782"/>
                    </a:lnTo>
                    <a:lnTo>
                      <a:pt x="1657350" y="169069"/>
                    </a:lnTo>
                    <a:lnTo>
                      <a:pt x="1704975" y="180975"/>
                    </a:lnTo>
                    <a:lnTo>
                      <a:pt x="1757362" y="185738"/>
                    </a:lnTo>
                    <a:lnTo>
                      <a:pt x="1821656" y="188119"/>
                    </a:lnTo>
                    <a:lnTo>
                      <a:pt x="1869281" y="183357"/>
                    </a:lnTo>
                    <a:lnTo>
                      <a:pt x="1924050" y="173832"/>
                    </a:lnTo>
                    <a:lnTo>
                      <a:pt x="1976437" y="152400"/>
                    </a:lnTo>
                    <a:lnTo>
                      <a:pt x="2028825" y="128588"/>
                    </a:lnTo>
                    <a:lnTo>
                      <a:pt x="2131219" y="88107"/>
                    </a:lnTo>
                    <a:lnTo>
                      <a:pt x="2193131" y="66675"/>
                    </a:lnTo>
                    <a:lnTo>
                      <a:pt x="2209800" y="54769"/>
                    </a:lnTo>
                    <a:lnTo>
                      <a:pt x="2219325" y="80963"/>
                    </a:lnTo>
                    <a:lnTo>
                      <a:pt x="2224087" y="111919"/>
                    </a:lnTo>
                  </a:path>
                </a:pathLst>
              </a:custGeom>
              <a:noFill/>
              <a:ln cap="rnd" w="25560">
                <a:solidFill>
                  <a:srgbClr val="ffffff">
                    <a:alpha val="3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任意多边形 728"/>
              <p:cNvSpPr/>
              <p:nvPr/>
            </p:nvSpPr>
            <p:spPr>
              <a:xfrm>
                <a:off x="6383520" y="2108160"/>
                <a:ext cx="126720" cy="82440"/>
              </a:xfrm>
              <a:custGeom>
                <a:avLst/>
                <a:gdLst/>
                <a:ahLst/>
                <a:rect l="l" t="t" r="r" b="b"/>
                <a:pathLst>
                  <a:path w="142875" h="96267">
                    <a:moveTo>
                      <a:pt x="0" y="0"/>
                    </a:moveTo>
                    <a:lnTo>
                      <a:pt x="33338" y="73819"/>
                    </a:lnTo>
                    <a:lnTo>
                      <a:pt x="47625" y="85725"/>
                    </a:lnTo>
                    <a:cubicBezTo>
                      <a:pt x="65057" y="90706"/>
                      <a:pt x="64294" y="96267"/>
                      <a:pt x="64294" y="88106"/>
                    </a:cubicBezTo>
                    <a:lnTo>
                      <a:pt x="73819" y="85725"/>
                    </a:lnTo>
                    <a:lnTo>
                      <a:pt x="92869" y="78581"/>
                    </a:lnTo>
                    <a:lnTo>
                      <a:pt x="114300" y="57150"/>
                    </a:lnTo>
                    <a:lnTo>
                      <a:pt x="126206" y="52388"/>
                    </a:lnTo>
                    <a:lnTo>
                      <a:pt x="142875" y="69056"/>
                    </a:lnTo>
                    <a:lnTo>
                      <a:pt x="140494" y="83344"/>
                    </a:lnTo>
                  </a:path>
                </a:pathLst>
              </a:custGeom>
              <a:noFill/>
              <a:ln cap="rnd" w="25560">
                <a:solidFill>
                  <a:srgbClr val="ffffff">
                    <a:alpha val="3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任意多边形 729"/>
              <p:cNvSpPr/>
              <p:nvPr/>
            </p:nvSpPr>
            <p:spPr>
              <a:xfrm>
                <a:off x="6404040" y="2179440"/>
                <a:ext cx="101520" cy="309240"/>
              </a:xfrm>
              <a:custGeom>
                <a:avLst/>
                <a:gdLst/>
                <a:ahLst/>
                <a:rect l="l" t="t" r="r" b="b"/>
                <a:pathLst>
                  <a:path w="114300" h="364331">
                    <a:moveTo>
                      <a:pt x="114300" y="0"/>
                    </a:moveTo>
                    <a:lnTo>
                      <a:pt x="114300" y="54769"/>
                    </a:lnTo>
                    <a:lnTo>
                      <a:pt x="114300" y="69056"/>
                    </a:lnTo>
                    <a:lnTo>
                      <a:pt x="88106" y="116681"/>
                    </a:lnTo>
                    <a:lnTo>
                      <a:pt x="78581" y="126206"/>
                    </a:lnTo>
                    <a:lnTo>
                      <a:pt x="78581" y="145256"/>
                    </a:lnTo>
                    <a:lnTo>
                      <a:pt x="83343" y="221456"/>
                    </a:lnTo>
                    <a:lnTo>
                      <a:pt x="85725" y="240506"/>
                    </a:lnTo>
                    <a:lnTo>
                      <a:pt x="0" y="364331"/>
                    </a:lnTo>
                  </a:path>
                </a:pathLst>
              </a:custGeom>
              <a:noFill/>
              <a:ln cap="rnd" w="25560">
                <a:solidFill>
                  <a:srgbClr val="ffffff">
                    <a:alpha val="3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直接连接符 730"/>
              <p:cNvSpPr/>
              <p:nvPr/>
            </p:nvSpPr>
            <p:spPr>
              <a:xfrm>
                <a:off x="6404040" y="2489040"/>
                <a:ext cx="880920" cy="28440"/>
              </a:xfrm>
              <a:prstGeom prst="line">
                <a:avLst/>
              </a:prstGeom>
              <a:ln cap="rnd" w="25560">
                <a:solidFill>
                  <a:srgbClr val="ffffff">
                    <a:alpha val="3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直接连接符 731"/>
              <p:cNvSpPr/>
              <p:nvPr/>
            </p:nvSpPr>
            <p:spPr>
              <a:xfrm flipV="1">
                <a:off x="7283520" y="2487240"/>
                <a:ext cx="44280" cy="29880"/>
              </a:xfrm>
              <a:prstGeom prst="line">
                <a:avLst/>
              </a:prstGeom>
              <a:ln cap="rnd" w="25560">
                <a:solidFill>
                  <a:srgbClr val="ffffff">
                    <a:alpha val="3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直接连接符 732"/>
              <p:cNvSpPr/>
              <p:nvPr/>
            </p:nvSpPr>
            <p:spPr>
              <a:xfrm>
                <a:off x="7326360" y="2487600"/>
                <a:ext cx="420480" cy="20520"/>
              </a:xfrm>
              <a:prstGeom prst="line">
                <a:avLst/>
              </a:prstGeom>
              <a:ln cap="rnd" w="25560">
                <a:solidFill>
                  <a:srgbClr val="ffffff">
                    <a:alpha val="3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任意多边形 733"/>
              <p:cNvSpPr/>
              <p:nvPr/>
            </p:nvSpPr>
            <p:spPr>
              <a:xfrm>
                <a:off x="6505560" y="2157120"/>
                <a:ext cx="1785960" cy="45720"/>
              </a:xfrm>
              <a:custGeom>
                <a:avLst/>
                <a:gdLst/>
                <a:ahLst/>
                <a:rect l="l" t="t" r="r" b="b"/>
                <a:pathLst>
                  <a:path w="2012156" h="54769">
                    <a:moveTo>
                      <a:pt x="0" y="26194"/>
                    </a:moveTo>
                    <a:lnTo>
                      <a:pt x="1578768" y="54769"/>
                    </a:lnTo>
                    <a:lnTo>
                      <a:pt x="1762125" y="38100"/>
                    </a:lnTo>
                    <a:lnTo>
                      <a:pt x="1883568" y="19050"/>
                    </a:lnTo>
                    <a:lnTo>
                      <a:pt x="1921668" y="0"/>
                    </a:lnTo>
                    <a:lnTo>
                      <a:pt x="1985962" y="4763"/>
                    </a:lnTo>
                    <a:lnTo>
                      <a:pt x="2005012" y="11906"/>
                    </a:lnTo>
                    <a:lnTo>
                      <a:pt x="2012156" y="16669"/>
                    </a:lnTo>
                  </a:path>
                </a:pathLst>
              </a:custGeom>
              <a:noFill/>
              <a:ln cap="rnd" w="25560">
                <a:solidFill>
                  <a:srgbClr val="ffffff">
                    <a:alpha val="3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任意多边形 734"/>
              <p:cNvSpPr/>
              <p:nvPr/>
            </p:nvSpPr>
            <p:spPr>
              <a:xfrm>
                <a:off x="6505560" y="2212920"/>
                <a:ext cx="1771560" cy="45720"/>
              </a:xfrm>
              <a:custGeom>
                <a:avLst/>
                <a:gdLst/>
                <a:ahLst/>
                <a:rect l="l" t="t" r="r" b="b"/>
                <a:pathLst>
                  <a:path w="1995487" h="54769">
                    <a:moveTo>
                      <a:pt x="0" y="30956"/>
                    </a:moveTo>
                    <a:lnTo>
                      <a:pt x="671512" y="45244"/>
                    </a:lnTo>
                    <a:lnTo>
                      <a:pt x="1607343" y="54769"/>
                    </a:lnTo>
                    <a:lnTo>
                      <a:pt x="1688306" y="45244"/>
                    </a:lnTo>
                    <a:lnTo>
                      <a:pt x="1890712" y="21431"/>
                    </a:lnTo>
                    <a:lnTo>
                      <a:pt x="1974056" y="0"/>
                    </a:lnTo>
                    <a:lnTo>
                      <a:pt x="1995487" y="0"/>
                    </a:lnTo>
                  </a:path>
                </a:pathLst>
              </a:custGeom>
              <a:noFill/>
              <a:ln cap="rnd" w="25560">
                <a:solidFill>
                  <a:srgbClr val="ffffff">
                    <a:alpha val="3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直接连接符 735"/>
              <p:cNvSpPr/>
              <p:nvPr/>
            </p:nvSpPr>
            <p:spPr>
              <a:xfrm>
                <a:off x="6473880" y="2287440"/>
                <a:ext cx="1618920" cy="23760"/>
              </a:xfrm>
              <a:prstGeom prst="line">
                <a:avLst/>
              </a:prstGeom>
              <a:ln cap="rnd" w="25560">
                <a:solidFill>
                  <a:srgbClr val="ffffff">
                    <a:alpha val="3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直接连接符 736"/>
              <p:cNvSpPr/>
              <p:nvPr/>
            </p:nvSpPr>
            <p:spPr>
              <a:xfrm>
                <a:off x="6478560" y="2384280"/>
                <a:ext cx="1630080" cy="23760"/>
              </a:xfrm>
              <a:prstGeom prst="line">
                <a:avLst/>
              </a:prstGeom>
              <a:ln cap="rnd" w="25560">
                <a:solidFill>
                  <a:srgbClr val="ffffff">
                    <a:alpha val="3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直接连接符 737"/>
              <p:cNvSpPr/>
              <p:nvPr/>
            </p:nvSpPr>
            <p:spPr>
              <a:xfrm>
                <a:off x="8089920" y="2311200"/>
                <a:ext cx="15840" cy="96840"/>
              </a:xfrm>
              <a:prstGeom prst="line">
                <a:avLst/>
              </a:prstGeom>
              <a:ln cap="rnd" w="25560">
                <a:solidFill>
                  <a:srgbClr val="ffffff">
                    <a:alpha val="3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直接连接符 738"/>
              <p:cNvSpPr/>
              <p:nvPr/>
            </p:nvSpPr>
            <p:spPr>
              <a:xfrm flipH="1">
                <a:off x="7737480" y="2442960"/>
                <a:ext cx="47520" cy="64800"/>
              </a:xfrm>
              <a:prstGeom prst="line">
                <a:avLst/>
              </a:prstGeom>
              <a:ln cap="rnd" w="25560">
                <a:solidFill>
                  <a:srgbClr val="ffffff">
                    <a:alpha val="3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任意多边形 739"/>
              <p:cNvSpPr/>
              <p:nvPr/>
            </p:nvSpPr>
            <p:spPr>
              <a:xfrm>
                <a:off x="7767720" y="2085840"/>
                <a:ext cx="579240" cy="622080"/>
              </a:xfrm>
              <a:custGeom>
                <a:avLst/>
                <a:gdLst/>
                <a:ahLst/>
                <a:rect l="l" t="t" r="r" b="b"/>
                <a:pathLst>
                  <a:path w="652462" h="731044">
                    <a:moveTo>
                      <a:pt x="652462" y="0"/>
                    </a:moveTo>
                    <a:lnTo>
                      <a:pt x="604837" y="71438"/>
                    </a:lnTo>
                    <a:lnTo>
                      <a:pt x="588169" y="97632"/>
                    </a:lnTo>
                    <a:lnTo>
                      <a:pt x="571500" y="147638"/>
                    </a:lnTo>
                    <a:lnTo>
                      <a:pt x="502444" y="280988"/>
                    </a:lnTo>
                    <a:lnTo>
                      <a:pt x="445294" y="357188"/>
                    </a:lnTo>
                    <a:lnTo>
                      <a:pt x="345281" y="459582"/>
                    </a:lnTo>
                    <a:lnTo>
                      <a:pt x="207169" y="592932"/>
                    </a:lnTo>
                    <a:lnTo>
                      <a:pt x="45244" y="711994"/>
                    </a:lnTo>
                    <a:lnTo>
                      <a:pt x="0" y="731044"/>
                    </a:lnTo>
                  </a:path>
                </a:pathLst>
              </a:custGeom>
              <a:noFill/>
              <a:ln cap="rnd" w="25560">
                <a:solidFill>
                  <a:srgbClr val="ffffff">
                    <a:alpha val="3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任意多边形 740"/>
              <p:cNvSpPr/>
              <p:nvPr/>
            </p:nvSpPr>
            <p:spPr>
              <a:xfrm>
                <a:off x="2644920" y="2077920"/>
                <a:ext cx="156960" cy="64800"/>
              </a:xfrm>
              <a:custGeom>
                <a:avLst/>
                <a:gdLst/>
                <a:ahLst/>
                <a:rect l="l" t="t" r="r" b="b"/>
                <a:pathLst>
                  <a:path w="176213" h="76200">
                    <a:moveTo>
                      <a:pt x="176213" y="0"/>
                    </a:moveTo>
                    <a:lnTo>
                      <a:pt x="140494" y="57150"/>
                    </a:lnTo>
                    <a:lnTo>
                      <a:pt x="114300" y="73819"/>
                    </a:lnTo>
                    <a:lnTo>
                      <a:pt x="97631" y="76200"/>
                    </a:lnTo>
                    <a:lnTo>
                      <a:pt x="71438" y="76200"/>
                    </a:lnTo>
                    <a:lnTo>
                      <a:pt x="54769" y="61913"/>
                    </a:lnTo>
                    <a:lnTo>
                      <a:pt x="38100" y="45244"/>
                    </a:lnTo>
                    <a:lnTo>
                      <a:pt x="23813" y="28575"/>
                    </a:lnTo>
                    <a:lnTo>
                      <a:pt x="14288" y="19050"/>
                    </a:lnTo>
                    <a:lnTo>
                      <a:pt x="4763" y="19050"/>
                    </a:lnTo>
                    <a:lnTo>
                      <a:pt x="0" y="50007"/>
                    </a:lnTo>
                    <a:lnTo>
                      <a:pt x="4763" y="64294"/>
                    </a:lnTo>
                  </a:path>
                </a:pathLst>
              </a:custGeom>
              <a:noFill/>
              <a:ln cap="rnd" w="25560">
                <a:solidFill>
                  <a:srgbClr val="ffffff">
                    <a:alpha val="3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任意多边形 741"/>
              <p:cNvSpPr/>
              <p:nvPr/>
            </p:nvSpPr>
            <p:spPr>
              <a:xfrm>
                <a:off x="858600" y="2143080"/>
                <a:ext cx="1822320" cy="69840"/>
              </a:xfrm>
              <a:custGeom>
                <a:avLst/>
                <a:gdLst/>
                <a:ahLst/>
                <a:rect l="l" t="t" r="r" b="b"/>
                <a:pathLst>
                  <a:path w="2052637" h="80963">
                    <a:moveTo>
                      <a:pt x="0" y="0"/>
                    </a:moveTo>
                    <a:lnTo>
                      <a:pt x="119062" y="45244"/>
                    </a:lnTo>
                    <a:lnTo>
                      <a:pt x="240506" y="66675"/>
                    </a:lnTo>
                    <a:lnTo>
                      <a:pt x="409575" y="80963"/>
                    </a:lnTo>
                    <a:lnTo>
                      <a:pt x="2052637" y="76200"/>
                    </a:lnTo>
                  </a:path>
                </a:pathLst>
              </a:custGeom>
              <a:noFill/>
              <a:ln cap="rnd" w="25560">
                <a:solidFill>
                  <a:srgbClr val="ffffff">
                    <a:alpha val="3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直接连接符 742"/>
              <p:cNvSpPr/>
              <p:nvPr/>
            </p:nvSpPr>
            <p:spPr>
              <a:xfrm flipV="1">
                <a:off x="1043640" y="2252520"/>
                <a:ext cx="21960" cy="71280"/>
              </a:xfrm>
              <a:prstGeom prst="line">
                <a:avLst/>
              </a:prstGeom>
              <a:ln cap="rnd" w="25560">
                <a:solidFill>
                  <a:srgbClr val="ffffff">
                    <a:alpha val="3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直接连接符 743"/>
              <p:cNvSpPr/>
              <p:nvPr/>
            </p:nvSpPr>
            <p:spPr>
              <a:xfrm>
                <a:off x="1069920" y="2253960"/>
                <a:ext cx="1638000" cy="1440"/>
              </a:xfrm>
              <a:prstGeom prst="line">
                <a:avLst/>
              </a:prstGeom>
              <a:ln cap="rnd" w="25560">
                <a:solidFill>
                  <a:srgbClr val="ffffff">
                    <a:alpha val="3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任意多边形 744"/>
              <p:cNvSpPr/>
              <p:nvPr/>
            </p:nvSpPr>
            <p:spPr>
              <a:xfrm>
                <a:off x="7302600" y="1809720"/>
                <a:ext cx="466560" cy="207720"/>
              </a:xfrm>
              <a:custGeom>
                <a:avLst/>
                <a:gdLst/>
                <a:ahLst/>
                <a:rect l="l" t="t" r="r" b="b"/>
                <a:pathLst>
                  <a:path w="526256" h="245269">
                    <a:moveTo>
                      <a:pt x="350044" y="245269"/>
                    </a:moveTo>
                    <a:lnTo>
                      <a:pt x="419100" y="245269"/>
                    </a:lnTo>
                    <a:lnTo>
                      <a:pt x="473869" y="238125"/>
                    </a:lnTo>
                    <a:lnTo>
                      <a:pt x="504825" y="216694"/>
                    </a:lnTo>
                    <a:lnTo>
                      <a:pt x="521494" y="190500"/>
                    </a:lnTo>
                    <a:lnTo>
                      <a:pt x="526256" y="159544"/>
                    </a:lnTo>
                    <a:lnTo>
                      <a:pt x="523875" y="121444"/>
                    </a:lnTo>
                    <a:lnTo>
                      <a:pt x="519112" y="80963"/>
                    </a:lnTo>
                    <a:lnTo>
                      <a:pt x="504825" y="57150"/>
                    </a:lnTo>
                    <a:lnTo>
                      <a:pt x="488156" y="38100"/>
                    </a:lnTo>
                    <a:lnTo>
                      <a:pt x="473869" y="23813"/>
                    </a:lnTo>
                    <a:lnTo>
                      <a:pt x="450056" y="11906"/>
                    </a:lnTo>
                    <a:lnTo>
                      <a:pt x="423862" y="0"/>
                    </a:lnTo>
                    <a:lnTo>
                      <a:pt x="400050" y="0"/>
                    </a:lnTo>
                    <a:lnTo>
                      <a:pt x="357187" y="4763"/>
                    </a:lnTo>
                    <a:lnTo>
                      <a:pt x="330994" y="21431"/>
                    </a:lnTo>
                    <a:lnTo>
                      <a:pt x="316706" y="33338"/>
                    </a:lnTo>
                    <a:lnTo>
                      <a:pt x="302419" y="61913"/>
                    </a:lnTo>
                    <a:lnTo>
                      <a:pt x="302419" y="88106"/>
                    </a:lnTo>
                    <a:lnTo>
                      <a:pt x="304800" y="116681"/>
                    </a:lnTo>
                    <a:lnTo>
                      <a:pt x="321469" y="138113"/>
                    </a:lnTo>
                    <a:cubicBezTo>
                      <a:pt x="348304" y="157630"/>
                      <a:pt x="336866" y="157163"/>
                      <a:pt x="350044" y="157163"/>
                    </a:cubicBezTo>
                    <a:lnTo>
                      <a:pt x="369094" y="157163"/>
                    </a:lnTo>
                    <a:lnTo>
                      <a:pt x="392906" y="154781"/>
                    </a:lnTo>
                    <a:lnTo>
                      <a:pt x="395287" y="138113"/>
                    </a:lnTo>
                    <a:lnTo>
                      <a:pt x="392906" y="119063"/>
                    </a:lnTo>
                    <a:lnTo>
                      <a:pt x="381000" y="104775"/>
                    </a:lnTo>
                    <a:lnTo>
                      <a:pt x="366712" y="92869"/>
                    </a:lnTo>
                    <a:lnTo>
                      <a:pt x="357187" y="80963"/>
                    </a:lnTo>
                    <a:lnTo>
                      <a:pt x="357187" y="69056"/>
                    </a:lnTo>
                    <a:lnTo>
                      <a:pt x="366712" y="57150"/>
                    </a:lnTo>
                    <a:lnTo>
                      <a:pt x="390525" y="50006"/>
                    </a:lnTo>
                    <a:lnTo>
                      <a:pt x="407194" y="54769"/>
                    </a:lnTo>
                    <a:lnTo>
                      <a:pt x="423862" y="59531"/>
                    </a:lnTo>
                    <a:lnTo>
                      <a:pt x="438150" y="73819"/>
                    </a:lnTo>
                    <a:lnTo>
                      <a:pt x="447675" y="95250"/>
                    </a:lnTo>
                    <a:lnTo>
                      <a:pt x="447675" y="121444"/>
                    </a:lnTo>
                    <a:lnTo>
                      <a:pt x="445294" y="150019"/>
                    </a:lnTo>
                    <a:lnTo>
                      <a:pt x="416719" y="173831"/>
                    </a:lnTo>
                    <a:lnTo>
                      <a:pt x="381000" y="190500"/>
                    </a:lnTo>
                    <a:lnTo>
                      <a:pt x="316706" y="202406"/>
                    </a:lnTo>
                    <a:lnTo>
                      <a:pt x="276225" y="204788"/>
                    </a:lnTo>
                    <a:lnTo>
                      <a:pt x="238125" y="207169"/>
                    </a:lnTo>
                    <a:lnTo>
                      <a:pt x="228600" y="211931"/>
                    </a:lnTo>
                    <a:lnTo>
                      <a:pt x="257175" y="166688"/>
                    </a:lnTo>
                    <a:lnTo>
                      <a:pt x="261937" y="145256"/>
                    </a:lnTo>
                    <a:lnTo>
                      <a:pt x="254794" y="114300"/>
                    </a:lnTo>
                    <a:lnTo>
                      <a:pt x="245269" y="97631"/>
                    </a:lnTo>
                    <a:lnTo>
                      <a:pt x="235744" y="85725"/>
                    </a:lnTo>
                    <a:lnTo>
                      <a:pt x="216694" y="71438"/>
                    </a:lnTo>
                    <a:lnTo>
                      <a:pt x="202406" y="66675"/>
                    </a:lnTo>
                    <a:lnTo>
                      <a:pt x="183356" y="66675"/>
                    </a:lnTo>
                    <a:lnTo>
                      <a:pt x="171450" y="66675"/>
                    </a:lnTo>
                    <a:lnTo>
                      <a:pt x="140494" y="71438"/>
                    </a:lnTo>
                    <a:lnTo>
                      <a:pt x="116681" y="83344"/>
                    </a:lnTo>
                    <a:lnTo>
                      <a:pt x="107156" y="92869"/>
                    </a:lnTo>
                    <a:lnTo>
                      <a:pt x="102394" y="114300"/>
                    </a:lnTo>
                    <a:lnTo>
                      <a:pt x="102394" y="133350"/>
                    </a:lnTo>
                    <a:lnTo>
                      <a:pt x="107156" y="150019"/>
                    </a:lnTo>
                    <a:lnTo>
                      <a:pt x="116681" y="161925"/>
                    </a:lnTo>
                    <a:lnTo>
                      <a:pt x="123825" y="171450"/>
                    </a:lnTo>
                    <a:lnTo>
                      <a:pt x="142875" y="169069"/>
                    </a:lnTo>
                    <a:lnTo>
                      <a:pt x="145256" y="171450"/>
                    </a:lnTo>
                    <a:lnTo>
                      <a:pt x="161925" y="159544"/>
                    </a:lnTo>
                    <a:lnTo>
                      <a:pt x="157162" y="142875"/>
                    </a:lnTo>
                    <a:lnTo>
                      <a:pt x="150019" y="123825"/>
                    </a:lnTo>
                    <a:lnTo>
                      <a:pt x="150019" y="111919"/>
                    </a:lnTo>
                    <a:lnTo>
                      <a:pt x="161925" y="97631"/>
                    </a:lnTo>
                    <a:lnTo>
                      <a:pt x="178594" y="97631"/>
                    </a:lnTo>
                    <a:lnTo>
                      <a:pt x="190500" y="102394"/>
                    </a:lnTo>
                    <a:lnTo>
                      <a:pt x="202406" y="119063"/>
                    </a:lnTo>
                    <a:lnTo>
                      <a:pt x="202406" y="133350"/>
                    </a:lnTo>
                    <a:lnTo>
                      <a:pt x="200025" y="154781"/>
                    </a:lnTo>
                    <a:lnTo>
                      <a:pt x="173831" y="188119"/>
                    </a:lnTo>
                    <a:lnTo>
                      <a:pt x="150019" y="195263"/>
                    </a:lnTo>
                    <a:lnTo>
                      <a:pt x="121444" y="207169"/>
                    </a:lnTo>
                    <a:lnTo>
                      <a:pt x="85725" y="219075"/>
                    </a:lnTo>
                    <a:lnTo>
                      <a:pt x="69056" y="223838"/>
                    </a:lnTo>
                    <a:lnTo>
                      <a:pt x="45244" y="226219"/>
                    </a:lnTo>
                    <a:lnTo>
                      <a:pt x="26194" y="228600"/>
                    </a:lnTo>
                    <a:lnTo>
                      <a:pt x="0" y="230981"/>
                    </a:lnTo>
                  </a:path>
                </a:pathLst>
              </a:custGeom>
              <a:noFill/>
              <a:ln cap="rnd" w="25560">
                <a:solidFill>
                  <a:srgbClr val="ffffff">
                    <a:alpha val="3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任意多边形 745"/>
              <p:cNvSpPr/>
              <p:nvPr/>
            </p:nvSpPr>
            <p:spPr>
              <a:xfrm>
                <a:off x="5983200" y="669600"/>
                <a:ext cx="466560" cy="209520"/>
              </a:xfrm>
              <a:custGeom>
                <a:avLst/>
                <a:gdLst/>
                <a:ahLst/>
                <a:rect l="l" t="t" r="r" b="b"/>
                <a:pathLst>
                  <a:path w="526256" h="245269">
                    <a:moveTo>
                      <a:pt x="350044" y="245269"/>
                    </a:moveTo>
                    <a:lnTo>
                      <a:pt x="419100" y="245269"/>
                    </a:lnTo>
                    <a:lnTo>
                      <a:pt x="473869" y="238125"/>
                    </a:lnTo>
                    <a:lnTo>
                      <a:pt x="504825" y="216694"/>
                    </a:lnTo>
                    <a:lnTo>
                      <a:pt x="521494" y="190500"/>
                    </a:lnTo>
                    <a:lnTo>
                      <a:pt x="526256" y="159544"/>
                    </a:lnTo>
                    <a:lnTo>
                      <a:pt x="523875" y="121444"/>
                    </a:lnTo>
                    <a:lnTo>
                      <a:pt x="519112" y="80963"/>
                    </a:lnTo>
                    <a:lnTo>
                      <a:pt x="504825" y="57150"/>
                    </a:lnTo>
                    <a:lnTo>
                      <a:pt x="488156" y="38100"/>
                    </a:lnTo>
                    <a:lnTo>
                      <a:pt x="473869" y="23813"/>
                    </a:lnTo>
                    <a:lnTo>
                      <a:pt x="450056" y="11906"/>
                    </a:lnTo>
                    <a:lnTo>
                      <a:pt x="423862" y="0"/>
                    </a:lnTo>
                    <a:lnTo>
                      <a:pt x="400050" y="0"/>
                    </a:lnTo>
                    <a:lnTo>
                      <a:pt x="357187" y="4763"/>
                    </a:lnTo>
                    <a:lnTo>
                      <a:pt x="330994" y="21431"/>
                    </a:lnTo>
                    <a:lnTo>
                      <a:pt x="316706" y="33338"/>
                    </a:lnTo>
                    <a:lnTo>
                      <a:pt x="302419" y="61913"/>
                    </a:lnTo>
                    <a:lnTo>
                      <a:pt x="302419" y="88106"/>
                    </a:lnTo>
                    <a:lnTo>
                      <a:pt x="304800" y="116681"/>
                    </a:lnTo>
                    <a:lnTo>
                      <a:pt x="321469" y="138113"/>
                    </a:lnTo>
                    <a:cubicBezTo>
                      <a:pt x="348304" y="157630"/>
                      <a:pt x="336866" y="157163"/>
                      <a:pt x="350044" y="157163"/>
                    </a:cubicBezTo>
                    <a:lnTo>
                      <a:pt x="369094" y="157163"/>
                    </a:lnTo>
                    <a:lnTo>
                      <a:pt x="392906" y="154781"/>
                    </a:lnTo>
                    <a:lnTo>
                      <a:pt x="395287" y="138113"/>
                    </a:lnTo>
                    <a:lnTo>
                      <a:pt x="392906" y="119063"/>
                    </a:lnTo>
                    <a:lnTo>
                      <a:pt x="381000" y="104775"/>
                    </a:lnTo>
                    <a:lnTo>
                      <a:pt x="366712" y="92869"/>
                    </a:lnTo>
                    <a:lnTo>
                      <a:pt x="357187" y="80963"/>
                    </a:lnTo>
                    <a:lnTo>
                      <a:pt x="357187" y="69056"/>
                    </a:lnTo>
                    <a:lnTo>
                      <a:pt x="366712" y="57150"/>
                    </a:lnTo>
                    <a:lnTo>
                      <a:pt x="390525" y="50006"/>
                    </a:lnTo>
                    <a:lnTo>
                      <a:pt x="407194" y="54769"/>
                    </a:lnTo>
                    <a:lnTo>
                      <a:pt x="423862" y="59531"/>
                    </a:lnTo>
                    <a:lnTo>
                      <a:pt x="438150" y="73819"/>
                    </a:lnTo>
                    <a:lnTo>
                      <a:pt x="447675" y="95250"/>
                    </a:lnTo>
                    <a:lnTo>
                      <a:pt x="447675" y="121444"/>
                    </a:lnTo>
                    <a:lnTo>
                      <a:pt x="445294" y="150019"/>
                    </a:lnTo>
                    <a:lnTo>
                      <a:pt x="416719" y="173831"/>
                    </a:lnTo>
                    <a:lnTo>
                      <a:pt x="381000" y="190500"/>
                    </a:lnTo>
                    <a:lnTo>
                      <a:pt x="316706" y="202406"/>
                    </a:lnTo>
                    <a:lnTo>
                      <a:pt x="276225" y="204788"/>
                    </a:lnTo>
                    <a:lnTo>
                      <a:pt x="238125" y="207169"/>
                    </a:lnTo>
                    <a:lnTo>
                      <a:pt x="228600" y="211931"/>
                    </a:lnTo>
                    <a:lnTo>
                      <a:pt x="257175" y="166688"/>
                    </a:lnTo>
                    <a:lnTo>
                      <a:pt x="261937" y="145256"/>
                    </a:lnTo>
                    <a:lnTo>
                      <a:pt x="254794" y="114300"/>
                    </a:lnTo>
                    <a:lnTo>
                      <a:pt x="245269" y="97631"/>
                    </a:lnTo>
                    <a:lnTo>
                      <a:pt x="235744" y="85725"/>
                    </a:lnTo>
                    <a:lnTo>
                      <a:pt x="216694" y="71438"/>
                    </a:lnTo>
                    <a:lnTo>
                      <a:pt x="202406" y="66675"/>
                    </a:lnTo>
                    <a:lnTo>
                      <a:pt x="183356" y="66675"/>
                    </a:lnTo>
                    <a:lnTo>
                      <a:pt x="171450" y="66675"/>
                    </a:lnTo>
                    <a:lnTo>
                      <a:pt x="140494" y="71438"/>
                    </a:lnTo>
                    <a:lnTo>
                      <a:pt x="116681" y="83344"/>
                    </a:lnTo>
                    <a:lnTo>
                      <a:pt x="107156" y="92869"/>
                    </a:lnTo>
                    <a:lnTo>
                      <a:pt x="102394" y="114300"/>
                    </a:lnTo>
                    <a:lnTo>
                      <a:pt x="102394" y="133350"/>
                    </a:lnTo>
                    <a:lnTo>
                      <a:pt x="107156" y="150019"/>
                    </a:lnTo>
                    <a:lnTo>
                      <a:pt x="116681" y="161925"/>
                    </a:lnTo>
                    <a:lnTo>
                      <a:pt x="123825" y="171450"/>
                    </a:lnTo>
                    <a:lnTo>
                      <a:pt x="142875" y="169069"/>
                    </a:lnTo>
                    <a:lnTo>
                      <a:pt x="145256" y="171450"/>
                    </a:lnTo>
                    <a:lnTo>
                      <a:pt x="161925" y="159544"/>
                    </a:lnTo>
                    <a:lnTo>
                      <a:pt x="157162" y="142875"/>
                    </a:lnTo>
                    <a:lnTo>
                      <a:pt x="150019" y="123825"/>
                    </a:lnTo>
                    <a:lnTo>
                      <a:pt x="150019" y="111919"/>
                    </a:lnTo>
                    <a:lnTo>
                      <a:pt x="161925" y="97631"/>
                    </a:lnTo>
                    <a:lnTo>
                      <a:pt x="178594" y="97631"/>
                    </a:lnTo>
                    <a:lnTo>
                      <a:pt x="190500" y="102394"/>
                    </a:lnTo>
                    <a:lnTo>
                      <a:pt x="202406" y="119063"/>
                    </a:lnTo>
                    <a:lnTo>
                      <a:pt x="202406" y="133350"/>
                    </a:lnTo>
                    <a:lnTo>
                      <a:pt x="200025" y="154781"/>
                    </a:lnTo>
                    <a:lnTo>
                      <a:pt x="173831" y="188119"/>
                    </a:lnTo>
                    <a:lnTo>
                      <a:pt x="150019" y="195263"/>
                    </a:lnTo>
                    <a:lnTo>
                      <a:pt x="121444" y="207169"/>
                    </a:lnTo>
                    <a:lnTo>
                      <a:pt x="85725" y="219075"/>
                    </a:lnTo>
                    <a:lnTo>
                      <a:pt x="69056" y="223838"/>
                    </a:lnTo>
                    <a:lnTo>
                      <a:pt x="45244" y="226219"/>
                    </a:lnTo>
                    <a:lnTo>
                      <a:pt x="26194" y="228600"/>
                    </a:lnTo>
                    <a:lnTo>
                      <a:pt x="0" y="230981"/>
                    </a:lnTo>
                  </a:path>
                </a:pathLst>
              </a:custGeom>
              <a:noFill/>
              <a:ln cap="rnd" w="25560">
                <a:solidFill>
                  <a:srgbClr val="ffffff">
                    <a:alpha val="3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任意多边形 746"/>
              <p:cNvSpPr/>
              <p:nvPr/>
            </p:nvSpPr>
            <p:spPr>
              <a:xfrm>
                <a:off x="6548400" y="733320"/>
                <a:ext cx="325440" cy="137880"/>
              </a:xfrm>
              <a:custGeom>
                <a:avLst/>
                <a:gdLst/>
                <a:ahLst/>
                <a:rect l="l" t="t" r="r" b="b"/>
                <a:pathLst>
                  <a:path w="366712" h="161925">
                    <a:moveTo>
                      <a:pt x="0" y="161925"/>
                    </a:moveTo>
                    <a:lnTo>
                      <a:pt x="130968" y="138113"/>
                    </a:lnTo>
                    <a:lnTo>
                      <a:pt x="190500" y="109538"/>
                    </a:lnTo>
                    <a:lnTo>
                      <a:pt x="276225" y="40482"/>
                    </a:lnTo>
                    <a:lnTo>
                      <a:pt x="340518" y="0"/>
                    </a:lnTo>
                    <a:lnTo>
                      <a:pt x="357187" y="30957"/>
                    </a:lnTo>
                    <a:lnTo>
                      <a:pt x="366712" y="50007"/>
                    </a:lnTo>
                    <a:lnTo>
                      <a:pt x="366712" y="69057"/>
                    </a:lnTo>
                  </a:path>
                </a:pathLst>
              </a:custGeom>
              <a:noFill/>
              <a:ln cap="rnd" w="25560">
                <a:solidFill>
                  <a:srgbClr val="ffffff">
                    <a:alpha val="3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任意多边形 747"/>
              <p:cNvSpPr/>
              <p:nvPr/>
            </p:nvSpPr>
            <p:spPr>
              <a:xfrm>
                <a:off x="6676920" y="795240"/>
                <a:ext cx="196560" cy="519120"/>
              </a:xfrm>
              <a:custGeom>
                <a:avLst/>
                <a:gdLst/>
                <a:ahLst/>
                <a:rect l="l" t="t" r="r" b="b"/>
                <a:pathLst>
                  <a:path w="221456" h="611981">
                    <a:moveTo>
                      <a:pt x="221456" y="0"/>
                    </a:moveTo>
                    <a:lnTo>
                      <a:pt x="185737" y="61912"/>
                    </a:lnTo>
                    <a:lnTo>
                      <a:pt x="185737" y="92869"/>
                    </a:lnTo>
                    <a:lnTo>
                      <a:pt x="130969" y="280987"/>
                    </a:lnTo>
                    <a:lnTo>
                      <a:pt x="7144" y="583406"/>
                    </a:lnTo>
                    <a:lnTo>
                      <a:pt x="0" y="611981"/>
                    </a:lnTo>
                  </a:path>
                </a:pathLst>
              </a:custGeom>
              <a:noFill/>
              <a:ln cap="rnd" w="25560">
                <a:solidFill>
                  <a:srgbClr val="ffffff">
                    <a:alpha val="3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直接连接符 748"/>
              <p:cNvSpPr/>
              <p:nvPr/>
            </p:nvSpPr>
            <p:spPr>
              <a:xfrm>
                <a:off x="6369840" y="1166400"/>
                <a:ext cx="20520" cy="144360"/>
              </a:xfrm>
              <a:prstGeom prst="line">
                <a:avLst/>
              </a:prstGeom>
              <a:ln cap="rnd" w="25560">
                <a:solidFill>
                  <a:srgbClr val="ffffff">
                    <a:alpha val="3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直接连接符 749"/>
              <p:cNvSpPr/>
              <p:nvPr/>
            </p:nvSpPr>
            <p:spPr>
              <a:xfrm>
                <a:off x="2846520" y="1128600"/>
                <a:ext cx="3525840" cy="36360"/>
              </a:xfrm>
              <a:prstGeom prst="line">
                <a:avLst/>
              </a:prstGeom>
              <a:ln cap="rnd" w="25560">
                <a:solidFill>
                  <a:srgbClr val="ffffff">
                    <a:alpha val="3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直接连接符 750"/>
              <p:cNvSpPr/>
              <p:nvPr/>
            </p:nvSpPr>
            <p:spPr>
              <a:xfrm flipV="1">
                <a:off x="6670800" y="847080"/>
                <a:ext cx="171360" cy="168120"/>
              </a:xfrm>
              <a:prstGeom prst="line">
                <a:avLst/>
              </a:prstGeom>
              <a:ln cap="rnd" w="25560">
                <a:solidFill>
                  <a:srgbClr val="ffffff">
                    <a:alpha val="3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直接连接符 751"/>
              <p:cNvSpPr/>
              <p:nvPr/>
            </p:nvSpPr>
            <p:spPr>
              <a:xfrm flipH="1">
                <a:off x="6573960" y="1088640"/>
                <a:ext cx="101520" cy="222120"/>
              </a:xfrm>
              <a:prstGeom prst="line">
                <a:avLst/>
              </a:prstGeom>
              <a:ln cap="rnd" w="25560">
                <a:solidFill>
                  <a:srgbClr val="ffffff">
                    <a:alpha val="3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直接连接符 752"/>
              <p:cNvSpPr/>
              <p:nvPr/>
            </p:nvSpPr>
            <p:spPr>
              <a:xfrm flipH="1" flipV="1">
                <a:off x="2406240" y="857160"/>
                <a:ext cx="166680" cy="118800"/>
              </a:xfrm>
              <a:prstGeom prst="line">
                <a:avLst/>
              </a:prstGeom>
              <a:ln cap="rnd" w="25560">
                <a:solidFill>
                  <a:srgbClr val="ffffff">
                    <a:alpha val="3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直接连接符 753"/>
              <p:cNvSpPr/>
              <p:nvPr/>
            </p:nvSpPr>
            <p:spPr>
              <a:xfrm>
                <a:off x="6450120" y="2433600"/>
                <a:ext cx="826920" cy="26640"/>
              </a:xfrm>
              <a:prstGeom prst="line">
                <a:avLst/>
              </a:prstGeom>
              <a:ln cap="rnd" w="25560">
                <a:solidFill>
                  <a:srgbClr val="ffffff">
                    <a:alpha val="3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直接连接符 754"/>
              <p:cNvSpPr/>
              <p:nvPr/>
            </p:nvSpPr>
            <p:spPr>
              <a:xfrm flipV="1">
                <a:off x="7275600" y="2433240"/>
                <a:ext cx="44280" cy="29880"/>
              </a:xfrm>
              <a:prstGeom prst="line">
                <a:avLst/>
              </a:prstGeom>
              <a:ln cap="rnd" w="25560">
                <a:solidFill>
                  <a:srgbClr val="ffffff">
                    <a:alpha val="3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直接连接符 755"/>
              <p:cNvSpPr/>
              <p:nvPr/>
            </p:nvSpPr>
            <p:spPr>
              <a:xfrm>
                <a:off x="7319880" y="2433600"/>
                <a:ext cx="465120" cy="12600"/>
              </a:xfrm>
              <a:prstGeom prst="line">
                <a:avLst/>
              </a:prstGeom>
              <a:ln cap="rnd" w="25560">
                <a:solidFill>
                  <a:srgbClr val="ffffff">
                    <a:alpha val="3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直接连接符 756"/>
              <p:cNvSpPr/>
              <p:nvPr/>
            </p:nvSpPr>
            <p:spPr>
              <a:xfrm flipV="1">
                <a:off x="6481800" y="3786120"/>
                <a:ext cx="927000" cy="1440"/>
              </a:xfrm>
              <a:prstGeom prst="line">
                <a:avLst/>
              </a:prstGeom>
              <a:ln cap="rnd" w="25560">
                <a:solidFill>
                  <a:srgbClr val="ffffff">
                    <a:alpha val="3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直接连接符 757"/>
              <p:cNvSpPr/>
              <p:nvPr/>
            </p:nvSpPr>
            <p:spPr>
              <a:xfrm>
                <a:off x="6494400" y="3962520"/>
                <a:ext cx="942840" cy="9360"/>
              </a:xfrm>
              <a:prstGeom prst="line">
                <a:avLst/>
              </a:prstGeom>
              <a:ln cap="rnd" w="25560">
                <a:solidFill>
                  <a:srgbClr val="ffffff">
                    <a:alpha val="3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直接连接符 758"/>
              <p:cNvSpPr/>
              <p:nvPr/>
            </p:nvSpPr>
            <p:spPr>
              <a:xfrm>
                <a:off x="6492960" y="4059360"/>
                <a:ext cx="801360" cy="7920"/>
              </a:xfrm>
              <a:prstGeom prst="line">
                <a:avLst/>
              </a:prstGeom>
              <a:ln cap="rnd" w="25560">
                <a:solidFill>
                  <a:srgbClr val="ffffff">
                    <a:alpha val="3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直接连接符 759"/>
              <p:cNvSpPr/>
              <p:nvPr/>
            </p:nvSpPr>
            <p:spPr>
              <a:xfrm flipV="1">
                <a:off x="7296120" y="3971880"/>
                <a:ext cx="141120" cy="93600"/>
              </a:xfrm>
              <a:prstGeom prst="line">
                <a:avLst/>
              </a:prstGeom>
              <a:ln cap="rnd" w="25560">
                <a:solidFill>
                  <a:srgbClr val="ffffff">
                    <a:alpha val="3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直接连接符 760"/>
              <p:cNvSpPr/>
              <p:nvPr/>
            </p:nvSpPr>
            <p:spPr>
              <a:xfrm>
                <a:off x="7327800" y="2492280"/>
                <a:ext cx="303120" cy="3202200"/>
              </a:xfrm>
              <a:prstGeom prst="line">
                <a:avLst/>
              </a:prstGeom>
              <a:ln cap="rnd" w="25560">
                <a:solidFill>
                  <a:srgbClr val="ffffff">
                    <a:alpha val="3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直接连接符 761"/>
              <p:cNvSpPr/>
              <p:nvPr/>
            </p:nvSpPr>
            <p:spPr>
              <a:xfrm>
                <a:off x="7579800" y="5694480"/>
                <a:ext cx="6120" cy="93600"/>
              </a:xfrm>
              <a:prstGeom prst="line">
                <a:avLst/>
              </a:prstGeom>
              <a:ln cap="rnd" w="25560">
                <a:solidFill>
                  <a:srgbClr val="ffffff">
                    <a:alpha val="3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直接连接符 762"/>
              <p:cNvSpPr/>
              <p:nvPr/>
            </p:nvSpPr>
            <p:spPr>
              <a:xfrm>
                <a:off x="7340040" y="5675400"/>
                <a:ext cx="6120" cy="77760"/>
              </a:xfrm>
              <a:prstGeom prst="line">
                <a:avLst/>
              </a:prstGeom>
              <a:ln cap="rnd" w="25560">
                <a:solidFill>
                  <a:srgbClr val="ffffff">
                    <a:alpha val="3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直接连接符 763"/>
              <p:cNvSpPr/>
              <p:nvPr/>
            </p:nvSpPr>
            <p:spPr>
              <a:xfrm>
                <a:off x="8206560" y="5685120"/>
                <a:ext cx="6120" cy="79200"/>
              </a:xfrm>
              <a:prstGeom prst="line">
                <a:avLst/>
              </a:prstGeom>
              <a:ln cap="rnd" w="25560">
                <a:solidFill>
                  <a:srgbClr val="ffffff">
                    <a:alpha val="3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直接连接符 764"/>
              <p:cNvSpPr/>
              <p:nvPr/>
            </p:nvSpPr>
            <p:spPr>
              <a:xfrm>
                <a:off x="7335720" y="5677200"/>
                <a:ext cx="245880" cy="21960"/>
              </a:xfrm>
              <a:prstGeom prst="line">
                <a:avLst/>
              </a:prstGeom>
              <a:ln cap="rnd" w="25560">
                <a:solidFill>
                  <a:srgbClr val="ffffff">
                    <a:alpha val="3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直接连接符 765"/>
              <p:cNvSpPr/>
              <p:nvPr/>
            </p:nvSpPr>
            <p:spPr>
              <a:xfrm>
                <a:off x="7345440" y="5753160"/>
                <a:ext cx="241200" cy="29880"/>
              </a:xfrm>
              <a:prstGeom prst="line">
                <a:avLst/>
              </a:prstGeom>
              <a:ln cap="rnd" w="25560">
                <a:solidFill>
                  <a:srgbClr val="ffffff">
                    <a:alpha val="3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直接连接符 766"/>
              <p:cNvSpPr/>
              <p:nvPr/>
            </p:nvSpPr>
            <p:spPr>
              <a:xfrm flipV="1">
                <a:off x="7580520" y="5689800"/>
                <a:ext cx="631800" cy="9360"/>
              </a:xfrm>
              <a:prstGeom prst="line">
                <a:avLst/>
              </a:prstGeom>
              <a:ln cap="rnd" w="25560">
                <a:solidFill>
                  <a:srgbClr val="ffffff">
                    <a:alpha val="3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直接连接符 767"/>
              <p:cNvSpPr/>
              <p:nvPr/>
            </p:nvSpPr>
            <p:spPr>
              <a:xfrm flipV="1">
                <a:off x="7583400" y="5767560"/>
                <a:ext cx="631800" cy="10800"/>
              </a:xfrm>
              <a:prstGeom prst="line">
                <a:avLst/>
              </a:prstGeom>
              <a:ln cap="rnd" w="25560">
                <a:solidFill>
                  <a:srgbClr val="ffffff">
                    <a:alpha val="3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直接连接符 768"/>
              <p:cNvSpPr/>
              <p:nvPr/>
            </p:nvSpPr>
            <p:spPr>
              <a:xfrm>
                <a:off x="7408080" y="5764320"/>
                <a:ext cx="20520" cy="382320"/>
              </a:xfrm>
              <a:prstGeom prst="line">
                <a:avLst/>
              </a:prstGeom>
              <a:ln cap="rnd" w="25560">
                <a:solidFill>
                  <a:srgbClr val="ffffff">
                    <a:alpha val="3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直接连接符 769"/>
              <p:cNvSpPr/>
              <p:nvPr/>
            </p:nvSpPr>
            <p:spPr>
              <a:xfrm>
                <a:off x="7547760" y="5781960"/>
                <a:ext cx="21960" cy="411120"/>
              </a:xfrm>
              <a:prstGeom prst="line">
                <a:avLst/>
              </a:prstGeom>
              <a:ln cap="rnd" w="25560">
                <a:solidFill>
                  <a:srgbClr val="ffffff">
                    <a:alpha val="3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直接连接符 770"/>
              <p:cNvSpPr/>
              <p:nvPr/>
            </p:nvSpPr>
            <p:spPr>
              <a:xfrm>
                <a:off x="8145360" y="5774040"/>
                <a:ext cx="23760" cy="411120"/>
              </a:xfrm>
              <a:prstGeom prst="line">
                <a:avLst/>
              </a:prstGeom>
              <a:ln cap="rnd" w="25560">
                <a:solidFill>
                  <a:srgbClr val="ffffff">
                    <a:alpha val="3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直接连接符 771"/>
              <p:cNvSpPr/>
              <p:nvPr/>
            </p:nvSpPr>
            <p:spPr>
              <a:xfrm flipV="1">
                <a:off x="7572600" y="6178320"/>
                <a:ext cx="595080" cy="14040"/>
              </a:xfrm>
              <a:prstGeom prst="line">
                <a:avLst/>
              </a:prstGeom>
              <a:ln cap="rnd" w="25560">
                <a:solidFill>
                  <a:srgbClr val="ffffff">
                    <a:alpha val="3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直接连接符 772"/>
              <p:cNvSpPr/>
              <p:nvPr/>
            </p:nvSpPr>
            <p:spPr>
              <a:xfrm>
                <a:off x="7424640" y="6145560"/>
                <a:ext cx="149040" cy="47520"/>
              </a:xfrm>
              <a:prstGeom prst="line">
                <a:avLst/>
              </a:prstGeom>
              <a:ln cap="rnd" w="25560">
                <a:solidFill>
                  <a:srgbClr val="ffffff">
                    <a:alpha val="3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直接连接符 773"/>
              <p:cNvSpPr/>
              <p:nvPr/>
            </p:nvSpPr>
            <p:spPr>
              <a:xfrm>
                <a:off x="5924520" y="5605560"/>
                <a:ext cx="117360" cy="12600"/>
              </a:xfrm>
              <a:prstGeom prst="line">
                <a:avLst/>
              </a:prstGeom>
              <a:ln cap="rnd" w="25560">
                <a:solidFill>
                  <a:srgbClr val="ffffff">
                    <a:alpha val="3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直接连接符 774"/>
              <p:cNvSpPr/>
              <p:nvPr/>
            </p:nvSpPr>
            <p:spPr>
              <a:xfrm>
                <a:off x="5926320" y="5685120"/>
                <a:ext cx="122040" cy="12600"/>
              </a:xfrm>
              <a:prstGeom prst="line">
                <a:avLst/>
              </a:prstGeom>
              <a:ln cap="rnd" w="25560">
                <a:solidFill>
                  <a:srgbClr val="ffffff">
                    <a:alpha val="3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直接连接符 775"/>
              <p:cNvSpPr/>
              <p:nvPr/>
            </p:nvSpPr>
            <p:spPr>
              <a:xfrm>
                <a:off x="5923800" y="5608800"/>
                <a:ext cx="6120" cy="71280"/>
              </a:xfrm>
              <a:prstGeom prst="line">
                <a:avLst/>
              </a:prstGeom>
              <a:ln cap="rnd" w="25560">
                <a:solidFill>
                  <a:srgbClr val="ffffff">
                    <a:alpha val="3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直接连接符 776"/>
              <p:cNvSpPr/>
              <p:nvPr/>
            </p:nvSpPr>
            <p:spPr>
              <a:xfrm>
                <a:off x="6045120" y="5612040"/>
                <a:ext cx="1440" cy="87120"/>
              </a:xfrm>
              <a:prstGeom prst="line">
                <a:avLst/>
              </a:prstGeom>
              <a:ln cap="rnd" w="25560">
                <a:solidFill>
                  <a:srgbClr val="ffffff">
                    <a:alpha val="3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直接连接符 777"/>
              <p:cNvSpPr/>
              <p:nvPr/>
            </p:nvSpPr>
            <p:spPr>
              <a:xfrm flipV="1">
                <a:off x="6048360" y="5605560"/>
                <a:ext cx="636480" cy="10800"/>
              </a:xfrm>
              <a:prstGeom prst="line">
                <a:avLst/>
              </a:prstGeom>
              <a:ln cap="rnd" w="25560">
                <a:solidFill>
                  <a:srgbClr val="ffffff">
                    <a:alpha val="3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直接连接符 778"/>
              <p:cNvSpPr/>
              <p:nvPr/>
            </p:nvSpPr>
            <p:spPr>
              <a:xfrm flipV="1">
                <a:off x="6048360" y="5692680"/>
                <a:ext cx="634680" cy="6120"/>
              </a:xfrm>
              <a:prstGeom prst="line">
                <a:avLst/>
              </a:prstGeom>
              <a:ln cap="rnd" w="25560">
                <a:solidFill>
                  <a:srgbClr val="ffffff">
                    <a:alpha val="3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直接连接符 779"/>
              <p:cNvSpPr/>
              <p:nvPr/>
            </p:nvSpPr>
            <p:spPr>
              <a:xfrm>
                <a:off x="6684120" y="5605560"/>
                <a:ext cx="4680" cy="91800"/>
              </a:xfrm>
              <a:prstGeom prst="line">
                <a:avLst/>
              </a:prstGeom>
              <a:ln cap="rnd" w="25560">
                <a:solidFill>
                  <a:srgbClr val="ffffff">
                    <a:alpha val="3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直接连接符 780"/>
              <p:cNvSpPr/>
              <p:nvPr/>
            </p:nvSpPr>
            <p:spPr>
              <a:xfrm>
                <a:off x="5971320" y="5689800"/>
                <a:ext cx="12600" cy="455400"/>
              </a:xfrm>
              <a:prstGeom prst="line">
                <a:avLst/>
              </a:prstGeom>
              <a:ln cap="rnd" w="25560">
                <a:solidFill>
                  <a:srgbClr val="ffffff">
                    <a:alpha val="3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直接连接符 781"/>
              <p:cNvSpPr/>
              <p:nvPr/>
            </p:nvSpPr>
            <p:spPr>
              <a:xfrm>
                <a:off x="6089040" y="5707440"/>
                <a:ext cx="14040" cy="512640"/>
              </a:xfrm>
              <a:prstGeom prst="line">
                <a:avLst/>
              </a:prstGeom>
              <a:ln cap="rnd" w="25560">
                <a:solidFill>
                  <a:srgbClr val="ffffff">
                    <a:alpha val="3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直接连接符 782"/>
              <p:cNvSpPr/>
              <p:nvPr/>
            </p:nvSpPr>
            <p:spPr>
              <a:xfrm>
                <a:off x="6627960" y="5700960"/>
                <a:ext cx="15840" cy="512640"/>
              </a:xfrm>
              <a:prstGeom prst="line">
                <a:avLst/>
              </a:prstGeom>
              <a:ln cap="rnd" w="25560">
                <a:solidFill>
                  <a:srgbClr val="ffffff">
                    <a:alpha val="3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直接连接符 783"/>
              <p:cNvSpPr/>
              <p:nvPr/>
            </p:nvSpPr>
            <p:spPr>
              <a:xfrm>
                <a:off x="5981760" y="6145560"/>
                <a:ext cx="123480" cy="71280"/>
              </a:xfrm>
              <a:prstGeom prst="line">
                <a:avLst/>
              </a:prstGeom>
              <a:ln cap="rnd" w="25560">
                <a:solidFill>
                  <a:srgbClr val="ffffff">
                    <a:alpha val="3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直接连接符 784"/>
              <p:cNvSpPr/>
              <p:nvPr/>
            </p:nvSpPr>
            <p:spPr>
              <a:xfrm flipV="1">
                <a:off x="6108840" y="6213600"/>
                <a:ext cx="534960" cy="7920"/>
              </a:xfrm>
              <a:prstGeom prst="line">
                <a:avLst/>
              </a:prstGeom>
              <a:ln cap="rnd" w="25560">
                <a:solidFill>
                  <a:srgbClr val="ffffff">
                    <a:alpha val="3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直接连接符 785"/>
              <p:cNvSpPr/>
              <p:nvPr/>
            </p:nvSpPr>
            <p:spPr>
              <a:xfrm flipV="1">
                <a:off x="5932440" y="3692160"/>
                <a:ext cx="93600" cy="106200"/>
              </a:xfrm>
              <a:prstGeom prst="line">
                <a:avLst/>
              </a:prstGeom>
              <a:ln cap="rnd" w="25560">
                <a:solidFill>
                  <a:srgbClr val="ffffff">
                    <a:alpha val="3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直接连接符 786"/>
              <p:cNvSpPr/>
              <p:nvPr/>
            </p:nvSpPr>
            <p:spPr>
              <a:xfrm>
                <a:off x="3176640" y="3760920"/>
                <a:ext cx="2752560" cy="45720"/>
              </a:xfrm>
              <a:prstGeom prst="line">
                <a:avLst/>
              </a:prstGeom>
              <a:ln cap="rnd" w="25560">
                <a:solidFill>
                  <a:srgbClr val="ffffff">
                    <a:alpha val="3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直接连接符 787"/>
              <p:cNvSpPr/>
              <p:nvPr/>
            </p:nvSpPr>
            <p:spPr>
              <a:xfrm>
                <a:off x="3098880" y="3643200"/>
                <a:ext cx="2923920" cy="42840"/>
              </a:xfrm>
              <a:prstGeom prst="line">
                <a:avLst/>
              </a:prstGeom>
              <a:ln cap="rnd" w="25560">
                <a:solidFill>
                  <a:srgbClr val="ffffff">
                    <a:alpha val="3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直接连接符 788"/>
              <p:cNvSpPr/>
              <p:nvPr/>
            </p:nvSpPr>
            <p:spPr>
              <a:xfrm flipH="1" flipV="1">
                <a:off x="3097080" y="3641760"/>
                <a:ext cx="77760" cy="117360"/>
              </a:xfrm>
              <a:prstGeom prst="line">
                <a:avLst/>
              </a:prstGeom>
              <a:ln cap="rnd" w="25560">
                <a:solidFill>
                  <a:srgbClr val="ffffff">
                    <a:alpha val="3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直接连接符 789"/>
              <p:cNvSpPr/>
              <p:nvPr/>
            </p:nvSpPr>
            <p:spPr>
              <a:xfrm>
                <a:off x="3110040" y="3502080"/>
                <a:ext cx="2909880" cy="29880"/>
              </a:xfrm>
              <a:prstGeom prst="line">
                <a:avLst/>
              </a:prstGeom>
              <a:ln cap="rnd" w="25560">
                <a:solidFill>
                  <a:srgbClr val="ffffff">
                    <a:alpha val="3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直接连接符 790"/>
              <p:cNvSpPr/>
              <p:nvPr/>
            </p:nvSpPr>
            <p:spPr>
              <a:xfrm flipH="1">
                <a:off x="2376360" y="5567760"/>
                <a:ext cx="10800" cy="110880"/>
              </a:xfrm>
              <a:prstGeom prst="line">
                <a:avLst/>
              </a:prstGeom>
              <a:ln cap="rnd" w="25560">
                <a:solidFill>
                  <a:srgbClr val="ffffff">
                    <a:alpha val="3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直接连接符 791"/>
              <p:cNvSpPr/>
              <p:nvPr/>
            </p:nvSpPr>
            <p:spPr>
              <a:xfrm flipH="1">
                <a:off x="2990880" y="5583600"/>
                <a:ext cx="10800" cy="117360"/>
              </a:xfrm>
              <a:prstGeom prst="line">
                <a:avLst/>
              </a:prstGeom>
              <a:ln cap="rnd" w="25560">
                <a:solidFill>
                  <a:srgbClr val="ffffff">
                    <a:alpha val="3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直接连接符 792"/>
              <p:cNvSpPr/>
              <p:nvPr/>
            </p:nvSpPr>
            <p:spPr>
              <a:xfrm flipH="1">
                <a:off x="3111480" y="5562720"/>
                <a:ext cx="15840" cy="109440"/>
              </a:xfrm>
              <a:prstGeom prst="line">
                <a:avLst/>
              </a:prstGeom>
              <a:ln cap="rnd" w="25560">
                <a:solidFill>
                  <a:srgbClr val="ffffff">
                    <a:alpha val="3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直接连接符 793"/>
              <p:cNvSpPr/>
              <p:nvPr/>
            </p:nvSpPr>
            <p:spPr>
              <a:xfrm>
                <a:off x="2389320" y="5569200"/>
                <a:ext cx="610920" cy="18720"/>
              </a:xfrm>
              <a:prstGeom prst="line">
                <a:avLst/>
              </a:prstGeom>
              <a:ln cap="rnd" w="25560">
                <a:solidFill>
                  <a:srgbClr val="ffffff">
                    <a:alpha val="3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直接连接符 794"/>
              <p:cNvSpPr/>
              <p:nvPr/>
            </p:nvSpPr>
            <p:spPr>
              <a:xfrm flipV="1">
                <a:off x="3000240" y="5567400"/>
                <a:ext cx="122040" cy="21960"/>
              </a:xfrm>
              <a:prstGeom prst="line">
                <a:avLst/>
              </a:prstGeom>
              <a:ln cap="rnd" w="25560">
                <a:solidFill>
                  <a:srgbClr val="ffffff">
                    <a:alpha val="3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直接连接符 795"/>
              <p:cNvSpPr/>
              <p:nvPr/>
            </p:nvSpPr>
            <p:spPr>
              <a:xfrm flipV="1">
                <a:off x="2990880" y="5672160"/>
                <a:ext cx="123480" cy="21960"/>
              </a:xfrm>
              <a:prstGeom prst="line">
                <a:avLst/>
              </a:prstGeom>
              <a:ln cap="rnd" w="25560">
                <a:solidFill>
                  <a:srgbClr val="ffffff">
                    <a:alpha val="3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直接连接符 796"/>
              <p:cNvSpPr/>
              <p:nvPr/>
            </p:nvSpPr>
            <p:spPr>
              <a:xfrm>
                <a:off x="2376360" y="5677200"/>
                <a:ext cx="610920" cy="17280"/>
              </a:xfrm>
              <a:prstGeom prst="line">
                <a:avLst/>
              </a:prstGeom>
              <a:ln cap="rnd" w="25560">
                <a:solidFill>
                  <a:srgbClr val="ffffff">
                    <a:alpha val="3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直接连接符 797"/>
              <p:cNvSpPr/>
              <p:nvPr/>
            </p:nvSpPr>
            <p:spPr>
              <a:xfrm flipH="1">
                <a:off x="2422080" y="5683320"/>
                <a:ext cx="29880" cy="439560"/>
              </a:xfrm>
              <a:prstGeom prst="line">
                <a:avLst/>
              </a:prstGeom>
              <a:ln cap="rnd" w="25560">
                <a:solidFill>
                  <a:srgbClr val="ffffff">
                    <a:alpha val="3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直接连接符 798"/>
              <p:cNvSpPr/>
              <p:nvPr/>
            </p:nvSpPr>
            <p:spPr>
              <a:xfrm flipH="1">
                <a:off x="2936520" y="5700960"/>
                <a:ext cx="28440" cy="439560"/>
              </a:xfrm>
              <a:prstGeom prst="line">
                <a:avLst/>
              </a:prstGeom>
              <a:ln cap="rnd" w="25560">
                <a:solidFill>
                  <a:srgbClr val="ffffff">
                    <a:alpha val="3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直接连接符 799"/>
              <p:cNvSpPr/>
              <p:nvPr/>
            </p:nvSpPr>
            <p:spPr>
              <a:xfrm flipH="1">
                <a:off x="3063600" y="5683320"/>
                <a:ext cx="21960" cy="366480"/>
              </a:xfrm>
              <a:prstGeom prst="line">
                <a:avLst/>
              </a:prstGeom>
              <a:ln cap="rnd" w="25560">
                <a:solidFill>
                  <a:srgbClr val="ffffff">
                    <a:alpha val="3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直接连接符 800"/>
              <p:cNvSpPr/>
              <p:nvPr/>
            </p:nvSpPr>
            <p:spPr>
              <a:xfrm>
                <a:off x="2422440" y="6124680"/>
                <a:ext cx="510840" cy="10800"/>
              </a:xfrm>
              <a:prstGeom prst="line">
                <a:avLst/>
              </a:prstGeom>
              <a:ln cap="rnd" w="25560">
                <a:solidFill>
                  <a:srgbClr val="ffffff">
                    <a:alpha val="3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直接连接符 801"/>
              <p:cNvSpPr/>
              <p:nvPr/>
            </p:nvSpPr>
            <p:spPr>
              <a:xfrm flipV="1">
                <a:off x="2936880" y="6045480"/>
                <a:ext cx="128520" cy="95040"/>
              </a:xfrm>
              <a:prstGeom prst="line">
                <a:avLst/>
              </a:prstGeom>
              <a:ln cap="rnd" w="25560">
                <a:solidFill>
                  <a:srgbClr val="ffffff">
                    <a:alpha val="3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直接连接符 802"/>
              <p:cNvSpPr/>
              <p:nvPr/>
            </p:nvSpPr>
            <p:spPr>
              <a:xfrm flipV="1">
                <a:off x="1479600" y="5735520"/>
                <a:ext cx="215640" cy="42840"/>
              </a:xfrm>
              <a:prstGeom prst="line">
                <a:avLst/>
              </a:prstGeom>
              <a:ln cap="rnd" w="25560">
                <a:solidFill>
                  <a:srgbClr val="ffffff">
                    <a:alpha val="3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直接连接符 803"/>
              <p:cNvSpPr/>
              <p:nvPr/>
            </p:nvSpPr>
            <p:spPr>
              <a:xfrm flipH="1">
                <a:off x="1484280" y="5670720"/>
                <a:ext cx="10800" cy="107640"/>
              </a:xfrm>
              <a:prstGeom prst="line">
                <a:avLst/>
              </a:prstGeom>
              <a:ln cap="rnd" w="25560">
                <a:solidFill>
                  <a:srgbClr val="ffffff">
                    <a:alpha val="3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直接连接符 804"/>
              <p:cNvSpPr/>
              <p:nvPr/>
            </p:nvSpPr>
            <p:spPr>
              <a:xfrm flipH="1">
                <a:off x="1695240" y="5627880"/>
                <a:ext cx="10800" cy="107640"/>
              </a:xfrm>
              <a:prstGeom prst="line">
                <a:avLst/>
              </a:prstGeom>
              <a:ln cap="rnd" w="25560">
                <a:solidFill>
                  <a:srgbClr val="ffffff">
                    <a:alpha val="3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直接连接符 805"/>
              <p:cNvSpPr/>
              <p:nvPr/>
            </p:nvSpPr>
            <p:spPr>
              <a:xfrm>
                <a:off x="928800" y="5761440"/>
                <a:ext cx="556920" cy="20520"/>
              </a:xfrm>
              <a:prstGeom prst="line">
                <a:avLst/>
              </a:prstGeom>
              <a:ln cap="rnd" w="25560">
                <a:solidFill>
                  <a:srgbClr val="ffffff">
                    <a:alpha val="3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直接连接符 806"/>
              <p:cNvSpPr/>
              <p:nvPr/>
            </p:nvSpPr>
            <p:spPr>
              <a:xfrm flipH="1">
                <a:off x="1453680" y="5781960"/>
                <a:ext cx="29880" cy="269640"/>
              </a:xfrm>
              <a:prstGeom prst="line">
                <a:avLst/>
              </a:prstGeom>
              <a:ln cap="rnd" w="25560">
                <a:solidFill>
                  <a:srgbClr val="ffffff">
                    <a:alpha val="3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直接连接符 807"/>
              <p:cNvSpPr/>
              <p:nvPr/>
            </p:nvSpPr>
            <p:spPr>
              <a:xfrm>
                <a:off x="904680" y="6002640"/>
                <a:ext cx="549000" cy="48960"/>
              </a:xfrm>
              <a:prstGeom prst="line">
                <a:avLst/>
              </a:prstGeom>
              <a:ln cap="rnd" w="25560">
                <a:solidFill>
                  <a:srgbClr val="ffffff">
                    <a:alpha val="3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直接连接符 808"/>
              <p:cNvSpPr/>
              <p:nvPr/>
            </p:nvSpPr>
            <p:spPr>
              <a:xfrm flipH="1">
                <a:off x="1638360" y="5743800"/>
                <a:ext cx="25200" cy="249120"/>
              </a:xfrm>
              <a:prstGeom prst="line">
                <a:avLst/>
              </a:prstGeom>
              <a:ln cap="rnd" w="25560">
                <a:solidFill>
                  <a:srgbClr val="ffffff">
                    <a:alpha val="3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直接连接符 809"/>
              <p:cNvSpPr/>
              <p:nvPr/>
            </p:nvSpPr>
            <p:spPr>
              <a:xfrm flipV="1">
                <a:off x="1457280" y="5992560"/>
                <a:ext cx="182520" cy="58680"/>
              </a:xfrm>
              <a:prstGeom prst="line">
                <a:avLst/>
              </a:prstGeom>
              <a:ln cap="rnd" w="25560">
                <a:solidFill>
                  <a:srgbClr val="ffffff">
                    <a:alpha val="3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任意多边形 810"/>
              <p:cNvSpPr/>
              <p:nvPr/>
            </p:nvSpPr>
            <p:spPr>
              <a:xfrm>
                <a:off x="3325680" y="2262240"/>
                <a:ext cx="2495520" cy="747720"/>
              </a:xfrm>
              <a:custGeom>
                <a:avLst/>
                <a:gdLst/>
                <a:ahLst/>
                <a:rect l="l" t="t" r="r" b="b"/>
                <a:pathLst>
                  <a:path w="2810341" h="879231">
                    <a:moveTo>
                      <a:pt x="57550" y="0"/>
                    </a:moveTo>
                    <a:lnTo>
                      <a:pt x="0" y="844062"/>
                    </a:lnTo>
                    <a:lnTo>
                      <a:pt x="2810341" y="879231"/>
                    </a:lnTo>
                    <a:lnTo>
                      <a:pt x="2787961" y="35169"/>
                    </a:lnTo>
                    <a:lnTo>
                      <a:pt x="5755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ffff">
                    <a:alpha val="3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4" name="圆角矩形 665"/>
            <p:cNvSpPr/>
            <p:nvPr/>
          </p:nvSpPr>
          <p:spPr>
            <a:xfrm rot="298200">
              <a:off x="2782440" y="2001240"/>
              <a:ext cx="172800" cy="3237120"/>
            </a:xfrm>
            <a:custGeom>
              <a:avLst/>
              <a:gdLst>
                <a:gd name="textAreaLeft" fmla="*/ 15120 w 172800"/>
                <a:gd name="textAreaRight" fmla="*/ 157680 w 172800"/>
                <a:gd name="textAreaTop" fmla="*/ 15120 h 3237120"/>
                <a:gd name="textAreaBottom" fmla="*/ 3222000 h 3237120"/>
              </a:gdLst>
              <a:ahLst/>
              <a:rect l="textAreaLeft" t="textAreaTop" r="textAreaRight" b="textAreaBottom"/>
              <a:pathLst>
                <a:path w="21600" h="403844">
                  <a:moveTo>
                    <a:pt x="6523" y="0"/>
                  </a:moveTo>
                  <a:arcTo wR="6523" hR="6523" stAng="16200000" swAng="-5400000"/>
                  <a:lnTo>
                    <a:pt x="0" y="397321"/>
                  </a:lnTo>
                  <a:arcTo wR="6523" hR="6523" stAng="10800000" swAng="-5400000"/>
                  <a:lnTo>
                    <a:pt x="15077" y="403844"/>
                  </a:lnTo>
                  <a:arcTo wR="6523" hR="6523" stAng="5400000" swAng="-5400000"/>
                  <a:lnTo>
                    <a:pt x="21600" y="6523"/>
                  </a:lnTo>
                  <a:arcTo wR="6523" hR="6523" stAng="0" swAng="-5400000"/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圆角矩形 666"/>
            <p:cNvSpPr/>
            <p:nvPr/>
          </p:nvSpPr>
          <p:spPr>
            <a:xfrm rot="21439800">
              <a:off x="6157800" y="2054160"/>
              <a:ext cx="171360" cy="3237120"/>
            </a:xfrm>
            <a:custGeom>
              <a:avLst/>
              <a:gdLst>
                <a:gd name="textAreaLeft" fmla="*/ 15120 w 171360"/>
                <a:gd name="textAreaRight" fmla="*/ 156240 w 171360"/>
                <a:gd name="textAreaTop" fmla="*/ 15120 h 3237120"/>
                <a:gd name="textAreaBottom" fmla="*/ 3222000 h 3237120"/>
              </a:gdLst>
              <a:ahLst/>
              <a:rect l="textAreaLeft" t="textAreaTop" r="textAreaRight" b="textAreaBottom"/>
              <a:pathLst>
                <a:path w="21600" h="407230">
                  <a:moveTo>
                    <a:pt x="6523" y="0"/>
                  </a:moveTo>
                  <a:arcTo wR="6523" hR="6523" stAng="16200000" swAng="-5400000"/>
                  <a:lnTo>
                    <a:pt x="0" y="400707"/>
                  </a:lnTo>
                  <a:arcTo wR="6523" hR="6523" stAng="10800000" swAng="-5400000"/>
                  <a:lnTo>
                    <a:pt x="15077" y="407230"/>
                  </a:lnTo>
                  <a:arcTo wR="6523" hR="6523" stAng="5400000" swAng="-5400000"/>
                  <a:lnTo>
                    <a:pt x="21600" y="6523"/>
                  </a:lnTo>
                  <a:arcTo wR="6523" hR="6523" stAng="0" swAng="-5400000"/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圆角矩形 667"/>
            <p:cNvSpPr/>
            <p:nvPr/>
          </p:nvSpPr>
          <p:spPr>
            <a:xfrm rot="21217200">
              <a:off x="7627680" y="2781000"/>
              <a:ext cx="172800" cy="2606760"/>
            </a:xfrm>
            <a:custGeom>
              <a:avLst/>
              <a:gdLst>
                <a:gd name="textAreaLeft" fmla="*/ 25200 w 172800"/>
                <a:gd name="textAreaRight" fmla="*/ 147600 w 172800"/>
                <a:gd name="textAreaTop" fmla="*/ 25200 h 2606760"/>
                <a:gd name="textAreaBottom" fmla="*/ 2581560 h 2606760"/>
              </a:gdLst>
              <a:ahLst/>
              <a:rect l="textAreaLeft" t="textAreaTop" r="textAreaRight" b="textAreaBottom"/>
              <a:pathLst>
                <a:path w="21600" h="325212">
                  <a:moveTo>
                    <a:pt x="10800" y="0"/>
                  </a:moveTo>
                  <a:arcTo wR="10800" hR="10800" stAng="16200000" swAng="-5400000"/>
                  <a:lnTo>
                    <a:pt x="0" y="314412"/>
                  </a:lnTo>
                  <a:arcTo wR="10800" hR="10800" stAng="10800000" swAng="-5400000"/>
                  <a:lnTo>
                    <a:pt x="10800" y="325212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圆角矩形 668"/>
            <p:cNvSpPr/>
            <p:nvPr/>
          </p:nvSpPr>
          <p:spPr>
            <a:xfrm rot="467400">
              <a:off x="1328760" y="2735280"/>
              <a:ext cx="182520" cy="2598840"/>
            </a:xfrm>
            <a:custGeom>
              <a:avLst/>
              <a:gdLst>
                <a:gd name="textAreaLeft" fmla="*/ 15840 w 182520"/>
                <a:gd name="textAreaRight" fmla="*/ 166680 w 182520"/>
                <a:gd name="textAreaTop" fmla="*/ 15840 h 2598840"/>
                <a:gd name="textAreaBottom" fmla="*/ 2583000 h 2598840"/>
              </a:gdLst>
              <a:ahLst/>
              <a:rect l="textAreaLeft" t="textAreaTop" r="textAreaRight" b="textAreaBottom"/>
              <a:pathLst>
                <a:path w="21600" h="306992">
                  <a:moveTo>
                    <a:pt x="6523" y="0"/>
                  </a:moveTo>
                  <a:arcTo wR="6523" hR="6523" stAng="16200000" swAng="-5400000"/>
                  <a:lnTo>
                    <a:pt x="0" y="300469"/>
                  </a:lnTo>
                  <a:arcTo wR="6523" hR="6523" stAng="10800000" swAng="-5400000"/>
                  <a:lnTo>
                    <a:pt x="15077" y="306992"/>
                  </a:lnTo>
                  <a:arcTo wR="6523" hR="6523" stAng="5400000" swAng="-5400000"/>
                  <a:lnTo>
                    <a:pt x="21600" y="6523"/>
                  </a:lnTo>
                  <a:arcTo wR="6523" hR="6523" stAng="0" swAng="-5400000"/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8" name="Picture 152" descr="C:\Documents and Settings\Administrator\桌面\图片1副本.png"/>
            <p:cNvPicPr/>
            <p:nvPr/>
          </p:nvPicPr>
          <p:blipFill>
            <a:blip r:embed="rId1"/>
            <a:stretch/>
          </p:blipFill>
          <p:spPr>
            <a:xfrm rot="60000">
              <a:off x="3470040" y="2420280"/>
              <a:ext cx="2203200" cy="466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9" name="组合 334"/>
          <p:cNvGrpSpPr/>
          <p:nvPr/>
        </p:nvGrpSpPr>
        <p:grpSpPr>
          <a:xfrm>
            <a:off x="146160" y="713880"/>
            <a:ext cx="8851680" cy="5429880"/>
            <a:chOff x="146160" y="713880"/>
            <a:chExt cx="8851680" cy="5429880"/>
          </a:xfrm>
        </p:grpSpPr>
        <p:sp>
          <p:nvSpPr>
            <p:cNvPr id="190" name="直接连接符 476"/>
            <p:cNvSpPr/>
            <p:nvPr/>
          </p:nvSpPr>
          <p:spPr>
            <a:xfrm flipV="1">
              <a:off x="146160" y="713880"/>
              <a:ext cx="3147840" cy="425160"/>
            </a:xfrm>
            <a:prstGeom prst="line">
              <a:avLst/>
            </a:prstGeom>
            <a:ln cap="rnd" w="255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1" name="组合 333"/>
            <p:cNvGrpSpPr/>
            <p:nvPr/>
          </p:nvGrpSpPr>
          <p:grpSpPr>
            <a:xfrm>
              <a:off x="3293280" y="714240"/>
              <a:ext cx="2493360" cy="486360"/>
              <a:chOff x="3293280" y="714240"/>
              <a:chExt cx="2493360" cy="486360"/>
            </a:xfrm>
          </p:grpSpPr>
          <p:sp>
            <p:nvSpPr>
              <p:cNvPr id="192" name="直接连接符 660"/>
              <p:cNvSpPr/>
              <p:nvPr/>
            </p:nvSpPr>
            <p:spPr>
              <a:xfrm>
                <a:off x="3293280" y="714240"/>
                <a:ext cx="2096280" cy="177480"/>
              </a:xfrm>
              <a:prstGeom prst="line">
                <a:avLst/>
              </a:prstGeom>
              <a:ln cap="rnd" w="25560">
                <a:solidFill>
                  <a:srgbClr val="ffffff">
                    <a:alpha val="3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直接连接符 661"/>
              <p:cNvSpPr/>
              <p:nvPr/>
            </p:nvSpPr>
            <p:spPr>
              <a:xfrm flipH="1">
                <a:off x="5381640" y="897840"/>
                <a:ext cx="10800" cy="281880"/>
              </a:xfrm>
              <a:prstGeom prst="line">
                <a:avLst/>
              </a:prstGeom>
              <a:ln cap="rnd" w="25560">
                <a:solidFill>
                  <a:srgbClr val="ffffff">
                    <a:alpha val="3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直接连接符 662"/>
              <p:cNvSpPr/>
              <p:nvPr/>
            </p:nvSpPr>
            <p:spPr>
              <a:xfrm>
                <a:off x="5381640" y="1158120"/>
                <a:ext cx="405000" cy="42480"/>
              </a:xfrm>
              <a:prstGeom prst="line">
                <a:avLst/>
              </a:prstGeom>
              <a:ln cap="rnd" w="25560">
                <a:solidFill>
                  <a:srgbClr val="ffffff">
                    <a:alpha val="3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5" name="直接连接符 478"/>
            <p:cNvSpPr/>
            <p:nvPr/>
          </p:nvSpPr>
          <p:spPr>
            <a:xfrm flipH="1">
              <a:off x="5778000" y="1214280"/>
              <a:ext cx="6120" cy="420480"/>
            </a:xfrm>
            <a:prstGeom prst="line">
              <a:avLst/>
            </a:prstGeom>
            <a:ln cap="rnd" w="255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直接连接符 479"/>
            <p:cNvSpPr/>
            <p:nvPr/>
          </p:nvSpPr>
          <p:spPr>
            <a:xfrm>
              <a:off x="5802480" y="1633320"/>
              <a:ext cx="3195360" cy="158760"/>
            </a:xfrm>
            <a:prstGeom prst="line">
              <a:avLst/>
            </a:prstGeom>
            <a:ln cap="rnd" w="255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直接连接符 480"/>
            <p:cNvSpPr/>
            <p:nvPr/>
          </p:nvSpPr>
          <p:spPr>
            <a:xfrm flipH="1">
              <a:off x="8897760" y="1801800"/>
              <a:ext cx="98280" cy="2568600"/>
            </a:xfrm>
            <a:prstGeom prst="line">
              <a:avLst/>
            </a:prstGeom>
            <a:ln cap="rnd" w="255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直接连接符 481"/>
            <p:cNvSpPr/>
            <p:nvPr/>
          </p:nvSpPr>
          <p:spPr>
            <a:xfrm flipH="1">
              <a:off x="5719680" y="4382640"/>
              <a:ext cx="3178080" cy="925560"/>
            </a:xfrm>
            <a:prstGeom prst="line">
              <a:avLst/>
            </a:prstGeom>
            <a:ln cap="rnd" w="255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直接连接符 482"/>
            <p:cNvSpPr/>
            <p:nvPr/>
          </p:nvSpPr>
          <p:spPr>
            <a:xfrm flipV="1">
              <a:off x="5727600" y="1632960"/>
              <a:ext cx="109440" cy="3673800"/>
            </a:xfrm>
            <a:prstGeom prst="line">
              <a:avLst/>
            </a:prstGeom>
            <a:ln cap="rnd" w="255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直接连接符 483"/>
            <p:cNvSpPr/>
            <p:nvPr/>
          </p:nvSpPr>
          <p:spPr>
            <a:xfrm flipH="1" flipV="1">
              <a:off x="5270400" y="1618920"/>
              <a:ext cx="544320" cy="18720"/>
            </a:xfrm>
            <a:prstGeom prst="line">
              <a:avLst/>
            </a:prstGeom>
            <a:ln cap="rnd" w="255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直接连接符 484"/>
            <p:cNvSpPr/>
            <p:nvPr/>
          </p:nvSpPr>
          <p:spPr>
            <a:xfrm flipH="1">
              <a:off x="5198760" y="1633320"/>
              <a:ext cx="74520" cy="2641680"/>
            </a:xfrm>
            <a:prstGeom prst="line">
              <a:avLst/>
            </a:prstGeom>
            <a:ln cap="rnd" w="255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直接连接符 485"/>
            <p:cNvSpPr/>
            <p:nvPr/>
          </p:nvSpPr>
          <p:spPr>
            <a:xfrm flipH="1">
              <a:off x="3242880" y="4289400"/>
              <a:ext cx="1942920" cy="271440"/>
            </a:xfrm>
            <a:prstGeom prst="line">
              <a:avLst/>
            </a:prstGeom>
            <a:ln cap="rnd" w="255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直接连接符 486"/>
            <p:cNvSpPr/>
            <p:nvPr/>
          </p:nvSpPr>
          <p:spPr>
            <a:xfrm flipH="1">
              <a:off x="3242880" y="730080"/>
              <a:ext cx="50760" cy="3840480"/>
            </a:xfrm>
            <a:prstGeom prst="line">
              <a:avLst/>
            </a:prstGeom>
            <a:ln cap="rnd" w="255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直接连接符 487"/>
            <p:cNvSpPr/>
            <p:nvPr/>
          </p:nvSpPr>
          <p:spPr>
            <a:xfrm>
              <a:off x="158760" y="1150560"/>
              <a:ext cx="0" cy="2865600"/>
            </a:xfrm>
            <a:prstGeom prst="line">
              <a:avLst/>
            </a:prstGeom>
            <a:ln cap="rnd" w="255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直接连接符 488"/>
            <p:cNvSpPr/>
            <p:nvPr/>
          </p:nvSpPr>
          <p:spPr>
            <a:xfrm flipH="1" flipV="1">
              <a:off x="156600" y="3441600"/>
              <a:ext cx="3074760" cy="1116000"/>
            </a:xfrm>
            <a:prstGeom prst="line">
              <a:avLst/>
            </a:prstGeom>
            <a:ln cap="rnd" w="255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直接连接符 489"/>
            <p:cNvSpPr/>
            <p:nvPr/>
          </p:nvSpPr>
          <p:spPr>
            <a:xfrm flipV="1">
              <a:off x="1530360" y="4118040"/>
              <a:ext cx="482400" cy="55440"/>
            </a:xfrm>
            <a:prstGeom prst="line">
              <a:avLst/>
            </a:prstGeom>
            <a:ln cap="rnd" w="255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直接连接符 490"/>
            <p:cNvSpPr/>
            <p:nvPr/>
          </p:nvSpPr>
          <p:spPr>
            <a:xfrm>
              <a:off x="5199120" y="4289400"/>
              <a:ext cx="453960" cy="112680"/>
            </a:xfrm>
            <a:prstGeom prst="line">
              <a:avLst/>
            </a:prstGeom>
            <a:ln cap="rnd" w="255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直接连接符 491"/>
            <p:cNvSpPr/>
            <p:nvPr/>
          </p:nvSpPr>
          <p:spPr>
            <a:xfrm flipH="1">
              <a:off x="5646600" y="4408560"/>
              <a:ext cx="1440" cy="112680"/>
            </a:xfrm>
            <a:prstGeom prst="line">
              <a:avLst/>
            </a:prstGeom>
            <a:ln cap="rnd" w="255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直接连接符 492"/>
            <p:cNvSpPr/>
            <p:nvPr/>
          </p:nvSpPr>
          <p:spPr>
            <a:xfrm flipV="1">
              <a:off x="3179880" y="4404960"/>
              <a:ext cx="2466720" cy="425160"/>
            </a:xfrm>
            <a:prstGeom prst="line">
              <a:avLst/>
            </a:prstGeom>
            <a:ln cap="rnd" w="255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直接连接符 493"/>
            <p:cNvSpPr/>
            <p:nvPr/>
          </p:nvSpPr>
          <p:spPr>
            <a:xfrm flipV="1">
              <a:off x="3173400" y="4515120"/>
              <a:ext cx="2473200" cy="452160"/>
            </a:xfrm>
            <a:prstGeom prst="line">
              <a:avLst/>
            </a:prstGeom>
            <a:ln cap="rnd" w="255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直接连接符 494"/>
            <p:cNvSpPr/>
            <p:nvPr/>
          </p:nvSpPr>
          <p:spPr>
            <a:xfrm flipH="1">
              <a:off x="3179520" y="4838760"/>
              <a:ext cx="4680" cy="128520"/>
            </a:xfrm>
            <a:prstGeom prst="line">
              <a:avLst/>
            </a:prstGeom>
            <a:ln cap="rnd" w="255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直接连接符 495"/>
            <p:cNvSpPr/>
            <p:nvPr/>
          </p:nvSpPr>
          <p:spPr>
            <a:xfrm flipH="1">
              <a:off x="1530360" y="4173480"/>
              <a:ext cx="1440" cy="107640"/>
            </a:xfrm>
            <a:prstGeom prst="line">
              <a:avLst/>
            </a:prstGeom>
            <a:ln cap="rnd" w="255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直接连接符 496"/>
            <p:cNvSpPr/>
            <p:nvPr/>
          </p:nvSpPr>
          <p:spPr>
            <a:xfrm>
              <a:off x="1525680" y="4281480"/>
              <a:ext cx="1644480" cy="677880"/>
            </a:xfrm>
            <a:prstGeom prst="line">
              <a:avLst/>
            </a:prstGeom>
            <a:ln cap="rnd" w="255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直接连接符 497"/>
            <p:cNvSpPr/>
            <p:nvPr/>
          </p:nvSpPr>
          <p:spPr>
            <a:xfrm>
              <a:off x="1517760" y="4173480"/>
              <a:ext cx="1665000" cy="657000"/>
            </a:xfrm>
            <a:prstGeom prst="line">
              <a:avLst/>
            </a:prstGeom>
            <a:ln cap="rnd" w="255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直接连接符 498"/>
            <p:cNvSpPr/>
            <p:nvPr/>
          </p:nvSpPr>
          <p:spPr>
            <a:xfrm flipH="1">
              <a:off x="2967120" y="4883400"/>
              <a:ext cx="1440" cy="650880"/>
            </a:xfrm>
            <a:prstGeom prst="line">
              <a:avLst/>
            </a:prstGeom>
            <a:ln cap="rnd" w="255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直接连接符 499"/>
            <p:cNvSpPr/>
            <p:nvPr/>
          </p:nvSpPr>
          <p:spPr>
            <a:xfrm flipH="1">
              <a:off x="3416400" y="4942080"/>
              <a:ext cx="2880" cy="647640"/>
            </a:xfrm>
            <a:prstGeom prst="line">
              <a:avLst/>
            </a:prstGeom>
            <a:ln cap="rnd" w="255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直接连接符 500"/>
            <p:cNvSpPr/>
            <p:nvPr/>
          </p:nvSpPr>
          <p:spPr>
            <a:xfrm flipH="1">
              <a:off x="3255840" y="4961160"/>
              <a:ext cx="1440" cy="716040"/>
            </a:xfrm>
            <a:prstGeom prst="line">
              <a:avLst/>
            </a:prstGeom>
            <a:ln cap="rnd" w="255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直接连接符 501"/>
            <p:cNvSpPr/>
            <p:nvPr/>
          </p:nvSpPr>
          <p:spPr>
            <a:xfrm flipH="1" flipV="1">
              <a:off x="2957400" y="5526000"/>
              <a:ext cx="288720" cy="145800"/>
            </a:xfrm>
            <a:prstGeom prst="line">
              <a:avLst/>
            </a:prstGeom>
            <a:ln cap="rnd" w="255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直接连接符 502"/>
            <p:cNvSpPr/>
            <p:nvPr/>
          </p:nvSpPr>
          <p:spPr>
            <a:xfrm flipV="1">
              <a:off x="3246480" y="5578200"/>
              <a:ext cx="172800" cy="98280"/>
            </a:xfrm>
            <a:prstGeom prst="line">
              <a:avLst/>
            </a:prstGeom>
            <a:ln cap="rnd" w="255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直接连接符 503"/>
            <p:cNvSpPr/>
            <p:nvPr/>
          </p:nvSpPr>
          <p:spPr>
            <a:xfrm flipV="1">
              <a:off x="3260880" y="5308560"/>
              <a:ext cx="2463480" cy="834840"/>
            </a:xfrm>
            <a:prstGeom prst="line">
              <a:avLst/>
            </a:prstGeom>
            <a:ln cap="rnd" w="255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直接连接符 504"/>
            <p:cNvSpPr/>
            <p:nvPr/>
          </p:nvSpPr>
          <p:spPr>
            <a:xfrm>
              <a:off x="1390680" y="5096160"/>
              <a:ext cx="1877760" cy="1047600"/>
            </a:xfrm>
            <a:prstGeom prst="line">
              <a:avLst/>
            </a:prstGeom>
            <a:ln cap="rnd" w="255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直接连接符 505"/>
            <p:cNvSpPr/>
            <p:nvPr/>
          </p:nvSpPr>
          <p:spPr>
            <a:xfrm flipH="1">
              <a:off x="1666440" y="4345200"/>
              <a:ext cx="4680" cy="538200"/>
            </a:xfrm>
            <a:prstGeom prst="line">
              <a:avLst/>
            </a:prstGeom>
            <a:ln cap="rnd" w="255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任意多边形 506"/>
            <p:cNvSpPr/>
            <p:nvPr/>
          </p:nvSpPr>
          <p:spPr>
            <a:xfrm>
              <a:off x="1377720" y="4869000"/>
              <a:ext cx="272880" cy="220680"/>
            </a:xfrm>
            <a:custGeom>
              <a:avLst/>
              <a:gdLst/>
              <a:ahLst/>
              <a:rect l="l" t="t" r="r" b="b"/>
              <a:pathLst>
                <a:path w="316854" h="222142">
                  <a:moveTo>
                    <a:pt x="22386" y="222142"/>
                  </a:moveTo>
                  <a:cubicBezTo>
                    <a:pt x="11193" y="186840"/>
                    <a:pt x="0" y="151538"/>
                    <a:pt x="6888" y="123986"/>
                  </a:cubicBezTo>
                  <a:cubicBezTo>
                    <a:pt x="13776" y="96434"/>
                    <a:pt x="41329" y="70603"/>
                    <a:pt x="63715" y="56827"/>
                  </a:cubicBezTo>
                  <a:cubicBezTo>
                    <a:pt x="86101" y="43051"/>
                    <a:pt x="99016" y="50800"/>
                    <a:pt x="141206" y="41329"/>
                  </a:cubicBezTo>
                  <a:cubicBezTo>
                    <a:pt x="183396" y="31858"/>
                    <a:pt x="250125" y="15929"/>
                    <a:pt x="316854" y="0"/>
                  </a:cubicBezTo>
                </a:path>
              </a:pathLst>
            </a:custGeom>
            <a:noFill/>
            <a:ln cap="rnd" w="25560">
              <a:solidFill>
                <a:srgbClr val="ffffff">
                  <a:alpha val="3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直接连接符 507"/>
            <p:cNvSpPr/>
            <p:nvPr/>
          </p:nvSpPr>
          <p:spPr>
            <a:xfrm>
              <a:off x="1382760" y="5050080"/>
              <a:ext cx="1877760" cy="1047600"/>
            </a:xfrm>
            <a:prstGeom prst="line">
              <a:avLst/>
            </a:prstGeom>
            <a:ln cap="rnd" w="255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直接连接符 508"/>
            <p:cNvSpPr/>
            <p:nvPr/>
          </p:nvSpPr>
          <p:spPr>
            <a:xfrm>
              <a:off x="1382760" y="5010480"/>
              <a:ext cx="1877760" cy="1047600"/>
            </a:xfrm>
            <a:prstGeom prst="line">
              <a:avLst/>
            </a:prstGeom>
            <a:ln cap="rnd" w="255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直接连接符 509"/>
            <p:cNvSpPr/>
            <p:nvPr/>
          </p:nvSpPr>
          <p:spPr>
            <a:xfrm>
              <a:off x="1384200" y="4967640"/>
              <a:ext cx="1881000" cy="1047600"/>
            </a:xfrm>
            <a:prstGeom prst="line">
              <a:avLst/>
            </a:prstGeom>
            <a:ln cap="rnd" w="255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直接连接符 510"/>
            <p:cNvSpPr/>
            <p:nvPr/>
          </p:nvSpPr>
          <p:spPr>
            <a:xfrm>
              <a:off x="1417680" y="4940640"/>
              <a:ext cx="1842840" cy="1020600"/>
            </a:xfrm>
            <a:prstGeom prst="line">
              <a:avLst/>
            </a:prstGeom>
            <a:ln cap="rnd" w="255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直接连接符 511"/>
            <p:cNvSpPr/>
            <p:nvPr/>
          </p:nvSpPr>
          <p:spPr>
            <a:xfrm flipV="1">
              <a:off x="4700520" y="5224320"/>
              <a:ext cx="1028520" cy="338040"/>
            </a:xfrm>
            <a:prstGeom prst="line">
              <a:avLst/>
            </a:prstGeom>
            <a:ln cap="rnd" w="255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直接连接符 512"/>
            <p:cNvSpPr/>
            <p:nvPr/>
          </p:nvSpPr>
          <p:spPr>
            <a:xfrm flipH="1">
              <a:off x="4694400" y="5570640"/>
              <a:ext cx="1440" cy="88560"/>
            </a:xfrm>
            <a:prstGeom prst="line">
              <a:avLst/>
            </a:prstGeom>
            <a:ln cap="rnd" w="255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直接连接符 513"/>
            <p:cNvSpPr/>
            <p:nvPr/>
          </p:nvSpPr>
          <p:spPr>
            <a:xfrm flipH="1" flipV="1">
              <a:off x="4592520" y="5523120"/>
              <a:ext cx="102960" cy="39600"/>
            </a:xfrm>
            <a:prstGeom prst="line">
              <a:avLst/>
            </a:prstGeom>
            <a:ln cap="rnd" w="255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直接连接符 514"/>
            <p:cNvSpPr/>
            <p:nvPr/>
          </p:nvSpPr>
          <p:spPr>
            <a:xfrm flipH="1" flipV="1">
              <a:off x="5555880" y="5162760"/>
              <a:ext cx="168120" cy="56880"/>
            </a:xfrm>
            <a:prstGeom prst="line">
              <a:avLst/>
            </a:prstGeom>
            <a:ln cap="rnd" w="255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直接连接符 515"/>
            <p:cNvSpPr/>
            <p:nvPr/>
          </p:nvSpPr>
          <p:spPr>
            <a:xfrm flipV="1">
              <a:off x="3257640" y="5618520"/>
              <a:ext cx="1431720" cy="488880"/>
            </a:xfrm>
            <a:prstGeom prst="line">
              <a:avLst/>
            </a:prstGeom>
            <a:ln cap="rnd" w="255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直接连接符 516"/>
            <p:cNvSpPr/>
            <p:nvPr/>
          </p:nvSpPr>
          <p:spPr>
            <a:xfrm flipV="1">
              <a:off x="3257640" y="5572080"/>
              <a:ext cx="1431720" cy="487080"/>
            </a:xfrm>
            <a:prstGeom prst="line">
              <a:avLst/>
            </a:prstGeom>
            <a:ln cap="rnd" w="255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直接连接符 517"/>
            <p:cNvSpPr/>
            <p:nvPr/>
          </p:nvSpPr>
          <p:spPr>
            <a:xfrm flipV="1">
              <a:off x="3257640" y="5545440"/>
              <a:ext cx="1387440" cy="474480"/>
            </a:xfrm>
            <a:prstGeom prst="line">
              <a:avLst/>
            </a:prstGeom>
            <a:ln cap="rnd" w="255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直接连接符 518"/>
            <p:cNvSpPr/>
            <p:nvPr/>
          </p:nvSpPr>
          <p:spPr>
            <a:xfrm flipV="1">
              <a:off x="3255840" y="5521680"/>
              <a:ext cx="1341360" cy="442800"/>
            </a:xfrm>
            <a:prstGeom prst="line">
              <a:avLst/>
            </a:prstGeom>
            <a:ln cap="rnd" w="255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直接连接符 519"/>
            <p:cNvSpPr/>
            <p:nvPr/>
          </p:nvSpPr>
          <p:spPr>
            <a:xfrm flipH="1" flipV="1">
              <a:off x="160200" y="4027680"/>
              <a:ext cx="1511280" cy="736560"/>
            </a:xfrm>
            <a:prstGeom prst="line">
              <a:avLst/>
            </a:prstGeom>
            <a:ln cap="rnd" w="255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直接连接符 520"/>
            <p:cNvSpPr/>
            <p:nvPr/>
          </p:nvSpPr>
          <p:spPr>
            <a:xfrm flipH="1">
              <a:off x="5735520" y="4143600"/>
              <a:ext cx="3125520" cy="714240"/>
            </a:xfrm>
            <a:prstGeom prst="line">
              <a:avLst/>
            </a:prstGeom>
            <a:ln cap="rnd" w="255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直接连接符 521"/>
            <p:cNvSpPr/>
            <p:nvPr/>
          </p:nvSpPr>
          <p:spPr>
            <a:xfrm flipH="1">
              <a:off x="5767560" y="3836160"/>
              <a:ext cx="3031920" cy="608040"/>
            </a:xfrm>
            <a:prstGeom prst="line">
              <a:avLst/>
            </a:prstGeom>
            <a:ln cap="rnd" w="255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直接连接符 522"/>
            <p:cNvSpPr/>
            <p:nvPr/>
          </p:nvSpPr>
          <p:spPr>
            <a:xfrm flipH="1">
              <a:off x="5785920" y="3549600"/>
              <a:ext cx="3035160" cy="480960"/>
            </a:xfrm>
            <a:prstGeom prst="line">
              <a:avLst/>
            </a:prstGeom>
            <a:ln cap="rnd" w="255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直接连接符 523"/>
            <p:cNvSpPr/>
            <p:nvPr/>
          </p:nvSpPr>
          <p:spPr>
            <a:xfrm flipH="1">
              <a:off x="5785920" y="3225600"/>
              <a:ext cx="3027240" cy="390240"/>
            </a:xfrm>
            <a:prstGeom prst="line">
              <a:avLst/>
            </a:prstGeom>
            <a:ln cap="rnd" w="255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直接连接符 524"/>
            <p:cNvSpPr/>
            <p:nvPr/>
          </p:nvSpPr>
          <p:spPr>
            <a:xfrm flipH="1">
              <a:off x="5808600" y="2971800"/>
              <a:ext cx="3008160" cy="264960"/>
            </a:xfrm>
            <a:prstGeom prst="line">
              <a:avLst/>
            </a:prstGeom>
            <a:ln cap="rnd" w="255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直接连接符 525"/>
            <p:cNvSpPr/>
            <p:nvPr/>
          </p:nvSpPr>
          <p:spPr>
            <a:xfrm flipH="1">
              <a:off x="5815080" y="2640960"/>
              <a:ext cx="3047760" cy="145800"/>
            </a:xfrm>
            <a:prstGeom prst="line">
              <a:avLst/>
            </a:prstGeom>
            <a:ln cap="rnd" w="255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直接连接符 526"/>
            <p:cNvSpPr/>
            <p:nvPr/>
          </p:nvSpPr>
          <p:spPr>
            <a:xfrm flipH="1">
              <a:off x="5832000" y="2367000"/>
              <a:ext cx="3041640" cy="48960"/>
            </a:xfrm>
            <a:prstGeom prst="line">
              <a:avLst/>
            </a:prstGeom>
            <a:ln cap="rnd" w="255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直接连接符 527"/>
            <p:cNvSpPr/>
            <p:nvPr/>
          </p:nvSpPr>
          <p:spPr>
            <a:xfrm flipH="1" flipV="1">
              <a:off x="5842080" y="1964880"/>
              <a:ext cx="3039840" cy="75960"/>
            </a:xfrm>
            <a:prstGeom prst="line">
              <a:avLst/>
            </a:prstGeom>
            <a:ln cap="rnd" w="255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直接连接符 528"/>
            <p:cNvSpPr/>
            <p:nvPr/>
          </p:nvSpPr>
          <p:spPr>
            <a:xfrm flipV="1">
              <a:off x="5865840" y="1856880"/>
              <a:ext cx="56880" cy="2940120"/>
            </a:xfrm>
            <a:prstGeom prst="line">
              <a:avLst/>
            </a:prstGeom>
            <a:ln cap="rnd" w="381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直接连接符 529"/>
            <p:cNvSpPr/>
            <p:nvPr/>
          </p:nvSpPr>
          <p:spPr>
            <a:xfrm flipV="1">
              <a:off x="5979240" y="1857240"/>
              <a:ext cx="61560" cy="2926080"/>
            </a:xfrm>
            <a:prstGeom prst="line">
              <a:avLst/>
            </a:prstGeom>
            <a:ln cap="rnd" w="381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直接连接符 530"/>
            <p:cNvSpPr/>
            <p:nvPr/>
          </p:nvSpPr>
          <p:spPr>
            <a:xfrm flipV="1">
              <a:off x="6102360" y="1857240"/>
              <a:ext cx="71280" cy="2887920"/>
            </a:xfrm>
            <a:prstGeom prst="line">
              <a:avLst/>
            </a:prstGeom>
            <a:ln cap="rnd" w="381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直接连接符 531"/>
            <p:cNvSpPr/>
            <p:nvPr/>
          </p:nvSpPr>
          <p:spPr>
            <a:xfrm flipV="1">
              <a:off x="6229440" y="1847520"/>
              <a:ext cx="72720" cy="2865600"/>
            </a:xfrm>
            <a:prstGeom prst="line">
              <a:avLst/>
            </a:prstGeom>
            <a:ln cap="rnd" w="381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直接连接符 532"/>
            <p:cNvSpPr/>
            <p:nvPr/>
          </p:nvSpPr>
          <p:spPr>
            <a:xfrm flipV="1">
              <a:off x="6346800" y="1861920"/>
              <a:ext cx="77760" cy="2833920"/>
            </a:xfrm>
            <a:prstGeom prst="line">
              <a:avLst/>
            </a:prstGeom>
            <a:ln cap="rnd" w="381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直接连接符 533"/>
            <p:cNvSpPr/>
            <p:nvPr/>
          </p:nvSpPr>
          <p:spPr>
            <a:xfrm flipV="1">
              <a:off x="6473880" y="1869480"/>
              <a:ext cx="77760" cy="2792520"/>
            </a:xfrm>
            <a:prstGeom prst="line">
              <a:avLst/>
            </a:prstGeom>
            <a:ln cap="rnd" w="381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直接连接符 534"/>
            <p:cNvSpPr/>
            <p:nvPr/>
          </p:nvSpPr>
          <p:spPr>
            <a:xfrm flipV="1">
              <a:off x="6597000" y="1869480"/>
              <a:ext cx="66600" cy="2754360"/>
            </a:xfrm>
            <a:prstGeom prst="line">
              <a:avLst/>
            </a:prstGeom>
            <a:ln cap="rnd" w="381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直接连接符 535"/>
            <p:cNvSpPr/>
            <p:nvPr/>
          </p:nvSpPr>
          <p:spPr>
            <a:xfrm flipV="1">
              <a:off x="6707160" y="1869840"/>
              <a:ext cx="79200" cy="2741760"/>
            </a:xfrm>
            <a:prstGeom prst="line">
              <a:avLst/>
            </a:prstGeom>
            <a:ln cap="rnd" w="381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直接连接符 536"/>
            <p:cNvSpPr/>
            <p:nvPr/>
          </p:nvSpPr>
          <p:spPr>
            <a:xfrm flipV="1">
              <a:off x="6818400" y="1874160"/>
              <a:ext cx="77760" cy="2705400"/>
            </a:xfrm>
            <a:prstGeom prst="line">
              <a:avLst/>
            </a:prstGeom>
            <a:ln cap="rnd" w="381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直接连接符 537"/>
            <p:cNvSpPr/>
            <p:nvPr/>
          </p:nvSpPr>
          <p:spPr>
            <a:xfrm flipV="1">
              <a:off x="6917760" y="1861920"/>
              <a:ext cx="99720" cy="2694240"/>
            </a:xfrm>
            <a:prstGeom prst="line">
              <a:avLst/>
            </a:prstGeom>
            <a:ln cap="rnd" w="381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直接连接符 538"/>
            <p:cNvSpPr/>
            <p:nvPr/>
          </p:nvSpPr>
          <p:spPr>
            <a:xfrm flipV="1">
              <a:off x="7051680" y="1893600"/>
              <a:ext cx="71280" cy="2640240"/>
            </a:xfrm>
            <a:prstGeom prst="line">
              <a:avLst/>
            </a:prstGeom>
            <a:ln cap="rnd" w="381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直接连接符 539"/>
            <p:cNvSpPr/>
            <p:nvPr/>
          </p:nvSpPr>
          <p:spPr>
            <a:xfrm flipV="1">
              <a:off x="7163640" y="1874520"/>
              <a:ext cx="58680" cy="2627280"/>
            </a:xfrm>
            <a:prstGeom prst="line">
              <a:avLst/>
            </a:prstGeom>
            <a:ln cap="rnd" w="381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直接连接符 540"/>
            <p:cNvSpPr/>
            <p:nvPr/>
          </p:nvSpPr>
          <p:spPr>
            <a:xfrm flipV="1">
              <a:off x="7249320" y="1881000"/>
              <a:ext cx="83880" cy="2610000"/>
            </a:xfrm>
            <a:prstGeom prst="line">
              <a:avLst/>
            </a:prstGeom>
            <a:ln cap="rnd" w="381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直接连接符 541"/>
            <p:cNvSpPr/>
            <p:nvPr/>
          </p:nvSpPr>
          <p:spPr>
            <a:xfrm flipH="1" flipV="1">
              <a:off x="5823000" y="1833120"/>
              <a:ext cx="3141360" cy="91800"/>
            </a:xfrm>
            <a:prstGeom prst="line">
              <a:avLst/>
            </a:prstGeom>
            <a:ln cap="rnd" w="255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直接连接符 542"/>
            <p:cNvSpPr/>
            <p:nvPr/>
          </p:nvSpPr>
          <p:spPr>
            <a:xfrm flipV="1">
              <a:off x="8772480" y="1933560"/>
              <a:ext cx="87120" cy="2200320"/>
            </a:xfrm>
            <a:prstGeom prst="line">
              <a:avLst/>
            </a:prstGeom>
            <a:ln cap="rnd" w="381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直接连接符 543"/>
            <p:cNvSpPr/>
            <p:nvPr/>
          </p:nvSpPr>
          <p:spPr>
            <a:xfrm flipH="1" flipV="1">
              <a:off x="5276880" y="1796400"/>
              <a:ext cx="542880" cy="20520"/>
            </a:xfrm>
            <a:prstGeom prst="line">
              <a:avLst/>
            </a:prstGeom>
            <a:ln cap="rnd" w="255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直接连接符 544"/>
            <p:cNvSpPr/>
            <p:nvPr/>
          </p:nvSpPr>
          <p:spPr>
            <a:xfrm flipV="1">
              <a:off x="7362720" y="1899720"/>
              <a:ext cx="88560" cy="2551320"/>
            </a:xfrm>
            <a:prstGeom prst="line">
              <a:avLst/>
            </a:prstGeom>
            <a:ln cap="rnd" w="381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直接连接符 545"/>
            <p:cNvSpPr/>
            <p:nvPr/>
          </p:nvSpPr>
          <p:spPr>
            <a:xfrm flipV="1">
              <a:off x="7460640" y="1893240"/>
              <a:ext cx="83880" cy="2538360"/>
            </a:xfrm>
            <a:prstGeom prst="line">
              <a:avLst/>
            </a:prstGeom>
            <a:ln cap="rnd" w="381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直接连接符 546"/>
            <p:cNvSpPr/>
            <p:nvPr/>
          </p:nvSpPr>
          <p:spPr>
            <a:xfrm flipV="1">
              <a:off x="7560720" y="1893240"/>
              <a:ext cx="83880" cy="2514600"/>
            </a:xfrm>
            <a:prstGeom prst="line">
              <a:avLst/>
            </a:prstGeom>
            <a:ln cap="rnd" w="381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直接连接符 547"/>
            <p:cNvSpPr/>
            <p:nvPr/>
          </p:nvSpPr>
          <p:spPr>
            <a:xfrm flipV="1">
              <a:off x="7651080" y="1888560"/>
              <a:ext cx="82440" cy="2505240"/>
            </a:xfrm>
            <a:prstGeom prst="line">
              <a:avLst/>
            </a:prstGeom>
            <a:ln cap="rnd" w="381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直接连接符 548"/>
            <p:cNvSpPr/>
            <p:nvPr/>
          </p:nvSpPr>
          <p:spPr>
            <a:xfrm flipV="1">
              <a:off x="7739280" y="1896480"/>
              <a:ext cx="80640" cy="2465640"/>
            </a:xfrm>
            <a:prstGeom prst="line">
              <a:avLst/>
            </a:prstGeom>
            <a:ln cap="rnd" w="381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直接连接符 549"/>
            <p:cNvSpPr/>
            <p:nvPr/>
          </p:nvSpPr>
          <p:spPr>
            <a:xfrm flipV="1">
              <a:off x="7824960" y="1898280"/>
              <a:ext cx="79200" cy="2451240"/>
            </a:xfrm>
            <a:prstGeom prst="line">
              <a:avLst/>
            </a:prstGeom>
            <a:ln cap="rnd" w="381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直接连接符 550"/>
            <p:cNvSpPr/>
            <p:nvPr/>
          </p:nvSpPr>
          <p:spPr>
            <a:xfrm flipV="1">
              <a:off x="7908120" y="1898280"/>
              <a:ext cx="75960" cy="2435400"/>
            </a:xfrm>
            <a:prstGeom prst="line">
              <a:avLst/>
            </a:prstGeom>
            <a:ln cap="rnd" w="381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直接连接符 551"/>
            <p:cNvSpPr/>
            <p:nvPr/>
          </p:nvSpPr>
          <p:spPr>
            <a:xfrm flipV="1">
              <a:off x="7989120" y="1910880"/>
              <a:ext cx="90360" cy="2398680"/>
            </a:xfrm>
            <a:prstGeom prst="line">
              <a:avLst/>
            </a:prstGeom>
            <a:ln cap="rnd" w="381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直接连接符 552"/>
            <p:cNvSpPr/>
            <p:nvPr/>
          </p:nvSpPr>
          <p:spPr>
            <a:xfrm flipV="1">
              <a:off x="8072640" y="1910880"/>
              <a:ext cx="95040" cy="2382840"/>
            </a:xfrm>
            <a:prstGeom prst="line">
              <a:avLst/>
            </a:prstGeom>
            <a:ln cap="rnd" w="381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直接连接符 553"/>
            <p:cNvSpPr/>
            <p:nvPr/>
          </p:nvSpPr>
          <p:spPr>
            <a:xfrm flipV="1">
              <a:off x="8151840" y="1912680"/>
              <a:ext cx="102960" cy="2362320"/>
            </a:xfrm>
            <a:prstGeom prst="line">
              <a:avLst/>
            </a:prstGeom>
            <a:ln cap="rnd" w="381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直接连接符 554"/>
            <p:cNvSpPr/>
            <p:nvPr/>
          </p:nvSpPr>
          <p:spPr>
            <a:xfrm flipV="1">
              <a:off x="8241480" y="1912320"/>
              <a:ext cx="90360" cy="2351160"/>
            </a:xfrm>
            <a:prstGeom prst="line">
              <a:avLst/>
            </a:prstGeom>
            <a:ln cap="rnd" w="381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直接连接符 555"/>
            <p:cNvSpPr/>
            <p:nvPr/>
          </p:nvSpPr>
          <p:spPr>
            <a:xfrm flipV="1">
              <a:off x="8309160" y="1920600"/>
              <a:ext cx="93600" cy="2325600"/>
            </a:xfrm>
            <a:prstGeom prst="line">
              <a:avLst/>
            </a:prstGeom>
            <a:ln cap="rnd" w="381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直接连接符 556"/>
            <p:cNvSpPr/>
            <p:nvPr/>
          </p:nvSpPr>
          <p:spPr>
            <a:xfrm flipV="1">
              <a:off x="8390160" y="1908000"/>
              <a:ext cx="95040" cy="2314800"/>
            </a:xfrm>
            <a:prstGeom prst="line">
              <a:avLst/>
            </a:prstGeom>
            <a:ln cap="rnd" w="381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直接连接符 557"/>
            <p:cNvSpPr/>
            <p:nvPr/>
          </p:nvSpPr>
          <p:spPr>
            <a:xfrm flipV="1">
              <a:off x="8469360" y="1910880"/>
              <a:ext cx="102960" cy="2289240"/>
            </a:xfrm>
            <a:prstGeom prst="line">
              <a:avLst/>
            </a:prstGeom>
            <a:ln cap="rnd" w="381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直接连接符 558"/>
            <p:cNvSpPr/>
            <p:nvPr/>
          </p:nvSpPr>
          <p:spPr>
            <a:xfrm flipV="1">
              <a:off x="8548920" y="1911240"/>
              <a:ext cx="101520" cy="2278080"/>
            </a:xfrm>
            <a:prstGeom prst="line">
              <a:avLst/>
            </a:prstGeom>
            <a:ln cap="rnd" w="381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直接连接符 559"/>
            <p:cNvSpPr/>
            <p:nvPr/>
          </p:nvSpPr>
          <p:spPr>
            <a:xfrm flipV="1">
              <a:off x="8628120" y="1915920"/>
              <a:ext cx="93600" cy="2254320"/>
            </a:xfrm>
            <a:prstGeom prst="line">
              <a:avLst/>
            </a:prstGeom>
            <a:ln cap="rnd" w="381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直接连接符 560"/>
            <p:cNvSpPr/>
            <p:nvPr/>
          </p:nvSpPr>
          <p:spPr>
            <a:xfrm flipV="1">
              <a:off x="8691480" y="1922040"/>
              <a:ext cx="93600" cy="2225880"/>
            </a:xfrm>
            <a:prstGeom prst="line">
              <a:avLst/>
            </a:prstGeom>
            <a:ln cap="rnd" w="381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任意多边形 561"/>
            <p:cNvSpPr/>
            <p:nvPr/>
          </p:nvSpPr>
          <p:spPr>
            <a:xfrm>
              <a:off x="4937040" y="864720"/>
              <a:ext cx="137880" cy="3453120"/>
            </a:xfrm>
            <a:custGeom>
              <a:avLst/>
              <a:gdLst/>
              <a:ahLst/>
              <a:rect l="l" t="t" r="r" b="b"/>
              <a:pathLst>
                <a:path w="159026" h="3468756">
                  <a:moveTo>
                    <a:pt x="79513" y="0"/>
                  </a:moveTo>
                  <a:lnTo>
                    <a:pt x="0" y="3468756"/>
                  </a:lnTo>
                  <a:lnTo>
                    <a:pt x="59634" y="3458817"/>
                  </a:lnTo>
                  <a:lnTo>
                    <a:pt x="99391" y="3130826"/>
                  </a:lnTo>
                  <a:lnTo>
                    <a:pt x="159026" y="268356"/>
                  </a:lnTo>
                  <a:lnTo>
                    <a:pt x="139147" y="9939"/>
                  </a:lnTo>
                  <a:lnTo>
                    <a:pt x="79513" y="0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cap="rnd" w="25560">
              <a:solidFill>
                <a:srgbClr val="ffffff">
                  <a:alpha val="3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任意多边形 562"/>
            <p:cNvSpPr/>
            <p:nvPr/>
          </p:nvSpPr>
          <p:spPr>
            <a:xfrm>
              <a:off x="4788000" y="855360"/>
              <a:ext cx="139680" cy="3484800"/>
            </a:xfrm>
            <a:custGeom>
              <a:avLst/>
              <a:gdLst/>
              <a:ahLst/>
              <a:rect l="l" t="t" r="r" b="b"/>
              <a:pathLst>
                <a:path w="159026" h="3468756">
                  <a:moveTo>
                    <a:pt x="79513" y="0"/>
                  </a:moveTo>
                  <a:lnTo>
                    <a:pt x="0" y="3468756"/>
                  </a:lnTo>
                  <a:lnTo>
                    <a:pt x="59634" y="3458817"/>
                  </a:lnTo>
                  <a:lnTo>
                    <a:pt x="99391" y="3130826"/>
                  </a:lnTo>
                  <a:lnTo>
                    <a:pt x="159026" y="268356"/>
                  </a:lnTo>
                  <a:lnTo>
                    <a:pt x="139147" y="9939"/>
                  </a:lnTo>
                  <a:lnTo>
                    <a:pt x="79513" y="0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cap="rnd" w="25560">
              <a:solidFill>
                <a:srgbClr val="ffffff">
                  <a:alpha val="3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任意多边形 563"/>
            <p:cNvSpPr/>
            <p:nvPr/>
          </p:nvSpPr>
          <p:spPr>
            <a:xfrm>
              <a:off x="4640400" y="833040"/>
              <a:ext cx="131760" cy="3516480"/>
            </a:xfrm>
            <a:custGeom>
              <a:avLst/>
              <a:gdLst/>
              <a:ahLst/>
              <a:rect l="l" t="t" r="r" b="b"/>
              <a:pathLst>
                <a:path w="159026" h="3468756">
                  <a:moveTo>
                    <a:pt x="79513" y="0"/>
                  </a:moveTo>
                  <a:lnTo>
                    <a:pt x="0" y="3468756"/>
                  </a:lnTo>
                  <a:lnTo>
                    <a:pt x="59634" y="3458817"/>
                  </a:lnTo>
                  <a:lnTo>
                    <a:pt x="99391" y="3130826"/>
                  </a:lnTo>
                  <a:lnTo>
                    <a:pt x="159026" y="268356"/>
                  </a:lnTo>
                  <a:lnTo>
                    <a:pt x="139147" y="9939"/>
                  </a:lnTo>
                  <a:lnTo>
                    <a:pt x="79513" y="0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cap="rnd" w="25560">
              <a:solidFill>
                <a:srgbClr val="ffffff">
                  <a:alpha val="3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任意多边形 564"/>
            <p:cNvSpPr/>
            <p:nvPr/>
          </p:nvSpPr>
          <p:spPr>
            <a:xfrm>
              <a:off x="4492800" y="825120"/>
              <a:ext cx="139680" cy="3546720"/>
            </a:xfrm>
            <a:custGeom>
              <a:avLst/>
              <a:gdLst/>
              <a:ahLst/>
              <a:rect l="l" t="t" r="r" b="b"/>
              <a:pathLst>
                <a:path w="159026" h="3468756">
                  <a:moveTo>
                    <a:pt x="79513" y="0"/>
                  </a:moveTo>
                  <a:lnTo>
                    <a:pt x="0" y="3468756"/>
                  </a:lnTo>
                  <a:lnTo>
                    <a:pt x="59634" y="3458817"/>
                  </a:lnTo>
                  <a:lnTo>
                    <a:pt x="99391" y="3130826"/>
                  </a:lnTo>
                  <a:lnTo>
                    <a:pt x="159026" y="268356"/>
                  </a:lnTo>
                  <a:lnTo>
                    <a:pt x="139147" y="9939"/>
                  </a:lnTo>
                  <a:lnTo>
                    <a:pt x="79513" y="0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cap="rnd" w="25560">
              <a:solidFill>
                <a:srgbClr val="ffffff">
                  <a:alpha val="3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任意多边形 565"/>
            <p:cNvSpPr/>
            <p:nvPr/>
          </p:nvSpPr>
          <p:spPr>
            <a:xfrm>
              <a:off x="4335480" y="812520"/>
              <a:ext cx="139680" cy="3576960"/>
            </a:xfrm>
            <a:custGeom>
              <a:avLst/>
              <a:gdLst/>
              <a:ahLst/>
              <a:rect l="l" t="t" r="r" b="b"/>
              <a:pathLst>
                <a:path w="159026" h="3468756">
                  <a:moveTo>
                    <a:pt x="79513" y="0"/>
                  </a:moveTo>
                  <a:lnTo>
                    <a:pt x="0" y="3468756"/>
                  </a:lnTo>
                  <a:lnTo>
                    <a:pt x="59634" y="3458817"/>
                  </a:lnTo>
                  <a:lnTo>
                    <a:pt x="99391" y="3130826"/>
                  </a:lnTo>
                  <a:lnTo>
                    <a:pt x="159026" y="268356"/>
                  </a:lnTo>
                  <a:lnTo>
                    <a:pt x="139147" y="9939"/>
                  </a:lnTo>
                  <a:lnTo>
                    <a:pt x="79513" y="0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cap="rnd" w="25560">
              <a:solidFill>
                <a:srgbClr val="ffffff">
                  <a:alpha val="3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任意多边形 566"/>
            <p:cNvSpPr/>
            <p:nvPr/>
          </p:nvSpPr>
          <p:spPr>
            <a:xfrm>
              <a:off x="4191120" y="807840"/>
              <a:ext cx="137880" cy="3613320"/>
            </a:xfrm>
            <a:custGeom>
              <a:avLst/>
              <a:gdLst/>
              <a:ahLst/>
              <a:rect l="l" t="t" r="r" b="b"/>
              <a:pathLst>
                <a:path w="159026" h="3468756">
                  <a:moveTo>
                    <a:pt x="79513" y="0"/>
                  </a:moveTo>
                  <a:lnTo>
                    <a:pt x="0" y="3468756"/>
                  </a:lnTo>
                  <a:lnTo>
                    <a:pt x="59634" y="3458817"/>
                  </a:lnTo>
                  <a:lnTo>
                    <a:pt x="99391" y="3130826"/>
                  </a:lnTo>
                  <a:lnTo>
                    <a:pt x="159026" y="268356"/>
                  </a:lnTo>
                  <a:lnTo>
                    <a:pt x="139147" y="9939"/>
                  </a:lnTo>
                  <a:lnTo>
                    <a:pt x="79513" y="0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cap="rnd" w="25560">
              <a:solidFill>
                <a:srgbClr val="ffffff">
                  <a:alpha val="3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任意多边形 567"/>
            <p:cNvSpPr/>
            <p:nvPr/>
          </p:nvSpPr>
          <p:spPr>
            <a:xfrm>
              <a:off x="4025880" y="796680"/>
              <a:ext cx="137880" cy="3643560"/>
            </a:xfrm>
            <a:custGeom>
              <a:avLst/>
              <a:gdLst/>
              <a:ahLst/>
              <a:rect l="l" t="t" r="r" b="b"/>
              <a:pathLst>
                <a:path w="159026" h="3468756">
                  <a:moveTo>
                    <a:pt x="79513" y="0"/>
                  </a:moveTo>
                  <a:lnTo>
                    <a:pt x="0" y="3468756"/>
                  </a:lnTo>
                  <a:lnTo>
                    <a:pt x="59634" y="3458817"/>
                  </a:lnTo>
                  <a:lnTo>
                    <a:pt x="99391" y="3130826"/>
                  </a:lnTo>
                  <a:lnTo>
                    <a:pt x="159026" y="268356"/>
                  </a:lnTo>
                  <a:lnTo>
                    <a:pt x="139147" y="9939"/>
                  </a:lnTo>
                  <a:lnTo>
                    <a:pt x="79513" y="0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cap="rnd" w="25560">
              <a:solidFill>
                <a:srgbClr val="ffffff">
                  <a:alpha val="3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任意多边形 568"/>
            <p:cNvSpPr/>
            <p:nvPr/>
          </p:nvSpPr>
          <p:spPr>
            <a:xfrm>
              <a:off x="3876840" y="772920"/>
              <a:ext cx="137880" cy="3677040"/>
            </a:xfrm>
            <a:custGeom>
              <a:avLst/>
              <a:gdLst/>
              <a:ahLst/>
              <a:rect l="l" t="t" r="r" b="b"/>
              <a:pathLst>
                <a:path w="159026" h="3468756">
                  <a:moveTo>
                    <a:pt x="79513" y="0"/>
                  </a:moveTo>
                  <a:lnTo>
                    <a:pt x="0" y="3468756"/>
                  </a:lnTo>
                  <a:lnTo>
                    <a:pt x="59634" y="3458817"/>
                  </a:lnTo>
                  <a:lnTo>
                    <a:pt x="99391" y="3130826"/>
                  </a:lnTo>
                  <a:lnTo>
                    <a:pt x="159026" y="268356"/>
                  </a:lnTo>
                  <a:lnTo>
                    <a:pt x="139147" y="9939"/>
                  </a:lnTo>
                  <a:lnTo>
                    <a:pt x="79513" y="0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cap="rnd" w="25560">
              <a:solidFill>
                <a:srgbClr val="ffffff">
                  <a:alpha val="3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任意多边形 569"/>
            <p:cNvSpPr/>
            <p:nvPr/>
          </p:nvSpPr>
          <p:spPr>
            <a:xfrm>
              <a:off x="3701880" y="766440"/>
              <a:ext cx="139680" cy="3724560"/>
            </a:xfrm>
            <a:custGeom>
              <a:avLst/>
              <a:gdLst/>
              <a:ahLst/>
              <a:rect l="l" t="t" r="r" b="b"/>
              <a:pathLst>
                <a:path w="159026" h="3468756">
                  <a:moveTo>
                    <a:pt x="79513" y="0"/>
                  </a:moveTo>
                  <a:lnTo>
                    <a:pt x="0" y="3468756"/>
                  </a:lnTo>
                  <a:lnTo>
                    <a:pt x="59634" y="3458817"/>
                  </a:lnTo>
                  <a:lnTo>
                    <a:pt x="99391" y="3130826"/>
                  </a:lnTo>
                  <a:lnTo>
                    <a:pt x="159026" y="268356"/>
                  </a:lnTo>
                  <a:lnTo>
                    <a:pt x="139147" y="9939"/>
                  </a:lnTo>
                  <a:lnTo>
                    <a:pt x="79513" y="0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cap="rnd" w="25560">
              <a:solidFill>
                <a:srgbClr val="ffffff">
                  <a:alpha val="3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直接连接符 570"/>
            <p:cNvSpPr/>
            <p:nvPr/>
          </p:nvSpPr>
          <p:spPr>
            <a:xfrm>
              <a:off x="3778200" y="1104480"/>
              <a:ext cx="1290600" cy="85680"/>
            </a:xfrm>
            <a:prstGeom prst="line">
              <a:avLst/>
            </a:prstGeom>
            <a:ln cap="rnd" w="255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直接连接符 571"/>
            <p:cNvSpPr/>
            <p:nvPr/>
          </p:nvSpPr>
          <p:spPr>
            <a:xfrm>
              <a:off x="3773520" y="1661760"/>
              <a:ext cx="1292040" cy="26640"/>
            </a:xfrm>
            <a:prstGeom prst="line">
              <a:avLst/>
            </a:prstGeom>
            <a:ln cap="rnd" w="255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直接连接符 572"/>
            <p:cNvSpPr/>
            <p:nvPr/>
          </p:nvSpPr>
          <p:spPr>
            <a:xfrm>
              <a:off x="3757680" y="1974600"/>
              <a:ext cx="1292040" cy="28440"/>
            </a:xfrm>
            <a:prstGeom prst="line">
              <a:avLst/>
            </a:prstGeom>
            <a:ln cap="rnd" w="255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直接连接符 573"/>
            <p:cNvSpPr/>
            <p:nvPr/>
          </p:nvSpPr>
          <p:spPr>
            <a:xfrm flipV="1">
              <a:off x="3749760" y="2511360"/>
              <a:ext cx="1271520" cy="25200"/>
            </a:xfrm>
            <a:prstGeom prst="line">
              <a:avLst/>
            </a:prstGeom>
            <a:ln cap="rnd" w="255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直接连接符 574"/>
            <p:cNvSpPr/>
            <p:nvPr/>
          </p:nvSpPr>
          <p:spPr>
            <a:xfrm flipV="1">
              <a:off x="3736800" y="2823840"/>
              <a:ext cx="1271520" cy="50760"/>
            </a:xfrm>
            <a:prstGeom prst="line">
              <a:avLst/>
            </a:prstGeom>
            <a:ln cap="rnd" w="255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直接连接符 575"/>
            <p:cNvSpPr/>
            <p:nvPr/>
          </p:nvSpPr>
          <p:spPr>
            <a:xfrm flipV="1">
              <a:off x="3728880" y="3319560"/>
              <a:ext cx="1266840" cy="109440"/>
            </a:xfrm>
            <a:prstGeom prst="line">
              <a:avLst/>
            </a:prstGeom>
            <a:ln cap="rnd" w="255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直接连接符 576"/>
            <p:cNvSpPr/>
            <p:nvPr/>
          </p:nvSpPr>
          <p:spPr>
            <a:xfrm flipV="1">
              <a:off x="3741840" y="3621240"/>
              <a:ext cx="1242720" cy="141120"/>
            </a:xfrm>
            <a:prstGeom prst="line">
              <a:avLst/>
            </a:prstGeom>
            <a:ln cap="rnd" w="255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直接连接符 577"/>
            <p:cNvSpPr/>
            <p:nvPr/>
          </p:nvSpPr>
          <p:spPr>
            <a:xfrm flipV="1">
              <a:off x="3754440" y="4130280"/>
              <a:ext cx="1218960" cy="177480"/>
            </a:xfrm>
            <a:prstGeom prst="line">
              <a:avLst/>
            </a:prstGeom>
            <a:ln cap="rnd" w="255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任意多边形 578"/>
            <p:cNvSpPr/>
            <p:nvPr/>
          </p:nvSpPr>
          <p:spPr>
            <a:xfrm>
              <a:off x="247680" y="956880"/>
              <a:ext cx="2974680" cy="338040"/>
            </a:xfrm>
            <a:custGeom>
              <a:avLst/>
              <a:gdLst/>
              <a:ahLst/>
              <a:rect l="l" t="t" r="r" b="b"/>
              <a:pathLst>
                <a:path w="3406315" h="335047">
                  <a:moveTo>
                    <a:pt x="3406315" y="0"/>
                  </a:moveTo>
                  <a:lnTo>
                    <a:pt x="0" y="335047"/>
                  </a:lnTo>
                </a:path>
              </a:pathLst>
            </a:custGeom>
            <a:noFill/>
            <a:ln cap="rnd" w="25560">
              <a:solidFill>
                <a:srgbClr val="ffffff">
                  <a:alpha val="3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任意多边形 579"/>
            <p:cNvSpPr/>
            <p:nvPr/>
          </p:nvSpPr>
          <p:spPr>
            <a:xfrm>
              <a:off x="2844720" y="999720"/>
              <a:ext cx="153720" cy="3429360"/>
            </a:xfrm>
            <a:custGeom>
              <a:avLst/>
              <a:gdLst/>
              <a:ahLst/>
              <a:rect l="l" t="t" r="r" b="b"/>
              <a:pathLst>
                <a:path w="174504" h="3413295">
                  <a:moveTo>
                    <a:pt x="139603" y="6980"/>
                  </a:moveTo>
                  <a:lnTo>
                    <a:pt x="174504" y="153563"/>
                  </a:lnTo>
                  <a:lnTo>
                    <a:pt x="132623" y="3350473"/>
                  </a:lnTo>
                  <a:lnTo>
                    <a:pt x="34901" y="3413295"/>
                  </a:lnTo>
                  <a:lnTo>
                    <a:pt x="0" y="3399334"/>
                  </a:lnTo>
                  <a:lnTo>
                    <a:pt x="41881" y="0"/>
                  </a:lnTo>
                  <a:lnTo>
                    <a:pt x="139603" y="6980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cap="rnd" w="25560">
              <a:solidFill>
                <a:srgbClr val="ffffff">
                  <a:alpha val="3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任意多边形 580"/>
            <p:cNvSpPr/>
            <p:nvPr/>
          </p:nvSpPr>
          <p:spPr>
            <a:xfrm>
              <a:off x="2473200" y="1036440"/>
              <a:ext cx="109440" cy="3245040"/>
            </a:xfrm>
            <a:custGeom>
              <a:avLst/>
              <a:gdLst/>
              <a:ahLst/>
              <a:rect l="l" t="t" r="r" b="b"/>
              <a:pathLst>
                <a:path w="127970" h="3231810">
                  <a:moveTo>
                    <a:pt x="2327" y="3231810"/>
                  </a:moveTo>
                  <a:lnTo>
                    <a:pt x="107029" y="3175969"/>
                  </a:lnTo>
                  <a:lnTo>
                    <a:pt x="127970" y="146583"/>
                  </a:lnTo>
                  <a:lnTo>
                    <a:pt x="107029" y="0"/>
                  </a:lnTo>
                  <a:lnTo>
                    <a:pt x="9307" y="13960"/>
                  </a:lnTo>
                  <a:cubicBezTo>
                    <a:pt x="4654" y="1086577"/>
                    <a:pt x="0" y="2159193"/>
                    <a:pt x="2327" y="3231810"/>
                  </a:cubicBez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cap="rnd" w="25560">
              <a:solidFill>
                <a:srgbClr val="ffffff">
                  <a:alpha val="3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任意多边形 581"/>
            <p:cNvSpPr/>
            <p:nvPr/>
          </p:nvSpPr>
          <p:spPr>
            <a:xfrm>
              <a:off x="1492200" y="1152360"/>
              <a:ext cx="95040" cy="2773440"/>
            </a:xfrm>
            <a:custGeom>
              <a:avLst/>
              <a:gdLst/>
              <a:ahLst/>
              <a:rect l="l" t="t" r="r" b="b"/>
              <a:pathLst>
                <a:path w="111683" h="2757161">
                  <a:moveTo>
                    <a:pt x="0" y="6981"/>
                  </a:moveTo>
                  <a:lnTo>
                    <a:pt x="0" y="2757161"/>
                  </a:lnTo>
                  <a:lnTo>
                    <a:pt x="76782" y="2722260"/>
                  </a:lnTo>
                  <a:lnTo>
                    <a:pt x="111683" y="2673399"/>
                  </a:lnTo>
                  <a:cubicBezTo>
                    <a:pt x="109356" y="1807860"/>
                    <a:pt x="107030" y="942321"/>
                    <a:pt x="104703" y="76782"/>
                  </a:cubicBezTo>
                  <a:lnTo>
                    <a:pt x="83762" y="0"/>
                  </a:lnTo>
                  <a:lnTo>
                    <a:pt x="0" y="6981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cap="rnd" w="25560">
              <a:solidFill>
                <a:srgbClr val="ffffff">
                  <a:alpha val="3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任意多边形 582"/>
            <p:cNvSpPr/>
            <p:nvPr/>
          </p:nvSpPr>
          <p:spPr>
            <a:xfrm>
              <a:off x="2108160" y="1091880"/>
              <a:ext cx="107640" cy="3056040"/>
            </a:xfrm>
            <a:custGeom>
              <a:avLst/>
              <a:gdLst/>
              <a:ahLst/>
              <a:rect l="l" t="t" r="r" b="b"/>
              <a:pathLst>
                <a:path w="125643" h="3043347">
                  <a:moveTo>
                    <a:pt x="0" y="3043347"/>
                  </a:moveTo>
                  <a:lnTo>
                    <a:pt x="104702" y="2973545"/>
                  </a:lnTo>
                  <a:lnTo>
                    <a:pt x="118662" y="2952605"/>
                  </a:lnTo>
                  <a:lnTo>
                    <a:pt x="125643" y="76782"/>
                  </a:lnTo>
                  <a:lnTo>
                    <a:pt x="90742" y="0"/>
                  </a:lnTo>
                  <a:lnTo>
                    <a:pt x="6980" y="0"/>
                  </a:lnTo>
                  <a:cubicBezTo>
                    <a:pt x="4653" y="1007469"/>
                    <a:pt x="2327" y="2014937"/>
                    <a:pt x="0" y="3043347"/>
                  </a:cubicBez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cap="rnd" w="25560">
              <a:solidFill>
                <a:srgbClr val="ffffff">
                  <a:alpha val="3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任意多边形 583"/>
            <p:cNvSpPr/>
            <p:nvPr/>
          </p:nvSpPr>
          <p:spPr>
            <a:xfrm>
              <a:off x="1784160" y="1133280"/>
              <a:ext cx="96480" cy="2903760"/>
            </a:xfrm>
            <a:custGeom>
              <a:avLst/>
              <a:gdLst/>
              <a:ahLst/>
              <a:rect l="l" t="t" r="r" b="b"/>
              <a:pathLst>
                <a:path w="125643" h="3043347">
                  <a:moveTo>
                    <a:pt x="0" y="3043347"/>
                  </a:moveTo>
                  <a:lnTo>
                    <a:pt x="104702" y="2973545"/>
                  </a:lnTo>
                  <a:lnTo>
                    <a:pt x="118662" y="2952605"/>
                  </a:lnTo>
                  <a:lnTo>
                    <a:pt x="125643" y="76782"/>
                  </a:lnTo>
                  <a:lnTo>
                    <a:pt x="90742" y="0"/>
                  </a:lnTo>
                  <a:lnTo>
                    <a:pt x="6980" y="0"/>
                  </a:lnTo>
                  <a:cubicBezTo>
                    <a:pt x="4653" y="1007469"/>
                    <a:pt x="2327" y="2014937"/>
                    <a:pt x="0" y="3043347"/>
                  </a:cubicBez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cap="rnd" w="25560">
              <a:solidFill>
                <a:srgbClr val="ffffff">
                  <a:alpha val="3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任意多边形 584"/>
            <p:cNvSpPr/>
            <p:nvPr/>
          </p:nvSpPr>
          <p:spPr>
            <a:xfrm>
              <a:off x="1209600" y="1204560"/>
              <a:ext cx="91800" cy="2621160"/>
            </a:xfrm>
            <a:custGeom>
              <a:avLst/>
              <a:gdLst/>
              <a:ahLst/>
              <a:rect l="l" t="t" r="r" b="b"/>
              <a:pathLst>
                <a:path w="111683" h="2757161">
                  <a:moveTo>
                    <a:pt x="0" y="6981"/>
                  </a:moveTo>
                  <a:lnTo>
                    <a:pt x="0" y="2757161"/>
                  </a:lnTo>
                  <a:lnTo>
                    <a:pt x="76782" y="2722260"/>
                  </a:lnTo>
                  <a:lnTo>
                    <a:pt x="111683" y="2673399"/>
                  </a:lnTo>
                  <a:cubicBezTo>
                    <a:pt x="109356" y="1807860"/>
                    <a:pt x="107030" y="942321"/>
                    <a:pt x="104703" y="76782"/>
                  </a:cubicBezTo>
                  <a:lnTo>
                    <a:pt x="83762" y="0"/>
                  </a:lnTo>
                  <a:lnTo>
                    <a:pt x="0" y="6981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cap="rnd" w="25560">
              <a:solidFill>
                <a:srgbClr val="ffffff">
                  <a:alpha val="3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任意多边形 585"/>
            <p:cNvSpPr/>
            <p:nvPr/>
          </p:nvSpPr>
          <p:spPr>
            <a:xfrm>
              <a:off x="1003320" y="1223640"/>
              <a:ext cx="79200" cy="2509920"/>
            </a:xfrm>
            <a:custGeom>
              <a:avLst/>
              <a:gdLst/>
              <a:ahLst/>
              <a:rect l="l" t="t" r="r" b="b"/>
              <a:pathLst>
                <a:path w="111683" h="2757161">
                  <a:moveTo>
                    <a:pt x="0" y="6981"/>
                  </a:moveTo>
                  <a:lnTo>
                    <a:pt x="0" y="2757161"/>
                  </a:lnTo>
                  <a:lnTo>
                    <a:pt x="76782" y="2722260"/>
                  </a:lnTo>
                  <a:lnTo>
                    <a:pt x="111683" y="2673399"/>
                  </a:lnTo>
                  <a:cubicBezTo>
                    <a:pt x="109356" y="1807860"/>
                    <a:pt x="107030" y="942321"/>
                    <a:pt x="104703" y="76782"/>
                  </a:cubicBezTo>
                  <a:lnTo>
                    <a:pt x="83762" y="0"/>
                  </a:lnTo>
                  <a:lnTo>
                    <a:pt x="0" y="6981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cap="rnd" w="25560">
              <a:solidFill>
                <a:srgbClr val="ffffff">
                  <a:alpha val="3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任意多边形 586"/>
            <p:cNvSpPr/>
            <p:nvPr/>
          </p:nvSpPr>
          <p:spPr>
            <a:xfrm>
              <a:off x="785880" y="1253880"/>
              <a:ext cx="82440" cy="2397240"/>
            </a:xfrm>
            <a:custGeom>
              <a:avLst/>
              <a:gdLst/>
              <a:ahLst/>
              <a:rect l="l" t="t" r="r" b="b"/>
              <a:pathLst>
                <a:path w="111683" h="2757161">
                  <a:moveTo>
                    <a:pt x="0" y="6981"/>
                  </a:moveTo>
                  <a:lnTo>
                    <a:pt x="0" y="2757161"/>
                  </a:lnTo>
                  <a:lnTo>
                    <a:pt x="76782" y="2722260"/>
                  </a:lnTo>
                  <a:lnTo>
                    <a:pt x="111683" y="2673399"/>
                  </a:lnTo>
                  <a:cubicBezTo>
                    <a:pt x="109356" y="1807860"/>
                    <a:pt x="107030" y="942321"/>
                    <a:pt x="104703" y="76782"/>
                  </a:cubicBezTo>
                  <a:lnTo>
                    <a:pt x="83762" y="0"/>
                  </a:lnTo>
                  <a:lnTo>
                    <a:pt x="0" y="6981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cap="rnd" w="25560">
              <a:solidFill>
                <a:srgbClr val="ffffff">
                  <a:alpha val="3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任意多边形 587"/>
            <p:cNvSpPr/>
            <p:nvPr/>
          </p:nvSpPr>
          <p:spPr>
            <a:xfrm>
              <a:off x="569880" y="1272960"/>
              <a:ext cx="68040" cy="2293920"/>
            </a:xfrm>
            <a:custGeom>
              <a:avLst/>
              <a:gdLst/>
              <a:ahLst/>
              <a:rect l="l" t="t" r="r" b="b"/>
              <a:pathLst>
                <a:path w="111683" h="2757161">
                  <a:moveTo>
                    <a:pt x="0" y="6981"/>
                  </a:moveTo>
                  <a:lnTo>
                    <a:pt x="0" y="2757161"/>
                  </a:lnTo>
                  <a:lnTo>
                    <a:pt x="76782" y="2722260"/>
                  </a:lnTo>
                  <a:lnTo>
                    <a:pt x="111683" y="2673399"/>
                  </a:lnTo>
                  <a:cubicBezTo>
                    <a:pt x="109356" y="1807860"/>
                    <a:pt x="107030" y="942321"/>
                    <a:pt x="104703" y="76782"/>
                  </a:cubicBezTo>
                  <a:lnTo>
                    <a:pt x="83762" y="0"/>
                  </a:lnTo>
                  <a:lnTo>
                    <a:pt x="0" y="6981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cap="rnd" w="25560">
              <a:solidFill>
                <a:srgbClr val="ffffff">
                  <a:alpha val="3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任意多边形 588"/>
            <p:cNvSpPr/>
            <p:nvPr/>
          </p:nvSpPr>
          <p:spPr>
            <a:xfrm>
              <a:off x="374760" y="1288800"/>
              <a:ext cx="69840" cy="2228760"/>
            </a:xfrm>
            <a:custGeom>
              <a:avLst/>
              <a:gdLst/>
              <a:ahLst/>
              <a:rect l="l" t="t" r="r" b="b"/>
              <a:pathLst>
                <a:path w="111683" h="2757161">
                  <a:moveTo>
                    <a:pt x="0" y="6981"/>
                  </a:moveTo>
                  <a:lnTo>
                    <a:pt x="0" y="2757161"/>
                  </a:lnTo>
                  <a:lnTo>
                    <a:pt x="76782" y="2722260"/>
                  </a:lnTo>
                  <a:lnTo>
                    <a:pt x="111683" y="2673399"/>
                  </a:lnTo>
                  <a:cubicBezTo>
                    <a:pt x="109356" y="1807860"/>
                    <a:pt x="107030" y="942321"/>
                    <a:pt x="104703" y="76782"/>
                  </a:cubicBezTo>
                  <a:lnTo>
                    <a:pt x="83762" y="0"/>
                  </a:lnTo>
                  <a:lnTo>
                    <a:pt x="0" y="6981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cap="rnd" w="25560">
              <a:solidFill>
                <a:srgbClr val="ffffff">
                  <a:alpha val="3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直接连接符 589"/>
            <p:cNvSpPr/>
            <p:nvPr/>
          </p:nvSpPr>
          <p:spPr>
            <a:xfrm flipV="1">
              <a:off x="279360" y="1631880"/>
              <a:ext cx="2925720" cy="63360"/>
            </a:xfrm>
            <a:prstGeom prst="line">
              <a:avLst/>
            </a:prstGeom>
            <a:ln cap="rnd" w="255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直接连接符 590"/>
            <p:cNvSpPr/>
            <p:nvPr/>
          </p:nvSpPr>
          <p:spPr>
            <a:xfrm>
              <a:off x="271440" y="1906560"/>
              <a:ext cx="2928960" cy="60120"/>
            </a:xfrm>
            <a:prstGeom prst="line">
              <a:avLst/>
            </a:prstGeom>
            <a:ln cap="rnd" w="255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直接连接符 591"/>
            <p:cNvSpPr/>
            <p:nvPr/>
          </p:nvSpPr>
          <p:spPr>
            <a:xfrm>
              <a:off x="279360" y="2233440"/>
              <a:ext cx="2921040" cy="288720"/>
            </a:xfrm>
            <a:prstGeom prst="line">
              <a:avLst/>
            </a:prstGeom>
            <a:ln cap="rnd" w="255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直接连接符 592"/>
            <p:cNvSpPr/>
            <p:nvPr/>
          </p:nvSpPr>
          <p:spPr>
            <a:xfrm>
              <a:off x="271440" y="2436840"/>
              <a:ext cx="2928960" cy="420480"/>
            </a:xfrm>
            <a:prstGeom prst="line">
              <a:avLst/>
            </a:prstGeom>
            <a:ln cap="rnd" w="255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直接连接符 593"/>
            <p:cNvSpPr/>
            <p:nvPr/>
          </p:nvSpPr>
          <p:spPr>
            <a:xfrm>
              <a:off x="284040" y="2765520"/>
              <a:ext cx="2916000" cy="633240"/>
            </a:xfrm>
            <a:prstGeom prst="line">
              <a:avLst/>
            </a:prstGeom>
            <a:ln cap="rnd" w="255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直接连接符 594"/>
            <p:cNvSpPr/>
            <p:nvPr/>
          </p:nvSpPr>
          <p:spPr>
            <a:xfrm>
              <a:off x="284040" y="2976480"/>
              <a:ext cx="2909880" cy="766800"/>
            </a:xfrm>
            <a:prstGeom prst="line">
              <a:avLst/>
            </a:prstGeom>
            <a:ln cap="rnd" w="255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直接连接符 595"/>
            <p:cNvSpPr/>
            <p:nvPr/>
          </p:nvSpPr>
          <p:spPr>
            <a:xfrm flipH="1" flipV="1">
              <a:off x="279360" y="3284280"/>
              <a:ext cx="2906640" cy="1004760"/>
            </a:xfrm>
            <a:prstGeom prst="line">
              <a:avLst/>
            </a:prstGeom>
            <a:ln cap="rnd" w="255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直接连接符 596"/>
            <p:cNvSpPr/>
            <p:nvPr/>
          </p:nvSpPr>
          <p:spPr>
            <a:xfrm flipH="1" flipV="1">
              <a:off x="2025360" y="4524120"/>
              <a:ext cx="6120" cy="571320"/>
            </a:xfrm>
            <a:prstGeom prst="line">
              <a:avLst/>
            </a:prstGeom>
            <a:ln cap="rnd" w="255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直接连接符 597"/>
            <p:cNvSpPr/>
            <p:nvPr/>
          </p:nvSpPr>
          <p:spPr>
            <a:xfrm flipV="1">
              <a:off x="2184480" y="4587840"/>
              <a:ext cx="0" cy="465120"/>
            </a:xfrm>
            <a:prstGeom prst="line">
              <a:avLst/>
            </a:prstGeom>
            <a:ln cap="rnd" w="255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直接连接符 598"/>
            <p:cNvSpPr/>
            <p:nvPr/>
          </p:nvSpPr>
          <p:spPr>
            <a:xfrm flipH="1" flipV="1">
              <a:off x="1979280" y="4501800"/>
              <a:ext cx="6120" cy="569880"/>
            </a:xfrm>
            <a:prstGeom prst="line">
              <a:avLst/>
            </a:prstGeom>
            <a:ln cap="rnd" w="255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直接连接符 599"/>
            <p:cNvSpPr/>
            <p:nvPr/>
          </p:nvSpPr>
          <p:spPr>
            <a:xfrm>
              <a:off x="1979640" y="4507200"/>
              <a:ext cx="48960" cy="18720"/>
            </a:xfrm>
            <a:prstGeom prst="line">
              <a:avLst/>
            </a:prstGeom>
            <a:ln cap="rnd" w="255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直接连接符 600"/>
            <p:cNvSpPr/>
            <p:nvPr/>
          </p:nvSpPr>
          <p:spPr>
            <a:xfrm>
              <a:off x="1984320" y="5077080"/>
              <a:ext cx="47520" cy="18720"/>
            </a:xfrm>
            <a:prstGeom prst="line">
              <a:avLst/>
            </a:prstGeom>
            <a:ln cap="rnd" w="255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直接连接符 601"/>
            <p:cNvSpPr/>
            <p:nvPr/>
          </p:nvSpPr>
          <p:spPr>
            <a:xfrm flipV="1">
              <a:off x="2036880" y="5052960"/>
              <a:ext cx="150480" cy="42840"/>
            </a:xfrm>
            <a:prstGeom prst="line">
              <a:avLst/>
            </a:prstGeom>
            <a:ln cap="rnd" w="255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直接连接符 602"/>
            <p:cNvSpPr/>
            <p:nvPr/>
          </p:nvSpPr>
          <p:spPr>
            <a:xfrm flipH="1" flipV="1">
              <a:off x="2399760" y="4700880"/>
              <a:ext cx="6120" cy="598320"/>
            </a:xfrm>
            <a:prstGeom prst="line">
              <a:avLst/>
            </a:prstGeom>
            <a:ln cap="rnd" w="255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直接连接符 603"/>
            <p:cNvSpPr/>
            <p:nvPr/>
          </p:nvSpPr>
          <p:spPr>
            <a:xfrm flipV="1">
              <a:off x="2557440" y="4768560"/>
              <a:ext cx="0" cy="487080"/>
            </a:xfrm>
            <a:prstGeom prst="line">
              <a:avLst/>
            </a:prstGeom>
            <a:ln cap="rnd" w="255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直接连接符 604"/>
            <p:cNvSpPr/>
            <p:nvPr/>
          </p:nvSpPr>
          <p:spPr>
            <a:xfrm flipH="1" flipV="1">
              <a:off x="2355480" y="4676760"/>
              <a:ext cx="6120" cy="598320"/>
            </a:xfrm>
            <a:prstGeom prst="line">
              <a:avLst/>
            </a:prstGeom>
            <a:ln cap="rnd" w="255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直接连接符 605"/>
            <p:cNvSpPr/>
            <p:nvPr/>
          </p:nvSpPr>
          <p:spPr>
            <a:xfrm>
              <a:off x="2355840" y="4683240"/>
              <a:ext cx="47520" cy="21960"/>
            </a:xfrm>
            <a:prstGeom prst="line">
              <a:avLst/>
            </a:prstGeom>
            <a:ln cap="rnd" w="255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直接连接符 606"/>
            <p:cNvSpPr/>
            <p:nvPr/>
          </p:nvSpPr>
          <p:spPr>
            <a:xfrm>
              <a:off x="2357280" y="5280120"/>
              <a:ext cx="48960" cy="18720"/>
            </a:xfrm>
            <a:prstGeom prst="line">
              <a:avLst/>
            </a:prstGeom>
            <a:ln cap="rnd" w="255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直接连接符 607"/>
            <p:cNvSpPr/>
            <p:nvPr/>
          </p:nvSpPr>
          <p:spPr>
            <a:xfrm flipV="1">
              <a:off x="2411280" y="5256000"/>
              <a:ext cx="153720" cy="42840"/>
            </a:xfrm>
            <a:prstGeom prst="line">
              <a:avLst/>
            </a:prstGeom>
            <a:ln cap="rnd" w="255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直接连接符 608"/>
            <p:cNvSpPr/>
            <p:nvPr/>
          </p:nvSpPr>
          <p:spPr>
            <a:xfrm flipH="1" flipV="1">
              <a:off x="2814120" y="4873680"/>
              <a:ext cx="4680" cy="628560"/>
            </a:xfrm>
            <a:prstGeom prst="line">
              <a:avLst/>
            </a:prstGeom>
            <a:ln cap="rnd" w="255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直接连接符 609"/>
            <p:cNvSpPr/>
            <p:nvPr/>
          </p:nvSpPr>
          <p:spPr>
            <a:xfrm flipH="1" flipV="1">
              <a:off x="2771280" y="4848480"/>
              <a:ext cx="4680" cy="628560"/>
            </a:xfrm>
            <a:prstGeom prst="line">
              <a:avLst/>
            </a:prstGeom>
            <a:ln cap="rnd" w="255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直接连接符 610"/>
            <p:cNvSpPr/>
            <p:nvPr/>
          </p:nvSpPr>
          <p:spPr>
            <a:xfrm>
              <a:off x="2771640" y="4854600"/>
              <a:ext cx="44280" cy="25200"/>
            </a:xfrm>
            <a:prstGeom prst="line">
              <a:avLst/>
            </a:prstGeom>
            <a:ln cap="rnd" w="255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直接连接符 611"/>
            <p:cNvSpPr/>
            <p:nvPr/>
          </p:nvSpPr>
          <p:spPr>
            <a:xfrm>
              <a:off x="2771640" y="5480280"/>
              <a:ext cx="47520" cy="21960"/>
            </a:xfrm>
            <a:prstGeom prst="line">
              <a:avLst/>
            </a:prstGeom>
            <a:ln cap="rnd" w="255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直接连接符 612"/>
            <p:cNvSpPr/>
            <p:nvPr/>
          </p:nvSpPr>
          <p:spPr>
            <a:xfrm flipV="1">
              <a:off x="2824200" y="5456160"/>
              <a:ext cx="137880" cy="45720"/>
            </a:xfrm>
            <a:prstGeom prst="line">
              <a:avLst/>
            </a:prstGeom>
            <a:ln cap="rnd" w="255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直接连接符 613"/>
            <p:cNvSpPr/>
            <p:nvPr/>
          </p:nvSpPr>
          <p:spPr>
            <a:xfrm>
              <a:off x="4587840" y="4732560"/>
              <a:ext cx="110880" cy="23760"/>
            </a:xfrm>
            <a:prstGeom prst="line">
              <a:avLst/>
            </a:prstGeom>
            <a:ln cap="rnd" w="255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直接连接符 614"/>
            <p:cNvSpPr/>
            <p:nvPr/>
          </p:nvSpPr>
          <p:spPr>
            <a:xfrm flipH="1">
              <a:off x="4584600" y="4732560"/>
              <a:ext cx="7920" cy="577800"/>
            </a:xfrm>
            <a:prstGeom prst="line">
              <a:avLst/>
            </a:prstGeom>
            <a:ln cap="rnd" w="255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直接连接符 615"/>
            <p:cNvSpPr/>
            <p:nvPr/>
          </p:nvSpPr>
          <p:spPr>
            <a:xfrm flipH="1">
              <a:off x="4697280" y="4764240"/>
              <a:ext cx="7920" cy="573120"/>
            </a:xfrm>
            <a:prstGeom prst="line">
              <a:avLst/>
            </a:prstGeom>
            <a:ln cap="rnd" w="255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直接连接符 616"/>
            <p:cNvSpPr/>
            <p:nvPr/>
          </p:nvSpPr>
          <p:spPr>
            <a:xfrm flipV="1">
              <a:off x="4705200" y="4735800"/>
              <a:ext cx="80640" cy="17280"/>
            </a:xfrm>
            <a:prstGeom prst="line">
              <a:avLst/>
            </a:prstGeom>
            <a:ln cap="rnd" w="255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直接连接符 617"/>
            <p:cNvSpPr/>
            <p:nvPr/>
          </p:nvSpPr>
          <p:spPr>
            <a:xfrm flipH="1">
              <a:off x="4783320" y="4735800"/>
              <a:ext cx="2880" cy="552240"/>
            </a:xfrm>
            <a:prstGeom prst="line">
              <a:avLst/>
            </a:prstGeom>
            <a:ln cap="rnd" w="255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直接连接符 618"/>
            <p:cNvSpPr/>
            <p:nvPr/>
          </p:nvSpPr>
          <p:spPr>
            <a:xfrm>
              <a:off x="4579920" y="5310360"/>
              <a:ext cx="112680" cy="28440"/>
            </a:xfrm>
            <a:prstGeom prst="line">
              <a:avLst/>
            </a:prstGeom>
            <a:ln cap="rnd" w="255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直接连接符 619"/>
            <p:cNvSpPr/>
            <p:nvPr/>
          </p:nvSpPr>
          <p:spPr>
            <a:xfrm flipV="1">
              <a:off x="4697280" y="5289840"/>
              <a:ext cx="85680" cy="47520"/>
            </a:xfrm>
            <a:prstGeom prst="line">
              <a:avLst/>
            </a:prstGeom>
            <a:ln cap="rnd" w="255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直接连接符 620"/>
            <p:cNvSpPr/>
            <p:nvPr/>
          </p:nvSpPr>
          <p:spPr>
            <a:xfrm>
              <a:off x="5013360" y="4658040"/>
              <a:ext cx="109440" cy="25200"/>
            </a:xfrm>
            <a:prstGeom prst="line">
              <a:avLst/>
            </a:prstGeom>
            <a:ln cap="rnd" w="255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直接连接符 621"/>
            <p:cNvSpPr/>
            <p:nvPr/>
          </p:nvSpPr>
          <p:spPr>
            <a:xfrm flipH="1">
              <a:off x="5008680" y="4658040"/>
              <a:ext cx="7920" cy="576000"/>
            </a:xfrm>
            <a:prstGeom prst="line">
              <a:avLst/>
            </a:prstGeom>
            <a:ln cap="rnd" w="255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直接连接符 622"/>
            <p:cNvSpPr/>
            <p:nvPr/>
          </p:nvSpPr>
          <p:spPr>
            <a:xfrm flipH="1">
              <a:off x="5119560" y="4687920"/>
              <a:ext cx="9360" cy="573120"/>
            </a:xfrm>
            <a:prstGeom prst="line">
              <a:avLst/>
            </a:prstGeom>
            <a:ln cap="rnd" w="255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直接连接符 623"/>
            <p:cNvSpPr/>
            <p:nvPr/>
          </p:nvSpPr>
          <p:spPr>
            <a:xfrm flipV="1">
              <a:off x="5129280" y="4662720"/>
              <a:ext cx="83880" cy="17280"/>
            </a:xfrm>
            <a:prstGeom prst="line">
              <a:avLst/>
            </a:prstGeom>
            <a:ln cap="rnd" w="255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直接连接符 624"/>
            <p:cNvSpPr/>
            <p:nvPr/>
          </p:nvSpPr>
          <p:spPr>
            <a:xfrm flipH="1">
              <a:off x="5206680" y="4662720"/>
              <a:ext cx="6120" cy="550800"/>
            </a:xfrm>
            <a:prstGeom prst="line">
              <a:avLst/>
            </a:prstGeom>
            <a:ln cap="rnd" w="255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直接连接符 625"/>
            <p:cNvSpPr/>
            <p:nvPr/>
          </p:nvSpPr>
          <p:spPr>
            <a:xfrm>
              <a:off x="5002200" y="5234040"/>
              <a:ext cx="114120" cy="29880"/>
            </a:xfrm>
            <a:prstGeom prst="line">
              <a:avLst/>
            </a:prstGeom>
            <a:ln cap="rnd" w="255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直接连接符 626"/>
            <p:cNvSpPr/>
            <p:nvPr/>
          </p:nvSpPr>
          <p:spPr>
            <a:xfrm flipV="1">
              <a:off x="5119560" y="5214960"/>
              <a:ext cx="87120" cy="45720"/>
            </a:xfrm>
            <a:prstGeom prst="line">
              <a:avLst/>
            </a:prstGeom>
            <a:ln cap="rnd" w="255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直接连接符 627"/>
            <p:cNvSpPr/>
            <p:nvPr/>
          </p:nvSpPr>
          <p:spPr>
            <a:xfrm>
              <a:off x="5446800" y="4559400"/>
              <a:ext cx="98280" cy="25200"/>
            </a:xfrm>
            <a:prstGeom prst="line">
              <a:avLst/>
            </a:prstGeom>
            <a:ln cap="rnd" w="255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直接连接符 628"/>
            <p:cNvSpPr/>
            <p:nvPr/>
          </p:nvSpPr>
          <p:spPr>
            <a:xfrm flipH="1">
              <a:off x="5442120" y="4559400"/>
              <a:ext cx="9360" cy="582480"/>
            </a:xfrm>
            <a:prstGeom prst="line">
              <a:avLst/>
            </a:prstGeom>
            <a:ln cap="rnd" w="255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直接连接符 629"/>
            <p:cNvSpPr/>
            <p:nvPr/>
          </p:nvSpPr>
          <p:spPr>
            <a:xfrm flipH="1">
              <a:off x="5527800" y="4579920"/>
              <a:ext cx="15840" cy="588960"/>
            </a:xfrm>
            <a:prstGeom prst="line">
              <a:avLst/>
            </a:prstGeom>
            <a:ln cap="rnd" w="255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直接连接符 630"/>
            <p:cNvSpPr/>
            <p:nvPr/>
          </p:nvSpPr>
          <p:spPr>
            <a:xfrm>
              <a:off x="5437080" y="5142240"/>
              <a:ext cx="85680" cy="26640"/>
            </a:xfrm>
            <a:prstGeom prst="line">
              <a:avLst/>
            </a:prstGeom>
            <a:ln cap="rnd" w="255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直接连接符 631"/>
            <p:cNvSpPr/>
            <p:nvPr/>
          </p:nvSpPr>
          <p:spPr>
            <a:xfrm flipV="1">
              <a:off x="5532480" y="5163840"/>
              <a:ext cx="25200" cy="4680"/>
            </a:xfrm>
            <a:prstGeom prst="line">
              <a:avLst/>
            </a:prstGeom>
            <a:ln cap="rnd" w="255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直接连接符 632"/>
            <p:cNvSpPr/>
            <p:nvPr/>
          </p:nvSpPr>
          <p:spPr>
            <a:xfrm flipV="1">
              <a:off x="5543640" y="4571640"/>
              <a:ext cx="36360" cy="12600"/>
            </a:xfrm>
            <a:prstGeom prst="line">
              <a:avLst/>
            </a:prstGeom>
            <a:ln cap="rnd" w="255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直接连接符 633"/>
            <p:cNvSpPr/>
            <p:nvPr/>
          </p:nvSpPr>
          <p:spPr>
            <a:xfrm flipH="1">
              <a:off x="5565600" y="4569120"/>
              <a:ext cx="14040" cy="588960"/>
            </a:xfrm>
            <a:prstGeom prst="line">
              <a:avLst/>
            </a:prstGeom>
            <a:ln cap="rnd" w="255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直接连接符 634"/>
            <p:cNvSpPr/>
            <p:nvPr/>
          </p:nvSpPr>
          <p:spPr>
            <a:xfrm>
              <a:off x="4129200" y="4818240"/>
              <a:ext cx="110880" cy="26640"/>
            </a:xfrm>
            <a:prstGeom prst="line">
              <a:avLst/>
            </a:prstGeom>
            <a:ln cap="rnd" w="255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直接连接符 635"/>
            <p:cNvSpPr/>
            <p:nvPr/>
          </p:nvSpPr>
          <p:spPr>
            <a:xfrm flipH="1">
              <a:off x="4122720" y="4818240"/>
              <a:ext cx="9360" cy="581040"/>
            </a:xfrm>
            <a:prstGeom prst="line">
              <a:avLst/>
            </a:prstGeom>
            <a:ln cap="rnd" w="255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直接连接符 636"/>
            <p:cNvSpPr/>
            <p:nvPr/>
          </p:nvSpPr>
          <p:spPr>
            <a:xfrm flipH="1">
              <a:off x="4235400" y="4853160"/>
              <a:ext cx="7920" cy="574560"/>
            </a:xfrm>
            <a:prstGeom prst="line">
              <a:avLst/>
            </a:prstGeom>
            <a:ln cap="rnd" w="255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直接连接符 637"/>
            <p:cNvSpPr/>
            <p:nvPr/>
          </p:nvSpPr>
          <p:spPr>
            <a:xfrm flipV="1">
              <a:off x="4243320" y="4825800"/>
              <a:ext cx="83880" cy="14040"/>
            </a:xfrm>
            <a:prstGeom prst="line">
              <a:avLst/>
            </a:prstGeom>
            <a:ln cap="rnd" w="255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直接连接符 638"/>
            <p:cNvSpPr/>
            <p:nvPr/>
          </p:nvSpPr>
          <p:spPr>
            <a:xfrm flipH="1">
              <a:off x="4322520" y="4826160"/>
              <a:ext cx="4680" cy="549000"/>
            </a:xfrm>
            <a:prstGeom prst="line">
              <a:avLst/>
            </a:prstGeom>
            <a:ln cap="rnd" w="255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直接连接符 639"/>
            <p:cNvSpPr/>
            <p:nvPr/>
          </p:nvSpPr>
          <p:spPr>
            <a:xfrm>
              <a:off x="4118040" y="5399280"/>
              <a:ext cx="112680" cy="31680"/>
            </a:xfrm>
            <a:prstGeom prst="line">
              <a:avLst/>
            </a:prstGeom>
            <a:ln cap="rnd" w="255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直接连接符 640"/>
            <p:cNvSpPr/>
            <p:nvPr/>
          </p:nvSpPr>
          <p:spPr>
            <a:xfrm flipV="1">
              <a:off x="4235400" y="5378760"/>
              <a:ext cx="87120" cy="48960"/>
            </a:xfrm>
            <a:prstGeom prst="line">
              <a:avLst/>
            </a:prstGeom>
            <a:ln cap="rnd" w="255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直接连接符 641"/>
            <p:cNvSpPr/>
            <p:nvPr/>
          </p:nvSpPr>
          <p:spPr>
            <a:xfrm>
              <a:off x="3643200" y="4910400"/>
              <a:ext cx="112680" cy="28440"/>
            </a:xfrm>
            <a:prstGeom prst="line">
              <a:avLst/>
            </a:prstGeom>
            <a:ln cap="rnd" w="255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直接连接符 642"/>
            <p:cNvSpPr/>
            <p:nvPr/>
          </p:nvSpPr>
          <p:spPr>
            <a:xfrm flipH="1">
              <a:off x="3638160" y="4910400"/>
              <a:ext cx="12600" cy="582480"/>
            </a:xfrm>
            <a:prstGeom prst="line">
              <a:avLst/>
            </a:prstGeom>
            <a:ln cap="rnd" w="255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直接连接符 643"/>
            <p:cNvSpPr/>
            <p:nvPr/>
          </p:nvSpPr>
          <p:spPr>
            <a:xfrm flipH="1">
              <a:off x="3753000" y="4945320"/>
              <a:ext cx="9360" cy="574560"/>
            </a:xfrm>
            <a:prstGeom prst="line">
              <a:avLst/>
            </a:prstGeom>
            <a:ln cap="rnd" w="255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直接连接符 644"/>
            <p:cNvSpPr/>
            <p:nvPr/>
          </p:nvSpPr>
          <p:spPr>
            <a:xfrm flipV="1">
              <a:off x="3762360" y="4918320"/>
              <a:ext cx="80640" cy="17280"/>
            </a:xfrm>
            <a:prstGeom prst="line">
              <a:avLst/>
            </a:prstGeom>
            <a:ln cap="rnd" w="255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直接连接符 645"/>
            <p:cNvSpPr/>
            <p:nvPr/>
          </p:nvSpPr>
          <p:spPr>
            <a:xfrm flipH="1">
              <a:off x="3838320" y="4918320"/>
              <a:ext cx="4680" cy="549000"/>
            </a:xfrm>
            <a:prstGeom prst="line">
              <a:avLst/>
            </a:prstGeom>
            <a:ln cap="rnd" w="255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直接连接符 646"/>
            <p:cNvSpPr/>
            <p:nvPr/>
          </p:nvSpPr>
          <p:spPr>
            <a:xfrm>
              <a:off x="3633840" y="5492880"/>
              <a:ext cx="114120" cy="28440"/>
            </a:xfrm>
            <a:prstGeom prst="line">
              <a:avLst/>
            </a:prstGeom>
            <a:ln cap="rnd" w="255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直接连接符 647"/>
            <p:cNvSpPr/>
            <p:nvPr/>
          </p:nvSpPr>
          <p:spPr>
            <a:xfrm flipV="1">
              <a:off x="3753000" y="5468760"/>
              <a:ext cx="85680" cy="50760"/>
            </a:xfrm>
            <a:prstGeom prst="line">
              <a:avLst/>
            </a:prstGeom>
            <a:ln cap="rnd" w="255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直接连接符 648"/>
            <p:cNvSpPr/>
            <p:nvPr/>
          </p:nvSpPr>
          <p:spPr>
            <a:xfrm flipV="1">
              <a:off x="5214960" y="4643640"/>
              <a:ext cx="255240" cy="63360"/>
            </a:xfrm>
            <a:prstGeom prst="line">
              <a:avLst/>
            </a:prstGeom>
            <a:ln cap="rnd" w="255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直接连接符 649"/>
            <p:cNvSpPr/>
            <p:nvPr/>
          </p:nvSpPr>
          <p:spPr>
            <a:xfrm flipV="1">
              <a:off x="5213520" y="4703400"/>
              <a:ext cx="253800" cy="61560"/>
            </a:xfrm>
            <a:prstGeom prst="line">
              <a:avLst/>
            </a:prstGeom>
            <a:ln cap="rnd" w="255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直接连接符 650"/>
            <p:cNvSpPr/>
            <p:nvPr/>
          </p:nvSpPr>
          <p:spPr>
            <a:xfrm flipV="1">
              <a:off x="5214960" y="4775400"/>
              <a:ext cx="255240" cy="63360"/>
            </a:xfrm>
            <a:prstGeom prst="line">
              <a:avLst/>
            </a:prstGeom>
            <a:ln cap="rnd" w="255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直接连接符 651"/>
            <p:cNvSpPr/>
            <p:nvPr/>
          </p:nvSpPr>
          <p:spPr>
            <a:xfrm flipV="1">
              <a:off x="5214960" y="4838760"/>
              <a:ext cx="255240" cy="64800"/>
            </a:xfrm>
            <a:prstGeom prst="line">
              <a:avLst/>
            </a:prstGeom>
            <a:ln cap="rnd" w="255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直接连接符 652"/>
            <p:cNvSpPr/>
            <p:nvPr/>
          </p:nvSpPr>
          <p:spPr>
            <a:xfrm flipV="1">
              <a:off x="5213520" y="4900320"/>
              <a:ext cx="253800" cy="60120"/>
            </a:xfrm>
            <a:prstGeom prst="line">
              <a:avLst/>
            </a:prstGeom>
            <a:ln cap="rnd" w="255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直接连接符 653"/>
            <p:cNvSpPr/>
            <p:nvPr/>
          </p:nvSpPr>
          <p:spPr>
            <a:xfrm flipV="1">
              <a:off x="5210280" y="4961160"/>
              <a:ext cx="255240" cy="63360"/>
            </a:xfrm>
            <a:prstGeom prst="line">
              <a:avLst/>
            </a:prstGeom>
            <a:ln cap="rnd" w="255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直接连接符 654"/>
            <p:cNvSpPr/>
            <p:nvPr/>
          </p:nvSpPr>
          <p:spPr>
            <a:xfrm flipV="1">
              <a:off x="5214960" y="5013360"/>
              <a:ext cx="255240" cy="64800"/>
            </a:xfrm>
            <a:prstGeom prst="line">
              <a:avLst/>
            </a:prstGeom>
            <a:ln cap="rnd" w="255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直接连接符 655"/>
            <p:cNvSpPr/>
            <p:nvPr/>
          </p:nvSpPr>
          <p:spPr>
            <a:xfrm flipV="1">
              <a:off x="5214960" y="5078520"/>
              <a:ext cx="255240" cy="63360"/>
            </a:xfrm>
            <a:prstGeom prst="line">
              <a:avLst/>
            </a:prstGeom>
            <a:ln cap="rnd" w="255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直接连接符 656"/>
            <p:cNvSpPr/>
            <p:nvPr/>
          </p:nvSpPr>
          <p:spPr>
            <a:xfrm flipH="1">
              <a:off x="5519880" y="1214280"/>
              <a:ext cx="1440" cy="392040"/>
            </a:xfrm>
            <a:prstGeom prst="line">
              <a:avLst/>
            </a:prstGeom>
            <a:ln cap="rnd" w="255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直接连接符 657"/>
            <p:cNvSpPr/>
            <p:nvPr/>
          </p:nvSpPr>
          <p:spPr>
            <a:xfrm flipH="1">
              <a:off x="5619600" y="1214280"/>
              <a:ext cx="1440" cy="392040"/>
            </a:xfrm>
            <a:prstGeom prst="line">
              <a:avLst/>
            </a:prstGeom>
            <a:ln cap="rnd" w="255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直接连接符 658"/>
            <p:cNvSpPr/>
            <p:nvPr/>
          </p:nvSpPr>
          <p:spPr>
            <a:xfrm flipH="1">
              <a:off x="5697720" y="1214280"/>
              <a:ext cx="1440" cy="392040"/>
            </a:xfrm>
            <a:prstGeom prst="line">
              <a:avLst/>
            </a:prstGeom>
            <a:ln cap="rnd" w="255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76" name="Picture 122" descr="C:\Documents and Settings\Administrator\桌面\交大\图书馆.png"/>
            <p:cNvPicPr/>
            <p:nvPr/>
          </p:nvPicPr>
          <p:blipFill>
            <a:blip r:embed="rId2"/>
            <a:stretch/>
          </p:blipFill>
          <p:spPr>
            <a:xfrm>
              <a:off x="5175360" y="2097000"/>
              <a:ext cx="767880" cy="1834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77" name="组合 811"/>
          <p:cNvGrpSpPr/>
          <p:nvPr/>
        </p:nvGrpSpPr>
        <p:grpSpPr>
          <a:xfrm>
            <a:off x="600120" y="1247760"/>
            <a:ext cx="7943760" cy="4362480"/>
            <a:chOff x="600120" y="1247760"/>
            <a:chExt cx="7943760" cy="4362480"/>
          </a:xfrm>
        </p:grpSpPr>
        <p:sp>
          <p:nvSpPr>
            <p:cNvPr id="378" name="直接连接符 812"/>
            <p:cNvSpPr/>
            <p:nvPr/>
          </p:nvSpPr>
          <p:spPr>
            <a:xfrm flipH="1">
              <a:off x="1523880" y="5369040"/>
              <a:ext cx="1440" cy="241200"/>
            </a:xfrm>
            <a:prstGeom prst="line">
              <a:avLst/>
            </a:prstGeom>
            <a:ln cap="rnd" w="255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直接连接符 813"/>
            <p:cNvSpPr/>
            <p:nvPr/>
          </p:nvSpPr>
          <p:spPr>
            <a:xfrm flipV="1">
              <a:off x="1528560" y="5584680"/>
              <a:ext cx="277560" cy="20520"/>
            </a:xfrm>
            <a:prstGeom prst="line">
              <a:avLst/>
            </a:prstGeom>
            <a:ln cap="rnd" w="255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直接连接符 814"/>
            <p:cNvSpPr/>
            <p:nvPr/>
          </p:nvSpPr>
          <p:spPr>
            <a:xfrm flipH="1" flipV="1">
              <a:off x="2755800" y="2087280"/>
              <a:ext cx="33120" cy="3129120"/>
            </a:xfrm>
            <a:prstGeom prst="line">
              <a:avLst/>
            </a:prstGeom>
            <a:ln cap="rnd" w="255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直接连接符 815"/>
            <p:cNvSpPr/>
            <p:nvPr/>
          </p:nvSpPr>
          <p:spPr>
            <a:xfrm flipH="1" flipV="1">
              <a:off x="2966760" y="2077920"/>
              <a:ext cx="34920" cy="3130560"/>
            </a:xfrm>
            <a:prstGeom prst="line">
              <a:avLst/>
            </a:prstGeom>
            <a:ln cap="rnd" w="255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直接连接符 816"/>
            <p:cNvSpPr/>
            <p:nvPr/>
          </p:nvSpPr>
          <p:spPr>
            <a:xfrm flipH="1" flipV="1">
              <a:off x="1747440" y="2082600"/>
              <a:ext cx="28440" cy="3254400"/>
            </a:xfrm>
            <a:prstGeom prst="line">
              <a:avLst/>
            </a:prstGeom>
            <a:ln cap="rnd" w="255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直接连接符 817"/>
            <p:cNvSpPr/>
            <p:nvPr/>
          </p:nvSpPr>
          <p:spPr>
            <a:xfrm flipH="1" flipV="1">
              <a:off x="1517040" y="2093400"/>
              <a:ext cx="28440" cy="3256200"/>
            </a:xfrm>
            <a:prstGeom prst="line">
              <a:avLst/>
            </a:prstGeom>
            <a:ln cap="rnd" w="255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直接连接符 818"/>
            <p:cNvSpPr/>
            <p:nvPr/>
          </p:nvSpPr>
          <p:spPr>
            <a:xfrm flipV="1">
              <a:off x="1517400" y="2082240"/>
              <a:ext cx="1442880" cy="4680"/>
            </a:xfrm>
            <a:prstGeom prst="line">
              <a:avLst/>
            </a:prstGeom>
            <a:ln cap="rnd" w="255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直接连接符 819"/>
            <p:cNvSpPr/>
            <p:nvPr/>
          </p:nvSpPr>
          <p:spPr>
            <a:xfrm flipV="1">
              <a:off x="1784160" y="5122800"/>
              <a:ext cx="1003320" cy="106200"/>
            </a:xfrm>
            <a:prstGeom prst="line">
              <a:avLst/>
            </a:prstGeom>
            <a:ln cap="rnd" w="255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直接连接符 820"/>
            <p:cNvSpPr/>
            <p:nvPr/>
          </p:nvSpPr>
          <p:spPr>
            <a:xfrm>
              <a:off x="1523880" y="2246040"/>
              <a:ext cx="1442880" cy="9360"/>
            </a:xfrm>
            <a:prstGeom prst="line">
              <a:avLst/>
            </a:prstGeom>
            <a:ln cap="rnd" w="255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直接连接符 821"/>
            <p:cNvSpPr/>
            <p:nvPr/>
          </p:nvSpPr>
          <p:spPr>
            <a:xfrm>
              <a:off x="2745720" y="5241960"/>
              <a:ext cx="14040" cy="223560"/>
            </a:xfrm>
            <a:prstGeom prst="line">
              <a:avLst/>
            </a:prstGeom>
            <a:ln cap="rnd" w="255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直接连接符 822"/>
            <p:cNvSpPr/>
            <p:nvPr/>
          </p:nvSpPr>
          <p:spPr>
            <a:xfrm>
              <a:off x="3031920" y="5207040"/>
              <a:ext cx="2880" cy="215640"/>
            </a:xfrm>
            <a:prstGeom prst="line">
              <a:avLst/>
            </a:prstGeom>
            <a:ln cap="rnd" w="255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直接连接符 823"/>
            <p:cNvSpPr/>
            <p:nvPr/>
          </p:nvSpPr>
          <p:spPr>
            <a:xfrm>
              <a:off x="1799280" y="5346720"/>
              <a:ext cx="4680" cy="241200"/>
            </a:xfrm>
            <a:prstGeom prst="line">
              <a:avLst/>
            </a:prstGeom>
            <a:ln cap="rnd" w="255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直接连接符 824"/>
            <p:cNvSpPr/>
            <p:nvPr/>
          </p:nvSpPr>
          <p:spPr>
            <a:xfrm flipV="1">
              <a:off x="2746440" y="5204160"/>
              <a:ext cx="284040" cy="23760"/>
            </a:xfrm>
            <a:prstGeom prst="line">
              <a:avLst/>
            </a:prstGeom>
            <a:ln cap="rnd" w="255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直接连接符 825"/>
            <p:cNvSpPr/>
            <p:nvPr/>
          </p:nvSpPr>
          <p:spPr>
            <a:xfrm flipV="1">
              <a:off x="2760480" y="5421240"/>
              <a:ext cx="272880" cy="44280"/>
            </a:xfrm>
            <a:prstGeom prst="line">
              <a:avLst/>
            </a:prstGeom>
            <a:ln cap="rnd" w="255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直接连接符 826"/>
            <p:cNvSpPr/>
            <p:nvPr/>
          </p:nvSpPr>
          <p:spPr>
            <a:xfrm flipV="1">
              <a:off x="1522440" y="5342040"/>
              <a:ext cx="279360" cy="18720"/>
            </a:xfrm>
            <a:prstGeom prst="line">
              <a:avLst/>
            </a:prstGeom>
            <a:ln cap="rnd" w="255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直接连接符 827"/>
            <p:cNvSpPr/>
            <p:nvPr/>
          </p:nvSpPr>
          <p:spPr>
            <a:xfrm flipH="1" flipV="1">
              <a:off x="1493280" y="5319360"/>
              <a:ext cx="34920" cy="53640"/>
            </a:xfrm>
            <a:prstGeom prst="line">
              <a:avLst/>
            </a:prstGeom>
            <a:ln cap="rnd" w="255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直接连接符 828"/>
            <p:cNvSpPr/>
            <p:nvPr/>
          </p:nvSpPr>
          <p:spPr>
            <a:xfrm flipH="1">
              <a:off x="1487520" y="5316840"/>
              <a:ext cx="1440" cy="241200"/>
            </a:xfrm>
            <a:prstGeom prst="line">
              <a:avLst/>
            </a:prstGeom>
            <a:ln cap="rnd" w="255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直接连接符 829"/>
            <p:cNvSpPr/>
            <p:nvPr/>
          </p:nvSpPr>
          <p:spPr>
            <a:xfrm flipH="1" flipV="1">
              <a:off x="1487520" y="5553000"/>
              <a:ext cx="33120" cy="53640"/>
            </a:xfrm>
            <a:prstGeom prst="line">
              <a:avLst/>
            </a:prstGeom>
            <a:ln cap="rnd" w="255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直接连接符 830"/>
            <p:cNvSpPr/>
            <p:nvPr/>
          </p:nvSpPr>
          <p:spPr>
            <a:xfrm flipV="1">
              <a:off x="1488960" y="5305320"/>
              <a:ext cx="52200" cy="14040"/>
            </a:xfrm>
            <a:prstGeom prst="line">
              <a:avLst/>
            </a:prstGeom>
            <a:ln cap="rnd" w="255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直接连接符 831"/>
            <p:cNvSpPr/>
            <p:nvPr/>
          </p:nvSpPr>
          <p:spPr>
            <a:xfrm flipV="1">
              <a:off x="1784160" y="5164200"/>
              <a:ext cx="1003320" cy="102960"/>
            </a:xfrm>
            <a:prstGeom prst="line">
              <a:avLst/>
            </a:prstGeom>
            <a:ln cap="rnd" w="255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直接连接符 832"/>
            <p:cNvSpPr/>
            <p:nvPr/>
          </p:nvSpPr>
          <p:spPr>
            <a:xfrm>
              <a:off x="7258320" y="2147760"/>
              <a:ext cx="1274760" cy="1440"/>
            </a:xfrm>
            <a:prstGeom prst="line">
              <a:avLst/>
            </a:prstGeom>
            <a:ln cap="rnd" w="255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直接连接符 833"/>
            <p:cNvSpPr/>
            <p:nvPr/>
          </p:nvSpPr>
          <p:spPr>
            <a:xfrm>
              <a:off x="7258320" y="2278080"/>
              <a:ext cx="1274760" cy="1440"/>
            </a:xfrm>
            <a:prstGeom prst="line">
              <a:avLst/>
            </a:prstGeom>
            <a:ln cap="rnd" w="255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直接连接符 834"/>
            <p:cNvSpPr/>
            <p:nvPr/>
          </p:nvSpPr>
          <p:spPr>
            <a:xfrm flipH="1">
              <a:off x="7237080" y="2141280"/>
              <a:ext cx="12600" cy="2782800"/>
            </a:xfrm>
            <a:prstGeom prst="line">
              <a:avLst/>
            </a:prstGeom>
            <a:ln cap="rnd" w="255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直接连接符 835"/>
            <p:cNvSpPr/>
            <p:nvPr/>
          </p:nvSpPr>
          <p:spPr>
            <a:xfrm flipH="1">
              <a:off x="7400520" y="2141280"/>
              <a:ext cx="14040" cy="2787840"/>
            </a:xfrm>
            <a:prstGeom prst="line">
              <a:avLst/>
            </a:prstGeom>
            <a:ln cap="rnd" w="255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直接连接符 836"/>
            <p:cNvSpPr/>
            <p:nvPr/>
          </p:nvSpPr>
          <p:spPr>
            <a:xfrm flipH="1">
              <a:off x="8352000" y="2162160"/>
              <a:ext cx="9360" cy="2714760"/>
            </a:xfrm>
            <a:prstGeom prst="line">
              <a:avLst/>
            </a:prstGeom>
            <a:ln cap="rnd" w="255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直接连接符 837"/>
            <p:cNvSpPr/>
            <p:nvPr/>
          </p:nvSpPr>
          <p:spPr>
            <a:xfrm flipH="1">
              <a:off x="8515440" y="2155680"/>
              <a:ext cx="23760" cy="2710080"/>
            </a:xfrm>
            <a:prstGeom prst="line">
              <a:avLst/>
            </a:prstGeom>
            <a:ln cap="rnd" w="255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直接连接符 838"/>
            <p:cNvSpPr/>
            <p:nvPr/>
          </p:nvSpPr>
          <p:spPr>
            <a:xfrm flipV="1">
              <a:off x="7400880" y="4798800"/>
              <a:ext cx="939600" cy="34920"/>
            </a:xfrm>
            <a:prstGeom prst="line">
              <a:avLst/>
            </a:prstGeom>
            <a:ln cap="rnd" w="255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直接连接符 839"/>
            <p:cNvSpPr/>
            <p:nvPr/>
          </p:nvSpPr>
          <p:spPr>
            <a:xfrm flipV="1">
              <a:off x="7400880" y="4751640"/>
              <a:ext cx="947520" cy="31680"/>
            </a:xfrm>
            <a:prstGeom prst="line">
              <a:avLst/>
            </a:prstGeom>
            <a:ln cap="rnd" w="255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直接连接符 840"/>
            <p:cNvSpPr/>
            <p:nvPr/>
          </p:nvSpPr>
          <p:spPr>
            <a:xfrm>
              <a:off x="8318520" y="4886280"/>
              <a:ext cx="1440" cy="179280"/>
            </a:xfrm>
            <a:prstGeom prst="line">
              <a:avLst/>
            </a:prstGeom>
            <a:ln cap="rnd" w="255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直接连接符 841"/>
            <p:cNvSpPr/>
            <p:nvPr/>
          </p:nvSpPr>
          <p:spPr>
            <a:xfrm>
              <a:off x="8543880" y="4880160"/>
              <a:ext cx="0" cy="172800"/>
            </a:xfrm>
            <a:prstGeom prst="line">
              <a:avLst/>
            </a:prstGeom>
            <a:ln cap="rnd" w="255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直接连接符 842"/>
            <p:cNvSpPr/>
            <p:nvPr/>
          </p:nvSpPr>
          <p:spPr>
            <a:xfrm flipV="1">
              <a:off x="8315280" y="4876920"/>
              <a:ext cx="226800" cy="9360"/>
            </a:xfrm>
            <a:prstGeom prst="line">
              <a:avLst/>
            </a:prstGeom>
            <a:ln cap="rnd" w="255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直接连接符 843"/>
            <p:cNvSpPr/>
            <p:nvPr/>
          </p:nvSpPr>
          <p:spPr>
            <a:xfrm flipV="1">
              <a:off x="8328240" y="5061240"/>
              <a:ext cx="210960" cy="18720"/>
            </a:xfrm>
            <a:prstGeom prst="line">
              <a:avLst/>
            </a:prstGeom>
            <a:ln cap="rnd" w="255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直接连接符 844"/>
            <p:cNvSpPr/>
            <p:nvPr/>
          </p:nvSpPr>
          <p:spPr>
            <a:xfrm>
              <a:off x="7191360" y="4932360"/>
              <a:ext cx="0" cy="190440"/>
            </a:xfrm>
            <a:prstGeom prst="line">
              <a:avLst/>
            </a:prstGeom>
            <a:ln cap="rnd" w="255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直接连接符 845"/>
            <p:cNvSpPr/>
            <p:nvPr/>
          </p:nvSpPr>
          <p:spPr>
            <a:xfrm flipH="1">
              <a:off x="7440840" y="4932360"/>
              <a:ext cx="1440" cy="180720"/>
            </a:xfrm>
            <a:prstGeom prst="line">
              <a:avLst/>
            </a:prstGeom>
            <a:ln cap="rnd" w="255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直接连接符 846"/>
            <p:cNvSpPr/>
            <p:nvPr/>
          </p:nvSpPr>
          <p:spPr>
            <a:xfrm flipV="1">
              <a:off x="7191360" y="4929480"/>
              <a:ext cx="250560" cy="1440"/>
            </a:xfrm>
            <a:prstGeom prst="line">
              <a:avLst/>
            </a:prstGeom>
            <a:ln cap="rnd" w="255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直接连接符 847"/>
            <p:cNvSpPr/>
            <p:nvPr/>
          </p:nvSpPr>
          <p:spPr>
            <a:xfrm flipV="1">
              <a:off x="7197840" y="5113440"/>
              <a:ext cx="247320" cy="9360"/>
            </a:xfrm>
            <a:prstGeom prst="line">
              <a:avLst/>
            </a:prstGeom>
            <a:ln cap="rnd" w="255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直接连接符 848"/>
            <p:cNvSpPr/>
            <p:nvPr/>
          </p:nvSpPr>
          <p:spPr>
            <a:xfrm>
              <a:off x="3321000" y="2293920"/>
              <a:ext cx="3645000" cy="34920"/>
            </a:xfrm>
            <a:prstGeom prst="line">
              <a:avLst/>
            </a:prstGeom>
            <a:ln cap="rnd" w="255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直接连接符 849"/>
            <p:cNvSpPr/>
            <p:nvPr/>
          </p:nvSpPr>
          <p:spPr>
            <a:xfrm>
              <a:off x="3376440" y="2334960"/>
              <a:ext cx="3544920" cy="47520"/>
            </a:xfrm>
            <a:prstGeom prst="line">
              <a:avLst/>
            </a:prstGeom>
            <a:ln cap="rnd" w="255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直接连接符 850"/>
            <p:cNvSpPr/>
            <p:nvPr/>
          </p:nvSpPr>
          <p:spPr>
            <a:xfrm>
              <a:off x="3440160" y="2413080"/>
              <a:ext cx="3436920" cy="25200"/>
            </a:xfrm>
            <a:prstGeom prst="line">
              <a:avLst/>
            </a:prstGeom>
            <a:ln cap="rnd" w="255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直接连接符 851"/>
            <p:cNvSpPr/>
            <p:nvPr/>
          </p:nvSpPr>
          <p:spPr>
            <a:xfrm>
              <a:off x="3494160" y="2468520"/>
              <a:ext cx="3325680" cy="23760"/>
            </a:xfrm>
            <a:prstGeom prst="line">
              <a:avLst/>
            </a:prstGeom>
            <a:ln cap="rnd" w="255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直接连接符 852"/>
            <p:cNvSpPr/>
            <p:nvPr/>
          </p:nvSpPr>
          <p:spPr>
            <a:xfrm>
              <a:off x="3316320" y="2293920"/>
              <a:ext cx="7920" cy="2757600"/>
            </a:xfrm>
            <a:prstGeom prst="line">
              <a:avLst/>
            </a:prstGeom>
            <a:ln cap="rnd" w="255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直接连接符 853"/>
            <p:cNvSpPr/>
            <p:nvPr/>
          </p:nvSpPr>
          <p:spPr>
            <a:xfrm>
              <a:off x="3372840" y="2336760"/>
              <a:ext cx="6120" cy="2700360"/>
            </a:xfrm>
            <a:prstGeom prst="line">
              <a:avLst/>
            </a:prstGeom>
            <a:ln cap="rnd" w="255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直接连接符 854"/>
            <p:cNvSpPr/>
            <p:nvPr/>
          </p:nvSpPr>
          <p:spPr>
            <a:xfrm>
              <a:off x="3434760" y="2413080"/>
              <a:ext cx="6120" cy="2619360"/>
            </a:xfrm>
            <a:prstGeom prst="line">
              <a:avLst/>
            </a:prstGeom>
            <a:ln cap="rnd" w="255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直接连接符 855"/>
            <p:cNvSpPr/>
            <p:nvPr/>
          </p:nvSpPr>
          <p:spPr>
            <a:xfrm>
              <a:off x="3495600" y="2476440"/>
              <a:ext cx="9360" cy="2556000"/>
            </a:xfrm>
            <a:prstGeom prst="line">
              <a:avLst/>
            </a:prstGeom>
            <a:ln cap="rnd" w="255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直接连接符 856"/>
            <p:cNvSpPr/>
            <p:nvPr/>
          </p:nvSpPr>
          <p:spPr>
            <a:xfrm>
              <a:off x="6962760" y="2327040"/>
              <a:ext cx="2880" cy="2479680"/>
            </a:xfrm>
            <a:prstGeom prst="line">
              <a:avLst/>
            </a:prstGeom>
            <a:ln cap="rnd" w="255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直接连接符 857"/>
            <p:cNvSpPr/>
            <p:nvPr/>
          </p:nvSpPr>
          <p:spPr>
            <a:xfrm flipH="1">
              <a:off x="6913440" y="2390760"/>
              <a:ext cx="12600" cy="2425680"/>
            </a:xfrm>
            <a:prstGeom prst="line">
              <a:avLst/>
            </a:prstGeom>
            <a:ln cap="rnd" w="255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直接连接符 858"/>
            <p:cNvSpPr/>
            <p:nvPr/>
          </p:nvSpPr>
          <p:spPr>
            <a:xfrm flipH="1">
              <a:off x="6867720" y="2438280"/>
              <a:ext cx="7920" cy="2378160"/>
            </a:xfrm>
            <a:prstGeom prst="line">
              <a:avLst/>
            </a:prstGeom>
            <a:ln cap="rnd" w="255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直接连接符 859"/>
            <p:cNvSpPr/>
            <p:nvPr/>
          </p:nvSpPr>
          <p:spPr>
            <a:xfrm flipH="1">
              <a:off x="6815160" y="2493720"/>
              <a:ext cx="7920" cy="2317680"/>
            </a:xfrm>
            <a:prstGeom prst="line">
              <a:avLst/>
            </a:prstGeom>
            <a:ln cap="rnd" w="255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直接连接符 860"/>
            <p:cNvSpPr/>
            <p:nvPr/>
          </p:nvSpPr>
          <p:spPr>
            <a:xfrm flipH="1" flipV="1">
              <a:off x="6742080" y="4751640"/>
              <a:ext cx="63360" cy="55440"/>
            </a:xfrm>
            <a:prstGeom prst="line">
              <a:avLst/>
            </a:prstGeom>
            <a:ln cap="rnd" w="255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直接连接符 861"/>
            <p:cNvSpPr/>
            <p:nvPr/>
          </p:nvSpPr>
          <p:spPr>
            <a:xfrm flipH="1">
              <a:off x="6742080" y="2493720"/>
              <a:ext cx="2880" cy="2252520"/>
            </a:xfrm>
            <a:prstGeom prst="line">
              <a:avLst/>
            </a:prstGeom>
            <a:ln cap="rnd" w="255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任意多边形 862"/>
            <p:cNvSpPr/>
            <p:nvPr/>
          </p:nvSpPr>
          <p:spPr>
            <a:xfrm>
              <a:off x="3002040" y="4794480"/>
              <a:ext cx="4236840" cy="298440"/>
            </a:xfrm>
            <a:custGeom>
              <a:avLst/>
              <a:gdLst/>
              <a:ahLst/>
              <a:rect l="l" t="t" r="r" b="b"/>
              <a:pathLst>
                <a:path w="4715773" h="316302">
                  <a:moveTo>
                    <a:pt x="0" y="316302"/>
                  </a:moveTo>
                  <a:lnTo>
                    <a:pt x="362309" y="281796"/>
                  </a:lnTo>
                  <a:lnTo>
                    <a:pt x="557841" y="270295"/>
                  </a:lnTo>
                  <a:lnTo>
                    <a:pt x="1190445" y="264544"/>
                  </a:lnTo>
                  <a:lnTo>
                    <a:pt x="1587260" y="253042"/>
                  </a:lnTo>
                  <a:lnTo>
                    <a:pt x="1978324" y="253042"/>
                  </a:lnTo>
                  <a:lnTo>
                    <a:pt x="2329132" y="241540"/>
                  </a:lnTo>
                  <a:lnTo>
                    <a:pt x="2685690" y="224287"/>
                  </a:lnTo>
                  <a:lnTo>
                    <a:pt x="2967486" y="195532"/>
                  </a:lnTo>
                  <a:lnTo>
                    <a:pt x="3335547" y="149525"/>
                  </a:lnTo>
                  <a:lnTo>
                    <a:pt x="3703607" y="97766"/>
                  </a:lnTo>
                  <a:lnTo>
                    <a:pt x="4002656" y="63261"/>
                  </a:lnTo>
                  <a:lnTo>
                    <a:pt x="4249947" y="40257"/>
                  </a:lnTo>
                  <a:lnTo>
                    <a:pt x="4428226" y="23004"/>
                  </a:lnTo>
                  <a:lnTo>
                    <a:pt x="4715773" y="0"/>
                  </a:lnTo>
                  <a:lnTo>
                    <a:pt x="4710022" y="0"/>
                  </a:lnTo>
                </a:path>
              </a:pathLst>
            </a:custGeom>
            <a:noFill/>
            <a:ln cap="rnd" w="25560">
              <a:solidFill>
                <a:srgbClr val="ffffff">
                  <a:alpha val="3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任意多边形 863"/>
            <p:cNvSpPr/>
            <p:nvPr/>
          </p:nvSpPr>
          <p:spPr>
            <a:xfrm>
              <a:off x="3033720" y="5123160"/>
              <a:ext cx="4164120" cy="298440"/>
            </a:xfrm>
            <a:custGeom>
              <a:avLst/>
              <a:gdLst/>
              <a:ahLst/>
              <a:rect l="l" t="t" r="r" b="b"/>
              <a:pathLst>
                <a:path w="4715773" h="316302">
                  <a:moveTo>
                    <a:pt x="0" y="316302"/>
                  </a:moveTo>
                  <a:lnTo>
                    <a:pt x="362309" y="281796"/>
                  </a:lnTo>
                  <a:lnTo>
                    <a:pt x="557841" y="270295"/>
                  </a:lnTo>
                  <a:lnTo>
                    <a:pt x="1190445" y="264544"/>
                  </a:lnTo>
                  <a:lnTo>
                    <a:pt x="1587260" y="253042"/>
                  </a:lnTo>
                  <a:lnTo>
                    <a:pt x="1978324" y="253042"/>
                  </a:lnTo>
                  <a:lnTo>
                    <a:pt x="2329132" y="241540"/>
                  </a:lnTo>
                  <a:lnTo>
                    <a:pt x="2685690" y="224287"/>
                  </a:lnTo>
                  <a:lnTo>
                    <a:pt x="2967486" y="195532"/>
                  </a:lnTo>
                  <a:lnTo>
                    <a:pt x="3335547" y="149525"/>
                  </a:lnTo>
                  <a:lnTo>
                    <a:pt x="3703607" y="97766"/>
                  </a:lnTo>
                  <a:lnTo>
                    <a:pt x="4002656" y="63261"/>
                  </a:lnTo>
                  <a:lnTo>
                    <a:pt x="4249947" y="40257"/>
                  </a:lnTo>
                  <a:lnTo>
                    <a:pt x="4428226" y="23004"/>
                  </a:lnTo>
                  <a:lnTo>
                    <a:pt x="4715773" y="0"/>
                  </a:lnTo>
                  <a:lnTo>
                    <a:pt x="4710022" y="0"/>
                  </a:lnTo>
                </a:path>
              </a:pathLst>
            </a:custGeom>
            <a:noFill/>
            <a:ln cap="rnd" w="25560">
              <a:solidFill>
                <a:srgbClr val="ffffff">
                  <a:alpha val="3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任意多边形 864"/>
            <p:cNvSpPr/>
            <p:nvPr/>
          </p:nvSpPr>
          <p:spPr>
            <a:xfrm>
              <a:off x="7445520" y="5080320"/>
              <a:ext cx="882360" cy="33120"/>
            </a:xfrm>
            <a:custGeom>
              <a:avLst/>
              <a:gdLst/>
              <a:ahLst/>
              <a:rect l="l" t="t" r="r" b="b"/>
              <a:pathLst>
                <a:path w="983411" h="34506">
                  <a:moveTo>
                    <a:pt x="0" y="34506"/>
                  </a:moveTo>
                  <a:lnTo>
                    <a:pt x="230038" y="28755"/>
                  </a:lnTo>
                  <a:lnTo>
                    <a:pt x="471577" y="28755"/>
                  </a:lnTo>
                  <a:lnTo>
                    <a:pt x="805132" y="11502"/>
                  </a:lnTo>
                  <a:lnTo>
                    <a:pt x="983411" y="0"/>
                  </a:lnTo>
                </a:path>
              </a:pathLst>
            </a:custGeom>
            <a:noFill/>
            <a:ln cap="rnd" w="25560">
              <a:solidFill>
                <a:srgbClr val="ffffff">
                  <a:alpha val="3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任意多边形 865"/>
            <p:cNvSpPr/>
            <p:nvPr/>
          </p:nvSpPr>
          <p:spPr>
            <a:xfrm>
              <a:off x="1798560" y="5465880"/>
              <a:ext cx="961920" cy="118800"/>
            </a:xfrm>
            <a:custGeom>
              <a:avLst/>
              <a:gdLst/>
              <a:ahLst/>
              <a:rect l="l" t="t" r="r" b="b"/>
              <a:pathLst>
                <a:path w="1069675" h="126521">
                  <a:moveTo>
                    <a:pt x="0" y="126521"/>
                  </a:moveTo>
                  <a:lnTo>
                    <a:pt x="241539" y="109268"/>
                  </a:lnTo>
                  <a:lnTo>
                    <a:pt x="500332" y="80514"/>
                  </a:lnTo>
                  <a:lnTo>
                    <a:pt x="718868" y="57510"/>
                  </a:lnTo>
                  <a:lnTo>
                    <a:pt x="983411" y="11502"/>
                  </a:lnTo>
                  <a:lnTo>
                    <a:pt x="1069675" y="0"/>
                  </a:lnTo>
                </a:path>
              </a:pathLst>
            </a:custGeom>
            <a:noFill/>
            <a:ln cap="rnd" w="25560">
              <a:solidFill>
                <a:srgbClr val="ffffff">
                  <a:alpha val="3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任意多边形 866"/>
            <p:cNvSpPr/>
            <p:nvPr/>
          </p:nvSpPr>
          <p:spPr>
            <a:xfrm>
              <a:off x="2738520" y="1247760"/>
              <a:ext cx="4683240" cy="892080"/>
            </a:xfrm>
            <a:custGeom>
              <a:avLst/>
              <a:gdLst/>
              <a:ahLst/>
              <a:rect l="l" t="t" r="r" b="b"/>
              <a:pathLst>
                <a:path w="5249250" h="979821">
                  <a:moveTo>
                    <a:pt x="0" y="883920"/>
                  </a:moveTo>
                  <a:lnTo>
                    <a:pt x="343458" y="665357"/>
                  </a:lnTo>
                  <a:cubicBezTo>
                    <a:pt x="442332" y="604397"/>
                    <a:pt x="484706" y="574660"/>
                    <a:pt x="593245" y="518160"/>
                  </a:cubicBezTo>
                  <a:cubicBezTo>
                    <a:pt x="701784" y="461660"/>
                    <a:pt x="840802" y="388062"/>
                    <a:pt x="994689" y="326359"/>
                  </a:cubicBezTo>
                  <a:cubicBezTo>
                    <a:pt x="1148576" y="264656"/>
                    <a:pt x="1341120" y="196262"/>
                    <a:pt x="1516566" y="147940"/>
                  </a:cubicBezTo>
                  <a:cubicBezTo>
                    <a:pt x="1692012" y="99618"/>
                    <a:pt x="1895707" y="60217"/>
                    <a:pt x="2047364" y="36428"/>
                  </a:cubicBezTo>
                  <a:cubicBezTo>
                    <a:pt x="2199021" y="12639"/>
                    <a:pt x="2303099" y="10408"/>
                    <a:pt x="2426506" y="5204"/>
                  </a:cubicBezTo>
                  <a:cubicBezTo>
                    <a:pt x="2549913" y="0"/>
                    <a:pt x="2664398" y="0"/>
                    <a:pt x="2787805" y="5204"/>
                  </a:cubicBezTo>
                  <a:cubicBezTo>
                    <a:pt x="2911212" y="10408"/>
                    <a:pt x="3039823" y="17099"/>
                    <a:pt x="3166947" y="36428"/>
                  </a:cubicBezTo>
                  <a:cubicBezTo>
                    <a:pt x="3294071" y="55757"/>
                    <a:pt x="3410786" y="84750"/>
                    <a:pt x="3550548" y="121177"/>
                  </a:cubicBezTo>
                  <a:cubicBezTo>
                    <a:pt x="3690310" y="157604"/>
                    <a:pt x="3879138" y="214104"/>
                    <a:pt x="4005518" y="254992"/>
                  </a:cubicBezTo>
                  <a:cubicBezTo>
                    <a:pt x="4131898" y="295880"/>
                    <a:pt x="4216648" y="325616"/>
                    <a:pt x="4308831" y="366504"/>
                  </a:cubicBezTo>
                  <a:cubicBezTo>
                    <a:pt x="4401015" y="407392"/>
                    <a:pt x="4460488" y="443819"/>
                    <a:pt x="4558619" y="500318"/>
                  </a:cubicBezTo>
                  <a:cubicBezTo>
                    <a:pt x="4656750" y="556817"/>
                    <a:pt x="4791308" y="632646"/>
                    <a:pt x="4897616" y="705501"/>
                  </a:cubicBezTo>
                  <a:cubicBezTo>
                    <a:pt x="5003924" y="778356"/>
                    <a:pt x="5143686" y="895071"/>
                    <a:pt x="5196468" y="937446"/>
                  </a:cubicBezTo>
                  <a:cubicBezTo>
                    <a:pt x="5249250" y="979821"/>
                    <a:pt x="5231780" y="969785"/>
                    <a:pt x="5214310" y="959749"/>
                  </a:cubicBezTo>
                </a:path>
              </a:pathLst>
            </a:custGeom>
            <a:noFill/>
            <a:ln cap="rnd" w="25560">
              <a:solidFill>
                <a:srgbClr val="ffffff">
                  <a:alpha val="3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任意多边形 867"/>
            <p:cNvSpPr/>
            <p:nvPr/>
          </p:nvSpPr>
          <p:spPr>
            <a:xfrm>
              <a:off x="2967120" y="1396800"/>
              <a:ext cx="4280040" cy="752400"/>
            </a:xfrm>
            <a:custGeom>
              <a:avLst/>
              <a:gdLst/>
              <a:ahLst/>
              <a:rect l="l" t="t" r="r" b="b"/>
              <a:pathLst>
                <a:path w="4765836" h="805543">
                  <a:moveTo>
                    <a:pt x="0" y="767619"/>
                  </a:moveTo>
                  <a:cubicBezTo>
                    <a:pt x="95162" y="704411"/>
                    <a:pt x="190324" y="641203"/>
                    <a:pt x="252829" y="603279"/>
                  </a:cubicBezTo>
                  <a:cubicBezTo>
                    <a:pt x="315334" y="565355"/>
                    <a:pt x="375030" y="540072"/>
                    <a:pt x="375030" y="540072"/>
                  </a:cubicBezTo>
                  <a:cubicBezTo>
                    <a:pt x="424191" y="514087"/>
                    <a:pt x="477567" y="482483"/>
                    <a:pt x="547797" y="447368"/>
                  </a:cubicBezTo>
                  <a:cubicBezTo>
                    <a:pt x="618028" y="412253"/>
                    <a:pt x="710732" y="365901"/>
                    <a:pt x="796413" y="329381"/>
                  </a:cubicBezTo>
                  <a:cubicBezTo>
                    <a:pt x="882094" y="292861"/>
                    <a:pt x="967073" y="260555"/>
                    <a:pt x="1061884" y="228249"/>
                  </a:cubicBezTo>
                  <a:cubicBezTo>
                    <a:pt x="1156695" y="195943"/>
                    <a:pt x="1250101" y="163637"/>
                    <a:pt x="1365279" y="135545"/>
                  </a:cubicBezTo>
                  <a:cubicBezTo>
                    <a:pt x="1480457" y="107453"/>
                    <a:pt x="1637071" y="80063"/>
                    <a:pt x="1752951" y="59696"/>
                  </a:cubicBezTo>
                  <a:cubicBezTo>
                    <a:pt x="1868831" y="39329"/>
                    <a:pt x="1944680" y="22474"/>
                    <a:pt x="2060560" y="13344"/>
                  </a:cubicBezTo>
                  <a:cubicBezTo>
                    <a:pt x="2176440" y="4214"/>
                    <a:pt x="2313390" y="0"/>
                    <a:pt x="2448232" y="4916"/>
                  </a:cubicBezTo>
                  <a:cubicBezTo>
                    <a:pt x="2583074" y="9832"/>
                    <a:pt x="2712299" y="18963"/>
                    <a:pt x="2869615" y="42841"/>
                  </a:cubicBezTo>
                  <a:cubicBezTo>
                    <a:pt x="3026931" y="66719"/>
                    <a:pt x="3230599" y="107452"/>
                    <a:pt x="3392129" y="148186"/>
                  </a:cubicBezTo>
                  <a:cubicBezTo>
                    <a:pt x="3553659" y="188920"/>
                    <a:pt x="3697631" y="232463"/>
                    <a:pt x="3838794" y="287243"/>
                  </a:cubicBezTo>
                  <a:cubicBezTo>
                    <a:pt x="3979957" y="342023"/>
                    <a:pt x="4100754" y="401016"/>
                    <a:pt x="4239108" y="476865"/>
                  </a:cubicBezTo>
                  <a:cubicBezTo>
                    <a:pt x="4377462" y="552714"/>
                    <a:pt x="4581130" y="687556"/>
                    <a:pt x="4668918" y="742336"/>
                  </a:cubicBezTo>
                  <a:cubicBezTo>
                    <a:pt x="4756706" y="797116"/>
                    <a:pt x="4761271" y="801329"/>
                    <a:pt x="4765836" y="805543"/>
                  </a:cubicBezTo>
                </a:path>
              </a:pathLst>
            </a:custGeom>
            <a:noFill/>
            <a:ln cap="rnd" w="25560">
              <a:solidFill>
                <a:srgbClr val="ffffff">
                  <a:alpha val="3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直接连接符 868"/>
            <p:cNvSpPr/>
            <p:nvPr/>
          </p:nvSpPr>
          <p:spPr>
            <a:xfrm>
              <a:off x="600120" y="2604960"/>
              <a:ext cx="925200" cy="126720"/>
            </a:xfrm>
            <a:prstGeom prst="line">
              <a:avLst/>
            </a:prstGeom>
            <a:ln cap="rnd" w="255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任意多边形 869"/>
            <p:cNvSpPr/>
            <p:nvPr/>
          </p:nvSpPr>
          <p:spPr>
            <a:xfrm>
              <a:off x="604800" y="2352600"/>
              <a:ext cx="915840" cy="255600"/>
            </a:xfrm>
            <a:custGeom>
              <a:avLst/>
              <a:gdLst/>
              <a:ahLst/>
              <a:rect l="l" t="t" r="r" b="b"/>
              <a:pathLst>
                <a:path w="1019908" h="273539">
                  <a:moveTo>
                    <a:pt x="0" y="273539"/>
                  </a:moveTo>
                  <a:cubicBezTo>
                    <a:pt x="47218" y="245859"/>
                    <a:pt x="94436" y="218180"/>
                    <a:pt x="164123" y="191477"/>
                  </a:cubicBezTo>
                  <a:cubicBezTo>
                    <a:pt x="233810" y="164774"/>
                    <a:pt x="333456" y="135466"/>
                    <a:pt x="418123" y="113323"/>
                  </a:cubicBezTo>
                  <a:cubicBezTo>
                    <a:pt x="502790" y="91180"/>
                    <a:pt x="590062" y="74898"/>
                    <a:pt x="672123" y="58616"/>
                  </a:cubicBezTo>
                  <a:cubicBezTo>
                    <a:pt x="754184" y="42334"/>
                    <a:pt x="852528" y="25400"/>
                    <a:pt x="910492" y="15631"/>
                  </a:cubicBezTo>
                  <a:cubicBezTo>
                    <a:pt x="968456" y="5862"/>
                    <a:pt x="994182" y="2931"/>
                    <a:pt x="1019908" y="0"/>
                  </a:cubicBezTo>
                </a:path>
              </a:pathLst>
            </a:custGeom>
            <a:noFill/>
            <a:ln cap="rnd" w="25560">
              <a:solidFill>
                <a:srgbClr val="ffffff">
                  <a:alpha val="3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直接连接符 870"/>
            <p:cNvSpPr/>
            <p:nvPr/>
          </p:nvSpPr>
          <p:spPr>
            <a:xfrm>
              <a:off x="775440" y="2635200"/>
              <a:ext cx="4680" cy="2014560"/>
            </a:xfrm>
            <a:prstGeom prst="line">
              <a:avLst/>
            </a:prstGeom>
            <a:ln cap="rnd" w="255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直接连接符 871"/>
            <p:cNvSpPr/>
            <p:nvPr/>
          </p:nvSpPr>
          <p:spPr>
            <a:xfrm>
              <a:off x="805680" y="2644560"/>
              <a:ext cx="4680" cy="2038320"/>
            </a:xfrm>
            <a:prstGeom prst="line">
              <a:avLst/>
            </a:prstGeom>
            <a:ln cap="rnd" w="255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直接连接符 872"/>
            <p:cNvSpPr/>
            <p:nvPr/>
          </p:nvSpPr>
          <p:spPr>
            <a:xfrm>
              <a:off x="858600" y="2639880"/>
              <a:ext cx="7920" cy="2035080"/>
            </a:xfrm>
            <a:prstGeom prst="line">
              <a:avLst/>
            </a:prstGeom>
            <a:ln cap="rnd" w="255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直接连接符 873"/>
            <p:cNvSpPr/>
            <p:nvPr/>
          </p:nvSpPr>
          <p:spPr>
            <a:xfrm flipH="1" flipV="1">
              <a:off x="772560" y="2639520"/>
              <a:ext cx="36360" cy="6120"/>
            </a:xfrm>
            <a:prstGeom prst="line">
              <a:avLst/>
            </a:prstGeom>
            <a:ln cap="rnd" w="255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直接连接符 874"/>
            <p:cNvSpPr/>
            <p:nvPr/>
          </p:nvSpPr>
          <p:spPr>
            <a:xfrm flipV="1">
              <a:off x="811080" y="2641320"/>
              <a:ext cx="50760" cy="6120"/>
            </a:xfrm>
            <a:prstGeom prst="line">
              <a:avLst/>
            </a:prstGeom>
            <a:ln cap="rnd" w="255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直接连接符 875"/>
            <p:cNvSpPr/>
            <p:nvPr/>
          </p:nvSpPr>
          <p:spPr>
            <a:xfrm flipV="1">
              <a:off x="812520" y="4672080"/>
              <a:ext cx="48960" cy="7920"/>
            </a:xfrm>
            <a:prstGeom prst="line">
              <a:avLst/>
            </a:prstGeom>
            <a:ln cap="rnd" w="255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直接连接符 876"/>
            <p:cNvSpPr/>
            <p:nvPr/>
          </p:nvSpPr>
          <p:spPr>
            <a:xfrm>
              <a:off x="777600" y="4645080"/>
              <a:ext cx="31680" cy="34920"/>
            </a:xfrm>
            <a:prstGeom prst="line">
              <a:avLst/>
            </a:prstGeom>
            <a:ln cap="rnd" w="255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直接连接符 877"/>
            <p:cNvSpPr/>
            <p:nvPr/>
          </p:nvSpPr>
          <p:spPr>
            <a:xfrm flipH="1" flipV="1">
              <a:off x="970920" y="2666520"/>
              <a:ext cx="36360" cy="6120"/>
            </a:xfrm>
            <a:prstGeom prst="line">
              <a:avLst/>
            </a:prstGeom>
            <a:ln cap="rnd" w="255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直接连接符 878"/>
            <p:cNvSpPr/>
            <p:nvPr/>
          </p:nvSpPr>
          <p:spPr>
            <a:xfrm flipV="1">
              <a:off x="1009440" y="2668680"/>
              <a:ext cx="50760" cy="7920"/>
            </a:xfrm>
            <a:prstGeom prst="line">
              <a:avLst/>
            </a:prstGeom>
            <a:ln cap="rnd" w="255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直接连接符 879"/>
            <p:cNvSpPr/>
            <p:nvPr/>
          </p:nvSpPr>
          <p:spPr>
            <a:xfrm>
              <a:off x="975600" y="2662200"/>
              <a:ext cx="6120" cy="2182680"/>
            </a:xfrm>
            <a:prstGeom prst="line">
              <a:avLst/>
            </a:prstGeom>
            <a:ln cap="rnd" w="255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直接连接符 880"/>
            <p:cNvSpPr/>
            <p:nvPr/>
          </p:nvSpPr>
          <p:spPr>
            <a:xfrm>
              <a:off x="1005480" y="2674800"/>
              <a:ext cx="4680" cy="2208240"/>
            </a:xfrm>
            <a:prstGeom prst="line">
              <a:avLst/>
            </a:prstGeom>
            <a:ln cap="rnd" w="255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直接连接符 881"/>
            <p:cNvSpPr/>
            <p:nvPr/>
          </p:nvSpPr>
          <p:spPr>
            <a:xfrm>
              <a:off x="1058040" y="2666880"/>
              <a:ext cx="6120" cy="2206800"/>
            </a:xfrm>
            <a:prstGeom prst="line">
              <a:avLst/>
            </a:prstGeom>
            <a:ln cap="rnd" w="255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直接连接符 882"/>
            <p:cNvSpPr/>
            <p:nvPr/>
          </p:nvSpPr>
          <p:spPr>
            <a:xfrm flipV="1">
              <a:off x="1012680" y="4869000"/>
              <a:ext cx="47520" cy="9360"/>
            </a:xfrm>
            <a:prstGeom prst="line">
              <a:avLst/>
            </a:prstGeom>
            <a:ln cap="rnd" w="255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直接连接符 883"/>
            <p:cNvSpPr/>
            <p:nvPr/>
          </p:nvSpPr>
          <p:spPr>
            <a:xfrm>
              <a:off x="978480" y="4838760"/>
              <a:ext cx="28440" cy="39600"/>
            </a:xfrm>
            <a:prstGeom prst="line">
              <a:avLst/>
            </a:prstGeom>
            <a:ln cap="rnd" w="255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直接连接符 884"/>
            <p:cNvSpPr/>
            <p:nvPr/>
          </p:nvSpPr>
          <p:spPr>
            <a:xfrm flipH="1" flipV="1">
              <a:off x="1193400" y="2701800"/>
              <a:ext cx="37800" cy="7920"/>
            </a:xfrm>
            <a:prstGeom prst="line">
              <a:avLst/>
            </a:prstGeom>
            <a:ln cap="rnd" w="255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直接连接符 885"/>
            <p:cNvSpPr/>
            <p:nvPr/>
          </p:nvSpPr>
          <p:spPr>
            <a:xfrm flipV="1">
              <a:off x="1233360" y="2703240"/>
              <a:ext cx="52200" cy="6120"/>
            </a:xfrm>
            <a:prstGeom prst="line">
              <a:avLst/>
            </a:prstGeom>
            <a:ln cap="rnd" w="255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直接连接符 886"/>
            <p:cNvSpPr/>
            <p:nvPr/>
          </p:nvSpPr>
          <p:spPr>
            <a:xfrm flipV="1">
              <a:off x="1236600" y="5051520"/>
              <a:ext cx="48960" cy="10800"/>
            </a:xfrm>
            <a:prstGeom prst="line">
              <a:avLst/>
            </a:prstGeom>
            <a:ln cap="rnd" w="255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直接连接符 887"/>
            <p:cNvSpPr/>
            <p:nvPr/>
          </p:nvSpPr>
          <p:spPr>
            <a:xfrm>
              <a:off x="1199880" y="5021280"/>
              <a:ext cx="31680" cy="41040"/>
            </a:xfrm>
            <a:prstGeom prst="line">
              <a:avLst/>
            </a:prstGeom>
            <a:ln cap="rnd" w="255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任意多边形 888"/>
            <p:cNvSpPr/>
            <p:nvPr/>
          </p:nvSpPr>
          <p:spPr>
            <a:xfrm>
              <a:off x="1974600" y="1428480"/>
              <a:ext cx="1968480" cy="658800"/>
            </a:xfrm>
            <a:custGeom>
              <a:avLst/>
              <a:gdLst/>
              <a:ahLst/>
              <a:rect l="l" t="t" r="r" b="b"/>
              <a:pathLst>
                <a:path w="2190541" h="703385">
                  <a:moveTo>
                    <a:pt x="0" y="703385"/>
                  </a:moveTo>
                  <a:cubicBezTo>
                    <a:pt x="56522" y="649375"/>
                    <a:pt x="113044" y="595366"/>
                    <a:pt x="180870" y="547636"/>
                  </a:cubicBezTo>
                  <a:cubicBezTo>
                    <a:pt x="248696" y="499906"/>
                    <a:pt x="333270" y="455526"/>
                    <a:pt x="406958" y="417007"/>
                  </a:cubicBezTo>
                  <a:cubicBezTo>
                    <a:pt x="480646" y="378488"/>
                    <a:pt x="538424" y="354205"/>
                    <a:pt x="622998" y="316524"/>
                  </a:cubicBezTo>
                  <a:cubicBezTo>
                    <a:pt x="707572" y="278843"/>
                    <a:pt x="816429" y="228600"/>
                    <a:pt x="914400" y="190919"/>
                  </a:cubicBezTo>
                  <a:cubicBezTo>
                    <a:pt x="1012371" y="153238"/>
                    <a:pt x="1112855" y="118069"/>
                    <a:pt x="1210826" y="90436"/>
                  </a:cubicBezTo>
                  <a:cubicBezTo>
                    <a:pt x="1308797" y="62803"/>
                    <a:pt x="1417654" y="39356"/>
                    <a:pt x="1502228" y="25121"/>
                  </a:cubicBezTo>
                  <a:cubicBezTo>
                    <a:pt x="1586802" y="10886"/>
                    <a:pt x="1603549" y="9212"/>
                    <a:pt x="1718268" y="5025"/>
                  </a:cubicBezTo>
                  <a:cubicBezTo>
                    <a:pt x="1832987" y="838"/>
                    <a:pt x="2011764" y="419"/>
                    <a:pt x="2190541" y="0"/>
                  </a:cubicBezTo>
                </a:path>
              </a:pathLst>
            </a:custGeom>
            <a:noFill/>
            <a:ln cap="rnd" w="25560">
              <a:solidFill>
                <a:srgbClr val="ffffff">
                  <a:alpha val="3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直接连接符 889"/>
            <p:cNvSpPr/>
            <p:nvPr/>
          </p:nvSpPr>
          <p:spPr>
            <a:xfrm>
              <a:off x="1353960" y="3463920"/>
              <a:ext cx="95040" cy="26640"/>
            </a:xfrm>
            <a:prstGeom prst="line">
              <a:avLst/>
            </a:prstGeom>
            <a:ln cap="rnd" w="255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直接连接符 890"/>
            <p:cNvSpPr/>
            <p:nvPr/>
          </p:nvSpPr>
          <p:spPr>
            <a:xfrm>
              <a:off x="1360440" y="3092400"/>
              <a:ext cx="104760" cy="31680"/>
            </a:xfrm>
            <a:prstGeom prst="line">
              <a:avLst/>
            </a:prstGeom>
            <a:ln cap="rnd" w="255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直接连接符 891"/>
            <p:cNvSpPr/>
            <p:nvPr/>
          </p:nvSpPr>
          <p:spPr>
            <a:xfrm flipH="1">
              <a:off x="1355760" y="3095640"/>
              <a:ext cx="7920" cy="374400"/>
            </a:xfrm>
            <a:prstGeom prst="line">
              <a:avLst/>
            </a:prstGeom>
            <a:ln cap="rnd" w="255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直接连接符 892"/>
            <p:cNvSpPr/>
            <p:nvPr/>
          </p:nvSpPr>
          <p:spPr>
            <a:xfrm flipH="1">
              <a:off x="1452600" y="3124080"/>
              <a:ext cx="9360" cy="374400"/>
            </a:xfrm>
            <a:prstGeom prst="line">
              <a:avLst/>
            </a:prstGeom>
            <a:ln cap="rnd" w="255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直接连接符 893"/>
            <p:cNvSpPr/>
            <p:nvPr/>
          </p:nvSpPr>
          <p:spPr>
            <a:xfrm flipH="1">
              <a:off x="1407960" y="3105000"/>
              <a:ext cx="9360" cy="374400"/>
            </a:xfrm>
            <a:prstGeom prst="line">
              <a:avLst/>
            </a:prstGeom>
            <a:ln cap="rnd" w="255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直接连接符 894"/>
            <p:cNvSpPr/>
            <p:nvPr/>
          </p:nvSpPr>
          <p:spPr>
            <a:xfrm>
              <a:off x="1110960" y="3390840"/>
              <a:ext cx="85680" cy="31680"/>
            </a:xfrm>
            <a:prstGeom prst="line">
              <a:avLst/>
            </a:prstGeom>
            <a:ln cap="rnd" w="255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直接连接符 895"/>
            <p:cNvSpPr/>
            <p:nvPr/>
          </p:nvSpPr>
          <p:spPr>
            <a:xfrm>
              <a:off x="1116000" y="3017880"/>
              <a:ext cx="80640" cy="23760"/>
            </a:xfrm>
            <a:prstGeom prst="line">
              <a:avLst/>
            </a:prstGeom>
            <a:ln cap="rnd" w="255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直接连接符 896"/>
            <p:cNvSpPr/>
            <p:nvPr/>
          </p:nvSpPr>
          <p:spPr>
            <a:xfrm flipH="1">
              <a:off x="1110960" y="3021120"/>
              <a:ext cx="9360" cy="374400"/>
            </a:xfrm>
            <a:prstGeom prst="line">
              <a:avLst/>
            </a:prstGeom>
            <a:ln cap="rnd" w="255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直接连接符 897"/>
            <p:cNvSpPr/>
            <p:nvPr/>
          </p:nvSpPr>
          <p:spPr>
            <a:xfrm flipH="1">
              <a:off x="1164960" y="3031920"/>
              <a:ext cx="7920" cy="372960"/>
            </a:xfrm>
            <a:prstGeom prst="line">
              <a:avLst/>
            </a:prstGeom>
            <a:ln cap="rnd" w="255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直接连接符 898"/>
            <p:cNvSpPr/>
            <p:nvPr/>
          </p:nvSpPr>
          <p:spPr>
            <a:xfrm>
              <a:off x="887400" y="3308400"/>
              <a:ext cx="87120" cy="26640"/>
            </a:xfrm>
            <a:prstGeom prst="line">
              <a:avLst/>
            </a:prstGeom>
            <a:ln cap="rnd" w="255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直接连接符 899"/>
            <p:cNvSpPr/>
            <p:nvPr/>
          </p:nvSpPr>
          <p:spPr>
            <a:xfrm>
              <a:off x="893520" y="2936880"/>
              <a:ext cx="79200" cy="25200"/>
            </a:xfrm>
            <a:prstGeom prst="line">
              <a:avLst/>
            </a:prstGeom>
            <a:ln cap="rnd" w="255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直接连接符 900"/>
            <p:cNvSpPr/>
            <p:nvPr/>
          </p:nvSpPr>
          <p:spPr>
            <a:xfrm flipH="1">
              <a:off x="888840" y="2940120"/>
              <a:ext cx="9360" cy="374400"/>
            </a:xfrm>
            <a:prstGeom prst="line">
              <a:avLst/>
            </a:prstGeom>
            <a:ln cap="rnd" w="255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直接连接符 901"/>
            <p:cNvSpPr/>
            <p:nvPr/>
          </p:nvSpPr>
          <p:spPr>
            <a:xfrm flipH="1">
              <a:off x="942840" y="2948040"/>
              <a:ext cx="7920" cy="374400"/>
            </a:xfrm>
            <a:prstGeom prst="line">
              <a:avLst/>
            </a:prstGeom>
            <a:ln cap="rnd" w="255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任意多边形 902"/>
            <p:cNvSpPr/>
            <p:nvPr/>
          </p:nvSpPr>
          <p:spPr>
            <a:xfrm>
              <a:off x="5037120" y="1609560"/>
              <a:ext cx="382320" cy="398160"/>
            </a:xfrm>
            <a:custGeom>
              <a:avLst/>
              <a:gdLst/>
              <a:ahLst/>
              <a:rect l="l" t="t" r="r" b="b"/>
              <a:pathLst>
                <a:path w="426447" h="426446">
                  <a:moveTo>
                    <a:pt x="86109" y="426446"/>
                  </a:moveTo>
                  <a:lnTo>
                    <a:pt x="135315" y="262428"/>
                  </a:lnTo>
                  <a:lnTo>
                    <a:pt x="0" y="155817"/>
                  </a:lnTo>
                  <a:lnTo>
                    <a:pt x="159918" y="155817"/>
                  </a:lnTo>
                  <a:lnTo>
                    <a:pt x="217324" y="0"/>
                  </a:lnTo>
                  <a:lnTo>
                    <a:pt x="270630" y="155817"/>
                  </a:lnTo>
                  <a:lnTo>
                    <a:pt x="426447" y="159917"/>
                  </a:lnTo>
                  <a:lnTo>
                    <a:pt x="315735" y="254227"/>
                  </a:lnTo>
                  <a:lnTo>
                    <a:pt x="356739" y="426446"/>
                  </a:lnTo>
                  <a:lnTo>
                    <a:pt x="225525" y="336236"/>
                  </a:lnTo>
                  <a:lnTo>
                    <a:pt x="86109" y="426446"/>
                  </a:lnTo>
                  <a:close/>
                </a:path>
              </a:pathLst>
            </a:custGeom>
            <a:noFill/>
            <a:ln cap="rnd" w="25560">
              <a:solidFill>
                <a:srgbClr val="ffffff">
                  <a:alpha val="3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直接连接符 903"/>
            <p:cNvSpPr/>
            <p:nvPr/>
          </p:nvSpPr>
          <p:spPr>
            <a:xfrm>
              <a:off x="1227960" y="2709720"/>
              <a:ext cx="6120" cy="2355840"/>
            </a:xfrm>
            <a:prstGeom prst="line">
              <a:avLst/>
            </a:prstGeom>
            <a:ln cap="rnd" w="255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直接连接符 904"/>
            <p:cNvSpPr/>
            <p:nvPr/>
          </p:nvSpPr>
          <p:spPr>
            <a:xfrm>
              <a:off x="1283400" y="2701800"/>
              <a:ext cx="6120" cy="2354400"/>
            </a:xfrm>
            <a:prstGeom prst="line">
              <a:avLst/>
            </a:prstGeom>
            <a:ln cap="rnd" w="255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直接连接符 905"/>
            <p:cNvSpPr/>
            <p:nvPr/>
          </p:nvSpPr>
          <p:spPr>
            <a:xfrm>
              <a:off x="1196280" y="2697120"/>
              <a:ext cx="6120" cy="2328840"/>
            </a:xfrm>
            <a:prstGeom prst="line">
              <a:avLst/>
            </a:prstGeom>
            <a:ln cap="rnd" w="255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直接连接符 906"/>
            <p:cNvSpPr/>
            <p:nvPr/>
          </p:nvSpPr>
          <p:spPr>
            <a:xfrm>
              <a:off x="868320" y="4675320"/>
              <a:ext cx="107640" cy="107640"/>
            </a:xfrm>
            <a:prstGeom prst="line">
              <a:avLst/>
            </a:prstGeom>
            <a:ln w="255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直接连接符 907"/>
            <p:cNvSpPr/>
            <p:nvPr/>
          </p:nvSpPr>
          <p:spPr>
            <a:xfrm>
              <a:off x="1068120" y="4867560"/>
              <a:ext cx="125280" cy="112680"/>
            </a:xfrm>
            <a:prstGeom prst="line">
              <a:avLst/>
            </a:prstGeom>
            <a:ln w="255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直接连接符 908"/>
            <p:cNvSpPr/>
            <p:nvPr/>
          </p:nvSpPr>
          <p:spPr>
            <a:xfrm>
              <a:off x="1293840" y="5056200"/>
              <a:ext cx="255240" cy="239400"/>
            </a:xfrm>
            <a:prstGeom prst="line">
              <a:avLst/>
            </a:prstGeom>
            <a:ln w="255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直接连接符 909"/>
            <p:cNvSpPr/>
            <p:nvPr/>
          </p:nvSpPr>
          <p:spPr>
            <a:xfrm>
              <a:off x="5905440" y="4348080"/>
              <a:ext cx="807840" cy="225360"/>
            </a:xfrm>
            <a:prstGeom prst="line">
              <a:avLst/>
            </a:prstGeom>
            <a:ln cap="rnd" w="255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直接连接符 910"/>
            <p:cNvSpPr/>
            <p:nvPr/>
          </p:nvSpPr>
          <p:spPr>
            <a:xfrm flipV="1">
              <a:off x="5904720" y="2519280"/>
              <a:ext cx="12600" cy="1828800"/>
            </a:xfrm>
            <a:prstGeom prst="line">
              <a:avLst/>
            </a:prstGeom>
            <a:ln cap="rnd" w="255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直接连接符 911"/>
            <p:cNvSpPr/>
            <p:nvPr/>
          </p:nvSpPr>
          <p:spPr>
            <a:xfrm flipH="1">
              <a:off x="3506400" y="4348080"/>
              <a:ext cx="2398680" cy="142560"/>
            </a:xfrm>
            <a:prstGeom prst="line">
              <a:avLst/>
            </a:prstGeom>
            <a:ln cap="rnd" w="255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78" name="Picture 106" descr="C:\Documents and Settings\Administrator\桌面\图片2.png"/>
            <p:cNvPicPr/>
            <p:nvPr/>
          </p:nvPicPr>
          <p:blipFill>
            <a:blip r:embed="rId3"/>
            <a:stretch/>
          </p:blipFill>
          <p:spPr>
            <a:xfrm rot="21540000">
              <a:off x="1775880" y="2561400"/>
              <a:ext cx="990000" cy="2358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79" name="Group 35"/>
          <p:cNvGrpSpPr/>
          <p:nvPr/>
        </p:nvGrpSpPr>
        <p:grpSpPr>
          <a:xfrm>
            <a:off x="3695040" y="2253600"/>
            <a:ext cx="339120" cy="339120"/>
            <a:chOff x="3695040" y="2253600"/>
            <a:chExt cx="339120" cy="339120"/>
          </a:xfrm>
        </p:grpSpPr>
        <p:grpSp>
          <p:nvGrpSpPr>
            <p:cNvPr id="480" name="Group 31"/>
            <p:cNvGrpSpPr/>
            <p:nvPr/>
          </p:nvGrpSpPr>
          <p:grpSpPr>
            <a:xfrm>
              <a:off x="3695040" y="2372040"/>
              <a:ext cx="339120" cy="102600"/>
              <a:chOff x="3695040" y="2372040"/>
              <a:chExt cx="339120" cy="102600"/>
            </a:xfrm>
          </p:grpSpPr>
          <p:sp>
            <p:nvSpPr>
              <p:cNvPr id="481" name="AutoShape 29"/>
              <p:cNvSpPr/>
              <p:nvPr/>
            </p:nvSpPr>
            <p:spPr>
              <a:xfrm rot="15300000">
                <a:off x="3773880" y="2358720"/>
                <a:ext cx="13320" cy="17388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160" bIns="11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AutoShape 30"/>
              <p:cNvSpPr/>
              <p:nvPr/>
            </p:nvSpPr>
            <p:spPr>
              <a:xfrm flipV="1" rot="15300000">
                <a:off x="3941640" y="2313360"/>
                <a:ext cx="13320" cy="17388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160" bIns="11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3" name="Group 32"/>
            <p:cNvGrpSpPr/>
            <p:nvPr/>
          </p:nvGrpSpPr>
          <p:grpSpPr>
            <a:xfrm>
              <a:off x="3813120" y="2253600"/>
              <a:ext cx="102600" cy="339120"/>
              <a:chOff x="3813120" y="2253600"/>
              <a:chExt cx="102600" cy="339120"/>
            </a:xfrm>
          </p:grpSpPr>
          <p:sp>
            <p:nvSpPr>
              <p:cNvPr id="484" name="AutoShape 33"/>
              <p:cNvSpPr/>
              <p:nvPr/>
            </p:nvSpPr>
            <p:spPr>
              <a:xfrm rot="20700000">
                <a:off x="3835080" y="2252160"/>
                <a:ext cx="13320" cy="17388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160" bIns="11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AutoShape 34"/>
              <p:cNvSpPr/>
              <p:nvPr/>
            </p:nvSpPr>
            <p:spPr>
              <a:xfrm flipV="1" rot="20700000">
                <a:off x="3879720" y="2419200"/>
                <a:ext cx="13320" cy="17388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160" bIns="11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86" name="Group 36"/>
          <p:cNvGrpSpPr/>
          <p:nvPr/>
        </p:nvGrpSpPr>
        <p:grpSpPr>
          <a:xfrm>
            <a:off x="3767400" y="2259000"/>
            <a:ext cx="192600" cy="328320"/>
            <a:chOff x="3767400" y="2259000"/>
            <a:chExt cx="192600" cy="328320"/>
          </a:xfrm>
        </p:grpSpPr>
        <p:grpSp>
          <p:nvGrpSpPr>
            <p:cNvPr id="487" name="Group 37"/>
            <p:cNvGrpSpPr/>
            <p:nvPr/>
          </p:nvGrpSpPr>
          <p:grpSpPr>
            <a:xfrm>
              <a:off x="3799800" y="2381760"/>
              <a:ext cx="128160" cy="82800"/>
              <a:chOff x="3799800" y="2381760"/>
              <a:chExt cx="128160" cy="82800"/>
            </a:xfrm>
          </p:grpSpPr>
          <p:sp>
            <p:nvSpPr>
              <p:cNvPr id="488" name="AutoShape 38"/>
              <p:cNvSpPr/>
              <p:nvPr/>
            </p:nvSpPr>
            <p:spPr>
              <a:xfrm rot="18000000">
                <a:off x="3826440" y="2370600"/>
                <a:ext cx="14400" cy="698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400" bIns="-23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AutoShape 39"/>
              <p:cNvSpPr/>
              <p:nvPr/>
            </p:nvSpPr>
            <p:spPr>
              <a:xfrm flipV="1" rot="18000000">
                <a:off x="3886560" y="2405520"/>
                <a:ext cx="14400" cy="698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400" bIns="-23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0" name="Group 40"/>
            <p:cNvGrpSpPr/>
            <p:nvPr/>
          </p:nvGrpSpPr>
          <p:grpSpPr>
            <a:xfrm>
              <a:off x="3767400" y="2259000"/>
              <a:ext cx="192600" cy="328320"/>
              <a:chOff x="3767400" y="2259000"/>
              <a:chExt cx="192600" cy="328320"/>
            </a:xfrm>
          </p:grpSpPr>
          <p:sp>
            <p:nvSpPr>
              <p:cNvPr id="491" name="AutoShape 41"/>
              <p:cNvSpPr/>
              <p:nvPr/>
            </p:nvSpPr>
            <p:spPr>
              <a:xfrm rot="1800000">
                <a:off x="3907800" y="2247480"/>
                <a:ext cx="5400" cy="18828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840" bIns="15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AutoShape 42"/>
              <p:cNvSpPr/>
              <p:nvPr/>
            </p:nvSpPr>
            <p:spPr>
              <a:xfrm flipV="1" rot="1800000">
                <a:off x="3813840" y="2410200"/>
                <a:ext cx="5400" cy="18828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840" bIns="15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93" name="Group 35"/>
          <p:cNvGrpSpPr/>
          <p:nvPr/>
        </p:nvGrpSpPr>
        <p:grpSpPr>
          <a:xfrm>
            <a:off x="4642560" y="2286720"/>
            <a:ext cx="339480" cy="340920"/>
            <a:chOff x="4642560" y="2286720"/>
            <a:chExt cx="339480" cy="340920"/>
          </a:xfrm>
        </p:grpSpPr>
        <p:grpSp>
          <p:nvGrpSpPr>
            <p:cNvPr id="494" name="Group 31"/>
            <p:cNvGrpSpPr/>
            <p:nvPr/>
          </p:nvGrpSpPr>
          <p:grpSpPr>
            <a:xfrm>
              <a:off x="4642560" y="2405880"/>
              <a:ext cx="339480" cy="102960"/>
              <a:chOff x="4642560" y="2405880"/>
              <a:chExt cx="339480" cy="102960"/>
            </a:xfrm>
          </p:grpSpPr>
          <p:sp>
            <p:nvSpPr>
              <p:cNvPr id="495" name="AutoShape 29"/>
              <p:cNvSpPr/>
              <p:nvPr/>
            </p:nvSpPr>
            <p:spPr>
              <a:xfrm rot="15300000">
                <a:off x="4721400" y="2392560"/>
                <a:ext cx="13680" cy="17388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160" bIns="11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AutoShape 30"/>
              <p:cNvSpPr/>
              <p:nvPr/>
            </p:nvSpPr>
            <p:spPr>
              <a:xfrm flipV="1" rot="15300000">
                <a:off x="4889160" y="2347920"/>
                <a:ext cx="13680" cy="17388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160" bIns="11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7" name="Group 32"/>
            <p:cNvGrpSpPr/>
            <p:nvPr/>
          </p:nvGrpSpPr>
          <p:grpSpPr>
            <a:xfrm>
              <a:off x="4760640" y="2286720"/>
              <a:ext cx="103320" cy="340920"/>
              <a:chOff x="4760640" y="2286720"/>
              <a:chExt cx="103320" cy="340920"/>
            </a:xfrm>
          </p:grpSpPr>
          <p:sp>
            <p:nvSpPr>
              <p:cNvPr id="498" name="AutoShape 33"/>
              <p:cNvSpPr/>
              <p:nvPr/>
            </p:nvSpPr>
            <p:spPr>
              <a:xfrm rot="20700000">
                <a:off x="4782960" y="2285280"/>
                <a:ext cx="13320" cy="17460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520" bIns="11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AutoShape 34"/>
              <p:cNvSpPr/>
              <p:nvPr/>
            </p:nvSpPr>
            <p:spPr>
              <a:xfrm flipV="1" rot="20700000">
                <a:off x="4827960" y="2454120"/>
                <a:ext cx="13320" cy="17460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520" bIns="11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00" name="Group 36"/>
          <p:cNvGrpSpPr/>
          <p:nvPr/>
        </p:nvGrpSpPr>
        <p:grpSpPr>
          <a:xfrm>
            <a:off x="4715280" y="2292120"/>
            <a:ext cx="192960" cy="328680"/>
            <a:chOff x="4715280" y="2292120"/>
            <a:chExt cx="192960" cy="328680"/>
          </a:xfrm>
        </p:grpSpPr>
        <p:grpSp>
          <p:nvGrpSpPr>
            <p:cNvPr id="501" name="Group 37"/>
            <p:cNvGrpSpPr/>
            <p:nvPr/>
          </p:nvGrpSpPr>
          <p:grpSpPr>
            <a:xfrm>
              <a:off x="4747320" y="2415240"/>
              <a:ext cx="128520" cy="83160"/>
              <a:chOff x="4747320" y="2415240"/>
              <a:chExt cx="128520" cy="83160"/>
            </a:xfrm>
          </p:grpSpPr>
          <p:sp>
            <p:nvSpPr>
              <p:cNvPr id="502" name="AutoShape 38"/>
              <p:cNvSpPr/>
              <p:nvPr/>
            </p:nvSpPr>
            <p:spPr>
              <a:xfrm rot="18000000">
                <a:off x="4773600" y="2404080"/>
                <a:ext cx="14760" cy="698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400" bIns="-23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AutoShape 39"/>
              <p:cNvSpPr/>
              <p:nvPr/>
            </p:nvSpPr>
            <p:spPr>
              <a:xfrm flipV="1" rot="18000000">
                <a:off x="4834440" y="2439000"/>
                <a:ext cx="14760" cy="698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400" bIns="-23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4" name="Group 40"/>
            <p:cNvGrpSpPr/>
            <p:nvPr/>
          </p:nvGrpSpPr>
          <p:grpSpPr>
            <a:xfrm>
              <a:off x="4715280" y="2292120"/>
              <a:ext cx="192960" cy="328680"/>
              <a:chOff x="4715280" y="2292120"/>
              <a:chExt cx="192960" cy="328680"/>
            </a:xfrm>
          </p:grpSpPr>
          <p:sp>
            <p:nvSpPr>
              <p:cNvPr id="505" name="AutoShape 41"/>
              <p:cNvSpPr/>
              <p:nvPr/>
            </p:nvSpPr>
            <p:spPr>
              <a:xfrm rot="1800000">
                <a:off x="4856040" y="2280600"/>
                <a:ext cx="5400" cy="18828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840" bIns="15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AutoShape 42"/>
              <p:cNvSpPr/>
              <p:nvPr/>
            </p:nvSpPr>
            <p:spPr>
              <a:xfrm flipV="1" rot="1800000">
                <a:off x="4761720" y="2443680"/>
                <a:ext cx="5400" cy="18828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840" bIns="15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07" name="Group 35"/>
          <p:cNvGrpSpPr/>
          <p:nvPr/>
        </p:nvGrpSpPr>
        <p:grpSpPr>
          <a:xfrm>
            <a:off x="5534640" y="3537720"/>
            <a:ext cx="339480" cy="340920"/>
            <a:chOff x="5534640" y="3537720"/>
            <a:chExt cx="339480" cy="340920"/>
          </a:xfrm>
        </p:grpSpPr>
        <p:grpSp>
          <p:nvGrpSpPr>
            <p:cNvPr id="508" name="Group 31"/>
            <p:cNvGrpSpPr/>
            <p:nvPr/>
          </p:nvGrpSpPr>
          <p:grpSpPr>
            <a:xfrm>
              <a:off x="5534640" y="3656880"/>
              <a:ext cx="339480" cy="102960"/>
              <a:chOff x="5534640" y="3656880"/>
              <a:chExt cx="339480" cy="102960"/>
            </a:xfrm>
          </p:grpSpPr>
          <p:sp>
            <p:nvSpPr>
              <p:cNvPr id="509" name="AutoShape 29"/>
              <p:cNvSpPr/>
              <p:nvPr/>
            </p:nvSpPr>
            <p:spPr>
              <a:xfrm rot="15300000">
                <a:off x="5613480" y="3643560"/>
                <a:ext cx="13680" cy="17388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160" bIns="11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AutoShape 30"/>
              <p:cNvSpPr/>
              <p:nvPr/>
            </p:nvSpPr>
            <p:spPr>
              <a:xfrm flipV="1" rot="15300000">
                <a:off x="5781240" y="3598920"/>
                <a:ext cx="13680" cy="17388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160" bIns="11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1" name="Group 32"/>
            <p:cNvGrpSpPr/>
            <p:nvPr/>
          </p:nvGrpSpPr>
          <p:grpSpPr>
            <a:xfrm>
              <a:off x="5652720" y="3537720"/>
              <a:ext cx="103320" cy="340920"/>
              <a:chOff x="5652720" y="3537720"/>
              <a:chExt cx="103320" cy="340920"/>
            </a:xfrm>
          </p:grpSpPr>
          <p:sp>
            <p:nvSpPr>
              <p:cNvPr id="512" name="AutoShape 33"/>
              <p:cNvSpPr/>
              <p:nvPr/>
            </p:nvSpPr>
            <p:spPr>
              <a:xfrm rot="20700000">
                <a:off x="5675040" y="3536280"/>
                <a:ext cx="13320" cy="17460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520" bIns="11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AutoShape 34"/>
              <p:cNvSpPr/>
              <p:nvPr/>
            </p:nvSpPr>
            <p:spPr>
              <a:xfrm flipV="1" rot="20700000">
                <a:off x="5720040" y="3705120"/>
                <a:ext cx="13320" cy="17460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520" bIns="11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14" name="Group 36"/>
          <p:cNvGrpSpPr/>
          <p:nvPr/>
        </p:nvGrpSpPr>
        <p:grpSpPr>
          <a:xfrm>
            <a:off x="5607360" y="3543120"/>
            <a:ext cx="192600" cy="328320"/>
            <a:chOff x="5607360" y="3543120"/>
            <a:chExt cx="192600" cy="328320"/>
          </a:xfrm>
        </p:grpSpPr>
        <p:grpSp>
          <p:nvGrpSpPr>
            <p:cNvPr id="515" name="Group 37"/>
            <p:cNvGrpSpPr/>
            <p:nvPr/>
          </p:nvGrpSpPr>
          <p:grpSpPr>
            <a:xfrm>
              <a:off x="5639760" y="3665880"/>
              <a:ext cx="128160" cy="82800"/>
              <a:chOff x="5639760" y="3665880"/>
              <a:chExt cx="128160" cy="82800"/>
            </a:xfrm>
          </p:grpSpPr>
          <p:sp>
            <p:nvSpPr>
              <p:cNvPr id="516" name="AutoShape 38"/>
              <p:cNvSpPr/>
              <p:nvPr/>
            </p:nvSpPr>
            <p:spPr>
              <a:xfrm rot="18000000">
                <a:off x="5666400" y="3654720"/>
                <a:ext cx="14400" cy="698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400" bIns="-23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AutoShape 39"/>
              <p:cNvSpPr/>
              <p:nvPr/>
            </p:nvSpPr>
            <p:spPr>
              <a:xfrm flipV="1" rot="18000000">
                <a:off x="5726520" y="3689640"/>
                <a:ext cx="14400" cy="698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400" bIns="-23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8" name="Group 40"/>
            <p:cNvGrpSpPr/>
            <p:nvPr/>
          </p:nvGrpSpPr>
          <p:grpSpPr>
            <a:xfrm>
              <a:off x="5607360" y="3543120"/>
              <a:ext cx="192600" cy="328320"/>
              <a:chOff x="5607360" y="3543120"/>
              <a:chExt cx="192600" cy="328320"/>
            </a:xfrm>
          </p:grpSpPr>
          <p:sp>
            <p:nvSpPr>
              <p:cNvPr id="519" name="AutoShape 41"/>
              <p:cNvSpPr/>
              <p:nvPr/>
            </p:nvSpPr>
            <p:spPr>
              <a:xfrm rot="1800000">
                <a:off x="5747760" y="3531600"/>
                <a:ext cx="5400" cy="18828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840" bIns="15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AutoShape 42"/>
              <p:cNvSpPr/>
              <p:nvPr/>
            </p:nvSpPr>
            <p:spPr>
              <a:xfrm flipV="1" rot="1800000">
                <a:off x="5653800" y="3694320"/>
                <a:ext cx="5400" cy="18828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840" bIns="15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21" name="Group 35"/>
          <p:cNvGrpSpPr/>
          <p:nvPr/>
        </p:nvGrpSpPr>
        <p:grpSpPr>
          <a:xfrm>
            <a:off x="6865200" y="2286720"/>
            <a:ext cx="339480" cy="339480"/>
            <a:chOff x="6865200" y="2286720"/>
            <a:chExt cx="339480" cy="339480"/>
          </a:xfrm>
        </p:grpSpPr>
        <p:grpSp>
          <p:nvGrpSpPr>
            <p:cNvPr id="522" name="Group 31"/>
            <p:cNvGrpSpPr/>
            <p:nvPr/>
          </p:nvGrpSpPr>
          <p:grpSpPr>
            <a:xfrm>
              <a:off x="6865200" y="2405520"/>
              <a:ext cx="339480" cy="102600"/>
              <a:chOff x="6865200" y="2405520"/>
              <a:chExt cx="339480" cy="102600"/>
            </a:xfrm>
          </p:grpSpPr>
          <p:sp>
            <p:nvSpPr>
              <p:cNvPr id="523" name="AutoShape 29"/>
              <p:cNvSpPr/>
              <p:nvPr/>
            </p:nvSpPr>
            <p:spPr>
              <a:xfrm rot="15300000">
                <a:off x="6944040" y="2392200"/>
                <a:ext cx="13320" cy="17388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160" bIns="11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AutoShape 30"/>
              <p:cNvSpPr/>
              <p:nvPr/>
            </p:nvSpPr>
            <p:spPr>
              <a:xfrm flipV="1" rot="15300000">
                <a:off x="7112160" y="2346840"/>
                <a:ext cx="13320" cy="17388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160" bIns="11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5" name="Group 32"/>
            <p:cNvGrpSpPr/>
            <p:nvPr/>
          </p:nvGrpSpPr>
          <p:grpSpPr>
            <a:xfrm>
              <a:off x="6983640" y="2286720"/>
              <a:ext cx="102600" cy="339480"/>
              <a:chOff x="6983640" y="2286720"/>
              <a:chExt cx="102600" cy="339480"/>
            </a:xfrm>
          </p:grpSpPr>
          <p:sp>
            <p:nvSpPr>
              <p:cNvPr id="526" name="AutoShape 33"/>
              <p:cNvSpPr/>
              <p:nvPr/>
            </p:nvSpPr>
            <p:spPr>
              <a:xfrm rot="20700000">
                <a:off x="7005600" y="2285280"/>
                <a:ext cx="13320" cy="17388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160" bIns="11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AutoShape 34"/>
              <p:cNvSpPr/>
              <p:nvPr/>
            </p:nvSpPr>
            <p:spPr>
              <a:xfrm flipV="1" rot="20700000">
                <a:off x="7050240" y="2452680"/>
                <a:ext cx="13320" cy="17388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160" bIns="11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28" name="Group 36"/>
          <p:cNvGrpSpPr/>
          <p:nvPr/>
        </p:nvGrpSpPr>
        <p:grpSpPr>
          <a:xfrm>
            <a:off x="6939360" y="2292120"/>
            <a:ext cx="192960" cy="328680"/>
            <a:chOff x="6939360" y="2292120"/>
            <a:chExt cx="192960" cy="328680"/>
          </a:xfrm>
        </p:grpSpPr>
        <p:grpSp>
          <p:nvGrpSpPr>
            <p:cNvPr id="529" name="Group 37"/>
            <p:cNvGrpSpPr/>
            <p:nvPr/>
          </p:nvGrpSpPr>
          <p:grpSpPr>
            <a:xfrm>
              <a:off x="6971400" y="2415240"/>
              <a:ext cx="128520" cy="83160"/>
              <a:chOff x="6971400" y="2415240"/>
              <a:chExt cx="128520" cy="83160"/>
            </a:xfrm>
          </p:grpSpPr>
          <p:sp>
            <p:nvSpPr>
              <p:cNvPr id="530" name="AutoShape 38"/>
              <p:cNvSpPr/>
              <p:nvPr/>
            </p:nvSpPr>
            <p:spPr>
              <a:xfrm rot="18000000">
                <a:off x="6997680" y="2404080"/>
                <a:ext cx="14760" cy="698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400" bIns="-23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AutoShape 39"/>
              <p:cNvSpPr/>
              <p:nvPr/>
            </p:nvSpPr>
            <p:spPr>
              <a:xfrm flipV="1" rot="18000000">
                <a:off x="7058520" y="2439000"/>
                <a:ext cx="14760" cy="698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400" bIns="-23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2" name="Group 40"/>
            <p:cNvGrpSpPr/>
            <p:nvPr/>
          </p:nvGrpSpPr>
          <p:grpSpPr>
            <a:xfrm>
              <a:off x="6939360" y="2292120"/>
              <a:ext cx="192960" cy="328680"/>
              <a:chOff x="6939360" y="2292120"/>
              <a:chExt cx="192960" cy="328680"/>
            </a:xfrm>
          </p:grpSpPr>
          <p:sp>
            <p:nvSpPr>
              <p:cNvPr id="533" name="AutoShape 41"/>
              <p:cNvSpPr/>
              <p:nvPr/>
            </p:nvSpPr>
            <p:spPr>
              <a:xfrm rot="1800000">
                <a:off x="7080120" y="2280600"/>
                <a:ext cx="5400" cy="18828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840" bIns="15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AutoShape 42"/>
              <p:cNvSpPr/>
              <p:nvPr/>
            </p:nvSpPr>
            <p:spPr>
              <a:xfrm flipV="1" rot="1800000">
                <a:off x="6985800" y="2443680"/>
                <a:ext cx="5400" cy="18828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840" bIns="15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35" name="Freeform 42"/>
          <p:cNvSpPr/>
          <p:nvPr/>
        </p:nvSpPr>
        <p:spPr>
          <a:xfrm flipV="1">
            <a:off x="-11160" y="3650400"/>
            <a:ext cx="1044720" cy="360"/>
          </a:xfrm>
          <a:custGeom>
            <a:avLst/>
            <a:gdLst/>
            <a:ahLst/>
            <a:rect l="l" t="t" r="r" b="b"/>
            <a:pathLst>
              <a:path w="945" h="1">
                <a:moveTo>
                  <a:pt x="945" y="1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63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6" name="组合 326"/>
          <p:cNvGrpSpPr/>
          <p:nvPr/>
        </p:nvGrpSpPr>
        <p:grpSpPr>
          <a:xfrm>
            <a:off x="1008000" y="1928880"/>
            <a:ext cx="938160" cy="1789200"/>
            <a:chOff x="1008000" y="1928880"/>
            <a:chExt cx="938160" cy="1789200"/>
          </a:xfrm>
        </p:grpSpPr>
        <p:sp>
          <p:nvSpPr>
            <p:cNvPr id="537" name="任意多边形 53"/>
            <p:cNvSpPr/>
            <p:nvPr/>
          </p:nvSpPr>
          <p:spPr>
            <a:xfrm>
              <a:off x="1018800" y="1928880"/>
              <a:ext cx="903240" cy="1249560"/>
            </a:xfrm>
            <a:custGeom>
              <a:avLst/>
              <a:gdLst/>
              <a:ahLst/>
              <a:rect l="l" t="t" r="r" b="b"/>
              <a:pathLst>
                <a:path w="902677" h="1249810">
                  <a:moveTo>
                    <a:pt x="0" y="1197708"/>
                  </a:moveTo>
                  <a:cubicBezTo>
                    <a:pt x="31261" y="1213339"/>
                    <a:pt x="62523" y="1228970"/>
                    <a:pt x="93784" y="1236785"/>
                  </a:cubicBezTo>
                  <a:cubicBezTo>
                    <a:pt x="125046" y="1244600"/>
                    <a:pt x="160866" y="1249810"/>
                    <a:pt x="187569" y="1244600"/>
                  </a:cubicBezTo>
                  <a:cubicBezTo>
                    <a:pt x="214272" y="1239390"/>
                    <a:pt x="237067" y="1219852"/>
                    <a:pt x="254000" y="1205524"/>
                  </a:cubicBezTo>
                  <a:cubicBezTo>
                    <a:pt x="270933" y="1191196"/>
                    <a:pt x="283959" y="1176867"/>
                    <a:pt x="289169" y="1158631"/>
                  </a:cubicBezTo>
                  <a:cubicBezTo>
                    <a:pt x="294379" y="1140395"/>
                    <a:pt x="293728" y="1122159"/>
                    <a:pt x="285261" y="1096108"/>
                  </a:cubicBezTo>
                  <a:cubicBezTo>
                    <a:pt x="276794" y="1070057"/>
                    <a:pt x="256605" y="1038144"/>
                    <a:pt x="238369" y="1002324"/>
                  </a:cubicBezTo>
                  <a:cubicBezTo>
                    <a:pt x="220133" y="966504"/>
                    <a:pt x="194082" y="926123"/>
                    <a:pt x="175846" y="881185"/>
                  </a:cubicBezTo>
                  <a:cubicBezTo>
                    <a:pt x="157610" y="836247"/>
                    <a:pt x="139373" y="778934"/>
                    <a:pt x="128953" y="732693"/>
                  </a:cubicBezTo>
                  <a:cubicBezTo>
                    <a:pt x="118533" y="686452"/>
                    <a:pt x="113974" y="649980"/>
                    <a:pt x="113323" y="603739"/>
                  </a:cubicBezTo>
                  <a:cubicBezTo>
                    <a:pt x="112672" y="557498"/>
                    <a:pt x="112672" y="506047"/>
                    <a:pt x="125046" y="455247"/>
                  </a:cubicBezTo>
                  <a:cubicBezTo>
                    <a:pt x="137420" y="404447"/>
                    <a:pt x="161518" y="345180"/>
                    <a:pt x="187569" y="298939"/>
                  </a:cubicBezTo>
                  <a:cubicBezTo>
                    <a:pt x="213620" y="252698"/>
                    <a:pt x="247486" y="213620"/>
                    <a:pt x="281353" y="177800"/>
                  </a:cubicBezTo>
                  <a:cubicBezTo>
                    <a:pt x="315220" y="141980"/>
                    <a:pt x="346482" y="111370"/>
                    <a:pt x="390769" y="84016"/>
                  </a:cubicBezTo>
                  <a:cubicBezTo>
                    <a:pt x="435056" y="56662"/>
                    <a:pt x="496928" y="27354"/>
                    <a:pt x="547077" y="13677"/>
                  </a:cubicBezTo>
                  <a:cubicBezTo>
                    <a:pt x="597226" y="0"/>
                    <a:pt x="646071" y="1303"/>
                    <a:pt x="691661" y="1954"/>
                  </a:cubicBezTo>
                  <a:cubicBezTo>
                    <a:pt x="737251" y="2605"/>
                    <a:pt x="785446" y="11072"/>
                    <a:pt x="820615" y="17585"/>
                  </a:cubicBezTo>
                  <a:cubicBezTo>
                    <a:pt x="855784" y="24098"/>
                    <a:pt x="902677" y="41031"/>
                    <a:pt x="902677" y="41031"/>
                  </a:cubicBezTo>
                  <a:lnTo>
                    <a:pt x="902677" y="41031"/>
                  </a:lnTo>
                  <a:lnTo>
                    <a:pt x="902677" y="41031"/>
                  </a:lnTo>
                </a:path>
              </a:pathLst>
            </a:custGeom>
            <a:noFill/>
            <a:ln cap="rnd" w="63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任意多边形 59"/>
            <p:cNvSpPr/>
            <p:nvPr/>
          </p:nvSpPr>
          <p:spPr>
            <a:xfrm>
              <a:off x="1008000" y="2454120"/>
              <a:ext cx="933480" cy="1263960"/>
            </a:xfrm>
            <a:custGeom>
              <a:avLst/>
              <a:gdLst/>
              <a:ahLst/>
              <a:rect l="l" t="t" r="r" b="b"/>
              <a:pathLst>
                <a:path w="934681" h="1263240">
                  <a:moveTo>
                    <a:pt x="934681" y="19702"/>
                  </a:moveTo>
                  <a:cubicBezTo>
                    <a:pt x="913241" y="12169"/>
                    <a:pt x="891801" y="4636"/>
                    <a:pt x="872099" y="2318"/>
                  </a:cubicBezTo>
                  <a:cubicBezTo>
                    <a:pt x="852397" y="0"/>
                    <a:pt x="835013" y="1159"/>
                    <a:pt x="816470" y="5795"/>
                  </a:cubicBezTo>
                  <a:cubicBezTo>
                    <a:pt x="797927" y="10431"/>
                    <a:pt x="775328" y="19122"/>
                    <a:pt x="760841" y="30132"/>
                  </a:cubicBezTo>
                  <a:cubicBezTo>
                    <a:pt x="746354" y="41142"/>
                    <a:pt x="737662" y="55049"/>
                    <a:pt x="729550" y="71854"/>
                  </a:cubicBezTo>
                  <a:cubicBezTo>
                    <a:pt x="721438" y="88659"/>
                    <a:pt x="710428" y="106043"/>
                    <a:pt x="712166" y="130960"/>
                  </a:cubicBezTo>
                  <a:cubicBezTo>
                    <a:pt x="713904" y="155877"/>
                    <a:pt x="726652" y="190645"/>
                    <a:pt x="739980" y="221357"/>
                  </a:cubicBezTo>
                  <a:cubicBezTo>
                    <a:pt x="753308" y="252069"/>
                    <a:pt x="775327" y="282780"/>
                    <a:pt x="792132" y="315230"/>
                  </a:cubicBezTo>
                  <a:cubicBezTo>
                    <a:pt x="808937" y="347680"/>
                    <a:pt x="825742" y="380131"/>
                    <a:pt x="840808" y="416058"/>
                  </a:cubicBezTo>
                  <a:cubicBezTo>
                    <a:pt x="855874" y="451985"/>
                    <a:pt x="872678" y="491388"/>
                    <a:pt x="882529" y="530792"/>
                  </a:cubicBezTo>
                  <a:cubicBezTo>
                    <a:pt x="892380" y="570196"/>
                    <a:pt x="898175" y="613077"/>
                    <a:pt x="899913" y="652481"/>
                  </a:cubicBezTo>
                  <a:cubicBezTo>
                    <a:pt x="901651" y="691885"/>
                    <a:pt x="898175" y="733606"/>
                    <a:pt x="892960" y="767215"/>
                  </a:cubicBezTo>
                  <a:cubicBezTo>
                    <a:pt x="887745" y="800824"/>
                    <a:pt x="876735" y="830377"/>
                    <a:pt x="868622" y="854135"/>
                  </a:cubicBezTo>
                  <a:cubicBezTo>
                    <a:pt x="860509" y="877893"/>
                    <a:pt x="856453" y="886006"/>
                    <a:pt x="844284" y="909764"/>
                  </a:cubicBezTo>
                  <a:cubicBezTo>
                    <a:pt x="832115" y="933522"/>
                    <a:pt x="814152" y="969449"/>
                    <a:pt x="795609" y="996684"/>
                  </a:cubicBezTo>
                  <a:cubicBezTo>
                    <a:pt x="777066" y="1023919"/>
                    <a:pt x="759682" y="1045939"/>
                    <a:pt x="733027" y="1073174"/>
                  </a:cubicBezTo>
                  <a:cubicBezTo>
                    <a:pt x="706372" y="1100409"/>
                    <a:pt x="677398" y="1133439"/>
                    <a:pt x="635676" y="1160094"/>
                  </a:cubicBezTo>
                  <a:cubicBezTo>
                    <a:pt x="593954" y="1186749"/>
                    <a:pt x="531371" y="1216882"/>
                    <a:pt x="482696" y="1233107"/>
                  </a:cubicBezTo>
                  <a:cubicBezTo>
                    <a:pt x="434021" y="1249332"/>
                    <a:pt x="386505" y="1253968"/>
                    <a:pt x="343624" y="1257445"/>
                  </a:cubicBezTo>
                  <a:cubicBezTo>
                    <a:pt x="300744" y="1260922"/>
                    <a:pt x="277565" y="1263240"/>
                    <a:pt x="225413" y="1253968"/>
                  </a:cubicBezTo>
                  <a:cubicBezTo>
                    <a:pt x="173261" y="1244697"/>
                    <a:pt x="61424" y="1211667"/>
                    <a:pt x="30712" y="1201816"/>
                  </a:cubicBezTo>
                  <a:cubicBezTo>
                    <a:pt x="0" y="1191965"/>
                    <a:pt x="20571" y="1193413"/>
                    <a:pt x="41142" y="1194862"/>
                  </a:cubicBezTo>
                </a:path>
              </a:pathLst>
            </a:custGeom>
            <a:noFill/>
            <a:ln cap="rnd" w="63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直接连接符 64"/>
            <p:cNvSpPr/>
            <p:nvPr/>
          </p:nvSpPr>
          <p:spPr>
            <a:xfrm>
              <a:off x="1018800" y="3133800"/>
              <a:ext cx="0" cy="520560"/>
            </a:xfrm>
            <a:prstGeom prst="line">
              <a:avLst/>
            </a:prstGeom>
            <a:ln cap="rnd"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直接连接符 72"/>
            <p:cNvSpPr/>
            <p:nvPr/>
          </p:nvSpPr>
          <p:spPr>
            <a:xfrm>
              <a:off x="1946160" y="1990800"/>
              <a:ext cx="0" cy="476280"/>
            </a:xfrm>
            <a:prstGeom prst="line">
              <a:avLst/>
            </a:prstGeom>
            <a:ln cap="rnd"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1" name="组合 327"/>
          <p:cNvGrpSpPr/>
          <p:nvPr/>
        </p:nvGrpSpPr>
        <p:grpSpPr>
          <a:xfrm>
            <a:off x="2149560" y="2424240"/>
            <a:ext cx="1717560" cy="1282680"/>
            <a:chOff x="2149560" y="2424240"/>
            <a:chExt cx="1717560" cy="1282680"/>
          </a:xfrm>
        </p:grpSpPr>
        <p:sp>
          <p:nvSpPr>
            <p:cNvPr id="542" name="直接连接符 75"/>
            <p:cNvSpPr/>
            <p:nvPr/>
          </p:nvSpPr>
          <p:spPr>
            <a:xfrm>
              <a:off x="2149560" y="2430360"/>
              <a:ext cx="504720" cy="1440"/>
            </a:xfrm>
            <a:prstGeom prst="line">
              <a:avLst/>
            </a:prstGeom>
            <a:ln cap="rnd"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直接连接符 76"/>
            <p:cNvSpPr/>
            <p:nvPr/>
          </p:nvSpPr>
          <p:spPr>
            <a:xfrm>
              <a:off x="2760480" y="2424240"/>
              <a:ext cx="504720" cy="1440"/>
            </a:xfrm>
            <a:prstGeom prst="line">
              <a:avLst/>
            </a:prstGeom>
            <a:ln cap="rnd"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直接连接符 77"/>
            <p:cNvSpPr/>
            <p:nvPr/>
          </p:nvSpPr>
          <p:spPr>
            <a:xfrm>
              <a:off x="3357720" y="2424240"/>
              <a:ext cx="506160" cy="1440"/>
            </a:xfrm>
            <a:prstGeom prst="line">
              <a:avLst/>
            </a:prstGeom>
            <a:ln cap="rnd"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直接连接符 79"/>
            <p:cNvSpPr/>
            <p:nvPr/>
          </p:nvSpPr>
          <p:spPr>
            <a:xfrm>
              <a:off x="2152440" y="2433600"/>
              <a:ext cx="1440" cy="776160"/>
            </a:xfrm>
            <a:prstGeom prst="line">
              <a:avLst/>
            </a:prstGeom>
            <a:ln cap="rnd"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直接连接符 80"/>
            <p:cNvSpPr/>
            <p:nvPr/>
          </p:nvSpPr>
          <p:spPr>
            <a:xfrm>
              <a:off x="3864240" y="2430360"/>
              <a:ext cx="0" cy="781200"/>
            </a:xfrm>
            <a:prstGeom prst="line">
              <a:avLst/>
            </a:prstGeom>
            <a:ln cap="rnd"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直接连接符 82"/>
            <p:cNvSpPr/>
            <p:nvPr/>
          </p:nvSpPr>
          <p:spPr>
            <a:xfrm>
              <a:off x="2654280" y="2433600"/>
              <a:ext cx="0" cy="722160"/>
            </a:xfrm>
            <a:prstGeom prst="line">
              <a:avLst/>
            </a:prstGeom>
            <a:ln cap="rnd"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直接连接符 83"/>
            <p:cNvSpPr/>
            <p:nvPr/>
          </p:nvSpPr>
          <p:spPr>
            <a:xfrm>
              <a:off x="2760480" y="2430360"/>
              <a:ext cx="0" cy="723960"/>
            </a:xfrm>
            <a:prstGeom prst="line">
              <a:avLst/>
            </a:prstGeom>
            <a:ln cap="rnd"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直接连接符 84"/>
            <p:cNvSpPr/>
            <p:nvPr/>
          </p:nvSpPr>
          <p:spPr>
            <a:xfrm>
              <a:off x="3265560" y="2427120"/>
              <a:ext cx="0" cy="720720"/>
            </a:xfrm>
            <a:prstGeom prst="line">
              <a:avLst/>
            </a:prstGeom>
            <a:ln cap="rnd"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直接连接符 85"/>
            <p:cNvSpPr/>
            <p:nvPr/>
          </p:nvSpPr>
          <p:spPr>
            <a:xfrm>
              <a:off x="3357720" y="2427120"/>
              <a:ext cx="0" cy="746280"/>
            </a:xfrm>
            <a:prstGeom prst="line">
              <a:avLst/>
            </a:prstGeom>
            <a:ln cap="rnd"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任意多边形 91"/>
            <p:cNvSpPr/>
            <p:nvPr/>
          </p:nvSpPr>
          <p:spPr>
            <a:xfrm>
              <a:off x="2154240" y="3211560"/>
              <a:ext cx="849240" cy="495360"/>
            </a:xfrm>
            <a:custGeom>
              <a:avLst/>
              <a:gdLst/>
              <a:ahLst/>
              <a:rect l="l" t="t" r="r" b="b"/>
              <a:pathLst>
                <a:path w="850537" h="495905">
                  <a:moveTo>
                    <a:pt x="0" y="0"/>
                  </a:moveTo>
                  <a:cubicBezTo>
                    <a:pt x="1693" y="32899"/>
                    <a:pt x="3387" y="65799"/>
                    <a:pt x="8709" y="95795"/>
                  </a:cubicBezTo>
                  <a:cubicBezTo>
                    <a:pt x="14031" y="125791"/>
                    <a:pt x="17901" y="147079"/>
                    <a:pt x="31931" y="179978"/>
                  </a:cubicBezTo>
                  <a:cubicBezTo>
                    <a:pt x="45961" y="212877"/>
                    <a:pt x="63862" y="255452"/>
                    <a:pt x="92891" y="293189"/>
                  </a:cubicBezTo>
                  <a:cubicBezTo>
                    <a:pt x="121920" y="330926"/>
                    <a:pt x="170301" y="378339"/>
                    <a:pt x="206103" y="406400"/>
                  </a:cubicBezTo>
                  <a:cubicBezTo>
                    <a:pt x="241905" y="434461"/>
                    <a:pt x="272385" y="448492"/>
                    <a:pt x="307703" y="461555"/>
                  </a:cubicBezTo>
                  <a:cubicBezTo>
                    <a:pt x="343021" y="474618"/>
                    <a:pt x="381725" y="479456"/>
                    <a:pt x="418011" y="484778"/>
                  </a:cubicBezTo>
                  <a:cubicBezTo>
                    <a:pt x="454297" y="490100"/>
                    <a:pt x="494453" y="495905"/>
                    <a:pt x="525417" y="493486"/>
                  </a:cubicBezTo>
                  <a:cubicBezTo>
                    <a:pt x="556381" y="491067"/>
                    <a:pt x="579604" y="478488"/>
                    <a:pt x="603794" y="470263"/>
                  </a:cubicBezTo>
                  <a:cubicBezTo>
                    <a:pt x="627984" y="462038"/>
                    <a:pt x="645886" y="456233"/>
                    <a:pt x="670560" y="444138"/>
                  </a:cubicBezTo>
                  <a:cubicBezTo>
                    <a:pt x="695234" y="432043"/>
                    <a:pt x="721844" y="418496"/>
                    <a:pt x="751840" y="397692"/>
                  </a:cubicBezTo>
                  <a:cubicBezTo>
                    <a:pt x="781836" y="376888"/>
                    <a:pt x="850537" y="319315"/>
                    <a:pt x="850537" y="319315"/>
                  </a:cubicBezTo>
                  <a:lnTo>
                    <a:pt x="850537" y="319315"/>
                  </a:lnTo>
                </a:path>
              </a:pathLst>
            </a:custGeom>
            <a:noFill/>
            <a:ln cap="rnd" w="63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任意多边形 92"/>
            <p:cNvSpPr/>
            <p:nvPr/>
          </p:nvSpPr>
          <p:spPr>
            <a:xfrm>
              <a:off x="3016440" y="3208320"/>
              <a:ext cx="850680" cy="493560"/>
            </a:xfrm>
            <a:custGeom>
              <a:avLst/>
              <a:gdLst/>
              <a:ahLst/>
              <a:rect l="l" t="t" r="r" b="b"/>
              <a:pathLst>
                <a:path w="851988" h="493485">
                  <a:moveTo>
                    <a:pt x="0" y="328022"/>
                  </a:moveTo>
                  <a:cubicBezTo>
                    <a:pt x="18142" y="346649"/>
                    <a:pt x="36285" y="365276"/>
                    <a:pt x="55154" y="380274"/>
                  </a:cubicBezTo>
                  <a:cubicBezTo>
                    <a:pt x="74023" y="395272"/>
                    <a:pt x="94827" y="406400"/>
                    <a:pt x="113212" y="418011"/>
                  </a:cubicBezTo>
                  <a:cubicBezTo>
                    <a:pt x="131597" y="429622"/>
                    <a:pt x="148046" y="441234"/>
                    <a:pt x="165463" y="449942"/>
                  </a:cubicBezTo>
                  <a:cubicBezTo>
                    <a:pt x="182880" y="458650"/>
                    <a:pt x="198362" y="463972"/>
                    <a:pt x="217714" y="470262"/>
                  </a:cubicBezTo>
                  <a:cubicBezTo>
                    <a:pt x="237066" y="476552"/>
                    <a:pt x="259806" y="483810"/>
                    <a:pt x="281577" y="487680"/>
                  </a:cubicBezTo>
                  <a:cubicBezTo>
                    <a:pt x="303349" y="491551"/>
                    <a:pt x="323669" y="493485"/>
                    <a:pt x="348343" y="493485"/>
                  </a:cubicBezTo>
                  <a:cubicBezTo>
                    <a:pt x="373017" y="493485"/>
                    <a:pt x="405433" y="490583"/>
                    <a:pt x="429623" y="487680"/>
                  </a:cubicBezTo>
                  <a:cubicBezTo>
                    <a:pt x="453813" y="484777"/>
                    <a:pt x="470747" y="483325"/>
                    <a:pt x="493486" y="476068"/>
                  </a:cubicBezTo>
                  <a:cubicBezTo>
                    <a:pt x="516225" y="468811"/>
                    <a:pt x="542350" y="456716"/>
                    <a:pt x="566057" y="444137"/>
                  </a:cubicBezTo>
                  <a:cubicBezTo>
                    <a:pt x="589764" y="431558"/>
                    <a:pt x="613955" y="415592"/>
                    <a:pt x="635726" y="400594"/>
                  </a:cubicBezTo>
                  <a:cubicBezTo>
                    <a:pt x="657498" y="385596"/>
                    <a:pt x="677818" y="372533"/>
                    <a:pt x="696686" y="354148"/>
                  </a:cubicBezTo>
                  <a:cubicBezTo>
                    <a:pt x="715555" y="335763"/>
                    <a:pt x="733455" y="311573"/>
                    <a:pt x="748937" y="290285"/>
                  </a:cubicBezTo>
                  <a:cubicBezTo>
                    <a:pt x="764419" y="268997"/>
                    <a:pt x="775547" y="253515"/>
                    <a:pt x="789577" y="226422"/>
                  </a:cubicBezTo>
                  <a:cubicBezTo>
                    <a:pt x="803608" y="199329"/>
                    <a:pt x="824411" y="156753"/>
                    <a:pt x="833120" y="127725"/>
                  </a:cubicBezTo>
                  <a:cubicBezTo>
                    <a:pt x="841829" y="98697"/>
                    <a:pt x="840378" y="65314"/>
                    <a:pt x="841829" y="52251"/>
                  </a:cubicBezTo>
                  <a:cubicBezTo>
                    <a:pt x="843280" y="39188"/>
                    <a:pt x="849086" y="89987"/>
                    <a:pt x="841828" y="49348"/>
                  </a:cubicBezTo>
                  <a:cubicBezTo>
                    <a:pt x="851988" y="34835"/>
                    <a:pt x="849086" y="8225"/>
                    <a:pt x="850537" y="0"/>
                  </a:cubicBezTo>
                  <a:lnTo>
                    <a:pt x="850537" y="0"/>
                  </a:lnTo>
                </a:path>
              </a:pathLst>
            </a:custGeom>
            <a:noFill/>
            <a:ln cap="rnd" w="63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任意多边形 93"/>
            <p:cNvSpPr/>
            <p:nvPr/>
          </p:nvSpPr>
          <p:spPr>
            <a:xfrm>
              <a:off x="2657520" y="3149640"/>
              <a:ext cx="99720" cy="64800"/>
            </a:xfrm>
            <a:custGeom>
              <a:avLst/>
              <a:gdLst/>
              <a:ahLst/>
              <a:rect l="l" t="t" r="r" b="b"/>
              <a:pathLst>
                <a:path w="99664" h="90956">
                  <a:moveTo>
                    <a:pt x="483" y="6773"/>
                  </a:moveTo>
                  <a:cubicBezTo>
                    <a:pt x="241" y="34592"/>
                    <a:pt x="0" y="62411"/>
                    <a:pt x="9192" y="76441"/>
                  </a:cubicBezTo>
                  <a:cubicBezTo>
                    <a:pt x="18384" y="90471"/>
                    <a:pt x="42090" y="90956"/>
                    <a:pt x="55637" y="90956"/>
                  </a:cubicBezTo>
                  <a:cubicBezTo>
                    <a:pt x="69184" y="90956"/>
                    <a:pt x="83699" y="84666"/>
                    <a:pt x="90472" y="76441"/>
                  </a:cubicBezTo>
                  <a:cubicBezTo>
                    <a:pt x="97245" y="68216"/>
                    <a:pt x="94826" y="53218"/>
                    <a:pt x="96277" y="41607"/>
                  </a:cubicBezTo>
                  <a:cubicBezTo>
                    <a:pt x="97728" y="29996"/>
                    <a:pt x="98696" y="13546"/>
                    <a:pt x="99180" y="6773"/>
                  </a:cubicBezTo>
                  <a:cubicBezTo>
                    <a:pt x="99664" y="0"/>
                    <a:pt x="99422" y="483"/>
                    <a:pt x="99180" y="967"/>
                  </a:cubicBezTo>
                </a:path>
              </a:pathLst>
            </a:custGeom>
            <a:noFill/>
            <a:ln cap="rnd" w="63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任意多边形 94"/>
            <p:cNvSpPr/>
            <p:nvPr/>
          </p:nvSpPr>
          <p:spPr>
            <a:xfrm>
              <a:off x="3265560" y="3143520"/>
              <a:ext cx="98280" cy="64800"/>
            </a:xfrm>
            <a:custGeom>
              <a:avLst/>
              <a:gdLst/>
              <a:ahLst/>
              <a:rect l="l" t="t" r="r" b="b"/>
              <a:pathLst>
                <a:path w="99664" h="90956">
                  <a:moveTo>
                    <a:pt x="483" y="6773"/>
                  </a:moveTo>
                  <a:cubicBezTo>
                    <a:pt x="241" y="34592"/>
                    <a:pt x="0" y="62411"/>
                    <a:pt x="9192" y="76441"/>
                  </a:cubicBezTo>
                  <a:cubicBezTo>
                    <a:pt x="18384" y="90471"/>
                    <a:pt x="42090" y="90956"/>
                    <a:pt x="55637" y="90956"/>
                  </a:cubicBezTo>
                  <a:cubicBezTo>
                    <a:pt x="69184" y="90956"/>
                    <a:pt x="83699" y="84666"/>
                    <a:pt x="90472" y="76441"/>
                  </a:cubicBezTo>
                  <a:cubicBezTo>
                    <a:pt x="97245" y="68216"/>
                    <a:pt x="94826" y="53218"/>
                    <a:pt x="96277" y="41607"/>
                  </a:cubicBezTo>
                  <a:cubicBezTo>
                    <a:pt x="97728" y="29996"/>
                    <a:pt x="98696" y="13546"/>
                    <a:pt x="99180" y="6773"/>
                  </a:cubicBezTo>
                  <a:cubicBezTo>
                    <a:pt x="99664" y="0"/>
                    <a:pt x="99422" y="483"/>
                    <a:pt x="99180" y="967"/>
                  </a:cubicBezTo>
                </a:path>
              </a:pathLst>
            </a:custGeom>
            <a:noFill/>
            <a:ln cap="rnd" w="63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5" name="组合 332"/>
          <p:cNvGrpSpPr/>
          <p:nvPr/>
        </p:nvGrpSpPr>
        <p:grpSpPr>
          <a:xfrm>
            <a:off x="3835440" y="2444760"/>
            <a:ext cx="979560" cy="1814400"/>
            <a:chOff x="3835440" y="2444760"/>
            <a:chExt cx="979560" cy="1814400"/>
          </a:xfrm>
        </p:grpSpPr>
        <p:sp>
          <p:nvSpPr>
            <p:cNvPr id="556" name="直接连接符 102"/>
            <p:cNvSpPr/>
            <p:nvPr/>
          </p:nvSpPr>
          <p:spPr>
            <a:xfrm flipH="1">
              <a:off x="3836880" y="3762360"/>
              <a:ext cx="1440" cy="431640"/>
            </a:xfrm>
            <a:prstGeom prst="line">
              <a:avLst/>
            </a:prstGeom>
            <a:ln cap="rnd"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7" name="组合 328"/>
            <p:cNvGrpSpPr/>
            <p:nvPr/>
          </p:nvGrpSpPr>
          <p:grpSpPr>
            <a:xfrm>
              <a:off x="3835440" y="2444760"/>
              <a:ext cx="979560" cy="1814400"/>
              <a:chOff x="3835440" y="2444760"/>
              <a:chExt cx="979560" cy="1814400"/>
            </a:xfrm>
          </p:grpSpPr>
          <p:grpSp>
            <p:nvGrpSpPr>
              <p:cNvPr id="558" name="组合 206"/>
              <p:cNvGrpSpPr/>
              <p:nvPr/>
            </p:nvGrpSpPr>
            <p:grpSpPr>
              <a:xfrm>
                <a:off x="3836880" y="2444760"/>
                <a:ext cx="463680" cy="1355760"/>
                <a:chOff x="3836880" y="2444760"/>
                <a:chExt cx="463680" cy="1355760"/>
              </a:xfrm>
            </p:grpSpPr>
            <p:sp>
              <p:nvSpPr>
                <p:cNvPr id="559" name="任意多边形 105"/>
                <p:cNvSpPr/>
                <p:nvPr/>
              </p:nvSpPr>
              <p:spPr>
                <a:xfrm>
                  <a:off x="3836880" y="3440160"/>
                  <a:ext cx="462240" cy="360360"/>
                </a:xfrm>
                <a:custGeom>
                  <a:avLst/>
                  <a:gdLst/>
                  <a:ahLst/>
                  <a:rect l="l" t="t" r="r" b="b"/>
                  <a:pathLst>
                    <a:path w="461554" h="360921">
                      <a:moveTo>
                        <a:pt x="461554" y="0"/>
                      </a:moveTo>
                      <a:cubicBezTo>
                        <a:pt x="461070" y="39914"/>
                        <a:pt x="460587" y="79828"/>
                        <a:pt x="455749" y="113211"/>
                      </a:cubicBezTo>
                      <a:cubicBezTo>
                        <a:pt x="450911" y="146594"/>
                        <a:pt x="442686" y="173204"/>
                        <a:pt x="432526" y="200297"/>
                      </a:cubicBezTo>
                      <a:cubicBezTo>
                        <a:pt x="422366" y="227390"/>
                        <a:pt x="408336" y="255935"/>
                        <a:pt x="394789" y="275771"/>
                      </a:cubicBezTo>
                      <a:cubicBezTo>
                        <a:pt x="381242" y="295607"/>
                        <a:pt x="369147" y="306735"/>
                        <a:pt x="351246" y="319314"/>
                      </a:cubicBezTo>
                      <a:cubicBezTo>
                        <a:pt x="333345" y="331893"/>
                        <a:pt x="310122" y="344472"/>
                        <a:pt x="287383" y="351245"/>
                      </a:cubicBezTo>
                      <a:cubicBezTo>
                        <a:pt x="264644" y="358018"/>
                        <a:pt x="243356" y="360921"/>
                        <a:pt x="214811" y="359954"/>
                      </a:cubicBezTo>
                      <a:cubicBezTo>
                        <a:pt x="186266" y="358987"/>
                        <a:pt x="144659" y="351730"/>
                        <a:pt x="116114" y="345440"/>
                      </a:cubicBezTo>
                      <a:cubicBezTo>
                        <a:pt x="87569" y="339151"/>
                        <a:pt x="43543" y="322217"/>
                        <a:pt x="43543" y="322217"/>
                      </a:cubicBezTo>
                      <a:lnTo>
                        <a:pt x="0" y="307703"/>
                      </a:lnTo>
                    </a:path>
                  </a:pathLst>
                </a:custGeom>
                <a:noFill/>
                <a:ln cap="rnd" w="63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0" name="直接连接符 107"/>
                <p:cNvSpPr/>
                <p:nvPr/>
              </p:nvSpPr>
              <p:spPr>
                <a:xfrm flipH="1">
                  <a:off x="4299120" y="2444760"/>
                  <a:ext cx="1440" cy="995400"/>
                </a:xfrm>
                <a:prstGeom prst="line">
                  <a:avLst/>
                </a:prstGeom>
                <a:ln cap="rnd" w="63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61" name="组合 207"/>
              <p:cNvGrpSpPr/>
              <p:nvPr/>
            </p:nvGrpSpPr>
            <p:grpSpPr>
              <a:xfrm>
                <a:off x="3835440" y="2450880"/>
                <a:ext cx="979560" cy="1808280"/>
                <a:chOff x="3835440" y="2450880"/>
                <a:chExt cx="979560" cy="1808280"/>
              </a:xfrm>
            </p:grpSpPr>
            <p:sp>
              <p:nvSpPr>
                <p:cNvPr id="562" name="任意多边形 104"/>
                <p:cNvSpPr/>
                <p:nvPr/>
              </p:nvSpPr>
              <p:spPr>
                <a:xfrm>
                  <a:off x="3835440" y="3430440"/>
                  <a:ext cx="979560" cy="828720"/>
                </a:xfrm>
                <a:custGeom>
                  <a:avLst/>
                  <a:gdLst/>
                  <a:ahLst/>
                  <a:rect l="l" t="t" r="r" b="b"/>
                  <a:pathLst>
                    <a:path w="979714" h="827798">
                      <a:moveTo>
                        <a:pt x="978263" y="0"/>
                      </a:moveTo>
                      <a:cubicBezTo>
                        <a:pt x="978988" y="47413"/>
                        <a:pt x="979714" y="94827"/>
                        <a:pt x="978263" y="130629"/>
                      </a:cubicBezTo>
                      <a:cubicBezTo>
                        <a:pt x="976812" y="166431"/>
                        <a:pt x="974877" y="180462"/>
                        <a:pt x="969555" y="214812"/>
                      </a:cubicBezTo>
                      <a:cubicBezTo>
                        <a:pt x="964233" y="249162"/>
                        <a:pt x="956492" y="299479"/>
                        <a:pt x="946332" y="336732"/>
                      </a:cubicBezTo>
                      <a:cubicBezTo>
                        <a:pt x="936172" y="373985"/>
                        <a:pt x="923109" y="405917"/>
                        <a:pt x="908595" y="438332"/>
                      </a:cubicBezTo>
                      <a:cubicBezTo>
                        <a:pt x="894081" y="470747"/>
                        <a:pt x="880050" y="500259"/>
                        <a:pt x="859246" y="531223"/>
                      </a:cubicBezTo>
                      <a:cubicBezTo>
                        <a:pt x="838442" y="562187"/>
                        <a:pt x="807478" y="597989"/>
                        <a:pt x="783772" y="624114"/>
                      </a:cubicBezTo>
                      <a:cubicBezTo>
                        <a:pt x="760066" y="650239"/>
                        <a:pt x="740713" y="669592"/>
                        <a:pt x="717006" y="687977"/>
                      </a:cubicBezTo>
                      <a:cubicBezTo>
                        <a:pt x="693299" y="706362"/>
                        <a:pt x="663787" y="721360"/>
                        <a:pt x="641532" y="734423"/>
                      </a:cubicBezTo>
                      <a:cubicBezTo>
                        <a:pt x="619277" y="747486"/>
                        <a:pt x="606698" y="756678"/>
                        <a:pt x="583475" y="766354"/>
                      </a:cubicBezTo>
                      <a:cubicBezTo>
                        <a:pt x="560252" y="776030"/>
                        <a:pt x="536545" y="783771"/>
                        <a:pt x="502195" y="792480"/>
                      </a:cubicBezTo>
                      <a:cubicBezTo>
                        <a:pt x="467845" y="801189"/>
                        <a:pt x="420431" y="813768"/>
                        <a:pt x="377372" y="818606"/>
                      </a:cubicBezTo>
                      <a:cubicBezTo>
                        <a:pt x="334313" y="823444"/>
                        <a:pt x="300446" y="827798"/>
                        <a:pt x="243840" y="821509"/>
                      </a:cubicBezTo>
                      <a:cubicBezTo>
                        <a:pt x="187234" y="815220"/>
                        <a:pt x="75474" y="789094"/>
                        <a:pt x="37737" y="780869"/>
                      </a:cubicBezTo>
                      <a:cubicBezTo>
                        <a:pt x="0" y="772644"/>
                        <a:pt x="8708" y="772402"/>
                        <a:pt x="17417" y="772160"/>
                      </a:cubicBezTo>
                    </a:path>
                  </a:pathLst>
                </a:custGeom>
                <a:noFill/>
                <a:ln cap="rnd" w="63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3" name="直接连接符 109"/>
                <p:cNvSpPr/>
                <p:nvPr/>
              </p:nvSpPr>
              <p:spPr>
                <a:xfrm>
                  <a:off x="4815000" y="2450880"/>
                  <a:ext cx="0" cy="986040"/>
                </a:xfrm>
                <a:prstGeom prst="line">
                  <a:avLst/>
                </a:prstGeom>
                <a:ln cap="rnd" w="63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64" name="直接连接符 111"/>
              <p:cNvSpPr/>
              <p:nvPr/>
            </p:nvSpPr>
            <p:spPr>
              <a:xfrm>
                <a:off x="4302360" y="2444760"/>
                <a:ext cx="504720" cy="0"/>
              </a:xfrm>
              <a:prstGeom prst="line">
                <a:avLst/>
              </a:prstGeom>
              <a:ln cap="rnd" w="63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5" name="椭圆 112"/>
          <p:cNvSpPr/>
          <p:nvPr/>
        </p:nvSpPr>
        <p:spPr>
          <a:xfrm>
            <a:off x="4289400" y="1855800"/>
            <a:ext cx="515880" cy="506520"/>
          </a:xfrm>
          <a:prstGeom prst="ellipse">
            <a:avLst/>
          </a:prstGeom>
          <a:noFill/>
          <a:ln cap="rnd" w="63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6" name="组合 329"/>
          <p:cNvGrpSpPr/>
          <p:nvPr/>
        </p:nvGrpSpPr>
        <p:grpSpPr>
          <a:xfrm>
            <a:off x="4998960" y="1947960"/>
            <a:ext cx="725400" cy="1735200"/>
            <a:chOff x="4998960" y="1947960"/>
            <a:chExt cx="725400" cy="1735200"/>
          </a:xfrm>
        </p:grpSpPr>
        <p:sp>
          <p:nvSpPr>
            <p:cNvPr id="567" name="直接连接符 119"/>
            <p:cNvSpPr/>
            <p:nvPr/>
          </p:nvSpPr>
          <p:spPr>
            <a:xfrm>
              <a:off x="4998960" y="1947960"/>
              <a:ext cx="492120" cy="0"/>
            </a:xfrm>
            <a:prstGeom prst="line">
              <a:avLst/>
            </a:prstGeom>
            <a:ln cap="rnd"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直接连接符 123"/>
            <p:cNvSpPr/>
            <p:nvPr/>
          </p:nvSpPr>
          <p:spPr>
            <a:xfrm>
              <a:off x="5500440" y="1949400"/>
              <a:ext cx="0" cy="461880"/>
            </a:xfrm>
            <a:prstGeom prst="line">
              <a:avLst/>
            </a:prstGeom>
            <a:ln cap="rnd"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9" name="组合 223"/>
            <p:cNvGrpSpPr/>
            <p:nvPr/>
          </p:nvGrpSpPr>
          <p:grpSpPr>
            <a:xfrm>
              <a:off x="5511600" y="2414520"/>
              <a:ext cx="199800" cy="528480"/>
              <a:chOff x="5511600" y="2414520"/>
              <a:chExt cx="199800" cy="528480"/>
            </a:xfrm>
          </p:grpSpPr>
          <p:sp>
            <p:nvSpPr>
              <p:cNvPr id="570" name="直接连接符 125"/>
              <p:cNvSpPr/>
              <p:nvPr/>
            </p:nvSpPr>
            <p:spPr>
              <a:xfrm>
                <a:off x="5511600" y="2414520"/>
                <a:ext cx="195120" cy="0"/>
              </a:xfrm>
              <a:prstGeom prst="line">
                <a:avLst/>
              </a:prstGeom>
              <a:ln cap="rnd" w="63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直接连接符 127"/>
              <p:cNvSpPr/>
              <p:nvPr/>
            </p:nvSpPr>
            <p:spPr>
              <a:xfrm>
                <a:off x="5711400" y="2414520"/>
                <a:ext cx="0" cy="528480"/>
              </a:xfrm>
              <a:prstGeom prst="line">
                <a:avLst/>
              </a:prstGeom>
              <a:ln cap="rnd" w="63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2" name="组合 224"/>
            <p:cNvGrpSpPr/>
            <p:nvPr/>
          </p:nvGrpSpPr>
          <p:grpSpPr>
            <a:xfrm>
              <a:off x="5503680" y="2944800"/>
              <a:ext cx="220680" cy="736560"/>
              <a:chOff x="5503680" y="2944800"/>
              <a:chExt cx="220680" cy="736560"/>
            </a:xfrm>
          </p:grpSpPr>
          <p:sp>
            <p:nvSpPr>
              <p:cNvPr id="573" name="直接连接符 129"/>
              <p:cNvSpPr/>
              <p:nvPr/>
            </p:nvSpPr>
            <p:spPr>
              <a:xfrm flipH="1">
                <a:off x="5505120" y="2944800"/>
                <a:ext cx="206640" cy="0"/>
              </a:xfrm>
              <a:prstGeom prst="line">
                <a:avLst/>
              </a:prstGeom>
              <a:ln cap="rnd" w="63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直接连接符 131"/>
              <p:cNvSpPr/>
              <p:nvPr/>
            </p:nvSpPr>
            <p:spPr>
              <a:xfrm flipH="1">
                <a:off x="5722920" y="3176640"/>
                <a:ext cx="1440" cy="504720"/>
              </a:xfrm>
              <a:prstGeom prst="line">
                <a:avLst/>
              </a:prstGeom>
              <a:ln cap="rnd" w="63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任意多边形 134"/>
              <p:cNvSpPr/>
              <p:nvPr/>
            </p:nvSpPr>
            <p:spPr>
              <a:xfrm>
                <a:off x="5503680" y="2944800"/>
                <a:ext cx="216000" cy="207720"/>
              </a:xfrm>
              <a:custGeom>
                <a:avLst/>
                <a:gdLst/>
                <a:ahLst/>
                <a:rect l="l" t="t" r="r" b="b"/>
                <a:pathLst>
                  <a:path w="216694" h="207963">
                    <a:moveTo>
                      <a:pt x="0" y="0"/>
                    </a:moveTo>
                    <a:cubicBezTo>
                      <a:pt x="794" y="32345"/>
                      <a:pt x="1588" y="64691"/>
                      <a:pt x="7144" y="90488"/>
                    </a:cubicBezTo>
                    <a:cubicBezTo>
                      <a:pt x="12700" y="116285"/>
                      <a:pt x="22622" y="138906"/>
                      <a:pt x="33338" y="154781"/>
                    </a:cubicBezTo>
                    <a:cubicBezTo>
                      <a:pt x="44054" y="170656"/>
                      <a:pt x="55166" y="177801"/>
                      <a:pt x="71438" y="185738"/>
                    </a:cubicBezTo>
                    <a:cubicBezTo>
                      <a:pt x="87710" y="193676"/>
                      <a:pt x="114300" y="198834"/>
                      <a:pt x="130969" y="202406"/>
                    </a:cubicBezTo>
                    <a:cubicBezTo>
                      <a:pt x="147638" y="205978"/>
                      <a:pt x="157163" y="206375"/>
                      <a:pt x="171450" y="207169"/>
                    </a:cubicBezTo>
                    <a:cubicBezTo>
                      <a:pt x="185737" y="207963"/>
                      <a:pt x="216694" y="207169"/>
                      <a:pt x="216694" y="207169"/>
                    </a:cubicBezTo>
                  </a:path>
                </a:pathLst>
              </a:custGeom>
              <a:noFill/>
              <a:ln cap="rnd" w="63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6" name="组合 222"/>
            <p:cNvGrpSpPr/>
            <p:nvPr/>
          </p:nvGrpSpPr>
          <p:grpSpPr>
            <a:xfrm>
              <a:off x="4998960" y="1952640"/>
              <a:ext cx="720720" cy="1730520"/>
              <a:chOff x="4998960" y="1952640"/>
              <a:chExt cx="720720" cy="1730520"/>
            </a:xfrm>
          </p:grpSpPr>
          <p:sp>
            <p:nvSpPr>
              <p:cNvPr id="577" name="直接连接符 121"/>
              <p:cNvSpPr/>
              <p:nvPr/>
            </p:nvSpPr>
            <p:spPr>
              <a:xfrm>
                <a:off x="4998960" y="1952640"/>
                <a:ext cx="0" cy="1073160"/>
              </a:xfrm>
              <a:prstGeom prst="line">
                <a:avLst/>
              </a:prstGeom>
              <a:ln cap="rnd" w="63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任意多边形 135"/>
              <p:cNvSpPr/>
              <p:nvPr/>
            </p:nvSpPr>
            <p:spPr>
              <a:xfrm>
                <a:off x="4998960" y="3024360"/>
                <a:ext cx="720720" cy="658800"/>
              </a:xfrm>
              <a:custGeom>
                <a:avLst/>
                <a:gdLst/>
                <a:ahLst/>
                <a:rect l="l" t="t" r="r" b="b"/>
                <a:pathLst>
                  <a:path w="721519" h="659606">
                    <a:moveTo>
                      <a:pt x="0" y="0"/>
                    </a:moveTo>
                    <a:cubicBezTo>
                      <a:pt x="3373" y="45442"/>
                      <a:pt x="6747" y="90885"/>
                      <a:pt x="11906" y="126207"/>
                    </a:cubicBezTo>
                    <a:cubicBezTo>
                      <a:pt x="17065" y="161529"/>
                      <a:pt x="23812" y="186929"/>
                      <a:pt x="30956" y="211932"/>
                    </a:cubicBezTo>
                    <a:cubicBezTo>
                      <a:pt x="38100" y="236935"/>
                      <a:pt x="44450" y="252413"/>
                      <a:pt x="54769" y="276225"/>
                    </a:cubicBezTo>
                    <a:cubicBezTo>
                      <a:pt x="65088" y="300037"/>
                      <a:pt x="76994" y="328216"/>
                      <a:pt x="92869" y="354807"/>
                    </a:cubicBezTo>
                    <a:cubicBezTo>
                      <a:pt x="108744" y="381398"/>
                      <a:pt x="132556" y="414338"/>
                      <a:pt x="150019" y="435769"/>
                    </a:cubicBezTo>
                    <a:cubicBezTo>
                      <a:pt x="167482" y="457200"/>
                      <a:pt x="180182" y="467519"/>
                      <a:pt x="197644" y="483394"/>
                    </a:cubicBezTo>
                    <a:cubicBezTo>
                      <a:pt x="215106" y="499269"/>
                      <a:pt x="230982" y="513557"/>
                      <a:pt x="254794" y="531019"/>
                    </a:cubicBezTo>
                    <a:cubicBezTo>
                      <a:pt x="278606" y="548481"/>
                      <a:pt x="316310" y="574675"/>
                      <a:pt x="340519" y="588169"/>
                    </a:cubicBezTo>
                    <a:cubicBezTo>
                      <a:pt x="364728" y="601663"/>
                      <a:pt x="375841" y="602854"/>
                      <a:pt x="400050" y="611982"/>
                    </a:cubicBezTo>
                    <a:cubicBezTo>
                      <a:pt x="424259" y="621110"/>
                      <a:pt x="454025" y="635398"/>
                      <a:pt x="485775" y="642938"/>
                    </a:cubicBezTo>
                    <a:cubicBezTo>
                      <a:pt x="517525" y="650478"/>
                      <a:pt x="561578" y="654844"/>
                      <a:pt x="590550" y="657225"/>
                    </a:cubicBezTo>
                    <a:cubicBezTo>
                      <a:pt x="619522" y="659606"/>
                      <a:pt x="659606" y="657225"/>
                      <a:pt x="659606" y="657225"/>
                    </a:cubicBezTo>
                    <a:lnTo>
                      <a:pt x="704850" y="657225"/>
                    </a:lnTo>
                    <a:lnTo>
                      <a:pt x="721519" y="657225"/>
                    </a:lnTo>
                  </a:path>
                </a:pathLst>
              </a:custGeom>
              <a:noFill/>
              <a:ln cap="rnd" w="63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79" name="组合 331"/>
          <p:cNvGrpSpPr/>
          <p:nvPr/>
        </p:nvGrpSpPr>
        <p:grpSpPr>
          <a:xfrm>
            <a:off x="5904000" y="2433600"/>
            <a:ext cx="1136520" cy="1257480"/>
            <a:chOff x="5904000" y="2433600"/>
            <a:chExt cx="1136520" cy="1257480"/>
          </a:xfrm>
        </p:grpSpPr>
        <p:sp>
          <p:nvSpPr>
            <p:cNvPr id="580" name="直接连接符 144"/>
            <p:cNvSpPr/>
            <p:nvPr/>
          </p:nvSpPr>
          <p:spPr>
            <a:xfrm>
              <a:off x="5905440" y="2433600"/>
              <a:ext cx="506160" cy="1440"/>
            </a:xfrm>
            <a:prstGeom prst="line">
              <a:avLst/>
            </a:prstGeom>
            <a:ln cap="rnd"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直接连接符 146"/>
            <p:cNvSpPr/>
            <p:nvPr/>
          </p:nvSpPr>
          <p:spPr>
            <a:xfrm>
              <a:off x="6534360" y="2436480"/>
              <a:ext cx="504720" cy="1440"/>
            </a:xfrm>
            <a:prstGeom prst="line">
              <a:avLst/>
            </a:prstGeom>
            <a:ln cap="rnd"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直接连接符 147"/>
            <p:cNvSpPr/>
            <p:nvPr/>
          </p:nvSpPr>
          <p:spPr>
            <a:xfrm flipH="1">
              <a:off x="7039080" y="2446200"/>
              <a:ext cx="1440" cy="770040"/>
            </a:xfrm>
            <a:prstGeom prst="line">
              <a:avLst/>
            </a:prstGeom>
            <a:ln cap="rnd"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3" name="组合 226"/>
            <p:cNvGrpSpPr/>
            <p:nvPr/>
          </p:nvGrpSpPr>
          <p:grpSpPr>
            <a:xfrm>
              <a:off x="5904000" y="2433600"/>
              <a:ext cx="1135080" cy="1257480"/>
              <a:chOff x="5904000" y="2433600"/>
              <a:chExt cx="1135080" cy="1257480"/>
            </a:xfrm>
          </p:grpSpPr>
          <p:sp>
            <p:nvSpPr>
              <p:cNvPr id="584" name="直接连接符 145"/>
              <p:cNvSpPr/>
              <p:nvPr/>
            </p:nvSpPr>
            <p:spPr>
              <a:xfrm>
                <a:off x="5904000" y="2433600"/>
                <a:ext cx="1440" cy="776520"/>
              </a:xfrm>
              <a:prstGeom prst="line">
                <a:avLst/>
              </a:prstGeom>
              <a:ln cap="rnd" w="63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任意多边形 148"/>
              <p:cNvSpPr/>
              <p:nvPr/>
            </p:nvSpPr>
            <p:spPr>
              <a:xfrm>
                <a:off x="5911920" y="3224160"/>
                <a:ext cx="1127160" cy="466920"/>
              </a:xfrm>
              <a:custGeom>
                <a:avLst/>
                <a:gdLst/>
                <a:ahLst/>
                <a:rect l="l" t="t" r="r" b="b"/>
                <a:pathLst>
                  <a:path w="1080892" h="451981">
                    <a:moveTo>
                      <a:pt x="0" y="3131"/>
                    </a:moveTo>
                    <a:cubicBezTo>
                      <a:pt x="9134" y="40970"/>
                      <a:pt x="18268" y="78809"/>
                      <a:pt x="28184" y="106471"/>
                    </a:cubicBezTo>
                    <a:cubicBezTo>
                      <a:pt x="38100" y="134133"/>
                      <a:pt x="47495" y="147181"/>
                      <a:pt x="59499" y="169101"/>
                    </a:cubicBezTo>
                    <a:cubicBezTo>
                      <a:pt x="71503" y="191021"/>
                      <a:pt x="84550" y="215029"/>
                      <a:pt x="100208" y="237994"/>
                    </a:cubicBezTo>
                    <a:cubicBezTo>
                      <a:pt x="115866" y="260959"/>
                      <a:pt x="127348" y="283402"/>
                      <a:pt x="153444" y="306888"/>
                    </a:cubicBezTo>
                    <a:cubicBezTo>
                      <a:pt x="179540" y="330374"/>
                      <a:pt x="225991" y="360645"/>
                      <a:pt x="256784" y="378912"/>
                    </a:cubicBezTo>
                    <a:cubicBezTo>
                      <a:pt x="287577" y="397179"/>
                      <a:pt x="308454" y="406052"/>
                      <a:pt x="338203" y="416490"/>
                    </a:cubicBezTo>
                    <a:cubicBezTo>
                      <a:pt x="367952" y="426928"/>
                      <a:pt x="400311" y="435801"/>
                      <a:pt x="435280" y="441542"/>
                    </a:cubicBezTo>
                    <a:cubicBezTo>
                      <a:pt x="470249" y="447283"/>
                      <a:pt x="507826" y="451981"/>
                      <a:pt x="548014" y="450937"/>
                    </a:cubicBezTo>
                    <a:cubicBezTo>
                      <a:pt x="588202" y="449893"/>
                      <a:pt x="636740" y="444673"/>
                      <a:pt x="676406" y="435279"/>
                    </a:cubicBezTo>
                    <a:cubicBezTo>
                      <a:pt x="716072" y="425885"/>
                      <a:pt x="751040" y="412315"/>
                      <a:pt x="786008" y="394570"/>
                    </a:cubicBezTo>
                    <a:cubicBezTo>
                      <a:pt x="820976" y="376825"/>
                      <a:pt x="859599" y="349685"/>
                      <a:pt x="886217" y="328808"/>
                    </a:cubicBezTo>
                    <a:cubicBezTo>
                      <a:pt x="912835" y="307931"/>
                      <a:pt x="928492" y="288099"/>
                      <a:pt x="945715" y="269310"/>
                    </a:cubicBezTo>
                    <a:cubicBezTo>
                      <a:pt x="962938" y="250521"/>
                      <a:pt x="975986" y="235385"/>
                      <a:pt x="989556" y="216074"/>
                    </a:cubicBezTo>
                    <a:cubicBezTo>
                      <a:pt x="1003126" y="196763"/>
                      <a:pt x="1015652" y="174843"/>
                      <a:pt x="1027134" y="153444"/>
                    </a:cubicBezTo>
                    <a:cubicBezTo>
                      <a:pt x="1038616" y="132045"/>
                      <a:pt x="1050099" y="110646"/>
                      <a:pt x="1058450" y="87682"/>
                    </a:cubicBezTo>
                    <a:cubicBezTo>
                      <a:pt x="1066801" y="64718"/>
                      <a:pt x="1073586" y="30272"/>
                      <a:pt x="1077239" y="15658"/>
                    </a:cubicBezTo>
                    <a:cubicBezTo>
                      <a:pt x="1080892" y="1044"/>
                      <a:pt x="1080631" y="522"/>
                      <a:pt x="1080370" y="0"/>
                    </a:cubicBezTo>
                  </a:path>
                </a:pathLst>
              </a:custGeom>
              <a:noFill/>
              <a:ln cap="rnd" w="63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6" name="直接连接符 142"/>
            <p:cNvSpPr/>
            <p:nvPr/>
          </p:nvSpPr>
          <p:spPr>
            <a:xfrm>
              <a:off x="6535800" y="2436480"/>
              <a:ext cx="0" cy="725760"/>
            </a:xfrm>
            <a:prstGeom prst="line">
              <a:avLst/>
            </a:prstGeom>
            <a:ln cap="rnd"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7" name="组合 241"/>
            <p:cNvGrpSpPr/>
            <p:nvPr/>
          </p:nvGrpSpPr>
          <p:grpSpPr>
            <a:xfrm>
              <a:off x="6408720" y="2439720"/>
              <a:ext cx="126720" cy="822600"/>
              <a:chOff x="6408720" y="2439720"/>
              <a:chExt cx="126720" cy="822600"/>
            </a:xfrm>
          </p:grpSpPr>
          <p:sp>
            <p:nvSpPr>
              <p:cNvPr id="588" name="直接连接符 141"/>
              <p:cNvSpPr/>
              <p:nvPr/>
            </p:nvSpPr>
            <p:spPr>
              <a:xfrm>
                <a:off x="6411600" y="2439720"/>
                <a:ext cx="0" cy="724320"/>
              </a:xfrm>
              <a:prstGeom prst="line">
                <a:avLst/>
              </a:prstGeom>
              <a:ln cap="rnd" w="63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任意多边形 157"/>
              <p:cNvSpPr/>
              <p:nvPr/>
            </p:nvSpPr>
            <p:spPr>
              <a:xfrm>
                <a:off x="6408720" y="3157560"/>
                <a:ext cx="126720" cy="104760"/>
              </a:xfrm>
              <a:custGeom>
                <a:avLst/>
                <a:gdLst/>
                <a:ahLst/>
                <a:rect l="l" t="t" r="r" b="b"/>
                <a:pathLst>
                  <a:path w="137058" h="116090">
                    <a:moveTo>
                      <a:pt x="3580" y="0"/>
                    </a:moveTo>
                    <a:cubicBezTo>
                      <a:pt x="1790" y="18922"/>
                      <a:pt x="0" y="37844"/>
                      <a:pt x="3580" y="55232"/>
                    </a:cubicBezTo>
                    <a:cubicBezTo>
                      <a:pt x="7160" y="72620"/>
                      <a:pt x="15343" y="94611"/>
                      <a:pt x="25060" y="104328"/>
                    </a:cubicBezTo>
                    <a:cubicBezTo>
                      <a:pt x="34777" y="114045"/>
                      <a:pt x="48073" y="111999"/>
                      <a:pt x="61881" y="113533"/>
                    </a:cubicBezTo>
                    <a:cubicBezTo>
                      <a:pt x="75689" y="115067"/>
                      <a:pt x="97168" y="116090"/>
                      <a:pt x="107908" y="113533"/>
                    </a:cubicBezTo>
                    <a:cubicBezTo>
                      <a:pt x="118648" y="110976"/>
                      <a:pt x="121716" y="110465"/>
                      <a:pt x="126319" y="98191"/>
                    </a:cubicBezTo>
                    <a:cubicBezTo>
                      <a:pt x="130922" y="85917"/>
                      <a:pt x="133990" y="55232"/>
                      <a:pt x="135524" y="39890"/>
                    </a:cubicBezTo>
                    <a:cubicBezTo>
                      <a:pt x="137058" y="24548"/>
                      <a:pt x="136291" y="15342"/>
                      <a:pt x="135524" y="6137"/>
                    </a:cubicBezTo>
                  </a:path>
                </a:pathLst>
              </a:custGeom>
              <a:noFill/>
              <a:ln cap="rnd" w="63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0" name="Freeform 42"/>
          <p:cNvSpPr/>
          <p:nvPr/>
        </p:nvSpPr>
        <p:spPr>
          <a:xfrm flipV="1">
            <a:off x="7024680" y="2440800"/>
            <a:ext cx="2131920" cy="360"/>
          </a:xfrm>
          <a:custGeom>
            <a:avLst/>
            <a:gdLst/>
            <a:ahLst/>
            <a:rect l="l" t="t" r="r" b="b"/>
            <a:pathLst>
              <a:path w="945" h="1">
                <a:moveTo>
                  <a:pt x="945" y="1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63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1" name="Group 35"/>
          <p:cNvGrpSpPr/>
          <p:nvPr/>
        </p:nvGrpSpPr>
        <p:grpSpPr>
          <a:xfrm>
            <a:off x="1772280" y="1812240"/>
            <a:ext cx="339480" cy="340920"/>
            <a:chOff x="1772280" y="1812240"/>
            <a:chExt cx="339480" cy="340920"/>
          </a:xfrm>
        </p:grpSpPr>
        <p:grpSp>
          <p:nvGrpSpPr>
            <p:cNvPr id="592" name="Group 31"/>
            <p:cNvGrpSpPr/>
            <p:nvPr/>
          </p:nvGrpSpPr>
          <p:grpSpPr>
            <a:xfrm>
              <a:off x="1772280" y="1931400"/>
              <a:ext cx="339480" cy="102960"/>
              <a:chOff x="1772280" y="1931400"/>
              <a:chExt cx="339480" cy="102960"/>
            </a:xfrm>
          </p:grpSpPr>
          <p:sp>
            <p:nvSpPr>
              <p:cNvPr id="593" name="AutoShape 29"/>
              <p:cNvSpPr/>
              <p:nvPr/>
            </p:nvSpPr>
            <p:spPr>
              <a:xfrm rot="15300000">
                <a:off x="1851120" y="1918080"/>
                <a:ext cx="13680" cy="17388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160" bIns="11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AutoShape 30"/>
              <p:cNvSpPr/>
              <p:nvPr/>
            </p:nvSpPr>
            <p:spPr>
              <a:xfrm flipV="1" rot="15300000">
                <a:off x="2018880" y="1873440"/>
                <a:ext cx="13680" cy="17388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160" bIns="11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5" name="Group 32"/>
            <p:cNvGrpSpPr/>
            <p:nvPr/>
          </p:nvGrpSpPr>
          <p:grpSpPr>
            <a:xfrm>
              <a:off x="1890360" y="1812240"/>
              <a:ext cx="103320" cy="340920"/>
              <a:chOff x="1890360" y="1812240"/>
              <a:chExt cx="103320" cy="340920"/>
            </a:xfrm>
          </p:grpSpPr>
          <p:sp>
            <p:nvSpPr>
              <p:cNvPr id="596" name="AutoShape 33"/>
              <p:cNvSpPr/>
              <p:nvPr/>
            </p:nvSpPr>
            <p:spPr>
              <a:xfrm rot="20700000">
                <a:off x="1912680" y="1810800"/>
                <a:ext cx="13320" cy="17460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520" bIns="11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" name="AutoShape 34"/>
              <p:cNvSpPr/>
              <p:nvPr/>
            </p:nvSpPr>
            <p:spPr>
              <a:xfrm flipV="1" rot="20700000">
                <a:off x="1957680" y="1979640"/>
                <a:ext cx="13320" cy="17460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520" bIns="11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98" name="Group 36"/>
          <p:cNvGrpSpPr/>
          <p:nvPr/>
        </p:nvGrpSpPr>
        <p:grpSpPr>
          <a:xfrm>
            <a:off x="1846800" y="1817640"/>
            <a:ext cx="192600" cy="328320"/>
            <a:chOff x="1846800" y="1817640"/>
            <a:chExt cx="192600" cy="328320"/>
          </a:xfrm>
        </p:grpSpPr>
        <p:grpSp>
          <p:nvGrpSpPr>
            <p:cNvPr id="599" name="Group 37"/>
            <p:cNvGrpSpPr/>
            <p:nvPr/>
          </p:nvGrpSpPr>
          <p:grpSpPr>
            <a:xfrm>
              <a:off x="1878840" y="1940400"/>
              <a:ext cx="128160" cy="82800"/>
              <a:chOff x="1878840" y="1940400"/>
              <a:chExt cx="128160" cy="82800"/>
            </a:xfrm>
          </p:grpSpPr>
          <p:sp>
            <p:nvSpPr>
              <p:cNvPr id="600" name="AutoShape 38"/>
              <p:cNvSpPr/>
              <p:nvPr/>
            </p:nvSpPr>
            <p:spPr>
              <a:xfrm rot="18000000">
                <a:off x="1905480" y="1928880"/>
                <a:ext cx="14400" cy="7020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400" bIns="-23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AutoShape 39"/>
              <p:cNvSpPr/>
              <p:nvPr/>
            </p:nvSpPr>
            <p:spPr>
              <a:xfrm flipV="1" rot="18000000">
                <a:off x="1965600" y="1964160"/>
                <a:ext cx="14400" cy="7020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400" bIns="-23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2" name="Group 40"/>
            <p:cNvGrpSpPr/>
            <p:nvPr/>
          </p:nvGrpSpPr>
          <p:grpSpPr>
            <a:xfrm>
              <a:off x="1846800" y="1817640"/>
              <a:ext cx="192600" cy="328320"/>
              <a:chOff x="1846800" y="1817640"/>
              <a:chExt cx="192600" cy="328320"/>
            </a:xfrm>
          </p:grpSpPr>
          <p:sp>
            <p:nvSpPr>
              <p:cNvPr id="603" name="AutoShape 41"/>
              <p:cNvSpPr/>
              <p:nvPr/>
            </p:nvSpPr>
            <p:spPr>
              <a:xfrm rot="1800000">
                <a:off x="1987200" y="1806120"/>
                <a:ext cx="5400" cy="18828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840" bIns="15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AutoShape 42"/>
              <p:cNvSpPr/>
              <p:nvPr/>
            </p:nvSpPr>
            <p:spPr>
              <a:xfrm flipV="1" rot="1800000">
                <a:off x="1893240" y="1968840"/>
                <a:ext cx="5400" cy="18828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840" bIns="15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05" name="Group 35"/>
          <p:cNvGrpSpPr/>
          <p:nvPr/>
        </p:nvGrpSpPr>
        <p:grpSpPr>
          <a:xfrm>
            <a:off x="1414080" y="1758600"/>
            <a:ext cx="446400" cy="446400"/>
            <a:chOff x="1414080" y="1758600"/>
            <a:chExt cx="446400" cy="446400"/>
          </a:xfrm>
        </p:grpSpPr>
        <p:grpSp>
          <p:nvGrpSpPr>
            <p:cNvPr id="606" name="Group 31"/>
            <p:cNvGrpSpPr/>
            <p:nvPr/>
          </p:nvGrpSpPr>
          <p:grpSpPr>
            <a:xfrm>
              <a:off x="1414080" y="1893960"/>
              <a:ext cx="446400" cy="176040"/>
              <a:chOff x="1414080" y="1893960"/>
              <a:chExt cx="446400" cy="176040"/>
            </a:xfrm>
          </p:grpSpPr>
          <p:sp>
            <p:nvSpPr>
              <p:cNvPr id="607" name="AutoShape 29"/>
              <p:cNvSpPr/>
              <p:nvPr/>
            </p:nvSpPr>
            <p:spPr>
              <a:xfrm rot="17388000">
                <a:off x="1518120" y="1824840"/>
                <a:ext cx="18360" cy="23436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1320" bIns="31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AutoShape 30"/>
              <p:cNvSpPr/>
              <p:nvPr/>
            </p:nvSpPr>
            <p:spPr>
              <a:xfrm flipV="1" rot="17387400">
                <a:off x="1737720" y="1904400"/>
                <a:ext cx="18360" cy="23436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1320" bIns="31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9" name="Group 32"/>
            <p:cNvGrpSpPr/>
            <p:nvPr/>
          </p:nvGrpSpPr>
          <p:grpSpPr>
            <a:xfrm>
              <a:off x="1549080" y="1758600"/>
              <a:ext cx="176040" cy="446400"/>
              <a:chOff x="1549080" y="1758600"/>
              <a:chExt cx="176040" cy="446400"/>
            </a:xfrm>
          </p:grpSpPr>
          <p:sp>
            <p:nvSpPr>
              <p:cNvPr id="610" name="AutoShape 33"/>
              <p:cNvSpPr/>
              <p:nvPr/>
            </p:nvSpPr>
            <p:spPr>
              <a:xfrm rot="1187400">
                <a:off x="1667520" y="1754640"/>
                <a:ext cx="18360" cy="23436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1320" bIns="31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" name="AutoShape 34"/>
              <p:cNvSpPr/>
              <p:nvPr/>
            </p:nvSpPr>
            <p:spPr>
              <a:xfrm flipV="1" rot="1187400">
                <a:off x="1587960" y="1974240"/>
                <a:ext cx="18360" cy="23436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1320" bIns="31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2" name="Group 36"/>
          <p:cNvGrpSpPr/>
          <p:nvPr/>
        </p:nvGrpSpPr>
        <p:grpSpPr>
          <a:xfrm>
            <a:off x="1521000" y="1865520"/>
            <a:ext cx="232560" cy="232560"/>
            <a:chOff x="1521000" y="1865520"/>
            <a:chExt cx="232560" cy="232560"/>
          </a:xfrm>
        </p:grpSpPr>
        <p:grpSp>
          <p:nvGrpSpPr>
            <p:cNvPr id="613" name="Group 37"/>
            <p:cNvGrpSpPr/>
            <p:nvPr/>
          </p:nvGrpSpPr>
          <p:grpSpPr>
            <a:xfrm>
              <a:off x="1578960" y="1865520"/>
              <a:ext cx="116280" cy="232560"/>
              <a:chOff x="1578960" y="1865520"/>
              <a:chExt cx="116280" cy="232560"/>
            </a:xfrm>
          </p:grpSpPr>
          <p:sp>
            <p:nvSpPr>
              <p:cNvPr id="614" name="AutoShape 38"/>
              <p:cNvSpPr/>
              <p:nvPr/>
            </p:nvSpPr>
            <p:spPr>
              <a:xfrm rot="20087400">
                <a:off x="1605240" y="1861560"/>
                <a:ext cx="9720" cy="12636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AutoShape 39"/>
              <p:cNvSpPr/>
              <p:nvPr/>
            </p:nvSpPr>
            <p:spPr>
              <a:xfrm flipV="1" rot="20087400">
                <a:off x="1658880" y="1975320"/>
                <a:ext cx="9720" cy="12636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6" name="Group 40"/>
            <p:cNvGrpSpPr/>
            <p:nvPr/>
          </p:nvGrpSpPr>
          <p:grpSpPr>
            <a:xfrm>
              <a:off x="1521000" y="1923480"/>
              <a:ext cx="232560" cy="116280"/>
              <a:chOff x="1521000" y="1923480"/>
              <a:chExt cx="232560" cy="116280"/>
            </a:xfrm>
          </p:grpSpPr>
          <p:sp>
            <p:nvSpPr>
              <p:cNvPr id="617" name="AutoShape 41"/>
              <p:cNvSpPr/>
              <p:nvPr/>
            </p:nvSpPr>
            <p:spPr>
              <a:xfrm rot="3888000">
                <a:off x="1689120" y="1891440"/>
                <a:ext cx="9720" cy="12636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AutoShape 42"/>
              <p:cNvSpPr/>
              <p:nvPr/>
            </p:nvSpPr>
            <p:spPr>
              <a:xfrm flipV="1" rot="3886800">
                <a:off x="1575360" y="1945080"/>
                <a:ext cx="9720" cy="12636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9" name="Group 35"/>
          <p:cNvGrpSpPr/>
          <p:nvPr/>
        </p:nvGrpSpPr>
        <p:grpSpPr>
          <a:xfrm>
            <a:off x="2314440" y="539280"/>
            <a:ext cx="446400" cy="446400"/>
            <a:chOff x="2314440" y="539280"/>
            <a:chExt cx="446400" cy="446400"/>
          </a:xfrm>
        </p:grpSpPr>
        <p:grpSp>
          <p:nvGrpSpPr>
            <p:cNvPr id="620" name="Group 31"/>
            <p:cNvGrpSpPr/>
            <p:nvPr/>
          </p:nvGrpSpPr>
          <p:grpSpPr>
            <a:xfrm>
              <a:off x="2314440" y="674640"/>
              <a:ext cx="446400" cy="176040"/>
              <a:chOff x="2314440" y="674640"/>
              <a:chExt cx="446400" cy="176040"/>
            </a:xfrm>
          </p:grpSpPr>
          <p:sp>
            <p:nvSpPr>
              <p:cNvPr id="621" name="AutoShape 29"/>
              <p:cNvSpPr/>
              <p:nvPr/>
            </p:nvSpPr>
            <p:spPr>
              <a:xfrm rot="17388000">
                <a:off x="2418120" y="605880"/>
                <a:ext cx="18360" cy="23400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1320" bIns="31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" name="AutoShape 30"/>
              <p:cNvSpPr/>
              <p:nvPr/>
            </p:nvSpPr>
            <p:spPr>
              <a:xfrm flipV="1" rot="17387400">
                <a:off x="2638440" y="685440"/>
                <a:ext cx="18360" cy="23400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1320" bIns="31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3" name="Group 32"/>
            <p:cNvGrpSpPr/>
            <p:nvPr/>
          </p:nvGrpSpPr>
          <p:grpSpPr>
            <a:xfrm>
              <a:off x="2449800" y="539280"/>
              <a:ext cx="175320" cy="446400"/>
              <a:chOff x="2449800" y="539280"/>
              <a:chExt cx="175320" cy="446400"/>
            </a:xfrm>
          </p:grpSpPr>
          <p:sp>
            <p:nvSpPr>
              <p:cNvPr id="624" name="AutoShape 33"/>
              <p:cNvSpPr/>
              <p:nvPr/>
            </p:nvSpPr>
            <p:spPr>
              <a:xfrm rot="1187400">
                <a:off x="2567880" y="535320"/>
                <a:ext cx="18000" cy="23436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1320" bIns="31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AutoShape 34"/>
              <p:cNvSpPr/>
              <p:nvPr/>
            </p:nvSpPr>
            <p:spPr>
              <a:xfrm flipV="1" rot="1187400">
                <a:off x="2488680" y="754920"/>
                <a:ext cx="18000" cy="23436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1320" bIns="31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26" name="Group 36"/>
          <p:cNvGrpSpPr/>
          <p:nvPr/>
        </p:nvGrpSpPr>
        <p:grpSpPr>
          <a:xfrm>
            <a:off x="2421360" y="646200"/>
            <a:ext cx="232920" cy="232560"/>
            <a:chOff x="2421360" y="646200"/>
            <a:chExt cx="232920" cy="232560"/>
          </a:xfrm>
        </p:grpSpPr>
        <p:grpSp>
          <p:nvGrpSpPr>
            <p:cNvPr id="627" name="Group 37"/>
            <p:cNvGrpSpPr/>
            <p:nvPr/>
          </p:nvGrpSpPr>
          <p:grpSpPr>
            <a:xfrm>
              <a:off x="2479320" y="646200"/>
              <a:ext cx="116280" cy="232560"/>
              <a:chOff x="2479320" y="646200"/>
              <a:chExt cx="116280" cy="232560"/>
            </a:xfrm>
          </p:grpSpPr>
          <p:sp>
            <p:nvSpPr>
              <p:cNvPr id="628" name="AutoShape 38"/>
              <p:cNvSpPr/>
              <p:nvPr/>
            </p:nvSpPr>
            <p:spPr>
              <a:xfrm rot="20087400">
                <a:off x="2505600" y="642240"/>
                <a:ext cx="9720" cy="12636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AutoShape 39"/>
              <p:cNvSpPr/>
              <p:nvPr/>
            </p:nvSpPr>
            <p:spPr>
              <a:xfrm flipV="1" rot="20087400">
                <a:off x="2559240" y="756000"/>
                <a:ext cx="9720" cy="12636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0" name="Group 40"/>
            <p:cNvGrpSpPr/>
            <p:nvPr/>
          </p:nvGrpSpPr>
          <p:grpSpPr>
            <a:xfrm>
              <a:off x="2421360" y="704160"/>
              <a:ext cx="232920" cy="116280"/>
              <a:chOff x="2421360" y="704160"/>
              <a:chExt cx="232920" cy="116280"/>
            </a:xfrm>
          </p:grpSpPr>
          <p:sp>
            <p:nvSpPr>
              <p:cNvPr id="631" name="AutoShape 41"/>
              <p:cNvSpPr/>
              <p:nvPr/>
            </p:nvSpPr>
            <p:spPr>
              <a:xfrm rot="3888000">
                <a:off x="2589840" y="672120"/>
                <a:ext cx="9720" cy="12636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AutoShape 42"/>
              <p:cNvSpPr/>
              <p:nvPr/>
            </p:nvSpPr>
            <p:spPr>
              <a:xfrm flipV="1" rot="3886800">
                <a:off x="2475720" y="725760"/>
                <a:ext cx="9720" cy="12636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33" name="Group 35"/>
          <p:cNvGrpSpPr/>
          <p:nvPr/>
        </p:nvGrpSpPr>
        <p:grpSpPr>
          <a:xfrm>
            <a:off x="4244760" y="1540800"/>
            <a:ext cx="446400" cy="445320"/>
            <a:chOff x="4244760" y="1540800"/>
            <a:chExt cx="446400" cy="445320"/>
          </a:xfrm>
        </p:grpSpPr>
        <p:grpSp>
          <p:nvGrpSpPr>
            <p:cNvPr id="634" name="Group 31"/>
            <p:cNvGrpSpPr/>
            <p:nvPr/>
          </p:nvGrpSpPr>
          <p:grpSpPr>
            <a:xfrm>
              <a:off x="4244760" y="1676160"/>
              <a:ext cx="446400" cy="175320"/>
              <a:chOff x="4244760" y="1676160"/>
              <a:chExt cx="446400" cy="175320"/>
            </a:xfrm>
          </p:grpSpPr>
          <p:sp>
            <p:nvSpPr>
              <p:cNvPr id="635" name="AutoShape 29"/>
              <p:cNvSpPr/>
              <p:nvPr/>
            </p:nvSpPr>
            <p:spPr>
              <a:xfrm rot="17388000">
                <a:off x="4348800" y="1607040"/>
                <a:ext cx="18000" cy="23436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1320" bIns="31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AutoShape 30"/>
              <p:cNvSpPr/>
              <p:nvPr/>
            </p:nvSpPr>
            <p:spPr>
              <a:xfrm flipV="1" rot="17387400">
                <a:off x="4568760" y="1685880"/>
                <a:ext cx="18000" cy="23436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1320" bIns="31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7" name="Group 32"/>
            <p:cNvGrpSpPr/>
            <p:nvPr/>
          </p:nvGrpSpPr>
          <p:grpSpPr>
            <a:xfrm>
              <a:off x="4380120" y="1540800"/>
              <a:ext cx="175320" cy="445320"/>
              <a:chOff x="4380120" y="1540800"/>
              <a:chExt cx="175320" cy="445320"/>
            </a:xfrm>
          </p:grpSpPr>
          <p:sp>
            <p:nvSpPr>
              <p:cNvPr id="638" name="AutoShape 33"/>
              <p:cNvSpPr/>
              <p:nvPr/>
            </p:nvSpPr>
            <p:spPr>
              <a:xfrm rot="1187400">
                <a:off x="4497840" y="1536840"/>
                <a:ext cx="18360" cy="23328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AutoShape 34"/>
              <p:cNvSpPr/>
              <p:nvPr/>
            </p:nvSpPr>
            <p:spPr>
              <a:xfrm flipV="1" rot="1187400">
                <a:off x="4419000" y="1756080"/>
                <a:ext cx="18360" cy="23328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40" name="Group 36"/>
          <p:cNvGrpSpPr/>
          <p:nvPr/>
        </p:nvGrpSpPr>
        <p:grpSpPr>
          <a:xfrm>
            <a:off x="4351680" y="1648080"/>
            <a:ext cx="232560" cy="231120"/>
            <a:chOff x="4351680" y="1648080"/>
            <a:chExt cx="232560" cy="231120"/>
          </a:xfrm>
        </p:grpSpPr>
        <p:grpSp>
          <p:nvGrpSpPr>
            <p:cNvPr id="641" name="Group 37"/>
            <p:cNvGrpSpPr/>
            <p:nvPr/>
          </p:nvGrpSpPr>
          <p:grpSpPr>
            <a:xfrm>
              <a:off x="4410000" y="1648080"/>
              <a:ext cx="115560" cy="231120"/>
              <a:chOff x="4410000" y="1648080"/>
              <a:chExt cx="115560" cy="231120"/>
            </a:xfrm>
          </p:grpSpPr>
          <p:sp>
            <p:nvSpPr>
              <p:cNvPr id="642" name="AutoShape 38"/>
              <p:cNvSpPr/>
              <p:nvPr/>
            </p:nvSpPr>
            <p:spPr>
              <a:xfrm rot="20087400">
                <a:off x="4436280" y="1644120"/>
                <a:ext cx="9720" cy="1256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AutoShape 39"/>
              <p:cNvSpPr/>
              <p:nvPr/>
            </p:nvSpPr>
            <p:spPr>
              <a:xfrm flipV="1" rot="20087400">
                <a:off x="4489560" y="1757160"/>
                <a:ext cx="9720" cy="1256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4" name="Group 40"/>
            <p:cNvGrpSpPr/>
            <p:nvPr/>
          </p:nvGrpSpPr>
          <p:grpSpPr>
            <a:xfrm>
              <a:off x="4351680" y="1705680"/>
              <a:ext cx="232560" cy="116280"/>
              <a:chOff x="4351680" y="1705680"/>
              <a:chExt cx="232560" cy="116280"/>
            </a:xfrm>
          </p:grpSpPr>
          <p:sp>
            <p:nvSpPr>
              <p:cNvPr id="645" name="AutoShape 41"/>
              <p:cNvSpPr/>
              <p:nvPr/>
            </p:nvSpPr>
            <p:spPr>
              <a:xfrm rot="3888000">
                <a:off x="4519800" y="1673640"/>
                <a:ext cx="9720" cy="12636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AutoShape 42"/>
              <p:cNvSpPr/>
              <p:nvPr/>
            </p:nvSpPr>
            <p:spPr>
              <a:xfrm flipV="1" rot="3886800">
                <a:off x="4406040" y="1727280"/>
                <a:ext cx="9720" cy="12636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47" name="Group 35"/>
          <p:cNvGrpSpPr/>
          <p:nvPr/>
        </p:nvGrpSpPr>
        <p:grpSpPr>
          <a:xfrm>
            <a:off x="4012560" y="2817360"/>
            <a:ext cx="445320" cy="446400"/>
            <a:chOff x="4012560" y="2817360"/>
            <a:chExt cx="445320" cy="446400"/>
          </a:xfrm>
        </p:grpSpPr>
        <p:grpSp>
          <p:nvGrpSpPr>
            <p:cNvPr id="648" name="Group 31"/>
            <p:cNvGrpSpPr/>
            <p:nvPr/>
          </p:nvGrpSpPr>
          <p:grpSpPr>
            <a:xfrm>
              <a:off x="4012560" y="2953080"/>
              <a:ext cx="445320" cy="175320"/>
              <a:chOff x="4012560" y="2953080"/>
              <a:chExt cx="445320" cy="175320"/>
            </a:xfrm>
          </p:grpSpPr>
          <p:sp>
            <p:nvSpPr>
              <p:cNvPr id="649" name="AutoShape 29"/>
              <p:cNvSpPr/>
              <p:nvPr/>
            </p:nvSpPr>
            <p:spPr>
              <a:xfrm rot="17388000">
                <a:off x="4115880" y="2884320"/>
                <a:ext cx="18360" cy="23328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AutoShape 30"/>
              <p:cNvSpPr/>
              <p:nvPr/>
            </p:nvSpPr>
            <p:spPr>
              <a:xfrm flipV="1" rot="17387400">
                <a:off x="4335840" y="2963160"/>
                <a:ext cx="18360" cy="23328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1" name="Group 32"/>
            <p:cNvGrpSpPr/>
            <p:nvPr/>
          </p:nvGrpSpPr>
          <p:grpSpPr>
            <a:xfrm>
              <a:off x="4147560" y="2817360"/>
              <a:ext cx="175320" cy="446400"/>
              <a:chOff x="4147560" y="2817360"/>
              <a:chExt cx="175320" cy="446400"/>
            </a:xfrm>
          </p:grpSpPr>
          <p:sp>
            <p:nvSpPr>
              <p:cNvPr id="652" name="AutoShape 33"/>
              <p:cNvSpPr/>
              <p:nvPr/>
            </p:nvSpPr>
            <p:spPr>
              <a:xfrm rot="1187400">
                <a:off x="4265640" y="2813400"/>
                <a:ext cx="18000" cy="23436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1320" bIns="31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AutoShape 34"/>
              <p:cNvSpPr/>
              <p:nvPr/>
            </p:nvSpPr>
            <p:spPr>
              <a:xfrm flipV="1" rot="1187400">
                <a:off x="4186440" y="3033000"/>
                <a:ext cx="18000" cy="23436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1320" bIns="31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54" name="Group 36"/>
          <p:cNvGrpSpPr/>
          <p:nvPr/>
        </p:nvGrpSpPr>
        <p:grpSpPr>
          <a:xfrm>
            <a:off x="4119840" y="2924280"/>
            <a:ext cx="231120" cy="232560"/>
            <a:chOff x="4119840" y="2924280"/>
            <a:chExt cx="231120" cy="232560"/>
          </a:xfrm>
        </p:grpSpPr>
        <p:grpSp>
          <p:nvGrpSpPr>
            <p:cNvPr id="655" name="Group 37"/>
            <p:cNvGrpSpPr/>
            <p:nvPr/>
          </p:nvGrpSpPr>
          <p:grpSpPr>
            <a:xfrm>
              <a:off x="4177440" y="2924280"/>
              <a:ext cx="116280" cy="232560"/>
              <a:chOff x="4177440" y="2924280"/>
              <a:chExt cx="116280" cy="232560"/>
            </a:xfrm>
          </p:grpSpPr>
          <p:sp>
            <p:nvSpPr>
              <p:cNvPr id="656" name="AutoShape 38"/>
              <p:cNvSpPr/>
              <p:nvPr/>
            </p:nvSpPr>
            <p:spPr>
              <a:xfrm rot="20087400">
                <a:off x="4203720" y="2920320"/>
                <a:ext cx="9720" cy="12636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" name="AutoShape 39"/>
              <p:cNvSpPr/>
              <p:nvPr/>
            </p:nvSpPr>
            <p:spPr>
              <a:xfrm flipV="1" rot="20087400">
                <a:off x="4257360" y="3034080"/>
                <a:ext cx="9720" cy="12636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8" name="Group 40"/>
            <p:cNvGrpSpPr/>
            <p:nvPr/>
          </p:nvGrpSpPr>
          <p:grpSpPr>
            <a:xfrm>
              <a:off x="4119840" y="2982600"/>
              <a:ext cx="231120" cy="115560"/>
              <a:chOff x="4119840" y="2982600"/>
              <a:chExt cx="231120" cy="115560"/>
            </a:xfrm>
          </p:grpSpPr>
          <p:sp>
            <p:nvSpPr>
              <p:cNvPr id="659" name="AutoShape 41"/>
              <p:cNvSpPr/>
              <p:nvPr/>
            </p:nvSpPr>
            <p:spPr>
              <a:xfrm rot="3888000">
                <a:off x="4286880" y="2950920"/>
                <a:ext cx="9720" cy="1256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AutoShape 42"/>
              <p:cNvSpPr/>
              <p:nvPr/>
            </p:nvSpPr>
            <p:spPr>
              <a:xfrm flipV="1" rot="3886800">
                <a:off x="4173840" y="3003480"/>
                <a:ext cx="9720" cy="1256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61" name="Group 35"/>
          <p:cNvGrpSpPr/>
          <p:nvPr/>
        </p:nvGrpSpPr>
        <p:grpSpPr>
          <a:xfrm>
            <a:off x="4984560" y="3979080"/>
            <a:ext cx="446400" cy="445320"/>
            <a:chOff x="4984560" y="3979080"/>
            <a:chExt cx="446400" cy="445320"/>
          </a:xfrm>
        </p:grpSpPr>
        <p:grpSp>
          <p:nvGrpSpPr>
            <p:cNvPr id="662" name="Group 31"/>
            <p:cNvGrpSpPr/>
            <p:nvPr/>
          </p:nvGrpSpPr>
          <p:grpSpPr>
            <a:xfrm>
              <a:off x="4984560" y="4114080"/>
              <a:ext cx="446400" cy="175680"/>
              <a:chOff x="4984560" y="4114080"/>
              <a:chExt cx="446400" cy="175680"/>
            </a:xfrm>
          </p:grpSpPr>
          <p:sp>
            <p:nvSpPr>
              <p:cNvPr id="663" name="AutoShape 29"/>
              <p:cNvSpPr/>
              <p:nvPr/>
            </p:nvSpPr>
            <p:spPr>
              <a:xfrm rot="17388000">
                <a:off x="5088600" y="4044960"/>
                <a:ext cx="18000" cy="23436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1320" bIns="31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AutoShape 30"/>
              <p:cNvSpPr/>
              <p:nvPr/>
            </p:nvSpPr>
            <p:spPr>
              <a:xfrm flipV="1" rot="17387400">
                <a:off x="5308560" y="4124160"/>
                <a:ext cx="18000" cy="23436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1320" bIns="31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5" name="Group 32"/>
            <p:cNvGrpSpPr/>
            <p:nvPr/>
          </p:nvGrpSpPr>
          <p:grpSpPr>
            <a:xfrm>
              <a:off x="5119920" y="3979080"/>
              <a:ext cx="175320" cy="445320"/>
              <a:chOff x="5119920" y="3979080"/>
              <a:chExt cx="175320" cy="445320"/>
            </a:xfrm>
          </p:grpSpPr>
          <p:sp>
            <p:nvSpPr>
              <p:cNvPr id="666" name="AutoShape 33"/>
              <p:cNvSpPr/>
              <p:nvPr/>
            </p:nvSpPr>
            <p:spPr>
              <a:xfrm rot="1187400">
                <a:off x="5237640" y="3975120"/>
                <a:ext cx="18360" cy="2336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AutoShape 34"/>
              <p:cNvSpPr/>
              <p:nvPr/>
            </p:nvSpPr>
            <p:spPr>
              <a:xfrm flipV="1" rot="1187400">
                <a:off x="5158800" y="4194360"/>
                <a:ext cx="18360" cy="2336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68" name="Group 36"/>
          <p:cNvGrpSpPr/>
          <p:nvPr/>
        </p:nvGrpSpPr>
        <p:grpSpPr>
          <a:xfrm>
            <a:off x="5091480" y="4086360"/>
            <a:ext cx="232560" cy="231120"/>
            <a:chOff x="5091480" y="4086360"/>
            <a:chExt cx="232560" cy="231120"/>
          </a:xfrm>
        </p:grpSpPr>
        <p:grpSp>
          <p:nvGrpSpPr>
            <p:cNvPr id="669" name="Group 37"/>
            <p:cNvGrpSpPr/>
            <p:nvPr/>
          </p:nvGrpSpPr>
          <p:grpSpPr>
            <a:xfrm>
              <a:off x="5149800" y="4086360"/>
              <a:ext cx="115560" cy="231120"/>
              <a:chOff x="5149800" y="4086360"/>
              <a:chExt cx="115560" cy="231120"/>
            </a:xfrm>
          </p:grpSpPr>
          <p:sp>
            <p:nvSpPr>
              <p:cNvPr id="670" name="AutoShape 38"/>
              <p:cNvSpPr/>
              <p:nvPr/>
            </p:nvSpPr>
            <p:spPr>
              <a:xfrm rot="20087400">
                <a:off x="5176080" y="4082400"/>
                <a:ext cx="9720" cy="1256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AutoShape 39"/>
              <p:cNvSpPr/>
              <p:nvPr/>
            </p:nvSpPr>
            <p:spPr>
              <a:xfrm flipV="1" rot="20087400">
                <a:off x="5229360" y="4195440"/>
                <a:ext cx="9720" cy="1256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2" name="Group 40"/>
            <p:cNvGrpSpPr/>
            <p:nvPr/>
          </p:nvGrpSpPr>
          <p:grpSpPr>
            <a:xfrm>
              <a:off x="5091480" y="4143960"/>
              <a:ext cx="232560" cy="116280"/>
              <a:chOff x="5091480" y="4143960"/>
              <a:chExt cx="232560" cy="116280"/>
            </a:xfrm>
          </p:grpSpPr>
          <p:sp>
            <p:nvSpPr>
              <p:cNvPr id="673" name="AutoShape 41"/>
              <p:cNvSpPr/>
              <p:nvPr/>
            </p:nvSpPr>
            <p:spPr>
              <a:xfrm rot="3888000">
                <a:off x="5259600" y="4111920"/>
                <a:ext cx="9720" cy="12636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AutoShape 42"/>
              <p:cNvSpPr/>
              <p:nvPr/>
            </p:nvSpPr>
            <p:spPr>
              <a:xfrm flipV="1" rot="3886800">
                <a:off x="5145840" y="4165560"/>
                <a:ext cx="9720" cy="12636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75" name="Group 35"/>
          <p:cNvGrpSpPr/>
          <p:nvPr/>
        </p:nvGrpSpPr>
        <p:grpSpPr>
          <a:xfrm>
            <a:off x="5695560" y="5009760"/>
            <a:ext cx="446400" cy="446400"/>
            <a:chOff x="5695560" y="5009760"/>
            <a:chExt cx="446400" cy="446400"/>
          </a:xfrm>
        </p:grpSpPr>
        <p:grpSp>
          <p:nvGrpSpPr>
            <p:cNvPr id="676" name="Group 31"/>
            <p:cNvGrpSpPr/>
            <p:nvPr/>
          </p:nvGrpSpPr>
          <p:grpSpPr>
            <a:xfrm>
              <a:off x="5695560" y="5145120"/>
              <a:ext cx="446400" cy="176040"/>
              <a:chOff x="5695560" y="5145120"/>
              <a:chExt cx="446400" cy="176040"/>
            </a:xfrm>
          </p:grpSpPr>
          <p:sp>
            <p:nvSpPr>
              <p:cNvPr id="677" name="AutoShape 29"/>
              <p:cNvSpPr/>
              <p:nvPr/>
            </p:nvSpPr>
            <p:spPr>
              <a:xfrm rot="17388000">
                <a:off x="5799600" y="5076000"/>
                <a:ext cx="18360" cy="23436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1320" bIns="31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AutoShape 30"/>
              <p:cNvSpPr/>
              <p:nvPr/>
            </p:nvSpPr>
            <p:spPr>
              <a:xfrm flipV="1" rot="17387400">
                <a:off x="6019200" y="5155560"/>
                <a:ext cx="18360" cy="23436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1320" bIns="31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9" name="Group 32"/>
            <p:cNvGrpSpPr/>
            <p:nvPr/>
          </p:nvGrpSpPr>
          <p:grpSpPr>
            <a:xfrm>
              <a:off x="5830560" y="5009760"/>
              <a:ext cx="176040" cy="446400"/>
              <a:chOff x="5830560" y="5009760"/>
              <a:chExt cx="176040" cy="446400"/>
            </a:xfrm>
          </p:grpSpPr>
          <p:sp>
            <p:nvSpPr>
              <p:cNvPr id="680" name="AutoShape 33"/>
              <p:cNvSpPr/>
              <p:nvPr/>
            </p:nvSpPr>
            <p:spPr>
              <a:xfrm rot="1187400">
                <a:off x="5949000" y="5005800"/>
                <a:ext cx="18360" cy="23436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1320" bIns="31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1" name="AutoShape 34"/>
              <p:cNvSpPr/>
              <p:nvPr/>
            </p:nvSpPr>
            <p:spPr>
              <a:xfrm flipV="1" rot="1187400">
                <a:off x="5869440" y="5225400"/>
                <a:ext cx="18360" cy="23436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1320" bIns="31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82" name="Group 36"/>
          <p:cNvGrpSpPr/>
          <p:nvPr/>
        </p:nvGrpSpPr>
        <p:grpSpPr>
          <a:xfrm>
            <a:off x="5802480" y="5116680"/>
            <a:ext cx="232560" cy="232560"/>
            <a:chOff x="5802480" y="5116680"/>
            <a:chExt cx="232560" cy="232560"/>
          </a:xfrm>
        </p:grpSpPr>
        <p:grpSp>
          <p:nvGrpSpPr>
            <p:cNvPr id="683" name="Group 37"/>
            <p:cNvGrpSpPr/>
            <p:nvPr/>
          </p:nvGrpSpPr>
          <p:grpSpPr>
            <a:xfrm>
              <a:off x="5860440" y="5116680"/>
              <a:ext cx="116280" cy="232560"/>
              <a:chOff x="5860440" y="5116680"/>
              <a:chExt cx="116280" cy="232560"/>
            </a:xfrm>
          </p:grpSpPr>
          <p:sp>
            <p:nvSpPr>
              <p:cNvPr id="684" name="AutoShape 38"/>
              <p:cNvSpPr/>
              <p:nvPr/>
            </p:nvSpPr>
            <p:spPr>
              <a:xfrm rot="20087400">
                <a:off x="5886720" y="5112720"/>
                <a:ext cx="9720" cy="12636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" name="AutoShape 39"/>
              <p:cNvSpPr/>
              <p:nvPr/>
            </p:nvSpPr>
            <p:spPr>
              <a:xfrm flipV="1" rot="20087400">
                <a:off x="5940360" y="5226480"/>
                <a:ext cx="9720" cy="12636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86" name="Group 40"/>
            <p:cNvGrpSpPr/>
            <p:nvPr/>
          </p:nvGrpSpPr>
          <p:grpSpPr>
            <a:xfrm>
              <a:off x="5802480" y="5174640"/>
              <a:ext cx="232560" cy="116280"/>
              <a:chOff x="5802480" y="5174640"/>
              <a:chExt cx="232560" cy="116280"/>
            </a:xfrm>
          </p:grpSpPr>
          <p:sp>
            <p:nvSpPr>
              <p:cNvPr id="687" name="AutoShape 41"/>
              <p:cNvSpPr/>
              <p:nvPr/>
            </p:nvSpPr>
            <p:spPr>
              <a:xfrm rot="3888000">
                <a:off x="5970600" y="5142600"/>
                <a:ext cx="9720" cy="12636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8" name="AutoShape 42"/>
              <p:cNvSpPr/>
              <p:nvPr/>
            </p:nvSpPr>
            <p:spPr>
              <a:xfrm flipV="1" rot="3886800">
                <a:off x="5856840" y="5196240"/>
                <a:ext cx="9720" cy="12636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89" name="Group 35"/>
          <p:cNvGrpSpPr/>
          <p:nvPr/>
        </p:nvGrpSpPr>
        <p:grpSpPr>
          <a:xfrm>
            <a:off x="7495920" y="5532120"/>
            <a:ext cx="446400" cy="446400"/>
            <a:chOff x="7495920" y="5532120"/>
            <a:chExt cx="446400" cy="446400"/>
          </a:xfrm>
        </p:grpSpPr>
        <p:grpSp>
          <p:nvGrpSpPr>
            <p:cNvPr id="690" name="Group 31"/>
            <p:cNvGrpSpPr/>
            <p:nvPr/>
          </p:nvGrpSpPr>
          <p:grpSpPr>
            <a:xfrm>
              <a:off x="7495920" y="5667480"/>
              <a:ext cx="446400" cy="176040"/>
              <a:chOff x="7495920" y="5667480"/>
              <a:chExt cx="446400" cy="176040"/>
            </a:xfrm>
          </p:grpSpPr>
          <p:sp>
            <p:nvSpPr>
              <p:cNvPr id="691" name="AutoShape 29"/>
              <p:cNvSpPr/>
              <p:nvPr/>
            </p:nvSpPr>
            <p:spPr>
              <a:xfrm rot="17388000">
                <a:off x="7599960" y="5598360"/>
                <a:ext cx="18360" cy="23436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1320" bIns="31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2" name="AutoShape 30"/>
              <p:cNvSpPr/>
              <p:nvPr/>
            </p:nvSpPr>
            <p:spPr>
              <a:xfrm flipV="1" rot="17387400">
                <a:off x="7819560" y="5677920"/>
                <a:ext cx="18360" cy="23436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1320" bIns="31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3" name="Group 32"/>
            <p:cNvGrpSpPr/>
            <p:nvPr/>
          </p:nvGrpSpPr>
          <p:grpSpPr>
            <a:xfrm>
              <a:off x="7630920" y="5532120"/>
              <a:ext cx="176040" cy="446400"/>
              <a:chOff x="7630920" y="5532120"/>
              <a:chExt cx="176040" cy="446400"/>
            </a:xfrm>
          </p:grpSpPr>
          <p:sp>
            <p:nvSpPr>
              <p:cNvPr id="694" name="AutoShape 33"/>
              <p:cNvSpPr/>
              <p:nvPr/>
            </p:nvSpPr>
            <p:spPr>
              <a:xfrm rot="1187400">
                <a:off x="7749360" y="5528160"/>
                <a:ext cx="18360" cy="23436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1320" bIns="31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" name="AutoShape 34"/>
              <p:cNvSpPr/>
              <p:nvPr/>
            </p:nvSpPr>
            <p:spPr>
              <a:xfrm flipV="1" rot="1187400">
                <a:off x="7669800" y="5747760"/>
                <a:ext cx="18360" cy="23436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1320" bIns="31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96" name="Group 36"/>
          <p:cNvGrpSpPr/>
          <p:nvPr/>
        </p:nvGrpSpPr>
        <p:grpSpPr>
          <a:xfrm>
            <a:off x="7602840" y="5639040"/>
            <a:ext cx="232560" cy="232560"/>
            <a:chOff x="7602840" y="5639040"/>
            <a:chExt cx="232560" cy="232560"/>
          </a:xfrm>
        </p:grpSpPr>
        <p:grpSp>
          <p:nvGrpSpPr>
            <p:cNvPr id="697" name="Group 37"/>
            <p:cNvGrpSpPr/>
            <p:nvPr/>
          </p:nvGrpSpPr>
          <p:grpSpPr>
            <a:xfrm>
              <a:off x="7660800" y="5639040"/>
              <a:ext cx="116280" cy="232560"/>
              <a:chOff x="7660800" y="5639040"/>
              <a:chExt cx="116280" cy="232560"/>
            </a:xfrm>
          </p:grpSpPr>
          <p:sp>
            <p:nvSpPr>
              <p:cNvPr id="698" name="AutoShape 38"/>
              <p:cNvSpPr/>
              <p:nvPr/>
            </p:nvSpPr>
            <p:spPr>
              <a:xfrm rot="20087400">
                <a:off x="7687080" y="5635080"/>
                <a:ext cx="9720" cy="12636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" name="AutoShape 39"/>
              <p:cNvSpPr/>
              <p:nvPr/>
            </p:nvSpPr>
            <p:spPr>
              <a:xfrm flipV="1" rot="20087400">
                <a:off x="7740720" y="5748840"/>
                <a:ext cx="9720" cy="12636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0" name="Group 40"/>
            <p:cNvGrpSpPr/>
            <p:nvPr/>
          </p:nvGrpSpPr>
          <p:grpSpPr>
            <a:xfrm>
              <a:off x="7602840" y="5697000"/>
              <a:ext cx="232560" cy="116280"/>
              <a:chOff x="7602840" y="5697000"/>
              <a:chExt cx="232560" cy="116280"/>
            </a:xfrm>
          </p:grpSpPr>
          <p:sp>
            <p:nvSpPr>
              <p:cNvPr id="701" name="AutoShape 41"/>
              <p:cNvSpPr/>
              <p:nvPr/>
            </p:nvSpPr>
            <p:spPr>
              <a:xfrm rot="3888000">
                <a:off x="7770960" y="5664960"/>
                <a:ext cx="9720" cy="12636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" name="AutoShape 42"/>
              <p:cNvSpPr/>
              <p:nvPr/>
            </p:nvSpPr>
            <p:spPr>
              <a:xfrm flipV="1" rot="3886800">
                <a:off x="7657200" y="5718600"/>
                <a:ext cx="9720" cy="12636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03" name="矩形 4"/>
          <p:cNvSpPr/>
          <p:nvPr/>
        </p:nvSpPr>
        <p:spPr>
          <a:xfrm>
            <a:off x="2402640" y="1120680"/>
            <a:ext cx="4457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蓝白简洁论文答辩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49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49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 0 L 0.02222 0.06111 E">
                                      <p:cBhvr>
                                        <p:cTn id="50" dur="500" fill="hold"/>
                                        <p:tgtEl>
                                          <p:spTgt spid="5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" nodeType="with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 0 L 0.02222 0.06111 E">
                                      <p:cBhvr>
                                        <p:cTn id="52" dur="500" fill="hold"/>
                                        <p:tgtEl>
                                          <p:spTgt spid="5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3" nodeType="withEffect" fill="hold" presetClass="exit" presetID="10">
                                  <p:stCondLst>
                                    <p:cond delay="11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" dur="10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xit" presetID="10">
                                  <p:stCondLst>
                                    <p:cond delay="11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" dur="10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2" presetSubtype="8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4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4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path" presetID="0">
                                  <p:stCondLst>
                                    <p:cond delay="1700"/>
                                  </p:stCondLst>
                                  <p:childTnLst>
                                    <p:animMotion origin="layout" path="M 0 0 L 0.05278 -0.00185 E">
                                      <p:cBhvr>
                                        <p:cTn id="79" dur="500" fill="hold"/>
                                        <p:tgtEl>
                                          <p:spTgt spid="4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0" nodeType="withEffect" fill="hold" presetClass="path" presetID="0">
                                  <p:stCondLst>
                                    <p:cond delay="1700"/>
                                  </p:stCondLst>
                                  <p:childTnLst>
                                    <p:animMotion origin="layout" path="M 0 0 L 0.05278 -0.00185 E">
                                      <p:cBhvr>
                                        <p:cTn id="81" dur="500" fill="hold"/>
                                        <p:tgtEl>
                                          <p:spTgt spid="4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2" nodeType="withEffect" fill="hold" presetClass="exit" presetID="10">
                                  <p:stCondLst>
                                    <p:cond delay="1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3" dur="10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xit" presetID="10">
                                  <p:stCondLst>
                                    <p:cond delay="1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6" dur="10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2" presetSubtype="1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5">
                                  <p:stCondLst>
                                    <p:cond delay="21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49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49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path" presetID="0">
                                  <p:stCondLst>
                                    <p:cond delay="2400"/>
                                  </p:stCondLst>
                                  <p:childTnLst>
                                    <p:animMotion origin="layout" path="M 0 0 L 0.02013 -0.07939 E">
                                      <p:cBhvr>
                                        <p:cTn id="114" dur="500" fill="hold"/>
                                        <p:tgtEl>
                                          <p:spTgt spid="4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5" nodeType="withEffect" fill="hold" presetClass="path" presetID="0">
                                  <p:stCondLst>
                                    <p:cond delay="2400"/>
                                  </p:stCondLst>
                                  <p:childTnLst>
                                    <p:animMotion origin="layout" path="M 0 0 L 0.02013 -0.07939 E">
                                      <p:cBhvr>
                                        <p:cTn id="116" dur="5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7" nodeType="withEffect" fill="hold" presetClass="exit" presetID="10">
                                  <p:stCondLst>
                                    <p:cond delay="2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8" dur="10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xit" presetID="10">
                                  <p:stCondLst>
                                    <p:cond delay="2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" dur="10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2" presetSubtype="1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">
                                  <p:stCondLst>
                                    <p:cond delay="27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">
                                  <p:stCondLst>
                                    <p:cond delay="270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49">
                                  <p:stCondLst>
                                    <p:cond delay="270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49">
                                  <p:stCondLst>
                                    <p:cond delay="27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path" presetID="0">
                                  <p:stCondLst>
                                    <p:cond delay="2900"/>
                                  </p:stCondLst>
                                  <p:childTnLst>
                                    <p:animMotion origin="layout" path="M 0 0 C -0.0059 -0.02523 -0.0118 -0.05023 -0.01302 -0.0699 C -0.01423 -0.08958 -0.01093 -0.10139 -0.00711 -0.11759 C -0.00329 -0.13379 0.00487 -0.15555 0.00955 -0.16666 C 0.01424 -0.17777 0.01789 -0.18102 0.02153 -0.18426 E">
                                      <p:cBhvr>
                                        <p:cTn id="143" dur="500" fill="hold"/>
                                        <p:tgtEl>
                                          <p:spTgt spid="5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4" nodeType="withEffect" fill="hold" presetClass="path" presetID="0">
                                  <p:stCondLst>
                                    <p:cond delay="2900"/>
                                  </p:stCondLst>
                                  <p:childTnLst>
                                    <p:animMotion origin="layout" path="M 0 0 C -0.0059 -0.02523 -0.0118 -0.05023 -0.01302 -0.0699 C -0.01423 -0.08958 -0.01093 -0.10139 -0.00711 -0.11759 C -0.00329 -0.13379 0.00487 -0.15555 0.00955 -0.16666 C 0.01424 -0.17777 0.01789 -0.18102 0.02153 -0.18426 E">
                                      <p:cBhvr>
                                        <p:cTn id="145" dur="500" fill="hold"/>
                                        <p:tgtEl>
                                          <p:spTgt spid="5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6" nodeType="with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0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xit" presetID="49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3" dur="500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/>
                                        <p:tgtEl>
                                          <p:spTgt spid="5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6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xit" presetID="49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9" dur="500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/>
                                        <p:tgtEl>
                                          <p:spTgt spid="5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2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nodeType="withEffect" fill="hold" presetClass="exit" presetID="49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5" dur="500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/>
                                        <p:tgtEl>
                                          <p:spTgt spid="5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8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22" presetSubtype="8">
                                  <p:stCondLst>
                                    <p:cond delay="330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2" presetSubtype="8">
                                  <p:stCondLst>
                                    <p:cond delay="360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xit" presetID="53">
                                  <p:stCondLst>
                                    <p:cond delay="1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8" dur="5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0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53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xit" presetID="53">
                                  <p:stCondLst>
                                    <p:cond delay="2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8" dur="500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0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53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xit" presetID="53">
                                  <p:stCondLst>
                                    <p:cond delay="36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8" dur="50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49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49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xit" presetID="49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9" dur="500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/>
                                        <p:tgtEl>
                                          <p:spTgt spid="6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2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" nodeType="withEffect" fill="hold" presetClass="exit" presetID="49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5" dur="500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/>
                                        <p:tgtEl>
                                          <p:spTgt spid="6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49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49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xit" presetID="49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7" dur="500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/>
                                        <p:tgtEl>
                                          <p:spTgt spid="6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60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2" nodeType="withEffect" fill="hold" presetClass="exit" presetID="49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3" dur="500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/>
                                        <p:tgtEl>
                                          <p:spTgt spid="6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66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49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49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xit" presetID="49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5" dur="500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/>
                                        <p:tgtEl>
                                          <p:spTgt spid="6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88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0" nodeType="withEffect" fill="hold" presetClass="exit" presetID="49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1" dur="500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/>
                                        <p:tgtEl>
                                          <p:spTgt spid="6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94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49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49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xit" presetID="49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3" dur="500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/>
                                        <p:tgtEl>
                                          <p:spTgt spid="6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16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8" nodeType="withEffect" fill="hold" presetClass="exit" presetID="49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9" dur="500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/>
                                        <p:tgtEl>
                                          <p:spTgt spid="6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22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49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49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xit" presetID="49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1" dur="500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/>
                                        <p:tgtEl>
                                          <p:spTgt spid="6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44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6" nodeType="withEffect" fill="hold" presetClass="exit" presetID="49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7" dur="500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/>
                                        <p:tgtEl>
                                          <p:spTgt spid="6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0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49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49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7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xit" presetID="49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9" dur="500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/>
                                        <p:tgtEl>
                                          <p:spTgt spid="6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2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4" nodeType="withEffect" fill="hold" presetClass="exit" presetID="49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5" dur="500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/>
                                        <p:tgtEl>
                                          <p:spTgt spid="6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8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49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9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49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xit" presetID="49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7" dur="500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/>
                                        <p:tgtEl>
                                          <p:spTgt spid="6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0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2" nodeType="withEffect" fill="hold" presetClass="exit" presetID="49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3" dur="500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/>
                                        <p:tgtEl>
                                          <p:spTgt spid="6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6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9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5" name="Picture 31" descr="C:\Documents and Settings\Administrator\桌面\1.png"/>
          <p:cNvPicPr/>
          <p:nvPr/>
        </p:nvPicPr>
        <p:blipFill>
          <a:blip r:embed="rId1"/>
          <a:stretch/>
        </p:blipFill>
        <p:spPr>
          <a:xfrm>
            <a:off x="4746600" y="1571760"/>
            <a:ext cx="4353120" cy="755640"/>
          </a:xfrm>
          <a:prstGeom prst="rect">
            <a:avLst/>
          </a:prstGeom>
          <a:ln w="0">
            <a:noFill/>
          </a:ln>
        </p:spPr>
      </p:pic>
      <p:pic>
        <p:nvPicPr>
          <p:cNvPr id="706" name="Picture 32" descr="C:\Documents and Settings\Administrator\桌面\2.png"/>
          <p:cNvPicPr/>
          <p:nvPr/>
        </p:nvPicPr>
        <p:blipFill>
          <a:blip r:embed="rId2"/>
          <a:stretch/>
        </p:blipFill>
        <p:spPr>
          <a:xfrm>
            <a:off x="4746600" y="2230560"/>
            <a:ext cx="4353120" cy="755640"/>
          </a:xfrm>
          <a:prstGeom prst="rect">
            <a:avLst/>
          </a:prstGeom>
          <a:ln w="0">
            <a:noFill/>
          </a:ln>
        </p:spPr>
      </p:pic>
      <p:pic>
        <p:nvPicPr>
          <p:cNvPr id="707" name="Picture 33" descr="C:\Documents and Settings\Administrator\桌面\3.png"/>
          <p:cNvPicPr/>
          <p:nvPr/>
        </p:nvPicPr>
        <p:blipFill>
          <a:blip r:embed="rId3"/>
          <a:stretch/>
        </p:blipFill>
        <p:spPr>
          <a:xfrm>
            <a:off x="4749840" y="2860560"/>
            <a:ext cx="4352760" cy="755640"/>
          </a:xfrm>
          <a:prstGeom prst="rect">
            <a:avLst/>
          </a:prstGeom>
          <a:ln w="0">
            <a:noFill/>
          </a:ln>
        </p:spPr>
      </p:pic>
      <p:pic>
        <p:nvPicPr>
          <p:cNvPr id="708" name="Picture 34" descr="C:\Documents and Settings\Administrator\桌面\4.png"/>
          <p:cNvPicPr/>
          <p:nvPr/>
        </p:nvPicPr>
        <p:blipFill>
          <a:blip r:embed="rId4"/>
          <a:stretch/>
        </p:blipFill>
        <p:spPr>
          <a:xfrm>
            <a:off x="4748040" y="3513240"/>
            <a:ext cx="4353120" cy="768240"/>
          </a:xfrm>
          <a:prstGeom prst="rect">
            <a:avLst/>
          </a:prstGeom>
          <a:ln w="0">
            <a:noFill/>
          </a:ln>
        </p:spPr>
      </p:pic>
      <p:pic>
        <p:nvPicPr>
          <p:cNvPr id="709" name="Picture 35" descr="C:\Documents and Settings\Administrator\桌面\5.png"/>
          <p:cNvPicPr/>
          <p:nvPr/>
        </p:nvPicPr>
        <p:blipFill>
          <a:blip r:embed="rId5"/>
          <a:stretch/>
        </p:blipFill>
        <p:spPr>
          <a:xfrm>
            <a:off x="4748040" y="4148280"/>
            <a:ext cx="4353120" cy="755640"/>
          </a:xfrm>
          <a:prstGeom prst="rect">
            <a:avLst/>
          </a:prstGeom>
          <a:ln w="0">
            <a:noFill/>
          </a:ln>
        </p:spPr>
      </p:pic>
      <p:pic>
        <p:nvPicPr>
          <p:cNvPr id="710" name="Picture 36" descr="C:\Documents and Settings\Administrator\桌面\6.png"/>
          <p:cNvPicPr/>
          <p:nvPr/>
        </p:nvPicPr>
        <p:blipFill>
          <a:blip r:embed="rId6"/>
          <a:stretch/>
        </p:blipFill>
        <p:spPr>
          <a:xfrm>
            <a:off x="4748040" y="4794120"/>
            <a:ext cx="4353120" cy="755640"/>
          </a:xfrm>
          <a:prstGeom prst="rect">
            <a:avLst/>
          </a:prstGeom>
          <a:ln w="0">
            <a:noFill/>
          </a:ln>
        </p:spPr>
      </p:pic>
      <p:sp>
        <p:nvSpPr>
          <p:cNvPr id="711" name="Line 5"/>
          <p:cNvSpPr/>
          <p:nvPr/>
        </p:nvSpPr>
        <p:spPr>
          <a:xfrm>
            <a:off x="-103320" y="4925880"/>
            <a:ext cx="1384560" cy="3240"/>
          </a:xfrm>
          <a:prstGeom prst="line">
            <a:avLst/>
          </a:prstGeom>
          <a:ln w="33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Freeform 18"/>
          <p:cNvSpPr/>
          <p:nvPr/>
        </p:nvSpPr>
        <p:spPr>
          <a:xfrm>
            <a:off x="1263600" y="3398760"/>
            <a:ext cx="201600" cy="1706760"/>
          </a:xfrm>
          <a:custGeom>
            <a:avLst/>
            <a:gdLst>
              <a:gd name="textAreaLeft" fmla="*/ 0 w 201600"/>
              <a:gd name="textAreaRight" fmla="*/ 201960 w 201600"/>
              <a:gd name="textAreaTop" fmla="*/ 0 h 1706760"/>
              <a:gd name="textAreaBottom" fmla="*/ 1707120 h 1706760"/>
            </a:gdLst>
            <a:ahLst/>
            <a:rect l="textAreaLeft" t="textAreaTop" r="textAreaRight" b="textAreaBottom"/>
            <a:pathLst>
              <a:path w="127" h="1075">
                <a:moveTo>
                  <a:pt x="127" y="0"/>
                </a:moveTo>
                <a:lnTo>
                  <a:pt x="0" y="1075"/>
                </a:lnTo>
                <a:lnTo>
                  <a:pt x="127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Line 19"/>
          <p:cNvSpPr/>
          <p:nvPr/>
        </p:nvSpPr>
        <p:spPr>
          <a:xfrm flipH="1">
            <a:off x="1271520" y="3386160"/>
            <a:ext cx="200160" cy="1547640"/>
          </a:xfrm>
          <a:prstGeom prst="line">
            <a:avLst/>
          </a:prstGeom>
          <a:ln w="33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Line 21"/>
          <p:cNvSpPr/>
          <p:nvPr/>
        </p:nvSpPr>
        <p:spPr>
          <a:xfrm>
            <a:off x="2484360" y="3124080"/>
            <a:ext cx="7920" cy="3348000"/>
          </a:xfrm>
          <a:prstGeom prst="line">
            <a:avLst/>
          </a:prstGeom>
          <a:ln w="33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Line 43"/>
          <p:cNvSpPr/>
          <p:nvPr/>
        </p:nvSpPr>
        <p:spPr>
          <a:xfrm>
            <a:off x="671400" y="3546360"/>
            <a:ext cx="1800" cy="1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Line 45"/>
          <p:cNvSpPr/>
          <p:nvPr/>
        </p:nvSpPr>
        <p:spPr>
          <a:xfrm>
            <a:off x="3638520" y="922320"/>
            <a:ext cx="144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7" name="组合 23"/>
          <p:cNvGrpSpPr/>
          <p:nvPr/>
        </p:nvGrpSpPr>
        <p:grpSpPr>
          <a:xfrm>
            <a:off x="287280" y="969840"/>
            <a:ext cx="4043520" cy="2697120"/>
            <a:chOff x="287280" y="969840"/>
            <a:chExt cx="4043520" cy="2697120"/>
          </a:xfrm>
        </p:grpSpPr>
        <p:pic>
          <p:nvPicPr>
            <p:cNvPr id="718" name="Picture 30" descr="C:\Documents and Settings\Administrator\桌面\导航.png"/>
            <p:cNvPicPr/>
            <p:nvPr/>
          </p:nvPicPr>
          <p:blipFill>
            <a:blip r:embed="rId7"/>
            <a:stretch/>
          </p:blipFill>
          <p:spPr>
            <a:xfrm>
              <a:off x="512640" y="1198440"/>
              <a:ext cx="3260880" cy="240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9" name="Freeform 11"/>
            <p:cNvSpPr/>
            <p:nvPr/>
          </p:nvSpPr>
          <p:spPr>
            <a:xfrm>
              <a:off x="502920" y="3359160"/>
              <a:ext cx="981000" cy="264960"/>
            </a:xfrm>
            <a:custGeom>
              <a:avLst/>
              <a:gdLst>
                <a:gd name="textAreaLeft" fmla="*/ 0 w 981000"/>
                <a:gd name="textAreaRight" fmla="*/ 981360 w 981000"/>
                <a:gd name="textAreaTop" fmla="*/ 0 h 264960"/>
                <a:gd name="textAreaBottom" fmla="*/ 265320 h 264960"/>
              </a:gdLst>
              <a:ahLst/>
              <a:rect l="textAreaLeft" t="textAreaTop" r="textAreaRight" b="textAreaBottom"/>
              <a:pathLst>
                <a:path w="618" h="167">
                  <a:moveTo>
                    <a:pt x="0" y="167"/>
                  </a:moveTo>
                  <a:lnTo>
                    <a:pt x="616" y="20"/>
                  </a:lnTo>
                  <a:lnTo>
                    <a:pt x="618" y="0"/>
                  </a:lnTo>
                  <a:lnTo>
                    <a:pt x="2" y="153"/>
                  </a:lnTo>
                </a:path>
              </a:pathLst>
            </a:custGeom>
            <a:solidFill>
              <a:srgbClr val="ffffff"/>
            </a:solidFill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Freeform 13"/>
            <p:cNvSpPr/>
            <p:nvPr/>
          </p:nvSpPr>
          <p:spPr>
            <a:xfrm>
              <a:off x="1452600" y="2987640"/>
              <a:ext cx="1566720" cy="412560"/>
            </a:xfrm>
            <a:custGeom>
              <a:avLst/>
              <a:gdLst>
                <a:gd name="textAreaLeft" fmla="*/ 0 w 1566720"/>
                <a:gd name="textAreaRight" fmla="*/ 1567080 w 1566720"/>
                <a:gd name="textAreaTop" fmla="*/ 0 h 412560"/>
                <a:gd name="textAreaBottom" fmla="*/ 412920 h 412560"/>
              </a:gdLst>
              <a:ahLst/>
              <a:rect l="textAreaLeft" t="textAreaTop" r="textAreaRight" b="textAreaBottom"/>
              <a:pathLst>
                <a:path w="987" h="260">
                  <a:moveTo>
                    <a:pt x="0" y="260"/>
                  </a:moveTo>
                  <a:lnTo>
                    <a:pt x="985" y="19"/>
                  </a:lnTo>
                  <a:lnTo>
                    <a:pt x="987" y="0"/>
                  </a:lnTo>
                  <a:lnTo>
                    <a:pt x="8" y="238"/>
                  </a:lnTo>
                </a:path>
              </a:pathLst>
            </a:custGeom>
            <a:solidFill>
              <a:srgbClr val="ffffff"/>
            </a:solidFill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Freeform 15"/>
            <p:cNvSpPr/>
            <p:nvPr/>
          </p:nvSpPr>
          <p:spPr>
            <a:xfrm>
              <a:off x="609480" y="969840"/>
              <a:ext cx="2541600" cy="1127160"/>
            </a:xfrm>
            <a:custGeom>
              <a:avLst/>
              <a:gdLst>
                <a:gd name="textAreaLeft" fmla="*/ 0 w 2541600"/>
                <a:gd name="textAreaRight" fmla="*/ 2541960 w 2541600"/>
                <a:gd name="textAreaTop" fmla="*/ 0 h 1127160"/>
                <a:gd name="textAreaBottom" fmla="*/ 1127520 h 1127160"/>
              </a:gdLst>
              <a:ahLst/>
              <a:rect l="textAreaLeft" t="textAreaTop" r="textAreaRight" b="textAreaBottom"/>
              <a:pathLst>
                <a:path w="1002" h="396">
                  <a:moveTo>
                    <a:pt x="1002" y="3"/>
                  </a:moveTo>
                  <a:cubicBezTo>
                    <a:pt x="997" y="12"/>
                    <a:pt x="997" y="12"/>
                    <a:pt x="997" y="12"/>
                  </a:cubicBezTo>
                  <a:cubicBezTo>
                    <a:pt x="993" y="11"/>
                    <a:pt x="993" y="11"/>
                    <a:pt x="993" y="11"/>
                  </a:cubicBezTo>
                  <a:cubicBezTo>
                    <a:pt x="990" y="10"/>
                    <a:pt x="986" y="9"/>
                    <a:pt x="982" y="9"/>
                  </a:cubicBezTo>
                  <a:cubicBezTo>
                    <a:pt x="977" y="9"/>
                    <a:pt x="972" y="9"/>
                    <a:pt x="967" y="9"/>
                  </a:cubicBezTo>
                  <a:cubicBezTo>
                    <a:pt x="962" y="10"/>
                    <a:pt x="957" y="10"/>
                    <a:pt x="953" y="11"/>
                  </a:cubicBezTo>
                  <a:cubicBezTo>
                    <a:pt x="948" y="13"/>
                    <a:pt x="943" y="14"/>
                    <a:pt x="939" y="16"/>
                  </a:cubicBezTo>
                  <a:cubicBezTo>
                    <a:pt x="424" y="224"/>
                    <a:pt x="424" y="224"/>
                    <a:pt x="424" y="224"/>
                  </a:cubicBezTo>
                  <a:cubicBezTo>
                    <a:pt x="376" y="244"/>
                    <a:pt x="376" y="244"/>
                    <a:pt x="376" y="244"/>
                  </a:cubicBezTo>
                  <a:cubicBezTo>
                    <a:pt x="1" y="396"/>
                    <a:pt x="1" y="396"/>
                    <a:pt x="1" y="396"/>
                  </a:cubicBezTo>
                  <a:cubicBezTo>
                    <a:pt x="0" y="390"/>
                    <a:pt x="0" y="390"/>
                    <a:pt x="0" y="390"/>
                  </a:cubicBezTo>
                  <a:cubicBezTo>
                    <a:pt x="377" y="237"/>
                    <a:pt x="377" y="237"/>
                    <a:pt x="377" y="237"/>
                  </a:cubicBezTo>
                  <a:cubicBezTo>
                    <a:pt x="424" y="218"/>
                    <a:pt x="424" y="218"/>
                    <a:pt x="424" y="218"/>
                  </a:cubicBezTo>
                  <a:cubicBezTo>
                    <a:pt x="938" y="8"/>
                    <a:pt x="938" y="8"/>
                    <a:pt x="938" y="8"/>
                  </a:cubicBezTo>
                  <a:cubicBezTo>
                    <a:pt x="943" y="6"/>
                    <a:pt x="948" y="5"/>
                    <a:pt x="954" y="3"/>
                  </a:cubicBezTo>
                  <a:cubicBezTo>
                    <a:pt x="959" y="2"/>
                    <a:pt x="965" y="1"/>
                    <a:pt x="971" y="1"/>
                  </a:cubicBezTo>
                  <a:cubicBezTo>
                    <a:pt x="976" y="0"/>
                    <a:pt x="982" y="0"/>
                    <a:pt x="987" y="0"/>
                  </a:cubicBezTo>
                  <a:cubicBezTo>
                    <a:pt x="992" y="1"/>
                    <a:pt x="996" y="1"/>
                    <a:pt x="1000" y="3"/>
                  </a:cubicBezTo>
                  <a:cubicBezTo>
                    <a:pt x="1002" y="3"/>
                    <a:pt x="1002" y="3"/>
                    <a:pt x="1002" y="3"/>
                  </a:cubicBezTo>
                </a:path>
              </a:pathLst>
            </a:custGeom>
            <a:solidFill>
              <a:srgbClr val="ffffff"/>
            </a:solidFill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Freeform 16"/>
            <p:cNvSpPr/>
            <p:nvPr/>
          </p:nvSpPr>
          <p:spPr>
            <a:xfrm>
              <a:off x="287280" y="2079360"/>
              <a:ext cx="325440" cy="1587600"/>
            </a:xfrm>
            <a:custGeom>
              <a:avLst/>
              <a:gdLst>
                <a:gd name="textAreaLeft" fmla="*/ 0 w 325440"/>
                <a:gd name="textAreaRight" fmla="*/ 325800 w 325440"/>
                <a:gd name="textAreaTop" fmla="*/ 0 h 1587600"/>
                <a:gd name="textAreaBottom" fmla="*/ 1587960 h 1587600"/>
              </a:gdLst>
              <a:ahLst/>
              <a:rect l="textAreaLeft" t="textAreaTop" r="textAreaRight" b="textAreaBottom"/>
              <a:pathLst>
                <a:path w="128" h="558">
                  <a:moveTo>
                    <a:pt x="128" y="6"/>
                  </a:moveTo>
                  <a:cubicBezTo>
                    <a:pt x="124" y="7"/>
                    <a:pt x="124" y="7"/>
                    <a:pt x="124" y="7"/>
                  </a:cubicBezTo>
                  <a:cubicBezTo>
                    <a:pt x="122" y="8"/>
                    <a:pt x="120" y="9"/>
                    <a:pt x="118" y="11"/>
                  </a:cubicBezTo>
                  <a:cubicBezTo>
                    <a:pt x="116" y="13"/>
                    <a:pt x="114" y="15"/>
                    <a:pt x="112" y="17"/>
                  </a:cubicBezTo>
                  <a:cubicBezTo>
                    <a:pt x="111" y="19"/>
                    <a:pt x="109" y="21"/>
                    <a:pt x="108" y="24"/>
                  </a:cubicBezTo>
                  <a:cubicBezTo>
                    <a:pt x="107" y="26"/>
                    <a:pt x="106" y="28"/>
                    <a:pt x="106" y="31"/>
                  </a:cubicBezTo>
                  <a:cubicBezTo>
                    <a:pt x="64" y="240"/>
                    <a:pt x="64" y="240"/>
                    <a:pt x="64" y="240"/>
                  </a:cubicBezTo>
                  <a:cubicBezTo>
                    <a:pt x="55" y="287"/>
                    <a:pt x="55" y="287"/>
                    <a:pt x="55" y="287"/>
                  </a:cubicBezTo>
                  <a:cubicBezTo>
                    <a:pt x="7" y="530"/>
                    <a:pt x="7" y="530"/>
                    <a:pt x="7" y="530"/>
                  </a:cubicBezTo>
                  <a:cubicBezTo>
                    <a:pt x="6" y="533"/>
                    <a:pt x="6" y="536"/>
                    <a:pt x="6" y="539"/>
                  </a:cubicBezTo>
                  <a:cubicBezTo>
                    <a:pt x="6" y="541"/>
                    <a:pt x="7" y="544"/>
                    <a:pt x="8" y="545"/>
                  </a:cubicBezTo>
                  <a:cubicBezTo>
                    <a:pt x="9" y="547"/>
                    <a:pt x="11" y="548"/>
                    <a:pt x="13" y="549"/>
                  </a:cubicBezTo>
                  <a:cubicBezTo>
                    <a:pt x="14" y="550"/>
                    <a:pt x="17" y="550"/>
                    <a:pt x="19" y="550"/>
                  </a:cubicBezTo>
                  <a:cubicBezTo>
                    <a:pt x="86" y="535"/>
                    <a:pt x="86" y="535"/>
                    <a:pt x="86" y="535"/>
                  </a:cubicBezTo>
                  <a:cubicBezTo>
                    <a:pt x="85" y="543"/>
                    <a:pt x="85" y="543"/>
                    <a:pt x="85" y="543"/>
                  </a:cubicBezTo>
                  <a:cubicBezTo>
                    <a:pt x="17" y="558"/>
                    <a:pt x="17" y="558"/>
                    <a:pt x="17" y="558"/>
                  </a:cubicBezTo>
                  <a:cubicBezTo>
                    <a:pt x="14" y="558"/>
                    <a:pt x="11" y="558"/>
                    <a:pt x="9" y="557"/>
                  </a:cubicBezTo>
                  <a:cubicBezTo>
                    <a:pt x="6" y="556"/>
                    <a:pt x="4" y="554"/>
                    <a:pt x="3" y="552"/>
                  </a:cubicBezTo>
                  <a:cubicBezTo>
                    <a:pt x="1" y="550"/>
                    <a:pt x="0" y="547"/>
                    <a:pt x="0" y="543"/>
                  </a:cubicBezTo>
                  <a:cubicBezTo>
                    <a:pt x="0" y="540"/>
                    <a:pt x="0" y="536"/>
                    <a:pt x="1" y="531"/>
                  </a:cubicBezTo>
                  <a:cubicBezTo>
                    <a:pt x="49" y="289"/>
                    <a:pt x="49" y="289"/>
                    <a:pt x="49" y="289"/>
                  </a:cubicBezTo>
                  <a:cubicBezTo>
                    <a:pt x="58" y="242"/>
                    <a:pt x="58" y="242"/>
                    <a:pt x="58" y="242"/>
                  </a:cubicBezTo>
                  <a:cubicBezTo>
                    <a:pt x="100" y="33"/>
                    <a:pt x="100" y="33"/>
                    <a:pt x="100" y="33"/>
                  </a:cubicBezTo>
                  <a:cubicBezTo>
                    <a:pt x="101" y="30"/>
                    <a:pt x="102" y="26"/>
                    <a:pt x="104" y="23"/>
                  </a:cubicBezTo>
                  <a:cubicBezTo>
                    <a:pt x="105" y="20"/>
                    <a:pt x="107" y="17"/>
                    <a:pt x="110" y="14"/>
                  </a:cubicBezTo>
                  <a:cubicBezTo>
                    <a:pt x="112" y="11"/>
                    <a:pt x="114" y="8"/>
                    <a:pt x="117" y="6"/>
                  </a:cubicBezTo>
                  <a:cubicBezTo>
                    <a:pt x="120" y="4"/>
                    <a:pt x="123" y="2"/>
                    <a:pt x="126" y="1"/>
                  </a:cubicBezTo>
                  <a:cubicBezTo>
                    <a:pt x="127" y="0"/>
                    <a:pt x="127" y="0"/>
                    <a:pt x="127" y="0"/>
                  </a:cubicBezTo>
                  <a:lnTo>
                    <a:pt x="128" y="6"/>
                  </a:lnTo>
                  <a:close/>
                </a:path>
              </a:pathLst>
            </a:custGeom>
            <a:solidFill>
              <a:srgbClr val="ffffff"/>
            </a:solidFill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Freeform 17"/>
            <p:cNvSpPr/>
            <p:nvPr/>
          </p:nvSpPr>
          <p:spPr>
            <a:xfrm>
              <a:off x="3022560" y="977760"/>
              <a:ext cx="1308240" cy="2038320"/>
            </a:xfrm>
            <a:custGeom>
              <a:avLst/>
              <a:gdLst>
                <a:gd name="textAreaLeft" fmla="*/ 0 w 1308240"/>
                <a:gd name="textAreaRight" fmla="*/ 1308600 w 1308240"/>
                <a:gd name="textAreaTop" fmla="*/ 0 h 2038320"/>
                <a:gd name="textAreaBottom" fmla="*/ 2038680 h 2038320"/>
              </a:gdLst>
              <a:ahLst/>
              <a:rect l="textAreaLeft" t="textAreaTop" r="textAreaRight" b="textAreaBottom"/>
              <a:pathLst>
                <a:path w="516" h="716">
                  <a:moveTo>
                    <a:pt x="46" y="9"/>
                  </a:moveTo>
                  <a:cubicBezTo>
                    <a:pt x="485" y="148"/>
                    <a:pt x="485" y="148"/>
                    <a:pt x="485" y="148"/>
                  </a:cubicBezTo>
                  <a:cubicBezTo>
                    <a:pt x="490" y="150"/>
                    <a:pt x="493" y="152"/>
                    <a:pt x="496" y="154"/>
                  </a:cubicBezTo>
                  <a:cubicBezTo>
                    <a:pt x="499" y="157"/>
                    <a:pt x="500" y="160"/>
                    <a:pt x="501" y="164"/>
                  </a:cubicBezTo>
                  <a:cubicBezTo>
                    <a:pt x="502" y="167"/>
                    <a:pt x="502" y="171"/>
                    <a:pt x="501" y="175"/>
                  </a:cubicBezTo>
                  <a:cubicBezTo>
                    <a:pt x="500" y="179"/>
                    <a:pt x="498" y="183"/>
                    <a:pt x="494" y="187"/>
                  </a:cubicBezTo>
                  <a:cubicBezTo>
                    <a:pt x="113" y="656"/>
                    <a:pt x="113" y="656"/>
                    <a:pt x="113" y="656"/>
                  </a:cubicBezTo>
                  <a:cubicBezTo>
                    <a:pt x="109" y="660"/>
                    <a:pt x="105" y="664"/>
                    <a:pt x="100" y="668"/>
                  </a:cubicBezTo>
                  <a:cubicBezTo>
                    <a:pt x="95" y="672"/>
                    <a:pt x="89" y="676"/>
                    <a:pt x="84" y="679"/>
                  </a:cubicBezTo>
                  <a:cubicBezTo>
                    <a:pt x="78" y="683"/>
                    <a:pt x="72" y="686"/>
                    <a:pt x="66" y="689"/>
                  </a:cubicBezTo>
                  <a:cubicBezTo>
                    <a:pt x="60" y="691"/>
                    <a:pt x="55" y="693"/>
                    <a:pt x="49" y="694"/>
                  </a:cubicBezTo>
                  <a:cubicBezTo>
                    <a:pt x="0" y="705"/>
                    <a:pt x="0" y="705"/>
                    <a:pt x="0" y="705"/>
                  </a:cubicBezTo>
                  <a:cubicBezTo>
                    <a:pt x="0" y="716"/>
                    <a:pt x="0" y="716"/>
                    <a:pt x="0" y="716"/>
                  </a:cubicBezTo>
                  <a:cubicBezTo>
                    <a:pt x="50" y="705"/>
                    <a:pt x="50" y="705"/>
                    <a:pt x="50" y="705"/>
                  </a:cubicBezTo>
                  <a:cubicBezTo>
                    <a:pt x="56" y="704"/>
                    <a:pt x="63" y="702"/>
                    <a:pt x="69" y="699"/>
                  </a:cubicBezTo>
                  <a:cubicBezTo>
                    <a:pt x="76" y="696"/>
                    <a:pt x="83" y="693"/>
                    <a:pt x="89" y="689"/>
                  </a:cubicBezTo>
                  <a:cubicBezTo>
                    <a:pt x="96" y="685"/>
                    <a:pt x="102" y="680"/>
                    <a:pt x="108" y="676"/>
                  </a:cubicBezTo>
                  <a:cubicBezTo>
                    <a:pt x="113" y="671"/>
                    <a:pt x="118" y="666"/>
                    <a:pt x="122" y="661"/>
                  </a:cubicBezTo>
                  <a:cubicBezTo>
                    <a:pt x="506" y="190"/>
                    <a:pt x="506" y="190"/>
                    <a:pt x="506" y="190"/>
                  </a:cubicBezTo>
                  <a:cubicBezTo>
                    <a:pt x="510" y="185"/>
                    <a:pt x="513" y="180"/>
                    <a:pt x="515" y="174"/>
                  </a:cubicBezTo>
                  <a:cubicBezTo>
                    <a:pt x="516" y="169"/>
                    <a:pt x="516" y="164"/>
                    <a:pt x="515" y="159"/>
                  </a:cubicBezTo>
                  <a:cubicBezTo>
                    <a:pt x="514" y="154"/>
                    <a:pt x="511" y="150"/>
                    <a:pt x="508" y="147"/>
                  </a:cubicBezTo>
                  <a:cubicBezTo>
                    <a:pt x="504" y="143"/>
                    <a:pt x="499" y="140"/>
                    <a:pt x="493" y="138"/>
                  </a:cubicBezTo>
                  <a:cubicBezTo>
                    <a:pt x="51" y="0"/>
                    <a:pt x="51" y="0"/>
                    <a:pt x="51" y="0"/>
                  </a:cubicBezTo>
                  <a:lnTo>
                    <a:pt x="46" y="9"/>
                  </a:lnTo>
                  <a:close/>
                </a:path>
              </a:pathLst>
            </a:custGeom>
            <a:solidFill>
              <a:srgbClr val="ffffff"/>
            </a:solidFill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4" name="组合 24"/>
          <p:cNvGrpSpPr/>
          <p:nvPr/>
        </p:nvGrpSpPr>
        <p:grpSpPr>
          <a:xfrm>
            <a:off x="2478240" y="6240240"/>
            <a:ext cx="2658960" cy="216000"/>
            <a:chOff x="2478240" y="6240240"/>
            <a:chExt cx="2658960" cy="216000"/>
          </a:xfrm>
        </p:grpSpPr>
        <p:sp>
          <p:nvSpPr>
            <p:cNvPr id="725" name="直接连接符 62"/>
            <p:cNvSpPr/>
            <p:nvPr/>
          </p:nvSpPr>
          <p:spPr>
            <a:xfrm flipV="1">
              <a:off x="5123160" y="6240240"/>
              <a:ext cx="0" cy="21564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Line 51"/>
            <p:cNvSpPr/>
            <p:nvPr/>
          </p:nvSpPr>
          <p:spPr>
            <a:xfrm>
              <a:off x="2478240" y="6456240"/>
              <a:ext cx="2658960" cy="0"/>
            </a:xfrm>
            <a:prstGeom prst="line">
              <a:avLst/>
            </a:prstGeom>
            <a:ln w="33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7" name="竖卷形 68"/>
          <p:cNvSpPr/>
          <p:nvPr/>
        </p:nvSpPr>
        <p:spPr>
          <a:xfrm rot="10800000">
            <a:off x="4730400" y="1158840"/>
            <a:ext cx="901800" cy="5059440"/>
          </a:xfrm>
          <a:prstGeom prst="verticalScroll">
            <a:avLst>
              <a:gd name="adj" fmla="val 25000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Line 51"/>
          <p:cNvSpPr/>
          <p:nvPr/>
        </p:nvSpPr>
        <p:spPr>
          <a:xfrm>
            <a:off x="5126040" y="6456240"/>
            <a:ext cx="4068720" cy="0"/>
          </a:xfrm>
          <a:prstGeom prst="line">
            <a:avLst/>
          </a:prstGeom>
          <a:ln w="33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l"/>
  </p:transition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0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1"/>
                            </p:stCondLst>
                            <p:childTnLst>
                              <p:par>
                                <p:cTn id="4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7" dur="4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401"/>
                            </p:stCondLst>
                            <p:childTnLst>
                              <p:par>
                                <p:cTn id="4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1" dur="4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801"/>
                            </p:stCondLst>
                            <p:childTnLst>
                              <p:par>
                                <p:cTn id="423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25" dur="8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1601"/>
                            </p:stCondLst>
                            <p:childTnLst>
                              <p:par>
                                <p:cTn id="4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9" dur="4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2001"/>
                            </p:stCondLst>
                            <p:childTnLst>
                              <p:par>
                                <p:cTn id="431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33" dur="4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2401"/>
                            </p:stCondLst>
                            <p:childTnLst>
                              <p:par>
                                <p:cTn id="43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7" dur="4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2801"/>
                            </p:stCondLst>
                            <p:childTnLst>
                              <p:par>
                                <p:cTn id="43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4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4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4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4" dur="4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3201"/>
                            </p:stCondLst>
                            <p:childTnLst>
                              <p:par>
                                <p:cTn id="44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4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4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4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1" dur="4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3601"/>
                            </p:stCondLst>
                            <p:childTnLst>
                              <p:par>
                                <p:cTn id="45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4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4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4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8" dur="4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4001"/>
                            </p:stCondLst>
                            <p:childTnLst>
                              <p:par>
                                <p:cTn id="46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4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4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4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5" dur="4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4401"/>
                            </p:stCondLst>
                            <p:childTnLst>
                              <p:par>
                                <p:cTn id="46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4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4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4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2" dur="4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4801"/>
                            </p:stCondLst>
                            <p:childTnLst>
                              <p:par>
                                <p:cTn id="47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4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4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4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9" dur="4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4" dur="3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9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流程图: 过程 43"/>
          <p:cNvSpPr/>
          <p:nvPr/>
        </p:nvSpPr>
        <p:spPr>
          <a:xfrm>
            <a:off x="750960" y="1244520"/>
            <a:ext cx="2243160" cy="558720"/>
          </a:xfrm>
          <a:prstGeom prst="flowChartProcess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专业学习方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流程图: 过程 42"/>
          <p:cNvSpPr/>
          <p:nvPr/>
        </p:nvSpPr>
        <p:spPr>
          <a:xfrm>
            <a:off x="750960" y="1244520"/>
            <a:ext cx="2243160" cy="558720"/>
          </a:xfrm>
          <a:prstGeom prst="flowChartProcess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思想建设方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1" name="组合 71"/>
          <p:cNvGrpSpPr/>
          <p:nvPr/>
        </p:nvGrpSpPr>
        <p:grpSpPr>
          <a:xfrm>
            <a:off x="3881520" y="1076400"/>
            <a:ext cx="4267080" cy="4016160"/>
            <a:chOff x="3881520" y="1076400"/>
            <a:chExt cx="4267080" cy="4016160"/>
          </a:xfrm>
        </p:grpSpPr>
        <p:sp>
          <p:nvSpPr>
            <p:cNvPr id="732" name="五边形 46"/>
            <p:cNvSpPr/>
            <p:nvPr/>
          </p:nvSpPr>
          <p:spPr>
            <a:xfrm>
              <a:off x="3881520" y="1461960"/>
              <a:ext cx="2174760" cy="539640"/>
            </a:xfrm>
            <a:custGeom>
              <a:avLst/>
              <a:gdLst>
                <a:gd name="textAreaLeft" fmla="*/ 0 w 2174760"/>
                <a:gd name="textAreaRight" fmla="*/ 2175120 w 2174760"/>
                <a:gd name="textAreaTop" fmla="*/ 0 h 539640"/>
                <a:gd name="textAreaBottom" fmla="*/ 540000 h 539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920" y="0"/>
                  </a:lnTo>
                  <a:lnTo>
                    <a:pt x="21600" y="10800"/>
                  </a:lnTo>
                  <a:lnTo>
                    <a:pt x="18920" y="21600"/>
                  </a:lnTo>
                  <a:lnTo>
                    <a:pt x="0" y="21600"/>
                  </a:lnTo>
                  <a:close/>
                </a:path>
              </a:pathLst>
            </a:cu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仿宋_GB2312"/>
                  <a:ea typeface="仿宋_GB2312"/>
                </a:rPr>
                <a:t>思想</a:t>
              </a:r>
              <a:r>
                <a:rPr b="0" lang="zh-CN" sz="1800" spc="-1" strike="noStrike">
                  <a:solidFill>
                    <a:srgbClr val="ffffff"/>
                  </a:solidFill>
                  <a:latin typeface="仿宋_GB2312"/>
                  <a:ea typeface="仿宋_GB2312"/>
                </a:rPr>
                <a:t>教育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五边形 47"/>
            <p:cNvSpPr/>
            <p:nvPr/>
          </p:nvSpPr>
          <p:spPr>
            <a:xfrm>
              <a:off x="3881520" y="2820960"/>
              <a:ext cx="2174760" cy="541080"/>
            </a:xfrm>
            <a:custGeom>
              <a:avLst/>
              <a:gdLst>
                <a:gd name="textAreaLeft" fmla="*/ 0 w 2174760"/>
                <a:gd name="textAreaRight" fmla="*/ 2175120 w 2174760"/>
                <a:gd name="textAreaTop" fmla="*/ 0 h 541080"/>
                <a:gd name="textAreaBottom" fmla="*/ 541440 h 541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912" y="0"/>
                  </a:lnTo>
                  <a:lnTo>
                    <a:pt x="21600" y="10800"/>
                  </a:lnTo>
                  <a:lnTo>
                    <a:pt x="18912" y="21600"/>
                  </a:lnTo>
                  <a:lnTo>
                    <a:pt x="0" y="21600"/>
                  </a:lnTo>
                  <a:close/>
                </a:path>
              </a:pathLst>
            </a:cu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仿宋_GB2312"/>
                  <a:ea typeface="仿宋_GB2312"/>
                </a:rPr>
                <a:t>课程</a:t>
              </a:r>
              <a:r>
                <a:rPr b="0" lang="zh-CN" sz="1800" spc="-1" strike="noStrike">
                  <a:solidFill>
                    <a:srgbClr val="ffffff"/>
                  </a:solidFill>
                  <a:latin typeface="仿宋_GB2312"/>
                  <a:ea typeface="仿宋_GB2312"/>
                </a:rPr>
                <a:t>教育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五边形 48"/>
            <p:cNvSpPr/>
            <p:nvPr/>
          </p:nvSpPr>
          <p:spPr>
            <a:xfrm>
              <a:off x="3881520" y="4167360"/>
              <a:ext cx="2174760" cy="539640"/>
            </a:xfrm>
            <a:custGeom>
              <a:avLst/>
              <a:gdLst>
                <a:gd name="textAreaLeft" fmla="*/ 0 w 2174760"/>
                <a:gd name="textAreaRight" fmla="*/ 2175120 w 2174760"/>
                <a:gd name="textAreaTop" fmla="*/ 0 h 539640"/>
                <a:gd name="textAreaBottom" fmla="*/ 540000 h 539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920" y="0"/>
                  </a:lnTo>
                  <a:lnTo>
                    <a:pt x="21600" y="10800"/>
                  </a:lnTo>
                  <a:lnTo>
                    <a:pt x="18920" y="21600"/>
                  </a:lnTo>
                  <a:lnTo>
                    <a:pt x="0" y="21600"/>
                  </a:lnTo>
                  <a:close/>
                </a:path>
              </a:pathLst>
            </a:cu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仿宋_GB2312"/>
                  <a:ea typeface="仿宋_GB2312"/>
                </a:rPr>
                <a:t>就业</a:t>
              </a:r>
              <a:r>
                <a:rPr b="0" lang="zh-CN" sz="1800" spc="-1" strike="noStrike">
                  <a:solidFill>
                    <a:srgbClr val="ffffff"/>
                  </a:solidFill>
                  <a:latin typeface="仿宋_GB2312"/>
                  <a:ea typeface="仿宋_GB2312"/>
                </a:rPr>
                <a:t>教育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流程图: 过程 49"/>
            <p:cNvSpPr/>
            <p:nvPr/>
          </p:nvSpPr>
          <p:spPr>
            <a:xfrm>
              <a:off x="6126120" y="1076400"/>
              <a:ext cx="650880" cy="4016160"/>
            </a:xfrm>
            <a:prstGeom prst="flowChartProcess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仿宋_GB2312"/>
                  <a:ea typeface="仿宋_GB2312"/>
                </a:rPr>
                <a:t>树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仿宋_GB2312"/>
                  <a:ea typeface="仿宋_GB2312"/>
                </a:rPr>
                <a:t>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仿宋_GB2312"/>
                  <a:ea typeface="仿宋_GB2312"/>
                </a:rPr>
                <a:t>正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仿宋_GB2312"/>
                  <a:ea typeface="仿宋_GB2312"/>
                </a:rPr>
                <a:t>确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仿宋_GB2312"/>
                  <a:ea typeface="仿宋_GB2312"/>
                </a:rPr>
                <a:t>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仿宋_GB2312"/>
                  <a:ea typeface="仿宋_GB2312"/>
                </a:rPr>
                <a:t>专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仿宋_GB2312"/>
                  <a:ea typeface="仿宋_GB2312"/>
                </a:rPr>
                <a:t>业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仿宋_GB2312"/>
                  <a:ea typeface="仿宋_GB2312"/>
                </a:rPr>
                <a:t>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仿宋_GB2312"/>
                  <a:ea typeface="仿宋_GB2312"/>
                </a:rPr>
                <a:t>想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仿宋_GB2312"/>
                  <a:ea typeface="仿宋_GB2312"/>
                </a:rPr>
                <a:t>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仿宋_GB2312"/>
                  <a:ea typeface="仿宋_GB2312"/>
                </a:rPr>
                <a:t>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仿宋_GB2312"/>
                  <a:ea typeface="仿宋_GB2312"/>
                </a:rPr>
                <a:t>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仿宋_GB2312"/>
                  <a:ea typeface="仿宋_GB2312"/>
                </a:rPr>
                <a:t>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虚尾箭头 53"/>
            <p:cNvSpPr/>
            <p:nvPr/>
          </p:nvSpPr>
          <p:spPr>
            <a:xfrm>
              <a:off x="6791400" y="2806560"/>
              <a:ext cx="677880" cy="555480"/>
            </a:xfrm>
            <a:custGeom>
              <a:avLst/>
              <a:gdLst/>
              <a:ahLst/>
              <a:rect l="l" t="t" r="r" b="b"/>
              <a:pathLst>
                <a:path w="677863" h="555641">
                  <a:moveTo>
                    <a:pt x="0" y="83346"/>
                  </a:moveTo>
                  <a:lnTo>
                    <a:pt x="17364" y="83346"/>
                  </a:lnTo>
                  <a:lnTo>
                    <a:pt x="17364" y="472295"/>
                  </a:lnTo>
                  <a:lnTo>
                    <a:pt x="0" y="472295"/>
                  </a:lnTo>
                  <a:lnTo>
                    <a:pt x="0" y="83346"/>
                  </a:lnTo>
                  <a:close/>
                  <a:moveTo>
                    <a:pt x="34728" y="83346"/>
                  </a:moveTo>
                  <a:lnTo>
                    <a:pt x="69455" y="83346"/>
                  </a:lnTo>
                  <a:lnTo>
                    <a:pt x="69455" y="472295"/>
                  </a:lnTo>
                  <a:lnTo>
                    <a:pt x="34728" y="472295"/>
                  </a:lnTo>
                  <a:lnTo>
                    <a:pt x="34728" y="83346"/>
                  </a:lnTo>
                  <a:close/>
                  <a:moveTo>
                    <a:pt x="86819" y="83346"/>
                  </a:moveTo>
                  <a:lnTo>
                    <a:pt x="400043" y="83346"/>
                  </a:lnTo>
                  <a:lnTo>
                    <a:pt x="400043" y="0"/>
                  </a:lnTo>
                  <a:lnTo>
                    <a:pt x="677863" y="277821"/>
                  </a:lnTo>
                  <a:lnTo>
                    <a:pt x="400043" y="555641"/>
                  </a:lnTo>
                  <a:lnTo>
                    <a:pt x="400043" y="472295"/>
                  </a:lnTo>
                  <a:lnTo>
                    <a:pt x="86819" y="472295"/>
                  </a:lnTo>
                  <a:lnTo>
                    <a:pt x="86819" y="83346"/>
                  </a:lnTo>
                  <a:close/>
                </a:path>
              </a:pathLst>
            </a:custGeom>
            <a:noFill/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流程图: 过程 54"/>
            <p:cNvSpPr/>
            <p:nvPr/>
          </p:nvSpPr>
          <p:spPr>
            <a:xfrm>
              <a:off x="7497720" y="1076400"/>
              <a:ext cx="650880" cy="4016160"/>
            </a:xfrm>
            <a:prstGeom prst="flowChartProcess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仿宋_GB2312"/>
                  <a:ea typeface="仿宋_GB2312"/>
                </a:rPr>
                <a:t>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仿宋_GB2312"/>
                  <a:ea typeface="仿宋_GB2312"/>
                </a:rPr>
                <a:t>班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仿宋_GB2312"/>
                  <a:ea typeface="仿宋_GB2312"/>
                </a:rPr>
                <a:t>级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仿宋_GB2312"/>
                  <a:ea typeface="仿宋_GB2312"/>
                </a:rPr>
                <a:t>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仿宋_GB2312"/>
                  <a:ea typeface="仿宋_GB2312"/>
                </a:rPr>
                <a:t>专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仿宋_GB2312"/>
                  <a:ea typeface="仿宋_GB2312"/>
                </a:rPr>
                <a:t>业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仿宋_GB2312"/>
                  <a:ea typeface="仿宋_GB2312"/>
                </a:rPr>
                <a:t>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仿宋_GB2312"/>
                  <a:ea typeface="仿宋_GB2312"/>
                </a:rPr>
                <a:t>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仿宋_GB2312"/>
                  <a:ea typeface="仿宋_GB2312"/>
                </a:rPr>
                <a:t>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仿宋_GB2312"/>
                  <a:ea typeface="仿宋_GB2312"/>
                </a:rPr>
                <a:t>校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38" name="组合 69" descr=""/>
          <p:cNvPicPr/>
          <p:nvPr/>
        </p:nvPicPr>
        <p:blipFill>
          <a:blip r:embed="rId1"/>
          <a:stretch/>
        </p:blipFill>
        <p:spPr>
          <a:xfrm>
            <a:off x="3206880" y="1706400"/>
            <a:ext cx="5619600" cy="2756160"/>
          </a:xfrm>
          <a:prstGeom prst="rect">
            <a:avLst/>
          </a:prstGeom>
          <a:ln w="0">
            <a:noFill/>
          </a:ln>
        </p:spPr>
      </p:pic>
      <p:sp>
        <p:nvSpPr>
          <p:cNvPr id="739" name="Line 51"/>
          <p:cNvSpPr/>
          <p:nvPr/>
        </p:nvSpPr>
        <p:spPr>
          <a:xfrm>
            <a:off x="-360360" y="6456240"/>
            <a:ext cx="176364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直接连接符 5"/>
          <p:cNvSpPr/>
          <p:nvPr/>
        </p:nvSpPr>
        <p:spPr>
          <a:xfrm flipV="1">
            <a:off x="1386000" y="4587480"/>
            <a:ext cx="0" cy="18622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任意多边形 10"/>
          <p:cNvSpPr/>
          <p:nvPr/>
        </p:nvSpPr>
        <p:spPr>
          <a:xfrm>
            <a:off x="493560" y="4238640"/>
            <a:ext cx="897120" cy="520560"/>
          </a:xfrm>
          <a:custGeom>
            <a:avLst/>
            <a:gdLst/>
            <a:ahLst/>
            <a:rect l="l" t="t" r="r" b="b"/>
            <a:pathLst>
              <a:path w="897775" h="520931">
                <a:moveTo>
                  <a:pt x="892233" y="349134"/>
                </a:moveTo>
                <a:cubicBezTo>
                  <a:pt x="894080" y="232756"/>
                  <a:pt x="895928" y="116378"/>
                  <a:pt x="897775" y="0"/>
                </a:cubicBezTo>
                <a:lnTo>
                  <a:pt x="731520" y="144087"/>
                </a:lnTo>
                <a:lnTo>
                  <a:pt x="642851" y="205047"/>
                </a:lnTo>
                <a:lnTo>
                  <a:pt x="520931" y="282633"/>
                </a:lnTo>
                <a:lnTo>
                  <a:pt x="404553" y="349134"/>
                </a:lnTo>
                <a:lnTo>
                  <a:pt x="343593" y="382385"/>
                </a:lnTo>
                <a:lnTo>
                  <a:pt x="243840" y="426720"/>
                </a:lnTo>
                <a:lnTo>
                  <a:pt x="149629" y="465513"/>
                </a:lnTo>
                <a:lnTo>
                  <a:pt x="0" y="520931"/>
                </a:ln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任意多边形 11"/>
          <p:cNvSpPr/>
          <p:nvPr/>
        </p:nvSpPr>
        <p:spPr>
          <a:xfrm>
            <a:off x="493560" y="3203640"/>
            <a:ext cx="1606680" cy="1573200"/>
          </a:xfrm>
          <a:custGeom>
            <a:avLst/>
            <a:gdLst/>
            <a:ahLst/>
            <a:rect l="l" t="t" r="r" b="b"/>
            <a:pathLst>
              <a:path w="1607127" h="1573876">
                <a:moveTo>
                  <a:pt x="0" y="1573876"/>
                </a:moveTo>
                <a:lnTo>
                  <a:pt x="0" y="925484"/>
                </a:lnTo>
                <a:lnTo>
                  <a:pt x="149629" y="870066"/>
                </a:lnTo>
                <a:lnTo>
                  <a:pt x="260465" y="814647"/>
                </a:lnTo>
                <a:lnTo>
                  <a:pt x="382385" y="742604"/>
                </a:lnTo>
                <a:lnTo>
                  <a:pt x="504305" y="653935"/>
                </a:lnTo>
                <a:lnTo>
                  <a:pt x="620683" y="565266"/>
                </a:lnTo>
                <a:lnTo>
                  <a:pt x="725978" y="471055"/>
                </a:lnTo>
                <a:lnTo>
                  <a:pt x="814647" y="382386"/>
                </a:lnTo>
                <a:lnTo>
                  <a:pt x="886691" y="288175"/>
                </a:lnTo>
                <a:lnTo>
                  <a:pt x="947651" y="188422"/>
                </a:lnTo>
                <a:lnTo>
                  <a:pt x="1003069" y="83127"/>
                </a:lnTo>
                <a:lnTo>
                  <a:pt x="1025236" y="0"/>
                </a:lnTo>
                <a:lnTo>
                  <a:pt x="1607127" y="0"/>
                </a:lnTo>
                <a:lnTo>
                  <a:pt x="1607127" y="55418"/>
                </a:ln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直接连接符 13"/>
          <p:cNvSpPr/>
          <p:nvPr/>
        </p:nvSpPr>
        <p:spPr>
          <a:xfrm>
            <a:off x="2101680" y="3259080"/>
            <a:ext cx="0" cy="287496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直接连接符 17"/>
          <p:cNvSpPr/>
          <p:nvPr/>
        </p:nvSpPr>
        <p:spPr>
          <a:xfrm>
            <a:off x="2103480" y="6122880"/>
            <a:ext cx="66204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直接连接符 20"/>
          <p:cNvSpPr/>
          <p:nvPr/>
        </p:nvSpPr>
        <p:spPr>
          <a:xfrm>
            <a:off x="6373800" y="6132600"/>
            <a:ext cx="31132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6" name="Picture 3" descr="C:\Documents and Settings\Administrator\桌面\图片1.png"/>
          <p:cNvPicPr/>
          <p:nvPr/>
        </p:nvPicPr>
        <p:blipFill>
          <a:blip r:embed="rId2"/>
          <a:srcRect l="5739" t="22107" r="31253" b="10487"/>
          <a:stretch/>
        </p:blipFill>
        <p:spPr>
          <a:xfrm>
            <a:off x="2728800" y="5759280"/>
            <a:ext cx="3602160" cy="729000"/>
          </a:xfrm>
          <a:prstGeom prst="rect">
            <a:avLst/>
          </a:prstGeom>
          <a:ln w="0">
            <a:noFill/>
          </a:ln>
        </p:spPr>
      </p:pic>
    </p:spTree>
  </p:cSld>
  <p:transition>
    <p:push dir="l"/>
  </p:transition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0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1"/>
                            </p:stCondLst>
                            <p:childTnLst>
                              <p:par>
                                <p:cTn id="5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2" dur="4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401"/>
                            </p:stCondLst>
                            <p:childTnLst>
                              <p:par>
                                <p:cTn id="50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6" dur="4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801"/>
                            </p:stCondLst>
                            <p:childTnLst>
                              <p:par>
                                <p:cTn id="50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10" dur="4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1201"/>
                            </p:stCondLst>
                            <p:childTnLst>
                              <p:par>
                                <p:cTn id="5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4" dur="4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1601"/>
                            </p:stCondLst>
                            <p:childTnLst>
                              <p:par>
                                <p:cTn id="5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8" dur="4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4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fill="hold">
                            <p:stCondLst>
                              <p:cond delay="2001"/>
                            </p:stCondLst>
                            <p:childTnLst>
                              <p:par>
                                <p:cTn id="5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5" dur="4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fill="hold">
                            <p:stCondLst>
                              <p:cond delay="500"/>
                            </p:stCondLst>
                            <p:childTnLst>
                              <p:par>
                                <p:cTn id="5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4" dur="10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500"/>
                            </p:stCondLst>
                            <p:childTnLst>
                              <p:par>
                                <p:cTn id="5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7" dur="10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9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7" name="Picture 49" descr="C:\Documents and Settings\Administrator\桌面\团歌.jpg"/>
          <p:cNvPicPr/>
          <p:nvPr/>
        </p:nvPicPr>
        <p:blipFill>
          <a:blip r:embed="rId1"/>
          <a:stretch/>
        </p:blipFill>
        <p:spPr>
          <a:xfrm rot="1857600">
            <a:off x="4481640" y="23760"/>
            <a:ext cx="3830400" cy="5329440"/>
          </a:xfrm>
          <a:prstGeom prst="rect">
            <a:avLst/>
          </a:prstGeom>
          <a:ln w="0">
            <a:noFill/>
          </a:ln>
        </p:spPr>
      </p:pic>
      <p:grpSp>
        <p:nvGrpSpPr>
          <p:cNvPr id="748" name="组合 48"/>
          <p:cNvGrpSpPr/>
          <p:nvPr/>
        </p:nvGrpSpPr>
        <p:grpSpPr>
          <a:xfrm>
            <a:off x="1546200" y="1230480"/>
            <a:ext cx="7375680" cy="4397040"/>
            <a:chOff x="1546200" y="1230480"/>
            <a:chExt cx="7375680" cy="4397040"/>
          </a:xfrm>
        </p:grpSpPr>
        <p:pic>
          <p:nvPicPr>
            <p:cNvPr id="749" name="图表 39" descr=""/>
            <p:cNvPicPr/>
            <p:nvPr/>
          </p:nvPicPr>
          <p:blipFill>
            <a:blip r:embed="rId2"/>
            <a:stretch/>
          </p:blipFill>
          <p:spPr>
            <a:xfrm>
              <a:off x="1546200" y="1230480"/>
              <a:ext cx="6729480" cy="439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0" name="TextBox 40"/>
            <p:cNvSpPr/>
            <p:nvPr/>
          </p:nvSpPr>
          <p:spPr>
            <a:xfrm>
              <a:off x="8023320" y="1656000"/>
              <a:ext cx="898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ffff"/>
                  </a:solidFill>
                  <a:latin typeface="宋体"/>
                  <a:ea typeface="宋体"/>
                </a:rPr>
                <a:t>31%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TextBox 45"/>
            <p:cNvSpPr/>
            <p:nvPr/>
          </p:nvSpPr>
          <p:spPr>
            <a:xfrm>
              <a:off x="8023320" y="2570760"/>
              <a:ext cx="898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ffff"/>
                  </a:solidFill>
                  <a:latin typeface="宋体"/>
                  <a:ea typeface="宋体"/>
                </a:rPr>
                <a:t>93.1%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TextBox 46"/>
            <p:cNvSpPr/>
            <p:nvPr/>
          </p:nvSpPr>
          <p:spPr>
            <a:xfrm>
              <a:off x="8023320" y="3501360"/>
              <a:ext cx="898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ffff"/>
                  </a:solidFill>
                  <a:latin typeface="宋体"/>
                  <a:ea typeface="宋体"/>
                </a:rPr>
                <a:t>100%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TextBox 47"/>
            <p:cNvSpPr/>
            <p:nvPr/>
          </p:nvSpPr>
          <p:spPr>
            <a:xfrm>
              <a:off x="8023320" y="4415760"/>
              <a:ext cx="898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ffff"/>
                  </a:solidFill>
                  <a:latin typeface="宋体"/>
                  <a:ea typeface="宋体"/>
                </a:rPr>
                <a:t>100%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4" name="六边形 22"/>
          <p:cNvSpPr/>
          <p:nvPr/>
        </p:nvSpPr>
        <p:spPr>
          <a:xfrm>
            <a:off x="2979720" y="577800"/>
            <a:ext cx="549360" cy="473040"/>
          </a:xfrm>
          <a:prstGeom prst="hexagon">
            <a:avLst>
              <a:gd name="adj" fmla="val 25006"/>
              <a:gd name="vf" fmla="val 11547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六边形 21"/>
          <p:cNvSpPr/>
          <p:nvPr/>
        </p:nvSpPr>
        <p:spPr>
          <a:xfrm>
            <a:off x="2548080" y="825480"/>
            <a:ext cx="549000" cy="473040"/>
          </a:xfrm>
          <a:prstGeom prst="hexagon">
            <a:avLst>
              <a:gd name="adj" fmla="val 24990"/>
              <a:gd name="vf" fmla="val 11547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六边形 23"/>
          <p:cNvSpPr/>
          <p:nvPr/>
        </p:nvSpPr>
        <p:spPr>
          <a:xfrm>
            <a:off x="2127240" y="577800"/>
            <a:ext cx="549360" cy="473040"/>
          </a:xfrm>
          <a:prstGeom prst="hexagon">
            <a:avLst>
              <a:gd name="adj" fmla="val 25006"/>
              <a:gd name="vf" fmla="val 11547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7" name="组合 36"/>
          <p:cNvGrpSpPr/>
          <p:nvPr/>
        </p:nvGrpSpPr>
        <p:grpSpPr>
          <a:xfrm>
            <a:off x="2514600" y="1668600"/>
            <a:ext cx="6102360" cy="3079440"/>
            <a:chOff x="2514600" y="1668600"/>
            <a:chExt cx="6102360" cy="3079440"/>
          </a:xfrm>
        </p:grpSpPr>
        <p:sp>
          <p:nvSpPr>
            <p:cNvPr id="758" name="圆角矩形 34"/>
            <p:cNvSpPr/>
            <p:nvPr/>
          </p:nvSpPr>
          <p:spPr>
            <a:xfrm>
              <a:off x="3078000" y="2298600"/>
              <a:ext cx="5538960" cy="1143000"/>
            </a:xfrm>
            <a:prstGeom prst="roundRect">
              <a:avLst>
                <a:gd name="adj" fmla="val 16667"/>
              </a:avLst>
            </a:prstGeom>
            <a:solidFill>
              <a:srgbClr val="0079c5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仿宋_GB2312"/>
                  <a:ea typeface="仿宋_GB2312"/>
                </a:rPr>
                <a:t>探索喜闻乐见的形式宣传党团知识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圆角矩形 35"/>
            <p:cNvSpPr/>
            <p:nvPr/>
          </p:nvSpPr>
          <p:spPr>
            <a:xfrm>
              <a:off x="3078000" y="3605040"/>
              <a:ext cx="5538960" cy="1143000"/>
            </a:xfrm>
            <a:prstGeom prst="roundRect">
              <a:avLst>
                <a:gd name="adj" fmla="val 16667"/>
              </a:avLst>
            </a:prstGeom>
            <a:solidFill>
              <a:srgbClr val="0079c5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仿宋_GB2312"/>
                  <a:ea typeface="仿宋_GB2312"/>
                </a:rPr>
                <a:t>鼓励团员积极向党组织靠拢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椭圆 33"/>
            <p:cNvSpPr/>
            <p:nvPr/>
          </p:nvSpPr>
          <p:spPr>
            <a:xfrm>
              <a:off x="2514600" y="1668600"/>
              <a:ext cx="877680" cy="909360"/>
            </a:xfrm>
            <a:prstGeom prst="ellipse">
              <a:avLst/>
            </a:prstGeom>
            <a:solidFill>
              <a:srgbClr val="0079c5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1" name="直接连接符 3"/>
          <p:cNvSpPr/>
          <p:nvPr/>
        </p:nvSpPr>
        <p:spPr>
          <a:xfrm>
            <a:off x="-320760" y="6111720"/>
            <a:ext cx="5922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任意多边形 7"/>
          <p:cNvSpPr/>
          <p:nvPr/>
        </p:nvSpPr>
        <p:spPr>
          <a:xfrm>
            <a:off x="272880" y="3301920"/>
            <a:ext cx="1740240" cy="2801880"/>
          </a:xfrm>
          <a:custGeom>
            <a:avLst/>
            <a:gdLst/>
            <a:ahLst/>
            <a:rect l="l" t="t" r="r" b="b"/>
            <a:pathLst>
              <a:path w="1739677" h="2802021">
                <a:moveTo>
                  <a:pt x="0" y="2802021"/>
                </a:moveTo>
                <a:cubicBezTo>
                  <a:pt x="8021" y="2744536"/>
                  <a:pt x="16042" y="2687052"/>
                  <a:pt x="32084" y="2620210"/>
                </a:cubicBezTo>
                <a:cubicBezTo>
                  <a:pt x="48126" y="2553368"/>
                  <a:pt x="70407" y="2470484"/>
                  <a:pt x="96253" y="2400968"/>
                </a:cubicBezTo>
                <a:cubicBezTo>
                  <a:pt x="122099" y="2331452"/>
                  <a:pt x="148835" y="2273522"/>
                  <a:pt x="187158" y="2203115"/>
                </a:cubicBezTo>
                <a:cubicBezTo>
                  <a:pt x="225481" y="2132708"/>
                  <a:pt x="252218" y="2074778"/>
                  <a:pt x="326190" y="1978526"/>
                </a:cubicBezTo>
                <a:cubicBezTo>
                  <a:pt x="400162" y="1882274"/>
                  <a:pt x="540085" y="1723635"/>
                  <a:pt x="630990" y="1625600"/>
                </a:cubicBezTo>
                <a:cubicBezTo>
                  <a:pt x="721895" y="1527565"/>
                  <a:pt x="871621" y="1390315"/>
                  <a:pt x="871621" y="1390315"/>
                </a:cubicBezTo>
                <a:lnTo>
                  <a:pt x="1160379" y="1112252"/>
                </a:lnTo>
                <a:cubicBezTo>
                  <a:pt x="1258414" y="1017782"/>
                  <a:pt x="1390316" y="895684"/>
                  <a:pt x="1459832" y="823494"/>
                </a:cubicBezTo>
                <a:cubicBezTo>
                  <a:pt x="1529348" y="751305"/>
                  <a:pt x="1542716" y="726350"/>
                  <a:pt x="1577474" y="679115"/>
                </a:cubicBezTo>
                <a:cubicBezTo>
                  <a:pt x="1612232" y="631880"/>
                  <a:pt x="1643425" y="590884"/>
                  <a:pt x="1668379" y="540084"/>
                </a:cubicBezTo>
                <a:cubicBezTo>
                  <a:pt x="1693333" y="489284"/>
                  <a:pt x="1715614" y="434027"/>
                  <a:pt x="1727200" y="374315"/>
                </a:cubicBezTo>
                <a:cubicBezTo>
                  <a:pt x="1738786" y="314603"/>
                  <a:pt x="1739677" y="234392"/>
                  <a:pt x="1737895" y="181810"/>
                </a:cubicBezTo>
                <a:cubicBezTo>
                  <a:pt x="1736113" y="129228"/>
                  <a:pt x="1722745" y="89122"/>
                  <a:pt x="1716506" y="58821"/>
                </a:cubicBezTo>
                <a:cubicBezTo>
                  <a:pt x="1710267" y="28520"/>
                  <a:pt x="1705365" y="14260"/>
                  <a:pt x="1700463" y="0"/>
                </a:cubicBez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任意多边形 10"/>
          <p:cNvSpPr/>
          <p:nvPr/>
        </p:nvSpPr>
        <p:spPr>
          <a:xfrm>
            <a:off x="349200" y="3060720"/>
            <a:ext cx="1625760" cy="571320"/>
          </a:xfrm>
          <a:custGeom>
            <a:avLst/>
            <a:gdLst/>
            <a:ahLst/>
            <a:rect l="l" t="t" r="r" b="b"/>
            <a:pathLst>
              <a:path w="1625600" h="572168">
                <a:moveTo>
                  <a:pt x="0" y="508000"/>
                </a:moveTo>
                <a:lnTo>
                  <a:pt x="705853" y="572168"/>
                </a:lnTo>
                <a:lnTo>
                  <a:pt x="705853" y="491958"/>
                </a:lnTo>
                <a:lnTo>
                  <a:pt x="716548" y="422442"/>
                </a:lnTo>
                <a:lnTo>
                  <a:pt x="732590" y="352926"/>
                </a:lnTo>
                <a:lnTo>
                  <a:pt x="780716" y="224589"/>
                </a:lnTo>
                <a:lnTo>
                  <a:pt x="823495" y="155074"/>
                </a:lnTo>
                <a:lnTo>
                  <a:pt x="871621" y="112295"/>
                </a:lnTo>
                <a:lnTo>
                  <a:pt x="925095" y="69516"/>
                </a:lnTo>
                <a:lnTo>
                  <a:pt x="1005306" y="26737"/>
                </a:lnTo>
                <a:lnTo>
                  <a:pt x="1106906" y="5347"/>
                </a:lnTo>
                <a:lnTo>
                  <a:pt x="1181769" y="0"/>
                </a:lnTo>
                <a:lnTo>
                  <a:pt x="1272674" y="0"/>
                </a:lnTo>
                <a:lnTo>
                  <a:pt x="1336843" y="10695"/>
                </a:lnTo>
                <a:lnTo>
                  <a:pt x="1411706" y="37432"/>
                </a:lnTo>
                <a:lnTo>
                  <a:pt x="1470527" y="64168"/>
                </a:lnTo>
                <a:lnTo>
                  <a:pt x="1524000" y="106947"/>
                </a:lnTo>
                <a:lnTo>
                  <a:pt x="1577474" y="165768"/>
                </a:lnTo>
                <a:lnTo>
                  <a:pt x="1614906" y="224589"/>
                </a:lnTo>
                <a:lnTo>
                  <a:pt x="1625600" y="251326"/>
                </a:ln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任意多边形 11"/>
          <p:cNvSpPr/>
          <p:nvPr/>
        </p:nvSpPr>
        <p:spPr>
          <a:xfrm>
            <a:off x="349200" y="2489040"/>
            <a:ext cx="2239920" cy="1079640"/>
          </a:xfrm>
          <a:custGeom>
            <a:avLst/>
            <a:gdLst/>
            <a:ahLst/>
            <a:rect l="l" t="t" r="r" b="b"/>
            <a:pathLst>
              <a:path w="2240548" h="1078386">
                <a:moveTo>
                  <a:pt x="0" y="1078386"/>
                </a:moveTo>
                <a:cubicBezTo>
                  <a:pt x="11140" y="993274"/>
                  <a:pt x="22281" y="908162"/>
                  <a:pt x="42779" y="827060"/>
                </a:cubicBezTo>
                <a:cubicBezTo>
                  <a:pt x="63277" y="745958"/>
                  <a:pt x="90906" y="661291"/>
                  <a:pt x="122990" y="591775"/>
                </a:cubicBezTo>
                <a:cubicBezTo>
                  <a:pt x="155074" y="522259"/>
                  <a:pt x="189832" y="468786"/>
                  <a:pt x="235285" y="409965"/>
                </a:cubicBezTo>
                <a:cubicBezTo>
                  <a:pt x="280738" y="351144"/>
                  <a:pt x="320843" y="292323"/>
                  <a:pt x="395706" y="238849"/>
                </a:cubicBezTo>
                <a:cubicBezTo>
                  <a:pt x="470569" y="185375"/>
                  <a:pt x="589994" y="125663"/>
                  <a:pt x="684464" y="89123"/>
                </a:cubicBezTo>
                <a:cubicBezTo>
                  <a:pt x="778934" y="52583"/>
                  <a:pt x="859145" y="33867"/>
                  <a:pt x="962527" y="19607"/>
                </a:cubicBezTo>
                <a:cubicBezTo>
                  <a:pt x="1065909" y="5347"/>
                  <a:pt x="1198702" y="0"/>
                  <a:pt x="1304758" y="3565"/>
                </a:cubicBezTo>
                <a:cubicBezTo>
                  <a:pt x="1410814" y="7130"/>
                  <a:pt x="1520436" y="23172"/>
                  <a:pt x="1598864" y="40996"/>
                </a:cubicBezTo>
                <a:cubicBezTo>
                  <a:pt x="1677292" y="58820"/>
                  <a:pt x="1706703" y="76645"/>
                  <a:pt x="1775327" y="110512"/>
                </a:cubicBezTo>
                <a:cubicBezTo>
                  <a:pt x="1843951" y="144379"/>
                  <a:pt x="1940204" y="188940"/>
                  <a:pt x="2010611" y="244196"/>
                </a:cubicBezTo>
                <a:cubicBezTo>
                  <a:pt x="2081018" y="299452"/>
                  <a:pt x="2159446" y="397488"/>
                  <a:pt x="2197769" y="442049"/>
                </a:cubicBezTo>
                <a:cubicBezTo>
                  <a:pt x="2236092" y="486610"/>
                  <a:pt x="2238320" y="499087"/>
                  <a:pt x="2240548" y="511565"/>
                </a:cubicBez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任意多边形 14"/>
          <p:cNvSpPr/>
          <p:nvPr/>
        </p:nvSpPr>
        <p:spPr>
          <a:xfrm>
            <a:off x="1317600" y="3002040"/>
            <a:ext cx="1406520" cy="2490840"/>
          </a:xfrm>
          <a:custGeom>
            <a:avLst/>
            <a:gdLst/>
            <a:ahLst/>
            <a:rect l="l" t="t" r="r" b="b"/>
            <a:pathLst>
              <a:path w="1406358" h="2490982">
                <a:moveTo>
                  <a:pt x="116751" y="2486526"/>
                </a:moveTo>
                <a:cubicBezTo>
                  <a:pt x="73526" y="2488308"/>
                  <a:pt x="30302" y="2490091"/>
                  <a:pt x="15151" y="2486526"/>
                </a:cubicBezTo>
                <a:cubicBezTo>
                  <a:pt x="0" y="2482961"/>
                  <a:pt x="8021" y="2490982"/>
                  <a:pt x="25846" y="2465137"/>
                </a:cubicBezTo>
                <a:cubicBezTo>
                  <a:pt x="43671" y="2439292"/>
                  <a:pt x="70408" y="2390274"/>
                  <a:pt x="122099" y="2331453"/>
                </a:cubicBezTo>
                <a:cubicBezTo>
                  <a:pt x="173790" y="2272632"/>
                  <a:pt x="224590" y="2219158"/>
                  <a:pt x="335993" y="2112210"/>
                </a:cubicBezTo>
                <a:cubicBezTo>
                  <a:pt x="447397" y="2005263"/>
                  <a:pt x="665748" y="1815431"/>
                  <a:pt x="790520" y="1689768"/>
                </a:cubicBezTo>
                <a:cubicBezTo>
                  <a:pt x="915292" y="1564105"/>
                  <a:pt x="1000850" y="1472308"/>
                  <a:pt x="1084625" y="1358231"/>
                </a:cubicBezTo>
                <a:cubicBezTo>
                  <a:pt x="1168400" y="1244154"/>
                  <a:pt x="1242372" y="1120273"/>
                  <a:pt x="1293172" y="1005305"/>
                </a:cubicBezTo>
                <a:cubicBezTo>
                  <a:pt x="1343972" y="890337"/>
                  <a:pt x="1372492" y="765565"/>
                  <a:pt x="1389425" y="668421"/>
                </a:cubicBezTo>
                <a:cubicBezTo>
                  <a:pt x="1406358" y="571277"/>
                  <a:pt x="1399228" y="498196"/>
                  <a:pt x="1394772" y="422442"/>
                </a:cubicBezTo>
                <a:cubicBezTo>
                  <a:pt x="1390316" y="346688"/>
                  <a:pt x="1382295" y="284302"/>
                  <a:pt x="1362688" y="213895"/>
                </a:cubicBezTo>
                <a:cubicBezTo>
                  <a:pt x="1343081" y="143488"/>
                  <a:pt x="1310105" y="71744"/>
                  <a:pt x="1277130" y="0"/>
                </a:cubicBez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6" name="组合 38"/>
          <p:cNvGrpSpPr/>
          <p:nvPr/>
        </p:nvGrpSpPr>
        <p:grpSpPr>
          <a:xfrm>
            <a:off x="1428840" y="5483160"/>
            <a:ext cx="1998720" cy="646200"/>
            <a:chOff x="1428840" y="5483160"/>
            <a:chExt cx="1998720" cy="646200"/>
          </a:xfrm>
        </p:grpSpPr>
        <p:sp>
          <p:nvSpPr>
            <p:cNvPr id="767" name="任意多边形 15"/>
            <p:cNvSpPr/>
            <p:nvPr/>
          </p:nvSpPr>
          <p:spPr>
            <a:xfrm>
              <a:off x="1428840" y="5483160"/>
              <a:ext cx="1289160" cy="646200"/>
            </a:xfrm>
            <a:custGeom>
              <a:avLst/>
              <a:gdLst/>
              <a:ahLst/>
              <a:rect l="l" t="t" r="r" b="b"/>
              <a:pathLst>
                <a:path w="1288716" h="647032">
                  <a:moveTo>
                    <a:pt x="0" y="5348"/>
                  </a:moveTo>
                  <a:lnTo>
                    <a:pt x="1288716" y="0"/>
                  </a:lnTo>
                  <a:lnTo>
                    <a:pt x="1278021" y="647032"/>
                  </a:lnTo>
                </a:path>
              </a:pathLst>
            </a:custGeom>
            <a:noFill/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直接连接符 17"/>
            <p:cNvSpPr/>
            <p:nvPr/>
          </p:nvSpPr>
          <p:spPr>
            <a:xfrm>
              <a:off x="2706840" y="6112080"/>
              <a:ext cx="72072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69" name="Picture 2" descr="C:\Documents and Settings\Administrator\桌面\图片2.png"/>
          <p:cNvPicPr/>
          <p:nvPr/>
        </p:nvPicPr>
        <p:blipFill>
          <a:blip r:embed="rId3"/>
          <a:srcRect l="4307" t="14795" r="7097" b="0"/>
          <a:stretch/>
        </p:blipFill>
        <p:spPr>
          <a:xfrm>
            <a:off x="3336840" y="5654520"/>
            <a:ext cx="5173920" cy="947880"/>
          </a:xfrm>
          <a:prstGeom prst="rect">
            <a:avLst/>
          </a:prstGeom>
          <a:ln w="0">
            <a:noFill/>
          </a:ln>
        </p:spPr>
      </p:pic>
      <p:sp>
        <p:nvSpPr>
          <p:cNvPr id="770" name="直接连接符 20"/>
          <p:cNvSpPr/>
          <p:nvPr/>
        </p:nvSpPr>
        <p:spPr>
          <a:xfrm>
            <a:off x="8458200" y="6126120"/>
            <a:ext cx="8082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1" name="组合 49"/>
          <p:cNvGrpSpPr/>
          <p:nvPr/>
        </p:nvGrpSpPr>
        <p:grpSpPr>
          <a:xfrm>
            <a:off x="2120760" y="577800"/>
            <a:ext cx="1408320" cy="714600"/>
            <a:chOff x="2120760" y="577800"/>
            <a:chExt cx="1408320" cy="714600"/>
          </a:xfrm>
        </p:grpSpPr>
        <p:sp>
          <p:nvSpPr>
            <p:cNvPr id="772" name="六边形 12"/>
            <p:cNvSpPr/>
            <p:nvPr/>
          </p:nvSpPr>
          <p:spPr>
            <a:xfrm>
              <a:off x="2120760" y="577800"/>
              <a:ext cx="549360" cy="473400"/>
            </a:xfrm>
            <a:prstGeom prst="hexagon">
              <a:avLst>
                <a:gd name="adj" fmla="val 25009"/>
                <a:gd name="vf" fmla="val 115470"/>
              </a:avLst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六边形 13"/>
            <p:cNvSpPr/>
            <p:nvPr/>
          </p:nvSpPr>
          <p:spPr>
            <a:xfrm>
              <a:off x="2979720" y="579240"/>
              <a:ext cx="549360" cy="473400"/>
            </a:xfrm>
            <a:prstGeom prst="hexagon">
              <a:avLst>
                <a:gd name="adj" fmla="val 25009"/>
                <a:gd name="vf" fmla="val 115470"/>
              </a:avLst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六边形 16"/>
            <p:cNvSpPr/>
            <p:nvPr/>
          </p:nvSpPr>
          <p:spPr>
            <a:xfrm>
              <a:off x="2550960" y="819000"/>
              <a:ext cx="549360" cy="473400"/>
            </a:xfrm>
            <a:prstGeom prst="hexagon">
              <a:avLst>
                <a:gd name="adj" fmla="val 25009"/>
                <a:gd name="vf" fmla="val 115470"/>
              </a:avLst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5" name="流程图: 过程 25"/>
          <p:cNvSpPr/>
          <p:nvPr/>
        </p:nvSpPr>
        <p:spPr>
          <a:xfrm>
            <a:off x="3537000" y="587520"/>
            <a:ext cx="2244600" cy="55872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班团建设方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流程图: 过程 26"/>
          <p:cNvSpPr/>
          <p:nvPr/>
        </p:nvSpPr>
        <p:spPr>
          <a:xfrm>
            <a:off x="3537000" y="587520"/>
            <a:ext cx="2244600" cy="55872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党组织建设方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流程图: 过程 27"/>
          <p:cNvSpPr/>
          <p:nvPr/>
        </p:nvSpPr>
        <p:spPr>
          <a:xfrm>
            <a:off x="3537000" y="587520"/>
            <a:ext cx="2244600" cy="55872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建设成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8" name="组合 32"/>
          <p:cNvGrpSpPr/>
          <p:nvPr/>
        </p:nvGrpSpPr>
        <p:grpSpPr>
          <a:xfrm>
            <a:off x="2662200" y="1757520"/>
            <a:ext cx="6165720" cy="3004920"/>
            <a:chOff x="2662200" y="1757520"/>
            <a:chExt cx="6165720" cy="3004920"/>
          </a:xfrm>
        </p:grpSpPr>
        <p:sp>
          <p:nvSpPr>
            <p:cNvPr id="779" name="等腰三角形 28"/>
            <p:cNvSpPr/>
            <p:nvPr/>
          </p:nvSpPr>
          <p:spPr>
            <a:xfrm>
              <a:off x="2662200" y="1757520"/>
              <a:ext cx="914400" cy="3004920"/>
            </a:xfrm>
            <a:prstGeom prst="triangle">
              <a:avLst>
                <a:gd name="adj" fmla="val 50000"/>
              </a:avLst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流程图: 终止 29"/>
            <p:cNvSpPr/>
            <p:nvPr/>
          </p:nvSpPr>
          <p:spPr>
            <a:xfrm>
              <a:off x="3092400" y="2311560"/>
              <a:ext cx="5735520" cy="858600"/>
            </a:xfrm>
            <a:prstGeom prst="flowChartTerminator">
              <a:avLst/>
            </a:prstGeom>
            <a:solidFill>
              <a:srgbClr val="0079c5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仿宋_GB2312"/>
                  <a:ea typeface="仿宋_GB2312"/>
                </a:rPr>
                <a:t>明确的工作规范：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仿宋_GB2312"/>
                  <a:ea typeface="仿宋_GB2312"/>
                </a:rPr>
                <a:t>班务公开、虚心纳言、分工协作、上传下达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流程图: 终止 30"/>
            <p:cNvSpPr/>
            <p:nvPr/>
          </p:nvSpPr>
          <p:spPr>
            <a:xfrm>
              <a:off x="3092400" y="3460680"/>
              <a:ext cx="5735520" cy="858600"/>
            </a:xfrm>
            <a:prstGeom prst="flowChartTerminator">
              <a:avLst/>
            </a:prstGeom>
            <a:solidFill>
              <a:srgbClr val="0079c5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仿宋_GB2312"/>
                  <a:ea typeface="仿宋_GB2312"/>
                </a:rPr>
                <a:t>班团委员们定时召开碰头会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push dir="l"/>
  </p:transition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fill="hold">
                      <p:stCondLst>
                        <p:cond delay="0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3" dur="4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400"/>
                            </p:stCondLst>
                            <p:childTnLst>
                              <p:par>
                                <p:cTn id="58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7" dur="4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800"/>
                            </p:stCondLst>
                            <p:childTnLst>
                              <p:par>
                                <p:cTn id="58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91" dur="4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1200"/>
                            </p:stCondLst>
                            <p:childTnLst>
                              <p:par>
                                <p:cTn id="5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5" dur="4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1600"/>
                            </p:stCondLst>
                            <p:childTnLst>
                              <p:par>
                                <p:cTn id="5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9" dur="4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2000"/>
                            </p:stCondLst>
                            <p:childTnLst>
                              <p:par>
                                <p:cTn id="6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3" dur="4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6" dur="4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4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fill="hold">
                            <p:stCondLst>
                              <p:cond delay="400"/>
                            </p:stCondLst>
                            <p:childTnLst>
                              <p:par>
                                <p:cTn id="6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9" dur="4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4" dur="4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7" dur="4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5" dur="4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fill="hold">
                            <p:stCondLst>
                              <p:cond delay="400"/>
                            </p:stCondLst>
                            <p:childTnLst>
                              <p:par>
                                <p:cTn id="63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40" dur="4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4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8" dur="4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0" dur="4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7" dur="4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fill="hold">
                            <p:stCondLst>
                              <p:cond delay="400"/>
                            </p:stCondLst>
                            <p:childTnLst>
                              <p:par>
                                <p:cTn id="66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2" dur="4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4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4" dur="4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9" dur="3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9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2" name="组合 46"/>
          <p:cNvGrpSpPr/>
          <p:nvPr/>
        </p:nvGrpSpPr>
        <p:grpSpPr>
          <a:xfrm>
            <a:off x="3084480" y="1941480"/>
            <a:ext cx="5713560" cy="3276720"/>
            <a:chOff x="3084480" y="1941480"/>
            <a:chExt cx="5713560" cy="3276720"/>
          </a:xfrm>
        </p:grpSpPr>
        <p:sp>
          <p:nvSpPr>
            <p:cNvPr id="783" name="燕尾形 33"/>
            <p:cNvSpPr/>
            <p:nvPr/>
          </p:nvSpPr>
          <p:spPr>
            <a:xfrm rot="5400000">
              <a:off x="3158280" y="1907280"/>
              <a:ext cx="650880" cy="798480"/>
            </a:xfrm>
            <a:custGeom>
              <a:avLst/>
              <a:gdLst>
                <a:gd name="textAreaLeft" fmla="*/ 0 w 650880"/>
                <a:gd name="textAreaRight" fmla="*/ 651240 w 65088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603" y="0"/>
                  </a:lnTo>
                  <a:lnTo>
                    <a:pt x="21600" y="10800"/>
                  </a:lnTo>
                  <a:lnTo>
                    <a:pt x="16603" y="21600"/>
                  </a:lnTo>
                  <a:lnTo>
                    <a:pt x="0" y="21600"/>
                  </a:lnTo>
                  <a:lnTo>
                    <a:pt x="4997" y="10800"/>
                  </a:lnTo>
                  <a:close/>
                </a:path>
              </a:pathLst>
            </a:cu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燕尾形 34"/>
            <p:cNvSpPr/>
            <p:nvPr/>
          </p:nvSpPr>
          <p:spPr>
            <a:xfrm rot="5400000">
              <a:off x="3157560" y="2549520"/>
              <a:ext cx="652320" cy="798480"/>
            </a:xfrm>
            <a:custGeom>
              <a:avLst/>
              <a:gdLst>
                <a:gd name="textAreaLeft" fmla="*/ 0 w 652320"/>
                <a:gd name="textAreaRight" fmla="*/ 652680 w 65232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603" y="0"/>
                  </a:lnTo>
                  <a:lnTo>
                    <a:pt x="21600" y="10800"/>
                  </a:lnTo>
                  <a:lnTo>
                    <a:pt x="16603" y="21600"/>
                  </a:lnTo>
                  <a:lnTo>
                    <a:pt x="0" y="21600"/>
                  </a:lnTo>
                  <a:lnTo>
                    <a:pt x="4997" y="10800"/>
                  </a:lnTo>
                  <a:close/>
                </a:path>
              </a:pathLst>
            </a:cu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燕尾形 35"/>
            <p:cNvSpPr/>
            <p:nvPr/>
          </p:nvSpPr>
          <p:spPr>
            <a:xfrm rot="5400000">
              <a:off x="3157560" y="3192480"/>
              <a:ext cx="652320" cy="798480"/>
            </a:xfrm>
            <a:custGeom>
              <a:avLst/>
              <a:gdLst>
                <a:gd name="textAreaLeft" fmla="*/ 0 w 652320"/>
                <a:gd name="textAreaRight" fmla="*/ 652680 w 65232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603" y="0"/>
                  </a:lnTo>
                  <a:lnTo>
                    <a:pt x="21600" y="10800"/>
                  </a:lnTo>
                  <a:lnTo>
                    <a:pt x="16603" y="21600"/>
                  </a:lnTo>
                  <a:lnTo>
                    <a:pt x="0" y="21600"/>
                  </a:lnTo>
                  <a:lnTo>
                    <a:pt x="4997" y="10800"/>
                  </a:lnTo>
                  <a:close/>
                </a:path>
              </a:pathLst>
            </a:cu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燕尾形 36"/>
            <p:cNvSpPr/>
            <p:nvPr/>
          </p:nvSpPr>
          <p:spPr>
            <a:xfrm rot="5400000">
              <a:off x="3157560" y="3846600"/>
              <a:ext cx="652320" cy="798480"/>
            </a:xfrm>
            <a:custGeom>
              <a:avLst/>
              <a:gdLst>
                <a:gd name="textAreaLeft" fmla="*/ 0 w 652320"/>
                <a:gd name="textAreaRight" fmla="*/ 652680 w 65232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603" y="0"/>
                  </a:lnTo>
                  <a:lnTo>
                    <a:pt x="21600" y="10800"/>
                  </a:lnTo>
                  <a:lnTo>
                    <a:pt x="16603" y="21600"/>
                  </a:lnTo>
                  <a:lnTo>
                    <a:pt x="0" y="21600"/>
                  </a:lnTo>
                  <a:lnTo>
                    <a:pt x="4997" y="10800"/>
                  </a:lnTo>
                  <a:close/>
                </a:path>
              </a:pathLst>
            </a:cu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燕尾形 37"/>
            <p:cNvSpPr/>
            <p:nvPr/>
          </p:nvSpPr>
          <p:spPr>
            <a:xfrm rot="5400000">
              <a:off x="3157560" y="4492800"/>
              <a:ext cx="652320" cy="798480"/>
            </a:xfrm>
            <a:custGeom>
              <a:avLst/>
              <a:gdLst>
                <a:gd name="textAreaLeft" fmla="*/ 0 w 652320"/>
                <a:gd name="textAreaRight" fmla="*/ 652680 w 65232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603" y="0"/>
                  </a:lnTo>
                  <a:lnTo>
                    <a:pt x="21600" y="10800"/>
                  </a:lnTo>
                  <a:lnTo>
                    <a:pt x="16603" y="21600"/>
                  </a:lnTo>
                  <a:lnTo>
                    <a:pt x="0" y="21600"/>
                  </a:lnTo>
                  <a:lnTo>
                    <a:pt x="4997" y="10800"/>
                  </a:lnTo>
                  <a:close/>
                </a:path>
              </a:pathLst>
            </a:cu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圆角矩形 38"/>
            <p:cNvSpPr/>
            <p:nvPr/>
          </p:nvSpPr>
          <p:spPr>
            <a:xfrm>
              <a:off x="3951000" y="1941480"/>
              <a:ext cx="4847040" cy="56520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仿宋_GB2312"/>
                  <a:ea typeface="仿宋_GB2312"/>
                </a:rPr>
                <a:t>开展集体活动，增强班级凝聚力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圆角矩形 39"/>
            <p:cNvSpPr/>
            <p:nvPr/>
          </p:nvSpPr>
          <p:spPr>
            <a:xfrm>
              <a:off x="3951000" y="2589120"/>
              <a:ext cx="4847040" cy="56520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仿宋_GB2312"/>
                  <a:ea typeface="仿宋_GB2312"/>
                </a:rPr>
                <a:t>注团结，重交流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圆角矩形 40"/>
            <p:cNvSpPr/>
            <p:nvPr/>
          </p:nvSpPr>
          <p:spPr>
            <a:xfrm>
              <a:off x="3951000" y="3236760"/>
              <a:ext cx="4847040" cy="56520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仿宋_GB2312"/>
                  <a:ea typeface="仿宋_GB2312"/>
                </a:rPr>
                <a:t>促学习，谈经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圆角矩形 41"/>
            <p:cNvSpPr/>
            <p:nvPr/>
          </p:nvSpPr>
          <p:spPr>
            <a:xfrm>
              <a:off x="3951000" y="3886200"/>
              <a:ext cx="4847040" cy="56340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仿宋_GB2312"/>
                  <a:ea typeface="仿宋_GB2312"/>
                </a:rPr>
                <a:t>抓纪律，严考勤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圆角矩形 42"/>
            <p:cNvSpPr/>
            <p:nvPr/>
          </p:nvSpPr>
          <p:spPr>
            <a:xfrm>
              <a:off x="3951000" y="4530960"/>
              <a:ext cx="4847040" cy="56520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仿宋_GB2312"/>
                  <a:ea typeface="仿宋_GB2312"/>
                </a:rPr>
                <a:t>注重集体的进步，照顾后进同学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93" name="Picture 14" descr="C:\Documents and Settings\Administrator\桌面\图片2.png"/>
          <p:cNvPicPr/>
          <p:nvPr/>
        </p:nvPicPr>
        <p:blipFill>
          <a:blip r:embed="rId1"/>
          <a:srcRect l="12626" t="0" r="12670" b="0"/>
          <a:stretch/>
        </p:blipFill>
        <p:spPr>
          <a:xfrm>
            <a:off x="3792600" y="1519200"/>
            <a:ext cx="4298760" cy="4121280"/>
          </a:xfrm>
          <a:prstGeom prst="rect">
            <a:avLst/>
          </a:prstGeom>
          <a:ln w="0">
            <a:noFill/>
          </a:ln>
        </p:spPr>
      </p:pic>
      <p:grpSp>
        <p:nvGrpSpPr>
          <p:cNvPr id="794" name="组合 60"/>
          <p:cNvGrpSpPr/>
          <p:nvPr/>
        </p:nvGrpSpPr>
        <p:grpSpPr>
          <a:xfrm>
            <a:off x="2809800" y="1547640"/>
            <a:ext cx="6262920" cy="4064040"/>
            <a:chOff x="2809800" y="1547640"/>
            <a:chExt cx="6262920" cy="4064040"/>
          </a:xfrm>
        </p:grpSpPr>
        <p:sp>
          <p:nvSpPr>
            <p:cNvPr id="795" name="TextBox 48"/>
            <p:cNvSpPr/>
            <p:nvPr/>
          </p:nvSpPr>
          <p:spPr>
            <a:xfrm>
              <a:off x="7992000" y="1966320"/>
              <a:ext cx="108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仿宋_GB2312"/>
                  <a:ea typeface="仿宋_GB2312"/>
                </a:rPr>
                <a:t>4.28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TextBox 49"/>
            <p:cNvSpPr/>
            <p:nvPr/>
          </p:nvSpPr>
          <p:spPr>
            <a:xfrm>
              <a:off x="7992000" y="2463120"/>
              <a:ext cx="108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仿宋_GB2312"/>
                  <a:ea typeface="仿宋_GB2312"/>
                </a:rPr>
                <a:t>10.30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TextBox 50"/>
            <p:cNvSpPr/>
            <p:nvPr/>
          </p:nvSpPr>
          <p:spPr>
            <a:xfrm>
              <a:off x="7992000" y="2880720"/>
              <a:ext cx="108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仿宋_GB2312"/>
                  <a:ea typeface="仿宋_GB2312"/>
                </a:rPr>
                <a:t>100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TextBox 51"/>
            <p:cNvSpPr/>
            <p:nvPr/>
          </p:nvSpPr>
          <p:spPr>
            <a:xfrm>
              <a:off x="7992000" y="3369240"/>
              <a:ext cx="690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仿宋_GB2312"/>
                  <a:ea typeface="仿宋_GB2312"/>
                </a:rPr>
                <a:t>0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TextBox 52"/>
            <p:cNvSpPr/>
            <p:nvPr/>
          </p:nvSpPr>
          <p:spPr>
            <a:xfrm>
              <a:off x="7992000" y="3846600"/>
              <a:ext cx="6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仿宋_GB2312"/>
                  <a:ea typeface="仿宋_GB2312"/>
                </a:rPr>
                <a:t>0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TextBox 53"/>
            <p:cNvSpPr/>
            <p:nvPr/>
          </p:nvSpPr>
          <p:spPr>
            <a:xfrm>
              <a:off x="7992000" y="4386600"/>
              <a:ext cx="108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仿宋_GB2312"/>
                  <a:ea typeface="仿宋_GB2312"/>
                </a:rPr>
                <a:t>86.21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TextBox 54"/>
            <p:cNvSpPr/>
            <p:nvPr/>
          </p:nvSpPr>
          <p:spPr>
            <a:xfrm>
              <a:off x="7992000" y="4835520"/>
              <a:ext cx="108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仿宋_GB2312"/>
                  <a:ea typeface="仿宋_GB2312"/>
                </a:rPr>
                <a:t>44.83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02" name="图表 59" descr=""/>
            <p:cNvPicPr/>
            <p:nvPr/>
          </p:nvPicPr>
          <p:blipFill>
            <a:blip r:embed="rId2"/>
            <a:stretch/>
          </p:blipFill>
          <p:spPr>
            <a:xfrm>
              <a:off x="2809800" y="1547640"/>
              <a:ext cx="5626800" cy="4064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03" name="组合 61"/>
          <p:cNvGrpSpPr/>
          <p:nvPr/>
        </p:nvGrpSpPr>
        <p:grpSpPr>
          <a:xfrm>
            <a:off x="-274680" y="6041880"/>
            <a:ext cx="2227320" cy="530280"/>
            <a:chOff x="-274680" y="6041880"/>
            <a:chExt cx="2227320" cy="530280"/>
          </a:xfrm>
        </p:grpSpPr>
        <p:sp>
          <p:nvSpPr>
            <p:cNvPr id="804" name="直接连接符 3"/>
            <p:cNvSpPr/>
            <p:nvPr/>
          </p:nvSpPr>
          <p:spPr>
            <a:xfrm>
              <a:off x="-274680" y="6125760"/>
              <a:ext cx="8078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任意多边形 5"/>
            <p:cNvSpPr/>
            <p:nvPr/>
          </p:nvSpPr>
          <p:spPr>
            <a:xfrm>
              <a:off x="507960" y="6041880"/>
              <a:ext cx="1444680" cy="530280"/>
            </a:xfrm>
            <a:custGeom>
              <a:avLst/>
              <a:gdLst/>
              <a:ahLst/>
              <a:rect l="l" t="t" r="r" b="b"/>
              <a:pathLst>
                <a:path w="1445199" h="530798">
                  <a:moveTo>
                    <a:pt x="0" y="84749"/>
                  </a:moveTo>
                  <a:lnTo>
                    <a:pt x="682455" y="0"/>
                  </a:lnTo>
                  <a:lnTo>
                    <a:pt x="691376" y="89210"/>
                  </a:lnTo>
                  <a:lnTo>
                    <a:pt x="709218" y="165038"/>
                  </a:lnTo>
                  <a:lnTo>
                    <a:pt x="722600" y="200722"/>
                  </a:lnTo>
                  <a:lnTo>
                    <a:pt x="749362" y="267629"/>
                  </a:lnTo>
                  <a:lnTo>
                    <a:pt x="789507" y="325616"/>
                  </a:lnTo>
                  <a:lnTo>
                    <a:pt x="860875" y="405904"/>
                  </a:lnTo>
                  <a:lnTo>
                    <a:pt x="967926" y="481733"/>
                  </a:lnTo>
                  <a:lnTo>
                    <a:pt x="1021452" y="504035"/>
                  </a:lnTo>
                  <a:lnTo>
                    <a:pt x="1106201" y="521877"/>
                  </a:lnTo>
                  <a:lnTo>
                    <a:pt x="1217714" y="530798"/>
                  </a:lnTo>
                  <a:lnTo>
                    <a:pt x="1324765" y="517417"/>
                  </a:lnTo>
                  <a:lnTo>
                    <a:pt x="1387212" y="499575"/>
                  </a:lnTo>
                  <a:lnTo>
                    <a:pt x="1445199" y="468351"/>
                  </a:lnTo>
                </a:path>
              </a:pathLst>
            </a:custGeom>
            <a:noFill/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6" name="组合 62"/>
          <p:cNvGrpSpPr/>
          <p:nvPr/>
        </p:nvGrpSpPr>
        <p:grpSpPr>
          <a:xfrm>
            <a:off x="1403280" y="4886280"/>
            <a:ext cx="808200" cy="1619280"/>
            <a:chOff x="1403280" y="4886280"/>
            <a:chExt cx="808200" cy="1619280"/>
          </a:xfrm>
        </p:grpSpPr>
        <p:sp>
          <p:nvSpPr>
            <p:cNvPr id="807" name="任意多边形 6"/>
            <p:cNvSpPr/>
            <p:nvPr/>
          </p:nvSpPr>
          <p:spPr>
            <a:xfrm>
              <a:off x="1952640" y="5457600"/>
              <a:ext cx="258840" cy="1047960"/>
            </a:xfrm>
            <a:custGeom>
              <a:avLst/>
              <a:gdLst/>
              <a:ahLst/>
              <a:rect l="l" t="t" r="r" b="b"/>
              <a:pathLst>
                <a:path w="258708" h="1048214">
                  <a:moveTo>
                    <a:pt x="0" y="1048214"/>
                  </a:moveTo>
                  <a:cubicBezTo>
                    <a:pt x="40887" y="1015132"/>
                    <a:pt x="81775" y="982051"/>
                    <a:pt x="111512" y="950084"/>
                  </a:cubicBezTo>
                  <a:cubicBezTo>
                    <a:pt x="141249" y="918117"/>
                    <a:pt x="158348" y="893584"/>
                    <a:pt x="178420" y="856413"/>
                  </a:cubicBezTo>
                  <a:cubicBezTo>
                    <a:pt x="198492" y="819242"/>
                    <a:pt x="219307" y="771664"/>
                    <a:pt x="231945" y="727059"/>
                  </a:cubicBezTo>
                  <a:cubicBezTo>
                    <a:pt x="244583" y="682454"/>
                    <a:pt x="251274" y="647514"/>
                    <a:pt x="254248" y="588784"/>
                  </a:cubicBezTo>
                  <a:cubicBezTo>
                    <a:pt x="257222" y="530054"/>
                    <a:pt x="258708" y="436384"/>
                    <a:pt x="249787" y="374681"/>
                  </a:cubicBezTo>
                  <a:cubicBezTo>
                    <a:pt x="240866" y="312978"/>
                    <a:pt x="223768" y="267629"/>
                    <a:pt x="200722" y="218564"/>
                  </a:cubicBezTo>
                  <a:cubicBezTo>
                    <a:pt x="177676" y="169499"/>
                    <a:pt x="144966" y="116715"/>
                    <a:pt x="111512" y="80288"/>
                  </a:cubicBezTo>
                  <a:cubicBezTo>
                    <a:pt x="78058" y="43861"/>
                    <a:pt x="39029" y="21930"/>
                    <a:pt x="0" y="0"/>
                  </a:cubicBezTo>
                </a:path>
              </a:pathLst>
            </a:custGeom>
            <a:noFill/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任意多边形 7"/>
            <p:cNvSpPr/>
            <p:nvPr/>
          </p:nvSpPr>
          <p:spPr>
            <a:xfrm>
              <a:off x="1403280" y="4886280"/>
              <a:ext cx="559080" cy="579240"/>
            </a:xfrm>
            <a:custGeom>
              <a:avLst/>
              <a:gdLst/>
              <a:ahLst/>
              <a:rect l="l" t="t" r="r" b="b"/>
              <a:pathLst>
                <a:path w="557561" h="579863">
                  <a:moveTo>
                    <a:pt x="80288" y="0"/>
                  </a:moveTo>
                  <a:lnTo>
                    <a:pt x="0" y="575403"/>
                  </a:lnTo>
                  <a:lnTo>
                    <a:pt x="187340" y="526337"/>
                  </a:lnTo>
                  <a:lnTo>
                    <a:pt x="325615" y="512956"/>
                  </a:lnTo>
                  <a:lnTo>
                    <a:pt x="446048" y="526337"/>
                  </a:lnTo>
                  <a:lnTo>
                    <a:pt x="499574" y="544179"/>
                  </a:lnTo>
                  <a:lnTo>
                    <a:pt x="557561" y="579863"/>
                  </a:lnTo>
                </a:path>
              </a:pathLst>
            </a:custGeom>
            <a:noFill/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9" name="任意多边形 8"/>
          <p:cNvSpPr/>
          <p:nvPr/>
        </p:nvSpPr>
        <p:spPr>
          <a:xfrm>
            <a:off x="1479600" y="4016520"/>
            <a:ext cx="577800" cy="869760"/>
          </a:xfrm>
          <a:custGeom>
            <a:avLst/>
            <a:gdLst/>
            <a:ahLst/>
            <a:rect l="l" t="t" r="r" b="b"/>
            <a:pathLst>
              <a:path w="577633" h="869795">
                <a:moveTo>
                  <a:pt x="276550" y="0"/>
                </a:moveTo>
                <a:cubicBezTo>
                  <a:pt x="319668" y="10036"/>
                  <a:pt x="362786" y="20072"/>
                  <a:pt x="396983" y="40144"/>
                </a:cubicBezTo>
                <a:cubicBezTo>
                  <a:pt x="431180" y="60216"/>
                  <a:pt x="455713" y="89210"/>
                  <a:pt x="481732" y="120433"/>
                </a:cubicBezTo>
                <a:cubicBezTo>
                  <a:pt x="507751" y="151656"/>
                  <a:pt x="537488" y="185853"/>
                  <a:pt x="553100" y="227484"/>
                </a:cubicBezTo>
                <a:cubicBezTo>
                  <a:pt x="568712" y="269115"/>
                  <a:pt x="573916" y="321155"/>
                  <a:pt x="575403" y="370220"/>
                </a:cubicBezTo>
                <a:cubicBezTo>
                  <a:pt x="576890" y="419285"/>
                  <a:pt x="577633" y="469095"/>
                  <a:pt x="562021" y="521877"/>
                </a:cubicBezTo>
                <a:cubicBezTo>
                  <a:pt x="546409" y="574659"/>
                  <a:pt x="515186" y="643054"/>
                  <a:pt x="481732" y="686915"/>
                </a:cubicBezTo>
                <a:cubicBezTo>
                  <a:pt x="448278" y="730776"/>
                  <a:pt x="396239" y="760512"/>
                  <a:pt x="361299" y="785045"/>
                </a:cubicBezTo>
                <a:cubicBezTo>
                  <a:pt x="326359" y="809578"/>
                  <a:pt x="296623" y="823703"/>
                  <a:pt x="272090" y="834111"/>
                </a:cubicBezTo>
                <a:cubicBezTo>
                  <a:pt x="247557" y="844519"/>
                  <a:pt x="245327" y="842288"/>
                  <a:pt x="214103" y="847492"/>
                </a:cubicBezTo>
                <a:cubicBezTo>
                  <a:pt x="182879" y="852696"/>
                  <a:pt x="120433" y="861617"/>
                  <a:pt x="84749" y="865334"/>
                </a:cubicBezTo>
                <a:cubicBezTo>
                  <a:pt x="49065" y="869051"/>
                  <a:pt x="24532" y="869423"/>
                  <a:pt x="0" y="869795"/>
                </a:cubicBez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任意多边形 9"/>
          <p:cNvSpPr/>
          <p:nvPr/>
        </p:nvSpPr>
        <p:spPr>
          <a:xfrm>
            <a:off x="569880" y="4003560"/>
            <a:ext cx="1200240" cy="498600"/>
          </a:xfrm>
          <a:custGeom>
            <a:avLst/>
            <a:gdLst/>
            <a:ahLst/>
            <a:rect l="l" t="t" r="r" b="b"/>
            <a:pathLst>
              <a:path w="1199872" h="499575">
                <a:moveTo>
                  <a:pt x="0" y="388063"/>
                </a:moveTo>
                <a:lnTo>
                  <a:pt x="633390" y="499575"/>
                </a:lnTo>
                <a:lnTo>
                  <a:pt x="651232" y="388063"/>
                </a:lnTo>
                <a:lnTo>
                  <a:pt x="677994" y="294392"/>
                </a:lnTo>
                <a:lnTo>
                  <a:pt x="709218" y="223025"/>
                </a:lnTo>
                <a:lnTo>
                  <a:pt x="758283" y="156117"/>
                </a:lnTo>
                <a:lnTo>
                  <a:pt x="798428" y="115973"/>
                </a:lnTo>
                <a:lnTo>
                  <a:pt x="865335" y="66907"/>
                </a:lnTo>
                <a:lnTo>
                  <a:pt x="954545" y="22303"/>
                </a:lnTo>
                <a:lnTo>
                  <a:pt x="1057136" y="0"/>
                </a:lnTo>
                <a:lnTo>
                  <a:pt x="1146346" y="8921"/>
                </a:lnTo>
                <a:lnTo>
                  <a:pt x="1199872" y="17842"/>
                </a:ln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任意多边形 10"/>
          <p:cNvSpPr/>
          <p:nvPr/>
        </p:nvSpPr>
        <p:spPr>
          <a:xfrm>
            <a:off x="560520" y="3424320"/>
            <a:ext cx="2038320" cy="966600"/>
          </a:xfrm>
          <a:custGeom>
            <a:avLst/>
            <a:gdLst/>
            <a:ahLst/>
            <a:rect l="l" t="t" r="r" b="b"/>
            <a:pathLst>
              <a:path w="2038443" h="966440">
                <a:moveTo>
                  <a:pt x="0" y="966440"/>
                </a:moveTo>
                <a:cubicBezTo>
                  <a:pt x="14497" y="889125"/>
                  <a:pt x="28994" y="811810"/>
                  <a:pt x="57987" y="730034"/>
                </a:cubicBezTo>
                <a:cubicBezTo>
                  <a:pt x="86980" y="648258"/>
                  <a:pt x="128611" y="550871"/>
                  <a:pt x="173959" y="475786"/>
                </a:cubicBezTo>
                <a:cubicBezTo>
                  <a:pt x="219307" y="400701"/>
                  <a:pt x="265399" y="336023"/>
                  <a:pt x="330076" y="279524"/>
                </a:cubicBezTo>
                <a:cubicBezTo>
                  <a:pt x="394753" y="223025"/>
                  <a:pt x="483963" y="174703"/>
                  <a:pt x="562022" y="136789"/>
                </a:cubicBezTo>
                <a:cubicBezTo>
                  <a:pt x="640081" y="98875"/>
                  <a:pt x="709218" y="74342"/>
                  <a:pt x="798428" y="52040"/>
                </a:cubicBezTo>
                <a:cubicBezTo>
                  <a:pt x="887638" y="29738"/>
                  <a:pt x="994689" y="5948"/>
                  <a:pt x="1097280" y="2974"/>
                </a:cubicBezTo>
                <a:cubicBezTo>
                  <a:pt x="1199871" y="0"/>
                  <a:pt x="1323278" y="15613"/>
                  <a:pt x="1413975" y="34198"/>
                </a:cubicBezTo>
                <a:cubicBezTo>
                  <a:pt x="1504672" y="52783"/>
                  <a:pt x="1566375" y="77315"/>
                  <a:pt x="1641460" y="114486"/>
                </a:cubicBezTo>
                <a:cubicBezTo>
                  <a:pt x="1716545" y="151657"/>
                  <a:pt x="1798320" y="202209"/>
                  <a:pt x="1864484" y="257222"/>
                </a:cubicBezTo>
                <a:cubicBezTo>
                  <a:pt x="1930648" y="312235"/>
                  <a:pt x="1984545" y="378398"/>
                  <a:pt x="2038443" y="444562"/>
                </a:cubicBez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2" name="组合 63"/>
          <p:cNvGrpSpPr/>
          <p:nvPr/>
        </p:nvGrpSpPr>
        <p:grpSpPr>
          <a:xfrm>
            <a:off x="2227320" y="3868560"/>
            <a:ext cx="706320" cy="2667240"/>
            <a:chOff x="2227320" y="3868560"/>
            <a:chExt cx="706320" cy="2667240"/>
          </a:xfrm>
        </p:grpSpPr>
        <p:sp>
          <p:nvSpPr>
            <p:cNvPr id="813" name="任意多边形 11"/>
            <p:cNvSpPr/>
            <p:nvPr/>
          </p:nvSpPr>
          <p:spPr>
            <a:xfrm>
              <a:off x="2227320" y="3868560"/>
              <a:ext cx="696960" cy="2034000"/>
            </a:xfrm>
            <a:custGeom>
              <a:avLst/>
              <a:gdLst/>
              <a:ahLst/>
              <a:rect l="l" t="t" r="r" b="b"/>
              <a:pathLst>
                <a:path w="698067" h="2033982">
                  <a:moveTo>
                    <a:pt x="376912" y="0"/>
                  </a:moveTo>
                  <a:cubicBezTo>
                    <a:pt x="400701" y="30480"/>
                    <a:pt x="424490" y="60960"/>
                    <a:pt x="443819" y="98131"/>
                  </a:cubicBezTo>
                  <a:cubicBezTo>
                    <a:pt x="463148" y="135302"/>
                    <a:pt x="478016" y="173215"/>
                    <a:pt x="492884" y="223024"/>
                  </a:cubicBezTo>
                  <a:cubicBezTo>
                    <a:pt x="507752" y="272833"/>
                    <a:pt x="527082" y="327845"/>
                    <a:pt x="533029" y="396983"/>
                  </a:cubicBezTo>
                  <a:cubicBezTo>
                    <a:pt x="538976" y="466121"/>
                    <a:pt x="544180" y="558304"/>
                    <a:pt x="528568" y="637850"/>
                  </a:cubicBezTo>
                  <a:cubicBezTo>
                    <a:pt x="512956" y="717396"/>
                    <a:pt x="475786" y="807349"/>
                    <a:pt x="439359" y="874256"/>
                  </a:cubicBezTo>
                  <a:cubicBezTo>
                    <a:pt x="402932" y="941163"/>
                    <a:pt x="356096" y="990972"/>
                    <a:pt x="310004" y="1039294"/>
                  </a:cubicBezTo>
                  <a:cubicBezTo>
                    <a:pt x="263912" y="1087616"/>
                    <a:pt x="208156" y="1130733"/>
                    <a:pt x="162808" y="1164187"/>
                  </a:cubicBezTo>
                  <a:cubicBezTo>
                    <a:pt x="117460" y="1197641"/>
                    <a:pt x="62448" y="1224404"/>
                    <a:pt x="37915" y="1240016"/>
                  </a:cubicBezTo>
                  <a:cubicBezTo>
                    <a:pt x="13382" y="1255628"/>
                    <a:pt x="21559" y="1254141"/>
                    <a:pt x="15612" y="1257858"/>
                  </a:cubicBezTo>
                  <a:cubicBezTo>
                    <a:pt x="9665" y="1261575"/>
                    <a:pt x="2231" y="1261575"/>
                    <a:pt x="2231" y="1262318"/>
                  </a:cubicBezTo>
                  <a:cubicBezTo>
                    <a:pt x="2231" y="1263061"/>
                    <a:pt x="0" y="1259344"/>
                    <a:pt x="15612" y="1262318"/>
                  </a:cubicBezTo>
                  <a:cubicBezTo>
                    <a:pt x="31224" y="1265292"/>
                    <a:pt x="57243" y="1266779"/>
                    <a:pt x="95901" y="1280160"/>
                  </a:cubicBezTo>
                  <a:cubicBezTo>
                    <a:pt x="134559" y="1293541"/>
                    <a:pt x="195519" y="1315101"/>
                    <a:pt x="247558" y="1342607"/>
                  </a:cubicBezTo>
                  <a:cubicBezTo>
                    <a:pt x="299597" y="1370113"/>
                    <a:pt x="355353" y="1399106"/>
                    <a:pt x="408135" y="1445198"/>
                  </a:cubicBezTo>
                  <a:cubicBezTo>
                    <a:pt x="460917" y="1491290"/>
                    <a:pt x="521134" y="1551506"/>
                    <a:pt x="564252" y="1619157"/>
                  </a:cubicBezTo>
                  <a:cubicBezTo>
                    <a:pt x="607370" y="1686808"/>
                    <a:pt x="644541" y="1781965"/>
                    <a:pt x="666843" y="1851102"/>
                  </a:cubicBezTo>
                  <a:cubicBezTo>
                    <a:pt x="689146" y="1920240"/>
                    <a:pt x="695093" y="1952950"/>
                    <a:pt x="698067" y="2033982"/>
                  </a:cubicBezTo>
                </a:path>
              </a:pathLst>
            </a:custGeom>
            <a:noFill/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任意多边形 12"/>
            <p:cNvSpPr/>
            <p:nvPr/>
          </p:nvSpPr>
          <p:spPr>
            <a:xfrm>
              <a:off x="2797200" y="5902560"/>
              <a:ext cx="136440" cy="633240"/>
            </a:xfrm>
            <a:custGeom>
              <a:avLst/>
              <a:gdLst/>
              <a:ahLst/>
              <a:rect l="l" t="t" r="r" b="b"/>
              <a:pathLst>
                <a:path w="135698" h="632565">
                  <a:moveTo>
                    <a:pt x="131523" y="0"/>
                  </a:moveTo>
                  <a:cubicBezTo>
                    <a:pt x="133350" y="86899"/>
                    <a:pt x="135177" y="173799"/>
                    <a:pt x="134655" y="219206"/>
                  </a:cubicBezTo>
                  <a:cubicBezTo>
                    <a:pt x="134133" y="264613"/>
                    <a:pt x="135698" y="235907"/>
                    <a:pt x="128391" y="272441"/>
                  </a:cubicBezTo>
                  <a:cubicBezTo>
                    <a:pt x="121084" y="308975"/>
                    <a:pt x="108036" y="384653"/>
                    <a:pt x="90813" y="438411"/>
                  </a:cubicBezTo>
                  <a:cubicBezTo>
                    <a:pt x="73590" y="492169"/>
                    <a:pt x="40188" y="562628"/>
                    <a:pt x="25052" y="594987"/>
                  </a:cubicBezTo>
                  <a:cubicBezTo>
                    <a:pt x="9917" y="627346"/>
                    <a:pt x="4958" y="629955"/>
                    <a:pt x="0" y="632565"/>
                  </a:cubicBezTo>
                </a:path>
              </a:pathLst>
            </a:custGeom>
            <a:noFill/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5" name="组合 64"/>
          <p:cNvGrpSpPr/>
          <p:nvPr/>
        </p:nvGrpSpPr>
        <p:grpSpPr>
          <a:xfrm>
            <a:off x="2797200" y="5985000"/>
            <a:ext cx="3392640" cy="933480"/>
            <a:chOff x="2797200" y="5985000"/>
            <a:chExt cx="3392640" cy="933480"/>
          </a:xfrm>
        </p:grpSpPr>
        <p:sp>
          <p:nvSpPr>
            <p:cNvPr id="816" name="直接连接符 14"/>
            <p:cNvSpPr/>
            <p:nvPr/>
          </p:nvSpPr>
          <p:spPr>
            <a:xfrm>
              <a:off x="2797200" y="6535800"/>
              <a:ext cx="6840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17" name="Picture 2" descr="C:\Documents and Settings\Administrator\桌面\图片3.png"/>
            <p:cNvPicPr/>
            <p:nvPr/>
          </p:nvPicPr>
          <p:blipFill>
            <a:blip r:embed="rId3"/>
            <a:srcRect l="3525" t="16943" r="47651" b="0"/>
            <a:stretch/>
          </p:blipFill>
          <p:spPr>
            <a:xfrm>
              <a:off x="3308400" y="5985000"/>
              <a:ext cx="2881440" cy="933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8" name="直接连接符 18"/>
          <p:cNvSpPr/>
          <p:nvPr/>
        </p:nvSpPr>
        <p:spPr>
          <a:xfrm>
            <a:off x="6012000" y="6688080"/>
            <a:ext cx="33210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9" name="组合 23"/>
          <p:cNvGrpSpPr/>
          <p:nvPr/>
        </p:nvGrpSpPr>
        <p:grpSpPr>
          <a:xfrm>
            <a:off x="1890720" y="717480"/>
            <a:ext cx="749160" cy="673200"/>
            <a:chOff x="1890720" y="717480"/>
            <a:chExt cx="749160" cy="673200"/>
          </a:xfrm>
        </p:grpSpPr>
        <p:sp>
          <p:nvSpPr>
            <p:cNvPr id="820" name="椭圆 15"/>
            <p:cNvSpPr/>
            <p:nvPr/>
          </p:nvSpPr>
          <p:spPr>
            <a:xfrm>
              <a:off x="2182680" y="717480"/>
              <a:ext cx="457200" cy="457200"/>
            </a:xfrm>
            <a:prstGeom prst="ellipse">
              <a:avLst/>
            </a:prstGeom>
            <a:solidFill>
              <a:srgbClr val="0079c5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矩形 16"/>
            <p:cNvSpPr/>
            <p:nvPr/>
          </p:nvSpPr>
          <p:spPr>
            <a:xfrm>
              <a:off x="1890720" y="780840"/>
              <a:ext cx="419040" cy="419040"/>
            </a:xfrm>
            <a:prstGeom prst="rect">
              <a:avLst/>
            </a:prstGeom>
            <a:solidFill>
              <a:srgbClr val="0079c5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圆柱形 17"/>
            <p:cNvSpPr/>
            <p:nvPr/>
          </p:nvSpPr>
          <p:spPr>
            <a:xfrm>
              <a:off x="2106360" y="933480"/>
              <a:ext cx="344520" cy="457200"/>
            </a:xfrm>
            <a:prstGeom prst="can">
              <a:avLst>
                <a:gd name="adj" fmla="val 18837"/>
              </a:avLst>
            </a:prstGeom>
            <a:solidFill>
              <a:srgbClr val="0079c5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3" name="任意多边形 24"/>
          <p:cNvSpPr/>
          <p:nvPr/>
        </p:nvSpPr>
        <p:spPr>
          <a:xfrm>
            <a:off x="1898640" y="792000"/>
            <a:ext cx="398520" cy="395280"/>
          </a:xfrm>
          <a:custGeom>
            <a:avLst/>
            <a:gdLst/>
            <a:ahLst/>
            <a:rect l="l" t="t" r="r" b="b"/>
            <a:pathLst>
              <a:path w="397682" h="394977">
                <a:moveTo>
                  <a:pt x="0" y="394977"/>
                </a:moveTo>
                <a:cubicBezTo>
                  <a:pt x="902" y="263318"/>
                  <a:pt x="1803" y="131659"/>
                  <a:pt x="2705" y="0"/>
                </a:cubicBezTo>
                <a:lnTo>
                  <a:pt x="394977" y="0"/>
                </a:lnTo>
                <a:cubicBezTo>
                  <a:pt x="395879" y="41482"/>
                  <a:pt x="396780" y="82963"/>
                  <a:pt x="397682" y="124445"/>
                </a:cubicBezTo>
                <a:lnTo>
                  <a:pt x="332755" y="124445"/>
                </a:lnTo>
                <a:lnTo>
                  <a:pt x="284059" y="129855"/>
                </a:lnTo>
                <a:lnTo>
                  <a:pt x="243479" y="137971"/>
                </a:lnTo>
                <a:lnTo>
                  <a:pt x="205604" y="156909"/>
                </a:lnTo>
                <a:lnTo>
                  <a:pt x="189372" y="175846"/>
                </a:lnTo>
                <a:lnTo>
                  <a:pt x="189372" y="392272"/>
                </a:lnTo>
                <a:lnTo>
                  <a:pt x="0" y="394977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任意多边形 25"/>
          <p:cNvSpPr/>
          <p:nvPr/>
        </p:nvSpPr>
        <p:spPr>
          <a:xfrm>
            <a:off x="2297160" y="723960"/>
            <a:ext cx="334800" cy="426960"/>
          </a:xfrm>
          <a:custGeom>
            <a:avLst/>
            <a:gdLst/>
            <a:ahLst/>
            <a:rect l="l" t="t" r="r" b="b"/>
            <a:pathLst>
              <a:path w="335756" h="426243">
                <a:moveTo>
                  <a:pt x="0" y="35718"/>
                </a:moveTo>
                <a:lnTo>
                  <a:pt x="69056" y="7143"/>
                </a:lnTo>
                <a:lnTo>
                  <a:pt x="128587" y="0"/>
                </a:lnTo>
                <a:lnTo>
                  <a:pt x="164306" y="7143"/>
                </a:lnTo>
                <a:lnTo>
                  <a:pt x="190500" y="16668"/>
                </a:lnTo>
                <a:lnTo>
                  <a:pt x="216694" y="26193"/>
                </a:lnTo>
                <a:lnTo>
                  <a:pt x="238125" y="40481"/>
                </a:lnTo>
                <a:lnTo>
                  <a:pt x="259556" y="59531"/>
                </a:lnTo>
                <a:lnTo>
                  <a:pt x="276225" y="73818"/>
                </a:lnTo>
                <a:lnTo>
                  <a:pt x="304800" y="116681"/>
                </a:lnTo>
                <a:lnTo>
                  <a:pt x="321469" y="150018"/>
                </a:lnTo>
                <a:lnTo>
                  <a:pt x="330994" y="183356"/>
                </a:lnTo>
                <a:lnTo>
                  <a:pt x="335756" y="226218"/>
                </a:lnTo>
                <a:lnTo>
                  <a:pt x="326231" y="285750"/>
                </a:lnTo>
                <a:lnTo>
                  <a:pt x="321469" y="297656"/>
                </a:lnTo>
                <a:lnTo>
                  <a:pt x="297656" y="345281"/>
                </a:lnTo>
                <a:lnTo>
                  <a:pt x="273844" y="371475"/>
                </a:lnTo>
                <a:lnTo>
                  <a:pt x="240506" y="397668"/>
                </a:lnTo>
                <a:lnTo>
                  <a:pt x="202406" y="416718"/>
                </a:lnTo>
                <a:lnTo>
                  <a:pt x="173831" y="426243"/>
                </a:lnTo>
                <a:lnTo>
                  <a:pt x="164306" y="426243"/>
                </a:lnTo>
                <a:lnTo>
                  <a:pt x="169069" y="233362"/>
                </a:lnTo>
                <a:lnTo>
                  <a:pt x="147637" y="214312"/>
                </a:lnTo>
                <a:lnTo>
                  <a:pt x="109537" y="202406"/>
                </a:lnTo>
                <a:lnTo>
                  <a:pt x="92869" y="200025"/>
                </a:lnTo>
                <a:lnTo>
                  <a:pt x="71437" y="195262"/>
                </a:lnTo>
                <a:lnTo>
                  <a:pt x="50006" y="195262"/>
                </a:lnTo>
                <a:lnTo>
                  <a:pt x="38100" y="192881"/>
                </a:lnTo>
                <a:lnTo>
                  <a:pt x="28575" y="192881"/>
                </a:lnTo>
                <a:cubicBezTo>
                  <a:pt x="29369" y="143668"/>
                  <a:pt x="30162" y="94456"/>
                  <a:pt x="0" y="35718"/>
                </a:cubicBezTo>
                <a:close/>
              </a:path>
            </a:pathLst>
          </a:custGeom>
          <a:solidFill>
            <a:srgbClr val="ffffff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任意多边形 26"/>
          <p:cNvSpPr/>
          <p:nvPr/>
        </p:nvSpPr>
        <p:spPr>
          <a:xfrm>
            <a:off x="2119320" y="944640"/>
            <a:ext cx="318960" cy="433440"/>
          </a:xfrm>
          <a:custGeom>
            <a:avLst/>
            <a:gdLst/>
            <a:ahLst/>
            <a:rect l="l" t="t" r="r" b="b"/>
            <a:pathLst>
              <a:path w="319087" h="433388">
                <a:moveTo>
                  <a:pt x="0" y="402432"/>
                </a:moveTo>
                <a:lnTo>
                  <a:pt x="0" y="35719"/>
                </a:lnTo>
                <a:lnTo>
                  <a:pt x="28575" y="16669"/>
                </a:lnTo>
                <a:lnTo>
                  <a:pt x="69056" y="7144"/>
                </a:lnTo>
                <a:lnTo>
                  <a:pt x="126206" y="0"/>
                </a:lnTo>
                <a:lnTo>
                  <a:pt x="171450" y="0"/>
                </a:lnTo>
                <a:lnTo>
                  <a:pt x="219075" y="2382"/>
                </a:lnTo>
                <a:lnTo>
                  <a:pt x="269081" y="9525"/>
                </a:lnTo>
                <a:lnTo>
                  <a:pt x="304800" y="21432"/>
                </a:lnTo>
                <a:lnTo>
                  <a:pt x="319087" y="30957"/>
                </a:lnTo>
                <a:cubicBezTo>
                  <a:pt x="318293" y="154782"/>
                  <a:pt x="317500" y="278607"/>
                  <a:pt x="316706" y="402432"/>
                </a:cubicBezTo>
                <a:lnTo>
                  <a:pt x="278606" y="421482"/>
                </a:lnTo>
                <a:lnTo>
                  <a:pt x="240506" y="428625"/>
                </a:lnTo>
                <a:lnTo>
                  <a:pt x="214312" y="431007"/>
                </a:lnTo>
                <a:lnTo>
                  <a:pt x="183356" y="433388"/>
                </a:lnTo>
                <a:lnTo>
                  <a:pt x="138112" y="433388"/>
                </a:lnTo>
                <a:lnTo>
                  <a:pt x="104775" y="431007"/>
                </a:lnTo>
                <a:lnTo>
                  <a:pt x="54768" y="423863"/>
                </a:lnTo>
                <a:lnTo>
                  <a:pt x="0" y="402432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流程图: 过程 27"/>
          <p:cNvSpPr/>
          <p:nvPr/>
        </p:nvSpPr>
        <p:spPr>
          <a:xfrm>
            <a:off x="3071880" y="719280"/>
            <a:ext cx="2244600" cy="55692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班级口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流程图: 过程 28"/>
          <p:cNvSpPr/>
          <p:nvPr/>
        </p:nvSpPr>
        <p:spPr>
          <a:xfrm>
            <a:off x="3071880" y="719280"/>
            <a:ext cx="2244600" cy="55692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创建措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流程图: 过程 29"/>
          <p:cNvSpPr/>
          <p:nvPr/>
        </p:nvSpPr>
        <p:spPr>
          <a:xfrm>
            <a:off x="3071880" y="719280"/>
            <a:ext cx="2244600" cy="55692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创建成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Text Box 5"/>
          <p:cNvSpPr/>
          <p:nvPr/>
        </p:nvSpPr>
        <p:spPr>
          <a:xfrm>
            <a:off x="334800" y="6567480"/>
            <a:ext cx="58550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ffffff"/>
                </a:solidFill>
                <a:uFillTx/>
                <a:latin typeface="Arial"/>
                <a:ea typeface="宋体"/>
                <a:hlinkClick r:id="rId4"/>
              </a:rPr>
              <a:t>ppt模板下载 免费完整版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l"/>
  </p:transition>
  <p:timing>
    <p:tnLst>
      <p:par>
        <p:cTn id="670" dur="indefinite" restart="never" nodeType="tmRoot">
          <p:childTnLst>
            <p:seq>
              <p:cTn id="671" dur="indefinite" nodeType="mainSeq">
                <p:childTnLst>
                  <p:par>
                    <p:cTn id="672" fill="hold">
                      <p:stCondLst>
                        <p:cond delay="0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8" dur="4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fill="hold">
                            <p:stCondLst>
                              <p:cond delay="400"/>
                            </p:stCondLst>
                            <p:childTnLst>
                              <p:par>
                                <p:cTn id="70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2" dur="4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3" fill="hold">
                            <p:stCondLst>
                              <p:cond delay="800"/>
                            </p:stCondLst>
                            <p:childTnLst>
                              <p:par>
                                <p:cTn id="70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6" dur="4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7" fill="hold">
                            <p:stCondLst>
                              <p:cond delay="1200"/>
                            </p:stCondLst>
                            <p:childTnLst>
                              <p:par>
                                <p:cTn id="70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10" dur="4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1" fill="hold">
                            <p:stCondLst>
                              <p:cond delay="1600"/>
                            </p:stCondLst>
                            <p:childTnLst>
                              <p:par>
                                <p:cTn id="7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4" dur="4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5" fill="hold">
                            <p:stCondLst>
                              <p:cond delay="2000"/>
                            </p:stCondLst>
                            <p:childTnLst>
                              <p:par>
                                <p:cTn id="7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8" dur="4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fill="hold">
                            <p:stCondLst>
                              <p:cond delay="2400"/>
                            </p:stCondLst>
                            <p:childTnLst>
                              <p:par>
                                <p:cTn id="7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2" dur="4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3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fill="hold">
                            <p:stCondLst>
                              <p:cond delay="500"/>
                            </p:stCondLst>
                            <p:childTnLst>
                              <p:par>
                                <p:cTn id="735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737" dur="5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2" dur="5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5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2" fill="hold">
                            <p:stCondLst>
                              <p:cond delay="500"/>
                            </p:stCondLst>
                            <p:childTnLst>
                              <p:par>
                                <p:cTn id="7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5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0" dur="5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3" dur="500"/>
                                        <p:tgtEl>
                                          <p:spTgt spid="8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0" fill="hold">
                            <p:stCondLst>
                              <p:cond delay="500"/>
                            </p:stCondLst>
                            <p:childTnLst>
                              <p:par>
                                <p:cTn id="77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3" dur="4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4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5" dur="4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9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0" name="Picture 2" descr="D:\08072401-2w.png"/>
          <p:cNvPicPr/>
          <p:nvPr/>
        </p:nvPicPr>
        <p:blipFill>
          <a:blip r:embed="rId1"/>
          <a:stretch/>
        </p:blipFill>
        <p:spPr>
          <a:xfrm>
            <a:off x="4162320" y="2759040"/>
            <a:ext cx="2857680" cy="2224080"/>
          </a:xfrm>
          <a:prstGeom prst="rect">
            <a:avLst/>
          </a:prstGeom>
          <a:ln w="0">
            <a:noFill/>
          </a:ln>
        </p:spPr>
      </p:pic>
      <p:pic>
        <p:nvPicPr>
          <p:cNvPr id="831" name="Picture 4" descr="D:\08072401w.png"/>
          <p:cNvPicPr/>
          <p:nvPr/>
        </p:nvPicPr>
        <p:blipFill>
          <a:blip r:embed="rId2"/>
          <a:stretch/>
        </p:blipFill>
        <p:spPr>
          <a:xfrm>
            <a:off x="1608120" y="1415880"/>
            <a:ext cx="4098960" cy="2868840"/>
          </a:xfrm>
          <a:prstGeom prst="rect">
            <a:avLst/>
          </a:prstGeom>
          <a:ln w="0">
            <a:noFill/>
          </a:ln>
        </p:spPr>
      </p:pic>
      <p:sp>
        <p:nvSpPr>
          <p:cNvPr id="832" name="任意多边形 3"/>
          <p:cNvSpPr/>
          <p:nvPr/>
        </p:nvSpPr>
        <p:spPr>
          <a:xfrm>
            <a:off x="0" y="3000240"/>
            <a:ext cx="1604880" cy="1903680"/>
          </a:xfrm>
          <a:custGeom>
            <a:avLst/>
            <a:gdLst/>
            <a:ahLst/>
            <a:rect l="l" t="t" r="r" b="b"/>
            <a:pathLst>
              <a:path w="1748590" h="1973179">
                <a:moveTo>
                  <a:pt x="1748590" y="0"/>
                </a:moveTo>
                <a:cubicBezTo>
                  <a:pt x="1429084" y="164432"/>
                  <a:pt x="1109579" y="328864"/>
                  <a:pt x="818147" y="657727"/>
                </a:cubicBezTo>
                <a:cubicBezTo>
                  <a:pt x="526715" y="986590"/>
                  <a:pt x="263357" y="1479884"/>
                  <a:pt x="0" y="1973179"/>
                </a:cubicBez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任意多边形 6"/>
          <p:cNvSpPr/>
          <p:nvPr/>
        </p:nvSpPr>
        <p:spPr>
          <a:xfrm>
            <a:off x="6991200" y="3984480"/>
            <a:ext cx="293760" cy="185760"/>
          </a:xfrm>
          <a:custGeom>
            <a:avLst/>
            <a:gdLst/>
            <a:ahLst/>
            <a:rect l="l" t="t" r="r" b="b"/>
            <a:pathLst>
              <a:path w="1604211" h="1014664">
                <a:moveTo>
                  <a:pt x="28075" y="1014664"/>
                </a:moveTo>
                <a:cubicBezTo>
                  <a:pt x="18048" y="968877"/>
                  <a:pt x="8022" y="923090"/>
                  <a:pt x="4011" y="878306"/>
                </a:cubicBezTo>
                <a:cubicBezTo>
                  <a:pt x="0" y="833522"/>
                  <a:pt x="669" y="788737"/>
                  <a:pt x="4011" y="745958"/>
                </a:cubicBezTo>
                <a:cubicBezTo>
                  <a:pt x="7353" y="703179"/>
                  <a:pt x="12032" y="666416"/>
                  <a:pt x="24064" y="621632"/>
                </a:cubicBezTo>
                <a:cubicBezTo>
                  <a:pt x="36096" y="576848"/>
                  <a:pt x="50801" y="529390"/>
                  <a:pt x="76201" y="477253"/>
                </a:cubicBezTo>
                <a:cubicBezTo>
                  <a:pt x="101601" y="425116"/>
                  <a:pt x="141038" y="355601"/>
                  <a:pt x="176464" y="308811"/>
                </a:cubicBezTo>
                <a:cubicBezTo>
                  <a:pt x="211890" y="262021"/>
                  <a:pt x="241970" y="233947"/>
                  <a:pt x="288759" y="196516"/>
                </a:cubicBezTo>
                <a:cubicBezTo>
                  <a:pt x="335548" y="159085"/>
                  <a:pt x="392364" y="114969"/>
                  <a:pt x="457201" y="84222"/>
                </a:cubicBezTo>
                <a:cubicBezTo>
                  <a:pt x="522038" y="53475"/>
                  <a:pt x="602249" y="24064"/>
                  <a:pt x="677780" y="12032"/>
                </a:cubicBezTo>
                <a:cubicBezTo>
                  <a:pt x="753311" y="0"/>
                  <a:pt x="840206" y="4679"/>
                  <a:pt x="910390" y="12032"/>
                </a:cubicBezTo>
                <a:cubicBezTo>
                  <a:pt x="980574" y="19385"/>
                  <a:pt x="1048753" y="40106"/>
                  <a:pt x="1098885" y="56148"/>
                </a:cubicBezTo>
                <a:cubicBezTo>
                  <a:pt x="1149017" y="72190"/>
                  <a:pt x="1171743" y="85559"/>
                  <a:pt x="1211180" y="108285"/>
                </a:cubicBezTo>
                <a:cubicBezTo>
                  <a:pt x="1250617" y="131011"/>
                  <a:pt x="1299411" y="161759"/>
                  <a:pt x="1335506" y="192506"/>
                </a:cubicBezTo>
                <a:cubicBezTo>
                  <a:pt x="1371601" y="223253"/>
                  <a:pt x="1404353" y="265364"/>
                  <a:pt x="1427748" y="292769"/>
                </a:cubicBezTo>
                <a:cubicBezTo>
                  <a:pt x="1451143" y="320174"/>
                  <a:pt x="1463175" y="338890"/>
                  <a:pt x="1475875" y="356937"/>
                </a:cubicBezTo>
                <a:cubicBezTo>
                  <a:pt x="1488575" y="374984"/>
                  <a:pt x="1491248" y="378995"/>
                  <a:pt x="1503948" y="401053"/>
                </a:cubicBezTo>
                <a:cubicBezTo>
                  <a:pt x="1516648" y="423111"/>
                  <a:pt x="1540043" y="462548"/>
                  <a:pt x="1552075" y="489285"/>
                </a:cubicBezTo>
                <a:cubicBezTo>
                  <a:pt x="1564107" y="516022"/>
                  <a:pt x="1569454" y="540753"/>
                  <a:pt x="1576138" y="561474"/>
                </a:cubicBezTo>
                <a:cubicBezTo>
                  <a:pt x="1582822" y="582195"/>
                  <a:pt x="1587501" y="592222"/>
                  <a:pt x="1592180" y="613611"/>
                </a:cubicBezTo>
                <a:cubicBezTo>
                  <a:pt x="1596859" y="635001"/>
                  <a:pt x="1600535" y="662406"/>
                  <a:pt x="1604211" y="689811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任意多边形 7"/>
          <p:cNvSpPr/>
          <p:nvPr/>
        </p:nvSpPr>
        <p:spPr>
          <a:xfrm>
            <a:off x="6991200" y="4106880"/>
            <a:ext cx="293760" cy="171360"/>
          </a:xfrm>
          <a:custGeom>
            <a:avLst/>
            <a:gdLst/>
            <a:ahLst/>
            <a:rect l="l" t="t" r="r" b="b"/>
            <a:pathLst>
              <a:path w="1602873" h="935790">
                <a:moveTo>
                  <a:pt x="1590173" y="0"/>
                </a:moveTo>
                <a:cubicBezTo>
                  <a:pt x="1596523" y="34423"/>
                  <a:pt x="1602873" y="68847"/>
                  <a:pt x="1602205" y="112294"/>
                </a:cubicBezTo>
                <a:cubicBezTo>
                  <a:pt x="1601537" y="155741"/>
                  <a:pt x="1595521" y="212558"/>
                  <a:pt x="1586163" y="260684"/>
                </a:cubicBezTo>
                <a:cubicBezTo>
                  <a:pt x="1576805" y="308810"/>
                  <a:pt x="1564774" y="352257"/>
                  <a:pt x="1546058" y="401052"/>
                </a:cubicBezTo>
                <a:cubicBezTo>
                  <a:pt x="1527342" y="449847"/>
                  <a:pt x="1503279" y="505994"/>
                  <a:pt x="1473868" y="553452"/>
                </a:cubicBezTo>
                <a:cubicBezTo>
                  <a:pt x="1444457" y="600910"/>
                  <a:pt x="1403016" y="650374"/>
                  <a:pt x="1369595" y="685800"/>
                </a:cubicBezTo>
                <a:cubicBezTo>
                  <a:pt x="1336174" y="721226"/>
                  <a:pt x="1310105" y="739273"/>
                  <a:pt x="1273342" y="766010"/>
                </a:cubicBezTo>
                <a:cubicBezTo>
                  <a:pt x="1236579" y="792747"/>
                  <a:pt x="1191795" y="824832"/>
                  <a:pt x="1149016" y="846221"/>
                </a:cubicBezTo>
                <a:cubicBezTo>
                  <a:pt x="1106237" y="867610"/>
                  <a:pt x="1058110" y="881647"/>
                  <a:pt x="1016668" y="894347"/>
                </a:cubicBezTo>
                <a:cubicBezTo>
                  <a:pt x="975226" y="907047"/>
                  <a:pt x="945816" y="916405"/>
                  <a:pt x="900363" y="922421"/>
                </a:cubicBezTo>
                <a:cubicBezTo>
                  <a:pt x="854910" y="928437"/>
                  <a:pt x="805447" y="935790"/>
                  <a:pt x="743952" y="930442"/>
                </a:cubicBezTo>
                <a:cubicBezTo>
                  <a:pt x="682457" y="925095"/>
                  <a:pt x="587542" y="906378"/>
                  <a:pt x="531395" y="890336"/>
                </a:cubicBezTo>
                <a:cubicBezTo>
                  <a:pt x="475248" y="874294"/>
                  <a:pt x="457200" y="862931"/>
                  <a:pt x="407068" y="834189"/>
                </a:cubicBezTo>
                <a:cubicBezTo>
                  <a:pt x="356936" y="805447"/>
                  <a:pt x="284079" y="769352"/>
                  <a:pt x="230605" y="717884"/>
                </a:cubicBezTo>
                <a:cubicBezTo>
                  <a:pt x="177131" y="666416"/>
                  <a:pt x="122321" y="584199"/>
                  <a:pt x="86226" y="525378"/>
                </a:cubicBezTo>
                <a:cubicBezTo>
                  <a:pt x="50131" y="466557"/>
                  <a:pt x="28074" y="399046"/>
                  <a:pt x="14037" y="364957"/>
                </a:cubicBezTo>
                <a:cubicBezTo>
                  <a:pt x="0" y="330868"/>
                  <a:pt x="1002" y="325855"/>
                  <a:pt x="2005" y="320842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fill="hold">
                      <p:stCondLst>
                        <p:cond delay="0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5" fill="hold">
                            <p:stCondLst>
                              <p:cond delay="1"/>
                            </p:stCondLst>
                            <p:childTnLst>
                              <p:par>
                                <p:cTn id="7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8" dur="5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9" fill="hold">
                            <p:stCondLst>
                              <p:cond delay="501"/>
                            </p:stCondLst>
                            <p:childTnLst>
                              <p:par>
                                <p:cTn id="8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2" dur="500"/>
                                        <p:tgtEl>
                                          <p:spTgt spid="8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3" fill="hold">
                            <p:stCondLst>
                              <p:cond delay="1000"/>
                            </p:stCondLst>
                            <p:childTnLst>
                              <p:par>
                                <p:cTn id="8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6" dur="500"/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9" fill="hold">
                            <p:stCondLst>
                              <p:cond delay="1501"/>
                            </p:stCondLst>
                            <p:childTnLst>
                              <p:par>
                                <p:cTn id="8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2" dur="5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3" fill="hold">
                            <p:stCondLst>
                              <p:cond delay="2001"/>
                            </p:stCondLst>
                            <p:childTnLst>
                              <p:par>
                                <p:cTn id="8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16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2T07:21:34Z</dcterms:created>
  <dc:creator>幻灯片 http://www.eeppt.com; An</dc:creator>
  <dc:description/>
  <cp:keywords>幻灯片 http:/www.eeppt.com</cp:keywords>
  <dc:language>en-US</dc:language>
  <cp:lastModifiedBy/>
  <dcterms:modified xsi:type="dcterms:W3CDTF">2015-08-12T03:40:06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