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23880" y="385236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506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92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7396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2388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4892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7396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3880" y="76320"/>
            <a:ext cx="74678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506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523880" y="385236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506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92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7396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52388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4892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7396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23880" y="76320"/>
            <a:ext cx="74678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506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371600" y="914400"/>
            <a:ext cx="77724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Rectangle 8"/>
            <p:cNvSpPr/>
            <p:nvPr/>
          </p:nvSpPr>
          <p:spPr>
            <a:xfrm>
              <a:off x="1371600" y="6553080"/>
              <a:ext cx="7772400" cy="304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83afdc"/>
                </a:gs>
                <a:gs pos="100000">
                  <a:srgbClr val="8bb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166cc7"/>
                </a:gs>
                <a:gs pos="100000">
                  <a:srgbClr val="6cb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065eb8"/>
                </a:gs>
                <a:gs pos="100000">
                  <a:srgbClr val="166b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Line 17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Line 18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601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601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601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Rectangle 21"/>
          <p:cNvSpPr/>
          <p:nvPr/>
        </p:nvSpPr>
        <p:spPr>
          <a:xfrm>
            <a:off x="8381880" y="6629400"/>
            <a:ext cx="52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CB739EAC-55B2-4CB0-97B6-5967DAB2045E}" type="slidenum"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Rectangle 22"/>
          <p:cNvSpPr/>
          <p:nvPr/>
        </p:nvSpPr>
        <p:spPr>
          <a:xfrm>
            <a:off x="1635120" y="6629400"/>
            <a:ext cx="110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6747-EE2D-45F9-8626-3671122E1875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Rectangle 23"/>
          <p:cNvSpPr/>
          <p:nvPr/>
        </p:nvSpPr>
        <p:spPr>
          <a:xfrm>
            <a:off x="2819520" y="6629400"/>
            <a:ext cx="4876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Presentation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21"/>
            <p:cNvSpPr/>
            <p:nvPr/>
          </p:nvSpPr>
          <p:spPr>
            <a:xfrm>
              <a:off x="0" y="0"/>
              <a:ext cx="6248520" cy="6858000"/>
            </a:xfrm>
            <a:prstGeom prst="rect">
              <a:avLst/>
            </a:prstGeom>
            <a:gradFill rotWithShape="0">
              <a:gsLst>
                <a:gs pos="0">
                  <a:srgbClr val="045db9"/>
                </a:gs>
                <a:gs pos="100000">
                  <a:srgbClr val="6db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0" y="0"/>
              <a:ext cx="1447920" cy="6858000"/>
            </a:xfrm>
            <a:prstGeom prst="rect">
              <a:avLst/>
            </a:prstGeom>
            <a:gradFill rotWithShape="0">
              <a:gsLst>
                <a:gs pos="0">
                  <a:srgbClr val="ffb125"/>
                </a:gs>
                <a:gs pos="100000">
                  <a:srgbClr val="ed7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Rectangle 23"/>
            <p:cNvSpPr/>
            <p:nvPr/>
          </p:nvSpPr>
          <p:spPr>
            <a:xfrm>
              <a:off x="6248520" y="0"/>
              <a:ext cx="2895480" cy="6858000"/>
            </a:xfrm>
            <a:prstGeom prst="rect">
              <a:avLst/>
            </a:prstGeom>
            <a:gradFill rotWithShape="0">
              <a:gsLst>
                <a:gs pos="0">
                  <a:srgbClr val="6db5ff"/>
                </a:gs>
                <a:gs pos="100000">
                  <a:srgbClr val="045d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784872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ffb125"/>
                </a:gs>
                <a:gs pos="100000">
                  <a:srgbClr val="ed7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Rectangle 25"/>
            <p:cNvSpPr/>
            <p:nvPr/>
          </p:nvSpPr>
          <p:spPr>
            <a:xfrm>
              <a:off x="1676520" y="0"/>
              <a:ext cx="1295280" cy="6858000"/>
            </a:xfrm>
            <a:prstGeom prst="rect">
              <a:avLst/>
            </a:prstGeom>
            <a:gradFill rotWithShape="0">
              <a:gsLst>
                <a:gs pos="0">
                  <a:srgbClr val="ed7737"/>
                </a:gs>
                <a:gs pos="100000">
                  <a:srgbClr val="ffb1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Line 26"/>
            <p:cNvSpPr/>
            <p:nvPr/>
          </p:nvSpPr>
          <p:spPr>
            <a:xfrm>
              <a:off x="4572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Line 27"/>
            <p:cNvSpPr/>
            <p:nvPr/>
          </p:nvSpPr>
          <p:spPr>
            <a:xfrm>
              <a:off x="53352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Line 28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Line 29"/>
            <p:cNvSpPr/>
            <p:nvPr/>
          </p:nvSpPr>
          <p:spPr>
            <a:xfrm>
              <a:off x="563868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Line 3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" name="Line 31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" name="Rectangle 32"/>
            <p:cNvSpPr/>
            <p:nvPr/>
          </p:nvSpPr>
          <p:spPr>
            <a:xfrm>
              <a:off x="8534520" y="61722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" name="Rectangle 33"/>
            <p:cNvSpPr/>
            <p:nvPr/>
          </p:nvSpPr>
          <p:spPr>
            <a:xfrm>
              <a:off x="8763120" y="61722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" name="Rectangle 34"/>
            <p:cNvSpPr/>
            <p:nvPr/>
          </p:nvSpPr>
          <p:spPr>
            <a:xfrm>
              <a:off x="8763120" y="59436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609480" y="2514600"/>
              <a:ext cx="4876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" name="Rectangle 36"/>
            <p:cNvSpPr/>
            <p:nvPr/>
          </p:nvSpPr>
          <p:spPr>
            <a:xfrm>
              <a:off x="609480" y="3352680"/>
              <a:ext cx="7391520" cy="381240"/>
            </a:xfrm>
            <a:prstGeom prst="rect">
              <a:avLst/>
            </a:prstGeom>
            <a:solidFill>
              <a:srgbClr val="24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" name="Line 37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" name="Line 38"/>
            <p:cNvSpPr/>
            <p:nvPr/>
          </p:nvSpPr>
          <p:spPr>
            <a:xfrm>
              <a:off x="80010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601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601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601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45ca8"/>
                </a:solidFill>
                <a:latin typeface="Arial"/>
                <a:ea typeface="宋体"/>
              </a:rPr>
              <a:t>蓝橙相间背景简洁</a:t>
            </a:r>
            <a:r>
              <a:rPr b="1" lang="en-US" sz="4000" spc="-1" strike="noStrike">
                <a:solidFill>
                  <a:srgbClr val="245ca8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245ca8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33"/>
              </a:solidFill>
              <a:latin typeface="Arial"/>
              <a:ea typeface="宋体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75240" y="6016680"/>
            <a:ext cx="21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宋体"/>
              </a:rPr>
              <a:t>锐普</a:t>
            </a:r>
            <a:r>
              <a:rPr b="0" lang="en-US" sz="1800" spc="-1" strike="noStrike">
                <a:solidFill>
                  <a:srgbClr val="333333"/>
                </a:solidFill>
                <a:latin typeface="宋体"/>
                <a:ea typeface="宋体"/>
              </a:rPr>
              <a:t>PPT</a:t>
            </a: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宋体"/>
              </a:rPr>
              <a:t>论坛</a:t>
            </a:r>
            <a:r>
              <a:rPr b="0" lang="en-US" sz="1800" spc="-1" strike="noStrike">
                <a:solidFill>
                  <a:srgbClr val="333333"/>
                </a:solidFill>
                <a:latin typeface="宋体"/>
                <a:ea typeface="宋体"/>
              </a:rPr>
              <a:t>KATE</a:t>
            </a: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宋体"/>
              </a:rPr>
              <a:t>收集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333333"/>
              </a:solidFill>
              <a:latin typeface="Arial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4120" y="10663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aphicFrame>
        <p:nvGraphicFramePr>
          <p:cNvPr id="121" name="Object 1024"/>
          <p:cNvGraphicFramePr/>
          <p:nvPr/>
        </p:nvGraphicFramePr>
        <p:xfrm>
          <a:off x="1523880" y="1066680"/>
          <a:ext cx="74678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7467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3"/>
          <p:cNvSpPr/>
          <p:nvPr/>
        </p:nvSpPr>
        <p:spPr>
          <a:xfrm>
            <a:off x="2124000" y="6550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2aedb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5" name="Rectangle 18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83afdc"/>
                </a:gs>
                <a:gs pos="100000">
                  <a:srgbClr val="8bb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166cc7"/>
                </a:gs>
                <a:gs pos="100000">
                  <a:srgbClr val="6cb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065eb8"/>
                </a:gs>
                <a:gs pos="100000">
                  <a:srgbClr val="166b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1371600" y="914400"/>
              <a:ext cx="7772400" cy="5638680"/>
            </a:xfrm>
            <a:prstGeom prst="rect">
              <a:avLst/>
            </a:prstGeom>
            <a:gradFill rotWithShape="0">
              <a:gsLst>
                <a:gs pos="0">
                  <a:srgbClr val="8bb6e1"/>
                </a:gs>
                <a:gs pos="100000">
                  <a:srgbClr val="b5d8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Line 25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Line 26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Line 28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33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9" name="Rectangle 5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f6bb9b"/>
                </a:gs>
                <a:gs pos="100000">
                  <a:srgbClr val="f8b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f07f32"/>
                </a:gs>
                <a:gs pos="100000">
                  <a:srgbClr val="feb1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ec7734"/>
                </a:gs>
                <a:gs pos="100000">
                  <a:srgbClr val="ee7e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1371600" y="914400"/>
              <a:ext cx="7772400" cy="5638680"/>
            </a:xfrm>
            <a:prstGeom prst="rect">
              <a:avLst/>
            </a:prstGeom>
            <a:gradFill rotWithShape="0">
              <a:gsLst>
                <a:gs pos="0">
                  <a:srgbClr val="f6be99"/>
                </a:gs>
                <a:gs pos="100000">
                  <a:srgbClr val="ffd7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33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0:29:09Z</dcterms:created>
  <dc:creator>幻灯片 http://www.eeppt.com</dc:creator>
  <dc:description/>
  <cp:keywords>幻灯片 http:/www.eeppt.com</cp:keywords>
  <dc:language>en-US</dc:language>
  <cp:lastModifiedBy/>
  <dcterms:modified xsi:type="dcterms:W3CDTF">2015-07-24T08:57:43Z</dcterms:modified>
  <cp:revision>0</cp:revision>
  <dc:subject/>
  <dc:title/>
</cp:coreProperties>
</file>