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6CB-637E-4F17-8F11-D15BAA16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F00-4118-4DAA-8D8A-5687F4AF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97E-663B-4631-A291-F50B866B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982-9723-4BFE-9A94-BCA09F95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1D9-A6D7-41B8-AB65-503385E1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6472-996A-42EE-94DC-0FF047BD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AF62-7276-4ED2-A7CE-F30C0D9C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E69-8F79-40F2-B95E-2D00364B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71D-32FE-4CAF-A9C7-6C628807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2113-DD62-4B79-853C-3963D4D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29D2-F51E-4B41-A5D9-B3CAB92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54E-35B0-46C2-AD9E-D3470A6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89FF-7E80-44B9-816E-637F76F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1D11-2052-428F-B6CF-E1476FF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D358-E6D4-40EE-959E-C848522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AA5-3645-4A16-BABF-1EAEC1DB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A785-90D8-4D75-8D5E-A188E763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8EC6-370F-49E0-A8D4-8574636B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976C-2572-4B44-9C49-111330DE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61F8-3085-4CA6-A7A7-E20CE75F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F83F-2D1D-4A57-A3A6-448FD175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DAC5-AFC3-4713-8145-988D1385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1D3-4F16-4102-8960-5505877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82D6-8494-4669-9846-56B200A2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FF08-CF6E-476A-A565-EE7CDDE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36CE-B4CA-4F54-A4B7-025E85E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89C9-6C89-45B8-970F-D6AC314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D051-3944-451E-9B70-101BCF0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E1AE-5F62-4632-A76B-AB7A967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74D7-0FA8-411F-BA0D-F32A953D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C1AA-D2CF-40B4-8B31-6CEA8985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5C89-68E1-4FC7-B647-EED7A97C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F3A4-5CC4-4228-9AD2-0EC7D68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098-8D0E-4FA8-A6D7-8B0D7BD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2AAE-3F1B-4D11-8679-0CCF52E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4D01-4F34-4B35-B13D-6747FB8A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429E-62C8-4A81-BC88-1CA533F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A0CF-925C-4D05-895F-0BD2CFE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F7F69-9E4B-4592-9316-3FB504E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A7DE-BCAE-4E0E-85D3-F6FDBFF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B117-AE75-4E24-88FF-356222AB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AAF4-9C6F-4A09-8B12-F07BD2B6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61CC-DEF0-41CB-869D-EB221072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5680-6F14-4434-B1DB-4411D4F7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DFC-B51A-4437-95DE-77FBB6C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4F50-BE46-4AD9-B040-37A6DFAA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2FDF-6403-4731-9FC2-DB0005F1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14C1-28E3-4271-8708-55E102B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A157F-1DFD-418B-94C5-6104BAC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A62F-B55F-4FC4-A969-3FF861DF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29D1B-18FB-4114-8D8A-B2415863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6329-3D73-4EFE-BA0D-A1BA118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313C-B2AE-486C-A75E-5A9EB2E0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2FF7-2441-4AE4-8F24-172A0D5C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D9C5-0AF5-49F6-8D21-16CD2CA4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011-9A80-4D82-9312-70075EEE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CEB1-9643-4FA8-AE5A-E9030550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B94E-951F-4870-B61E-728EA0FD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C669-2A93-4E22-8AAB-522778A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B2FF-7149-4C67-A73E-3C44ED9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C4BE-36BA-4EDE-B606-AE2972D5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D311-5576-489B-8634-D5DD44BF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54B95-8B97-4654-8506-62E87B9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4F9FB-C546-412B-8D25-B5FD41E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72861-E031-46A8-86F5-6CBADD56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246A9-75EC-4A31-BBB5-7B8CB39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D4C-E3AF-41D3-82D4-72A7493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E531-42ED-475B-A260-87A1B41E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DF45-C3DD-450A-8D10-06C8C52B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9F8D8-9759-4642-BF4E-26EE6873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A8A0-4B80-46BD-B6E2-A3562230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3A63-0A2B-4EC4-AE04-B7A64B2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3D41-ED6B-4D2C-B86F-2396D38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9B178-DFD3-4985-9314-44BDF45D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33FE-5568-45A4-8BA1-8C7D55E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E40C-28C4-4CFF-A46D-43B1D1B9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C59A-CBB6-4416-94DB-EC04AD2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EDD-2EAA-4B88-91F6-83951A9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306D-A7EF-4589-9093-6097541B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D60E-F90D-46C1-A8F2-29B8F2DE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5451-F707-48F4-92B5-AECC853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86D5-F190-41D2-84B8-63013761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65AA-3B2A-4395-B507-AAF3C892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401-E93C-4710-8E3B-C3D0FCB7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Triangle rectangle 6"/>
          <p:cNvGrpSpPr/>
          <p:nvPr/>
        </p:nvGrpSpPr>
        <p:grpSpPr>
          <a:xfrm>
            <a:off x="6480" y="12600"/>
            <a:ext cx="9131040" cy="6838920"/>
            <a:chOff x="6480" y="12600"/>
            <a:chExt cx="9131040" cy="6838920"/>
          </a:xfrm>
        </p:grpSpPr>
        <p:pic>
          <p:nvPicPr>
            <p:cNvPr id="1" name="Triangle rectangle 6" descr=""/>
            <p:cNvPicPr/>
            <p:nvPr/>
          </p:nvPicPr>
          <p:blipFill>
            <a:blip r:embed="rId2"/>
            <a:stretch/>
          </p:blipFill>
          <p:spPr>
            <a:xfrm>
              <a:off x="6480" y="1260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66800" y="400212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B11-87ED-482A-A95C-E89908E9D29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F5E1-3330-4DF5-ABA8-5DBE297C24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Triangle rectangle 6"/>
          <p:cNvGrpSpPr/>
          <p:nvPr/>
        </p:nvGrpSpPr>
        <p:grpSpPr>
          <a:xfrm>
            <a:off x="6480" y="12600"/>
            <a:ext cx="9131040" cy="6838920"/>
            <a:chOff x="6480" y="12600"/>
            <a:chExt cx="9131040" cy="6838920"/>
          </a:xfrm>
        </p:grpSpPr>
        <p:pic>
          <p:nvPicPr>
            <p:cNvPr id="47" name="Triangle rectangle 6" descr=""/>
            <p:cNvPicPr/>
            <p:nvPr/>
          </p:nvPicPr>
          <p:blipFill>
            <a:blip r:embed="rId2"/>
            <a:stretch/>
          </p:blipFill>
          <p:spPr>
            <a:xfrm>
              <a:off x="6480" y="1260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66800" y="400212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EBC-AE25-4987-BE4D-BB8661F572C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F353-C678-457A-B299-828632A7FF2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Triangle rectangle 6"/>
          <p:cNvGrpSpPr/>
          <p:nvPr/>
        </p:nvGrpSpPr>
        <p:grpSpPr>
          <a:xfrm>
            <a:off x="6480" y="12600"/>
            <a:ext cx="9131040" cy="6838920"/>
            <a:chOff x="6480" y="12600"/>
            <a:chExt cx="9131040" cy="6838920"/>
          </a:xfrm>
        </p:grpSpPr>
        <p:pic>
          <p:nvPicPr>
            <p:cNvPr id="94" name="Triangle rectangle 6" descr=""/>
            <p:cNvPicPr/>
            <p:nvPr/>
          </p:nvPicPr>
          <p:blipFill>
            <a:blip r:embed="rId2"/>
            <a:stretch/>
          </p:blipFill>
          <p:spPr>
            <a:xfrm>
              <a:off x="6480" y="1260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6800" y="400212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602A-C314-4FC4-B621-53F1B4EFC6A8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71A-16E8-4EB4-83BD-09DF1355BA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Triangle rectangle 7"/>
          <p:cNvGrpSpPr/>
          <p:nvPr/>
        </p:nvGrpSpPr>
        <p:grpSpPr>
          <a:xfrm>
            <a:off x="6480" y="6480"/>
            <a:ext cx="9131040" cy="6838920"/>
            <a:chOff x="6480" y="6480"/>
            <a:chExt cx="9131040" cy="6838920"/>
          </a:xfrm>
        </p:grpSpPr>
        <p:pic>
          <p:nvPicPr>
            <p:cNvPr id="141" name="Triangle rectangle 7" descr=""/>
            <p:cNvPicPr/>
            <p:nvPr/>
          </p:nvPicPr>
          <p:blipFill>
            <a:blip r:embed="rId2"/>
            <a:stretch/>
          </p:blipFill>
          <p:spPr>
            <a:xfrm>
              <a:off x="6480" y="6480"/>
              <a:ext cx="913104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10800000">
              <a:off x="766800" y="576000"/>
              <a:ext cx="456552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1EC-CFEB-4DC0-A72C-C84F7DC28A37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7A75-3B41-43C1-B0C2-1EB0A1FCEEA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E86-0E55-4D6F-815E-82BCDDA16B77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D6E2-4B9B-428D-8BC9-AEBE3962B0A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12F-1A25-4A6A-BFB0-B4D52DB5CD8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0C4-C35A-43E5-B8A5-3E53FB801BB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B42B-6238-4041-AC88-9E57AEB38160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0DC-B32D-4399-B88B-A8683B5D172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6"/>
          <p:cNvSpPr/>
          <p:nvPr/>
        </p:nvSpPr>
        <p:spPr>
          <a:xfrm>
            <a:off x="5511960" y="3068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矩形 1"/>
          <p:cNvSpPr/>
          <p:nvPr/>
        </p:nvSpPr>
        <p:spPr>
          <a:xfrm>
            <a:off x="2176920" y="1413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黄世界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rm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550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13:44Z</dcterms:created>
  <dc:creator>幻灯片 http://www.eeppt.com</dc:creator>
  <dc:description/>
  <cp:keywords>幻灯片 http:/www.eeppt.com</cp:keywords>
  <dc:language>en-US</dc:language>
  <cp:lastModifiedBy/>
  <dcterms:modified xsi:type="dcterms:W3CDTF">2015-07-24T08:15:46Z</dcterms:modified>
  <cp:revision>0</cp:revision>
  <dc:subject/>
  <dc:title/>
</cp:coreProperties>
</file>