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185-6076-43A2-B739-CD42E30A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A258-37FB-42D4-B00F-13BD2173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02E-4D0D-4540-829E-FB8712B0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F02-6E2A-49F7-9B24-6ECE430E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76E0-0A5D-4500-9A01-A0281626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2EA5-0A21-4B83-B8CB-45441ED9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61E9-1ECC-4B96-B063-5A2B14A1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D11A-0656-401B-9C89-6DF69B06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B8AF-074E-4080-881D-474D0BD8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920" y="1238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C9B7-FCCE-4BD1-A441-B8940F17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17C8-21AE-414B-B706-9005E097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CEF-C648-469F-A168-45CD268F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C4A6-4D77-4372-BFC4-21556C28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B59E-868B-4F98-88A9-979A8D87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09E7-A2FF-4E43-AA64-E57F4E74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73B5-5D00-4677-B5A2-0B78A52A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965B-C908-4A2B-80D6-B8173DCC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A8DF-5A8E-427C-83D9-EE4BD669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390B-88EC-4A8C-90DB-61E5821D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1D5-1621-4810-A270-B5A75812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1238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2295-976B-4DB5-9A2C-B817B714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BCAE-EF18-4439-B292-0771952D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FCBC-EBC2-4F40-A7E1-E068FA9B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5BF7-55CA-48EC-8BF3-FC87036B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5"/>
            </a:gs>
            <a:gs pos="100000">
              <a:srgbClr val="00007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3733920" y="0"/>
            <a:ext cx="5410080" cy="6858000"/>
          </a:xfrm>
          <a:prstGeom prst="rect">
            <a:avLst/>
          </a:prstGeom>
          <a:gradFill rotWithShape="0">
            <a:gsLst>
              <a:gs pos="0">
                <a:srgbClr val="001b52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" name="Oval 18"/>
          <p:cNvSpPr/>
          <p:nvPr/>
        </p:nvSpPr>
        <p:spPr>
          <a:xfrm>
            <a:off x="291960" y="0"/>
            <a:ext cx="6858000" cy="6870600"/>
          </a:xfrm>
          <a:prstGeom prst="ellipse">
            <a:avLst/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1d1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5487-B97C-4612-BE48-371E196188A9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Line 15"/>
          <p:cNvSpPr/>
          <p:nvPr/>
        </p:nvSpPr>
        <p:spPr>
          <a:xfrm>
            <a:off x="0" y="911160"/>
            <a:ext cx="9144000" cy="0"/>
          </a:xfrm>
          <a:prstGeom prst="line">
            <a:avLst/>
          </a:prstGeom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7" name="Line 20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8" name="Oval 21"/>
          <p:cNvSpPr/>
          <p:nvPr/>
        </p:nvSpPr>
        <p:spPr>
          <a:xfrm>
            <a:off x="7524720" y="298440"/>
            <a:ext cx="1227240" cy="1225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9"/>
          <p:cNvGrpSpPr/>
          <p:nvPr/>
        </p:nvGrpSpPr>
        <p:grpSpPr>
          <a:xfrm>
            <a:off x="1066680" y="0"/>
            <a:ext cx="8077320" cy="6858000"/>
            <a:chOff x="1066680" y="0"/>
            <a:chExt cx="8077320" cy="6858000"/>
          </a:xfrm>
        </p:grpSpPr>
        <p:sp>
          <p:nvSpPr>
            <p:cNvPr id="47" name="Oval 20"/>
            <p:cNvSpPr/>
            <p:nvPr/>
          </p:nvSpPr>
          <p:spPr>
            <a:xfrm>
              <a:off x="1066680" y="6480"/>
              <a:ext cx="7347240" cy="6851520"/>
            </a:xfrm>
            <a:prstGeom prst="ellipse">
              <a:avLst/>
            </a:prstGeom>
            <a:solidFill>
              <a:srgbClr val="003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8" name="Rectangle 21"/>
            <p:cNvSpPr/>
            <p:nvPr/>
          </p:nvSpPr>
          <p:spPr>
            <a:xfrm>
              <a:off x="4851360" y="0"/>
              <a:ext cx="4292640" cy="6854760"/>
            </a:xfrm>
            <a:prstGeom prst="rect">
              <a:avLst/>
            </a:prstGeom>
            <a:solidFill>
              <a:srgbClr val="003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49" name="Oval 17"/>
          <p:cNvSpPr/>
          <p:nvPr/>
        </p:nvSpPr>
        <p:spPr>
          <a:xfrm>
            <a:off x="1476360" y="1916280"/>
            <a:ext cx="4390920" cy="4433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87280" y="358920"/>
            <a:ext cx="36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扬州大学本科生毕业设计（论文）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" name="Oval 18"/>
          <p:cNvSpPr/>
          <p:nvPr/>
        </p:nvSpPr>
        <p:spPr>
          <a:xfrm>
            <a:off x="5186520" y="6132600"/>
            <a:ext cx="428400" cy="385560"/>
          </a:xfrm>
          <a:prstGeom prst="ellipse">
            <a:avLst/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1d1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d1d1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E7C8-530E-4F52-92C5-240FE094FAEA}" type="slidenum">
              <a:rPr b="0" lang="zh-CN" sz="1200" spc="-1" strike="noStrike">
                <a:solidFill>
                  <a:srgbClr val="d1d1d1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837720"/>
            <a:ext cx="8591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蓝色毕业论文答辩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PPT</a:t>
            </a:r>
            <a:r>
              <a:rPr b="0" lang="zh-CN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12000" y="6092640"/>
            <a:ext cx="28080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建筑科学与工程学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757840" y="25178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指导老师：</a:t>
            </a:r>
            <a:r>
              <a:rPr b="0" lang="en-US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SJM</a:t>
            </a:r>
            <a:endParaRPr b="0" lang="en-US" sz="2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757840" y="341784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1d1d1"/>
                </a:solidFill>
                <a:latin typeface="新宋体"/>
                <a:ea typeface="新宋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答</a:t>
            </a:r>
            <a:r>
              <a:rPr b="0" lang="en-US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辩：</a:t>
            </a:r>
            <a:r>
              <a:rPr b="0" lang="en-US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GKJ</a:t>
            </a:r>
            <a:endParaRPr b="0" lang="en-US" sz="2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181080" y="12384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手工计算各分项工程的工程量计算步骤及对应消耗时间比例表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9280" y="1700280"/>
          <a:ext cx="8785440" cy="4176720"/>
        </p:xfrm>
        <a:graphic>
          <a:graphicData uri="http://schemas.openxmlformats.org/drawingml/2006/table">
            <a:tbl>
              <a:tblPr/>
              <a:tblGrid>
                <a:gridCol w="744480"/>
                <a:gridCol w="2927520"/>
                <a:gridCol w="1512720"/>
                <a:gridCol w="1729080"/>
                <a:gridCol w="1871640"/>
              </a:tblGrid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对应的具体步骤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消耗总时间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对应所占比例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扣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g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外所占比例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标识工程构件的基本信息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1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4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工程量计算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28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33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41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套定额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4.5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5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6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数据整理、复核，手工誊写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1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4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e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输入电脑、制成电子表格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3.5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5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9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f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数据汇总整理并进行打印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4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5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6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g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数据的修改、机动时间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8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20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软件计算各步骤时间耗费所占比例饼状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Object 3"/>
          <p:cNvGraphicFramePr/>
          <p:nvPr/>
        </p:nvGraphicFramePr>
        <p:xfrm>
          <a:off x="457200" y="235260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5260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4"/>
          <p:cNvGraphicFramePr/>
          <p:nvPr/>
        </p:nvGraphicFramePr>
        <p:xfrm>
          <a:off x="719280" y="1557360"/>
          <a:ext cx="7740360" cy="4900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280" y="1557360"/>
                    <a:ext cx="774036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123840"/>
            <a:ext cx="7667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3.2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分项工程的工程量计算数据对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3"/>
          <p:cNvGrpSpPr/>
          <p:nvPr/>
        </p:nvGrpSpPr>
        <p:grpSpPr>
          <a:xfrm>
            <a:off x="1258920" y="1258920"/>
            <a:ext cx="1724040" cy="482040"/>
            <a:chOff x="1258920" y="1258920"/>
            <a:chExt cx="1724040" cy="482040"/>
          </a:xfrm>
        </p:grpSpPr>
        <p:sp>
          <p:nvSpPr>
            <p:cNvPr id="299" name="Freeform 4"/>
            <p:cNvSpPr/>
            <p:nvPr/>
          </p:nvSpPr>
          <p:spPr>
            <a:xfrm>
              <a:off x="1360440" y="153648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1258920" y="12589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003bb2"/>
                </a:gs>
                <a:gs pos="50000">
                  <a:srgbClr val="6c8ed3"/>
                </a:gs>
                <a:gs pos="100000">
                  <a:srgbClr val="003b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柱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01" name="Group 6"/>
          <p:cNvGrpSpPr/>
          <p:nvPr/>
        </p:nvGrpSpPr>
        <p:grpSpPr>
          <a:xfrm>
            <a:off x="1258920" y="2338560"/>
            <a:ext cx="1724040" cy="482040"/>
            <a:chOff x="1258920" y="2338560"/>
            <a:chExt cx="1724040" cy="482040"/>
          </a:xfrm>
        </p:grpSpPr>
        <p:sp>
          <p:nvSpPr>
            <p:cNvPr id="302" name="Freeform 7"/>
            <p:cNvSpPr/>
            <p:nvPr/>
          </p:nvSpPr>
          <p:spPr>
            <a:xfrm>
              <a:off x="1360440" y="261612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3" name="Rectangle 8"/>
            <p:cNvSpPr/>
            <p:nvPr/>
          </p:nvSpPr>
          <p:spPr>
            <a:xfrm>
              <a:off x="1258920" y="233856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00d69e"/>
                </a:gs>
                <a:gs pos="50000">
                  <a:srgbClr val="6ce7c7"/>
                </a:gs>
                <a:gs pos="100000">
                  <a:srgbClr val="00d6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梁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04" name="Group 9"/>
          <p:cNvGrpSpPr/>
          <p:nvPr/>
        </p:nvGrpSpPr>
        <p:grpSpPr>
          <a:xfrm>
            <a:off x="1258920" y="3417840"/>
            <a:ext cx="1724040" cy="482400"/>
            <a:chOff x="1258920" y="3417840"/>
            <a:chExt cx="1724040" cy="482400"/>
          </a:xfrm>
        </p:grpSpPr>
        <p:sp>
          <p:nvSpPr>
            <p:cNvPr id="305" name="Freeform 10"/>
            <p:cNvSpPr/>
            <p:nvPr/>
          </p:nvSpPr>
          <p:spPr>
            <a:xfrm>
              <a:off x="1360440" y="369576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6" name="Rectangle 11"/>
            <p:cNvSpPr/>
            <p:nvPr/>
          </p:nvSpPr>
          <p:spPr>
            <a:xfrm>
              <a:off x="1258920" y="3417840"/>
              <a:ext cx="1724040" cy="42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墙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07" name="Group 12"/>
          <p:cNvGrpSpPr/>
          <p:nvPr/>
        </p:nvGrpSpPr>
        <p:grpSpPr>
          <a:xfrm>
            <a:off x="1258920" y="4497480"/>
            <a:ext cx="1724040" cy="482040"/>
            <a:chOff x="1258920" y="4497480"/>
            <a:chExt cx="1724040" cy="482040"/>
          </a:xfrm>
        </p:grpSpPr>
        <p:sp>
          <p:nvSpPr>
            <p:cNvPr id="308" name="Freeform 13"/>
            <p:cNvSpPr/>
            <p:nvPr/>
          </p:nvSpPr>
          <p:spPr>
            <a:xfrm>
              <a:off x="1360440" y="47750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9" name="Rectangle 14"/>
            <p:cNvSpPr/>
            <p:nvPr/>
          </p:nvSpPr>
          <p:spPr>
            <a:xfrm>
              <a:off x="1258920" y="44974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d46ae8"/>
                </a:gs>
                <a:gs pos="50000">
                  <a:srgbClr val="e6a9f2"/>
                </a:gs>
                <a:gs pos="100000">
                  <a:srgbClr val="d46a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门窗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cxnSp>
        <p:nvCxnSpPr>
          <p:cNvPr id="310" name="AutoShape 15"/>
          <p:cNvCxnSpPr>
            <a:stCxn id="299" idx="11"/>
            <a:endCxn id="303" idx="0"/>
          </p:cNvCxnSpPr>
          <p:nvPr/>
        </p:nvCxnSpPr>
        <p:spPr>
          <a:xfrm>
            <a:off x="2115720" y="1685520"/>
            <a:ext cx="5400" cy="653400"/>
          </a:xfrm>
          <a:prstGeom prst="straightConnector1">
            <a:avLst/>
          </a:prstGeom>
          <a:ln w="9360">
            <a:solidFill>
              <a:srgbClr val="d1d1d1"/>
            </a:solidFill>
            <a:miter/>
          </a:ln>
        </p:spPr>
      </p:cxnSp>
      <p:cxnSp>
        <p:nvCxnSpPr>
          <p:cNvPr id="311" name="AutoShape 16"/>
          <p:cNvCxnSpPr>
            <a:stCxn id="302" idx="11"/>
            <a:endCxn id="306" idx="0"/>
          </p:cNvCxnSpPr>
          <p:nvPr/>
        </p:nvCxnSpPr>
        <p:spPr>
          <a:xfrm>
            <a:off x="2115720" y="2765520"/>
            <a:ext cx="5400" cy="653040"/>
          </a:xfrm>
          <a:prstGeom prst="straightConnector1">
            <a:avLst/>
          </a:prstGeom>
          <a:ln w="9360">
            <a:solidFill>
              <a:srgbClr val="d1d1d1"/>
            </a:solidFill>
            <a:miter/>
          </a:ln>
        </p:spPr>
      </p:cxnSp>
      <p:cxnSp>
        <p:nvCxnSpPr>
          <p:cNvPr id="312" name="AutoShape 17"/>
          <p:cNvCxnSpPr>
            <a:stCxn id="305" idx="11"/>
            <a:endCxn id="309" idx="0"/>
          </p:cNvCxnSpPr>
          <p:nvPr/>
        </p:nvCxnSpPr>
        <p:spPr>
          <a:xfrm>
            <a:off x="2115720" y="3844440"/>
            <a:ext cx="5400" cy="653400"/>
          </a:xfrm>
          <a:prstGeom prst="straightConnector1">
            <a:avLst/>
          </a:prstGeom>
          <a:ln w="9360">
            <a:solidFill>
              <a:srgbClr val="d1d1d1"/>
            </a:solidFill>
            <a:miter/>
          </a:ln>
        </p:spPr>
      </p:cxnSp>
      <p:sp>
        <p:nvSpPr>
          <p:cNvPr id="313" name="Line 18"/>
          <p:cNvSpPr/>
          <p:nvPr/>
        </p:nvSpPr>
        <p:spPr>
          <a:xfrm>
            <a:off x="2158920" y="1989000"/>
            <a:ext cx="5943600" cy="0"/>
          </a:xfrm>
          <a:prstGeom prst="line">
            <a:avLst/>
          </a:prstGeom>
          <a:ln cap="rnd" w="38160">
            <a:solidFill>
              <a:srgbClr val="d1d1d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4" name="Line 19"/>
          <p:cNvSpPr/>
          <p:nvPr/>
        </p:nvSpPr>
        <p:spPr>
          <a:xfrm>
            <a:off x="2158920" y="3068640"/>
            <a:ext cx="5943600" cy="0"/>
          </a:xfrm>
          <a:prstGeom prst="line">
            <a:avLst/>
          </a:prstGeom>
          <a:ln cap="rnd" w="38160">
            <a:solidFill>
              <a:srgbClr val="d1d1d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5" name="Line 20"/>
          <p:cNvSpPr/>
          <p:nvPr/>
        </p:nvSpPr>
        <p:spPr>
          <a:xfrm>
            <a:off x="2158920" y="4149720"/>
            <a:ext cx="5943600" cy="0"/>
          </a:xfrm>
          <a:prstGeom prst="line">
            <a:avLst/>
          </a:prstGeom>
          <a:ln cap="rnd" w="38160">
            <a:solidFill>
              <a:srgbClr val="d1d1d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6" name="Text Box 21"/>
          <p:cNvSpPr/>
          <p:nvPr/>
        </p:nvSpPr>
        <p:spPr>
          <a:xfrm>
            <a:off x="4467240" y="979920"/>
            <a:ext cx="170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柱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柱的模板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柱的脚手架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4467240" y="2089800"/>
            <a:ext cx="170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梁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梁的模板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梁的脚手架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8" name="Text Box 23"/>
          <p:cNvSpPr/>
          <p:nvPr/>
        </p:nvSpPr>
        <p:spPr>
          <a:xfrm>
            <a:off x="4467240" y="329292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墙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墙的脚手架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9" name="Text Box 24"/>
          <p:cNvSpPr/>
          <p:nvPr/>
        </p:nvSpPr>
        <p:spPr>
          <a:xfrm>
            <a:off x="4365360" y="4285080"/>
            <a:ext cx="14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门窗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20" name="Group 26"/>
          <p:cNvGrpSpPr/>
          <p:nvPr/>
        </p:nvGrpSpPr>
        <p:grpSpPr>
          <a:xfrm>
            <a:off x="1258920" y="5576760"/>
            <a:ext cx="1724040" cy="482400"/>
            <a:chOff x="1258920" y="5576760"/>
            <a:chExt cx="1724040" cy="482400"/>
          </a:xfrm>
        </p:grpSpPr>
        <p:sp>
          <p:nvSpPr>
            <p:cNvPr id="321" name="Freeform 27"/>
            <p:cNvSpPr/>
            <p:nvPr/>
          </p:nvSpPr>
          <p:spPr>
            <a:xfrm>
              <a:off x="1360440" y="585468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22" name="Rectangle 28"/>
            <p:cNvSpPr/>
            <p:nvPr/>
          </p:nvSpPr>
          <p:spPr>
            <a:xfrm>
              <a:off x="1258920" y="5576760"/>
              <a:ext cx="1724040" cy="423360"/>
            </a:xfrm>
            <a:prstGeom prst="rect">
              <a:avLst/>
            </a:prstGeom>
            <a:gradFill rotWithShape="0">
              <a:gsLst>
                <a:gs pos="0">
                  <a:srgbClr val="003bb2"/>
                </a:gs>
                <a:gs pos="50000">
                  <a:srgbClr val="6c8ed3"/>
                </a:gs>
                <a:gs pos="100000">
                  <a:srgbClr val="003b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板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323" name="Line 29"/>
          <p:cNvSpPr/>
          <p:nvPr/>
        </p:nvSpPr>
        <p:spPr>
          <a:xfrm>
            <a:off x="2158920" y="5229360"/>
            <a:ext cx="5943600" cy="0"/>
          </a:xfrm>
          <a:prstGeom prst="line">
            <a:avLst/>
          </a:prstGeom>
          <a:ln cap="rnd" w="38160">
            <a:solidFill>
              <a:srgbClr val="d1d1d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cxnSp>
        <p:nvCxnSpPr>
          <p:cNvPr id="324" name="AutoShape 30"/>
          <p:cNvCxnSpPr/>
          <p:nvPr/>
        </p:nvCxnSpPr>
        <p:spPr>
          <a:xfrm>
            <a:off x="2123640" y="4941360"/>
            <a:ext cx="5400" cy="653400"/>
          </a:xfrm>
          <a:prstGeom prst="straightConnector1">
            <a:avLst/>
          </a:prstGeom>
          <a:ln w="9360">
            <a:solidFill>
              <a:srgbClr val="d1d1d1"/>
            </a:solidFill>
            <a:miter/>
          </a:ln>
        </p:spPr>
      </p:cxnSp>
      <p:sp>
        <p:nvSpPr>
          <p:cNvPr id="325" name="Text Box 33"/>
          <p:cNvSpPr/>
          <p:nvPr/>
        </p:nvSpPr>
        <p:spPr>
          <a:xfrm>
            <a:off x="4416480" y="5443920"/>
            <a:ext cx="15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板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板的模板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6" name="Freeform 34"/>
          <p:cNvSpPr/>
          <p:nvPr/>
        </p:nvSpPr>
        <p:spPr>
          <a:xfrm rot="8971200">
            <a:off x="6658920" y="907560"/>
            <a:ext cx="973080" cy="6462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17daa7">
                  <a:alpha val="32156"/>
                </a:srgbClr>
              </a:gs>
              <a:gs pos="100000">
                <a:srgbClr val="00d69e"/>
              </a:gs>
            </a:gsLst>
            <a:lin ang="12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7" name="Freeform 35"/>
          <p:cNvSpPr/>
          <p:nvPr/>
        </p:nvSpPr>
        <p:spPr>
          <a:xfrm rot="8971200">
            <a:off x="6658920" y="1988640"/>
            <a:ext cx="973080" cy="6462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17daa7">
                  <a:alpha val="32156"/>
                </a:srgbClr>
              </a:gs>
              <a:gs pos="100000">
                <a:srgbClr val="00d69e"/>
              </a:gs>
            </a:gsLst>
            <a:lin ang="12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2.2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层梁体模板工程量的数据对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457200" y="235260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5260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4"/>
          <p:cNvGraphicFramePr/>
          <p:nvPr/>
        </p:nvGraphicFramePr>
        <p:xfrm>
          <a:off x="250920" y="1628640"/>
          <a:ext cx="8642160" cy="460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62864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5"/>
          <p:cNvSpPr/>
          <p:nvPr/>
        </p:nvSpPr>
        <p:spPr>
          <a:xfrm>
            <a:off x="358920" y="11138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其它梁模板工程量的手工、软件计算数据对比偏差率分布图 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3.3.1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软件的优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Group 3"/>
          <p:cNvGrpSpPr/>
          <p:nvPr/>
        </p:nvGrpSpPr>
        <p:grpSpPr>
          <a:xfrm>
            <a:off x="685800" y="1293840"/>
            <a:ext cx="7848360" cy="4406400"/>
            <a:chOff x="685800" y="1293840"/>
            <a:chExt cx="7848360" cy="4406400"/>
          </a:xfrm>
        </p:grpSpPr>
        <p:sp>
          <p:nvSpPr>
            <p:cNvPr id="336" name="Oval 4"/>
            <p:cNvSpPr/>
            <p:nvPr/>
          </p:nvSpPr>
          <p:spPr>
            <a:xfrm>
              <a:off x="2682000" y="1995840"/>
              <a:ext cx="3783240" cy="3704400"/>
            </a:xfrm>
            <a:prstGeom prst="ellipse">
              <a:avLst/>
            </a:prstGeom>
            <a:gradFill rotWithShape="0">
              <a:gsLst>
                <a:gs pos="0">
                  <a:srgbClr val="00d69e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b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337" name="Group 5"/>
            <p:cNvGrpSpPr/>
            <p:nvPr/>
          </p:nvGrpSpPr>
          <p:grpSpPr>
            <a:xfrm>
              <a:off x="3611160" y="2920680"/>
              <a:ext cx="1926360" cy="1995480"/>
              <a:chOff x="3611160" y="2920680"/>
              <a:chExt cx="1926360" cy="1995480"/>
            </a:xfrm>
          </p:grpSpPr>
          <p:sp>
            <p:nvSpPr>
              <p:cNvPr id="338" name="Oval 6"/>
              <p:cNvSpPr/>
              <p:nvPr/>
            </p:nvSpPr>
            <p:spPr>
              <a:xfrm>
                <a:off x="3611160" y="2920680"/>
                <a:ext cx="192636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d1d1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339" name="Freeform 7"/>
              <p:cNvSpPr/>
              <p:nvPr/>
            </p:nvSpPr>
            <p:spPr>
              <a:xfrm>
                <a:off x="3831120" y="2953800"/>
                <a:ext cx="1486080" cy="753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340" name="Text Box 8"/>
            <p:cNvSpPr/>
            <p:nvPr/>
          </p:nvSpPr>
          <p:spPr>
            <a:xfrm>
              <a:off x="3973680" y="36842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Arial"/>
                  <a:ea typeface="黑体"/>
                </a:rPr>
                <a:t>该软件的优点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341" name="Group 9"/>
            <p:cNvGrpSpPr/>
            <p:nvPr/>
          </p:nvGrpSpPr>
          <p:grpSpPr>
            <a:xfrm>
              <a:off x="4182120" y="1638000"/>
              <a:ext cx="641880" cy="615960"/>
              <a:chOff x="4182120" y="1638000"/>
              <a:chExt cx="641880" cy="615960"/>
            </a:xfrm>
          </p:grpSpPr>
          <p:grpSp>
            <p:nvGrpSpPr>
              <p:cNvPr id="342" name="Group 10"/>
              <p:cNvGrpSpPr/>
              <p:nvPr/>
            </p:nvGrpSpPr>
            <p:grpSpPr>
              <a:xfrm>
                <a:off x="4182120" y="1638000"/>
                <a:ext cx="641880" cy="615960"/>
                <a:chOff x="4182120" y="1638000"/>
                <a:chExt cx="641880" cy="615960"/>
              </a:xfrm>
            </p:grpSpPr>
            <p:sp>
              <p:nvSpPr>
                <p:cNvPr id="343" name="Oval 11"/>
                <p:cNvSpPr/>
                <p:nvPr/>
              </p:nvSpPr>
              <p:spPr>
                <a:xfrm>
                  <a:off x="4182120" y="1638000"/>
                  <a:ext cx="64188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a6ff"/>
                    </a:gs>
                    <a:gs pos="100000">
                      <a:srgbClr val="21466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12"/>
                <p:cNvSpPr/>
                <p:nvPr/>
              </p:nvSpPr>
              <p:spPr>
                <a:xfrm>
                  <a:off x="4255560" y="1648080"/>
                  <a:ext cx="49464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da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Text Box 13"/>
              <p:cNvSpPr/>
              <p:nvPr/>
            </p:nvSpPr>
            <p:spPr>
              <a:xfrm>
                <a:off x="4340520" y="17208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1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4"/>
            <p:cNvGrpSpPr/>
            <p:nvPr/>
          </p:nvGrpSpPr>
          <p:grpSpPr>
            <a:xfrm>
              <a:off x="3558240" y="4710960"/>
              <a:ext cx="344160" cy="312480"/>
              <a:chOff x="3558240" y="4710960"/>
              <a:chExt cx="344160" cy="312480"/>
            </a:xfrm>
          </p:grpSpPr>
          <p:sp>
            <p:nvSpPr>
              <p:cNvPr id="347" name="Oval 15"/>
              <p:cNvSpPr/>
              <p:nvPr/>
            </p:nvSpPr>
            <p:spPr>
              <a:xfrm rot="18226800">
                <a:off x="3584520" y="4872600"/>
                <a:ext cx="121680" cy="128880"/>
              </a:xfrm>
              <a:prstGeom prst="ellipse">
                <a:avLst/>
              </a:prstGeom>
              <a:gradFill rotWithShape="0">
                <a:gsLst>
                  <a:gs pos="0">
                    <a:srgbClr val="d46ae8"/>
                  </a:gs>
                  <a:gs pos="100000">
                    <a:srgbClr val="8d479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348" name="Oval 16"/>
              <p:cNvSpPr/>
              <p:nvPr/>
            </p:nvSpPr>
            <p:spPr>
              <a:xfrm rot="18226800">
                <a:off x="3754080" y="4732560"/>
                <a:ext cx="121320" cy="129240"/>
              </a:xfrm>
              <a:prstGeom prst="ellipse">
                <a:avLst/>
              </a:prstGeom>
              <a:gradFill rotWithShape="0">
                <a:gsLst>
                  <a:gs pos="0">
                    <a:srgbClr val="d46ae8"/>
                  </a:gs>
                  <a:gs pos="100000">
                    <a:srgbClr val="8d479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7"/>
            <p:cNvGrpSpPr/>
            <p:nvPr/>
          </p:nvGrpSpPr>
          <p:grpSpPr>
            <a:xfrm>
              <a:off x="2968920" y="4983120"/>
              <a:ext cx="641880" cy="641160"/>
              <a:chOff x="2968920" y="4983120"/>
              <a:chExt cx="641880" cy="641160"/>
            </a:xfrm>
          </p:grpSpPr>
          <p:grpSp>
            <p:nvGrpSpPr>
              <p:cNvPr id="350" name="Group 18"/>
              <p:cNvGrpSpPr/>
              <p:nvPr/>
            </p:nvGrpSpPr>
            <p:grpSpPr>
              <a:xfrm>
                <a:off x="2968920" y="4983120"/>
                <a:ext cx="641880" cy="641160"/>
                <a:chOff x="2968920" y="4983120"/>
                <a:chExt cx="641880" cy="641160"/>
              </a:xfrm>
            </p:grpSpPr>
            <p:sp>
              <p:nvSpPr>
                <p:cNvPr id="351" name="Oval 19"/>
                <p:cNvSpPr/>
                <p:nvPr/>
              </p:nvSpPr>
              <p:spPr>
                <a:xfrm>
                  <a:off x="2968920" y="4983120"/>
                  <a:ext cx="64188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46ae8"/>
                    </a:gs>
                    <a:gs pos="100000">
                      <a:srgbClr val="341a3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0"/>
                <p:cNvSpPr/>
                <p:nvPr/>
              </p:nvSpPr>
              <p:spPr>
                <a:xfrm>
                  <a:off x="3042360" y="4993920"/>
                  <a:ext cx="49464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46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Text Box 21"/>
              <p:cNvSpPr/>
              <p:nvPr/>
            </p:nvSpPr>
            <p:spPr>
              <a:xfrm>
                <a:off x="3105720" y="5110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22"/>
            <p:cNvGrpSpPr/>
            <p:nvPr/>
          </p:nvGrpSpPr>
          <p:grpSpPr>
            <a:xfrm>
              <a:off x="6111360" y="2920680"/>
              <a:ext cx="639360" cy="648720"/>
              <a:chOff x="6111360" y="2920680"/>
              <a:chExt cx="639360" cy="648720"/>
            </a:xfrm>
          </p:grpSpPr>
          <p:grpSp>
            <p:nvGrpSpPr>
              <p:cNvPr id="355" name="Group 23"/>
              <p:cNvGrpSpPr/>
              <p:nvPr/>
            </p:nvGrpSpPr>
            <p:grpSpPr>
              <a:xfrm>
                <a:off x="6111360" y="2920680"/>
                <a:ext cx="639360" cy="648720"/>
                <a:chOff x="6111360" y="2920680"/>
                <a:chExt cx="639360" cy="648720"/>
              </a:xfrm>
            </p:grpSpPr>
            <p:sp>
              <p:nvSpPr>
                <p:cNvPr id="356" name="Oval 24"/>
                <p:cNvSpPr/>
                <p:nvPr/>
              </p:nvSpPr>
              <p:spPr>
                <a:xfrm>
                  <a:off x="6111360" y="2920680"/>
                  <a:ext cx="639360" cy="64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6ce7c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25"/>
                <p:cNvSpPr/>
                <p:nvPr/>
              </p:nvSpPr>
              <p:spPr>
                <a:xfrm>
                  <a:off x="6184080" y="2931840"/>
                  <a:ext cx="493920" cy="2444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d69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8" name="Text Box 26"/>
              <p:cNvSpPr/>
              <p:nvPr/>
            </p:nvSpPr>
            <p:spPr>
              <a:xfrm>
                <a:off x="6248520" y="3015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27"/>
            <p:cNvGrpSpPr/>
            <p:nvPr/>
          </p:nvGrpSpPr>
          <p:grpSpPr>
            <a:xfrm>
              <a:off x="5537520" y="4987800"/>
              <a:ext cx="612360" cy="581760"/>
              <a:chOff x="5537520" y="4987800"/>
              <a:chExt cx="612360" cy="581760"/>
            </a:xfrm>
          </p:grpSpPr>
          <p:grpSp>
            <p:nvGrpSpPr>
              <p:cNvPr id="360" name="Group 28"/>
              <p:cNvGrpSpPr/>
              <p:nvPr/>
            </p:nvGrpSpPr>
            <p:grpSpPr>
              <a:xfrm>
                <a:off x="5537520" y="4987800"/>
                <a:ext cx="612360" cy="581760"/>
                <a:chOff x="5537520" y="4987800"/>
                <a:chExt cx="612360" cy="581760"/>
              </a:xfrm>
            </p:grpSpPr>
            <p:sp>
              <p:nvSpPr>
                <p:cNvPr id="361" name="Oval 29"/>
                <p:cNvSpPr/>
                <p:nvPr/>
              </p:nvSpPr>
              <p:spPr>
                <a:xfrm>
                  <a:off x="5537520" y="4987800"/>
                  <a:ext cx="612360" cy="58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b398b"/>
                    </a:gs>
                    <a:gs pos="100000">
                      <a:srgbClr val="051a3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30"/>
                <p:cNvSpPr/>
                <p:nvPr/>
              </p:nvSpPr>
              <p:spPr>
                <a:xfrm>
                  <a:off x="5607720" y="4997160"/>
                  <a:ext cx="472320" cy="2192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b398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Text Box 31"/>
              <p:cNvSpPr/>
              <p:nvPr/>
            </p:nvSpPr>
            <p:spPr>
              <a:xfrm>
                <a:off x="5699880" y="5017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32"/>
            <p:cNvGrpSpPr/>
            <p:nvPr/>
          </p:nvGrpSpPr>
          <p:grpSpPr>
            <a:xfrm>
              <a:off x="2469600" y="2920680"/>
              <a:ext cx="641880" cy="641160"/>
              <a:chOff x="2469600" y="2920680"/>
              <a:chExt cx="641880" cy="641160"/>
            </a:xfrm>
          </p:grpSpPr>
          <p:grpSp>
            <p:nvGrpSpPr>
              <p:cNvPr id="365" name="Group 33"/>
              <p:cNvGrpSpPr/>
              <p:nvPr/>
            </p:nvGrpSpPr>
            <p:grpSpPr>
              <a:xfrm>
                <a:off x="2469600" y="2920680"/>
                <a:ext cx="641880" cy="641160"/>
                <a:chOff x="2469600" y="2920680"/>
                <a:chExt cx="641880" cy="641160"/>
              </a:xfrm>
            </p:grpSpPr>
            <p:sp>
              <p:nvSpPr>
                <p:cNvPr id="366" name="Oval 34"/>
                <p:cNvSpPr/>
                <p:nvPr/>
              </p:nvSpPr>
              <p:spPr>
                <a:xfrm>
                  <a:off x="2469600" y="2920680"/>
                  <a:ext cx="64188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bb2"/>
                    </a:gs>
                    <a:gs pos="100000">
                      <a:srgbClr val="001b5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35"/>
                <p:cNvSpPr/>
                <p:nvPr/>
              </p:nvSpPr>
              <p:spPr>
                <a:xfrm>
                  <a:off x="2542320" y="2931480"/>
                  <a:ext cx="49572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3b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" name="Text Box 36"/>
              <p:cNvSpPr/>
              <p:nvPr/>
            </p:nvSpPr>
            <p:spPr>
              <a:xfrm>
                <a:off x="2628720" y="2997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369" name="Oval 37"/>
            <p:cNvSpPr/>
            <p:nvPr/>
          </p:nvSpPr>
          <p:spPr>
            <a:xfrm rot="18226800">
              <a:off x="5469120" y="4840560"/>
              <a:ext cx="121680" cy="130680"/>
            </a:xfrm>
            <a:prstGeom prst="ellipse">
              <a:avLst/>
            </a:prstGeom>
            <a:gradFill rotWithShape="0">
              <a:gsLst>
                <a:gs pos="0">
                  <a:srgbClr val="0b398b"/>
                </a:gs>
                <a:gs pos="100000">
                  <a:srgbClr val="07265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0" name="Oval 38"/>
            <p:cNvSpPr/>
            <p:nvPr/>
          </p:nvSpPr>
          <p:spPr>
            <a:xfrm rot="18226800">
              <a:off x="5326560" y="4698000"/>
              <a:ext cx="121680" cy="130680"/>
            </a:xfrm>
            <a:prstGeom prst="ellipse">
              <a:avLst/>
            </a:prstGeom>
            <a:gradFill rotWithShape="0">
              <a:gsLst>
                <a:gs pos="0">
                  <a:srgbClr val="0b398b"/>
                </a:gs>
                <a:gs pos="100000">
                  <a:srgbClr val="07265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371" name="Group 39"/>
            <p:cNvGrpSpPr/>
            <p:nvPr/>
          </p:nvGrpSpPr>
          <p:grpSpPr>
            <a:xfrm>
              <a:off x="3160080" y="3322440"/>
              <a:ext cx="388440" cy="244440"/>
              <a:chOff x="3160080" y="3322440"/>
              <a:chExt cx="388440" cy="244440"/>
            </a:xfrm>
          </p:grpSpPr>
          <p:sp>
            <p:nvSpPr>
              <p:cNvPr id="372" name="Oval 40"/>
              <p:cNvSpPr/>
              <p:nvPr/>
            </p:nvSpPr>
            <p:spPr>
              <a:xfrm rot="18226800">
                <a:off x="3186720" y="3344040"/>
                <a:ext cx="121320" cy="129240"/>
              </a:xfrm>
              <a:prstGeom prst="ellipse">
                <a:avLst/>
              </a:prstGeom>
              <a:gradFill rotWithShape="0">
                <a:gsLst>
                  <a:gs pos="0">
                    <a:srgbClr val="003bb2"/>
                  </a:gs>
                  <a:gs pos="100000">
                    <a:srgbClr val="00226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373" name="Oval 41"/>
              <p:cNvSpPr/>
              <p:nvPr/>
            </p:nvSpPr>
            <p:spPr>
              <a:xfrm rot="18226800">
                <a:off x="3400560" y="3415680"/>
                <a:ext cx="120960" cy="129240"/>
              </a:xfrm>
              <a:prstGeom prst="ellipse">
                <a:avLst/>
              </a:prstGeom>
              <a:gradFill rotWithShape="0">
                <a:gsLst>
                  <a:gs pos="0">
                    <a:srgbClr val="003bb2"/>
                  </a:gs>
                  <a:gs pos="100000">
                    <a:srgbClr val="001d5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42"/>
            <p:cNvGrpSpPr/>
            <p:nvPr/>
          </p:nvGrpSpPr>
          <p:grpSpPr>
            <a:xfrm>
              <a:off x="4444200" y="2366640"/>
              <a:ext cx="174960" cy="437040"/>
              <a:chOff x="4444200" y="2366640"/>
              <a:chExt cx="174960" cy="437040"/>
            </a:xfrm>
          </p:grpSpPr>
          <p:sp>
            <p:nvSpPr>
              <p:cNvPr id="375" name="Oval 43"/>
              <p:cNvSpPr/>
              <p:nvPr/>
            </p:nvSpPr>
            <p:spPr>
              <a:xfrm rot="18226800">
                <a:off x="4470840" y="2388240"/>
                <a:ext cx="121680" cy="129240"/>
              </a:xfrm>
              <a:prstGeom prst="ellipse">
                <a:avLst/>
              </a:prstGeom>
              <a:gradFill rotWithShape="0">
                <a:gsLst>
                  <a:gs pos="0">
                    <a:srgbClr val="4da6ff"/>
                  </a:gs>
                  <a:gs pos="100000">
                    <a:srgbClr val="234c74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376" name="Oval 44"/>
              <p:cNvSpPr/>
              <p:nvPr/>
            </p:nvSpPr>
            <p:spPr>
              <a:xfrm rot="18226800">
                <a:off x="4470840" y="2652120"/>
                <a:ext cx="121680" cy="129240"/>
              </a:xfrm>
              <a:prstGeom prst="ellipse">
                <a:avLst/>
              </a:prstGeom>
              <a:gradFill rotWithShape="0">
                <a:gsLst>
                  <a:gs pos="0">
                    <a:srgbClr val="4da6ff"/>
                  </a:gs>
                  <a:gs pos="100000">
                    <a:srgbClr val="25517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377" name="Oval 45"/>
            <p:cNvSpPr/>
            <p:nvPr/>
          </p:nvSpPr>
          <p:spPr>
            <a:xfrm rot="18226800">
              <a:off x="5844240" y="3370320"/>
              <a:ext cx="121320" cy="130680"/>
            </a:xfrm>
            <a:prstGeom prst="ellipse">
              <a:avLst/>
            </a:prstGeom>
            <a:gradFill rotWithShape="0">
              <a:gsLst>
                <a:gs pos="0">
                  <a:srgbClr val="3ee0b6"/>
                </a:gs>
                <a:gs pos="100000">
                  <a:srgbClr val="00d69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8" name="Oval 46"/>
            <p:cNvSpPr/>
            <p:nvPr/>
          </p:nvSpPr>
          <p:spPr>
            <a:xfrm rot="18226800">
              <a:off x="5612400" y="3486240"/>
              <a:ext cx="121320" cy="130680"/>
            </a:xfrm>
            <a:prstGeom prst="ellipse">
              <a:avLst/>
            </a:prstGeom>
            <a:gradFill rotWithShape="0">
              <a:gsLst>
                <a:gs pos="0">
                  <a:srgbClr val="3ee0b6"/>
                </a:gs>
                <a:gs pos="100000">
                  <a:srgbClr val="00d69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9" name="Text Box 47"/>
            <p:cNvSpPr/>
            <p:nvPr/>
          </p:nvSpPr>
          <p:spPr>
            <a:xfrm>
              <a:off x="685800" y="3062160"/>
              <a:ext cx="178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维护升级便利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0" name="Text Box 48"/>
            <p:cNvSpPr/>
            <p:nvPr/>
          </p:nvSpPr>
          <p:spPr>
            <a:xfrm>
              <a:off x="3611160" y="1293840"/>
              <a:ext cx="178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软件结构严谨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1" name="Text Box 49"/>
            <p:cNvSpPr/>
            <p:nvPr/>
          </p:nvSpPr>
          <p:spPr>
            <a:xfrm>
              <a:off x="6750720" y="3075480"/>
              <a:ext cx="17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软件使用便利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2" name="Text Box 50"/>
            <p:cNvSpPr/>
            <p:nvPr/>
          </p:nvSpPr>
          <p:spPr>
            <a:xfrm>
              <a:off x="1042200" y="5200920"/>
              <a:ext cx="178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软件计算精确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3" name="Text Box 51"/>
            <p:cNvSpPr/>
            <p:nvPr/>
          </p:nvSpPr>
          <p:spPr>
            <a:xfrm>
              <a:off x="6179760" y="5200920"/>
              <a:ext cx="178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软件功能强大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12384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新宋体"/>
                <a:ea typeface="新宋体"/>
              </a:rPr>
              <a:t>4.3 </a:t>
            </a:r>
            <a:r>
              <a:rPr b="0" lang="zh-CN" sz="3000" spc="-1" strike="noStrike">
                <a:solidFill>
                  <a:srgbClr val="ffffff"/>
                </a:solidFill>
                <a:latin typeface="新宋体"/>
                <a:ea typeface="新宋体"/>
              </a:rPr>
              <a:t>工程量计算及造价软件的未来需求分析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6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7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8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9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0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1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4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5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0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1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2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满足需求  易学易用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3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详略得当  急缓有章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4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源于用户  超越用户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端正理念  重视需求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7" name="Text Box 25"/>
          <p:cNvSpPr/>
          <p:nvPr/>
        </p:nvSpPr>
        <p:spPr>
          <a:xfrm>
            <a:off x="1341000" y="199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黑体"/>
              </a:rPr>
              <a:t>最终目标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8" name="Text Box 26"/>
          <p:cNvSpPr/>
          <p:nvPr/>
        </p:nvSpPr>
        <p:spPr>
          <a:xfrm>
            <a:off x="1300320" y="2999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步骤三：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9" name="Text Box 27"/>
          <p:cNvSpPr/>
          <p:nvPr/>
        </p:nvSpPr>
        <p:spPr>
          <a:xfrm>
            <a:off x="1300320" y="4002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步骤二：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0" name="Text Box 28"/>
          <p:cNvSpPr/>
          <p:nvPr/>
        </p:nvSpPr>
        <p:spPr>
          <a:xfrm>
            <a:off x="1477800" y="49370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步骤一：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651280" y="6093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建筑科学与工程学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WordArt 3" descr=""/>
          <p:cNvPicPr/>
          <p:nvPr/>
        </p:nvPicPr>
        <p:blipFill>
          <a:blip r:embed="rId1"/>
          <a:stretch/>
        </p:blipFill>
        <p:spPr>
          <a:xfrm>
            <a:off x="2030400" y="3486240"/>
            <a:ext cx="7021440" cy="15364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523880" y="9144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放映结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论文背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9280" y="17982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随着计算机的普及运用，工程造价软件在工程中的运用已得到迅猛发展，并对工程造价管理产生了巨大的影响。本论文从现行工程量计算软件的功能分析入手，通过采用“ 神机妙算 ”系列软件中的“ 图形算量 ”软件对具体工程进行个案分析，阐述现行工程量计算软件的利弊及前景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论文主体结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619280" y="2771640"/>
            <a:ext cx="5905080" cy="609480"/>
            <a:chOff x="1619280" y="2771640"/>
            <a:chExt cx="5905080" cy="609480"/>
          </a:xfrm>
        </p:grpSpPr>
        <p:grpSp>
          <p:nvGrpSpPr>
            <p:cNvPr id="102" name="Group 4"/>
            <p:cNvGrpSpPr/>
            <p:nvPr/>
          </p:nvGrpSpPr>
          <p:grpSpPr>
            <a:xfrm>
              <a:off x="1619280" y="2771640"/>
              <a:ext cx="677520" cy="609480"/>
              <a:chOff x="1619280" y="2771640"/>
              <a:chExt cx="677520" cy="609480"/>
            </a:xfrm>
          </p:grpSpPr>
          <p:sp>
            <p:nvSpPr>
              <p:cNvPr id="103" name="Oval 5"/>
              <p:cNvSpPr/>
              <p:nvPr/>
            </p:nvSpPr>
            <p:spPr>
              <a:xfrm>
                <a:off x="1619280" y="2771640"/>
                <a:ext cx="67752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da6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4" name="Oval 6"/>
              <p:cNvSpPr/>
              <p:nvPr/>
            </p:nvSpPr>
            <p:spPr>
              <a:xfrm>
                <a:off x="1619280" y="2771640"/>
                <a:ext cx="677520" cy="609480"/>
              </a:xfrm>
              <a:prstGeom prst="ellipse">
                <a:avLst/>
              </a:prstGeom>
              <a:gradFill rotWithShape="0">
                <a:gsLst>
                  <a:gs pos="0">
                    <a:srgbClr val="4da6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5" name="Oval 7"/>
              <p:cNvSpPr/>
              <p:nvPr/>
            </p:nvSpPr>
            <p:spPr>
              <a:xfrm>
                <a:off x="1663560" y="2811240"/>
                <a:ext cx="588960" cy="530280"/>
              </a:xfrm>
              <a:prstGeom prst="ellipse">
                <a:avLst/>
              </a:prstGeom>
              <a:gradFill rotWithShape="0">
                <a:gsLst>
                  <a:gs pos="0">
                    <a:srgbClr val="2a5a8a"/>
                  </a:gs>
                  <a:gs pos="50000">
                    <a:srgbClr val="4da6ff"/>
                  </a:gs>
                  <a:gs pos="100000">
                    <a:srgbClr val="2a5a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6" name="Oval 8"/>
              <p:cNvSpPr/>
              <p:nvPr/>
            </p:nvSpPr>
            <p:spPr>
              <a:xfrm>
                <a:off x="1707480" y="2850840"/>
                <a:ext cx="589320" cy="530280"/>
              </a:xfrm>
              <a:prstGeom prst="ellipse">
                <a:avLst/>
              </a:prstGeom>
              <a:gradFill rotWithShape="0">
                <a:gsLst>
                  <a:gs pos="0">
                    <a:srgbClr val="3169a2"/>
                  </a:gs>
                  <a:gs pos="100000">
                    <a:srgbClr val="4da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7" name="Oval 9"/>
              <p:cNvSpPr/>
              <p:nvPr/>
            </p:nvSpPr>
            <p:spPr>
              <a:xfrm>
                <a:off x="1695240" y="2838240"/>
                <a:ext cx="52920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8" name="Oval 10"/>
              <p:cNvSpPr/>
              <p:nvPr/>
            </p:nvSpPr>
            <p:spPr>
              <a:xfrm>
                <a:off x="1703880" y="2846160"/>
                <a:ext cx="51336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9" name="Oval 11"/>
              <p:cNvSpPr/>
              <p:nvPr/>
            </p:nvSpPr>
            <p:spPr>
              <a:xfrm>
                <a:off x="1711080" y="2849400"/>
                <a:ext cx="4993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0" name="Oval 12"/>
              <p:cNvSpPr/>
              <p:nvPr/>
            </p:nvSpPr>
            <p:spPr>
              <a:xfrm>
                <a:off x="1716480" y="2852640"/>
                <a:ext cx="47592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1" name="Oval 13"/>
              <p:cNvSpPr/>
              <p:nvPr/>
            </p:nvSpPr>
            <p:spPr>
              <a:xfrm>
                <a:off x="1742760" y="2865240"/>
                <a:ext cx="42300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112" name="Line 14"/>
            <p:cNvSpPr/>
            <p:nvPr/>
          </p:nvSpPr>
          <p:spPr>
            <a:xfrm>
              <a:off x="2185920" y="3333600"/>
              <a:ext cx="53384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2440080" y="2799000"/>
              <a:ext cx="48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工程量计算及造价软件的性能分析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1781640" y="2855520"/>
              <a:ext cx="35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15" name="Group 17"/>
          <p:cNvGrpSpPr/>
          <p:nvPr/>
        </p:nvGrpSpPr>
        <p:grpSpPr>
          <a:xfrm>
            <a:off x="1619280" y="4572000"/>
            <a:ext cx="5905080" cy="609480"/>
            <a:chOff x="1619280" y="4572000"/>
            <a:chExt cx="5905080" cy="609480"/>
          </a:xfrm>
        </p:grpSpPr>
        <p:grpSp>
          <p:nvGrpSpPr>
            <p:cNvPr id="116" name="Group 18"/>
            <p:cNvGrpSpPr/>
            <p:nvPr/>
          </p:nvGrpSpPr>
          <p:grpSpPr>
            <a:xfrm>
              <a:off x="1619280" y="4572000"/>
              <a:ext cx="680040" cy="609480"/>
              <a:chOff x="1619280" y="4572000"/>
              <a:chExt cx="680040" cy="609480"/>
            </a:xfrm>
          </p:grpSpPr>
          <p:sp>
            <p:nvSpPr>
              <p:cNvPr id="117" name="Oval 19"/>
              <p:cNvSpPr/>
              <p:nvPr/>
            </p:nvSpPr>
            <p:spPr>
              <a:xfrm>
                <a:off x="1619280" y="4572000"/>
                <a:ext cx="68004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da6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8" name="Oval 20"/>
              <p:cNvSpPr/>
              <p:nvPr/>
            </p:nvSpPr>
            <p:spPr>
              <a:xfrm>
                <a:off x="1619280" y="4572000"/>
                <a:ext cx="680040" cy="609480"/>
              </a:xfrm>
              <a:prstGeom prst="ellipse">
                <a:avLst/>
              </a:prstGeom>
              <a:gradFill rotWithShape="0">
                <a:gsLst>
                  <a:gs pos="0">
                    <a:srgbClr val="4da6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9" name="Oval 21"/>
              <p:cNvSpPr/>
              <p:nvPr/>
            </p:nvSpPr>
            <p:spPr>
              <a:xfrm>
                <a:off x="1663560" y="4611600"/>
                <a:ext cx="591120" cy="530280"/>
              </a:xfrm>
              <a:prstGeom prst="ellipse">
                <a:avLst/>
              </a:prstGeom>
              <a:gradFill rotWithShape="0">
                <a:gsLst>
                  <a:gs pos="0">
                    <a:srgbClr val="2a5a8a"/>
                  </a:gs>
                  <a:gs pos="50000">
                    <a:srgbClr val="4da6ff"/>
                  </a:gs>
                  <a:gs pos="100000">
                    <a:srgbClr val="2a5a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0" name="Oval 22"/>
              <p:cNvSpPr/>
              <p:nvPr/>
            </p:nvSpPr>
            <p:spPr>
              <a:xfrm>
                <a:off x="1707840" y="4651200"/>
                <a:ext cx="591480" cy="530280"/>
              </a:xfrm>
              <a:prstGeom prst="ellipse">
                <a:avLst/>
              </a:prstGeom>
              <a:gradFill rotWithShape="0">
                <a:gsLst>
                  <a:gs pos="0">
                    <a:srgbClr val="3169a2"/>
                  </a:gs>
                  <a:gs pos="100000">
                    <a:srgbClr val="4da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1" name="Oval 23"/>
              <p:cNvSpPr/>
              <p:nvPr/>
            </p:nvSpPr>
            <p:spPr>
              <a:xfrm>
                <a:off x="1695240" y="4638600"/>
                <a:ext cx="53100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2" name="Oval 24"/>
              <p:cNvSpPr/>
              <p:nvPr/>
            </p:nvSpPr>
            <p:spPr>
              <a:xfrm>
                <a:off x="1704240" y="4646520"/>
                <a:ext cx="51516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3" name="Oval 25"/>
              <p:cNvSpPr/>
              <p:nvPr/>
            </p:nvSpPr>
            <p:spPr>
              <a:xfrm>
                <a:off x="1711440" y="4649760"/>
                <a:ext cx="5011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4" name="Oval 26"/>
              <p:cNvSpPr/>
              <p:nvPr/>
            </p:nvSpPr>
            <p:spPr>
              <a:xfrm>
                <a:off x="1716840" y="4653000"/>
                <a:ext cx="47772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5" name="Oval 27"/>
              <p:cNvSpPr/>
              <p:nvPr/>
            </p:nvSpPr>
            <p:spPr>
              <a:xfrm>
                <a:off x="1743120" y="4665600"/>
                <a:ext cx="42480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126" name="Line 28"/>
            <p:cNvSpPr/>
            <p:nvPr/>
          </p:nvSpPr>
          <p:spPr>
            <a:xfrm>
              <a:off x="2166840" y="5140080"/>
              <a:ext cx="5357520" cy="10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27" name="Text Box 29"/>
            <p:cNvSpPr/>
            <p:nvPr/>
          </p:nvSpPr>
          <p:spPr>
            <a:xfrm>
              <a:off x="2421720" y="4605120"/>
              <a:ext cx="48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工程量计算及造价软件的发展前景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28" name="Text Box 30"/>
            <p:cNvSpPr/>
            <p:nvPr/>
          </p:nvSpPr>
          <p:spPr>
            <a:xfrm>
              <a:off x="1794240" y="464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29" name="Group 76"/>
          <p:cNvGrpSpPr/>
          <p:nvPr/>
        </p:nvGrpSpPr>
        <p:grpSpPr>
          <a:xfrm>
            <a:off x="1619280" y="1884960"/>
            <a:ext cx="5903640" cy="629640"/>
            <a:chOff x="1619280" y="1884960"/>
            <a:chExt cx="5903640" cy="629640"/>
          </a:xfrm>
        </p:grpSpPr>
        <p:sp>
          <p:nvSpPr>
            <p:cNvPr id="130" name="Line 47"/>
            <p:cNvSpPr/>
            <p:nvPr/>
          </p:nvSpPr>
          <p:spPr>
            <a:xfrm>
              <a:off x="2209680" y="2419200"/>
              <a:ext cx="5313240" cy="180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31" name="Text Box 48"/>
            <p:cNvSpPr/>
            <p:nvPr/>
          </p:nvSpPr>
          <p:spPr>
            <a:xfrm>
              <a:off x="2462760" y="1884960"/>
              <a:ext cx="48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工程量计算及造价软件概述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132" name="Group 62"/>
            <p:cNvGrpSpPr/>
            <p:nvPr/>
          </p:nvGrpSpPr>
          <p:grpSpPr>
            <a:xfrm>
              <a:off x="1619280" y="1905120"/>
              <a:ext cx="673920" cy="609480"/>
              <a:chOff x="1619280" y="1905120"/>
              <a:chExt cx="673920" cy="609480"/>
            </a:xfrm>
          </p:grpSpPr>
          <p:grpSp>
            <p:nvGrpSpPr>
              <p:cNvPr id="133" name="Group 61"/>
              <p:cNvGrpSpPr/>
              <p:nvPr/>
            </p:nvGrpSpPr>
            <p:grpSpPr>
              <a:xfrm>
                <a:off x="1619280" y="1905120"/>
                <a:ext cx="673920" cy="609480"/>
                <a:chOff x="1619280" y="1905120"/>
                <a:chExt cx="673920" cy="609480"/>
              </a:xfrm>
            </p:grpSpPr>
            <p:sp>
              <p:nvSpPr>
                <p:cNvPr id="134" name="Text Box 50"/>
                <p:cNvSpPr/>
                <p:nvPr/>
              </p:nvSpPr>
              <p:spPr>
                <a:xfrm>
                  <a:off x="1777320" y="198108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5" name="Oval 51"/>
                <p:cNvSpPr/>
                <p:nvPr/>
              </p:nvSpPr>
              <p:spPr>
                <a:xfrm>
                  <a:off x="1619280" y="1905120"/>
                  <a:ext cx="6739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006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6" name="Oval 52"/>
                <p:cNvSpPr/>
                <p:nvPr/>
              </p:nvSpPr>
              <p:spPr>
                <a:xfrm>
                  <a:off x="1619280" y="1905120"/>
                  <a:ext cx="6739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7" name="Oval 53"/>
                <p:cNvSpPr/>
                <p:nvPr/>
              </p:nvSpPr>
              <p:spPr>
                <a:xfrm>
                  <a:off x="1650600" y="1914480"/>
                  <a:ext cx="58644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456"/>
                    </a:gs>
                    <a:gs pos="50000">
                      <a:srgbClr val="00d69e"/>
                    </a:gs>
                    <a:gs pos="100000">
                      <a:srgbClr val="00745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8" name="Oval 54"/>
                <p:cNvSpPr/>
                <p:nvPr/>
              </p:nvSpPr>
              <p:spPr>
                <a:xfrm>
                  <a:off x="1661400" y="1943280"/>
                  <a:ext cx="58428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64"/>
                    </a:gs>
                    <a:gs pos="100000">
                      <a:srgbClr val="00d69e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9" name="Oval 55"/>
                <p:cNvSpPr/>
                <p:nvPr/>
              </p:nvSpPr>
              <p:spPr>
                <a:xfrm>
                  <a:off x="1682280" y="1962000"/>
                  <a:ext cx="5266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0" name="Oval 56"/>
                <p:cNvSpPr/>
                <p:nvPr/>
              </p:nvSpPr>
              <p:spPr>
                <a:xfrm>
                  <a:off x="1703520" y="1979640"/>
                  <a:ext cx="51084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1" name="Oval 57"/>
                <p:cNvSpPr/>
                <p:nvPr/>
              </p:nvSpPr>
              <p:spPr>
                <a:xfrm>
                  <a:off x="1710360" y="1982880"/>
                  <a:ext cx="49680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2" name="Oval 58"/>
                <p:cNvSpPr/>
                <p:nvPr/>
              </p:nvSpPr>
              <p:spPr>
                <a:xfrm>
                  <a:off x="1715760" y="1986120"/>
                  <a:ext cx="47376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3" name="Oval 59"/>
                <p:cNvSpPr/>
                <p:nvPr/>
              </p:nvSpPr>
              <p:spPr>
                <a:xfrm>
                  <a:off x="1742040" y="1998720"/>
                  <a:ext cx="42120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60"/>
              <p:cNvSpPr/>
              <p:nvPr/>
            </p:nvSpPr>
            <p:spPr>
              <a:xfrm>
                <a:off x="1777680" y="1981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Group 77"/>
          <p:cNvGrpSpPr/>
          <p:nvPr/>
        </p:nvGrpSpPr>
        <p:grpSpPr>
          <a:xfrm>
            <a:off x="1619280" y="3691440"/>
            <a:ext cx="5903640" cy="632880"/>
            <a:chOff x="1619280" y="3691440"/>
            <a:chExt cx="5903640" cy="632880"/>
          </a:xfrm>
        </p:grpSpPr>
        <p:sp>
          <p:nvSpPr>
            <p:cNvPr id="146" name="Line 32"/>
            <p:cNvSpPr/>
            <p:nvPr/>
          </p:nvSpPr>
          <p:spPr>
            <a:xfrm>
              <a:off x="2209680" y="4226040"/>
              <a:ext cx="5313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47" name="Text Box 33"/>
            <p:cNvSpPr/>
            <p:nvPr/>
          </p:nvSpPr>
          <p:spPr>
            <a:xfrm>
              <a:off x="2462760" y="3691440"/>
              <a:ext cx="48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案具体分析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148" name="Group 63"/>
            <p:cNvGrpSpPr/>
            <p:nvPr/>
          </p:nvGrpSpPr>
          <p:grpSpPr>
            <a:xfrm>
              <a:off x="1619280" y="3714840"/>
              <a:ext cx="673920" cy="609480"/>
              <a:chOff x="1619280" y="3714840"/>
              <a:chExt cx="673920" cy="609480"/>
            </a:xfrm>
          </p:grpSpPr>
          <p:grpSp>
            <p:nvGrpSpPr>
              <p:cNvPr id="149" name="Group 64"/>
              <p:cNvGrpSpPr/>
              <p:nvPr/>
            </p:nvGrpSpPr>
            <p:grpSpPr>
              <a:xfrm>
                <a:off x="1619280" y="3714840"/>
                <a:ext cx="673920" cy="609480"/>
                <a:chOff x="1619280" y="3714840"/>
                <a:chExt cx="673920" cy="609480"/>
              </a:xfrm>
            </p:grpSpPr>
            <p:sp>
              <p:nvSpPr>
                <p:cNvPr id="150" name="Text Box 65"/>
                <p:cNvSpPr/>
                <p:nvPr/>
              </p:nvSpPr>
              <p:spPr>
                <a:xfrm>
                  <a:off x="1776600" y="37908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1" name="Oval 66"/>
                <p:cNvSpPr/>
                <p:nvPr/>
              </p:nvSpPr>
              <p:spPr>
                <a:xfrm>
                  <a:off x="1619280" y="3714840"/>
                  <a:ext cx="6739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006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2" name="Oval 67"/>
                <p:cNvSpPr/>
                <p:nvPr/>
              </p:nvSpPr>
              <p:spPr>
                <a:xfrm>
                  <a:off x="1619280" y="3714840"/>
                  <a:ext cx="6739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3" name="Oval 68"/>
                <p:cNvSpPr/>
                <p:nvPr/>
              </p:nvSpPr>
              <p:spPr>
                <a:xfrm>
                  <a:off x="1650600" y="3724200"/>
                  <a:ext cx="58644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456"/>
                    </a:gs>
                    <a:gs pos="50000">
                      <a:srgbClr val="00d69e"/>
                    </a:gs>
                    <a:gs pos="100000">
                      <a:srgbClr val="00745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4" name="Oval 69"/>
                <p:cNvSpPr/>
                <p:nvPr/>
              </p:nvSpPr>
              <p:spPr>
                <a:xfrm>
                  <a:off x="1661400" y="3753000"/>
                  <a:ext cx="58428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64"/>
                    </a:gs>
                    <a:gs pos="100000">
                      <a:srgbClr val="00d69e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5" name="Oval 70"/>
                <p:cNvSpPr/>
                <p:nvPr/>
              </p:nvSpPr>
              <p:spPr>
                <a:xfrm>
                  <a:off x="1682280" y="3771720"/>
                  <a:ext cx="5266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6" name="Oval 71"/>
                <p:cNvSpPr/>
                <p:nvPr/>
              </p:nvSpPr>
              <p:spPr>
                <a:xfrm>
                  <a:off x="1703520" y="3789360"/>
                  <a:ext cx="51084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7" name="Oval 72"/>
                <p:cNvSpPr/>
                <p:nvPr/>
              </p:nvSpPr>
              <p:spPr>
                <a:xfrm>
                  <a:off x="1710360" y="3792600"/>
                  <a:ext cx="49680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8" name="Oval 73"/>
                <p:cNvSpPr/>
                <p:nvPr/>
              </p:nvSpPr>
              <p:spPr>
                <a:xfrm>
                  <a:off x="1715760" y="3795840"/>
                  <a:ext cx="47376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9" name="Oval 74"/>
                <p:cNvSpPr/>
                <p:nvPr/>
              </p:nvSpPr>
              <p:spPr>
                <a:xfrm>
                  <a:off x="1742040" y="3808440"/>
                  <a:ext cx="42120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5"/>
              <p:cNvSpPr/>
              <p:nvPr/>
            </p:nvSpPr>
            <p:spPr>
              <a:xfrm>
                <a:off x="1776960" y="37908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5"/>
          <p:cNvSpPr/>
          <p:nvPr/>
        </p:nvSpPr>
        <p:spPr>
          <a:xfrm>
            <a:off x="65160" y="6607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d69e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新宋体"/>
                <a:ea typeface="新宋体"/>
              </a:rPr>
              <a:t>1.1  </a:t>
            </a:r>
            <a:r>
              <a:rPr b="0" lang="zh-CN" sz="4000" spc="-1" strike="noStrike">
                <a:solidFill>
                  <a:srgbClr val="ffffff"/>
                </a:solidFill>
                <a:latin typeface="新宋体"/>
                <a:ea typeface="新宋体"/>
              </a:rPr>
              <a:t>工程量计算方法的发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1143000" y="193032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3bb2"/>
              </a:gs>
              <a:gs pos="100000">
                <a:srgbClr val="00d69e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397480" y="2878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新宋体"/>
              </a:rPr>
              <a:t>具体发展历程</a:t>
            </a:r>
            <a:endParaRPr b="0" lang="en-US" sz="32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5" name="Oval 5"/>
          <p:cNvSpPr/>
          <p:nvPr/>
        </p:nvSpPr>
        <p:spPr>
          <a:xfrm rot="20876400">
            <a:off x="338292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 rot="20826600">
            <a:off x="155412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7" name="Oval 18"/>
          <p:cNvSpPr/>
          <p:nvPr/>
        </p:nvSpPr>
        <p:spPr>
          <a:xfrm>
            <a:off x="121932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8" name="Oval 19"/>
          <p:cNvSpPr/>
          <p:nvPr/>
        </p:nvSpPr>
        <p:spPr>
          <a:xfrm>
            <a:off x="1295280" y="198108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9" name="Oval 20"/>
          <p:cNvSpPr/>
          <p:nvPr/>
        </p:nvSpPr>
        <p:spPr>
          <a:xfrm>
            <a:off x="130824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0" name="Oval 21"/>
          <p:cNvSpPr/>
          <p:nvPr/>
        </p:nvSpPr>
        <p:spPr>
          <a:xfrm>
            <a:off x="131904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1" name="Oval 22"/>
          <p:cNvSpPr/>
          <p:nvPr/>
        </p:nvSpPr>
        <p:spPr>
          <a:xfrm>
            <a:off x="1373040" y="2022480"/>
            <a:ext cx="900360" cy="90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1472400" y="2205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手工表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格算量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3" name="Oval 24"/>
          <p:cNvSpPr/>
          <p:nvPr/>
        </p:nvSpPr>
        <p:spPr>
          <a:xfrm>
            <a:off x="251460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4" name="Oval 25"/>
          <p:cNvSpPr/>
          <p:nvPr/>
        </p:nvSpPr>
        <p:spPr>
          <a:xfrm>
            <a:off x="263700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5" name="Oval 26"/>
          <p:cNvSpPr/>
          <p:nvPr/>
        </p:nvSpPr>
        <p:spPr>
          <a:xfrm>
            <a:off x="264636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6" name="Oval 27"/>
          <p:cNvSpPr/>
          <p:nvPr/>
        </p:nvSpPr>
        <p:spPr>
          <a:xfrm>
            <a:off x="265284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7" name="Oval 28"/>
          <p:cNvSpPr/>
          <p:nvPr/>
        </p:nvSpPr>
        <p:spPr>
          <a:xfrm>
            <a:off x="268920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8" name="Text Box 29"/>
          <p:cNvSpPr/>
          <p:nvPr/>
        </p:nvSpPr>
        <p:spPr>
          <a:xfrm>
            <a:off x="2627280" y="1628640"/>
            <a:ext cx="7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手工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算量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9" name="Oval 31"/>
          <p:cNvSpPr/>
          <p:nvPr/>
        </p:nvSpPr>
        <p:spPr>
          <a:xfrm>
            <a:off x="1692360" y="3500280"/>
            <a:ext cx="1258920" cy="125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0" name="Oval 32"/>
          <p:cNvSpPr/>
          <p:nvPr/>
        </p:nvSpPr>
        <p:spPr>
          <a:xfrm>
            <a:off x="3492360" y="386064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1" name="Text Box 35"/>
          <p:cNvSpPr/>
          <p:nvPr/>
        </p:nvSpPr>
        <p:spPr>
          <a:xfrm>
            <a:off x="1763640" y="378936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电脑表格算量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2" name="Text Box 36"/>
          <p:cNvSpPr/>
          <p:nvPr/>
        </p:nvSpPr>
        <p:spPr>
          <a:xfrm>
            <a:off x="3708360" y="429264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电脑图形算量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新宋体"/>
                <a:ea typeface="新宋体"/>
              </a:rPr>
              <a:t>1.2  </a:t>
            </a:r>
            <a:r>
              <a:rPr b="0" lang="zh-CN" sz="4000" spc="-1" strike="noStrike">
                <a:solidFill>
                  <a:srgbClr val="ffffff"/>
                </a:solidFill>
                <a:latin typeface="新宋体"/>
                <a:ea typeface="新宋体"/>
              </a:rPr>
              <a:t>建筑业应用软件的构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838080" y="1447920"/>
            <a:ext cx="5410440" cy="4495680"/>
          </a:xfrm>
          <a:prstGeom prst="rightArrow">
            <a:avLst>
              <a:gd name="adj1" fmla="val 79306"/>
              <a:gd name="adj2" fmla="val 29808"/>
            </a:avLst>
          </a:prstGeom>
          <a:gradFill rotWithShape="0">
            <a:gsLst>
              <a:gs pos="0">
                <a:srgbClr val="062765"/>
              </a:gs>
              <a:gs pos="100000">
                <a:srgbClr val="6c8e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91440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预算</a:t>
            </a:r>
            <a:r>
              <a:rPr b="0" lang="en-US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造价</a:t>
            </a:r>
            <a:r>
              <a:rPr b="0" lang="en-US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)</a:t>
            </a:r>
            <a:r>
              <a:rPr b="0" lang="zh-CN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系列软件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91440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d69e"/>
              </a:gs>
              <a:gs pos="100000">
                <a:srgbClr val="006349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新宋体"/>
              </a:rPr>
              <a:t>施工管理系列软件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91440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da6ff"/>
              </a:gs>
              <a:gs pos="100000">
                <a:srgbClr val="244d76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新宋体"/>
              </a:rPr>
              <a:t>施工技术系列软件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609588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建筑业应用软件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12384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1.4  </a:t>
            </a:r>
            <a:r>
              <a:rPr b="0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现有工程量计算及造价软件的种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997200" y="1226520"/>
            <a:ext cx="6667920" cy="4675680"/>
            <a:chOff x="997200" y="1226520"/>
            <a:chExt cx="6667920" cy="4675680"/>
          </a:xfrm>
        </p:grpSpPr>
        <p:sp>
          <p:nvSpPr>
            <p:cNvPr id="191" name="Oval 4"/>
            <p:cNvSpPr/>
            <p:nvPr/>
          </p:nvSpPr>
          <p:spPr>
            <a:xfrm>
              <a:off x="2033640" y="42372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211e54"/>
                </a:gs>
                <a:gs pos="100000">
                  <a:srgbClr val="0000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 rot="20601600">
              <a:off x="1308240" y="21236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 rot="20601600">
              <a:off x="1364760" y="19616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4" name="Arc 7"/>
            <p:cNvSpPr/>
            <p:nvPr/>
          </p:nvSpPr>
          <p:spPr>
            <a:xfrm rot="20601600">
              <a:off x="4013280" y="2039400"/>
              <a:ext cx="2851200" cy="153864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5" name="Arc 8"/>
            <p:cNvSpPr/>
            <p:nvPr/>
          </p:nvSpPr>
          <p:spPr>
            <a:xfrm flipH="1" rot="20602200">
              <a:off x="1418040" y="3352320"/>
              <a:ext cx="2876760" cy="163044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6" name="Arc 9"/>
            <p:cNvSpPr/>
            <p:nvPr/>
          </p:nvSpPr>
          <p:spPr>
            <a:xfrm rot="20601600">
              <a:off x="3257640" y="176796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7" name="Arc 10"/>
            <p:cNvSpPr/>
            <p:nvPr/>
          </p:nvSpPr>
          <p:spPr>
            <a:xfrm flipH="1" rot="20602200">
              <a:off x="1218960" y="242064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 rot="20601600">
              <a:off x="2825640" y="2676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9" name="Text Box 12"/>
            <p:cNvSpPr/>
            <p:nvPr/>
          </p:nvSpPr>
          <p:spPr>
            <a:xfrm>
              <a:off x="2161080" y="2889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理正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0" name="Text Box 13"/>
            <p:cNvSpPr/>
            <p:nvPr/>
          </p:nvSpPr>
          <p:spPr>
            <a:xfrm>
              <a:off x="4065840" y="19749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鲁班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1" name="Text Box 14"/>
            <p:cNvSpPr/>
            <p:nvPr/>
          </p:nvSpPr>
          <p:spPr>
            <a:xfrm>
              <a:off x="5742360" y="2432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智慧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2" name="Freeform 15"/>
            <p:cNvSpPr/>
            <p:nvPr/>
          </p:nvSpPr>
          <p:spPr>
            <a:xfrm>
              <a:off x="6148440" y="297504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3" name="Arc 16"/>
            <p:cNvSpPr/>
            <p:nvPr/>
          </p:nvSpPr>
          <p:spPr>
            <a:xfrm rot="20539200">
              <a:off x="4546440" y="2980800"/>
              <a:ext cx="2984760" cy="134640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4" name="Freeform 17"/>
            <p:cNvSpPr/>
            <p:nvPr/>
          </p:nvSpPr>
          <p:spPr>
            <a:xfrm>
              <a:off x="4448160" y="345600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5" name="Text Box 18"/>
            <p:cNvSpPr/>
            <p:nvPr/>
          </p:nvSpPr>
          <p:spPr>
            <a:xfrm>
              <a:off x="5605200" y="3422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神机妙算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3921120" y="4184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广联达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7" name="Text Box 20"/>
            <p:cNvSpPr/>
            <p:nvPr/>
          </p:nvSpPr>
          <p:spPr>
            <a:xfrm>
              <a:off x="2084760" y="4032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其他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8" name="Oval 21"/>
            <p:cNvSpPr/>
            <p:nvPr/>
          </p:nvSpPr>
          <p:spPr>
            <a:xfrm rot="20601600">
              <a:off x="2927520" y="29289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00003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9" name="Freeform 22"/>
            <p:cNvSpPr/>
            <p:nvPr/>
          </p:nvSpPr>
          <p:spPr>
            <a:xfrm>
              <a:off x="4624560" y="385128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图形法软件的操作流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eed6"/>
              </a:gs>
              <a:gs pos="100000">
                <a:srgbClr val="00d69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3" name="Oval 5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d69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4" name="Oval 6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d69e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7456"/>
              </a:gs>
              <a:gs pos="50000">
                <a:srgbClr val="00d69e"/>
              </a:gs>
              <a:gs pos="100000">
                <a:srgbClr val="00745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6" name="Oval 8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8864"/>
              </a:gs>
              <a:gs pos="100000">
                <a:srgbClr val="00d69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7" name="Oval 9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46ae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9" name="Oval 11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46ae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0" name="Oval 12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3397e"/>
              </a:gs>
              <a:gs pos="50000">
                <a:srgbClr val="d46ae8"/>
              </a:gs>
              <a:gs pos="100000">
                <a:srgbClr val="7339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1" name="Oval 13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74393"/>
              </a:gs>
              <a:gs pos="100000">
                <a:srgbClr val="d46ae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2" name="Oval 14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223" name="Group 15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24" name="Oval 16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25" name="Oval 17"/>
            <p:cNvSpPr/>
            <p:nvPr/>
          </p:nvSpPr>
          <p:spPr>
            <a:xfrm>
              <a:off x="103824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26" name="Oval 18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27" name="Oval 19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228" name="Oval 20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3bb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9" name="Oval 21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3bb2">
                  <a:alpha val="32156"/>
                </a:srgbClr>
              </a:gs>
              <a:gs pos="100000">
                <a:srgbClr val="001b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30" name="Oval 22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2060"/>
              </a:gs>
              <a:gs pos="50000">
                <a:srgbClr val="003bb2"/>
              </a:gs>
              <a:gs pos="100000">
                <a:srgbClr val="00206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31" name="Oval 23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2571"/>
              </a:gs>
              <a:gs pos="100000">
                <a:srgbClr val="003bb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32" name="Oval 24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233" name="Group 25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34" name="Oval 26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5" name="Oval 27"/>
            <p:cNvSpPr/>
            <p:nvPr/>
          </p:nvSpPr>
          <p:spPr>
            <a:xfrm>
              <a:off x="377496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6" name="Oval 28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7" name="Oval 29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238" name="Group 30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39" name="Oval 31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40" name="Oval 32"/>
            <p:cNvSpPr/>
            <p:nvPr/>
          </p:nvSpPr>
          <p:spPr>
            <a:xfrm>
              <a:off x="652140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41" name="Oval 33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42" name="Oval 34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243" name="AutoShape 35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定义工程参数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4" name="AutoShape 36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选择楼层 定义主轴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5" name="AutoShape 37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输入主体构件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6" name="Text Box 38"/>
          <p:cNvSpPr/>
          <p:nvPr/>
        </p:nvSpPr>
        <p:spPr>
          <a:xfrm>
            <a:off x="1319040" y="306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熟悉施工图纸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标识构件信息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7" name="Text Box 39"/>
          <p:cNvSpPr/>
          <p:nvPr/>
        </p:nvSpPr>
        <p:spPr>
          <a:xfrm>
            <a:off x="4055760" y="306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按照画图方式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输入构件信息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8" name="Text Box 40"/>
          <p:cNvSpPr/>
          <p:nvPr/>
        </p:nvSpPr>
        <p:spPr>
          <a:xfrm>
            <a:off x="6792480" y="306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软件自动计算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汇总打印输出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9" name="AutoShape 41"/>
          <p:cNvSpPr/>
          <p:nvPr/>
        </p:nvSpPr>
        <p:spPr>
          <a:xfrm rot="5400000">
            <a:off x="4372920" y="4348080"/>
            <a:ext cx="395280" cy="430200"/>
          </a:xfrm>
          <a:custGeom>
            <a:avLst/>
            <a:gdLst>
              <a:gd name="textAreaLeft" fmla="*/ 0 w 395280"/>
              <a:gd name="textAreaRight" fmla="*/ 395640 w 39528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0" name="AutoShape 42"/>
          <p:cNvSpPr/>
          <p:nvPr/>
        </p:nvSpPr>
        <p:spPr>
          <a:xfrm>
            <a:off x="826920" y="5661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计算当前层工程量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1" name="AutoShape 43"/>
          <p:cNvSpPr/>
          <p:nvPr/>
        </p:nvSpPr>
        <p:spPr>
          <a:xfrm>
            <a:off x="3564000" y="5661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层复制计算其他层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2" name="AutoShape 44"/>
          <p:cNvSpPr/>
          <p:nvPr/>
        </p:nvSpPr>
        <p:spPr>
          <a:xfrm>
            <a:off x="6300720" y="5661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定义构件计算规则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3" name="AutoShape 45"/>
          <p:cNvSpPr/>
          <p:nvPr/>
        </p:nvSpPr>
        <p:spPr>
          <a:xfrm>
            <a:off x="2916360" y="4797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4" name="AutoShape 46"/>
          <p:cNvSpPr/>
          <p:nvPr/>
        </p:nvSpPr>
        <p:spPr>
          <a:xfrm>
            <a:off x="5651640" y="4797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5" name="AutoShape 47"/>
          <p:cNvSpPr/>
          <p:nvPr/>
        </p:nvSpPr>
        <p:spPr>
          <a:xfrm>
            <a:off x="2916360" y="558972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6" name="AutoShape 48"/>
          <p:cNvSpPr/>
          <p:nvPr/>
        </p:nvSpPr>
        <p:spPr>
          <a:xfrm>
            <a:off x="5651640" y="558972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表格法软件的特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6488d0">
                  <a:alpha val="12156"/>
                </a:srgbClr>
              </a:gs>
              <a:gs pos="50000">
                <a:srgbClr val="003bb2"/>
              </a:gs>
              <a:gs pos="100000">
                <a:srgbClr val="6488d0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9acdff"/>
              </a:gs>
              <a:gs pos="100000">
                <a:srgbClr val="4da6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bb2"/>
              </a:gs>
              <a:gs pos="100000">
                <a:srgbClr val="f0f3fa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正确性、准确性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中间结果的应用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bb2"/>
              </a:gs>
              <a:gs pos="100000">
                <a:srgbClr val="f0f3fa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清晰明了、结构严谨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较强的专业性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4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bb2"/>
              </a:gs>
              <a:gs pos="100000">
                <a:srgbClr val="f0f3fa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重复计算较多、数据很难复用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2421720" y="3284640"/>
            <a:ext cx="127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表格法软</a:t>
            </a:r>
            <a:endParaRPr b="0" lang="en-US" sz="36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件的特点</a:t>
            </a:r>
            <a:endParaRPr b="0" lang="en-US" sz="3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2.3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图形法与表格法的对比分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3564000" y="4581360"/>
            <a:ext cx="1871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3564000" y="4005360"/>
            <a:ext cx="1871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564000" y="3429000"/>
            <a:ext cx="1871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955320" y="36306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对使用者的要求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3955320" y="47829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时间消耗的比较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859920" y="4221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与手工习惯的比较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2916360" y="2708280"/>
            <a:ext cx="539640" cy="215892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4da6ff"/>
              </a:gs>
              <a:gs pos="100000">
                <a:srgbClr val="9eceff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4" name="AutoShape 10"/>
          <p:cNvSpPr/>
          <p:nvPr/>
        </p:nvSpPr>
        <p:spPr>
          <a:xfrm>
            <a:off x="179280" y="2349360"/>
            <a:ext cx="2698920" cy="3238560"/>
          </a:xfrm>
          <a:custGeom>
            <a:avLst/>
            <a:gdLst>
              <a:gd name="textAreaLeft" fmla="*/ 131760 w 2698920"/>
              <a:gd name="textAreaRight" fmla="*/ 2567160 w 2698920"/>
              <a:gd name="textAreaTop" fmla="*/ 131760 h 3238560"/>
              <a:gd name="textAreaBottom" fmla="*/ 3106800 h 3238560"/>
            </a:gdLst>
            <a:ahLst/>
            <a:rect l="textAreaLeft" t="textAreaTop" r="textAreaRight" b="textAreaBottom"/>
            <a:pathLst>
              <a:path w="21600" h="25918">
                <a:moveTo>
                  <a:pt x="3600" y="0"/>
                </a:moveTo>
                <a:arcTo wR="3600" hR="3600" stAng="16200000" swAng="-5400000"/>
                <a:lnTo>
                  <a:pt x="0" y="22318"/>
                </a:lnTo>
                <a:arcTo wR="3600" hR="3600" stAng="10800000" swAng="-5400000"/>
                <a:lnTo>
                  <a:pt x="18000" y="259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5" name="AutoShape 12"/>
          <p:cNvSpPr/>
          <p:nvPr/>
        </p:nvSpPr>
        <p:spPr>
          <a:xfrm>
            <a:off x="6172200" y="2338560"/>
            <a:ext cx="2792520" cy="3238200"/>
          </a:xfrm>
          <a:custGeom>
            <a:avLst/>
            <a:gdLst>
              <a:gd name="textAreaLeft" fmla="*/ 136080 w 2792520"/>
              <a:gd name="textAreaRight" fmla="*/ 2656440 w 2792520"/>
              <a:gd name="textAreaTop" fmla="*/ 136080 h 3238200"/>
              <a:gd name="textAreaBottom" fmla="*/ 3102120 h 3238200"/>
            </a:gdLst>
            <a:ahLst/>
            <a:rect l="textAreaLeft" t="textAreaTop" r="textAreaRight" b="textAreaBottom"/>
            <a:pathLst>
              <a:path w="21600" h="25047">
                <a:moveTo>
                  <a:pt x="3600" y="0"/>
                </a:moveTo>
                <a:arcTo wR="3600" hR="3600" stAng="16200000" swAng="-5400000"/>
                <a:lnTo>
                  <a:pt x="0" y="21447"/>
                </a:lnTo>
                <a:arcTo wR="3600" hR="3600" stAng="10800000" swAng="-5400000"/>
                <a:lnTo>
                  <a:pt x="18000" y="250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6" name="AutoShape 14"/>
          <p:cNvSpPr/>
          <p:nvPr/>
        </p:nvSpPr>
        <p:spPr>
          <a:xfrm>
            <a:off x="5508720" y="2708280"/>
            <a:ext cx="539640" cy="215892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9eceff">
                  <a:alpha val="12156"/>
                </a:srgbClr>
              </a:gs>
              <a:gs pos="100000">
                <a:srgbClr val="4da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7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62316b"/>
              </a:gs>
              <a:gs pos="50000">
                <a:srgbClr val="d46ae8"/>
              </a:gs>
              <a:gs pos="100000">
                <a:srgbClr val="62316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8" name="AutoShape 16"/>
          <p:cNvSpPr/>
          <p:nvPr/>
        </p:nvSpPr>
        <p:spPr>
          <a:xfrm rot="10800000">
            <a:off x="3634920" y="227628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4da6ff"/>
              </a:gs>
              <a:gs pos="100000">
                <a:srgbClr val="9eceff">
                  <a:alpha val="1215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3711600" y="1793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两者的对比分析内容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0" name="AutoShape 21"/>
          <p:cNvSpPr/>
          <p:nvPr/>
        </p:nvSpPr>
        <p:spPr>
          <a:xfrm>
            <a:off x="3564000" y="2852640"/>
            <a:ext cx="1871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3957120" y="2997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数据的输入速度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2" name="Text Box 24"/>
          <p:cNvSpPr/>
          <p:nvPr/>
        </p:nvSpPr>
        <p:spPr>
          <a:xfrm>
            <a:off x="358920" y="24458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本身就是根据提高输入速度的思路制定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3" name="Text Box 25"/>
          <p:cNvSpPr/>
          <p:nvPr/>
        </p:nvSpPr>
        <p:spPr>
          <a:xfrm>
            <a:off x="6297480" y="24458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通过采用层拷贝的方式加快整体输入速度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4" name="Text Box 26"/>
          <p:cNvSpPr/>
          <p:nvPr/>
        </p:nvSpPr>
        <p:spPr>
          <a:xfrm>
            <a:off x="358920" y="3237840"/>
            <a:ext cx="24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对软件用户的预算专业素质有较高要求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6297480" y="4030200"/>
            <a:ext cx="25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根据计算机方式解决问题，是人适应软件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6297480" y="3237840"/>
            <a:ext cx="25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要求熟练掌握类似于</a:t>
            </a: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CAD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方式的图形软件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358920" y="4030200"/>
            <a:ext cx="24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根据手工习惯解决问题，是软件适应人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358920" y="4820760"/>
            <a:ext cx="24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工程量计算各阶段时间消耗量均较大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6297480" y="4820760"/>
            <a:ext cx="25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除了计算汇总生成报表，其他阶段耗时较多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4:03:04Z</dcterms:created>
  <dc:creator>幻灯片 http://www.eeppt.com</dc:creator>
  <dc:description/>
  <cp:keywords>幻灯片 http:/www.eeppt.com</cp:keywords>
  <dc:language>en-US</dc:language>
  <cp:lastModifiedBy/>
  <dcterms:modified xsi:type="dcterms:W3CDTF">2015-07-24T07:50:11Z</dcterms:modified>
  <cp:revision>0</cp:revision>
  <dc:subject/>
  <dc:title/>
</cp:coreProperties>
</file>