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hdphoto1.wdp" ContentType="image/vnd.ms-photo"/>
  <Override PartName="/ppt/media/image2.png" ContentType="image/png"/>
  <Override PartName="/ppt/media/image4.png" ContentType="image/png"/>
  <Override PartName="/ppt/media/hdphoto2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F87-B648-42D5-91FF-42CC27BE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69D-0822-4088-A1D0-557D1565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EA8-A32C-4876-B33E-45F9B8A0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5D9-85D4-4E5E-840A-0BCE3C44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FF11-A862-4DFD-83D5-1F91454B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2071-D6DD-44BD-8E1F-FEA141D8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2EA0-AB30-4B9F-ADD2-61671E2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4FDA-CBE0-4840-99EA-75EA46F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9CC6-22F8-4323-B387-E84D4B7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B921-358B-467E-B873-CD869998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813-4CBF-43AA-834C-6B1C15D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FF0-3169-4141-B782-9A2701F3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E8AB-CCD5-4975-BC82-A0B3A64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855-E6A7-4DAA-BFE9-E6D97926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FB30-38EF-45D8-81DA-2B3E7AA6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63FE-043E-4E8D-A76C-4EA018FE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2745-8EF5-472F-924A-D68B46FC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8CD-DD63-427B-BD4F-6B60188B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D6E-B957-41EB-9CF8-8665311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3B9-3C39-4251-9382-4367643A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00D-E2BA-4449-BD41-80913CB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CA7-53BC-4053-8671-87005DE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E12-66EE-49F8-9E51-7D9F0FF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555-A062-4507-BD4B-7AB9408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microsoft.com/office/2007/relationships/hdphoto" Target="../media/hdphoto2.wdp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 hidden="1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404040">
                  <a:alpha val="50196"/>
                </a:srgbClr>
              </a:gs>
            </a:gsLst>
            <a:path path="circle">
              <a:fillToRect l="50000" t="0" r="50000" b="10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11" descr=""/>
          <p:cNvPicPr/>
          <p:nvPr/>
        </p:nvPicPr>
        <p:blipFill>
          <a:blip r:embed="rId4"/>
          <a:srcRect l="22333" t="0" r="21878" b="8"/>
          <a:stretch/>
        </p:blipFill>
        <p:spPr>
          <a:xfrm>
            <a:off x="7557480" y="2392560"/>
            <a:ext cx="1586160" cy="4465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5"/>
          <a:stretch/>
        </p:blipFill>
        <p:spPr>
          <a:xfrm>
            <a:off x="0" y="0"/>
            <a:ext cx="9143640" cy="68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solidFill>
            <a:schemeClr val="bg1">
              <a:lumMod val="50000"/>
              <a:alpha val="6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2303280"/>
            <a:ext cx="9143640" cy="1576080"/>
          </a:xfrm>
          <a:prstGeom prst="rect">
            <a:avLst/>
          </a:prstGeom>
          <a:gradFill rotWithShape="0">
            <a:gsLst>
              <a:gs pos="0">
                <a:srgbClr val="f2f2f2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307240"/>
            <a:ext cx="9143640" cy="91800"/>
          </a:xfrm>
          <a:prstGeom prst="rect">
            <a:avLst/>
          </a:prstGeom>
          <a:gradFill rotWithShape="0">
            <a:gsLst>
              <a:gs pos="32000">
                <a:srgbClr val="808080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10"/>
          <p:cNvSpPr/>
          <p:nvPr/>
        </p:nvSpPr>
        <p:spPr>
          <a:xfrm flipV="1">
            <a:off x="0" y="3788280"/>
            <a:ext cx="9143640" cy="91800"/>
          </a:xfrm>
          <a:prstGeom prst="rect">
            <a:avLst/>
          </a:prstGeom>
          <a:gradFill rotWithShape="0">
            <a:gsLst>
              <a:gs pos="32000">
                <a:srgbClr val="80808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0315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400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9A700C-533F-4B8D-8987-F7220E8072E2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22327" t="0" r="21881" b="9334"/>
          <a:stretch/>
        </p:blipFill>
        <p:spPr>
          <a:xfrm>
            <a:off x="6440040" y="640080"/>
            <a:ext cx="2703600" cy="621756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华文楷体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404040">
                  <a:alpha val="50196"/>
                </a:srgbClr>
              </a:gs>
            </a:gsLst>
            <a:path path="circle">
              <a:fillToRect l="50000" t="0" r="50000" b="10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/>
          <a:srcRect l="22333" t="0" r="21878" b="8"/>
          <a:stretch/>
        </p:blipFill>
        <p:spPr>
          <a:xfrm>
            <a:off x="7557480" y="2392560"/>
            <a:ext cx="1586160" cy="4465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华文楷体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0315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00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7D70A9-A61E-41E9-B774-6761C7F2EB2C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8235360" cy="13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历史专业毕业答辩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04640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400" spc="-1" strike="noStrike"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此处添加文本</a:t>
            </a: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71</TotalTime>
  <Application>LibreOffice/7.4.7.2$Linux_X86_64 LibreOffice_project/40$Build-2</Application>
  <AppVersion>15.0000</AppVersion>
  <Words>18</Words>
  <Paragraphs>4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7-30T12:54:55Z</dcterms:created>
  <dc:creator>果因PPT工作室;lenovo</dc:creator>
  <dc:description/>
  <cp:keywords>XS-普屏 4：3 SC-淡灰色 BG-浅色 DH-静态</cp:keywords>
  <dc:language>en-US</dc:language>
  <cp:lastModifiedBy>a</cp:lastModifiedBy>
  <dcterms:modified xsi:type="dcterms:W3CDTF">2015-07-24T07:46:21Z</dcterms:modified>
  <cp:revision>14</cp:revision>
  <dc:subject>TP-人文风俗</dc:subject>
  <dc:title>大学生学术系列2——兰亭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